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C41-8137-4660-B607-2281E38E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34B-FC97-4A3C-9269-43DE90CD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B11-367A-4566-B872-85370418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A40-71A5-4ECD-8E47-608A6A93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ED6-E60B-40B1-87A7-32CE5A9E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5B0-A351-47ED-B040-4592F2D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3AB-8DA5-4C4E-B6DF-CFD1DCD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F05-331C-4586-95A9-D9DE773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9EB-BA6B-4231-9151-D150B27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F76-9637-4F04-9A82-5D11A1F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9C5-2902-4877-AF1A-4379D2D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889-8C24-4B0F-9F92-F904A7F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931-1578-4327-969D-E0DC6017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 Assign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96x96 array S is distributed by blocks across four processors, so that each contains a 48x48 subarray. At each position S[i,j] is updated by the sum of its 8 nearest neighb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[i,j]=(S[i-1,j-1]+S[i-1,j]+S[i-1,j+1]+S[i,j+1]+S[i+1,j+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[i+1,j]+S[i+1,j-1]+S[i,j-1])/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processor updates its own elements, how many messages must are produced to maintain concurrency for a directory based CC-NU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Assume that an extra row and column, initialized to zero, surrounds A, A is allocated in rmo, and storage for S alternates with 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715000"/>
            <a:ext cx="762120" cy="762120"/>
            <a:chOff x="7696080" y="5715000"/>
            <a:chExt cx="762120" cy="762120"/>
          </a:xfrm>
        </p:grpSpPr>
        <p:sp>
          <p:nvSpPr>
            <p:cNvPr id="46" name=""/>
            <p:cNvSpPr/>
            <p:nvPr/>
          </p:nvSpPr>
          <p:spPr>
            <a:xfrm>
              <a:off x="7696080" y="5715000"/>
              <a:ext cx="762120" cy="7621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72400" y="5791320"/>
              <a:ext cx="609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77320" y="5715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96080" y="6095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01000" y="5791320"/>
              <a:ext cx="763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uw</cp:lastModifiedBy>
  <dcterms:modified xsi:type="dcterms:W3CDTF">2002-10-30T01:09:56Z</dcterms:modified>
  <cp:revision>89</cp:revision>
  <dc:subject/>
  <dc:title>Survey of Parallel Computation</dc:title>
</cp:coreProperties>
</file>