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CC9-0E67-4231-9496-B1552FAB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282-2F5F-421E-B172-0E4C183A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92A-59A6-4EE5-98FF-1227CAB8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869-80B7-48CA-AE0A-5D98DF61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E23-11FD-4D58-AFE4-0087CB82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BA8-2656-4086-9250-1EFDB0D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76D-6C72-4127-9A29-FB4324A7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D00-190B-4861-8CC0-6BD550CF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FDD-E69D-4619-8949-C63DCD7B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0B2-1A9A-43B8-AD57-BAD0708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577-9C44-4168-833C-7BFF4A7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85E-8247-43FD-8D88-A7C55580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3183-2E10-4B4E-8E52-347F52B1F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mework Assign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96x96 array S is distributed by blocks across four processors, so that each contains a 48x48 subarray. At each position S[i,j] is updated by the sum of its 8 nearest neighb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[i,j]=(S[i-1,j-1]+S[i-1,j]+S[i-1,j+1]+S[i,j+1]+S[i+1,j+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[i+1,j]+S[i+1,j-1]+S[i,j-1])/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processor updates its own elements, how many messages must are produced to maintain concurrency for a directory based CC-NU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Assume that an extra row and column, initialized to zero, surrounds A, A is allocated in rmo, and storage for S alternates with 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5715000"/>
            <a:ext cx="762120" cy="762120"/>
            <a:chOff x="7696080" y="5715000"/>
            <a:chExt cx="762120" cy="762120"/>
          </a:xfrm>
        </p:grpSpPr>
        <p:sp>
          <p:nvSpPr>
            <p:cNvPr id="46" name=""/>
            <p:cNvSpPr/>
            <p:nvPr/>
          </p:nvSpPr>
          <p:spPr>
            <a:xfrm>
              <a:off x="7696080" y="5715000"/>
              <a:ext cx="762120" cy="7621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72400" y="5791320"/>
              <a:ext cx="60948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77320" y="5715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96080" y="60958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01000" y="5791320"/>
              <a:ext cx="7632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uw</cp:lastModifiedBy>
  <dcterms:modified xsi:type="dcterms:W3CDTF">2002-10-30T01:09:56Z</dcterms:modified>
  <cp:revision>89</cp:revision>
  <dc:subject/>
  <dc:title>Survey of Parallel Computation</dc:title>
</cp:coreProperties>
</file>