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6FD-E8E5-48A5-9B3D-C9A70671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742-2AFD-4C0E-B262-676C8ECE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ADE-BC75-49DE-8461-432A8C05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D4E-49AA-4B60-825E-73DA3811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256-5E02-47C4-8022-6217F7AF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BBD-B71F-4A65-BCB5-5F2D1A5D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D90-36CF-4920-9735-A2CF686D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7CB-0020-49E3-B4DB-89BADCFE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786-F6CC-44B1-8C2D-6DAFE8B2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4AC-684A-4DF3-9C62-94115258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FE30-C42C-4DE4-AB5E-40AFCE28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97BA-9D2E-43F1-9929-483A9362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0CA6-E8F5-4EB0-B50E-6E6D39C27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9640" y="1419120"/>
            <a:ext cx="7238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 of Parallel Compu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have learned a substantial amount about parallel computation.  Today, we summarize the main conclu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95280"/>
            <a:ext cx="7772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AD0-204A-4660-9B53-00F0FB7E69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 Threads With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nterleaved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Approach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17524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7524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1752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1752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1752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340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1752480"/>
            <a:ext cx="3045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17524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22096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05120" y="22096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146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19520" y="2209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2209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3848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434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2209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62720" y="22096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26668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95280" y="2666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2666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266688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2666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31240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31240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31240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35812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95280" y="3581280"/>
            <a:ext cx="30492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5120" y="3581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3581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3581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34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48320" y="3581280"/>
            <a:ext cx="30456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52880" y="3581280"/>
            <a:ext cx="30492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40384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5280" y="40384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0200" y="40384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40384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09680" y="40384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49528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00200" y="49528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495288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096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14600" y="4952880"/>
            <a:ext cx="30492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49528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49528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4952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339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34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483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578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4952880"/>
            <a:ext cx="3045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49528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495288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4952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81680" y="4952880"/>
            <a:ext cx="30492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67280" y="49528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4952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7120" y="4952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86600" y="49528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548640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54864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5486400"/>
            <a:ext cx="30456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54864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00200" y="48006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4876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4800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95280" y="5410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62720" y="5486400"/>
            <a:ext cx="3124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Utilization is 24/27 or 8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8B0-3277-4A81-8A58-58DA59494A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asics of Tera Design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are [arithmetic, control, memory] or [arithmetic, arithmetic, memory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instructions issue on each tick, but there is a 16 tick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inimum issue del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onsecutive instructions from a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219320" y="44197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44197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28800" y="44197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33720" y="4419720"/>
            <a:ext cx="30456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44197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43200" y="4419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8120" y="4419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4419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4419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4419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67080" y="4419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4419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76920" y="44197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4419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86400" y="44197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91320" y="4419720"/>
            <a:ext cx="30456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19320" y="49528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288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337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382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432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8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576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00800" y="49528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640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913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388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3720" y="5334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3828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4320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5334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62520" y="5334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6708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5334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8148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8640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91320" y="5334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5334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00800" y="53341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2388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8288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5715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3828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432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5715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6576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5715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6708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76920" y="5715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864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91320" y="5715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588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00800" y="57150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388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2880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3720" y="6095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3828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4320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48120" y="6095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5760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6095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26708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76920" y="6095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8148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640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91320" y="6095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95880" y="6095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00800" y="60958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3962520"/>
            <a:ext cx="19051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nverts latency from 15 ticks to 69 … U = 7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36B-9EF2-466C-B52C-8863E3054B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 Threads Revisited (Tera Design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90720" y="17524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17524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05120" y="1752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1460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19520" y="1752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33920" y="1752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03848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4340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1752480"/>
            <a:ext cx="3045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52880" y="17524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90720" y="22096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9528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05120" y="22096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0968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146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2209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33920" y="2209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434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48320" y="2209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288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22096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26668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2666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00200" y="2666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05120" y="266688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09680" y="26668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90720" y="31240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05120" y="31240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31240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2408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146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90720" y="35812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95280" y="3581280"/>
            <a:ext cx="30492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002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05120" y="3581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0968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146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3581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2408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290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3581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3848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43400" y="3581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3581280"/>
            <a:ext cx="30456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952880" y="3581280"/>
            <a:ext cx="30492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90720" y="40384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95280" y="40384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40384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905120" y="40384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09680" y="40384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391520" y="5105520"/>
            <a:ext cx="304560" cy="3045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77120" y="5105520"/>
            <a:ext cx="30456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81680" y="5105520"/>
            <a:ext cx="30492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86600" y="51055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96080" y="51055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5105520"/>
            <a:ext cx="30492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48320" y="54864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548640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54864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62720" y="5486400"/>
            <a:ext cx="304560" cy="30492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67280" y="54864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548640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50292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14600" y="49528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990720" y="5105520"/>
            <a:ext cx="30456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51055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5105520"/>
            <a:ext cx="30492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05120" y="51055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09680" y="5105520"/>
            <a:ext cx="304920" cy="3045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514600" y="51055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5105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12408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42900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733920" y="5105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848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4340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105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95288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5780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562720" y="5105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907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952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002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051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146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240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722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4771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816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0866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915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960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90720" y="5867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9528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0020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384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05120" y="5867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0968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58672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29000" y="58672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586728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58672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4340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48320" y="5867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5288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780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5867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6728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7220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5867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78168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91520" y="5867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08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001000" y="5867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553080" y="3809880"/>
            <a:ext cx="2133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Utilization is 23/70 or 3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0968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14600" y="3124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5867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76F-5A27-42D7-B637-21267E8FCA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re On Tera II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re is a 16 instruction minimum issue delay, it takes 16 threads to execute sequenti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tency h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(memory) instruction has a 3 bit tag telling how many instructions forward are independent of this memory reference (in this th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memory latency without contention is 70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CE55-AFE8-4DC2-86EC-4ACE5E4F35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re On Tera III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or has 128 full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 latency can even be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verything works, the Tera should approximate a P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19320" y="4419720"/>
            <a:ext cx="6400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ink of the Bulk Synchronous model with completely decentralized super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DDF-8D3D-4D9D-80F5-A01770FDE7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7C9-2274-45C5-943F-BD00A62CAA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ur Original Goa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 To give a good idea of paralle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s -- look at problems with “parallel ey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s -- different resources to work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-- describe the computation without saying it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s -- reduce control flow; increas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-- HW support to share memor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-- the challenge is communication, not instruction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371600" y="5867280"/>
            <a:ext cx="708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tart with HW, and review (pop) to Concepts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2FC-AAB1-42AB-9CC2-7D5C1FCBCB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out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s routing is effective because “non-minimal” adaptivity can by-pass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Light traff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andomize routes over a regular, symmetric, consistent networks, avoids creating hot spots; no point where packets can get “stuck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rate traff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ait in a node for a route to clear, this is better than “hot potato” whic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eavy traff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aults, deroute in the wrong direction to move around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5334120"/>
            <a:ext cx="73152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Higher throughput, lower latency, higher load-carrying capacity than other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51F-120D-4A99-9467-29600A71E1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aos Routing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ock is not possible because of packet exchang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stically livelock-fre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good or better than deterministically livelock-free in pract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s difficult (but rare) problem for adaptive routers by randomizing, and gam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os is not perfect; not good with worm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icient for long messages; use two nets or pick a variable length packet with large-ish maxim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242-6B45-4EC4-8770-D2F48CCD7A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etwork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cross-bar is not prac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and Indirect Networks are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, e.g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only “long” paths of O(log P), no nearest neigh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eferences to a location can collide, so try combining at the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exploit combining with Fetch&amp;Add -- it’s better for shared memory than Test&amp;Set because it “schedu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Fetch&amp;Adds and Load/Stores can be comb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ing requires “smart” switches that slow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shows combining opportunities are rare; hot spots due to colliding references to different locations is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05320" y="6019920"/>
            <a:ext cx="5410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F&amp;A + combine is smart but flaw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21D-CCBE-4F9F-A165-74664C035C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ut, first latency toleranc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9B18-60B3-4EDF-8C1E-9A7AE8B22C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etworks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, nearest neighbor path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routing technique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more asynchronous; NIC is extra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load properties for different archit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shared memory, network carries little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memory, network carries coherency protocol messages, which can be “proportional to the shar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ary, d-cubes are realistic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rus is better because of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 trees also work; hypercube has “log P node degre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905120" y="6019920"/>
            <a:ext cx="6324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irect (regular) networks are only ch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83D-A108-4CF8-8E82-A77F00773C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architecture decision: hardware support for shared memory or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hared memory architectures are 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r designs, means faste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memory management to software/progr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le address space is easy and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HW support for shared memory” is still unknown and getting less realistic as technology impr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message passing and its copy/marshal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sided communication (shmem) is very efficient because it reduces communication’s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 allows “strided communication” with pipel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ingle address space, 1-sided communication is b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F5E-817D-4CF9-892F-411E3B6D73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rchitecture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ly very difficult -- and therefore slow -- to keep memory coh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M can be implemented by a directory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sharers/dirty features for each cach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y can double the memory requirements of machines, though some simplifications a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distributed version of coherency protocol because no bus for defining “timing sequence”; use mem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work showed: Even limited sharing can cause much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lidations, acknowledgements increase with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6019920"/>
            <a:ext cx="777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SM best when not used, i.e. manage mem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E44-AB40-4D1C-A676-74482DC5AD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rchitecture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-multiprocessors (SMPs) are an effective way to share memory on a small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 controllers snoop memory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us becomes the “time sequencing” point of the system, where modification order is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protocols speed performance with greater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M Homework sharing” would be reasonably efficient on SMP … cost only about ‘2x’ over non-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, limiting generalization to small #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38280" y="5791320"/>
            <a:ext cx="4724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MP is a standard archit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F24-CAF5-4EF1-9BE2-B2A2908E6F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nguag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memory is difficult to use (races, synch); not efficiently implemented; not 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passing with sequential language (C | Fortran) + (MPI | PVM) is current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common denominator -- runs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uge amount of work (6x code explo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e API is standard; semantics vary, making any program implementation-specific; limit porta’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passing is costly on architectures with “good” communication, e.g. 1-sided, S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09480" y="6095880"/>
            <a:ext cx="8001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Use msg passing if you must; but there’s a better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960-2C76-429F-A3EE-1E21EB8BEB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nguages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d still only) parallel language with performance model (WYSIWY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from first principles to help program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plicit concurrency, communication, or sy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r is insulated from details, but it is possible to write efficient solutions with WYSIWY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s heavily optimized, both seq. and p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cation abstraction is Ironman -- four procedures that mark sender’s/receiver’s active regions -- uses native communication of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5867280"/>
            <a:ext cx="4953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ZPL is convenient and effici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96C-F10D-4C4B-8F41-9747E45580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nguages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’s performanc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programmers “to keep their distance” from the implementing hardware -- port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es on abstract machine -- 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A gives key structural information, memory reference time, processors, characteristics of interconnection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A gives parallel costs; vN defines sequential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ZPL’s runtime model, work &amp; data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costs of ZPL’s constructs in CTA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bsolute performance possible, but relative is good enough for quality programming -- perform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00200" y="6095880"/>
            <a:ext cx="5791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most significant idea of this cla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1D0-7AE8-425D-9D83-3FBD036F21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thinks shared memory is the natural parallel extension of sequential computing: “Ignore memory reference time like vN model, and let HW give the flat memory illus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reference time is key to good al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maximum is the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ignore-memory-time (PRAM) is Valiant O(log log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consider-memory-time (CTA) is tournament O(log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ctual?) implementation of Valiant’s alg O(log P loglog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implementation of tournament O(log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91320"/>
            <a:ext cx="7772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AM hides a critical cost =&gt; it’s hard to get resul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7D3-DA02-40DC-94C9-0EC6723786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gramming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TA replaces the PRAM as a realistic, but still abstract model of parallel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models all existing hardware, but is “far enough away” to be independent of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is concerned with a few features, processors, non-local memory reference tim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terconnect, which has unspecified topology, low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ing programmers writing message passing code are in effect using the 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is key to expressing costs of HLL like v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2120" y="5867280"/>
            <a:ext cx="777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 machine model separates SW &amp; HW develop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370-C959-4BD9-8847-BFE809A256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werful parallel computation idea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Pipel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erform some operations and then pass the task along for completion by other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Overl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erform communication &amp; computation simultaneously since they need separat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Part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m independent (as possible) tasks and assign separate processors to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arallel algorithms use a combination of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s should support these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PL does overlap and partitioning for all computations up to available resources, and has abstraction for pipel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5943600"/>
            <a:ext cx="7772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ore abstractly: Decompose into independent par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EBB-C8A2-4E4C-B7AC-77FA138AAC2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tency -- Just Do Something Els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ory memory a delay o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a show stopper; simply switch to other work while waiting for a memory value to be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(in theory) P log P threads, but it’s actuall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, and grows however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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s are often abundant, but it is difficult always to hav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threads, e.g. at decisio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BEC-F0E6-490A-ACB5-E70B4051B9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cepts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multiplication -- the most studied parallel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olutions; van de Geijn,Watts SUMMA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broadcast communication of rows/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uctures the problem to “use data complete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ly uses temporary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natural and convenient (and efficient) ZP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lgs show ‘problem space promotion’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9480" y="4800600"/>
            <a:ext cx="8153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oblem space promotion is a parallel programming technique in which a problem with d dimensional data d is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gically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solved in a higher dimension, usually d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5943600"/>
            <a:ext cx="2361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void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CC6-97B4-4B68-B21A-53899FF119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cepts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for successful parallel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than using a shared memory abstraction, use the CTA model; it reflects costs accu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ZPL for programming to get convenience, speed and portability; use MP as last re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spicious of claims like the “problems” with shared memory have been solved by new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hoosing architecture, prefer support for global addressing, 1-sided communication, point-to-point network, (randomizing) non-minimal adaptive routing, SMP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62120" y="5867280"/>
            <a:ext cx="708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perfect parallel machine has yet to be buil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E93-16EB-4147-8EFA-27746C720B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’s Summa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as been an enjoyable class to t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uck with the remainder of your MS de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2F5-F8CE-41FA-B288-224F282B3A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ardware Implementat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of switching to execute instructions from another thread when memory latency stalls processor has been around a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Honeywell machines used related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elcor HEP (~1982) designed by Burton Smith had 8 threads “in the air” at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990s saw several efforts to build such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tudy two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wife from Anant Agarwal’s group at 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a Computer from Burton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E94-9A88-4660-95B0-93D83BC95A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Hardware Solut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keeping 1 processor busy in the presence of long latencies to shared memory, but expect to use many such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ultith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no special software as long as the compiler can produce more threads than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both predictable and unpredictable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long latencies even as they g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affect the memory consistency model, i.e. shared variables must be locked or use other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3680" y="5484960"/>
            <a:ext cx="556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utilization =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ork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ork_time+switching+i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594360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E14-AECF-40B5-99CB-2E9949C00F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wo Techniques for Multi-thread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ed multithreading [Alewife] is like timesharing … continue to execute until the thread is blocked, then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lower hardware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single threa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leaved multithreading [Tera] switches execution on threads on each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logical switching pena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impact on hardwar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multiple contexts is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B1C-56C8-499B-BB94-65C338D713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 Threads Using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Blocked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Approach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s make memory reference every few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24382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24382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2438280"/>
            <a:ext cx="3045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24382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24382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2438280"/>
            <a:ext cx="3045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243828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28954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28954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895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28954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2895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2895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2895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289548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28954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3526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33526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33526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335268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33526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335268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335268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38098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809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3809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38098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809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3809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809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3809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3809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3809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3809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3809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3809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3809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809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3809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809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4648320"/>
            <a:ext cx="30492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46483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6483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4648320"/>
            <a:ext cx="30456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4648320"/>
            <a:ext cx="30492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648320"/>
            <a:ext cx="30492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48640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486400"/>
            <a:ext cx="3045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548640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548640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5486400"/>
            <a:ext cx="3045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4864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54864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548640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548640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77320" y="54864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548640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5486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748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46483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6483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4572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4495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7240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5410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4197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42670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y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895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2895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4648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4648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4EC8-2CD4-400D-9CE8-8F55942DDD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Utilization of Blocked Approach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instruction times: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work instructions: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switch time: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wait time: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tion = 24/45 = 5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572000"/>
            <a:ext cx="30492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45720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45720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457200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4572000"/>
            <a:ext cx="30492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572000"/>
            <a:ext cx="304560" cy="3049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5105520"/>
            <a:ext cx="30456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5105520"/>
            <a:ext cx="30492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5105520"/>
            <a:ext cx="30492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5105520"/>
            <a:ext cx="30456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5105520"/>
            <a:ext cx="30492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5105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51055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5105520"/>
            <a:ext cx="30456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5105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5105520"/>
            <a:ext cx="30492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5105520"/>
            <a:ext cx="30492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6080" y="51055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5105520"/>
            <a:ext cx="304560" cy="3045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8168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105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105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45720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915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960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146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FCF-653A-4577-97B0-BE5AAF9299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enefits of Available Thread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locked approach the availability of ready threads improves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2666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5638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5240" y="601992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6320" y="5638680"/>
            <a:ext cx="23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2   3   4   5   6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1157400" y="379332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r Utilizai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124080" y="3505320"/>
            <a:ext cx="14479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15680" y="2590920"/>
            <a:ext cx="534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4267080"/>
            <a:ext cx="3124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witching time is overhead that is not reco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23C-5BC6-463A-BE7F-20F35969A1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2:35:28Z</dcterms:created>
  <dc:creator>Snyder</dc:creator>
  <dc:description/>
  <dc:language>en-US</dc:language>
  <cp:lastModifiedBy>Snyder</cp:lastModifiedBy>
  <dcterms:modified xsi:type="dcterms:W3CDTF">2002-12-10T00:09:34Z</dcterms:modified>
  <cp:revision>145</cp:revision>
  <dc:subject/>
  <dc:title>Survey of Parallel Computation</dc:title>
</cp:coreProperties>
</file>