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3D3-059F-432D-A385-92EB9C59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AA4-5CEE-4E46-88FF-2DEBDFEF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51F-4D45-44C4-BD78-4FF3C2B1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1BA-EDA6-4050-8006-D722E6C0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F90-A270-410C-AA72-AA27AA1B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464-5971-42D8-8725-2CA64A56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374-A953-4B57-9F52-210F037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1E6-F544-4598-AA1D-DADEAD8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370-0552-437E-A1B0-81870F4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A00-DE40-4F36-AB83-226745F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0B1-2CBA-46A7-A6ED-B4C6F13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15A-3B12-4D00-9FB8-FAA549F4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5C9-7E46-4758-8B64-BD1A1E0E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 of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have learned a substantial amount about parallel computation.  Today, we summarize the main conclu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872-4548-4BCA-A1EB-059B34FD86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 Threads With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terleaved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209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666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581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952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49528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952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49528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952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4952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54864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4800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4876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800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5486400"/>
            <a:ext cx="3124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tilization is 24/27 or 8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D63-31E0-4D92-9DB3-3FC5DF27D0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asics of Tera Design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are [arithmetic, control, memory] or [arithmetic, arithmetic, memor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instructions issue on each tick, but there is a 16 tick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inimum issue de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nsecutive instructions from a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44197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44197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44197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49528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32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5334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58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00800" y="6095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3962520"/>
            <a:ext cx="1905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verts latency from 15 ticks to 69 … U = 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A1F-4F22-4A67-9C0D-77D7AC534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 Threads Revisited (Tera Design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209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2666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581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91520" y="5105520"/>
            <a:ext cx="304560" cy="3045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5105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54864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4864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548640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54864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51055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5105520"/>
            <a:ext cx="304920" cy="3045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5105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528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02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477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91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96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434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1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3809880"/>
            <a:ext cx="2133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tilization is 23/70 or 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FE4-FB22-4EA4-AF96-41C0C56913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On Tera II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re is a 16 instruction minimum issue delay, it takes 16 threads to execute sequenti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ncy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(memory) instruction has a 3 bit tag telling how many instructions forward are independent of this memory reference (in this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emory latency without contention is 7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EE2-D33F-4F59-A3B8-63F5E030E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On Tera III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or has 128 ful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latency can even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verything works, the Tera should approximate a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441972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nk of the Bulk Synchronous model with completely decentralized super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17B-FAC1-435F-8DF9-4348BD619E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A26-8147-4795-8E71-62F477838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ur Original Goa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 To give a good idea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-- look at problems with “parallel ey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-- different resources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-- describe the computation without saying it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-- reduce control flow; increas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-- HW support to share memor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-- the challenge is communication, not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5867280"/>
            <a:ext cx="708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art with HW, and review (pop) to Concept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8F0-EFAA-489B-AF33-541A91AE11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ing is effective because “non-minimal” adaptivity can by-pas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ight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andomize routes over a regular, symmetric, consistent networks, avoids creating hot spots; no point where packets can get “stu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rate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ait in a node for a route to clear, this is better than “hot potato”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eavy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ults, deroute in the wrong direction to move arou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5334120"/>
            <a:ext cx="7315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igher throughput, lower latency, higher load-carrying capacity than oth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1A7-BC2A-4011-B62C-E769416E6B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ing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not possible because of packet exchang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ally livelock-fre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good or better than deterministically livelock-free in prac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difficult (but rare) problem for adaptive routers by randomizing, and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is not perfect; not good with worm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for long messages; use two nets or pick a variable length packet with large-ish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266-E4B9-4CA1-A22C-7CF978EDC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ross-bar is not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nd Indirect Networks ar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, 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nly “long” paths of O(log P), no nearest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ferences to a location can collide, so try combining at th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exploit combining with Fetch&amp;Add -- it’s better for shared memory than Test&amp;Set because it “schedu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etch&amp;Adds and Load/Stores can be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requires “smart” switches that slow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shows combining opportunities are rare; hot spots due to colliding references to different locations is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6019920"/>
            <a:ext cx="5410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&amp;A + combine is smart but flaw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538-C48D-43BE-85C8-EAFB9F4923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ut, first latency tolera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AEC-A2A4-4648-A68F-2F1D62B26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, nearest neighbor path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routing technique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asynchronous; NIC is extra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oad properties for different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hared memory, network carries littl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, network carries coherency protocol messages, which can be “proportional to the sha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ary, d-cubes are realistic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s is better because of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trees also work; hypercube has “log P node deg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6019920"/>
            <a:ext cx="632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irect (regular) networks are only ch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600-28FF-47FB-84E7-2FCB152922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architecture decision: hardware support for shared memory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hared memory architectures are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r designs, means faste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memory management to software/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address space is easy and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HW support for shared memory” is still unknown and getting less realistic as technology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message passing and its copy/marsha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sided communication (shmem) is very efficient because it reduces communication’s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 allows “strided communication” with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ingle address space, 1-sided communication is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F5C-9039-4CD0-A322-32C95F484C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very difficult -- and therefore slow -- to keep memory coh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M can be implemented by a director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harers/dirty features for each cac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y can double the memory requirements of machines, though some simplification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distributed version of coherency protocol because no bus for defining “timing sequence”; use mem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showed: Even limited sharing can cause much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ations, acknowledgements increase with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601992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SM best when not used, i.e. manage mem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25F-0F74-48AC-A648-411D8C70D6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-multiprocessors (SMPs) are an effective way to share memory on a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 controllers snoop memory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 becomes the “time sequencing” point of the system, where modification order i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protocols speed performance with great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M Homework sharing” would be reasonably efficient on SMP … cost only about ‘2x’ over non-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, limiting generalization to small #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5791320"/>
            <a:ext cx="4724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MP is a standard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8AB-6C0B-4513-A5FE-D39B6AB6A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mory is difficult to use (races, synch); not efficiently implemented; not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with sequential language (C | Fortran) + (MPI | PVM) is curren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common denominator -- runs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uge amount of work (6x code explo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API is standard; semantics vary, making any program implementation-specific; limit porta’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passing is costly on architectures with “good” communication, e.g. 1-sided, S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6095880"/>
            <a:ext cx="800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se msg passing if you must; but there’s a better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773-91C9-4B1A-A428-445A2DA280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d still only) parallel language with performance model (WYSIWY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rom first principles to help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concurrency, communication, or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r is insulated from details, but it is possible to write efficient solutions with WYSIWY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s heavily optimized, both seq. and p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abstraction is Ironman -- four procedures that mark sender’s/receiver’s active regions -- uses native communication o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5867280"/>
            <a:ext cx="495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PL is convenient and effici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DCC-DDBD-4761-BF7C-34D21AC7D3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’s performa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rogrammers “to keep their distance” from the implementing hardware -- por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on abstract machine --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gives key structural information, memory reference time, processors, characteristics of interconnection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gives parallel costs; vN defines sequenti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ZPL’s runtime model, work &amp; data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costs of ZPL’s constructs in CTA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bsolute performance possible, but relative is good enough for quality programming -- perfor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6095880"/>
            <a:ext cx="5791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most significant idea of this cla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1C8-3B74-4795-B8E0-9A9F1A5D70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thinks shared memory is the natural parallel extension of sequential computing: “Ignore memory reference time like vN model, and let HW give the flat memory illu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reference time is key to good al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aximum is th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ignore-memory-time (PRAM) is Valiant O(log 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onsider-memory-time (CTA) is tournament O(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tual?) implementation of Valiant’s alg O(log P log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implementation of tournament O(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91320"/>
            <a:ext cx="7772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 hides a critical cost =&gt; it’s hard to get resul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000-CD7C-429C-9C07-39443ECDB3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A replaces the PRAM as a realistic, but still abstract model of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models all existing hardware, but is “far enough away” to be independen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is concerned with a few features, processors, non-local memory reference tim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rconnect, which has unspecified topology, low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ing programmers writing message passing code are in effect using the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is key to expressing costs of HLL like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586728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machine model separates SW &amp; HW develop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393-F55F-41F8-A41A-B685A916E0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parallel computation idea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form some operations and then pass the task along for completion by othe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form communication &amp; computation simultaneously since they need separat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 independent (as possible) tasks and assign separate processors to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arallel algorithms use a combination of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should support thes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L does overlap and partitioning for all computations up to available resources, and has abstraction for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5943600"/>
            <a:ext cx="7772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ore abstractly: Decompose into independent par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743-A125-4CB0-8692-A28A313C87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tency -- Just Do Something Els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ory memory a delay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show stopper; simply switch to other work while waiting for a memory value to be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in theory) P log P threads, but it’s actuall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, and grows however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are often abundant, but it is difficult always to ha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reads, e.g. at deci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61D-37E5-43D6-BCE4-FC1C48EE2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-- the most studied paralle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lutions; van de Geijn,Watts SUMMA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broadcast communication of rows/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uctures the problem to “use data complete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ly uses tempora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atural and convenient (and efficient) ZP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lgs show ‘problem space promotion’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4800600"/>
            <a:ext cx="8153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blem space promotion is a parallel programming technique in which a problem with d dimensional data d is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gicall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solved in a higher dimension, usually d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5943600"/>
            <a:ext cx="23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void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2F1-E9D7-44BF-BCA2-A2D6C1DB8F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for successful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than using a shared memory abstraction, use the CTA model; it reflects costs acc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ZPL for programming to get convenience, speed and portability; use MP as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spicious of claims like the “problems” with shared memory have been solved by new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hoosing architecture, prefer support for global addressing, 1-sided communication, point-to-point network, (randomizing) non-minimal adaptive routing, SMP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5867280"/>
            <a:ext cx="708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erfect parallel machine has yet to be buil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FC3-21E2-47F8-BD33-2C8B456E71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’s 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been an enjoyable class to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uck with the remainder of your MS de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2E1-87CC-47BF-8306-1213AFC053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rdware Implement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switching to execute instructions from another thread when memory latency stalls processor has been around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Honeywell machines used related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elcor HEP (~1982) designed by Burton Smith had 8 threads “in the air”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990s saw several efforts to build such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udy two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wife from Anant Agarwal’s group at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a Computer from Burton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431-C00D-49FB-900B-8F73BE7482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Hardware Solu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keeping 1 processor busy in the presence of long latencies to shared memory, but expect to use many such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th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special software as long as the compiler can produce more threads than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both predictable and unpredictable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long latencies even as they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affect the memory consistency model, i.e. shared variables must be locked or use other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3680" y="5484960"/>
            <a:ext cx="55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utilization =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ork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ork_time+switching+i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9436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28E-3312-420C-A2C7-4A918F970E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wo Techniques for Multi-thread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ed multithreading [Alewife] is like timesharing … continue to execute until the thread is blocked, the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lower hardwar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single threa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eaved multithreading [Tera] switches execution on threads on each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ogical switching pen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impact on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ultiple contexts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1C-9954-47D9-9B5B-39C78FC3C2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 Threads Using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locked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make memory reference every few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24382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4382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895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8954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352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3526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809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809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6483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6483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46483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648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648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48640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48640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864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54864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6483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6483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572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495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5410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267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71D-826D-42A6-8EF5-77618CD4B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tilization of Blocked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nstruction times: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work instructions: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witch time: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wait time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= 24/45 = 5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5720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5105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7B5-7976-4EFA-B4A5-A8DD64BB2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nefits of Available Thread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locked approach the availability of ready threads improves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5638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5240" y="6019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6320" y="56386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2   3   4   5   6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157400" y="379332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Utilizai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24080" y="3505320"/>
            <a:ext cx="14479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5680" y="2590920"/>
            <a:ext cx="53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267080"/>
            <a:ext cx="3124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ing time is overhead that is not re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1CE-664D-4CF8-B3BC-4EA8420D74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2-10T00:09:34Z</dcterms:modified>
  <cp:revision>145</cp:revision>
  <dc:subject/>
  <dc:title>Survey of Parallel Computation</dc:title>
</cp:coreProperties>
</file>