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2D2-A362-4F2F-8843-F76636F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A9D-D603-42D1-BE5E-E33F6EF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75E-65DE-4DA8-917C-374B578B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35C-5929-4C3E-8B0A-E489A36C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A12-75CC-44F4-9A9F-86734C57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0A5-A7AD-45BF-89CB-A1A6670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B63-2C3A-4226-82B6-CA9D170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41F-1506-4CF9-BACC-DA957A8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910-8577-432A-AF41-3499E8D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109-218B-455F-A497-32A3FDD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F34-A697-4A00-A42D-271300D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51D-074E-45CB-B2A8-CDD18CC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AE95-7058-4526-8EC7-4A3BBD10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rprocessor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are two main differences between sequential computers and parallel computers -- multiple processors and the hardware to connect them together. That hardware is the most important part of th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634-91BD-4355-AAE9-0D497C7480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irtual Channe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physical network can transmit information for multiple logic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eparate buffers for each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hannels are often used to safeguard against deadlock in a single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905120" y="4648320"/>
            <a:ext cx="1371600" cy="1371600"/>
            <a:chOff x="1905120" y="4648320"/>
            <a:chExt cx="1371600" cy="1371600"/>
          </a:xfrm>
        </p:grpSpPr>
        <p:sp>
          <p:nvSpPr>
            <p:cNvPr id="799" name=""/>
            <p:cNvSpPr/>
            <p:nvPr/>
          </p:nvSpPr>
          <p:spPr>
            <a:xfrm>
              <a:off x="1905120" y="464832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33720" y="487692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33720" y="5105520"/>
              <a:ext cx="914400" cy="1522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33720" y="5334120"/>
              <a:ext cx="91440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33720" y="5562720"/>
              <a:ext cx="91440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181480" y="4648320"/>
            <a:ext cx="1371600" cy="1371600"/>
            <a:chOff x="5181480" y="4648320"/>
            <a:chExt cx="1371600" cy="1371600"/>
          </a:xfrm>
        </p:grpSpPr>
        <p:sp>
          <p:nvSpPr>
            <p:cNvPr id="805" name=""/>
            <p:cNvSpPr/>
            <p:nvPr/>
          </p:nvSpPr>
          <p:spPr>
            <a:xfrm>
              <a:off x="5181480" y="464832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0080" y="4876920"/>
              <a:ext cx="91440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10080" y="5105520"/>
              <a:ext cx="914400" cy="1522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0080" y="5334120"/>
              <a:ext cx="914400" cy="152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10080" y="5562720"/>
              <a:ext cx="91440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3276720" y="5257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76720" y="5410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4812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8120" y="51814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048120" y="5333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04812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4952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24480" y="5181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324480" y="53337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6324480" y="54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1981080" y="4952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981080" y="5181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1981080" y="53337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1981080" y="5409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4952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257440" y="51814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5257440" y="5333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257440" y="540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0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578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771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553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55308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91440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4E8-828E-4C9C-8ED9-8F9C5889C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er Desig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design is an intensively studied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ing a routing algorithm is the easy part … demonstrating that it is low latency, high throughput, deadlock free, livelock free, starvation free, reliable, etc. is tou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atency is the most significan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-- delivered bits -- is next most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interesting case is “performance under load,” so the challenge is handling co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363-E32E-44BF-805E-D736F18B19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olog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regular network topologies have been considered … there is no best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family of useful topologies are the k-ary d-cubes, which have k nodes in each of d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ary d-cude is the d-dimensional binary hyper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ary 2-cube is the nxn mesh or 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outing algorithms considered here will at least apply to the k-ary, d-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544-97AD-4697-B938-D644F68CA9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518148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blivious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s use a single path between any [source, destination]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o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gic,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cut-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of-the-art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MD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6477120" y="2743200"/>
            <a:ext cx="457200" cy="457200"/>
            <a:chOff x="6477120" y="2743200"/>
            <a:chExt cx="457200" cy="457200"/>
          </a:xfrm>
        </p:grpSpPr>
        <p:sp>
          <p:nvSpPr>
            <p:cNvPr id="844" name=""/>
            <p:cNvSpPr/>
            <p:nvPr/>
          </p:nvSpPr>
          <p:spPr>
            <a:xfrm>
              <a:off x="65534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7057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583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7057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771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934320" y="2743200"/>
            <a:ext cx="457200" cy="457200"/>
            <a:chOff x="6934320" y="2743200"/>
            <a:chExt cx="457200" cy="457200"/>
          </a:xfrm>
        </p:grpSpPr>
        <p:sp>
          <p:nvSpPr>
            <p:cNvPr id="850" name=""/>
            <p:cNvSpPr/>
            <p:nvPr/>
          </p:nvSpPr>
          <p:spPr>
            <a:xfrm>
              <a:off x="7010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7162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15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7162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934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391520" y="2743200"/>
            <a:ext cx="457200" cy="457200"/>
            <a:chOff x="7391520" y="2743200"/>
            <a:chExt cx="457200" cy="457200"/>
          </a:xfrm>
        </p:grpSpPr>
        <p:sp>
          <p:nvSpPr>
            <p:cNvPr id="856" name=""/>
            <p:cNvSpPr/>
            <p:nvPr/>
          </p:nvSpPr>
          <p:spPr>
            <a:xfrm>
              <a:off x="7467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7620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72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620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91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7848720" y="2743200"/>
            <a:ext cx="457200" cy="457200"/>
            <a:chOff x="7848720" y="2743200"/>
            <a:chExt cx="457200" cy="457200"/>
          </a:xfrm>
        </p:grpSpPr>
        <p:sp>
          <p:nvSpPr>
            <p:cNvPr id="862" name=""/>
            <p:cNvSpPr/>
            <p:nvPr/>
          </p:nvSpPr>
          <p:spPr>
            <a:xfrm>
              <a:off x="7925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8077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29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077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48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4648320" y="2743200"/>
            <a:ext cx="457200" cy="457200"/>
            <a:chOff x="4648320" y="2743200"/>
            <a:chExt cx="457200" cy="457200"/>
          </a:xfrm>
        </p:grpSpPr>
        <p:sp>
          <p:nvSpPr>
            <p:cNvPr id="868" name=""/>
            <p:cNvSpPr/>
            <p:nvPr/>
          </p:nvSpPr>
          <p:spPr>
            <a:xfrm>
              <a:off x="4724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876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876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48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105520" y="2743200"/>
            <a:ext cx="457200" cy="457200"/>
            <a:chOff x="5105520" y="2743200"/>
            <a:chExt cx="457200" cy="457200"/>
          </a:xfrm>
        </p:grpSpPr>
        <p:sp>
          <p:nvSpPr>
            <p:cNvPr id="874" name=""/>
            <p:cNvSpPr/>
            <p:nvPr/>
          </p:nvSpPr>
          <p:spPr>
            <a:xfrm>
              <a:off x="5181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5334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86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5334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05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562720" y="2743200"/>
            <a:ext cx="457200" cy="457200"/>
            <a:chOff x="5562720" y="2743200"/>
            <a:chExt cx="457200" cy="457200"/>
          </a:xfrm>
        </p:grpSpPr>
        <p:sp>
          <p:nvSpPr>
            <p:cNvPr id="880" name=""/>
            <p:cNvSpPr/>
            <p:nvPr/>
          </p:nvSpPr>
          <p:spPr>
            <a:xfrm>
              <a:off x="5639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791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43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5791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62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019920" y="2743200"/>
            <a:ext cx="457200" cy="457200"/>
            <a:chOff x="6019920" y="2743200"/>
            <a:chExt cx="457200" cy="457200"/>
          </a:xfrm>
        </p:grpSpPr>
        <p:sp>
          <p:nvSpPr>
            <p:cNvPr id="886" name=""/>
            <p:cNvSpPr/>
            <p:nvPr/>
          </p:nvSpPr>
          <p:spPr>
            <a:xfrm>
              <a:off x="60962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2485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011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62485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99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477120" y="3200400"/>
            <a:ext cx="457200" cy="457200"/>
            <a:chOff x="6477120" y="3200400"/>
            <a:chExt cx="457200" cy="457200"/>
          </a:xfrm>
        </p:grpSpPr>
        <p:sp>
          <p:nvSpPr>
            <p:cNvPr id="892" name=""/>
            <p:cNvSpPr/>
            <p:nvPr/>
          </p:nvSpPr>
          <p:spPr>
            <a:xfrm>
              <a:off x="6553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6705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705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77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34320" y="3200400"/>
            <a:ext cx="457200" cy="457200"/>
            <a:chOff x="6934320" y="3200400"/>
            <a:chExt cx="457200" cy="457200"/>
          </a:xfrm>
        </p:grpSpPr>
        <p:sp>
          <p:nvSpPr>
            <p:cNvPr id="898" name=""/>
            <p:cNvSpPr/>
            <p:nvPr/>
          </p:nvSpPr>
          <p:spPr>
            <a:xfrm>
              <a:off x="7010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162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15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162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34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391520" y="3200400"/>
            <a:ext cx="457200" cy="457200"/>
            <a:chOff x="7391520" y="3200400"/>
            <a:chExt cx="457200" cy="457200"/>
          </a:xfrm>
        </p:grpSpPr>
        <p:sp>
          <p:nvSpPr>
            <p:cNvPr id="904" name=""/>
            <p:cNvSpPr/>
            <p:nvPr/>
          </p:nvSpPr>
          <p:spPr>
            <a:xfrm>
              <a:off x="7467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620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2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620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91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7848720" y="3200400"/>
            <a:ext cx="457200" cy="457200"/>
            <a:chOff x="7848720" y="3200400"/>
            <a:chExt cx="457200" cy="457200"/>
          </a:xfrm>
        </p:grpSpPr>
        <p:sp>
          <p:nvSpPr>
            <p:cNvPr id="910" name=""/>
            <p:cNvSpPr/>
            <p:nvPr/>
          </p:nvSpPr>
          <p:spPr>
            <a:xfrm>
              <a:off x="7925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8077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29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8077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48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916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922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5562720" y="3200400"/>
            <a:ext cx="457200" cy="457200"/>
            <a:chOff x="5562720" y="3200400"/>
            <a:chExt cx="457200" cy="457200"/>
          </a:xfrm>
        </p:grpSpPr>
        <p:sp>
          <p:nvSpPr>
            <p:cNvPr id="928" name=""/>
            <p:cNvSpPr/>
            <p:nvPr/>
          </p:nvSpPr>
          <p:spPr>
            <a:xfrm>
              <a:off x="5639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5791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943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791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62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019920" y="3200400"/>
            <a:ext cx="457200" cy="457200"/>
            <a:chOff x="6019920" y="3200400"/>
            <a:chExt cx="457200" cy="457200"/>
          </a:xfrm>
        </p:grpSpPr>
        <p:sp>
          <p:nvSpPr>
            <p:cNvPr id="934" name=""/>
            <p:cNvSpPr/>
            <p:nvPr/>
          </p:nvSpPr>
          <p:spPr>
            <a:xfrm>
              <a:off x="6096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248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1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248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19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477120" y="3657600"/>
            <a:ext cx="457200" cy="457200"/>
            <a:chOff x="6477120" y="3657600"/>
            <a:chExt cx="457200" cy="457200"/>
          </a:xfrm>
        </p:grpSpPr>
        <p:sp>
          <p:nvSpPr>
            <p:cNvPr id="940" name=""/>
            <p:cNvSpPr/>
            <p:nvPr/>
          </p:nvSpPr>
          <p:spPr>
            <a:xfrm>
              <a:off x="6553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6705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58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705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6934320" y="3657600"/>
            <a:ext cx="457200" cy="457200"/>
            <a:chOff x="6934320" y="3657600"/>
            <a:chExt cx="457200" cy="457200"/>
          </a:xfrm>
        </p:grpSpPr>
        <p:sp>
          <p:nvSpPr>
            <p:cNvPr id="946" name=""/>
            <p:cNvSpPr/>
            <p:nvPr/>
          </p:nvSpPr>
          <p:spPr>
            <a:xfrm>
              <a:off x="7010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7162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15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162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934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391520" y="3657600"/>
            <a:ext cx="457200" cy="457200"/>
            <a:chOff x="7391520" y="3657600"/>
            <a:chExt cx="457200" cy="457200"/>
          </a:xfrm>
        </p:grpSpPr>
        <p:sp>
          <p:nvSpPr>
            <p:cNvPr id="952" name=""/>
            <p:cNvSpPr/>
            <p:nvPr/>
          </p:nvSpPr>
          <p:spPr>
            <a:xfrm>
              <a:off x="7467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620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772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7620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91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848720" y="3657600"/>
            <a:ext cx="457200" cy="457200"/>
            <a:chOff x="7848720" y="3657600"/>
            <a:chExt cx="457200" cy="457200"/>
          </a:xfrm>
        </p:grpSpPr>
        <p:sp>
          <p:nvSpPr>
            <p:cNvPr id="958" name=""/>
            <p:cNvSpPr/>
            <p:nvPr/>
          </p:nvSpPr>
          <p:spPr>
            <a:xfrm>
              <a:off x="7925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8077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29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848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964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970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562720" y="3657600"/>
            <a:ext cx="457200" cy="457200"/>
            <a:chOff x="5562720" y="3657600"/>
            <a:chExt cx="457200" cy="457200"/>
          </a:xfrm>
        </p:grpSpPr>
        <p:sp>
          <p:nvSpPr>
            <p:cNvPr id="976" name=""/>
            <p:cNvSpPr/>
            <p:nvPr/>
          </p:nvSpPr>
          <p:spPr>
            <a:xfrm>
              <a:off x="5639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791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43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5791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62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6019920" y="3657600"/>
            <a:ext cx="457200" cy="457200"/>
            <a:chOff x="6019920" y="3657600"/>
            <a:chExt cx="457200" cy="457200"/>
          </a:xfrm>
        </p:grpSpPr>
        <p:sp>
          <p:nvSpPr>
            <p:cNvPr id="982" name=""/>
            <p:cNvSpPr/>
            <p:nvPr/>
          </p:nvSpPr>
          <p:spPr>
            <a:xfrm>
              <a:off x="6096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248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1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248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19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477120" y="4114800"/>
            <a:ext cx="457200" cy="457200"/>
            <a:chOff x="6477120" y="4114800"/>
            <a:chExt cx="457200" cy="457200"/>
          </a:xfrm>
        </p:grpSpPr>
        <p:sp>
          <p:nvSpPr>
            <p:cNvPr id="988" name=""/>
            <p:cNvSpPr/>
            <p:nvPr/>
          </p:nvSpPr>
          <p:spPr>
            <a:xfrm>
              <a:off x="6553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6705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705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77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934320" y="4114800"/>
            <a:ext cx="457200" cy="457200"/>
            <a:chOff x="6934320" y="4114800"/>
            <a:chExt cx="457200" cy="457200"/>
          </a:xfrm>
        </p:grpSpPr>
        <p:sp>
          <p:nvSpPr>
            <p:cNvPr id="994" name=""/>
            <p:cNvSpPr/>
            <p:nvPr/>
          </p:nvSpPr>
          <p:spPr>
            <a:xfrm>
              <a:off x="7010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162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162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934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7391520" y="4114800"/>
            <a:ext cx="457200" cy="457200"/>
            <a:chOff x="7391520" y="4114800"/>
            <a:chExt cx="457200" cy="457200"/>
          </a:xfrm>
        </p:grpSpPr>
        <p:sp>
          <p:nvSpPr>
            <p:cNvPr id="1000" name=""/>
            <p:cNvSpPr/>
            <p:nvPr/>
          </p:nvSpPr>
          <p:spPr>
            <a:xfrm>
              <a:off x="7467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72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620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7848720" y="4114800"/>
            <a:ext cx="457200" cy="457200"/>
            <a:chOff x="7848720" y="4114800"/>
            <a:chExt cx="457200" cy="457200"/>
          </a:xfrm>
        </p:grpSpPr>
        <p:sp>
          <p:nvSpPr>
            <p:cNvPr id="1006" name=""/>
            <p:cNvSpPr/>
            <p:nvPr/>
          </p:nvSpPr>
          <p:spPr>
            <a:xfrm>
              <a:off x="7925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077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229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8077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48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1012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1018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562720" y="4114800"/>
            <a:ext cx="457200" cy="457200"/>
            <a:chOff x="5562720" y="4114800"/>
            <a:chExt cx="457200" cy="457200"/>
          </a:xfrm>
        </p:grpSpPr>
        <p:sp>
          <p:nvSpPr>
            <p:cNvPr id="1024" name=""/>
            <p:cNvSpPr/>
            <p:nvPr/>
          </p:nvSpPr>
          <p:spPr>
            <a:xfrm>
              <a:off x="5639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791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43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791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62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019920" y="4114800"/>
            <a:ext cx="457200" cy="457200"/>
            <a:chOff x="6019920" y="4114800"/>
            <a:chExt cx="457200" cy="457200"/>
          </a:xfrm>
        </p:grpSpPr>
        <p:sp>
          <p:nvSpPr>
            <p:cNvPr id="1030" name=""/>
            <p:cNvSpPr/>
            <p:nvPr/>
          </p:nvSpPr>
          <p:spPr>
            <a:xfrm>
              <a:off x="6096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248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01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248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19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477120" y="4572000"/>
            <a:ext cx="457200" cy="457200"/>
            <a:chOff x="6477120" y="4572000"/>
            <a:chExt cx="457200" cy="457200"/>
          </a:xfrm>
        </p:grpSpPr>
        <p:sp>
          <p:nvSpPr>
            <p:cNvPr id="1036" name=""/>
            <p:cNvSpPr/>
            <p:nvPr/>
          </p:nvSpPr>
          <p:spPr>
            <a:xfrm>
              <a:off x="6553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705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6705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77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6934320" y="4572000"/>
            <a:ext cx="457200" cy="457200"/>
            <a:chOff x="6934320" y="4572000"/>
            <a:chExt cx="457200" cy="457200"/>
          </a:xfrm>
        </p:grpSpPr>
        <p:sp>
          <p:nvSpPr>
            <p:cNvPr id="1042" name=""/>
            <p:cNvSpPr/>
            <p:nvPr/>
          </p:nvSpPr>
          <p:spPr>
            <a:xfrm>
              <a:off x="7010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7162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315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7162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34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391520" y="4572000"/>
            <a:ext cx="457200" cy="457200"/>
            <a:chOff x="7391520" y="4572000"/>
            <a:chExt cx="457200" cy="457200"/>
          </a:xfrm>
        </p:grpSpPr>
        <p:sp>
          <p:nvSpPr>
            <p:cNvPr id="1048" name=""/>
            <p:cNvSpPr/>
            <p:nvPr/>
          </p:nvSpPr>
          <p:spPr>
            <a:xfrm>
              <a:off x="7467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620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772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7620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391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7848720" y="4572000"/>
            <a:ext cx="457200" cy="457200"/>
            <a:chOff x="7848720" y="4572000"/>
            <a:chExt cx="457200" cy="457200"/>
          </a:xfrm>
        </p:grpSpPr>
        <p:sp>
          <p:nvSpPr>
            <p:cNvPr id="1054" name=""/>
            <p:cNvSpPr/>
            <p:nvPr/>
          </p:nvSpPr>
          <p:spPr>
            <a:xfrm>
              <a:off x="7925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8077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229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8077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48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1060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1066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562720" y="4572000"/>
            <a:ext cx="457200" cy="457200"/>
            <a:chOff x="5562720" y="4572000"/>
            <a:chExt cx="457200" cy="457200"/>
          </a:xfrm>
        </p:grpSpPr>
        <p:sp>
          <p:nvSpPr>
            <p:cNvPr id="1072" name=""/>
            <p:cNvSpPr/>
            <p:nvPr/>
          </p:nvSpPr>
          <p:spPr>
            <a:xfrm>
              <a:off x="5639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791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43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5791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62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019920" y="4572000"/>
            <a:ext cx="457200" cy="457200"/>
            <a:chOff x="6019920" y="4572000"/>
            <a:chExt cx="457200" cy="457200"/>
          </a:xfrm>
        </p:grpSpPr>
        <p:sp>
          <p:nvSpPr>
            <p:cNvPr id="1078" name=""/>
            <p:cNvSpPr/>
            <p:nvPr/>
          </p:nvSpPr>
          <p:spPr>
            <a:xfrm>
              <a:off x="6096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6248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01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248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19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6477120" y="5029200"/>
            <a:ext cx="457200" cy="457200"/>
            <a:chOff x="6477120" y="5029200"/>
            <a:chExt cx="457200" cy="457200"/>
          </a:xfrm>
        </p:grpSpPr>
        <p:sp>
          <p:nvSpPr>
            <p:cNvPr id="1084" name=""/>
            <p:cNvSpPr/>
            <p:nvPr/>
          </p:nvSpPr>
          <p:spPr>
            <a:xfrm>
              <a:off x="6553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6705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58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705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77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934320" y="5029200"/>
            <a:ext cx="457200" cy="457200"/>
            <a:chOff x="6934320" y="5029200"/>
            <a:chExt cx="457200" cy="457200"/>
          </a:xfrm>
        </p:grpSpPr>
        <p:sp>
          <p:nvSpPr>
            <p:cNvPr id="1090" name=""/>
            <p:cNvSpPr/>
            <p:nvPr/>
          </p:nvSpPr>
          <p:spPr>
            <a:xfrm>
              <a:off x="7010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162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315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7162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7391520" y="5029200"/>
            <a:ext cx="457200" cy="457200"/>
            <a:chOff x="7391520" y="5029200"/>
            <a:chExt cx="457200" cy="457200"/>
          </a:xfrm>
        </p:grpSpPr>
        <p:sp>
          <p:nvSpPr>
            <p:cNvPr id="1096" name=""/>
            <p:cNvSpPr/>
            <p:nvPr/>
          </p:nvSpPr>
          <p:spPr>
            <a:xfrm>
              <a:off x="7467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620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772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620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391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848720" y="5029200"/>
            <a:ext cx="457200" cy="457200"/>
            <a:chOff x="7848720" y="5029200"/>
            <a:chExt cx="457200" cy="457200"/>
          </a:xfrm>
        </p:grpSpPr>
        <p:sp>
          <p:nvSpPr>
            <p:cNvPr id="1102" name=""/>
            <p:cNvSpPr/>
            <p:nvPr/>
          </p:nvSpPr>
          <p:spPr>
            <a:xfrm>
              <a:off x="7925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077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229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8077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848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1108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1114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5562720" y="5029200"/>
            <a:ext cx="457200" cy="457200"/>
            <a:chOff x="5562720" y="5029200"/>
            <a:chExt cx="457200" cy="457200"/>
          </a:xfrm>
        </p:grpSpPr>
        <p:sp>
          <p:nvSpPr>
            <p:cNvPr id="1120" name=""/>
            <p:cNvSpPr/>
            <p:nvPr/>
          </p:nvSpPr>
          <p:spPr>
            <a:xfrm>
              <a:off x="5639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791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43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5791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62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6019920" y="5029200"/>
            <a:ext cx="457200" cy="457200"/>
            <a:chOff x="6019920" y="5029200"/>
            <a:chExt cx="457200" cy="457200"/>
          </a:xfrm>
        </p:grpSpPr>
        <p:sp>
          <p:nvSpPr>
            <p:cNvPr id="1126" name=""/>
            <p:cNvSpPr/>
            <p:nvPr/>
          </p:nvSpPr>
          <p:spPr>
            <a:xfrm>
              <a:off x="6096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248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01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248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19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477120" y="5486400"/>
            <a:ext cx="457200" cy="457200"/>
            <a:chOff x="6477120" y="5486400"/>
            <a:chExt cx="457200" cy="457200"/>
          </a:xfrm>
        </p:grpSpPr>
        <p:sp>
          <p:nvSpPr>
            <p:cNvPr id="1132" name=""/>
            <p:cNvSpPr/>
            <p:nvPr/>
          </p:nvSpPr>
          <p:spPr>
            <a:xfrm>
              <a:off x="65534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705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8583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67057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4771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6934320" y="5486400"/>
            <a:ext cx="457200" cy="457200"/>
            <a:chOff x="6934320" y="5486400"/>
            <a:chExt cx="457200" cy="457200"/>
          </a:xfrm>
        </p:grpSpPr>
        <p:sp>
          <p:nvSpPr>
            <p:cNvPr id="1138" name=""/>
            <p:cNvSpPr/>
            <p:nvPr/>
          </p:nvSpPr>
          <p:spPr>
            <a:xfrm>
              <a:off x="7010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7162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15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7162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34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7391520" y="5486400"/>
            <a:ext cx="457200" cy="457200"/>
            <a:chOff x="7391520" y="5486400"/>
            <a:chExt cx="457200" cy="457200"/>
          </a:xfrm>
        </p:grpSpPr>
        <p:sp>
          <p:nvSpPr>
            <p:cNvPr id="1144" name=""/>
            <p:cNvSpPr/>
            <p:nvPr/>
          </p:nvSpPr>
          <p:spPr>
            <a:xfrm>
              <a:off x="7467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7620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72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7620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91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7848720" y="5486400"/>
            <a:ext cx="457200" cy="457200"/>
            <a:chOff x="7848720" y="5486400"/>
            <a:chExt cx="457200" cy="457200"/>
          </a:xfrm>
        </p:grpSpPr>
        <p:sp>
          <p:nvSpPr>
            <p:cNvPr id="1150" name=""/>
            <p:cNvSpPr/>
            <p:nvPr/>
          </p:nvSpPr>
          <p:spPr>
            <a:xfrm>
              <a:off x="7925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8077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29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8077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48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4648320" y="5486400"/>
            <a:ext cx="457200" cy="457200"/>
            <a:chOff x="4648320" y="5486400"/>
            <a:chExt cx="457200" cy="457200"/>
          </a:xfrm>
        </p:grpSpPr>
        <p:sp>
          <p:nvSpPr>
            <p:cNvPr id="1156" name=""/>
            <p:cNvSpPr/>
            <p:nvPr/>
          </p:nvSpPr>
          <p:spPr>
            <a:xfrm>
              <a:off x="4724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29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876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48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5105520" y="5486400"/>
            <a:ext cx="457200" cy="457200"/>
            <a:chOff x="5105520" y="5486400"/>
            <a:chExt cx="457200" cy="457200"/>
          </a:xfrm>
        </p:grpSpPr>
        <p:sp>
          <p:nvSpPr>
            <p:cNvPr id="1162" name=""/>
            <p:cNvSpPr/>
            <p:nvPr/>
          </p:nvSpPr>
          <p:spPr>
            <a:xfrm>
              <a:off x="5181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334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86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34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05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5562720" y="5486400"/>
            <a:ext cx="457200" cy="457200"/>
            <a:chOff x="5562720" y="5486400"/>
            <a:chExt cx="457200" cy="457200"/>
          </a:xfrm>
        </p:grpSpPr>
        <p:sp>
          <p:nvSpPr>
            <p:cNvPr id="1168" name=""/>
            <p:cNvSpPr/>
            <p:nvPr/>
          </p:nvSpPr>
          <p:spPr>
            <a:xfrm>
              <a:off x="5639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791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43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791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562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6019920" y="5486400"/>
            <a:ext cx="457200" cy="457200"/>
            <a:chOff x="6019920" y="5486400"/>
            <a:chExt cx="457200" cy="457200"/>
          </a:xfrm>
        </p:grpSpPr>
        <p:sp>
          <p:nvSpPr>
            <p:cNvPr id="1174" name=""/>
            <p:cNvSpPr/>
            <p:nvPr/>
          </p:nvSpPr>
          <p:spPr>
            <a:xfrm>
              <a:off x="60962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248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011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485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199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6477120" y="5943600"/>
            <a:ext cx="457200" cy="457200"/>
            <a:chOff x="6477120" y="5943600"/>
            <a:chExt cx="457200" cy="457200"/>
          </a:xfrm>
        </p:grpSpPr>
        <p:sp>
          <p:nvSpPr>
            <p:cNvPr id="1180" name=""/>
            <p:cNvSpPr/>
            <p:nvPr/>
          </p:nvSpPr>
          <p:spPr>
            <a:xfrm>
              <a:off x="65534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7057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583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7057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771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934320" y="5943600"/>
            <a:ext cx="457200" cy="457200"/>
            <a:chOff x="6934320" y="5943600"/>
            <a:chExt cx="457200" cy="457200"/>
          </a:xfrm>
        </p:grpSpPr>
        <p:sp>
          <p:nvSpPr>
            <p:cNvPr id="1186" name=""/>
            <p:cNvSpPr/>
            <p:nvPr/>
          </p:nvSpPr>
          <p:spPr>
            <a:xfrm>
              <a:off x="7010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7162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15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162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34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7391520" y="5943600"/>
            <a:ext cx="457200" cy="457200"/>
            <a:chOff x="7391520" y="5943600"/>
            <a:chExt cx="457200" cy="457200"/>
          </a:xfrm>
        </p:grpSpPr>
        <p:sp>
          <p:nvSpPr>
            <p:cNvPr id="1192" name=""/>
            <p:cNvSpPr/>
            <p:nvPr/>
          </p:nvSpPr>
          <p:spPr>
            <a:xfrm>
              <a:off x="7467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7620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72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7620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91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7848720" y="5943600"/>
            <a:ext cx="457200" cy="457200"/>
            <a:chOff x="7848720" y="5943600"/>
            <a:chExt cx="457200" cy="457200"/>
          </a:xfrm>
        </p:grpSpPr>
        <p:sp>
          <p:nvSpPr>
            <p:cNvPr id="1198" name=""/>
            <p:cNvSpPr/>
            <p:nvPr/>
          </p:nvSpPr>
          <p:spPr>
            <a:xfrm>
              <a:off x="7925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8077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29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8077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48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648320" y="5943600"/>
            <a:ext cx="457200" cy="457200"/>
            <a:chOff x="4648320" y="5943600"/>
            <a:chExt cx="457200" cy="457200"/>
          </a:xfrm>
        </p:grpSpPr>
        <p:sp>
          <p:nvSpPr>
            <p:cNvPr id="1204" name=""/>
            <p:cNvSpPr/>
            <p:nvPr/>
          </p:nvSpPr>
          <p:spPr>
            <a:xfrm>
              <a:off x="4724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876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29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876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48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5105520" y="5943600"/>
            <a:ext cx="457200" cy="457200"/>
            <a:chOff x="5105520" y="5943600"/>
            <a:chExt cx="457200" cy="457200"/>
          </a:xfrm>
        </p:grpSpPr>
        <p:sp>
          <p:nvSpPr>
            <p:cNvPr id="1210" name=""/>
            <p:cNvSpPr/>
            <p:nvPr/>
          </p:nvSpPr>
          <p:spPr>
            <a:xfrm>
              <a:off x="5181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5334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86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334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05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562720" y="5943600"/>
            <a:ext cx="457200" cy="457200"/>
            <a:chOff x="5562720" y="5943600"/>
            <a:chExt cx="457200" cy="457200"/>
          </a:xfrm>
        </p:grpSpPr>
        <p:sp>
          <p:nvSpPr>
            <p:cNvPr id="1216" name=""/>
            <p:cNvSpPr/>
            <p:nvPr/>
          </p:nvSpPr>
          <p:spPr>
            <a:xfrm>
              <a:off x="5639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791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43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791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62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6019920" y="5943600"/>
            <a:ext cx="457200" cy="457200"/>
            <a:chOff x="6019920" y="5943600"/>
            <a:chExt cx="457200" cy="457200"/>
          </a:xfrm>
        </p:grpSpPr>
        <p:sp>
          <p:nvSpPr>
            <p:cNvPr id="1222" name=""/>
            <p:cNvSpPr/>
            <p:nvPr/>
          </p:nvSpPr>
          <p:spPr>
            <a:xfrm>
              <a:off x="60962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2485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11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62485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199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01172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8364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4864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9436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80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162920" y="5257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1629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162920" y="4343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162920" y="3885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00800" y="571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38080" y="4800600"/>
            <a:ext cx="3657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ough any path in the gray area is possible, oblivious use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86D-36EF-4542-850F-72D4BF5C2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blivious Ro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’s speed comes from very simple decision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-first and Column-first ar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packet arrives, a node must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?  The destination has been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?  The column has been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543800" y="4191120"/>
            <a:ext cx="457200" cy="457200"/>
            <a:chOff x="7543800" y="4191120"/>
            <a:chExt cx="457200" cy="457200"/>
          </a:xfrm>
        </p:grpSpPr>
        <p:sp>
          <p:nvSpPr>
            <p:cNvPr id="1241" name=""/>
            <p:cNvSpPr/>
            <p:nvPr/>
          </p:nvSpPr>
          <p:spPr>
            <a:xfrm>
              <a:off x="76201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77724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250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7724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438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8001000" y="4191120"/>
            <a:ext cx="457200" cy="457200"/>
            <a:chOff x="8001000" y="4191120"/>
            <a:chExt cx="457200" cy="457200"/>
          </a:xfrm>
        </p:grpSpPr>
        <p:sp>
          <p:nvSpPr>
            <p:cNvPr id="1247" name=""/>
            <p:cNvSpPr/>
            <p:nvPr/>
          </p:nvSpPr>
          <p:spPr>
            <a:xfrm>
              <a:off x="80773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82296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3822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82296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010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172200" y="4191120"/>
            <a:ext cx="457200" cy="457200"/>
            <a:chOff x="6172200" y="4191120"/>
            <a:chExt cx="457200" cy="457200"/>
          </a:xfrm>
        </p:grpSpPr>
        <p:sp>
          <p:nvSpPr>
            <p:cNvPr id="1253" name=""/>
            <p:cNvSpPr/>
            <p:nvPr/>
          </p:nvSpPr>
          <p:spPr>
            <a:xfrm>
              <a:off x="62485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64008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5534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4008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722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629400" y="4191120"/>
            <a:ext cx="457200" cy="457200"/>
            <a:chOff x="6629400" y="4191120"/>
            <a:chExt cx="457200" cy="457200"/>
          </a:xfrm>
        </p:grpSpPr>
        <p:sp>
          <p:nvSpPr>
            <p:cNvPr id="1259" name=""/>
            <p:cNvSpPr/>
            <p:nvPr/>
          </p:nvSpPr>
          <p:spPr>
            <a:xfrm>
              <a:off x="67057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68580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0106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68580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6294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7086600" y="4191120"/>
            <a:ext cx="457200" cy="457200"/>
            <a:chOff x="7086600" y="4191120"/>
            <a:chExt cx="457200" cy="457200"/>
          </a:xfrm>
        </p:grpSpPr>
        <p:sp>
          <p:nvSpPr>
            <p:cNvPr id="1265" name=""/>
            <p:cNvSpPr/>
            <p:nvPr/>
          </p:nvSpPr>
          <p:spPr>
            <a:xfrm>
              <a:off x="716292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731520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6784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73152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8660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7543800" y="4648320"/>
            <a:ext cx="457200" cy="457200"/>
            <a:chOff x="7543800" y="4648320"/>
            <a:chExt cx="457200" cy="457200"/>
          </a:xfrm>
        </p:grpSpPr>
        <p:sp>
          <p:nvSpPr>
            <p:cNvPr id="1271" name=""/>
            <p:cNvSpPr/>
            <p:nvPr/>
          </p:nvSpPr>
          <p:spPr>
            <a:xfrm>
              <a:off x="76201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77724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9250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77724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438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8001000" y="4648320"/>
            <a:ext cx="457200" cy="457200"/>
            <a:chOff x="8001000" y="4648320"/>
            <a:chExt cx="457200" cy="457200"/>
          </a:xfrm>
        </p:grpSpPr>
        <p:sp>
          <p:nvSpPr>
            <p:cNvPr id="1277" name=""/>
            <p:cNvSpPr/>
            <p:nvPr/>
          </p:nvSpPr>
          <p:spPr>
            <a:xfrm>
              <a:off x="80773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82296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822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82296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0010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172200" y="4648320"/>
            <a:ext cx="457200" cy="457200"/>
            <a:chOff x="6172200" y="4648320"/>
            <a:chExt cx="457200" cy="457200"/>
          </a:xfrm>
        </p:grpSpPr>
        <p:sp>
          <p:nvSpPr>
            <p:cNvPr id="1283" name=""/>
            <p:cNvSpPr/>
            <p:nvPr/>
          </p:nvSpPr>
          <p:spPr>
            <a:xfrm>
              <a:off x="62485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64008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534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64008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1722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6629400" y="4648320"/>
            <a:ext cx="457200" cy="457200"/>
            <a:chOff x="6629400" y="4648320"/>
            <a:chExt cx="457200" cy="457200"/>
          </a:xfrm>
        </p:grpSpPr>
        <p:sp>
          <p:nvSpPr>
            <p:cNvPr id="1289" name=""/>
            <p:cNvSpPr/>
            <p:nvPr/>
          </p:nvSpPr>
          <p:spPr>
            <a:xfrm>
              <a:off x="67057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68580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06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8580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6294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7086600" y="4648320"/>
            <a:ext cx="457200" cy="457200"/>
            <a:chOff x="7086600" y="4648320"/>
            <a:chExt cx="457200" cy="457200"/>
          </a:xfrm>
        </p:grpSpPr>
        <p:sp>
          <p:nvSpPr>
            <p:cNvPr id="1295" name=""/>
            <p:cNvSpPr/>
            <p:nvPr/>
          </p:nvSpPr>
          <p:spPr>
            <a:xfrm>
              <a:off x="716292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731520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6784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3152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8660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7543800" y="5105520"/>
            <a:ext cx="457200" cy="457200"/>
            <a:chOff x="7543800" y="5105520"/>
            <a:chExt cx="457200" cy="457200"/>
          </a:xfrm>
        </p:grpSpPr>
        <p:sp>
          <p:nvSpPr>
            <p:cNvPr id="1301" name=""/>
            <p:cNvSpPr/>
            <p:nvPr/>
          </p:nvSpPr>
          <p:spPr>
            <a:xfrm>
              <a:off x="76201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7724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250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77724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38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8001000" y="5105520"/>
            <a:ext cx="457200" cy="457200"/>
            <a:chOff x="8001000" y="5105520"/>
            <a:chExt cx="457200" cy="457200"/>
          </a:xfrm>
        </p:grpSpPr>
        <p:sp>
          <p:nvSpPr>
            <p:cNvPr id="1307" name=""/>
            <p:cNvSpPr/>
            <p:nvPr/>
          </p:nvSpPr>
          <p:spPr>
            <a:xfrm>
              <a:off x="80773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82296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3822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82296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0010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172200" y="5105520"/>
            <a:ext cx="457200" cy="457200"/>
            <a:chOff x="6172200" y="5105520"/>
            <a:chExt cx="457200" cy="457200"/>
          </a:xfrm>
        </p:grpSpPr>
        <p:sp>
          <p:nvSpPr>
            <p:cNvPr id="1313" name=""/>
            <p:cNvSpPr/>
            <p:nvPr/>
          </p:nvSpPr>
          <p:spPr>
            <a:xfrm>
              <a:off x="62485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64008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34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4008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722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6629400" y="5105520"/>
            <a:ext cx="457200" cy="457200"/>
            <a:chOff x="6629400" y="5105520"/>
            <a:chExt cx="457200" cy="457200"/>
          </a:xfrm>
        </p:grpSpPr>
        <p:sp>
          <p:nvSpPr>
            <p:cNvPr id="1319" name=""/>
            <p:cNvSpPr/>
            <p:nvPr/>
          </p:nvSpPr>
          <p:spPr>
            <a:xfrm>
              <a:off x="67057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68580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06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68580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6294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7086600" y="5105520"/>
            <a:ext cx="457200" cy="457200"/>
            <a:chOff x="7086600" y="5105520"/>
            <a:chExt cx="457200" cy="457200"/>
          </a:xfrm>
        </p:grpSpPr>
        <p:sp>
          <p:nvSpPr>
            <p:cNvPr id="1325" name=""/>
            <p:cNvSpPr/>
            <p:nvPr/>
          </p:nvSpPr>
          <p:spPr>
            <a:xfrm>
              <a:off x="716292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31520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6784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3152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8660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7543800" y="5562720"/>
            <a:ext cx="457200" cy="457200"/>
            <a:chOff x="7543800" y="5562720"/>
            <a:chExt cx="457200" cy="457200"/>
          </a:xfrm>
        </p:grpSpPr>
        <p:sp>
          <p:nvSpPr>
            <p:cNvPr id="1331" name=""/>
            <p:cNvSpPr/>
            <p:nvPr/>
          </p:nvSpPr>
          <p:spPr>
            <a:xfrm>
              <a:off x="76201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77724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250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77724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438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8001000" y="5562720"/>
            <a:ext cx="457200" cy="457200"/>
            <a:chOff x="8001000" y="5562720"/>
            <a:chExt cx="457200" cy="457200"/>
          </a:xfrm>
        </p:grpSpPr>
        <p:sp>
          <p:nvSpPr>
            <p:cNvPr id="1337" name=""/>
            <p:cNvSpPr/>
            <p:nvPr/>
          </p:nvSpPr>
          <p:spPr>
            <a:xfrm>
              <a:off x="80773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82296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3822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82296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0010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6172200" y="5562720"/>
            <a:ext cx="457200" cy="457200"/>
            <a:chOff x="6172200" y="5562720"/>
            <a:chExt cx="457200" cy="457200"/>
          </a:xfrm>
        </p:grpSpPr>
        <p:sp>
          <p:nvSpPr>
            <p:cNvPr id="1343" name=""/>
            <p:cNvSpPr/>
            <p:nvPr/>
          </p:nvSpPr>
          <p:spPr>
            <a:xfrm>
              <a:off x="62485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64008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534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64008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722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629400" y="5562720"/>
            <a:ext cx="457200" cy="457200"/>
            <a:chOff x="6629400" y="5562720"/>
            <a:chExt cx="457200" cy="457200"/>
          </a:xfrm>
        </p:grpSpPr>
        <p:sp>
          <p:nvSpPr>
            <p:cNvPr id="1349" name=""/>
            <p:cNvSpPr/>
            <p:nvPr/>
          </p:nvSpPr>
          <p:spPr>
            <a:xfrm>
              <a:off x="67057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68580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0106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8580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294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7086600" y="5562720"/>
            <a:ext cx="457200" cy="457200"/>
            <a:chOff x="7086600" y="5562720"/>
            <a:chExt cx="457200" cy="457200"/>
          </a:xfrm>
        </p:grpSpPr>
        <p:sp>
          <p:nvSpPr>
            <p:cNvPr id="1355" name=""/>
            <p:cNvSpPr/>
            <p:nvPr/>
          </p:nvSpPr>
          <p:spPr>
            <a:xfrm>
              <a:off x="7162920" y="5639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315200" y="5562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67840" y="5791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73152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86600" y="5791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7543800" y="6019920"/>
            <a:ext cx="457200" cy="457200"/>
            <a:chOff x="7543800" y="6019920"/>
            <a:chExt cx="457200" cy="457200"/>
          </a:xfrm>
        </p:grpSpPr>
        <p:sp>
          <p:nvSpPr>
            <p:cNvPr id="1361" name=""/>
            <p:cNvSpPr/>
            <p:nvPr/>
          </p:nvSpPr>
          <p:spPr>
            <a:xfrm>
              <a:off x="76201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77724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9250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7724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5438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8001000" y="6019920"/>
            <a:ext cx="457200" cy="457200"/>
            <a:chOff x="8001000" y="6019920"/>
            <a:chExt cx="457200" cy="457200"/>
          </a:xfrm>
        </p:grpSpPr>
        <p:sp>
          <p:nvSpPr>
            <p:cNvPr id="1367" name=""/>
            <p:cNvSpPr/>
            <p:nvPr/>
          </p:nvSpPr>
          <p:spPr>
            <a:xfrm>
              <a:off x="80773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82296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3822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82296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0010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6172200" y="6019920"/>
            <a:ext cx="457200" cy="457200"/>
            <a:chOff x="6172200" y="6019920"/>
            <a:chExt cx="457200" cy="457200"/>
          </a:xfrm>
        </p:grpSpPr>
        <p:sp>
          <p:nvSpPr>
            <p:cNvPr id="1373" name=""/>
            <p:cNvSpPr/>
            <p:nvPr/>
          </p:nvSpPr>
          <p:spPr>
            <a:xfrm>
              <a:off x="62485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64008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534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64008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1722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6629400" y="6019920"/>
            <a:ext cx="457200" cy="457200"/>
            <a:chOff x="6629400" y="6019920"/>
            <a:chExt cx="457200" cy="457200"/>
          </a:xfrm>
        </p:grpSpPr>
        <p:sp>
          <p:nvSpPr>
            <p:cNvPr id="1379" name=""/>
            <p:cNvSpPr/>
            <p:nvPr/>
          </p:nvSpPr>
          <p:spPr>
            <a:xfrm>
              <a:off x="67057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68580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106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68580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294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7086600" y="6019920"/>
            <a:ext cx="457200" cy="457200"/>
            <a:chOff x="7086600" y="6019920"/>
            <a:chExt cx="457200" cy="457200"/>
          </a:xfrm>
        </p:grpSpPr>
        <p:sp>
          <p:nvSpPr>
            <p:cNvPr id="1385" name=""/>
            <p:cNvSpPr/>
            <p:nvPr/>
          </p:nvSpPr>
          <p:spPr>
            <a:xfrm>
              <a:off x="7162920" y="6096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315200" y="6019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67840" y="6248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7315200" y="6400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86600" y="6248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807876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250320" y="6019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5530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0102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9246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822960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822960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8229600" y="4876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8229600" y="4419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467480" y="6248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B61-D706-46AC-B2A7-C39EDEC90B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adlock Fre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blivious mesh router deadlock f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packets get in a state where they block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separate L/R, U/D wires and 1 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1403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1409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3276720" y="3200400"/>
            <a:ext cx="457200" cy="457200"/>
            <a:chOff x="3276720" y="3200400"/>
            <a:chExt cx="457200" cy="457200"/>
          </a:xfrm>
        </p:grpSpPr>
        <p:sp>
          <p:nvSpPr>
            <p:cNvPr id="1415" name=""/>
            <p:cNvSpPr/>
            <p:nvPr/>
          </p:nvSpPr>
          <p:spPr>
            <a:xfrm>
              <a:off x="3353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3505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657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3505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76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3733920" y="3200400"/>
            <a:ext cx="457200" cy="457200"/>
            <a:chOff x="3733920" y="3200400"/>
            <a:chExt cx="457200" cy="457200"/>
          </a:xfrm>
        </p:grpSpPr>
        <p:sp>
          <p:nvSpPr>
            <p:cNvPr id="1421" name=""/>
            <p:cNvSpPr/>
            <p:nvPr/>
          </p:nvSpPr>
          <p:spPr>
            <a:xfrm>
              <a:off x="3810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3962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15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3962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33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4191120" y="3200400"/>
            <a:ext cx="457200" cy="457200"/>
            <a:chOff x="4191120" y="3200400"/>
            <a:chExt cx="457200" cy="457200"/>
          </a:xfrm>
        </p:grpSpPr>
        <p:sp>
          <p:nvSpPr>
            <p:cNvPr id="1427" name=""/>
            <p:cNvSpPr/>
            <p:nvPr/>
          </p:nvSpPr>
          <p:spPr>
            <a:xfrm>
              <a:off x="4267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4419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72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4419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191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1433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1439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3276720" y="3657600"/>
            <a:ext cx="457200" cy="457200"/>
            <a:chOff x="3276720" y="3657600"/>
            <a:chExt cx="457200" cy="457200"/>
          </a:xfrm>
        </p:grpSpPr>
        <p:sp>
          <p:nvSpPr>
            <p:cNvPr id="1445" name=""/>
            <p:cNvSpPr/>
            <p:nvPr/>
          </p:nvSpPr>
          <p:spPr>
            <a:xfrm>
              <a:off x="3353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505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657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3505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76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3733920" y="3657600"/>
            <a:ext cx="457200" cy="457200"/>
            <a:chOff x="3733920" y="3657600"/>
            <a:chExt cx="457200" cy="457200"/>
          </a:xfrm>
        </p:grpSpPr>
        <p:sp>
          <p:nvSpPr>
            <p:cNvPr id="1451" name=""/>
            <p:cNvSpPr/>
            <p:nvPr/>
          </p:nvSpPr>
          <p:spPr>
            <a:xfrm>
              <a:off x="3810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62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15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3962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733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"/>
          <p:cNvGrpSpPr/>
          <p:nvPr/>
        </p:nvGrpSpPr>
        <p:grpSpPr>
          <a:xfrm>
            <a:off x="4191120" y="3657600"/>
            <a:ext cx="457200" cy="457200"/>
            <a:chOff x="4191120" y="3657600"/>
            <a:chExt cx="457200" cy="457200"/>
          </a:xfrm>
        </p:grpSpPr>
        <p:sp>
          <p:nvSpPr>
            <p:cNvPr id="1457" name=""/>
            <p:cNvSpPr/>
            <p:nvPr/>
          </p:nvSpPr>
          <p:spPr>
            <a:xfrm>
              <a:off x="4267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419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572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4419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191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1463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1469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3276720" y="4114800"/>
            <a:ext cx="457200" cy="457200"/>
            <a:chOff x="3276720" y="4114800"/>
            <a:chExt cx="457200" cy="457200"/>
          </a:xfrm>
        </p:grpSpPr>
        <p:sp>
          <p:nvSpPr>
            <p:cNvPr id="1475" name=""/>
            <p:cNvSpPr/>
            <p:nvPr/>
          </p:nvSpPr>
          <p:spPr>
            <a:xfrm>
              <a:off x="3353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3505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657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505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76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733920" y="4114800"/>
            <a:ext cx="457200" cy="457200"/>
            <a:chOff x="3733920" y="4114800"/>
            <a:chExt cx="457200" cy="457200"/>
          </a:xfrm>
        </p:grpSpPr>
        <p:sp>
          <p:nvSpPr>
            <p:cNvPr id="1481" name=""/>
            <p:cNvSpPr/>
            <p:nvPr/>
          </p:nvSpPr>
          <p:spPr>
            <a:xfrm>
              <a:off x="3810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962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15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3962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33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4191120" y="4114800"/>
            <a:ext cx="457200" cy="457200"/>
            <a:chOff x="4191120" y="4114800"/>
            <a:chExt cx="457200" cy="457200"/>
          </a:xfrm>
        </p:grpSpPr>
        <p:sp>
          <p:nvSpPr>
            <p:cNvPr id="1487" name=""/>
            <p:cNvSpPr/>
            <p:nvPr/>
          </p:nvSpPr>
          <p:spPr>
            <a:xfrm>
              <a:off x="4267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4419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72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4419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191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1493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1499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3276720" y="4572000"/>
            <a:ext cx="457200" cy="457200"/>
            <a:chOff x="3276720" y="4572000"/>
            <a:chExt cx="457200" cy="457200"/>
          </a:xfrm>
        </p:grpSpPr>
        <p:sp>
          <p:nvSpPr>
            <p:cNvPr id="1505" name=""/>
            <p:cNvSpPr/>
            <p:nvPr/>
          </p:nvSpPr>
          <p:spPr>
            <a:xfrm>
              <a:off x="3353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3505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57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3505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76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733920" y="4572000"/>
            <a:ext cx="457200" cy="457200"/>
            <a:chOff x="3733920" y="4572000"/>
            <a:chExt cx="457200" cy="457200"/>
          </a:xfrm>
        </p:grpSpPr>
        <p:sp>
          <p:nvSpPr>
            <p:cNvPr id="1511" name=""/>
            <p:cNvSpPr/>
            <p:nvPr/>
          </p:nvSpPr>
          <p:spPr>
            <a:xfrm>
              <a:off x="3810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962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115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3962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33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4191120" y="4572000"/>
            <a:ext cx="457200" cy="457200"/>
            <a:chOff x="4191120" y="4572000"/>
            <a:chExt cx="457200" cy="457200"/>
          </a:xfrm>
        </p:grpSpPr>
        <p:sp>
          <p:nvSpPr>
            <p:cNvPr id="1517" name=""/>
            <p:cNvSpPr/>
            <p:nvPr/>
          </p:nvSpPr>
          <p:spPr>
            <a:xfrm>
              <a:off x="4267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419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572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19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91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1523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1529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3276720" y="5029200"/>
            <a:ext cx="457200" cy="457200"/>
            <a:chOff x="3276720" y="5029200"/>
            <a:chExt cx="457200" cy="457200"/>
          </a:xfrm>
        </p:grpSpPr>
        <p:sp>
          <p:nvSpPr>
            <p:cNvPr id="1535" name=""/>
            <p:cNvSpPr/>
            <p:nvPr/>
          </p:nvSpPr>
          <p:spPr>
            <a:xfrm>
              <a:off x="3353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3505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57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3505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276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3733920" y="5029200"/>
            <a:ext cx="457200" cy="457200"/>
            <a:chOff x="3733920" y="5029200"/>
            <a:chExt cx="457200" cy="457200"/>
          </a:xfrm>
        </p:grpSpPr>
        <p:sp>
          <p:nvSpPr>
            <p:cNvPr id="1541" name=""/>
            <p:cNvSpPr/>
            <p:nvPr/>
          </p:nvSpPr>
          <p:spPr>
            <a:xfrm>
              <a:off x="3810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3962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115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962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33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4191120" y="5029200"/>
            <a:ext cx="457200" cy="457200"/>
            <a:chOff x="4191120" y="5029200"/>
            <a:chExt cx="457200" cy="457200"/>
          </a:xfrm>
        </p:grpSpPr>
        <p:sp>
          <p:nvSpPr>
            <p:cNvPr id="1547" name=""/>
            <p:cNvSpPr/>
            <p:nvPr/>
          </p:nvSpPr>
          <p:spPr>
            <a:xfrm>
              <a:off x="4267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419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572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4419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191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18292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354840" y="502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576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1148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292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3341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334120" y="4343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334120" y="3885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33412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572000" y="5257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00A-5A72-4DCE-A8CA-D2C40182C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w, Then Column Gets Ho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mesh most traffic crosses th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572000" y="1981080"/>
            <a:ext cx="457200" cy="457200"/>
            <a:chOff x="4572000" y="1981080"/>
            <a:chExt cx="457200" cy="457200"/>
          </a:xfrm>
        </p:grpSpPr>
        <p:sp>
          <p:nvSpPr>
            <p:cNvPr id="1565" name=""/>
            <p:cNvSpPr/>
            <p:nvPr/>
          </p:nvSpPr>
          <p:spPr>
            <a:xfrm>
              <a:off x="46483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48006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9532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48006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5720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5029200" y="1981080"/>
            <a:ext cx="457200" cy="457200"/>
            <a:chOff x="5029200" y="1981080"/>
            <a:chExt cx="457200" cy="457200"/>
          </a:xfrm>
        </p:grpSpPr>
        <p:sp>
          <p:nvSpPr>
            <p:cNvPr id="1571" name=""/>
            <p:cNvSpPr/>
            <p:nvPr/>
          </p:nvSpPr>
          <p:spPr>
            <a:xfrm>
              <a:off x="51055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257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4104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2578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0292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486400" y="1981080"/>
            <a:ext cx="457200" cy="457200"/>
            <a:chOff x="5486400" y="1981080"/>
            <a:chExt cx="457200" cy="457200"/>
          </a:xfrm>
        </p:grpSpPr>
        <p:sp>
          <p:nvSpPr>
            <p:cNvPr id="1577" name=""/>
            <p:cNvSpPr/>
            <p:nvPr/>
          </p:nvSpPr>
          <p:spPr>
            <a:xfrm>
              <a:off x="55627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57150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8676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7150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4864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5943600" y="1981080"/>
            <a:ext cx="457200" cy="457200"/>
            <a:chOff x="5943600" y="1981080"/>
            <a:chExt cx="457200" cy="457200"/>
          </a:xfrm>
        </p:grpSpPr>
        <p:sp>
          <p:nvSpPr>
            <p:cNvPr id="1583" name=""/>
            <p:cNvSpPr/>
            <p:nvPr/>
          </p:nvSpPr>
          <p:spPr>
            <a:xfrm>
              <a:off x="60199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1722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248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61722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436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43200" y="1981080"/>
            <a:ext cx="457200" cy="457200"/>
            <a:chOff x="2743200" y="1981080"/>
            <a:chExt cx="457200" cy="457200"/>
          </a:xfrm>
        </p:grpSpPr>
        <p:sp>
          <p:nvSpPr>
            <p:cNvPr id="1589" name=""/>
            <p:cNvSpPr/>
            <p:nvPr/>
          </p:nvSpPr>
          <p:spPr>
            <a:xfrm>
              <a:off x="28195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29718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1244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29718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7432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3200400" y="1981080"/>
            <a:ext cx="457200" cy="457200"/>
            <a:chOff x="3200400" y="1981080"/>
            <a:chExt cx="457200" cy="457200"/>
          </a:xfrm>
        </p:grpSpPr>
        <p:sp>
          <p:nvSpPr>
            <p:cNvPr id="1595" name=""/>
            <p:cNvSpPr/>
            <p:nvPr/>
          </p:nvSpPr>
          <p:spPr>
            <a:xfrm>
              <a:off x="32767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34290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816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34290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004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3657600" y="1981080"/>
            <a:ext cx="457200" cy="457200"/>
            <a:chOff x="3657600" y="1981080"/>
            <a:chExt cx="457200" cy="457200"/>
          </a:xfrm>
        </p:grpSpPr>
        <p:sp>
          <p:nvSpPr>
            <p:cNvPr id="1601" name=""/>
            <p:cNvSpPr/>
            <p:nvPr/>
          </p:nvSpPr>
          <p:spPr>
            <a:xfrm>
              <a:off x="37339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38862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388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38862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6576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607" name=""/>
            <p:cNvSpPr/>
            <p:nvPr/>
          </p:nvSpPr>
          <p:spPr>
            <a:xfrm>
              <a:off x="4191120" y="2057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434340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9604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434340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480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572000" y="2438280"/>
            <a:ext cx="457200" cy="457200"/>
            <a:chOff x="4572000" y="2438280"/>
            <a:chExt cx="457200" cy="457200"/>
          </a:xfrm>
        </p:grpSpPr>
        <p:sp>
          <p:nvSpPr>
            <p:cNvPr id="1613" name=""/>
            <p:cNvSpPr/>
            <p:nvPr/>
          </p:nvSpPr>
          <p:spPr>
            <a:xfrm>
              <a:off x="46483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8006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532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48006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5720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5029200" y="2438280"/>
            <a:ext cx="457200" cy="457200"/>
            <a:chOff x="5029200" y="2438280"/>
            <a:chExt cx="457200" cy="457200"/>
          </a:xfrm>
        </p:grpSpPr>
        <p:sp>
          <p:nvSpPr>
            <p:cNvPr id="1619" name=""/>
            <p:cNvSpPr/>
            <p:nvPr/>
          </p:nvSpPr>
          <p:spPr>
            <a:xfrm>
              <a:off x="51055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52578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4104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52578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292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5486400" y="2438280"/>
            <a:ext cx="457200" cy="457200"/>
            <a:chOff x="5486400" y="2438280"/>
            <a:chExt cx="457200" cy="457200"/>
          </a:xfrm>
        </p:grpSpPr>
        <p:sp>
          <p:nvSpPr>
            <p:cNvPr id="1625" name=""/>
            <p:cNvSpPr/>
            <p:nvPr/>
          </p:nvSpPr>
          <p:spPr>
            <a:xfrm>
              <a:off x="55627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7150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676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57150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4864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5943600" y="2438280"/>
            <a:ext cx="457200" cy="457200"/>
            <a:chOff x="5943600" y="2438280"/>
            <a:chExt cx="457200" cy="457200"/>
          </a:xfrm>
        </p:grpSpPr>
        <p:sp>
          <p:nvSpPr>
            <p:cNvPr id="1631" name=""/>
            <p:cNvSpPr/>
            <p:nvPr/>
          </p:nvSpPr>
          <p:spPr>
            <a:xfrm>
              <a:off x="6019920" y="2514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61722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248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61722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436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2743200" y="2438280"/>
            <a:ext cx="457200" cy="457200"/>
            <a:chOff x="2743200" y="2438280"/>
            <a:chExt cx="457200" cy="457200"/>
          </a:xfrm>
        </p:grpSpPr>
        <p:sp>
          <p:nvSpPr>
            <p:cNvPr id="1637" name=""/>
            <p:cNvSpPr/>
            <p:nvPr/>
          </p:nvSpPr>
          <p:spPr>
            <a:xfrm>
              <a:off x="2819520" y="2514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29718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244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29718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432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200400" y="2438280"/>
            <a:ext cx="457200" cy="457200"/>
            <a:chOff x="3200400" y="2438280"/>
            <a:chExt cx="457200" cy="457200"/>
          </a:xfrm>
        </p:grpSpPr>
        <p:sp>
          <p:nvSpPr>
            <p:cNvPr id="1643" name=""/>
            <p:cNvSpPr/>
            <p:nvPr/>
          </p:nvSpPr>
          <p:spPr>
            <a:xfrm>
              <a:off x="32767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34290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816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4290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2004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657600" y="2438280"/>
            <a:ext cx="457200" cy="457200"/>
            <a:chOff x="3657600" y="2438280"/>
            <a:chExt cx="457200" cy="457200"/>
          </a:xfrm>
        </p:grpSpPr>
        <p:sp>
          <p:nvSpPr>
            <p:cNvPr id="1649" name=""/>
            <p:cNvSpPr/>
            <p:nvPr/>
          </p:nvSpPr>
          <p:spPr>
            <a:xfrm>
              <a:off x="37339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38862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0388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38862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576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4114800" y="2438280"/>
            <a:ext cx="457200" cy="457200"/>
            <a:chOff x="4114800" y="2438280"/>
            <a:chExt cx="457200" cy="457200"/>
          </a:xfrm>
        </p:grpSpPr>
        <p:sp>
          <p:nvSpPr>
            <p:cNvPr id="1655" name=""/>
            <p:cNvSpPr/>
            <p:nvPr/>
          </p:nvSpPr>
          <p:spPr>
            <a:xfrm>
              <a:off x="4191120" y="2514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434340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9604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434340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1480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4572000" y="2895480"/>
            <a:ext cx="457200" cy="457200"/>
            <a:chOff x="4572000" y="2895480"/>
            <a:chExt cx="457200" cy="457200"/>
          </a:xfrm>
        </p:grpSpPr>
        <p:sp>
          <p:nvSpPr>
            <p:cNvPr id="1661" name=""/>
            <p:cNvSpPr/>
            <p:nvPr/>
          </p:nvSpPr>
          <p:spPr>
            <a:xfrm>
              <a:off x="46483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48006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532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48006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720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5029200" y="2895480"/>
            <a:ext cx="457200" cy="457200"/>
            <a:chOff x="5029200" y="2895480"/>
            <a:chExt cx="457200" cy="457200"/>
          </a:xfrm>
        </p:grpSpPr>
        <p:sp>
          <p:nvSpPr>
            <p:cNvPr id="1667" name=""/>
            <p:cNvSpPr/>
            <p:nvPr/>
          </p:nvSpPr>
          <p:spPr>
            <a:xfrm>
              <a:off x="51055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52578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104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2578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292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5486400" y="2895480"/>
            <a:ext cx="457200" cy="457200"/>
            <a:chOff x="5486400" y="2895480"/>
            <a:chExt cx="457200" cy="457200"/>
          </a:xfrm>
        </p:grpSpPr>
        <p:sp>
          <p:nvSpPr>
            <p:cNvPr id="1673" name=""/>
            <p:cNvSpPr/>
            <p:nvPr/>
          </p:nvSpPr>
          <p:spPr>
            <a:xfrm>
              <a:off x="5562720" y="29718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57150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8676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57150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864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943600" y="2895480"/>
            <a:ext cx="457200" cy="457200"/>
            <a:chOff x="5943600" y="2895480"/>
            <a:chExt cx="457200" cy="457200"/>
          </a:xfrm>
        </p:grpSpPr>
        <p:sp>
          <p:nvSpPr>
            <p:cNvPr id="1679" name=""/>
            <p:cNvSpPr/>
            <p:nvPr/>
          </p:nvSpPr>
          <p:spPr>
            <a:xfrm>
              <a:off x="6019920" y="2971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61722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48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61722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436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2743200" y="2895480"/>
            <a:ext cx="457200" cy="457200"/>
            <a:chOff x="2743200" y="2895480"/>
            <a:chExt cx="457200" cy="457200"/>
          </a:xfrm>
        </p:grpSpPr>
        <p:sp>
          <p:nvSpPr>
            <p:cNvPr id="1685" name=""/>
            <p:cNvSpPr/>
            <p:nvPr/>
          </p:nvSpPr>
          <p:spPr>
            <a:xfrm>
              <a:off x="2819520" y="2971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29718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1244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29718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7432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3200400" y="2895480"/>
            <a:ext cx="457200" cy="457200"/>
            <a:chOff x="3200400" y="2895480"/>
            <a:chExt cx="457200" cy="457200"/>
          </a:xfrm>
        </p:grpSpPr>
        <p:sp>
          <p:nvSpPr>
            <p:cNvPr id="1691" name=""/>
            <p:cNvSpPr/>
            <p:nvPr/>
          </p:nvSpPr>
          <p:spPr>
            <a:xfrm>
              <a:off x="3276720" y="29718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34290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816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34290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004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3657600" y="2895480"/>
            <a:ext cx="457200" cy="457200"/>
            <a:chOff x="3657600" y="2895480"/>
            <a:chExt cx="457200" cy="457200"/>
          </a:xfrm>
        </p:grpSpPr>
        <p:sp>
          <p:nvSpPr>
            <p:cNvPr id="1697" name=""/>
            <p:cNvSpPr/>
            <p:nvPr/>
          </p:nvSpPr>
          <p:spPr>
            <a:xfrm>
              <a:off x="37339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38862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388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38862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6576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4114800" y="2895480"/>
            <a:ext cx="457200" cy="457200"/>
            <a:chOff x="4114800" y="2895480"/>
            <a:chExt cx="457200" cy="457200"/>
          </a:xfrm>
        </p:grpSpPr>
        <p:sp>
          <p:nvSpPr>
            <p:cNvPr id="1703" name=""/>
            <p:cNvSpPr/>
            <p:nvPr/>
          </p:nvSpPr>
          <p:spPr>
            <a:xfrm>
              <a:off x="4191120" y="29718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43434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4960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43434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1148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4572000" y="3352680"/>
            <a:ext cx="457200" cy="457200"/>
            <a:chOff x="4572000" y="3352680"/>
            <a:chExt cx="457200" cy="457200"/>
          </a:xfrm>
        </p:grpSpPr>
        <p:sp>
          <p:nvSpPr>
            <p:cNvPr id="1709" name=""/>
            <p:cNvSpPr/>
            <p:nvPr/>
          </p:nvSpPr>
          <p:spPr>
            <a:xfrm>
              <a:off x="4648320" y="34290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8006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9532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8006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5720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29200" y="3352680"/>
            <a:ext cx="457200" cy="457200"/>
            <a:chOff x="5029200" y="3352680"/>
            <a:chExt cx="457200" cy="457200"/>
          </a:xfrm>
        </p:grpSpPr>
        <p:sp>
          <p:nvSpPr>
            <p:cNvPr id="1715" name=""/>
            <p:cNvSpPr/>
            <p:nvPr/>
          </p:nvSpPr>
          <p:spPr>
            <a:xfrm>
              <a:off x="5105520" y="34290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52578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104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52578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0292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5486400" y="3352680"/>
            <a:ext cx="457200" cy="457200"/>
            <a:chOff x="5486400" y="3352680"/>
            <a:chExt cx="457200" cy="457200"/>
          </a:xfrm>
        </p:grpSpPr>
        <p:sp>
          <p:nvSpPr>
            <p:cNvPr id="1721" name=""/>
            <p:cNvSpPr/>
            <p:nvPr/>
          </p:nvSpPr>
          <p:spPr>
            <a:xfrm>
              <a:off x="5562720" y="34290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57150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676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57150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4864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5943600" y="3352680"/>
            <a:ext cx="457200" cy="457200"/>
            <a:chOff x="5943600" y="3352680"/>
            <a:chExt cx="457200" cy="457200"/>
          </a:xfrm>
        </p:grpSpPr>
        <p:sp>
          <p:nvSpPr>
            <p:cNvPr id="1727" name=""/>
            <p:cNvSpPr/>
            <p:nvPr/>
          </p:nvSpPr>
          <p:spPr>
            <a:xfrm>
              <a:off x="6019920" y="34290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61722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248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61722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9436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2743200" y="3352680"/>
            <a:ext cx="457200" cy="457200"/>
            <a:chOff x="2743200" y="3352680"/>
            <a:chExt cx="457200" cy="457200"/>
          </a:xfrm>
        </p:grpSpPr>
        <p:sp>
          <p:nvSpPr>
            <p:cNvPr id="1733" name=""/>
            <p:cNvSpPr/>
            <p:nvPr/>
          </p:nvSpPr>
          <p:spPr>
            <a:xfrm>
              <a:off x="2819520" y="34290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29718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1244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9718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432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3200400" y="3352680"/>
            <a:ext cx="457200" cy="457200"/>
            <a:chOff x="3200400" y="3352680"/>
            <a:chExt cx="457200" cy="457200"/>
          </a:xfrm>
        </p:grpSpPr>
        <p:sp>
          <p:nvSpPr>
            <p:cNvPr id="1739" name=""/>
            <p:cNvSpPr/>
            <p:nvPr/>
          </p:nvSpPr>
          <p:spPr>
            <a:xfrm>
              <a:off x="3276720" y="34290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V="1">
              <a:off x="34290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5816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34290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2004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3657600" y="3352680"/>
            <a:ext cx="457200" cy="457200"/>
            <a:chOff x="3657600" y="3352680"/>
            <a:chExt cx="457200" cy="457200"/>
          </a:xfrm>
        </p:grpSpPr>
        <p:sp>
          <p:nvSpPr>
            <p:cNvPr id="1745" name=""/>
            <p:cNvSpPr/>
            <p:nvPr/>
          </p:nvSpPr>
          <p:spPr>
            <a:xfrm>
              <a:off x="3733920" y="34290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8862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388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38862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6576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4114800" y="3352680"/>
            <a:ext cx="457200" cy="457200"/>
            <a:chOff x="4114800" y="3352680"/>
            <a:chExt cx="457200" cy="457200"/>
          </a:xfrm>
        </p:grpSpPr>
        <p:sp>
          <p:nvSpPr>
            <p:cNvPr id="1751" name=""/>
            <p:cNvSpPr/>
            <p:nvPr/>
          </p:nvSpPr>
          <p:spPr>
            <a:xfrm>
              <a:off x="4191120" y="34290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434340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9604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34340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148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4572000" y="3809880"/>
            <a:ext cx="457200" cy="457200"/>
            <a:chOff x="4572000" y="3809880"/>
            <a:chExt cx="457200" cy="457200"/>
          </a:xfrm>
        </p:grpSpPr>
        <p:sp>
          <p:nvSpPr>
            <p:cNvPr id="1757" name=""/>
            <p:cNvSpPr/>
            <p:nvPr/>
          </p:nvSpPr>
          <p:spPr>
            <a:xfrm>
              <a:off x="4648320" y="3886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8006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532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48006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720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29200" y="3809880"/>
            <a:ext cx="457200" cy="457200"/>
            <a:chOff x="5029200" y="3809880"/>
            <a:chExt cx="457200" cy="457200"/>
          </a:xfrm>
        </p:grpSpPr>
        <p:sp>
          <p:nvSpPr>
            <p:cNvPr id="1763" name=""/>
            <p:cNvSpPr/>
            <p:nvPr/>
          </p:nvSpPr>
          <p:spPr>
            <a:xfrm>
              <a:off x="5105520" y="38862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5257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104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52578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292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5486400" y="3809880"/>
            <a:ext cx="457200" cy="457200"/>
            <a:chOff x="5486400" y="3809880"/>
            <a:chExt cx="457200" cy="457200"/>
          </a:xfrm>
        </p:grpSpPr>
        <p:sp>
          <p:nvSpPr>
            <p:cNvPr id="1769" name=""/>
            <p:cNvSpPr/>
            <p:nvPr/>
          </p:nvSpPr>
          <p:spPr>
            <a:xfrm>
              <a:off x="5562720" y="38862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715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676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57150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864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5943600" y="3809880"/>
            <a:ext cx="457200" cy="457200"/>
            <a:chOff x="5943600" y="3809880"/>
            <a:chExt cx="457200" cy="457200"/>
          </a:xfrm>
        </p:grpSpPr>
        <p:sp>
          <p:nvSpPr>
            <p:cNvPr id="1775" name=""/>
            <p:cNvSpPr/>
            <p:nvPr/>
          </p:nvSpPr>
          <p:spPr>
            <a:xfrm>
              <a:off x="6019920" y="38862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61722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248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1722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9436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2743200" y="3809880"/>
            <a:ext cx="457200" cy="457200"/>
            <a:chOff x="2743200" y="3809880"/>
            <a:chExt cx="457200" cy="457200"/>
          </a:xfrm>
        </p:grpSpPr>
        <p:sp>
          <p:nvSpPr>
            <p:cNvPr id="1781" name=""/>
            <p:cNvSpPr/>
            <p:nvPr/>
          </p:nvSpPr>
          <p:spPr>
            <a:xfrm>
              <a:off x="2819520" y="38862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971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244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9718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7432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3200400" y="3809880"/>
            <a:ext cx="457200" cy="457200"/>
            <a:chOff x="3200400" y="3809880"/>
            <a:chExt cx="457200" cy="457200"/>
          </a:xfrm>
        </p:grpSpPr>
        <p:sp>
          <p:nvSpPr>
            <p:cNvPr id="1787" name=""/>
            <p:cNvSpPr/>
            <p:nvPr/>
          </p:nvSpPr>
          <p:spPr>
            <a:xfrm>
              <a:off x="3276720" y="38862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3429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5816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34290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004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3657600" y="3809880"/>
            <a:ext cx="457200" cy="457200"/>
            <a:chOff x="3657600" y="3809880"/>
            <a:chExt cx="457200" cy="457200"/>
          </a:xfrm>
        </p:grpSpPr>
        <p:sp>
          <p:nvSpPr>
            <p:cNvPr id="1793" name=""/>
            <p:cNvSpPr/>
            <p:nvPr/>
          </p:nvSpPr>
          <p:spPr>
            <a:xfrm>
              <a:off x="3733920" y="38862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38862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0388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8862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6576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114800" y="3809880"/>
            <a:ext cx="457200" cy="457200"/>
            <a:chOff x="4114800" y="3809880"/>
            <a:chExt cx="457200" cy="457200"/>
          </a:xfrm>
        </p:grpSpPr>
        <p:sp>
          <p:nvSpPr>
            <p:cNvPr id="1799" name=""/>
            <p:cNvSpPr/>
            <p:nvPr/>
          </p:nvSpPr>
          <p:spPr>
            <a:xfrm>
              <a:off x="4191120" y="38862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43434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9604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434340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11480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572000" y="4267080"/>
            <a:ext cx="457200" cy="457200"/>
            <a:chOff x="4572000" y="4267080"/>
            <a:chExt cx="457200" cy="457200"/>
          </a:xfrm>
        </p:grpSpPr>
        <p:sp>
          <p:nvSpPr>
            <p:cNvPr id="1805" name=""/>
            <p:cNvSpPr/>
            <p:nvPr/>
          </p:nvSpPr>
          <p:spPr>
            <a:xfrm>
              <a:off x="46483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48006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9532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8006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5720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029200" y="4267080"/>
            <a:ext cx="457200" cy="457200"/>
            <a:chOff x="5029200" y="4267080"/>
            <a:chExt cx="457200" cy="457200"/>
          </a:xfrm>
        </p:grpSpPr>
        <p:sp>
          <p:nvSpPr>
            <p:cNvPr id="1811" name=""/>
            <p:cNvSpPr/>
            <p:nvPr/>
          </p:nvSpPr>
          <p:spPr>
            <a:xfrm>
              <a:off x="51055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2578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104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2578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292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5486400" y="4267080"/>
            <a:ext cx="457200" cy="457200"/>
            <a:chOff x="5486400" y="4267080"/>
            <a:chExt cx="457200" cy="457200"/>
          </a:xfrm>
        </p:grpSpPr>
        <p:sp>
          <p:nvSpPr>
            <p:cNvPr id="1817" name=""/>
            <p:cNvSpPr/>
            <p:nvPr/>
          </p:nvSpPr>
          <p:spPr>
            <a:xfrm>
              <a:off x="5562720" y="43434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57150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676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7150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486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943600" y="4267080"/>
            <a:ext cx="457200" cy="457200"/>
            <a:chOff x="5943600" y="4267080"/>
            <a:chExt cx="457200" cy="457200"/>
          </a:xfrm>
        </p:grpSpPr>
        <p:sp>
          <p:nvSpPr>
            <p:cNvPr id="1823" name=""/>
            <p:cNvSpPr/>
            <p:nvPr/>
          </p:nvSpPr>
          <p:spPr>
            <a:xfrm>
              <a:off x="6019920" y="4343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61722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3248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61722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436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2743200" y="4267080"/>
            <a:ext cx="457200" cy="457200"/>
            <a:chOff x="2743200" y="4267080"/>
            <a:chExt cx="457200" cy="457200"/>
          </a:xfrm>
        </p:grpSpPr>
        <p:sp>
          <p:nvSpPr>
            <p:cNvPr id="1829" name=""/>
            <p:cNvSpPr/>
            <p:nvPr/>
          </p:nvSpPr>
          <p:spPr>
            <a:xfrm>
              <a:off x="2819520" y="43434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29718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244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29718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432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3200400" y="4267080"/>
            <a:ext cx="457200" cy="457200"/>
            <a:chOff x="3200400" y="4267080"/>
            <a:chExt cx="457200" cy="457200"/>
          </a:xfrm>
        </p:grpSpPr>
        <p:sp>
          <p:nvSpPr>
            <p:cNvPr id="1835" name=""/>
            <p:cNvSpPr/>
            <p:nvPr/>
          </p:nvSpPr>
          <p:spPr>
            <a:xfrm>
              <a:off x="3276720" y="43434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34290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5816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34290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00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3657600" y="4267080"/>
            <a:ext cx="457200" cy="457200"/>
            <a:chOff x="3657600" y="4267080"/>
            <a:chExt cx="457200" cy="457200"/>
          </a:xfrm>
        </p:grpSpPr>
        <p:sp>
          <p:nvSpPr>
            <p:cNvPr id="1841" name=""/>
            <p:cNvSpPr/>
            <p:nvPr/>
          </p:nvSpPr>
          <p:spPr>
            <a:xfrm>
              <a:off x="37339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38862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0388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8862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576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4114800" y="4267080"/>
            <a:ext cx="457200" cy="457200"/>
            <a:chOff x="4114800" y="4267080"/>
            <a:chExt cx="457200" cy="457200"/>
          </a:xfrm>
        </p:grpSpPr>
        <p:sp>
          <p:nvSpPr>
            <p:cNvPr id="1847" name=""/>
            <p:cNvSpPr/>
            <p:nvPr/>
          </p:nvSpPr>
          <p:spPr>
            <a:xfrm>
              <a:off x="4191120" y="4343400"/>
              <a:ext cx="304920" cy="3045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49604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434340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1148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572000" y="4724280"/>
            <a:ext cx="457200" cy="457200"/>
            <a:chOff x="4572000" y="4724280"/>
            <a:chExt cx="457200" cy="457200"/>
          </a:xfrm>
        </p:grpSpPr>
        <p:sp>
          <p:nvSpPr>
            <p:cNvPr id="1853" name=""/>
            <p:cNvSpPr/>
            <p:nvPr/>
          </p:nvSpPr>
          <p:spPr>
            <a:xfrm>
              <a:off x="46483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48006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532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48006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5720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5029200" y="4724280"/>
            <a:ext cx="457200" cy="457200"/>
            <a:chOff x="5029200" y="4724280"/>
            <a:chExt cx="457200" cy="457200"/>
          </a:xfrm>
        </p:grpSpPr>
        <p:sp>
          <p:nvSpPr>
            <p:cNvPr id="1859" name=""/>
            <p:cNvSpPr/>
            <p:nvPr/>
          </p:nvSpPr>
          <p:spPr>
            <a:xfrm>
              <a:off x="51055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52578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4104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52578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292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5486400" y="4724280"/>
            <a:ext cx="457200" cy="457200"/>
            <a:chOff x="5486400" y="4724280"/>
            <a:chExt cx="457200" cy="457200"/>
          </a:xfrm>
        </p:grpSpPr>
        <p:sp>
          <p:nvSpPr>
            <p:cNvPr id="1865" name=""/>
            <p:cNvSpPr/>
            <p:nvPr/>
          </p:nvSpPr>
          <p:spPr>
            <a:xfrm>
              <a:off x="55627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7150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8676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57150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4864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5943600" y="4724280"/>
            <a:ext cx="457200" cy="457200"/>
            <a:chOff x="5943600" y="4724280"/>
            <a:chExt cx="457200" cy="457200"/>
          </a:xfrm>
        </p:grpSpPr>
        <p:sp>
          <p:nvSpPr>
            <p:cNvPr id="1871" name=""/>
            <p:cNvSpPr/>
            <p:nvPr/>
          </p:nvSpPr>
          <p:spPr>
            <a:xfrm>
              <a:off x="6019920" y="4800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61722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3248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61722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9436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2743200" y="4724280"/>
            <a:ext cx="457200" cy="457200"/>
            <a:chOff x="2743200" y="4724280"/>
            <a:chExt cx="457200" cy="457200"/>
          </a:xfrm>
        </p:grpSpPr>
        <p:sp>
          <p:nvSpPr>
            <p:cNvPr id="1877" name=""/>
            <p:cNvSpPr/>
            <p:nvPr/>
          </p:nvSpPr>
          <p:spPr>
            <a:xfrm>
              <a:off x="2819520" y="48006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29718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1244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9718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7432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3200400" y="4724280"/>
            <a:ext cx="457200" cy="457200"/>
            <a:chOff x="3200400" y="4724280"/>
            <a:chExt cx="457200" cy="457200"/>
          </a:xfrm>
        </p:grpSpPr>
        <p:sp>
          <p:nvSpPr>
            <p:cNvPr id="1883" name=""/>
            <p:cNvSpPr/>
            <p:nvPr/>
          </p:nvSpPr>
          <p:spPr>
            <a:xfrm>
              <a:off x="32767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5816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34290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004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3657600" y="4724280"/>
            <a:ext cx="457200" cy="457200"/>
            <a:chOff x="3657600" y="4724280"/>
            <a:chExt cx="457200" cy="457200"/>
          </a:xfrm>
        </p:grpSpPr>
        <p:sp>
          <p:nvSpPr>
            <p:cNvPr id="1889" name=""/>
            <p:cNvSpPr/>
            <p:nvPr/>
          </p:nvSpPr>
          <p:spPr>
            <a:xfrm>
              <a:off x="37339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38862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0388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38862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6576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4114800" y="4724280"/>
            <a:ext cx="457200" cy="457200"/>
            <a:chOff x="4114800" y="4724280"/>
            <a:chExt cx="457200" cy="457200"/>
          </a:xfrm>
        </p:grpSpPr>
        <p:sp>
          <p:nvSpPr>
            <p:cNvPr id="1895" name=""/>
            <p:cNvSpPr/>
            <p:nvPr/>
          </p:nvSpPr>
          <p:spPr>
            <a:xfrm>
              <a:off x="4191120" y="480060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34340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49604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34340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11480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572000" y="5181480"/>
            <a:ext cx="457200" cy="457200"/>
            <a:chOff x="4572000" y="5181480"/>
            <a:chExt cx="457200" cy="457200"/>
          </a:xfrm>
        </p:grpSpPr>
        <p:sp>
          <p:nvSpPr>
            <p:cNvPr id="1901" name=""/>
            <p:cNvSpPr/>
            <p:nvPr/>
          </p:nvSpPr>
          <p:spPr>
            <a:xfrm>
              <a:off x="46483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8006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9532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006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5720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029200" y="5181480"/>
            <a:ext cx="457200" cy="457200"/>
            <a:chOff x="5029200" y="5181480"/>
            <a:chExt cx="457200" cy="457200"/>
          </a:xfrm>
        </p:grpSpPr>
        <p:sp>
          <p:nvSpPr>
            <p:cNvPr id="1907" name=""/>
            <p:cNvSpPr/>
            <p:nvPr/>
          </p:nvSpPr>
          <p:spPr>
            <a:xfrm>
              <a:off x="51055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52578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04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52578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0292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486400" y="5181480"/>
            <a:ext cx="457200" cy="457200"/>
            <a:chOff x="5486400" y="5181480"/>
            <a:chExt cx="457200" cy="457200"/>
          </a:xfrm>
        </p:grpSpPr>
        <p:sp>
          <p:nvSpPr>
            <p:cNvPr id="1913" name=""/>
            <p:cNvSpPr/>
            <p:nvPr/>
          </p:nvSpPr>
          <p:spPr>
            <a:xfrm>
              <a:off x="55627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57150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8676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57150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4864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5943600" y="5181480"/>
            <a:ext cx="457200" cy="457200"/>
            <a:chOff x="5943600" y="5181480"/>
            <a:chExt cx="457200" cy="457200"/>
          </a:xfrm>
        </p:grpSpPr>
        <p:sp>
          <p:nvSpPr>
            <p:cNvPr id="1919" name=""/>
            <p:cNvSpPr/>
            <p:nvPr/>
          </p:nvSpPr>
          <p:spPr>
            <a:xfrm>
              <a:off x="60199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61722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248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61722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436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43200" y="5181480"/>
            <a:ext cx="457200" cy="457200"/>
            <a:chOff x="2743200" y="5181480"/>
            <a:chExt cx="457200" cy="457200"/>
          </a:xfrm>
        </p:grpSpPr>
        <p:sp>
          <p:nvSpPr>
            <p:cNvPr id="1925" name=""/>
            <p:cNvSpPr/>
            <p:nvPr/>
          </p:nvSpPr>
          <p:spPr>
            <a:xfrm>
              <a:off x="28195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9718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244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9718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7432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0" name="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1931" name=""/>
            <p:cNvSpPr/>
            <p:nvPr/>
          </p:nvSpPr>
          <p:spPr>
            <a:xfrm>
              <a:off x="32767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34290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5816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4290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2004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3657600" y="5181480"/>
            <a:ext cx="457200" cy="457200"/>
            <a:chOff x="3657600" y="5181480"/>
            <a:chExt cx="457200" cy="457200"/>
          </a:xfrm>
        </p:grpSpPr>
        <p:sp>
          <p:nvSpPr>
            <p:cNvPr id="1937" name=""/>
            <p:cNvSpPr/>
            <p:nvPr/>
          </p:nvSpPr>
          <p:spPr>
            <a:xfrm>
              <a:off x="37339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8862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0388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38862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6576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4114800" y="5181480"/>
            <a:ext cx="457200" cy="457200"/>
            <a:chOff x="4114800" y="5181480"/>
            <a:chExt cx="457200" cy="457200"/>
          </a:xfrm>
        </p:grpSpPr>
        <p:sp>
          <p:nvSpPr>
            <p:cNvPr id="1943" name=""/>
            <p:cNvSpPr/>
            <p:nvPr/>
          </p:nvSpPr>
          <p:spPr>
            <a:xfrm>
              <a:off x="4191120" y="5257800"/>
              <a:ext cx="304920" cy="3045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434340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9604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34340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11480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510696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27852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0384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9528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5257800" y="449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525780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525780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525780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9568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905120" y="5791320"/>
            <a:ext cx="5715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gestion in the middle means communication is often delayed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E5A-47FA-49D1-A827-C2D68D2A5D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ological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sh gets hot because not all edges are “equally useful” … change to a t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4572000" y="2666880"/>
            <a:ext cx="457200" cy="457200"/>
            <a:chOff x="4572000" y="2666880"/>
            <a:chExt cx="457200" cy="457200"/>
          </a:xfrm>
        </p:grpSpPr>
        <p:sp>
          <p:nvSpPr>
            <p:cNvPr id="1962" name=""/>
            <p:cNvSpPr/>
            <p:nvPr/>
          </p:nvSpPr>
          <p:spPr>
            <a:xfrm>
              <a:off x="46483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48006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9532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48006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5720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029200" y="2666880"/>
            <a:ext cx="457200" cy="457200"/>
            <a:chOff x="5029200" y="2666880"/>
            <a:chExt cx="457200" cy="457200"/>
          </a:xfrm>
        </p:grpSpPr>
        <p:sp>
          <p:nvSpPr>
            <p:cNvPr id="1968" name=""/>
            <p:cNvSpPr/>
            <p:nvPr/>
          </p:nvSpPr>
          <p:spPr>
            <a:xfrm>
              <a:off x="51055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52578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104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52578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292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5486400" y="2666880"/>
            <a:ext cx="457200" cy="457200"/>
            <a:chOff x="5486400" y="2666880"/>
            <a:chExt cx="457200" cy="457200"/>
          </a:xfrm>
        </p:grpSpPr>
        <p:sp>
          <p:nvSpPr>
            <p:cNvPr id="1974" name=""/>
            <p:cNvSpPr/>
            <p:nvPr/>
          </p:nvSpPr>
          <p:spPr>
            <a:xfrm>
              <a:off x="55627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7150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8676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57150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4864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5943600" y="2666880"/>
            <a:ext cx="457200" cy="457200"/>
            <a:chOff x="5943600" y="2666880"/>
            <a:chExt cx="457200" cy="457200"/>
          </a:xfrm>
        </p:grpSpPr>
        <p:sp>
          <p:nvSpPr>
            <p:cNvPr id="1980" name=""/>
            <p:cNvSpPr/>
            <p:nvPr/>
          </p:nvSpPr>
          <p:spPr>
            <a:xfrm>
              <a:off x="60199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1722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248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61722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9436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743200" y="2666880"/>
            <a:ext cx="457200" cy="457200"/>
            <a:chOff x="2743200" y="2666880"/>
            <a:chExt cx="457200" cy="457200"/>
          </a:xfrm>
        </p:grpSpPr>
        <p:sp>
          <p:nvSpPr>
            <p:cNvPr id="1986" name=""/>
            <p:cNvSpPr/>
            <p:nvPr/>
          </p:nvSpPr>
          <p:spPr>
            <a:xfrm>
              <a:off x="28195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29718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244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29718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432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3200400" y="2666880"/>
            <a:ext cx="457200" cy="457200"/>
            <a:chOff x="3200400" y="2666880"/>
            <a:chExt cx="457200" cy="457200"/>
          </a:xfrm>
        </p:grpSpPr>
        <p:sp>
          <p:nvSpPr>
            <p:cNvPr id="1992" name=""/>
            <p:cNvSpPr/>
            <p:nvPr/>
          </p:nvSpPr>
          <p:spPr>
            <a:xfrm>
              <a:off x="32767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4290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816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34290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2004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657600" y="2666880"/>
            <a:ext cx="457200" cy="457200"/>
            <a:chOff x="3657600" y="2666880"/>
            <a:chExt cx="457200" cy="457200"/>
          </a:xfrm>
        </p:grpSpPr>
        <p:sp>
          <p:nvSpPr>
            <p:cNvPr id="1998" name=""/>
            <p:cNvSpPr/>
            <p:nvPr/>
          </p:nvSpPr>
          <p:spPr>
            <a:xfrm>
              <a:off x="37339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38862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0388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38862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6576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4114800" y="2666880"/>
            <a:ext cx="457200" cy="457200"/>
            <a:chOff x="4114800" y="2666880"/>
            <a:chExt cx="457200" cy="457200"/>
          </a:xfrm>
        </p:grpSpPr>
        <p:sp>
          <p:nvSpPr>
            <p:cNvPr id="2004" name=""/>
            <p:cNvSpPr/>
            <p:nvPr/>
          </p:nvSpPr>
          <p:spPr>
            <a:xfrm>
              <a:off x="419112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434340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49604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34340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11480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572000" y="3124080"/>
            <a:ext cx="457200" cy="457200"/>
            <a:chOff x="4572000" y="3124080"/>
            <a:chExt cx="457200" cy="457200"/>
          </a:xfrm>
        </p:grpSpPr>
        <p:sp>
          <p:nvSpPr>
            <p:cNvPr id="2010" name=""/>
            <p:cNvSpPr/>
            <p:nvPr/>
          </p:nvSpPr>
          <p:spPr>
            <a:xfrm>
              <a:off x="46483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48006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532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8006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720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5029200" y="3124080"/>
            <a:ext cx="457200" cy="457200"/>
            <a:chOff x="5029200" y="3124080"/>
            <a:chExt cx="457200" cy="457200"/>
          </a:xfrm>
        </p:grpSpPr>
        <p:sp>
          <p:nvSpPr>
            <p:cNvPr id="2016" name=""/>
            <p:cNvSpPr/>
            <p:nvPr/>
          </p:nvSpPr>
          <p:spPr>
            <a:xfrm>
              <a:off x="51055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52578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104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52578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0292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5486400" y="3124080"/>
            <a:ext cx="457200" cy="457200"/>
            <a:chOff x="5486400" y="3124080"/>
            <a:chExt cx="457200" cy="457200"/>
          </a:xfrm>
        </p:grpSpPr>
        <p:sp>
          <p:nvSpPr>
            <p:cNvPr id="2022" name=""/>
            <p:cNvSpPr/>
            <p:nvPr/>
          </p:nvSpPr>
          <p:spPr>
            <a:xfrm>
              <a:off x="55627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57150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8676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57150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86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5943600" y="3124080"/>
            <a:ext cx="457200" cy="457200"/>
            <a:chOff x="5943600" y="3124080"/>
            <a:chExt cx="457200" cy="457200"/>
          </a:xfrm>
        </p:grpSpPr>
        <p:sp>
          <p:nvSpPr>
            <p:cNvPr id="2028" name=""/>
            <p:cNvSpPr/>
            <p:nvPr/>
          </p:nvSpPr>
          <p:spPr>
            <a:xfrm>
              <a:off x="60199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61722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3248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61722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436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2743200" y="3124080"/>
            <a:ext cx="457200" cy="457200"/>
            <a:chOff x="2743200" y="3124080"/>
            <a:chExt cx="457200" cy="457200"/>
          </a:xfrm>
        </p:grpSpPr>
        <p:sp>
          <p:nvSpPr>
            <p:cNvPr id="2034" name=""/>
            <p:cNvSpPr/>
            <p:nvPr/>
          </p:nvSpPr>
          <p:spPr>
            <a:xfrm>
              <a:off x="28195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9718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1244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29718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432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3200400" y="3124080"/>
            <a:ext cx="457200" cy="457200"/>
            <a:chOff x="3200400" y="3124080"/>
            <a:chExt cx="457200" cy="457200"/>
          </a:xfrm>
        </p:grpSpPr>
        <p:sp>
          <p:nvSpPr>
            <p:cNvPr id="2040" name=""/>
            <p:cNvSpPr/>
            <p:nvPr/>
          </p:nvSpPr>
          <p:spPr>
            <a:xfrm>
              <a:off x="32767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34290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5816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34290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2004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3657600" y="3124080"/>
            <a:ext cx="457200" cy="457200"/>
            <a:chOff x="3657600" y="3124080"/>
            <a:chExt cx="457200" cy="457200"/>
          </a:xfrm>
        </p:grpSpPr>
        <p:sp>
          <p:nvSpPr>
            <p:cNvPr id="2046" name=""/>
            <p:cNvSpPr/>
            <p:nvPr/>
          </p:nvSpPr>
          <p:spPr>
            <a:xfrm>
              <a:off x="37339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38862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0388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38862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6576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4114800" y="3124080"/>
            <a:ext cx="457200" cy="457200"/>
            <a:chOff x="4114800" y="3124080"/>
            <a:chExt cx="457200" cy="457200"/>
          </a:xfrm>
        </p:grpSpPr>
        <p:sp>
          <p:nvSpPr>
            <p:cNvPr id="2052" name=""/>
            <p:cNvSpPr/>
            <p:nvPr/>
          </p:nvSpPr>
          <p:spPr>
            <a:xfrm>
              <a:off x="419112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434340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49604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34340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11480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4572000" y="3581280"/>
            <a:ext cx="457200" cy="457200"/>
            <a:chOff x="4572000" y="3581280"/>
            <a:chExt cx="457200" cy="457200"/>
          </a:xfrm>
        </p:grpSpPr>
        <p:sp>
          <p:nvSpPr>
            <p:cNvPr id="2058" name=""/>
            <p:cNvSpPr/>
            <p:nvPr/>
          </p:nvSpPr>
          <p:spPr>
            <a:xfrm>
              <a:off x="46483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48006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9532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48006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5720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5029200" y="3581280"/>
            <a:ext cx="457200" cy="457200"/>
            <a:chOff x="5029200" y="3581280"/>
            <a:chExt cx="457200" cy="457200"/>
          </a:xfrm>
        </p:grpSpPr>
        <p:sp>
          <p:nvSpPr>
            <p:cNvPr id="2064" name=""/>
            <p:cNvSpPr/>
            <p:nvPr/>
          </p:nvSpPr>
          <p:spPr>
            <a:xfrm>
              <a:off x="51055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5257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10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5257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029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5486400" y="3581280"/>
            <a:ext cx="457200" cy="457200"/>
            <a:chOff x="5486400" y="3581280"/>
            <a:chExt cx="457200" cy="457200"/>
          </a:xfrm>
        </p:grpSpPr>
        <p:sp>
          <p:nvSpPr>
            <p:cNvPr id="2070" name=""/>
            <p:cNvSpPr/>
            <p:nvPr/>
          </p:nvSpPr>
          <p:spPr>
            <a:xfrm>
              <a:off x="55627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5715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867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5715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86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5943600" y="3581280"/>
            <a:ext cx="457200" cy="457200"/>
            <a:chOff x="5943600" y="3581280"/>
            <a:chExt cx="457200" cy="457200"/>
          </a:xfrm>
        </p:grpSpPr>
        <p:sp>
          <p:nvSpPr>
            <p:cNvPr id="2076" name=""/>
            <p:cNvSpPr/>
            <p:nvPr/>
          </p:nvSpPr>
          <p:spPr>
            <a:xfrm>
              <a:off x="60199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6172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24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6172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943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2743200" y="3581280"/>
            <a:ext cx="457200" cy="457200"/>
            <a:chOff x="2743200" y="3581280"/>
            <a:chExt cx="457200" cy="457200"/>
          </a:xfrm>
        </p:grpSpPr>
        <p:sp>
          <p:nvSpPr>
            <p:cNvPr id="2082" name=""/>
            <p:cNvSpPr/>
            <p:nvPr/>
          </p:nvSpPr>
          <p:spPr>
            <a:xfrm>
              <a:off x="28195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2971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124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971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43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200400" y="3581280"/>
            <a:ext cx="457200" cy="457200"/>
            <a:chOff x="3200400" y="3581280"/>
            <a:chExt cx="457200" cy="457200"/>
          </a:xfrm>
        </p:grpSpPr>
        <p:sp>
          <p:nvSpPr>
            <p:cNvPr id="2088" name=""/>
            <p:cNvSpPr/>
            <p:nvPr/>
          </p:nvSpPr>
          <p:spPr>
            <a:xfrm>
              <a:off x="32767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429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581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3429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00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657600" y="3581280"/>
            <a:ext cx="457200" cy="457200"/>
            <a:chOff x="3657600" y="3581280"/>
            <a:chExt cx="457200" cy="457200"/>
          </a:xfrm>
        </p:grpSpPr>
        <p:sp>
          <p:nvSpPr>
            <p:cNvPr id="2094" name=""/>
            <p:cNvSpPr/>
            <p:nvPr/>
          </p:nvSpPr>
          <p:spPr>
            <a:xfrm>
              <a:off x="37339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3886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038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3886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657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4114800" y="3581280"/>
            <a:ext cx="457200" cy="457200"/>
            <a:chOff x="4114800" y="3581280"/>
            <a:chExt cx="457200" cy="457200"/>
          </a:xfrm>
        </p:grpSpPr>
        <p:sp>
          <p:nvSpPr>
            <p:cNvPr id="2100" name=""/>
            <p:cNvSpPr/>
            <p:nvPr/>
          </p:nvSpPr>
          <p:spPr>
            <a:xfrm>
              <a:off x="419112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43434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4960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3434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1148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572000" y="4038480"/>
            <a:ext cx="457200" cy="457200"/>
            <a:chOff x="4572000" y="4038480"/>
            <a:chExt cx="457200" cy="457200"/>
          </a:xfrm>
        </p:grpSpPr>
        <p:sp>
          <p:nvSpPr>
            <p:cNvPr id="2106" name=""/>
            <p:cNvSpPr/>
            <p:nvPr/>
          </p:nvSpPr>
          <p:spPr>
            <a:xfrm>
              <a:off x="46483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48006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9532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48006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5720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5029200" y="4038480"/>
            <a:ext cx="457200" cy="457200"/>
            <a:chOff x="5029200" y="4038480"/>
            <a:chExt cx="457200" cy="457200"/>
          </a:xfrm>
        </p:grpSpPr>
        <p:sp>
          <p:nvSpPr>
            <p:cNvPr id="2112" name=""/>
            <p:cNvSpPr/>
            <p:nvPr/>
          </p:nvSpPr>
          <p:spPr>
            <a:xfrm>
              <a:off x="51055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257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10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257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029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5486400" y="4038480"/>
            <a:ext cx="457200" cy="457200"/>
            <a:chOff x="5486400" y="4038480"/>
            <a:chExt cx="457200" cy="457200"/>
          </a:xfrm>
        </p:grpSpPr>
        <p:sp>
          <p:nvSpPr>
            <p:cNvPr id="2118" name=""/>
            <p:cNvSpPr/>
            <p:nvPr/>
          </p:nvSpPr>
          <p:spPr>
            <a:xfrm>
              <a:off x="55627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5715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67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5715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486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2124" name=""/>
            <p:cNvSpPr/>
            <p:nvPr/>
          </p:nvSpPr>
          <p:spPr>
            <a:xfrm>
              <a:off x="60199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6172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24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172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943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2743200" y="4038480"/>
            <a:ext cx="457200" cy="457200"/>
            <a:chOff x="2743200" y="4038480"/>
            <a:chExt cx="457200" cy="457200"/>
          </a:xfrm>
        </p:grpSpPr>
        <p:sp>
          <p:nvSpPr>
            <p:cNvPr id="2130" name=""/>
            <p:cNvSpPr/>
            <p:nvPr/>
          </p:nvSpPr>
          <p:spPr>
            <a:xfrm>
              <a:off x="28195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2971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124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2971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43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3200400" y="4038480"/>
            <a:ext cx="457200" cy="457200"/>
            <a:chOff x="3200400" y="4038480"/>
            <a:chExt cx="457200" cy="457200"/>
          </a:xfrm>
        </p:grpSpPr>
        <p:sp>
          <p:nvSpPr>
            <p:cNvPr id="2136" name=""/>
            <p:cNvSpPr/>
            <p:nvPr/>
          </p:nvSpPr>
          <p:spPr>
            <a:xfrm>
              <a:off x="32767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429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581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3429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200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657600" y="4038480"/>
            <a:ext cx="457200" cy="457200"/>
            <a:chOff x="3657600" y="4038480"/>
            <a:chExt cx="457200" cy="457200"/>
          </a:xfrm>
        </p:grpSpPr>
        <p:sp>
          <p:nvSpPr>
            <p:cNvPr id="2142" name=""/>
            <p:cNvSpPr/>
            <p:nvPr/>
          </p:nvSpPr>
          <p:spPr>
            <a:xfrm>
              <a:off x="37339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3886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38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3886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7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14800" y="4038480"/>
            <a:ext cx="457200" cy="457200"/>
            <a:chOff x="4114800" y="4038480"/>
            <a:chExt cx="457200" cy="457200"/>
          </a:xfrm>
        </p:grpSpPr>
        <p:sp>
          <p:nvSpPr>
            <p:cNvPr id="2148" name=""/>
            <p:cNvSpPr/>
            <p:nvPr/>
          </p:nvSpPr>
          <p:spPr>
            <a:xfrm>
              <a:off x="419112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43434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4960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43434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1148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572000" y="4495680"/>
            <a:ext cx="457200" cy="457200"/>
            <a:chOff x="4572000" y="4495680"/>
            <a:chExt cx="457200" cy="457200"/>
          </a:xfrm>
        </p:grpSpPr>
        <p:sp>
          <p:nvSpPr>
            <p:cNvPr id="2154" name=""/>
            <p:cNvSpPr/>
            <p:nvPr/>
          </p:nvSpPr>
          <p:spPr>
            <a:xfrm>
              <a:off x="46483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4800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9532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48006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5720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5029200" y="4495680"/>
            <a:ext cx="457200" cy="457200"/>
            <a:chOff x="5029200" y="4495680"/>
            <a:chExt cx="457200" cy="457200"/>
          </a:xfrm>
        </p:grpSpPr>
        <p:sp>
          <p:nvSpPr>
            <p:cNvPr id="2160" name=""/>
            <p:cNvSpPr/>
            <p:nvPr/>
          </p:nvSpPr>
          <p:spPr>
            <a:xfrm>
              <a:off x="51055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5257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410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5257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029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5486400" y="4495680"/>
            <a:ext cx="457200" cy="457200"/>
            <a:chOff x="5486400" y="4495680"/>
            <a:chExt cx="457200" cy="457200"/>
          </a:xfrm>
        </p:grpSpPr>
        <p:sp>
          <p:nvSpPr>
            <p:cNvPr id="2166" name=""/>
            <p:cNvSpPr/>
            <p:nvPr/>
          </p:nvSpPr>
          <p:spPr>
            <a:xfrm>
              <a:off x="55627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5715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67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5715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486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5943600" y="4495680"/>
            <a:ext cx="457200" cy="457200"/>
            <a:chOff x="5943600" y="4495680"/>
            <a:chExt cx="457200" cy="457200"/>
          </a:xfrm>
        </p:grpSpPr>
        <p:sp>
          <p:nvSpPr>
            <p:cNvPr id="2172" name=""/>
            <p:cNvSpPr/>
            <p:nvPr/>
          </p:nvSpPr>
          <p:spPr>
            <a:xfrm>
              <a:off x="60199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172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324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6172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43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2743200" y="4495680"/>
            <a:ext cx="457200" cy="457200"/>
            <a:chOff x="2743200" y="4495680"/>
            <a:chExt cx="457200" cy="457200"/>
          </a:xfrm>
        </p:grpSpPr>
        <p:sp>
          <p:nvSpPr>
            <p:cNvPr id="2178" name=""/>
            <p:cNvSpPr/>
            <p:nvPr/>
          </p:nvSpPr>
          <p:spPr>
            <a:xfrm>
              <a:off x="28195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2971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4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2971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743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3200400" y="4495680"/>
            <a:ext cx="457200" cy="457200"/>
            <a:chOff x="3200400" y="4495680"/>
            <a:chExt cx="457200" cy="457200"/>
          </a:xfrm>
        </p:grpSpPr>
        <p:sp>
          <p:nvSpPr>
            <p:cNvPr id="2184" name=""/>
            <p:cNvSpPr/>
            <p:nvPr/>
          </p:nvSpPr>
          <p:spPr>
            <a:xfrm>
              <a:off x="32767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429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81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3429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200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3657600" y="4495680"/>
            <a:ext cx="457200" cy="457200"/>
            <a:chOff x="3657600" y="4495680"/>
            <a:chExt cx="457200" cy="457200"/>
          </a:xfrm>
        </p:grpSpPr>
        <p:sp>
          <p:nvSpPr>
            <p:cNvPr id="2190" name=""/>
            <p:cNvSpPr/>
            <p:nvPr/>
          </p:nvSpPr>
          <p:spPr>
            <a:xfrm>
              <a:off x="37339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3886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38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3886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657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4114800" y="4495680"/>
            <a:ext cx="457200" cy="457200"/>
            <a:chOff x="4114800" y="4495680"/>
            <a:chExt cx="457200" cy="457200"/>
          </a:xfrm>
        </p:grpSpPr>
        <p:sp>
          <p:nvSpPr>
            <p:cNvPr id="2196" name=""/>
            <p:cNvSpPr/>
            <p:nvPr/>
          </p:nvSpPr>
          <p:spPr>
            <a:xfrm>
              <a:off x="419112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343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4960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43434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148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4572000" y="4952880"/>
            <a:ext cx="457200" cy="457200"/>
            <a:chOff x="4572000" y="4952880"/>
            <a:chExt cx="457200" cy="457200"/>
          </a:xfrm>
        </p:grpSpPr>
        <p:sp>
          <p:nvSpPr>
            <p:cNvPr id="2202" name=""/>
            <p:cNvSpPr/>
            <p:nvPr/>
          </p:nvSpPr>
          <p:spPr>
            <a:xfrm>
              <a:off x="46483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4800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9532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8006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572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5029200" y="4952880"/>
            <a:ext cx="457200" cy="457200"/>
            <a:chOff x="5029200" y="4952880"/>
            <a:chExt cx="457200" cy="457200"/>
          </a:xfrm>
        </p:grpSpPr>
        <p:sp>
          <p:nvSpPr>
            <p:cNvPr id="2208" name=""/>
            <p:cNvSpPr/>
            <p:nvPr/>
          </p:nvSpPr>
          <p:spPr>
            <a:xfrm>
              <a:off x="51055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5257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410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5257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29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5486400" y="4952880"/>
            <a:ext cx="457200" cy="457200"/>
            <a:chOff x="5486400" y="4952880"/>
            <a:chExt cx="457200" cy="457200"/>
          </a:xfrm>
        </p:grpSpPr>
        <p:sp>
          <p:nvSpPr>
            <p:cNvPr id="2214" name=""/>
            <p:cNvSpPr/>
            <p:nvPr/>
          </p:nvSpPr>
          <p:spPr>
            <a:xfrm>
              <a:off x="55627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5715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867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5715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486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5943600" y="4952880"/>
            <a:ext cx="457200" cy="457200"/>
            <a:chOff x="5943600" y="4952880"/>
            <a:chExt cx="457200" cy="457200"/>
          </a:xfrm>
        </p:grpSpPr>
        <p:sp>
          <p:nvSpPr>
            <p:cNvPr id="2220" name=""/>
            <p:cNvSpPr/>
            <p:nvPr/>
          </p:nvSpPr>
          <p:spPr>
            <a:xfrm>
              <a:off x="60199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6172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324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6172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943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2743200" y="4952880"/>
            <a:ext cx="457200" cy="457200"/>
            <a:chOff x="2743200" y="4952880"/>
            <a:chExt cx="457200" cy="457200"/>
          </a:xfrm>
        </p:grpSpPr>
        <p:sp>
          <p:nvSpPr>
            <p:cNvPr id="2226" name=""/>
            <p:cNvSpPr/>
            <p:nvPr/>
          </p:nvSpPr>
          <p:spPr>
            <a:xfrm>
              <a:off x="28195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2971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124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2971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43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3200400" y="4952880"/>
            <a:ext cx="457200" cy="457200"/>
            <a:chOff x="3200400" y="4952880"/>
            <a:chExt cx="457200" cy="457200"/>
          </a:xfrm>
        </p:grpSpPr>
        <p:sp>
          <p:nvSpPr>
            <p:cNvPr id="2232" name=""/>
            <p:cNvSpPr/>
            <p:nvPr/>
          </p:nvSpPr>
          <p:spPr>
            <a:xfrm>
              <a:off x="32767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429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581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429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200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3657600" y="4952880"/>
            <a:ext cx="457200" cy="457200"/>
            <a:chOff x="3657600" y="4952880"/>
            <a:chExt cx="457200" cy="457200"/>
          </a:xfrm>
        </p:grpSpPr>
        <p:sp>
          <p:nvSpPr>
            <p:cNvPr id="2238" name=""/>
            <p:cNvSpPr/>
            <p:nvPr/>
          </p:nvSpPr>
          <p:spPr>
            <a:xfrm>
              <a:off x="37339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3886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038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3886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657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4114800" y="4952880"/>
            <a:ext cx="457200" cy="457200"/>
            <a:chOff x="4114800" y="4952880"/>
            <a:chExt cx="457200" cy="457200"/>
          </a:xfrm>
        </p:grpSpPr>
        <p:sp>
          <p:nvSpPr>
            <p:cNvPr id="2244" name=""/>
            <p:cNvSpPr/>
            <p:nvPr/>
          </p:nvSpPr>
          <p:spPr>
            <a:xfrm>
              <a:off x="419112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4343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4960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43434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148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4572000" y="5410080"/>
            <a:ext cx="457200" cy="457200"/>
            <a:chOff x="4572000" y="5410080"/>
            <a:chExt cx="457200" cy="457200"/>
          </a:xfrm>
        </p:grpSpPr>
        <p:sp>
          <p:nvSpPr>
            <p:cNvPr id="2250" name=""/>
            <p:cNvSpPr/>
            <p:nvPr/>
          </p:nvSpPr>
          <p:spPr>
            <a:xfrm>
              <a:off x="46483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4800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9532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8006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5720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5029200" y="5410080"/>
            <a:ext cx="457200" cy="457200"/>
            <a:chOff x="5029200" y="5410080"/>
            <a:chExt cx="457200" cy="457200"/>
          </a:xfrm>
        </p:grpSpPr>
        <p:sp>
          <p:nvSpPr>
            <p:cNvPr id="2256" name=""/>
            <p:cNvSpPr/>
            <p:nvPr/>
          </p:nvSpPr>
          <p:spPr>
            <a:xfrm>
              <a:off x="51055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257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10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257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029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5486400" y="5410080"/>
            <a:ext cx="457200" cy="457200"/>
            <a:chOff x="5486400" y="5410080"/>
            <a:chExt cx="457200" cy="457200"/>
          </a:xfrm>
        </p:grpSpPr>
        <p:sp>
          <p:nvSpPr>
            <p:cNvPr id="2262" name=""/>
            <p:cNvSpPr/>
            <p:nvPr/>
          </p:nvSpPr>
          <p:spPr>
            <a:xfrm>
              <a:off x="55627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5715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67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5715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6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5943600" y="5410080"/>
            <a:ext cx="457200" cy="457200"/>
            <a:chOff x="5943600" y="5410080"/>
            <a:chExt cx="457200" cy="457200"/>
          </a:xfrm>
        </p:grpSpPr>
        <p:sp>
          <p:nvSpPr>
            <p:cNvPr id="2268" name=""/>
            <p:cNvSpPr/>
            <p:nvPr/>
          </p:nvSpPr>
          <p:spPr>
            <a:xfrm>
              <a:off x="60199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6172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24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6172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943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2743200" y="5410080"/>
            <a:ext cx="457200" cy="457200"/>
            <a:chOff x="2743200" y="5410080"/>
            <a:chExt cx="457200" cy="457200"/>
          </a:xfrm>
        </p:grpSpPr>
        <p:sp>
          <p:nvSpPr>
            <p:cNvPr id="2274" name=""/>
            <p:cNvSpPr/>
            <p:nvPr/>
          </p:nvSpPr>
          <p:spPr>
            <a:xfrm>
              <a:off x="28195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2971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124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971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743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9" name=""/>
          <p:cNvGrpSpPr/>
          <p:nvPr/>
        </p:nvGrpSpPr>
        <p:grpSpPr>
          <a:xfrm>
            <a:off x="3200400" y="5410080"/>
            <a:ext cx="457200" cy="457200"/>
            <a:chOff x="3200400" y="5410080"/>
            <a:chExt cx="457200" cy="457200"/>
          </a:xfrm>
        </p:grpSpPr>
        <p:sp>
          <p:nvSpPr>
            <p:cNvPr id="2280" name=""/>
            <p:cNvSpPr/>
            <p:nvPr/>
          </p:nvSpPr>
          <p:spPr>
            <a:xfrm>
              <a:off x="32767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3429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581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3429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200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3657600" y="5410080"/>
            <a:ext cx="457200" cy="457200"/>
            <a:chOff x="3657600" y="5410080"/>
            <a:chExt cx="457200" cy="457200"/>
          </a:xfrm>
        </p:grpSpPr>
        <p:sp>
          <p:nvSpPr>
            <p:cNvPr id="2286" name=""/>
            <p:cNvSpPr/>
            <p:nvPr/>
          </p:nvSpPr>
          <p:spPr>
            <a:xfrm>
              <a:off x="37339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3886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038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3886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657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1" name=""/>
          <p:cNvGrpSpPr/>
          <p:nvPr/>
        </p:nvGrpSpPr>
        <p:grpSpPr>
          <a:xfrm>
            <a:off x="4114800" y="5410080"/>
            <a:ext cx="457200" cy="457200"/>
            <a:chOff x="4114800" y="5410080"/>
            <a:chExt cx="457200" cy="457200"/>
          </a:xfrm>
        </p:grpSpPr>
        <p:sp>
          <p:nvSpPr>
            <p:cNvPr id="2292" name=""/>
            <p:cNvSpPr/>
            <p:nvPr/>
          </p:nvSpPr>
          <p:spPr>
            <a:xfrm>
              <a:off x="419112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4343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960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43434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148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4572000" y="5867280"/>
            <a:ext cx="457200" cy="457200"/>
            <a:chOff x="4572000" y="5867280"/>
            <a:chExt cx="457200" cy="457200"/>
          </a:xfrm>
        </p:grpSpPr>
        <p:sp>
          <p:nvSpPr>
            <p:cNvPr id="2298" name=""/>
            <p:cNvSpPr/>
            <p:nvPr/>
          </p:nvSpPr>
          <p:spPr>
            <a:xfrm>
              <a:off x="46483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48006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532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48006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5029200" y="5867280"/>
            <a:ext cx="457200" cy="457200"/>
            <a:chOff x="5029200" y="5867280"/>
            <a:chExt cx="457200" cy="457200"/>
          </a:xfrm>
        </p:grpSpPr>
        <p:sp>
          <p:nvSpPr>
            <p:cNvPr id="2304" name=""/>
            <p:cNvSpPr/>
            <p:nvPr/>
          </p:nvSpPr>
          <p:spPr>
            <a:xfrm>
              <a:off x="51055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5257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4104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52578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292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486400" y="5867280"/>
            <a:ext cx="457200" cy="457200"/>
            <a:chOff x="5486400" y="5867280"/>
            <a:chExt cx="457200" cy="457200"/>
          </a:xfrm>
        </p:grpSpPr>
        <p:sp>
          <p:nvSpPr>
            <p:cNvPr id="2310" name=""/>
            <p:cNvSpPr/>
            <p:nvPr/>
          </p:nvSpPr>
          <p:spPr>
            <a:xfrm>
              <a:off x="55627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5715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676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57150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864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5943600" y="5867280"/>
            <a:ext cx="457200" cy="457200"/>
            <a:chOff x="5943600" y="5867280"/>
            <a:chExt cx="457200" cy="457200"/>
          </a:xfrm>
        </p:grpSpPr>
        <p:sp>
          <p:nvSpPr>
            <p:cNvPr id="2316" name=""/>
            <p:cNvSpPr/>
            <p:nvPr/>
          </p:nvSpPr>
          <p:spPr>
            <a:xfrm>
              <a:off x="60199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6172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3248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61722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436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2743200" y="5867280"/>
            <a:ext cx="457200" cy="457200"/>
            <a:chOff x="2743200" y="5867280"/>
            <a:chExt cx="457200" cy="457200"/>
          </a:xfrm>
        </p:grpSpPr>
        <p:sp>
          <p:nvSpPr>
            <p:cNvPr id="2322" name=""/>
            <p:cNvSpPr/>
            <p:nvPr/>
          </p:nvSpPr>
          <p:spPr>
            <a:xfrm>
              <a:off x="28195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971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244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29718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32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3200400" y="5867280"/>
            <a:ext cx="457200" cy="457200"/>
            <a:chOff x="3200400" y="5867280"/>
            <a:chExt cx="457200" cy="457200"/>
          </a:xfrm>
        </p:grpSpPr>
        <p:sp>
          <p:nvSpPr>
            <p:cNvPr id="2328" name=""/>
            <p:cNvSpPr/>
            <p:nvPr/>
          </p:nvSpPr>
          <p:spPr>
            <a:xfrm>
              <a:off x="32767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3429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5816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34290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2004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3657600" y="5867280"/>
            <a:ext cx="457200" cy="457200"/>
            <a:chOff x="3657600" y="5867280"/>
            <a:chExt cx="457200" cy="457200"/>
          </a:xfrm>
        </p:grpSpPr>
        <p:sp>
          <p:nvSpPr>
            <p:cNvPr id="2334" name=""/>
            <p:cNvSpPr/>
            <p:nvPr/>
          </p:nvSpPr>
          <p:spPr>
            <a:xfrm>
              <a:off x="37339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886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0388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38862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6576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114800" y="5867280"/>
            <a:ext cx="457200" cy="457200"/>
            <a:chOff x="4114800" y="5867280"/>
            <a:chExt cx="457200" cy="457200"/>
          </a:xfrm>
        </p:grpSpPr>
        <p:sp>
          <p:nvSpPr>
            <p:cNvPr id="2340" name=""/>
            <p:cNvSpPr/>
            <p:nvPr/>
          </p:nvSpPr>
          <p:spPr>
            <a:xfrm>
              <a:off x="419112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43434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9604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434340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1480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5" name=""/>
          <p:cNvSpPr/>
          <p:nvPr/>
        </p:nvSpPr>
        <p:spPr>
          <a:xfrm>
            <a:off x="510696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278520" y="5410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5812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0384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9528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525780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V="1">
            <a:off x="5257800" y="4723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5257800" y="4266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5257800" y="380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495680" y="5638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27428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27432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743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200040" y="63244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3200400" y="2666880"/>
            <a:ext cx="0" cy="365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200400" y="2666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36572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36576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657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41144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41148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45716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45720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5720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50288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50292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0292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54860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54864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486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594324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594360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9436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4008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2666880" y="3124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266688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6668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26668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266688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6668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400800" y="38098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2666880" y="4038480"/>
            <a:ext cx="3733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2666880" y="38095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666880" y="3809880"/>
            <a:ext cx="76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H="1">
            <a:off x="2666880" y="4495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266688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6668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4008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H="1">
            <a:off x="2666880" y="49528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266688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6668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4008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2666880" y="54100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flipV="1">
            <a:off x="266688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26668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40080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2666880" y="5867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266688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66688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0080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H="1">
            <a:off x="2666880" y="64008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26668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666880" y="6095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429000" y="5791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429000" y="266688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2900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429000" y="3505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 flipH="1">
            <a:off x="29714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6171840" y="3809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57146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5257440" y="380988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ED0-A20D-4018-83C8-629BA0680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Torus Is Tough for Obliviou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vious routers are fast, but not clever … it is easy to deadlock a torus oblivious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3352680" y="2666880"/>
            <a:ext cx="457200" cy="457200"/>
            <a:chOff x="3352680" y="2666880"/>
            <a:chExt cx="457200" cy="457200"/>
          </a:xfrm>
        </p:grpSpPr>
        <p:sp>
          <p:nvSpPr>
            <p:cNvPr id="2422" name=""/>
            <p:cNvSpPr/>
            <p:nvPr/>
          </p:nvSpPr>
          <p:spPr>
            <a:xfrm>
              <a:off x="34290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V="1">
              <a:off x="35812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7339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5812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3526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3809880" y="2666880"/>
            <a:ext cx="457200" cy="457200"/>
            <a:chOff x="3809880" y="2666880"/>
            <a:chExt cx="457200" cy="457200"/>
          </a:xfrm>
        </p:grpSpPr>
        <p:sp>
          <p:nvSpPr>
            <p:cNvPr id="2428" name=""/>
            <p:cNvSpPr/>
            <p:nvPr/>
          </p:nvSpPr>
          <p:spPr>
            <a:xfrm>
              <a:off x="38862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4038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1911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0384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8098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4267080" y="2666880"/>
            <a:ext cx="457200" cy="457200"/>
            <a:chOff x="4267080" y="2666880"/>
            <a:chExt cx="457200" cy="457200"/>
          </a:xfrm>
        </p:grpSpPr>
        <p:sp>
          <p:nvSpPr>
            <p:cNvPr id="2434" name=""/>
            <p:cNvSpPr/>
            <p:nvPr/>
          </p:nvSpPr>
          <p:spPr>
            <a:xfrm>
              <a:off x="43434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4495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6483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44956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2670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4724280" y="2666880"/>
            <a:ext cx="457200" cy="457200"/>
            <a:chOff x="4724280" y="2666880"/>
            <a:chExt cx="457200" cy="457200"/>
          </a:xfrm>
        </p:grpSpPr>
        <p:sp>
          <p:nvSpPr>
            <p:cNvPr id="2440" name=""/>
            <p:cNvSpPr/>
            <p:nvPr/>
          </p:nvSpPr>
          <p:spPr>
            <a:xfrm>
              <a:off x="48006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V="1">
              <a:off x="4952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1055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49528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7242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1523880" y="2666880"/>
            <a:ext cx="457200" cy="457200"/>
            <a:chOff x="1523880" y="2666880"/>
            <a:chExt cx="457200" cy="457200"/>
          </a:xfrm>
        </p:grpSpPr>
        <p:sp>
          <p:nvSpPr>
            <p:cNvPr id="2446" name=""/>
            <p:cNvSpPr/>
            <p:nvPr/>
          </p:nvSpPr>
          <p:spPr>
            <a:xfrm>
              <a:off x="16002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752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051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7524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5238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1981080" y="2666880"/>
            <a:ext cx="457200" cy="457200"/>
            <a:chOff x="1981080" y="2666880"/>
            <a:chExt cx="457200" cy="457200"/>
          </a:xfrm>
        </p:grpSpPr>
        <p:sp>
          <p:nvSpPr>
            <p:cNvPr id="2452" name=""/>
            <p:cNvSpPr/>
            <p:nvPr/>
          </p:nvSpPr>
          <p:spPr>
            <a:xfrm>
              <a:off x="20574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2209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3623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22096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9810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2438280" y="2666880"/>
            <a:ext cx="457200" cy="457200"/>
            <a:chOff x="2438280" y="2666880"/>
            <a:chExt cx="457200" cy="457200"/>
          </a:xfrm>
        </p:grpSpPr>
        <p:sp>
          <p:nvSpPr>
            <p:cNvPr id="2458" name=""/>
            <p:cNvSpPr/>
            <p:nvPr/>
          </p:nvSpPr>
          <p:spPr>
            <a:xfrm>
              <a:off x="25146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2666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8195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26668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4382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2895480" y="2666880"/>
            <a:ext cx="457200" cy="457200"/>
            <a:chOff x="2895480" y="2666880"/>
            <a:chExt cx="457200" cy="457200"/>
          </a:xfrm>
        </p:grpSpPr>
        <p:sp>
          <p:nvSpPr>
            <p:cNvPr id="2464" name=""/>
            <p:cNvSpPr/>
            <p:nvPr/>
          </p:nvSpPr>
          <p:spPr>
            <a:xfrm>
              <a:off x="2971800" y="2743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31240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276720" y="2895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3124080" y="3047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895480" y="2895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3352680" y="3124080"/>
            <a:ext cx="457200" cy="457200"/>
            <a:chOff x="3352680" y="3124080"/>
            <a:chExt cx="457200" cy="457200"/>
          </a:xfrm>
        </p:grpSpPr>
        <p:sp>
          <p:nvSpPr>
            <p:cNvPr id="2470" name=""/>
            <p:cNvSpPr/>
            <p:nvPr/>
          </p:nvSpPr>
          <p:spPr>
            <a:xfrm>
              <a:off x="34290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35812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7339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35812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3526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3809880" y="3124080"/>
            <a:ext cx="457200" cy="457200"/>
            <a:chOff x="3809880" y="3124080"/>
            <a:chExt cx="457200" cy="457200"/>
          </a:xfrm>
        </p:grpSpPr>
        <p:sp>
          <p:nvSpPr>
            <p:cNvPr id="2476" name=""/>
            <p:cNvSpPr/>
            <p:nvPr/>
          </p:nvSpPr>
          <p:spPr>
            <a:xfrm>
              <a:off x="38862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4038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1911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40384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8098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4267080" y="3124080"/>
            <a:ext cx="457200" cy="457200"/>
            <a:chOff x="4267080" y="3124080"/>
            <a:chExt cx="457200" cy="457200"/>
          </a:xfrm>
        </p:grpSpPr>
        <p:sp>
          <p:nvSpPr>
            <p:cNvPr id="2482" name=""/>
            <p:cNvSpPr/>
            <p:nvPr/>
          </p:nvSpPr>
          <p:spPr>
            <a:xfrm>
              <a:off x="43434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V="1">
              <a:off x="4495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483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44956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7" name=""/>
          <p:cNvGrpSpPr/>
          <p:nvPr/>
        </p:nvGrpSpPr>
        <p:grpSpPr>
          <a:xfrm>
            <a:off x="4724280" y="3124080"/>
            <a:ext cx="457200" cy="457200"/>
            <a:chOff x="4724280" y="3124080"/>
            <a:chExt cx="457200" cy="457200"/>
          </a:xfrm>
        </p:grpSpPr>
        <p:sp>
          <p:nvSpPr>
            <p:cNvPr id="2488" name=""/>
            <p:cNvSpPr/>
            <p:nvPr/>
          </p:nvSpPr>
          <p:spPr>
            <a:xfrm>
              <a:off x="48006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4952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1055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49528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7242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1523880" y="3124080"/>
            <a:ext cx="457200" cy="457200"/>
            <a:chOff x="1523880" y="3124080"/>
            <a:chExt cx="457200" cy="457200"/>
          </a:xfrm>
        </p:grpSpPr>
        <p:sp>
          <p:nvSpPr>
            <p:cNvPr id="2494" name=""/>
            <p:cNvSpPr/>
            <p:nvPr/>
          </p:nvSpPr>
          <p:spPr>
            <a:xfrm>
              <a:off x="16002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V="1">
              <a:off x="1752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9051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7524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5238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1981080" y="3124080"/>
            <a:ext cx="457200" cy="457200"/>
            <a:chOff x="1981080" y="3124080"/>
            <a:chExt cx="457200" cy="457200"/>
          </a:xfrm>
        </p:grpSpPr>
        <p:sp>
          <p:nvSpPr>
            <p:cNvPr id="2500" name=""/>
            <p:cNvSpPr/>
            <p:nvPr/>
          </p:nvSpPr>
          <p:spPr>
            <a:xfrm>
              <a:off x="20574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209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3623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2096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9810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2438280" y="3124080"/>
            <a:ext cx="457200" cy="457200"/>
            <a:chOff x="2438280" y="3124080"/>
            <a:chExt cx="457200" cy="457200"/>
          </a:xfrm>
        </p:grpSpPr>
        <p:sp>
          <p:nvSpPr>
            <p:cNvPr id="2506" name=""/>
            <p:cNvSpPr/>
            <p:nvPr/>
          </p:nvSpPr>
          <p:spPr>
            <a:xfrm>
              <a:off x="25146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2666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195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26668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4382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2895480" y="3124080"/>
            <a:ext cx="457200" cy="457200"/>
            <a:chOff x="2895480" y="3124080"/>
            <a:chExt cx="457200" cy="457200"/>
          </a:xfrm>
        </p:grpSpPr>
        <p:sp>
          <p:nvSpPr>
            <p:cNvPr id="2512" name=""/>
            <p:cNvSpPr/>
            <p:nvPr/>
          </p:nvSpPr>
          <p:spPr>
            <a:xfrm>
              <a:off x="2971800" y="3200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31240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276720" y="3352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3124080" y="3504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95480" y="3352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7" name=""/>
          <p:cNvGrpSpPr/>
          <p:nvPr/>
        </p:nvGrpSpPr>
        <p:grpSpPr>
          <a:xfrm>
            <a:off x="3352680" y="3581280"/>
            <a:ext cx="457200" cy="457200"/>
            <a:chOff x="3352680" y="3581280"/>
            <a:chExt cx="457200" cy="457200"/>
          </a:xfrm>
        </p:grpSpPr>
        <p:sp>
          <p:nvSpPr>
            <p:cNvPr id="2518" name=""/>
            <p:cNvSpPr/>
            <p:nvPr/>
          </p:nvSpPr>
          <p:spPr>
            <a:xfrm>
              <a:off x="34290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3581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7339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35812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3526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3809880" y="3581280"/>
            <a:ext cx="457200" cy="457200"/>
            <a:chOff x="3809880" y="3581280"/>
            <a:chExt cx="457200" cy="457200"/>
          </a:xfrm>
        </p:grpSpPr>
        <p:sp>
          <p:nvSpPr>
            <p:cNvPr id="2524" name=""/>
            <p:cNvSpPr/>
            <p:nvPr/>
          </p:nvSpPr>
          <p:spPr>
            <a:xfrm>
              <a:off x="38862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4038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191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4038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09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9" name=""/>
          <p:cNvGrpSpPr/>
          <p:nvPr/>
        </p:nvGrpSpPr>
        <p:grpSpPr>
          <a:xfrm>
            <a:off x="4267080" y="3581280"/>
            <a:ext cx="457200" cy="457200"/>
            <a:chOff x="4267080" y="3581280"/>
            <a:chExt cx="457200" cy="457200"/>
          </a:xfrm>
        </p:grpSpPr>
        <p:sp>
          <p:nvSpPr>
            <p:cNvPr id="2530" name=""/>
            <p:cNvSpPr/>
            <p:nvPr/>
          </p:nvSpPr>
          <p:spPr>
            <a:xfrm>
              <a:off x="43434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4495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648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4495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4724280" y="3581280"/>
            <a:ext cx="457200" cy="457200"/>
            <a:chOff x="4724280" y="3581280"/>
            <a:chExt cx="457200" cy="457200"/>
          </a:xfrm>
        </p:grpSpPr>
        <p:sp>
          <p:nvSpPr>
            <p:cNvPr id="2536" name=""/>
            <p:cNvSpPr/>
            <p:nvPr/>
          </p:nvSpPr>
          <p:spPr>
            <a:xfrm>
              <a:off x="48006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4952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105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4952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724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1523880" y="3581280"/>
            <a:ext cx="457200" cy="457200"/>
            <a:chOff x="1523880" y="3581280"/>
            <a:chExt cx="457200" cy="457200"/>
          </a:xfrm>
        </p:grpSpPr>
        <p:sp>
          <p:nvSpPr>
            <p:cNvPr id="2542" name=""/>
            <p:cNvSpPr/>
            <p:nvPr/>
          </p:nvSpPr>
          <p:spPr>
            <a:xfrm>
              <a:off x="16002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1752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905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752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7" name=""/>
          <p:cNvGrpSpPr/>
          <p:nvPr/>
        </p:nvGrpSpPr>
        <p:grpSpPr>
          <a:xfrm>
            <a:off x="1981080" y="3581280"/>
            <a:ext cx="457200" cy="457200"/>
            <a:chOff x="1981080" y="3581280"/>
            <a:chExt cx="457200" cy="457200"/>
          </a:xfrm>
        </p:grpSpPr>
        <p:sp>
          <p:nvSpPr>
            <p:cNvPr id="2548" name=""/>
            <p:cNvSpPr/>
            <p:nvPr/>
          </p:nvSpPr>
          <p:spPr>
            <a:xfrm>
              <a:off x="20574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209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362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V="1">
              <a:off x="2209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981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3" name=""/>
          <p:cNvGrpSpPr/>
          <p:nvPr/>
        </p:nvGrpSpPr>
        <p:grpSpPr>
          <a:xfrm>
            <a:off x="2438280" y="3581280"/>
            <a:ext cx="457200" cy="457200"/>
            <a:chOff x="2438280" y="3581280"/>
            <a:chExt cx="457200" cy="457200"/>
          </a:xfrm>
        </p:grpSpPr>
        <p:sp>
          <p:nvSpPr>
            <p:cNvPr id="2554" name=""/>
            <p:cNvSpPr/>
            <p:nvPr/>
          </p:nvSpPr>
          <p:spPr>
            <a:xfrm>
              <a:off x="25146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2666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819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V="1">
              <a:off x="2666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438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9" name=""/>
          <p:cNvGrpSpPr/>
          <p:nvPr/>
        </p:nvGrpSpPr>
        <p:grpSpPr>
          <a:xfrm>
            <a:off x="2895480" y="3581280"/>
            <a:ext cx="457200" cy="457200"/>
            <a:chOff x="2895480" y="3581280"/>
            <a:chExt cx="457200" cy="457200"/>
          </a:xfrm>
        </p:grpSpPr>
        <p:sp>
          <p:nvSpPr>
            <p:cNvPr id="2560" name=""/>
            <p:cNvSpPr/>
            <p:nvPr/>
          </p:nvSpPr>
          <p:spPr>
            <a:xfrm>
              <a:off x="2971800" y="3657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3124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2767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31240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954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3352680" y="4038480"/>
            <a:ext cx="457200" cy="457200"/>
            <a:chOff x="3352680" y="4038480"/>
            <a:chExt cx="457200" cy="457200"/>
          </a:xfrm>
        </p:grpSpPr>
        <p:sp>
          <p:nvSpPr>
            <p:cNvPr id="2566" name=""/>
            <p:cNvSpPr/>
            <p:nvPr/>
          </p:nvSpPr>
          <p:spPr>
            <a:xfrm>
              <a:off x="34290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3581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7339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35812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3526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3809880" y="4038480"/>
            <a:ext cx="457200" cy="457200"/>
            <a:chOff x="3809880" y="4038480"/>
            <a:chExt cx="457200" cy="457200"/>
          </a:xfrm>
        </p:grpSpPr>
        <p:sp>
          <p:nvSpPr>
            <p:cNvPr id="2572" name=""/>
            <p:cNvSpPr/>
            <p:nvPr/>
          </p:nvSpPr>
          <p:spPr>
            <a:xfrm>
              <a:off x="38862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4038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91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038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809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4267080" y="4038480"/>
            <a:ext cx="457200" cy="457200"/>
            <a:chOff x="4267080" y="4038480"/>
            <a:chExt cx="457200" cy="457200"/>
          </a:xfrm>
        </p:grpSpPr>
        <p:sp>
          <p:nvSpPr>
            <p:cNvPr id="2578" name=""/>
            <p:cNvSpPr/>
            <p:nvPr/>
          </p:nvSpPr>
          <p:spPr>
            <a:xfrm>
              <a:off x="43434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4495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48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4495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3" name=""/>
          <p:cNvGrpSpPr/>
          <p:nvPr/>
        </p:nvGrpSpPr>
        <p:grpSpPr>
          <a:xfrm>
            <a:off x="4724280" y="4038480"/>
            <a:ext cx="457200" cy="457200"/>
            <a:chOff x="4724280" y="4038480"/>
            <a:chExt cx="457200" cy="457200"/>
          </a:xfrm>
        </p:grpSpPr>
        <p:sp>
          <p:nvSpPr>
            <p:cNvPr id="2584" name=""/>
            <p:cNvSpPr/>
            <p:nvPr/>
          </p:nvSpPr>
          <p:spPr>
            <a:xfrm>
              <a:off x="48006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952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105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4952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724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1523880" y="4038480"/>
            <a:ext cx="457200" cy="457200"/>
            <a:chOff x="1523880" y="4038480"/>
            <a:chExt cx="457200" cy="457200"/>
          </a:xfrm>
        </p:grpSpPr>
        <p:sp>
          <p:nvSpPr>
            <p:cNvPr id="2590" name=""/>
            <p:cNvSpPr/>
            <p:nvPr/>
          </p:nvSpPr>
          <p:spPr>
            <a:xfrm>
              <a:off x="16002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1752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05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1752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2596" name=""/>
            <p:cNvSpPr/>
            <p:nvPr/>
          </p:nvSpPr>
          <p:spPr>
            <a:xfrm>
              <a:off x="20574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2209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362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209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81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2438280" y="4038480"/>
            <a:ext cx="457200" cy="457200"/>
            <a:chOff x="2438280" y="4038480"/>
            <a:chExt cx="457200" cy="457200"/>
          </a:xfrm>
        </p:grpSpPr>
        <p:sp>
          <p:nvSpPr>
            <p:cNvPr id="2602" name=""/>
            <p:cNvSpPr/>
            <p:nvPr/>
          </p:nvSpPr>
          <p:spPr>
            <a:xfrm>
              <a:off x="25146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666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819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2666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438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08" name=""/>
            <p:cNvSpPr/>
            <p:nvPr/>
          </p:nvSpPr>
          <p:spPr>
            <a:xfrm>
              <a:off x="2971800" y="4114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124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2767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31240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8954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3352680" y="4495680"/>
            <a:ext cx="457200" cy="457200"/>
            <a:chOff x="3352680" y="4495680"/>
            <a:chExt cx="457200" cy="457200"/>
          </a:xfrm>
        </p:grpSpPr>
        <p:sp>
          <p:nvSpPr>
            <p:cNvPr id="2614" name=""/>
            <p:cNvSpPr/>
            <p:nvPr/>
          </p:nvSpPr>
          <p:spPr>
            <a:xfrm>
              <a:off x="34290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3581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7339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5812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3526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809880" y="4495680"/>
            <a:ext cx="457200" cy="457200"/>
            <a:chOff x="3809880" y="4495680"/>
            <a:chExt cx="457200" cy="457200"/>
          </a:xfrm>
        </p:grpSpPr>
        <p:sp>
          <p:nvSpPr>
            <p:cNvPr id="2620" name=""/>
            <p:cNvSpPr/>
            <p:nvPr/>
          </p:nvSpPr>
          <p:spPr>
            <a:xfrm>
              <a:off x="38862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4038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191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4038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809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4267080" y="4495680"/>
            <a:ext cx="457200" cy="457200"/>
            <a:chOff x="4267080" y="4495680"/>
            <a:chExt cx="457200" cy="457200"/>
          </a:xfrm>
        </p:grpSpPr>
        <p:sp>
          <p:nvSpPr>
            <p:cNvPr id="2626" name=""/>
            <p:cNvSpPr/>
            <p:nvPr/>
          </p:nvSpPr>
          <p:spPr>
            <a:xfrm>
              <a:off x="43434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4495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648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4495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267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4724280" y="4495680"/>
            <a:ext cx="457200" cy="457200"/>
            <a:chOff x="4724280" y="4495680"/>
            <a:chExt cx="457200" cy="457200"/>
          </a:xfrm>
        </p:grpSpPr>
        <p:sp>
          <p:nvSpPr>
            <p:cNvPr id="2632" name=""/>
            <p:cNvSpPr/>
            <p:nvPr/>
          </p:nvSpPr>
          <p:spPr>
            <a:xfrm>
              <a:off x="48006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4952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105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4952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724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1523880" y="4495680"/>
            <a:ext cx="457200" cy="457200"/>
            <a:chOff x="1523880" y="4495680"/>
            <a:chExt cx="457200" cy="457200"/>
          </a:xfrm>
        </p:grpSpPr>
        <p:sp>
          <p:nvSpPr>
            <p:cNvPr id="2638" name=""/>
            <p:cNvSpPr/>
            <p:nvPr/>
          </p:nvSpPr>
          <p:spPr>
            <a:xfrm>
              <a:off x="16002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1752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905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752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1981080" y="4495680"/>
            <a:ext cx="457200" cy="457200"/>
            <a:chOff x="1981080" y="4495680"/>
            <a:chExt cx="457200" cy="457200"/>
          </a:xfrm>
        </p:grpSpPr>
        <p:sp>
          <p:nvSpPr>
            <p:cNvPr id="2644" name=""/>
            <p:cNvSpPr/>
            <p:nvPr/>
          </p:nvSpPr>
          <p:spPr>
            <a:xfrm>
              <a:off x="20574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2209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62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V="1">
              <a:off x="2209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981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2438280" y="4495680"/>
            <a:ext cx="457200" cy="457200"/>
            <a:chOff x="2438280" y="4495680"/>
            <a:chExt cx="457200" cy="457200"/>
          </a:xfrm>
        </p:grpSpPr>
        <p:sp>
          <p:nvSpPr>
            <p:cNvPr id="2650" name=""/>
            <p:cNvSpPr/>
            <p:nvPr/>
          </p:nvSpPr>
          <p:spPr>
            <a:xfrm>
              <a:off x="25146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V="1">
              <a:off x="2666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819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2666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438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5" name=""/>
          <p:cNvGrpSpPr/>
          <p:nvPr/>
        </p:nvGrpSpPr>
        <p:grpSpPr>
          <a:xfrm>
            <a:off x="2895480" y="4495680"/>
            <a:ext cx="457200" cy="457200"/>
            <a:chOff x="2895480" y="4495680"/>
            <a:chExt cx="457200" cy="457200"/>
          </a:xfrm>
        </p:grpSpPr>
        <p:sp>
          <p:nvSpPr>
            <p:cNvPr id="2656" name=""/>
            <p:cNvSpPr/>
            <p:nvPr/>
          </p:nvSpPr>
          <p:spPr>
            <a:xfrm>
              <a:off x="2971800" y="4572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3124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2767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31240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8954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3352680" y="4952880"/>
            <a:ext cx="457200" cy="457200"/>
            <a:chOff x="3352680" y="4952880"/>
            <a:chExt cx="457200" cy="457200"/>
          </a:xfrm>
        </p:grpSpPr>
        <p:sp>
          <p:nvSpPr>
            <p:cNvPr id="2662" name=""/>
            <p:cNvSpPr/>
            <p:nvPr/>
          </p:nvSpPr>
          <p:spPr>
            <a:xfrm>
              <a:off x="34290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3581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7339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35812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3526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7" name=""/>
          <p:cNvGrpSpPr/>
          <p:nvPr/>
        </p:nvGrpSpPr>
        <p:grpSpPr>
          <a:xfrm>
            <a:off x="3809880" y="4952880"/>
            <a:ext cx="457200" cy="457200"/>
            <a:chOff x="3809880" y="4952880"/>
            <a:chExt cx="457200" cy="457200"/>
          </a:xfrm>
        </p:grpSpPr>
        <p:sp>
          <p:nvSpPr>
            <p:cNvPr id="2668" name=""/>
            <p:cNvSpPr/>
            <p:nvPr/>
          </p:nvSpPr>
          <p:spPr>
            <a:xfrm>
              <a:off x="38862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4038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191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4038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809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4267080" y="4952880"/>
            <a:ext cx="457200" cy="457200"/>
            <a:chOff x="4267080" y="4952880"/>
            <a:chExt cx="457200" cy="457200"/>
          </a:xfrm>
        </p:grpSpPr>
        <p:sp>
          <p:nvSpPr>
            <p:cNvPr id="2674" name=""/>
            <p:cNvSpPr/>
            <p:nvPr/>
          </p:nvSpPr>
          <p:spPr>
            <a:xfrm>
              <a:off x="43434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4495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48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4495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267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4724280" y="4952880"/>
            <a:ext cx="457200" cy="457200"/>
            <a:chOff x="4724280" y="4952880"/>
            <a:chExt cx="457200" cy="457200"/>
          </a:xfrm>
        </p:grpSpPr>
        <p:sp>
          <p:nvSpPr>
            <p:cNvPr id="2680" name=""/>
            <p:cNvSpPr/>
            <p:nvPr/>
          </p:nvSpPr>
          <p:spPr>
            <a:xfrm>
              <a:off x="48006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4952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105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4952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724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1523880" y="4952880"/>
            <a:ext cx="457200" cy="457200"/>
            <a:chOff x="1523880" y="4952880"/>
            <a:chExt cx="457200" cy="457200"/>
          </a:xfrm>
        </p:grpSpPr>
        <p:sp>
          <p:nvSpPr>
            <p:cNvPr id="2686" name=""/>
            <p:cNvSpPr/>
            <p:nvPr/>
          </p:nvSpPr>
          <p:spPr>
            <a:xfrm>
              <a:off x="16002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1752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905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1752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1981080" y="4952880"/>
            <a:ext cx="457200" cy="457200"/>
            <a:chOff x="1981080" y="4952880"/>
            <a:chExt cx="457200" cy="457200"/>
          </a:xfrm>
        </p:grpSpPr>
        <p:sp>
          <p:nvSpPr>
            <p:cNvPr id="2692" name=""/>
            <p:cNvSpPr/>
            <p:nvPr/>
          </p:nvSpPr>
          <p:spPr>
            <a:xfrm>
              <a:off x="20574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2209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362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2209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981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7" name=""/>
          <p:cNvGrpSpPr/>
          <p:nvPr/>
        </p:nvGrpSpPr>
        <p:grpSpPr>
          <a:xfrm>
            <a:off x="2438280" y="4952880"/>
            <a:ext cx="457200" cy="457200"/>
            <a:chOff x="2438280" y="4952880"/>
            <a:chExt cx="457200" cy="457200"/>
          </a:xfrm>
        </p:grpSpPr>
        <p:sp>
          <p:nvSpPr>
            <p:cNvPr id="2698" name=""/>
            <p:cNvSpPr/>
            <p:nvPr/>
          </p:nvSpPr>
          <p:spPr>
            <a:xfrm>
              <a:off x="25146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2666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819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666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438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2895480" y="4952880"/>
            <a:ext cx="457200" cy="457200"/>
            <a:chOff x="2895480" y="4952880"/>
            <a:chExt cx="457200" cy="457200"/>
          </a:xfrm>
        </p:grpSpPr>
        <p:sp>
          <p:nvSpPr>
            <p:cNvPr id="2704" name=""/>
            <p:cNvSpPr/>
            <p:nvPr/>
          </p:nvSpPr>
          <p:spPr>
            <a:xfrm>
              <a:off x="2971800" y="5029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3124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67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31240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954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9" name=""/>
          <p:cNvGrpSpPr/>
          <p:nvPr/>
        </p:nvGrpSpPr>
        <p:grpSpPr>
          <a:xfrm>
            <a:off x="3352680" y="5410080"/>
            <a:ext cx="457200" cy="457200"/>
            <a:chOff x="3352680" y="5410080"/>
            <a:chExt cx="457200" cy="457200"/>
          </a:xfrm>
        </p:grpSpPr>
        <p:sp>
          <p:nvSpPr>
            <p:cNvPr id="2710" name=""/>
            <p:cNvSpPr/>
            <p:nvPr/>
          </p:nvSpPr>
          <p:spPr>
            <a:xfrm>
              <a:off x="34290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3581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339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35812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3526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3809880" y="5410080"/>
            <a:ext cx="457200" cy="457200"/>
            <a:chOff x="3809880" y="5410080"/>
            <a:chExt cx="457200" cy="457200"/>
          </a:xfrm>
        </p:grpSpPr>
        <p:sp>
          <p:nvSpPr>
            <p:cNvPr id="2716" name=""/>
            <p:cNvSpPr/>
            <p:nvPr/>
          </p:nvSpPr>
          <p:spPr>
            <a:xfrm>
              <a:off x="38862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4038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91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4038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809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1" name=""/>
          <p:cNvGrpSpPr/>
          <p:nvPr/>
        </p:nvGrpSpPr>
        <p:grpSpPr>
          <a:xfrm>
            <a:off x="4267080" y="5410080"/>
            <a:ext cx="457200" cy="457200"/>
            <a:chOff x="4267080" y="5410080"/>
            <a:chExt cx="457200" cy="457200"/>
          </a:xfrm>
        </p:grpSpPr>
        <p:sp>
          <p:nvSpPr>
            <p:cNvPr id="2722" name=""/>
            <p:cNvSpPr/>
            <p:nvPr/>
          </p:nvSpPr>
          <p:spPr>
            <a:xfrm>
              <a:off x="43434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4495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648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4495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67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4724280" y="5410080"/>
            <a:ext cx="457200" cy="457200"/>
            <a:chOff x="4724280" y="5410080"/>
            <a:chExt cx="457200" cy="457200"/>
          </a:xfrm>
        </p:grpSpPr>
        <p:sp>
          <p:nvSpPr>
            <p:cNvPr id="2728" name=""/>
            <p:cNvSpPr/>
            <p:nvPr/>
          </p:nvSpPr>
          <p:spPr>
            <a:xfrm>
              <a:off x="48006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4952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5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4952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724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1523880" y="5410080"/>
            <a:ext cx="457200" cy="457200"/>
            <a:chOff x="1523880" y="5410080"/>
            <a:chExt cx="457200" cy="457200"/>
          </a:xfrm>
        </p:grpSpPr>
        <p:sp>
          <p:nvSpPr>
            <p:cNvPr id="2734" name=""/>
            <p:cNvSpPr/>
            <p:nvPr/>
          </p:nvSpPr>
          <p:spPr>
            <a:xfrm>
              <a:off x="16002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V="1">
              <a:off x="1752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05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752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9" name=""/>
          <p:cNvGrpSpPr/>
          <p:nvPr/>
        </p:nvGrpSpPr>
        <p:grpSpPr>
          <a:xfrm>
            <a:off x="1981080" y="5410080"/>
            <a:ext cx="457200" cy="457200"/>
            <a:chOff x="1981080" y="5410080"/>
            <a:chExt cx="457200" cy="457200"/>
          </a:xfrm>
        </p:grpSpPr>
        <p:sp>
          <p:nvSpPr>
            <p:cNvPr id="2740" name=""/>
            <p:cNvSpPr/>
            <p:nvPr/>
          </p:nvSpPr>
          <p:spPr>
            <a:xfrm>
              <a:off x="20574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2209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362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2209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981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5" name=""/>
          <p:cNvGrpSpPr/>
          <p:nvPr/>
        </p:nvGrpSpPr>
        <p:grpSpPr>
          <a:xfrm>
            <a:off x="2438280" y="5410080"/>
            <a:ext cx="457200" cy="457200"/>
            <a:chOff x="2438280" y="5410080"/>
            <a:chExt cx="457200" cy="457200"/>
          </a:xfrm>
        </p:grpSpPr>
        <p:sp>
          <p:nvSpPr>
            <p:cNvPr id="2746" name=""/>
            <p:cNvSpPr/>
            <p:nvPr/>
          </p:nvSpPr>
          <p:spPr>
            <a:xfrm>
              <a:off x="25146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2666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819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2666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438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1" name=""/>
          <p:cNvGrpSpPr/>
          <p:nvPr/>
        </p:nvGrpSpPr>
        <p:grpSpPr>
          <a:xfrm>
            <a:off x="2895480" y="5410080"/>
            <a:ext cx="457200" cy="457200"/>
            <a:chOff x="2895480" y="5410080"/>
            <a:chExt cx="457200" cy="457200"/>
          </a:xfrm>
        </p:grpSpPr>
        <p:sp>
          <p:nvSpPr>
            <p:cNvPr id="2752" name=""/>
            <p:cNvSpPr/>
            <p:nvPr/>
          </p:nvSpPr>
          <p:spPr>
            <a:xfrm>
              <a:off x="2971800" y="5486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3124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2767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31240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8954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352680" y="5867280"/>
            <a:ext cx="457200" cy="457200"/>
            <a:chOff x="3352680" y="5867280"/>
            <a:chExt cx="457200" cy="457200"/>
          </a:xfrm>
        </p:grpSpPr>
        <p:sp>
          <p:nvSpPr>
            <p:cNvPr id="2758" name=""/>
            <p:cNvSpPr/>
            <p:nvPr/>
          </p:nvSpPr>
          <p:spPr>
            <a:xfrm>
              <a:off x="34290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V="1">
              <a:off x="3581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37339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V="1">
              <a:off x="35812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3526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"/>
          <p:cNvGrpSpPr/>
          <p:nvPr/>
        </p:nvGrpSpPr>
        <p:grpSpPr>
          <a:xfrm>
            <a:off x="3809880" y="5867280"/>
            <a:ext cx="457200" cy="457200"/>
            <a:chOff x="3809880" y="5867280"/>
            <a:chExt cx="457200" cy="457200"/>
          </a:xfrm>
        </p:grpSpPr>
        <p:sp>
          <p:nvSpPr>
            <p:cNvPr id="2764" name=""/>
            <p:cNvSpPr/>
            <p:nvPr/>
          </p:nvSpPr>
          <p:spPr>
            <a:xfrm>
              <a:off x="38862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4038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1911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40384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8098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9" name=""/>
          <p:cNvGrpSpPr/>
          <p:nvPr/>
        </p:nvGrpSpPr>
        <p:grpSpPr>
          <a:xfrm>
            <a:off x="4267080" y="5867280"/>
            <a:ext cx="457200" cy="457200"/>
            <a:chOff x="4267080" y="5867280"/>
            <a:chExt cx="457200" cy="457200"/>
          </a:xfrm>
        </p:grpSpPr>
        <p:sp>
          <p:nvSpPr>
            <p:cNvPr id="2770" name=""/>
            <p:cNvSpPr/>
            <p:nvPr/>
          </p:nvSpPr>
          <p:spPr>
            <a:xfrm>
              <a:off x="43434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4495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6483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44956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670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4724280" y="5867280"/>
            <a:ext cx="457200" cy="457200"/>
            <a:chOff x="4724280" y="5867280"/>
            <a:chExt cx="457200" cy="457200"/>
          </a:xfrm>
        </p:grpSpPr>
        <p:sp>
          <p:nvSpPr>
            <p:cNvPr id="2776" name=""/>
            <p:cNvSpPr/>
            <p:nvPr/>
          </p:nvSpPr>
          <p:spPr>
            <a:xfrm>
              <a:off x="48006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4952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1055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49528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7242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1" name=""/>
          <p:cNvGrpSpPr/>
          <p:nvPr/>
        </p:nvGrpSpPr>
        <p:grpSpPr>
          <a:xfrm>
            <a:off x="1523880" y="5867280"/>
            <a:ext cx="457200" cy="457200"/>
            <a:chOff x="1523880" y="5867280"/>
            <a:chExt cx="457200" cy="457200"/>
          </a:xfrm>
        </p:grpSpPr>
        <p:sp>
          <p:nvSpPr>
            <p:cNvPr id="2782" name=""/>
            <p:cNvSpPr/>
            <p:nvPr/>
          </p:nvSpPr>
          <p:spPr>
            <a:xfrm>
              <a:off x="16002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1752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9051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17524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5238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7" name=""/>
          <p:cNvGrpSpPr/>
          <p:nvPr/>
        </p:nvGrpSpPr>
        <p:grpSpPr>
          <a:xfrm>
            <a:off x="1981080" y="5867280"/>
            <a:ext cx="457200" cy="457200"/>
            <a:chOff x="1981080" y="5867280"/>
            <a:chExt cx="457200" cy="457200"/>
          </a:xfrm>
        </p:grpSpPr>
        <p:sp>
          <p:nvSpPr>
            <p:cNvPr id="2788" name=""/>
            <p:cNvSpPr/>
            <p:nvPr/>
          </p:nvSpPr>
          <p:spPr>
            <a:xfrm>
              <a:off x="20574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2209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3623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2096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9810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2438280" y="5867280"/>
            <a:ext cx="457200" cy="457200"/>
            <a:chOff x="2438280" y="5867280"/>
            <a:chExt cx="457200" cy="457200"/>
          </a:xfrm>
        </p:grpSpPr>
        <p:sp>
          <p:nvSpPr>
            <p:cNvPr id="2794" name=""/>
            <p:cNvSpPr/>
            <p:nvPr/>
          </p:nvSpPr>
          <p:spPr>
            <a:xfrm>
              <a:off x="25146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2666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8195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6668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4382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2895480" y="5867280"/>
            <a:ext cx="457200" cy="457200"/>
            <a:chOff x="2895480" y="5867280"/>
            <a:chExt cx="457200" cy="457200"/>
          </a:xfrm>
        </p:grpSpPr>
        <p:sp>
          <p:nvSpPr>
            <p:cNvPr id="2800" name=""/>
            <p:cNvSpPr/>
            <p:nvPr/>
          </p:nvSpPr>
          <p:spPr>
            <a:xfrm>
              <a:off x="2971800" y="5943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3124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276720" y="609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3124080" y="6248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895480" y="6095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5" name=""/>
          <p:cNvSpPr/>
          <p:nvPr/>
        </p:nvSpPr>
        <p:spPr>
          <a:xfrm>
            <a:off x="3887640" y="5410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430080" y="541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8195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23623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4479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15235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V="1">
            <a:off x="15238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1980720" y="632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1981080" y="2666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9810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24379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24382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8951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28954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8954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33523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33526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3526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38095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38098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809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H="1">
            <a:off x="42667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42670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2670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47239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 flipV="1">
            <a:off x="472428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7242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51814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1447560" y="3124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1447920" y="289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447920" y="2895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1814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H="1">
            <a:off x="1447560" y="35812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V="1">
            <a:off x="14479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447920" y="33526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18148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1447560" y="40384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447920" y="380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447920" y="38098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1814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1447560" y="44956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1447920" y="426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447920" y="4267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814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H="1">
            <a:off x="1447560" y="49528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144792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4479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51814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H="1">
            <a:off x="1447560" y="54100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1447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447920" y="51814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5181480" y="5638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H="1">
            <a:off x="1447560" y="5867280"/>
            <a:ext cx="3733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1447920" y="56383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1447920" y="5638680"/>
            <a:ext cx="75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18148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H="1">
            <a:off x="1447560" y="6400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144792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447920" y="6095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6483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9051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7339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059200" y="5410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486400" y="3352680"/>
            <a:ext cx="3048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ally and Seitz showed that it is possible to route worm-hole packets on a torus without deadlock … used virtual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1911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276720" y="56386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677960" y="541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191-1E00-4D3A-87C6-C23560CF9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andomized Oblivious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t random an intermediate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better-connected topologies, e.g. hyper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3276720" y="1981080"/>
            <a:ext cx="457200" cy="457200"/>
            <a:chOff x="3276720" y="1981080"/>
            <a:chExt cx="457200" cy="457200"/>
          </a:xfrm>
        </p:grpSpPr>
        <p:sp>
          <p:nvSpPr>
            <p:cNvPr id="2877" name=""/>
            <p:cNvSpPr/>
            <p:nvPr/>
          </p:nvSpPr>
          <p:spPr>
            <a:xfrm>
              <a:off x="33530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35053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6579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V="1">
              <a:off x="35053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32767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3733920" y="1981080"/>
            <a:ext cx="457200" cy="457200"/>
            <a:chOff x="3733920" y="1981080"/>
            <a:chExt cx="457200" cy="457200"/>
          </a:xfrm>
        </p:grpSpPr>
        <p:sp>
          <p:nvSpPr>
            <p:cNvPr id="2883" name=""/>
            <p:cNvSpPr/>
            <p:nvPr/>
          </p:nvSpPr>
          <p:spPr>
            <a:xfrm>
              <a:off x="38102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V="1">
              <a:off x="39625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151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39625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7339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4191120" y="1981080"/>
            <a:ext cx="457200" cy="457200"/>
            <a:chOff x="4191120" y="1981080"/>
            <a:chExt cx="457200" cy="457200"/>
          </a:xfrm>
        </p:grpSpPr>
        <p:sp>
          <p:nvSpPr>
            <p:cNvPr id="2889" name=""/>
            <p:cNvSpPr/>
            <p:nvPr/>
          </p:nvSpPr>
          <p:spPr>
            <a:xfrm>
              <a:off x="42674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44197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723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44197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1911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4648320" y="1981080"/>
            <a:ext cx="457200" cy="457200"/>
            <a:chOff x="4648320" y="1981080"/>
            <a:chExt cx="457200" cy="457200"/>
          </a:xfrm>
        </p:grpSpPr>
        <p:sp>
          <p:nvSpPr>
            <p:cNvPr id="2895" name=""/>
            <p:cNvSpPr/>
            <p:nvPr/>
          </p:nvSpPr>
          <p:spPr>
            <a:xfrm>
              <a:off x="47246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48769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0295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48769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483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1447920" y="1981080"/>
            <a:ext cx="457200" cy="457200"/>
            <a:chOff x="1447920" y="1981080"/>
            <a:chExt cx="457200" cy="457200"/>
          </a:xfrm>
        </p:grpSpPr>
        <p:sp>
          <p:nvSpPr>
            <p:cNvPr id="2901" name=""/>
            <p:cNvSpPr/>
            <p:nvPr/>
          </p:nvSpPr>
          <p:spPr>
            <a:xfrm>
              <a:off x="15242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16765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8291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16765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4479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1905120" y="1981080"/>
            <a:ext cx="457200" cy="457200"/>
            <a:chOff x="1905120" y="1981080"/>
            <a:chExt cx="457200" cy="457200"/>
          </a:xfrm>
        </p:grpSpPr>
        <p:sp>
          <p:nvSpPr>
            <p:cNvPr id="2907" name=""/>
            <p:cNvSpPr/>
            <p:nvPr/>
          </p:nvSpPr>
          <p:spPr>
            <a:xfrm>
              <a:off x="19814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21337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2863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21337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9051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2362320" y="1981080"/>
            <a:ext cx="457200" cy="457200"/>
            <a:chOff x="2362320" y="1981080"/>
            <a:chExt cx="457200" cy="457200"/>
          </a:xfrm>
        </p:grpSpPr>
        <p:sp>
          <p:nvSpPr>
            <p:cNvPr id="2913" name=""/>
            <p:cNvSpPr/>
            <p:nvPr/>
          </p:nvSpPr>
          <p:spPr>
            <a:xfrm>
              <a:off x="24386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25909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7435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25909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3623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2819520" y="1981080"/>
            <a:ext cx="457200" cy="457200"/>
            <a:chOff x="2819520" y="1981080"/>
            <a:chExt cx="457200" cy="457200"/>
          </a:xfrm>
        </p:grpSpPr>
        <p:sp>
          <p:nvSpPr>
            <p:cNvPr id="2919" name=""/>
            <p:cNvSpPr/>
            <p:nvPr/>
          </p:nvSpPr>
          <p:spPr>
            <a:xfrm>
              <a:off x="2895840" y="2057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304812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200760" y="2209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3048120" y="2361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81952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3276720" y="2438280"/>
            <a:ext cx="457200" cy="457200"/>
            <a:chOff x="3276720" y="2438280"/>
            <a:chExt cx="457200" cy="457200"/>
          </a:xfrm>
        </p:grpSpPr>
        <p:sp>
          <p:nvSpPr>
            <p:cNvPr id="2925" name=""/>
            <p:cNvSpPr/>
            <p:nvPr/>
          </p:nvSpPr>
          <p:spPr>
            <a:xfrm>
              <a:off x="33530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35053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6579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35053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767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3733920" y="2438280"/>
            <a:ext cx="457200" cy="457200"/>
            <a:chOff x="3733920" y="2438280"/>
            <a:chExt cx="457200" cy="457200"/>
          </a:xfrm>
        </p:grpSpPr>
        <p:sp>
          <p:nvSpPr>
            <p:cNvPr id="2931" name=""/>
            <p:cNvSpPr/>
            <p:nvPr/>
          </p:nvSpPr>
          <p:spPr>
            <a:xfrm>
              <a:off x="38102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V="1">
              <a:off x="39625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1151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39625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7339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4191120" y="2438280"/>
            <a:ext cx="457200" cy="457200"/>
            <a:chOff x="4191120" y="2438280"/>
            <a:chExt cx="457200" cy="457200"/>
          </a:xfrm>
        </p:grpSpPr>
        <p:sp>
          <p:nvSpPr>
            <p:cNvPr id="2937" name=""/>
            <p:cNvSpPr/>
            <p:nvPr/>
          </p:nvSpPr>
          <p:spPr>
            <a:xfrm>
              <a:off x="42674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V="1">
              <a:off x="44197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5723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44197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1911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4648320" y="2438280"/>
            <a:ext cx="457200" cy="457200"/>
            <a:chOff x="4648320" y="2438280"/>
            <a:chExt cx="457200" cy="457200"/>
          </a:xfrm>
        </p:grpSpPr>
        <p:sp>
          <p:nvSpPr>
            <p:cNvPr id="2943" name=""/>
            <p:cNvSpPr/>
            <p:nvPr/>
          </p:nvSpPr>
          <p:spPr>
            <a:xfrm>
              <a:off x="47246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48769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0295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48769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6483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1447920" y="2438280"/>
            <a:ext cx="457200" cy="457200"/>
            <a:chOff x="1447920" y="2438280"/>
            <a:chExt cx="457200" cy="457200"/>
          </a:xfrm>
        </p:grpSpPr>
        <p:sp>
          <p:nvSpPr>
            <p:cNvPr id="2949" name=""/>
            <p:cNvSpPr/>
            <p:nvPr/>
          </p:nvSpPr>
          <p:spPr>
            <a:xfrm>
              <a:off x="15242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6765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18291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16765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4479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1905120" y="2438280"/>
            <a:ext cx="457200" cy="457200"/>
            <a:chOff x="1905120" y="2438280"/>
            <a:chExt cx="457200" cy="457200"/>
          </a:xfrm>
        </p:grpSpPr>
        <p:sp>
          <p:nvSpPr>
            <p:cNvPr id="2955" name=""/>
            <p:cNvSpPr/>
            <p:nvPr/>
          </p:nvSpPr>
          <p:spPr>
            <a:xfrm>
              <a:off x="19814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21337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2863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21337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9051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2362320" y="2438280"/>
            <a:ext cx="457200" cy="457200"/>
            <a:chOff x="2362320" y="2438280"/>
            <a:chExt cx="457200" cy="457200"/>
          </a:xfrm>
        </p:grpSpPr>
        <p:sp>
          <p:nvSpPr>
            <p:cNvPr id="2961" name=""/>
            <p:cNvSpPr/>
            <p:nvPr/>
          </p:nvSpPr>
          <p:spPr>
            <a:xfrm>
              <a:off x="24386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25909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7435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25909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3623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2819520" y="2438280"/>
            <a:ext cx="457200" cy="457200"/>
            <a:chOff x="2819520" y="2438280"/>
            <a:chExt cx="457200" cy="457200"/>
          </a:xfrm>
        </p:grpSpPr>
        <p:sp>
          <p:nvSpPr>
            <p:cNvPr id="2967" name=""/>
            <p:cNvSpPr/>
            <p:nvPr/>
          </p:nvSpPr>
          <p:spPr>
            <a:xfrm>
              <a:off x="2895840" y="2514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V="1">
              <a:off x="304812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200760" y="2666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3048120" y="2819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819520" y="2666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3276720" y="2895480"/>
            <a:ext cx="457200" cy="457200"/>
            <a:chOff x="3276720" y="2895480"/>
            <a:chExt cx="457200" cy="457200"/>
          </a:xfrm>
        </p:grpSpPr>
        <p:sp>
          <p:nvSpPr>
            <p:cNvPr id="2973" name=""/>
            <p:cNvSpPr/>
            <p:nvPr/>
          </p:nvSpPr>
          <p:spPr>
            <a:xfrm>
              <a:off x="33530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35053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6579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V="1">
              <a:off x="35053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2767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3733920" y="2895480"/>
            <a:ext cx="457200" cy="457200"/>
            <a:chOff x="3733920" y="2895480"/>
            <a:chExt cx="457200" cy="457200"/>
          </a:xfrm>
        </p:grpSpPr>
        <p:sp>
          <p:nvSpPr>
            <p:cNvPr id="2979" name=""/>
            <p:cNvSpPr/>
            <p:nvPr/>
          </p:nvSpPr>
          <p:spPr>
            <a:xfrm>
              <a:off x="38102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3962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151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625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7339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4191120" y="2895480"/>
            <a:ext cx="457200" cy="457200"/>
            <a:chOff x="4191120" y="2895480"/>
            <a:chExt cx="457200" cy="457200"/>
          </a:xfrm>
        </p:grpSpPr>
        <p:sp>
          <p:nvSpPr>
            <p:cNvPr id="2985" name=""/>
            <p:cNvSpPr/>
            <p:nvPr/>
          </p:nvSpPr>
          <p:spPr>
            <a:xfrm>
              <a:off x="42674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44197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5723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44197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911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4648320" y="2895480"/>
            <a:ext cx="457200" cy="457200"/>
            <a:chOff x="4648320" y="2895480"/>
            <a:chExt cx="457200" cy="457200"/>
          </a:xfrm>
        </p:grpSpPr>
        <p:sp>
          <p:nvSpPr>
            <p:cNvPr id="2991" name=""/>
            <p:cNvSpPr/>
            <p:nvPr/>
          </p:nvSpPr>
          <p:spPr>
            <a:xfrm>
              <a:off x="47246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48769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0295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V="1">
              <a:off x="48769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483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1447920" y="2895480"/>
            <a:ext cx="457200" cy="457200"/>
            <a:chOff x="1447920" y="2895480"/>
            <a:chExt cx="457200" cy="457200"/>
          </a:xfrm>
        </p:grpSpPr>
        <p:sp>
          <p:nvSpPr>
            <p:cNvPr id="2997" name=""/>
            <p:cNvSpPr/>
            <p:nvPr/>
          </p:nvSpPr>
          <p:spPr>
            <a:xfrm>
              <a:off x="15242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V="1">
              <a:off x="1676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8291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16765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4479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1905120" y="2895480"/>
            <a:ext cx="457200" cy="457200"/>
            <a:chOff x="1905120" y="2895480"/>
            <a:chExt cx="457200" cy="457200"/>
          </a:xfrm>
        </p:grpSpPr>
        <p:sp>
          <p:nvSpPr>
            <p:cNvPr id="3003" name=""/>
            <p:cNvSpPr/>
            <p:nvPr/>
          </p:nvSpPr>
          <p:spPr>
            <a:xfrm>
              <a:off x="19814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21337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2863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21337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9051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2362320" y="2895480"/>
            <a:ext cx="457200" cy="457200"/>
            <a:chOff x="2362320" y="2895480"/>
            <a:chExt cx="457200" cy="457200"/>
          </a:xfrm>
        </p:grpSpPr>
        <p:sp>
          <p:nvSpPr>
            <p:cNvPr id="3009" name=""/>
            <p:cNvSpPr/>
            <p:nvPr/>
          </p:nvSpPr>
          <p:spPr>
            <a:xfrm>
              <a:off x="24386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V="1">
              <a:off x="25909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7435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25909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3623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2819520" y="2895480"/>
            <a:ext cx="457200" cy="457200"/>
            <a:chOff x="2819520" y="2895480"/>
            <a:chExt cx="457200" cy="457200"/>
          </a:xfrm>
        </p:grpSpPr>
        <p:sp>
          <p:nvSpPr>
            <p:cNvPr id="3015" name=""/>
            <p:cNvSpPr/>
            <p:nvPr/>
          </p:nvSpPr>
          <p:spPr>
            <a:xfrm>
              <a:off x="2895840" y="2971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V="1">
              <a:off x="30481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20076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V="1">
              <a:off x="304812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81952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3276720" y="3352680"/>
            <a:ext cx="457200" cy="457200"/>
            <a:chOff x="3276720" y="3352680"/>
            <a:chExt cx="457200" cy="457200"/>
          </a:xfrm>
        </p:grpSpPr>
        <p:sp>
          <p:nvSpPr>
            <p:cNvPr id="3021" name=""/>
            <p:cNvSpPr/>
            <p:nvPr/>
          </p:nvSpPr>
          <p:spPr>
            <a:xfrm>
              <a:off x="33530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35053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6579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35053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2767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3733920" y="3352680"/>
            <a:ext cx="457200" cy="457200"/>
            <a:chOff x="3733920" y="3352680"/>
            <a:chExt cx="457200" cy="457200"/>
          </a:xfrm>
        </p:grpSpPr>
        <p:sp>
          <p:nvSpPr>
            <p:cNvPr id="3027" name=""/>
            <p:cNvSpPr/>
            <p:nvPr/>
          </p:nvSpPr>
          <p:spPr>
            <a:xfrm>
              <a:off x="38102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39625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1151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39625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7339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4191120" y="3352680"/>
            <a:ext cx="457200" cy="457200"/>
            <a:chOff x="4191120" y="3352680"/>
            <a:chExt cx="457200" cy="457200"/>
          </a:xfrm>
        </p:grpSpPr>
        <p:sp>
          <p:nvSpPr>
            <p:cNvPr id="3033" name=""/>
            <p:cNvSpPr/>
            <p:nvPr/>
          </p:nvSpPr>
          <p:spPr>
            <a:xfrm>
              <a:off x="42674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44197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5723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44197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1911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4648320" y="3352680"/>
            <a:ext cx="457200" cy="457200"/>
            <a:chOff x="4648320" y="3352680"/>
            <a:chExt cx="457200" cy="457200"/>
          </a:xfrm>
        </p:grpSpPr>
        <p:sp>
          <p:nvSpPr>
            <p:cNvPr id="3039" name=""/>
            <p:cNvSpPr/>
            <p:nvPr/>
          </p:nvSpPr>
          <p:spPr>
            <a:xfrm>
              <a:off x="47246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48769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0295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48769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6483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1447920" y="3352680"/>
            <a:ext cx="457200" cy="457200"/>
            <a:chOff x="1447920" y="3352680"/>
            <a:chExt cx="457200" cy="457200"/>
          </a:xfrm>
        </p:grpSpPr>
        <p:sp>
          <p:nvSpPr>
            <p:cNvPr id="3045" name=""/>
            <p:cNvSpPr/>
            <p:nvPr/>
          </p:nvSpPr>
          <p:spPr>
            <a:xfrm>
              <a:off x="15242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6765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8291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16765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4479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1905120" y="3352680"/>
            <a:ext cx="457200" cy="457200"/>
            <a:chOff x="1905120" y="3352680"/>
            <a:chExt cx="457200" cy="457200"/>
          </a:xfrm>
        </p:grpSpPr>
        <p:sp>
          <p:nvSpPr>
            <p:cNvPr id="3051" name=""/>
            <p:cNvSpPr/>
            <p:nvPr/>
          </p:nvSpPr>
          <p:spPr>
            <a:xfrm>
              <a:off x="19814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21337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2863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21337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051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2362320" y="3352680"/>
            <a:ext cx="457200" cy="457200"/>
            <a:chOff x="2362320" y="3352680"/>
            <a:chExt cx="457200" cy="457200"/>
          </a:xfrm>
        </p:grpSpPr>
        <p:sp>
          <p:nvSpPr>
            <p:cNvPr id="3057" name=""/>
            <p:cNvSpPr/>
            <p:nvPr/>
          </p:nvSpPr>
          <p:spPr>
            <a:xfrm>
              <a:off x="24386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V="1">
              <a:off x="25909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7435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25909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3623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2819520" y="3352680"/>
            <a:ext cx="457200" cy="457200"/>
            <a:chOff x="2819520" y="3352680"/>
            <a:chExt cx="457200" cy="457200"/>
          </a:xfrm>
        </p:grpSpPr>
        <p:sp>
          <p:nvSpPr>
            <p:cNvPr id="3063" name=""/>
            <p:cNvSpPr/>
            <p:nvPr/>
          </p:nvSpPr>
          <p:spPr>
            <a:xfrm>
              <a:off x="2895840" y="34290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304812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20076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3048120" y="3733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81952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3276720" y="3809880"/>
            <a:ext cx="457200" cy="457200"/>
            <a:chOff x="3276720" y="3809880"/>
            <a:chExt cx="457200" cy="457200"/>
          </a:xfrm>
        </p:grpSpPr>
        <p:sp>
          <p:nvSpPr>
            <p:cNvPr id="3069" name=""/>
            <p:cNvSpPr/>
            <p:nvPr/>
          </p:nvSpPr>
          <p:spPr>
            <a:xfrm>
              <a:off x="33530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35053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6579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5053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2767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3733920" y="3809880"/>
            <a:ext cx="457200" cy="457200"/>
            <a:chOff x="3733920" y="3809880"/>
            <a:chExt cx="457200" cy="457200"/>
          </a:xfrm>
        </p:grpSpPr>
        <p:sp>
          <p:nvSpPr>
            <p:cNvPr id="3075" name=""/>
            <p:cNvSpPr/>
            <p:nvPr/>
          </p:nvSpPr>
          <p:spPr>
            <a:xfrm>
              <a:off x="38102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3962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1151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9625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7339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4191120" y="3809880"/>
            <a:ext cx="457200" cy="457200"/>
            <a:chOff x="4191120" y="3809880"/>
            <a:chExt cx="457200" cy="457200"/>
          </a:xfrm>
        </p:grpSpPr>
        <p:sp>
          <p:nvSpPr>
            <p:cNvPr id="3081" name=""/>
            <p:cNvSpPr/>
            <p:nvPr/>
          </p:nvSpPr>
          <p:spPr>
            <a:xfrm>
              <a:off x="42674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4419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5723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44197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1911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6" name=""/>
          <p:cNvGrpSpPr/>
          <p:nvPr/>
        </p:nvGrpSpPr>
        <p:grpSpPr>
          <a:xfrm>
            <a:off x="4648320" y="3809880"/>
            <a:ext cx="457200" cy="457200"/>
            <a:chOff x="4648320" y="3809880"/>
            <a:chExt cx="457200" cy="457200"/>
          </a:xfrm>
        </p:grpSpPr>
        <p:sp>
          <p:nvSpPr>
            <p:cNvPr id="3087" name=""/>
            <p:cNvSpPr/>
            <p:nvPr/>
          </p:nvSpPr>
          <p:spPr>
            <a:xfrm>
              <a:off x="47246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8769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0295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48769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6483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2" name=""/>
          <p:cNvGrpSpPr/>
          <p:nvPr/>
        </p:nvGrpSpPr>
        <p:grpSpPr>
          <a:xfrm>
            <a:off x="1447920" y="3809880"/>
            <a:ext cx="457200" cy="457200"/>
            <a:chOff x="1447920" y="3809880"/>
            <a:chExt cx="457200" cy="457200"/>
          </a:xfrm>
        </p:grpSpPr>
        <p:sp>
          <p:nvSpPr>
            <p:cNvPr id="3093" name=""/>
            <p:cNvSpPr/>
            <p:nvPr/>
          </p:nvSpPr>
          <p:spPr>
            <a:xfrm>
              <a:off x="15242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V="1">
              <a:off x="1676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8291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16765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4479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1905120" y="3809880"/>
            <a:ext cx="457200" cy="457200"/>
            <a:chOff x="1905120" y="3809880"/>
            <a:chExt cx="457200" cy="457200"/>
          </a:xfrm>
        </p:grpSpPr>
        <p:sp>
          <p:nvSpPr>
            <p:cNvPr id="3099" name=""/>
            <p:cNvSpPr/>
            <p:nvPr/>
          </p:nvSpPr>
          <p:spPr>
            <a:xfrm>
              <a:off x="19814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2133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863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1337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9051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4" name=""/>
          <p:cNvGrpSpPr/>
          <p:nvPr/>
        </p:nvGrpSpPr>
        <p:grpSpPr>
          <a:xfrm>
            <a:off x="2362320" y="3809880"/>
            <a:ext cx="457200" cy="457200"/>
            <a:chOff x="2362320" y="3809880"/>
            <a:chExt cx="457200" cy="457200"/>
          </a:xfrm>
        </p:grpSpPr>
        <p:sp>
          <p:nvSpPr>
            <p:cNvPr id="3105" name=""/>
            <p:cNvSpPr/>
            <p:nvPr/>
          </p:nvSpPr>
          <p:spPr>
            <a:xfrm>
              <a:off x="24386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25909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7435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V="1">
              <a:off x="25909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3623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2819520" y="3809880"/>
            <a:ext cx="457200" cy="457200"/>
            <a:chOff x="2819520" y="3809880"/>
            <a:chExt cx="457200" cy="457200"/>
          </a:xfrm>
        </p:grpSpPr>
        <p:sp>
          <p:nvSpPr>
            <p:cNvPr id="3111" name=""/>
            <p:cNvSpPr/>
            <p:nvPr/>
          </p:nvSpPr>
          <p:spPr>
            <a:xfrm>
              <a:off x="2895840" y="38862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30481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200760" y="4038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V="1">
              <a:off x="3048120" y="4190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819520" y="4038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6" name=""/>
          <p:cNvGrpSpPr/>
          <p:nvPr/>
        </p:nvGrpSpPr>
        <p:grpSpPr>
          <a:xfrm>
            <a:off x="3276720" y="4267080"/>
            <a:ext cx="457200" cy="457200"/>
            <a:chOff x="3276720" y="4267080"/>
            <a:chExt cx="457200" cy="457200"/>
          </a:xfrm>
        </p:grpSpPr>
        <p:sp>
          <p:nvSpPr>
            <p:cNvPr id="3117" name=""/>
            <p:cNvSpPr/>
            <p:nvPr/>
          </p:nvSpPr>
          <p:spPr>
            <a:xfrm>
              <a:off x="33530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flipV="1">
              <a:off x="35053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6579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35053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2767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2" name=""/>
          <p:cNvGrpSpPr/>
          <p:nvPr/>
        </p:nvGrpSpPr>
        <p:grpSpPr>
          <a:xfrm>
            <a:off x="3733920" y="4267080"/>
            <a:ext cx="457200" cy="457200"/>
            <a:chOff x="3733920" y="4267080"/>
            <a:chExt cx="457200" cy="457200"/>
          </a:xfrm>
        </p:grpSpPr>
        <p:sp>
          <p:nvSpPr>
            <p:cNvPr id="3123" name=""/>
            <p:cNvSpPr/>
            <p:nvPr/>
          </p:nvSpPr>
          <p:spPr>
            <a:xfrm>
              <a:off x="38102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flipV="1">
              <a:off x="39625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1151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39625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733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8" name=""/>
          <p:cNvGrpSpPr/>
          <p:nvPr/>
        </p:nvGrpSpPr>
        <p:grpSpPr>
          <a:xfrm>
            <a:off x="4191120" y="4267080"/>
            <a:ext cx="457200" cy="457200"/>
            <a:chOff x="4191120" y="4267080"/>
            <a:chExt cx="457200" cy="457200"/>
          </a:xfrm>
        </p:grpSpPr>
        <p:sp>
          <p:nvSpPr>
            <p:cNvPr id="3129" name=""/>
            <p:cNvSpPr/>
            <p:nvPr/>
          </p:nvSpPr>
          <p:spPr>
            <a:xfrm>
              <a:off x="42674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44197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5723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V="1">
              <a:off x="44197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1911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4648320" y="4267080"/>
            <a:ext cx="457200" cy="457200"/>
            <a:chOff x="4648320" y="4267080"/>
            <a:chExt cx="457200" cy="457200"/>
          </a:xfrm>
        </p:grpSpPr>
        <p:sp>
          <p:nvSpPr>
            <p:cNvPr id="3135" name=""/>
            <p:cNvSpPr/>
            <p:nvPr/>
          </p:nvSpPr>
          <p:spPr>
            <a:xfrm>
              <a:off x="47246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48769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0295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48769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6483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0" name=""/>
          <p:cNvGrpSpPr/>
          <p:nvPr/>
        </p:nvGrpSpPr>
        <p:grpSpPr>
          <a:xfrm>
            <a:off x="1447920" y="4267080"/>
            <a:ext cx="457200" cy="457200"/>
            <a:chOff x="1447920" y="4267080"/>
            <a:chExt cx="457200" cy="457200"/>
          </a:xfrm>
        </p:grpSpPr>
        <p:sp>
          <p:nvSpPr>
            <p:cNvPr id="3141" name=""/>
            <p:cNvSpPr/>
            <p:nvPr/>
          </p:nvSpPr>
          <p:spPr>
            <a:xfrm>
              <a:off x="15242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16765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8291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16765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447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1905120" y="4267080"/>
            <a:ext cx="457200" cy="457200"/>
            <a:chOff x="1905120" y="4267080"/>
            <a:chExt cx="457200" cy="457200"/>
          </a:xfrm>
        </p:grpSpPr>
        <p:sp>
          <p:nvSpPr>
            <p:cNvPr id="3147" name=""/>
            <p:cNvSpPr/>
            <p:nvPr/>
          </p:nvSpPr>
          <p:spPr>
            <a:xfrm>
              <a:off x="19814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21337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863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21337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9051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2" name=""/>
          <p:cNvGrpSpPr/>
          <p:nvPr/>
        </p:nvGrpSpPr>
        <p:grpSpPr>
          <a:xfrm>
            <a:off x="2362320" y="4267080"/>
            <a:ext cx="457200" cy="457200"/>
            <a:chOff x="2362320" y="4267080"/>
            <a:chExt cx="457200" cy="457200"/>
          </a:xfrm>
        </p:grpSpPr>
        <p:sp>
          <p:nvSpPr>
            <p:cNvPr id="3153" name=""/>
            <p:cNvSpPr/>
            <p:nvPr/>
          </p:nvSpPr>
          <p:spPr>
            <a:xfrm>
              <a:off x="24386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5909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7435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25909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3623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8" name=""/>
          <p:cNvGrpSpPr/>
          <p:nvPr/>
        </p:nvGrpSpPr>
        <p:grpSpPr>
          <a:xfrm>
            <a:off x="2819520" y="4267080"/>
            <a:ext cx="457200" cy="457200"/>
            <a:chOff x="2819520" y="4267080"/>
            <a:chExt cx="457200" cy="457200"/>
          </a:xfrm>
        </p:grpSpPr>
        <p:sp>
          <p:nvSpPr>
            <p:cNvPr id="3159" name=""/>
            <p:cNvSpPr/>
            <p:nvPr/>
          </p:nvSpPr>
          <p:spPr>
            <a:xfrm>
              <a:off x="2895840" y="43434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V="1">
              <a:off x="304812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20076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3048120" y="4647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195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3276720" y="4724280"/>
            <a:ext cx="457200" cy="457200"/>
            <a:chOff x="3276720" y="4724280"/>
            <a:chExt cx="457200" cy="457200"/>
          </a:xfrm>
        </p:grpSpPr>
        <p:sp>
          <p:nvSpPr>
            <p:cNvPr id="3165" name=""/>
            <p:cNvSpPr/>
            <p:nvPr/>
          </p:nvSpPr>
          <p:spPr>
            <a:xfrm>
              <a:off x="33530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35053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6579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35053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2767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0" name=""/>
          <p:cNvGrpSpPr/>
          <p:nvPr/>
        </p:nvGrpSpPr>
        <p:grpSpPr>
          <a:xfrm>
            <a:off x="3733920" y="4724280"/>
            <a:ext cx="457200" cy="457200"/>
            <a:chOff x="3733920" y="4724280"/>
            <a:chExt cx="457200" cy="457200"/>
          </a:xfrm>
        </p:grpSpPr>
        <p:sp>
          <p:nvSpPr>
            <p:cNvPr id="3171" name=""/>
            <p:cNvSpPr/>
            <p:nvPr/>
          </p:nvSpPr>
          <p:spPr>
            <a:xfrm>
              <a:off x="38102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39625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151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39625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7339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6" name=""/>
          <p:cNvGrpSpPr/>
          <p:nvPr/>
        </p:nvGrpSpPr>
        <p:grpSpPr>
          <a:xfrm>
            <a:off x="4191120" y="4724280"/>
            <a:ext cx="457200" cy="457200"/>
            <a:chOff x="4191120" y="4724280"/>
            <a:chExt cx="457200" cy="457200"/>
          </a:xfrm>
        </p:grpSpPr>
        <p:sp>
          <p:nvSpPr>
            <p:cNvPr id="3177" name=""/>
            <p:cNvSpPr/>
            <p:nvPr/>
          </p:nvSpPr>
          <p:spPr>
            <a:xfrm>
              <a:off x="42674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44197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723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44197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1911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2" name=""/>
          <p:cNvGrpSpPr/>
          <p:nvPr/>
        </p:nvGrpSpPr>
        <p:grpSpPr>
          <a:xfrm>
            <a:off x="4648320" y="4724280"/>
            <a:ext cx="457200" cy="457200"/>
            <a:chOff x="4648320" y="4724280"/>
            <a:chExt cx="457200" cy="457200"/>
          </a:xfrm>
        </p:grpSpPr>
        <p:sp>
          <p:nvSpPr>
            <p:cNvPr id="3183" name=""/>
            <p:cNvSpPr/>
            <p:nvPr/>
          </p:nvSpPr>
          <p:spPr>
            <a:xfrm>
              <a:off x="47246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V="1">
              <a:off x="48769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295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48769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6483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1447920" y="4724280"/>
            <a:ext cx="457200" cy="457200"/>
            <a:chOff x="1447920" y="4724280"/>
            <a:chExt cx="457200" cy="457200"/>
          </a:xfrm>
        </p:grpSpPr>
        <p:sp>
          <p:nvSpPr>
            <p:cNvPr id="3189" name=""/>
            <p:cNvSpPr/>
            <p:nvPr/>
          </p:nvSpPr>
          <p:spPr>
            <a:xfrm>
              <a:off x="15242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16765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8291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V="1">
              <a:off x="16765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4479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4" name=""/>
          <p:cNvGrpSpPr/>
          <p:nvPr/>
        </p:nvGrpSpPr>
        <p:grpSpPr>
          <a:xfrm>
            <a:off x="1905120" y="4724280"/>
            <a:ext cx="457200" cy="457200"/>
            <a:chOff x="1905120" y="4724280"/>
            <a:chExt cx="457200" cy="457200"/>
          </a:xfrm>
        </p:grpSpPr>
        <p:sp>
          <p:nvSpPr>
            <p:cNvPr id="3195" name=""/>
            <p:cNvSpPr/>
            <p:nvPr/>
          </p:nvSpPr>
          <p:spPr>
            <a:xfrm>
              <a:off x="19814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21337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863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V="1">
              <a:off x="21337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9051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2362320" y="4724280"/>
            <a:ext cx="457200" cy="457200"/>
            <a:chOff x="2362320" y="4724280"/>
            <a:chExt cx="457200" cy="457200"/>
          </a:xfrm>
        </p:grpSpPr>
        <p:sp>
          <p:nvSpPr>
            <p:cNvPr id="3201" name=""/>
            <p:cNvSpPr/>
            <p:nvPr/>
          </p:nvSpPr>
          <p:spPr>
            <a:xfrm>
              <a:off x="24386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25909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7435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V="1">
              <a:off x="25909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3623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2819520" y="4724280"/>
            <a:ext cx="457200" cy="457200"/>
            <a:chOff x="2819520" y="4724280"/>
            <a:chExt cx="457200" cy="457200"/>
          </a:xfrm>
        </p:grpSpPr>
        <p:sp>
          <p:nvSpPr>
            <p:cNvPr id="3207" name=""/>
            <p:cNvSpPr/>
            <p:nvPr/>
          </p:nvSpPr>
          <p:spPr>
            <a:xfrm>
              <a:off x="2895840" y="48006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304812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200760" y="4952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3048120" y="5105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819520" y="4952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3276720" y="5181480"/>
            <a:ext cx="457200" cy="457200"/>
            <a:chOff x="3276720" y="5181480"/>
            <a:chExt cx="457200" cy="457200"/>
          </a:xfrm>
        </p:grpSpPr>
        <p:sp>
          <p:nvSpPr>
            <p:cNvPr id="3213" name=""/>
            <p:cNvSpPr/>
            <p:nvPr/>
          </p:nvSpPr>
          <p:spPr>
            <a:xfrm>
              <a:off x="33530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V="1">
              <a:off x="35053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6579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35053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2767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3733920" y="5181480"/>
            <a:ext cx="457200" cy="457200"/>
            <a:chOff x="3733920" y="5181480"/>
            <a:chExt cx="457200" cy="457200"/>
          </a:xfrm>
        </p:grpSpPr>
        <p:sp>
          <p:nvSpPr>
            <p:cNvPr id="3219" name=""/>
            <p:cNvSpPr/>
            <p:nvPr/>
          </p:nvSpPr>
          <p:spPr>
            <a:xfrm>
              <a:off x="38102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39625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1151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39625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339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4191120" y="5181480"/>
            <a:ext cx="457200" cy="457200"/>
            <a:chOff x="4191120" y="5181480"/>
            <a:chExt cx="457200" cy="457200"/>
          </a:xfrm>
        </p:grpSpPr>
        <p:sp>
          <p:nvSpPr>
            <p:cNvPr id="3225" name=""/>
            <p:cNvSpPr/>
            <p:nvPr/>
          </p:nvSpPr>
          <p:spPr>
            <a:xfrm>
              <a:off x="42674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V="1">
              <a:off x="44197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5723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44197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1911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0" name=""/>
          <p:cNvGrpSpPr/>
          <p:nvPr/>
        </p:nvGrpSpPr>
        <p:grpSpPr>
          <a:xfrm>
            <a:off x="4648320" y="5181480"/>
            <a:ext cx="457200" cy="457200"/>
            <a:chOff x="4648320" y="5181480"/>
            <a:chExt cx="457200" cy="457200"/>
          </a:xfrm>
        </p:grpSpPr>
        <p:sp>
          <p:nvSpPr>
            <p:cNvPr id="3231" name=""/>
            <p:cNvSpPr/>
            <p:nvPr/>
          </p:nvSpPr>
          <p:spPr>
            <a:xfrm>
              <a:off x="47246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48769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0295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48769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6483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1447920" y="5181480"/>
            <a:ext cx="457200" cy="457200"/>
            <a:chOff x="1447920" y="5181480"/>
            <a:chExt cx="457200" cy="457200"/>
          </a:xfrm>
        </p:grpSpPr>
        <p:sp>
          <p:nvSpPr>
            <p:cNvPr id="3237" name=""/>
            <p:cNvSpPr/>
            <p:nvPr/>
          </p:nvSpPr>
          <p:spPr>
            <a:xfrm>
              <a:off x="15242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16765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18291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16765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4479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1905120" y="5181480"/>
            <a:ext cx="457200" cy="457200"/>
            <a:chOff x="1905120" y="5181480"/>
            <a:chExt cx="457200" cy="457200"/>
          </a:xfrm>
        </p:grpSpPr>
        <p:sp>
          <p:nvSpPr>
            <p:cNvPr id="3243" name=""/>
            <p:cNvSpPr/>
            <p:nvPr/>
          </p:nvSpPr>
          <p:spPr>
            <a:xfrm>
              <a:off x="19814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21337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2863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21337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9051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2362320" y="5181480"/>
            <a:ext cx="457200" cy="457200"/>
            <a:chOff x="2362320" y="5181480"/>
            <a:chExt cx="457200" cy="457200"/>
          </a:xfrm>
        </p:grpSpPr>
        <p:sp>
          <p:nvSpPr>
            <p:cNvPr id="3249" name=""/>
            <p:cNvSpPr/>
            <p:nvPr/>
          </p:nvSpPr>
          <p:spPr>
            <a:xfrm>
              <a:off x="24386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25909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7435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25909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623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4" name=""/>
          <p:cNvGrpSpPr/>
          <p:nvPr/>
        </p:nvGrpSpPr>
        <p:grpSpPr>
          <a:xfrm>
            <a:off x="2819520" y="5181480"/>
            <a:ext cx="457200" cy="457200"/>
            <a:chOff x="2819520" y="5181480"/>
            <a:chExt cx="457200" cy="457200"/>
          </a:xfrm>
        </p:grpSpPr>
        <p:sp>
          <p:nvSpPr>
            <p:cNvPr id="3255" name=""/>
            <p:cNvSpPr/>
            <p:nvPr/>
          </p:nvSpPr>
          <p:spPr>
            <a:xfrm>
              <a:off x="2895840" y="5257800"/>
              <a:ext cx="304920" cy="3045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304812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200760" y="5410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048120" y="5562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819520" y="5410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0" name=""/>
          <p:cNvSpPr/>
          <p:nvPr/>
        </p:nvSpPr>
        <p:spPr>
          <a:xfrm>
            <a:off x="3811320" y="28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98324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2860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27432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6576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V="1">
            <a:off x="3962520" y="449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 flipV="1">
            <a:off x="396252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3962520" y="35809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 flipV="1">
            <a:off x="39625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3200400" y="4952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1676520" y="49528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 flipV="1">
            <a:off x="1676520" y="44953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V="1">
            <a:off x="1676520" y="40381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676520" y="35809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1676520" y="31237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 flipH="1">
            <a:off x="18284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 flipH="1">
            <a:off x="22856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27428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 flipH="1">
            <a:off x="32000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 flipH="1">
            <a:off x="3657240" y="266688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962520" y="2819520"/>
            <a:ext cx="0" cy="3045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525320" y="2438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410080" y="388620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expected path-length is dou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123-F09A-4600-9A07-E245E65294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asics of Network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be integrated with the processors or they can be a separate interconnection topology -- the two approaches are logic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14400" y="3581280"/>
            <a:ext cx="1905120" cy="1905120"/>
            <a:chOff x="914400" y="3581280"/>
            <a:chExt cx="1905120" cy="1905120"/>
          </a:xfrm>
        </p:grpSpPr>
        <p:grpSp>
          <p:nvGrpSpPr>
            <p:cNvPr id="49" name=""/>
            <p:cNvGrpSpPr/>
            <p:nvPr/>
          </p:nvGrpSpPr>
          <p:grpSpPr>
            <a:xfrm>
              <a:off x="914400" y="3581280"/>
              <a:ext cx="1828800" cy="457200"/>
              <a:chOff x="914400" y="3581280"/>
              <a:chExt cx="1828800" cy="45720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914400" y="3581280"/>
                <a:ext cx="457200" cy="457200"/>
                <a:chOff x="914400" y="3581280"/>
                <a:chExt cx="457200" cy="457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9144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1430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907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371600" y="3581280"/>
                <a:ext cx="457200" cy="457200"/>
                <a:chOff x="1371600" y="3581280"/>
                <a:chExt cx="457200" cy="4572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3716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6002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4479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1828800" y="3581280"/>
                <a:ext cx="457200" cy="457200"/>
                <a:chOff x="1828800" y="3581280"/>
                <a:chExt cx="457200" cy="4572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8288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0574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9051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2286000" y="3581280"/>
                <a:ext cx="457200" cy="457200"/>
                <a:chOff x="2286000" y="3581280"/>
                <a:chExt cx="457200" cy="4572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2286000" y="3809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514600" y="35812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362320" y="36576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914400" y="3809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4400" y="40384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743200" y="3809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914400" y="4038480"/>
              <a:ext cx="1828800" cy="457200"/>
              <a:chOff x="914400" y="4038480"/>
              <a:chExt cx="1828800" cy="45720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400" y="4038480"/>
                <a:ext cx="457200" cy="457200"/>
                <a:chOff x="914400" y="4038480"/>
                <a:chExt cx="457200" cy="457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9144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1430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907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371600" y="4038480"/>
                <a:ext cx="457200" cy="457200"/>
                <a:chOff x="1371600" y="4038480"/>
                <a:chExt cx="457200" cy="4572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3716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6002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4479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28800" y="4038480"/>
                <a:ext cx="457200" cy="457200"/>
                <a:chOff x="1828800" y="4038480"/>
                <a:chExt cx="457200" cy="457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8288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0574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051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286000" y="4038480"/>
                <a:ext cx="457200" cy="457200"/>
                <a:chOff x="2286000" y="4038480"/>
                <a:chExt cx="457200" cy="4572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286000" y="4267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514600" y="4038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62320" y="41148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914400" y="4267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14400" y="4495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743200" y="4266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14400" y="4495680"/>
              <a:ext cx="1828800" cy="457200"/>
              <a:chOff x="914400" y="4495680"/>
              <a:chExt cx="1828800" cy="4572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914400" y="4495680"/>
                <a:ext cx="457200" cy="457200"/>
                <a:chOff x="914400" y="4495680"/>
                <a:chExt cx="457200" cy="4572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9144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1430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9907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371600" y="4495680"/>
                <a:ext cx="457200" cy="457200"/>
                <a:chOff x="1371600" y="4495680"/>
                <a:chExt cx="457200" cy="457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3716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6002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4479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828800" y="4495680"/>
                <a:ext cx="457200" cy="457200"/>
                <a:chOff x="1828800" y="4495680"/>
                <a:chExt cx="457200" cy="457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8288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0574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051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286000" y="4495680"/>
                <a:ext cx="457200" cy="457200"/>
                <a:chOff x="2286000" y="4495680"/>
                <a:chExt cx="457200" cy="457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28600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514600" y="4495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362320" y="45720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914400" y="4724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4400" y="49528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743200" y="47239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914400" y="4952880"/>
              <a:ext cx="1828800" cy="457200"/>
              <a:chOff x="914400" y="4952880"/>
              <a:chExt cx="1828800" cy="457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914400" y="4952880"/>
                <a:ext cx="457200" cy="457200"/>
                <a:chOff x="914400" y="4952880"/>
                <a:chExt cx="457200" cy="45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9144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430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907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371600" y="4952880"/>
                <a:ext cx="457200" cy="457200"/>
                <a:chOff x="1371600" y="4952880"/>
                <a:chExt cx="457200" cy="4572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716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002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479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828800" y="4952880"/>
                <a:ext cx="457200" cy="457200"/>
                <a:chOff x="1828800" y="4952880"/>
                <a:chExt cx="457200" cy="45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8288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4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051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286000" y="4952880"/>
                <a:ext cx="457200" cy="457200"/>
                <a:chOff x="2286000" y="4952880"/>
                <a:chExt cx="457200" cy="4572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286000" y="5181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514600" y="495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62320" y="5029200"/>
                  <a:ext cx="304560" cy="3049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91440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4400" y="5410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743200" y="5181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1430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3716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142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02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8288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599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4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57400" y="5486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28600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57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46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819520" y="3581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14240" y="3581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800600" y="3962520"/>
            <a:ext cx="2438280" cy="2361960"/>
            <a:chOff x="4800600" y="3962520"/>
            <a:chExt cx="2438280" cy="2361960"/>
          </a:xfrm>
        </p:grpSpPr>
        <p:sp>
          <p:nvSpPr>
            <p:cNvPr id="146" name=""/>
            <p:cNvSpPr/>
            <p:nvPr/>
          </p:nvSpPr>
          <p:spPr>
            <a:xfrm flipH="1" flipV="1">
              <a:off x="5562000" y="47239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638320" y="46479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00600" y="3962520"/>
              <a:ext cx="2438280" cy="2361960"/>
              <a:chOff x="4800600" y="3962520"/>
              <a:chExt cx="2438280" cy="2361960"/>
            </a:xfrm>
          </p:grpSpPr>
          <p:sp>
            <p:nvSpPr>
              <p:cNvPr id="149" name=""/>
              <p:cNvSpPr/>
              <p:nvPr/>
            </p:nvSpPr>
            <p:spPr>
              <a:xfrm>
                <a:off x="5943600" y="39625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95880" y="39625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0600" y="50292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00600" y="51814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15000" y="48006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4495680" y="3124080"/>
            <a:ext cx="1143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143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1911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495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7242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124080"/>
            <a:ext cx="1143000" cy="16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4952880"/>
            <a:ext cx="45720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6477120" y="4914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324480" y="3657600"/>
            <a:ext cx="2133720" cy="533520"/>
            <a:chOff x="6324480" y="3657600"/>
            <a:chExt cx="2133720" cy="533520"/>
          </a:xfrm>
        </p:grpSpPr>
        <p:sp>
          <p:nvSpPr>
            <p:cNvPr id="163" name=""/>
            <p:cNvSpPr/>
            <p:nvPr/>
          </p:nvSpPr>
          <p:spPr>
            <a:xfrm>
              <a:off x="6781680" y="3733920"/>
              <a:ext cx="16765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286320" y="3695760"/>
              <a:ext cx="53352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70920" y="37400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853600" y="491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105520"/>
            <a:ext cx="12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o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est 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ACE-D871-4380-A8C2-243CD062B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daptive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routers try to make routing decisions adaptively to by-pas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inimal adaptiv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daptive path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hortest path;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minimal ad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y path i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518148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7" name=""/>
          <p:cNvGrpSpPr/>
          <p:nvPr/>
        </p:nvGrpSpPr>
        <p:grpSpPr>
          <a:xfrm>
            <a:off x="6477120" y="2743200"/>
            <a:ext cx="457200" cy="457200"/>
            <a:chOff x="6477120" y="2743200"/>
            <a:chExt cx="457200" cy="457200"/>
          </a:xfrm>
        </p:grpSpPr>
        <p:sp>
          <p:nvSpPr>
            <p:cNvPr id="3288" name=""/>
            <p:cNvSpPr/>
            <p:nvPr/>
          </p:nvSpPr>
          <p:spPr>
            <a:xfrm>
              <a:off x="65534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67057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8583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V="1">
              <a:off x="67057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4771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6934320" y="2743200"/>
            <a:ext cx="457200" cy="457200"/>
            <a:chOff x="6934320" y="2743200"/>
            <a:chExt cx="457200" cy="457200"/>
          </a:xfrm>
        </p:grpSpPr>
        <p:sp>
          <p:nvSpPr>
            <p:cNvPr id="3294" name=""/>
            <p:cNvSpPr/>
            <p:nvPr/>
          </p:nvSpPr>
          <p:spPr>
            <a:xfrm>
              <a:off x="7010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7162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315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7162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934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7391520" y="2743200"/>
            <a:ext cx="457200" cy="457200"/>
            <a:chOff x="7391520" y="2743200"/>
            <a:chExt cx="457200" cy="457200"/>
          </a:xfrm>
        </p:grpSpPr>
        <p:sp>
          <p:nvSpPr>
            <p:cNvPr id="3300" name=""/>
            <p:cNvSpPr/>
            <p:nvPr/>
          </p:nvSpPr>
          <p:spPr>
            <a:xfrm>
              <a:off x="7467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7620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772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7620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391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7848720" y="2743200"/>
            <a:ext cx="457200" cy="457200"/>
            <a:chOff x="7848720" y="2743200"/>
            <a:chExt cx="457200" cy="457200"/>
          </a:xfrm>
        </p:grpSpPr>
        <p:sp>
          <p:nvSpPr>
            <p:cNvPr id="3306" name=""/>
            <p:cNvSpPr/>
            <p:nvPr/>
          </p:nvSpPr>
          <p:spPr>
            <a:xfrm>
              <a:off x="7925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8077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229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8077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48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4648320" y="2743200"/>
            <a:ext cx="457200" cy="457200"/>
            <a:chOff x="4648320" y="2743200"/>
            <a:chExt cx="457200" cy="457200"/>
          </a:xfrm>
        </p:grpSpPr>
        <p:sp>
          <p:nvSpPr>
            <p:cNvPr id="3312" name=""/>
            <p:cNvSpPr/>
            <p:nvPr/>
          </p:nvSpPr>
          <p:spPr>
            <a:xfrm>
              <a:off x="47246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V="1">
              <a:off x="48769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0295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48769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6483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5105520" y="2743200"/>
            <a:ext cx="457200" cy="457200"/>
            <a:chOff x="5105520" y="2743200"/>
            <a:chExt cx="457200" cy="457200"/>
          </a:xfrm>
        </p:grpSpPr>
        <p:sp>
          <p:nvSpPr>
            <p:cNvPr id="3318" name=""/>
            <p:cNvSpPr/>
            <p:nvPr/>
          </p:nvSpPr>
          <p:spPr>
            <a:xfrm>
              <a:off x="51818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53341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4867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V="1">
              <a:off x="5334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1055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5562720" y="2743200"/>
            <a:ext cx="457200" cy="457200"/>
            <a:chOff x="5562720" y="2743200"/>
            <a:chExt cx="457200" cy="457200"/>
          </a:xfrm>
        </p:grpSpPr>
        <p:sp>
          <p:nvSpPr>
            <p:cNvPr id="3324" name=""/>
            <p:cNvSpPr/>
            <p:nvPr/>
          </p:nvSpPr>
          <p:spPr>
            <a:xfrm>
              <a:off x="56390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57913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9439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V="1">
              <a:off x="57913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5627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6019920" y="2743200"/>
            <a:ext cx="457200" cy="457200"/>
            <a:chOff x="6019920" y="2743200"/>
            <a:chExt cx="457200" cy="457200"/>
          </a:xfrm>
        </p:grpSpPr>
        <p:sp>
          <p:nvSpPr>
            <p:cNvPr id="3330" name=""/>
            <p:cNvSpPr/>
            <p:nvPr/>
          </p:nvSpPr>
          <p:spPr>
            <a:xfrm>
              <a:off x="609624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62485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4011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V="1">
              <a:off x="62485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0199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6477120" y="3200400"/>
            <a:ext cx="457200" cy="457200"/>
            <a:chOff x="6477120" y="3200400"/>
            <a:chExt cx="457200" cy="457200"/>
          </a:xfrm>
        </p:grpSpPr>
        <p:sp>
          <p:nvSpPr>
            <p:cNvPr id="3336" name=""/>
            <p:cNvSpPr/>
            <p:nvPr/>
          </p:nvSpPr>
          <p:spPr>
            <a:xfrm>
              <a:off x="65534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67057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68583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67057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64771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6934320" y="3200400"/>
            <a:ext cx="457200" cy="457200"/>
            <a:chOff x="6934320" y="3200400"/>
            <a:chExt cx="457200" cy="457200"/>
          </a:xfrm>
        </p:grpSpPr>
        <p:sp>
          <p:nvSpPr>
            <p:cNvPr id="3342" name=""/>
            <p:cNvSpPr/>
            <p:nvPr/>
          </p:nvSpPr>
          <p:spPr>
            <a:xfrm>
              <a:off x="7010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7162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315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7162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6934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7391520" y="3200400"/>
            <a:ext cx="457200" cy="457200"/>
            <a:chOff x="7391520" y="3200400"/>
            <a:chExt cx="457200" cy="457200"/>
          </a:xfrm>
        </p:grpSpPr>
        <p:sp>
          <p:nvSpPr>
            <p:cNvPr id="3348" name=""/>
            <p:cNvSpPr/>
            <p:nvPr/>
          </p:nvSpPr>
          <p:spPr>
            <a:xfrm>
              <a:off x="7467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7620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772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7620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391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7848720" y="3200400"/>
            <a:ext cx="457200" cy="457200"/>
            <a:chOff x="7848720" y="3200400"/>
            <a:chExt cx="457200" cy="457200"/>
          </a:xfrm>
        </p:grpSpPr>
        <p:sp>
          <p:nvSpPr>
            <p:cNvPr id="3354" name=""/>
            <p:cNvSpPr/>
            <p:nvPr/>
          </p:nvSpPr>
          <p:spPr>
            <a:xfrm>
              <a:off x="7925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8077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29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8077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848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4648320" y="3200400"/>
            <a:ext cx="457200" cy="457200"/>
            <a:chOff x="4648320" y="3200400"/>
            <a:chExt cx="457200" cy="457200"/>
          </a:xfrm>
        </p:grpSpPr>
        <p:sp>
          <p:nvSpPr>
            <p:cNvPr id="3360" name=""/>
            <p:cNvSpPr/>
            <p:nvPr/>
          </p:nvSpPr>
          <p:spPr>
            <a:xfrm>
              <a:off x="47246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48769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0295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48769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6483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5" name=""/>
          <p:cNvGrpSpPr/>
          <p:nvPr/>
        </p:nvGrpSpPr>
        <p:grpSpPr>
          <a:xfrm>
            <a:off x="5105520" y="3200400"/>
            <a:ext cx="457200" cy="457200"/>
            <a:chOff x="5105520" y="3200400"/>
            <a:chExt cx="457200" cy="457200"/>
          </a:xfrm>
        </p:grpSpPr>
        <p:sp>
          <p:nvSpPr>
            <p:cNvPr id="3366" name=""/>
            <p:cNvSpPr/>
            <p:nvPr/>
          </p:nvSpPr>
          <p:spPr>
            <a:xfrm>
              <a:off x="51818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53341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4867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53341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1055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5562720" y="3200400"/>
            <a:ext cx="457200" cy="457200"/>
            <a:chOff x="5562720" y="3200400"/>
            <a:chExt cx="457200" cy="457200"/>
          </a:xfrm>
        </p:grpSpPr>
        <p:sp>
          <p:nvSpPr>
            <p:cNvPr id="3372" name=""/>
            <p:cNvSpPr/>
            <p:nvPr/>
          </p:nvSpPr>
          <p:spPr>
            <a:xfrm>
              <a:off x="56390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57913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9439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flipV="1">
              <a:off x="57913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5627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6019920" y="3200400"/>
            <a:ext cx="457200" cy="457200"/>
            <a:chOff x="6019920" y="3200400"/>
            <a:chExt cx="457200" cy="457200"/>
          </a:xfrm>
        </p:grpSpPr>
        <p:sp>
          <p:nvSpPr>
            <p:cNvPr id="3378" name=""/>
            <p:cNvSpPr/>
            <p:nvPr/>
          </p:nvSpPr>
          <p:spPr>
            <a:xfrm>
              <a:off x="609624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V="1">
              <a:off x="624852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640116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624852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01992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6477120" y="3657600"/>
            <a:ext cx="457200" cy="457200"/>
            <a:chOff x="6477120" y="3657600"/>
            <a:chExt cx="457200" cy="457200"/>
          </a:xfrm>
        </p:grpSpPr>
        <p:sp>
          <p:nvSpPr>
            <p:cNvPr id="3384" name=""/>
            <p:cNvSpPr/>
            <p:nvPr/>
          </p:nvSpPr>
          <p:spPr>
            <a:xfrm>
              <a:off x="65534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6705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68583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67057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4771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6934320" y="3657600"/>
            <a:ext cx="457200" cy="457200"/>
            <a:chOff x="6934320" y="3657600"/>
            <a:chExt cx="457200" cy="457200"/>
          </a:xfrm>
        </p:grpSpPr>
        <p:sp>
          <p:nvSpPr>
            <p:cNvPr id="3390" name=""/>
            <p:cNvSpPr/>
            <p:nvPr/>
          </p:nvSpPr>
          <p:spPr>
            <a:xfrm>
              <a:off x="7010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7162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315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7162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934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7391520" y="3657600"/>
            <a:ext cx="457200" cy="457200"/>
            <a:chOff x="7391520" y="3657600"/>
            <a:chExt cx="457200" cy="457200"/>
          </a:xfrm>
        </p:grpSpPr>
        <p:sp>
          <p:nvSpPr>
            <p:cNvPr id="3396" name=""/>
            <p:cNvSpPr/>
            <p:nvPr/>
          </p:nvSpPr>
          <p:spPr>
            <a:xfrm>
              <a:off x="7467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7620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772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V="1">
              <a:off x="7620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91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7848720" y="3657600"/>
            <a:ext cx="457200" cy="457200"/>
            <a:chOff x="7848720" y="3657600"/>
            <a:chExt cx="457200" cy="457200"/>
          </a:xfrm>
        </p:grpSpPr>
        <p:sp>
          <p:nvSpPr>
            <p:cNvPr id="3402" name=""/>
            <p:cNvSpPr/>
            <p:nvPr/>
          </p:nvSpPr>
          <p:spPr>
            <a:xfrm>
              <a:off x="7925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8077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229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48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4648320" y="3657600"/>
            <a:ext cx="457200" cy="457200"/>
            <a:chOff x="4648320" y="3657600"/>
            <a:chExt cx="457200" cy="457200"/>
          </a:xfrm>
        </p:grpSpPr>
        <p:sp>
          <p:nvSpPr>
            <p:cNvPr id="3408" name=""/>
            <p:cNvSpPr/>
            <p:nvPr/>
          </p:nvSpPr>
          <p:spPr>
            <a:xfrm>
              <a:off x="47246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0295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V="1">
              <a:off x="48769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6483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3" name=""/>
          <p:cNvGrpSpPr/>
          <p:nvPr/>
        </p:nvGrpSpPr>
        <p:grpSpPr>
          <a:xfrm>
            <a:off x="5105520" y="3657600"/>
            <a:ext cx="457200" cy="457200"/>
            <a:chOff x="5105520" y="3657600"/>
            <a:chExt cx="457200" cy="457200"/>
          </a:xfrm>
        </p:grpSpPr>
        <p:sp>
          <p:nvSpPr>
            <p:cNvPr id="3414" name=""/>
            <p:cNvSpPr/>
            <p:nvPr/>
          </p:nvSpPr>
          <p:spPr>
            <a:xfrm>
              <a:off x="51818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V="1">
              <a:off x="5334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4867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V="1">
              <a:off x="53341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1055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5562720" y="3657600"/>
            <a:ext cx="457200" cy="457200"/>
            <a:chOff x="5562720" y="3657600"/>
            <a:chExt cx="457200" cy="457200"/>
          </a:xfrm>
        </p:grpSpPr>
        <p:sp>
          <p:nvSpPr>
            <p:cNvPr id="3420" name=""/>
            <p:cNvSpPr/>
            <p:nvPr/>
          </p:nvSpPr>
          <p:spPr>
            <a:xfrm>
              <a:off x="56390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57913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439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57913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5627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5" name=""/>
          <p:cNvGrpSpPr/>
          <p:nvPr/>
        </p:nvGrpSpPr>
        <p:grpSpPr>
          <a:xfrm>
            <a:off x="6019920" y="3657600"/>
            <a:ext cx="457200" cy="457200"/>
            <a:chOff x="6019920" y="3657600"/>
            <a:chExt cx="457200" cy="457200"/>
          </a:xfrm>
        </p:grpSpPr>
        <p:sp>
          <p:nvSpPr>
            <p:cNvPr id="3426" name=""/>
            <p:cNvSpPr/>
            <p:nvPr/>
          </p:nvSpPr>
          <p:spPr>
            <a:xfrm>
              <a:off x="609624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V="1">
              <a:off x="6248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40116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624852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992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1" name=""/>
          <p:cNvGrpSpPr/>
          <p:nvPr/>
        </p:nvGrpSpPr>
        <p:grpSpPr>
          <a:xfrm>
            <a:off x="6477120" y="4114800"/>
            <a:ext cx="457200" cy="457200"/>
            <a:chOff x="6477120" y="4114800"/>
            <a:chExt cx="457200" cy="457200"/>
          </a:xfrm>
        </p:grpSpPr>
        <p:sp>
          <p:nvSpPr>
            <p:cNvPr id="3432" name=""/>
            <p:cNvSpPr/>
            <p:nvPr/>
          </p:nvSpPr>
          <p:spPr>
            <a:xfrm>
              <a:off x="65534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V="1">
              <a:off x="6705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8583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V="1">
              <a:off x="67057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4771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6934320" y="4114800"/>
            <a:ext cx="457200" cy="457200"/>
            <a:chOff x="6934320" y="4114800"/>
            <a:chExt cx="457200" cy="457200"/>
          </a:xfrm>
        </p:grpSpPr>
        <p:sp>
          <p:nvSpPr>
            <p:cNvPr id="3438" name=""/>
            <p:cNvSpPr/>
            <p:nvPr/>
          </p:nvSpPr>
          <p:spPr>
            <a:xfrm>
              <a:off x="7010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7162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315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V="1">
              <a:off x="7162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934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7391520" y="4114800"/>
            <a:ext cx="457200" cy="457200"/>
            <a:chOff x="7391520" y="4114800"/>
            <a:chExt cx="457200" cy="457200"/>
          </a:xfrm>
        </p:grpSpPr>
        <p:sp>
          <p:nvSpPr>
            <p:cNvPr id="3444" name=""/>
            <p:cNvSpPr/>
            <p:nvPr/>
          </p:nvSpPr>
          <p:spPr>
            <a:xfrm>
              <a:off x="7467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7620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772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7620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391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9" name=""/>
          <p:cNvGrpSpPr/>
          <p:nvPr/>
        </p:nvGrpSpPr>
        <p:grpSpPr>
          <a:xfrm>
            <a:off x="7848720" y="4114800"/>
            <a:ext cx="457200" cy="457200"/>
            <a:chOff x="7848720" y="4114800"/>
            <a:chExt cx="457200" cy="457200"/>
          </a:xfrm>
        </p:grpSpPr>
        <p:sp>
          <p:nvSpPr>
            <p:cNvPr id="3450" name=""/>
            <p:cNvSpPr/>
            <p:nvPr/>
          </p:nvSpPr>
          <p:spPr>
            <a:xfrm>
              <a:off x="7925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8077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229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8077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848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4648320" y="4114800"/>
            <a:ext cx="457200" cy="457200"/>
            <a:chOff x="4648320" y="4114800"/>
            <a:chExt cx="457200" cy="457200"/>
          </a:xfrm>
        </p:grpSpPr>
        <p:sp>
          <p:nvSpPr>
            <p:cNvPr id="3456" name=""/>
            <p:cNvSpPr/>
            <p:nvPr/>
          </p:nvSpPr>
          <p:spPr>
            <a:xfrm>
              <a:off x="47246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0295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48769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6483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1" name=""/>
          <p:cNvGrpSpPr/>
          <p:nvPr/>
        </p:nvGrpSpPr>
        <p:grpSpPr>
          <a:xfrm>
            <a:off x="5105520" y="4114800"/>
            <a:ext cx="457200" cy="457200"/>
            <a:chOff x="5105520" y="4114800"/>
            <a:chExt cx="457200" cy="457200"/>
          </a:xfrm>
        </p:grpSpPr>
        <p:sp>
          <p:nvSpPr>
            <p:cNvPr id="3462" name=""/>
            <p:cNvSpPr/>
            <p:nvPr/>
          </p:nvSpPr>
          <p:spPr>
            <a:xfrm>
              <a:off x="51818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5334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4867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5334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1055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5562720" y="4114800"/>
            <a:ext cx="457200" cy="457200"/>
            <a:chOff x="5562720" y="4114800"/>
            <a:chExt cx="457200" cy="457200"/>
          </a:xfrm>
        </p:grpSpPr>
        <p:sp>
          <p:nvSpPr>
            <p:cNvPr id="3468" name=""/>
            <p:cNvSpPr/>
            <p:nvPr/>
          </p:nvSpPr>
          <p:spPr>
            <a:xfrm>
              <a:off x="56390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57913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9439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57913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5627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3" name=""/>
          <p:cNvGrpSpPr/>
          <p:nvPr/>
        </p:nvGrpSpPr>
        <p:grpSpPr>
          <a:xfrm>
            <a:off x="6019920" y="4114800"/>
            <a:ext cx="457200" cy="457200"/>
            <a:chOff x="6019920" y="4114800"/>
            <a:chExt cx="457200" cy="457200"/>
          </a:xfrm>
        </p:grpSpPr>
        <p:sp>
          <p:nvSpPr>
            <p:cNvPr id="3474" name=""/>
            <p:cNvSpPr/>
            <p:nvPr/>
          </p:nvSpPr>
          <p:spPr>
            <a:xfrm>
              <a:off x="609624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6248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40116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62485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01992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6477120" y="4572000"/>
            <a:ext cx="457200" cy="457200"/>
            <a:chOff x="6477120" y="4572000"/>
            <a:chExt cx="457200" cy="457200"/>
          </a:xfrm>
        </p:grpSpPr>
        <p:sp>
          <p:nvSpPr>
            <p:cNvPr id="3480" name=""/>
            <p:cNvSpPr/>
            <p:nvPr/>
          </p:nvSpPr>
          <p:spPr>
            <a:xfrm>
              <a:off x="65534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6705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8583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67057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4771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5" name=""/>
          <p:cNvGrpSpPr/>
          <p:nvPr/>
        </p:nvGrpSpPr>
        <p:grpSpPr>
          <a:xfrm>
            <a:off x="6934320" y="4572000"/>
            <a:ext cx="457200" cy="457200"/>
            <a:chOff x="6934320" y="4572000"/>
            <a:chExt cx="457200" cy="457200"/>
          </a:xfrm>
        </p:grpSpPr>
        <p:sp>
          <p:nvSpPr>
            <p:cNvPr id="3486" name=""/>
            <p:cNvSpPr/>
            <p:nvPr/>
          </p:nvSpPr>
          <p:spPr>
            <a:xfrm>
              <a:off x="7010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V="1">
              <a:off x="7162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315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V="1">
              <a:off x="7162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934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1" name=""/>
          <p:cNvGrpSpPr/>
          <p:nvPr/>
        </p:nvGrpSpPr>
        <p:grpSpPr>
          <a:xfrm>
            <a:off x="7391520" y="4572000"/>
            <a:ext cx="457200" cy="457200"/>
            <a:chOff x="7391520" y="4572000"/>
            <a:chExt cx="457200" cy="457200"/>
          </a:xfrm>
        </p:grpSpPr>
        <p:sp>
          <p:nvSpPr>
            <p:cNvPr id="3492" name=""/>
            <p:cNvSpPr/>
            <p:nvPr/>
          </p:nvSpPr>
          <p:spPr>
            <a:xfrm>
              <a:off x="7467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7620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772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7620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391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7" name=""/>
          <p:cNvGrpSpPr/>
          <p:nvPr/>
        </p:nvGrpSpPr>
        <p:grpSpPr>
          <a:xfrm>
            <a:off x="7848720" y="4572000"/>
            <a:ext cx="457200" cy="457200"/>
            <a:chOff x="7848720" y="4572000"/>
            <a:chExt cx="457200" cy="457200"/>
          </a:xfrm>
        </p:grpSpPr>
        <p:sp>
          <p:nvSpPr>
            <p:cNvPr id="3498" name=""/>
            <p:cNvSpPr/>
            <p:nvPr/>
          </p:nvSpPr>
          <p:spPr>
            <a:xfrm>
              <a:off x="7925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V="1">
              <a:off x="8077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229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8077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848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3" name=""/>
          <p:cNvGrpSpPr/>
          <p:nvPr/>
        </p:nvGrpSpPr>
        <p:grpSpPr>
          <a:xfrm>
            <a:off x="4648320" y="4572000"/>
            <a:ext cx="457200" cy="457200"/>
            <a:chOff x="4648320" y="4572000"/>
            <a:chExt cx="457200" cy="457200"/>
          </a:xfrm>
        </p:grpSpPr>
        <p:sp>
          <p:nvSpPr>
            <p:cNvPr id="3504" name=""/>
            <p:cNvSpPr/>
            <p:nvPr/>
          </p:nvSpPr>
          <p:spPr>
            <a:xfrm>
              <a:off x="47246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0295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V="1">
              <a:off x="48769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6483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9" name=""/>
          <p:cNvGrpSpPr/>
          <p:nvPr/>
        </p:nvGrpSpPr>
        <p:grpSpPr>
          <a:xfrm>
            <a:off x="5105520" y="4572000"/>
            <a:ext cx="457200" cy="457200"/>
            <a:chOff x="5105520" y="4572000"/>
            <a:chExt cx="457200" cy="457200"/>
          </a:xfrm>
        </p:grpSpPr>
        <p:sp>
          <p:nvSpPr>
            <p:cNvPr id="3510" name=""/>
            <p:cNvSpPr/>
            <p:nvPr/>
          </p:nvSpPr>
          <p:spPr>
            <a:xfrm>
              <a:off x="51818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5334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4867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 flipV="1">
              <a:off x="53341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51055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5562720" y="4572000"/>
            <a:ext cx="457200" cy="457200"/>
            <a:chOff x="5562720" y="4572000"/>
            <a:chExt cx="457200" cy="457200"/>
          </a:xfrm>
        </p:grpSpPr>
        <p:sp>
          <p:nvSpPr>
            <p:cNvPr id="3516" name=""/>
            <p:cNvSpPr/>
            <p:nvPr/>
          </p:nvSpPr>
          <p:spPr>
            <a:xfrm>
              <a:off x="56390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V="1">
              <a:off x="57913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9439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V="1">
              <a:off x="57913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5627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1" name=""/>
          <p:cNvGrpSpPr/>
          <p:nvPr/>
        </p:nvGrpSpPr>
        <p:grpSpPr>
          <a:xfrm>
            <a:off x="6019920" y="4572000"/>
            <a:ext cx="457200" cy="457200"/>
            <a:chOff x="6019920" y="4572000"/>
            <a:chExt cx="457200" cy="457200"/>
          </a:xfrm>
        </p:grpSpPr>
        <p:sp>
          <p:nvSpPr>
            <p:cNvPr id="3522" name=""/>
            <p:cNvSpPr/>
            <p:nvPr/>
          </p:nvSpPr>
          <p:spPr>
            <a:xfrm>
              <a:off x="609624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6248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40116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624852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601992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7" name=""/>
          <p:cNvGrpSpPr/>
          <p:nvPr/>
        </p:nvGrpSpPr>
        <p:grpSpPr>
          <a:xfrm>
            <a:off x="6477120" y="5029200"/>
            <a:ext cx="457200" cy="457200"/>
            <a:chOff x="6477120" y="5029200"/>
            <a:chExt cx="457200" cy="457200"/>
          </a:xfrm>
        </p:grpSpPr>
        <p:sp>
          <p:nvSpPr>
            <p:cNvPr id="3528" name=""/>
            <p:cNvSpPr/>
            <p:nvPr/>
          </p:nvSpPr>
          <p:spPr>
            <a:xfrm>
              <a:off x="65534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flipV="1">
              <a:off x="6705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68583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V="1">
              <a:off x="67057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4771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3" name=""/>
          <p:cNvGrpSpPr/>
          <p:nvPr/>
        </p:nvGrpSpPr>
        <p:grpSpPr>
          <a:xfrm>
            <a:off x="6934320" y="5029200"/>
            <a:ext cx="457200" cy="457200"/>
            <a:chOff x="6934320" y="5029200"/>
            <a:chExt cx="457200" cy="457200"/>
          </a:xfrm>
        </p:grpSpPr>
        <p:sp>
          <p:nvSpPr>
            <p:cNvPr id="3534" name=""/>
            <p:cNvSpPr/>
            <p:nvPr/>
          </p:nvSpPr>
          <p:spPr>
            <a:xfrm>
              <a:off x="7010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7162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315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7162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934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7391520" y="5029200"/>
            <a:ext cx="457200" cy="457200"/>
            <a:chOff x="7391520" y="5029200"/>
            <a:chExt cx="457200" cy="457200"/>
          </a:xfrm>
        </p:grpSpPr>
        <p:sp>
          <p:nvSpPr>
            <p:cNvPr id="3540" name=""/>
            <p:cNvSpPr/>
            <p:nvPr/>
          </p:nvSpPr>
          <p:spPr>
            <a:xfrm>
              <a:off x="7467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7620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772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V="1">
              <a:off x="7620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391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5" name=""/>
          <p:cNvGrpSpPr/>
          <p:nvPr/>
        </p:nvGrpSpPr>
        <p:grpSpPr>
          <a:xfrm>
            <a:off x="7848720" y="5029200"/>
            <a:ext cx="457200" cy="457200"/>
            <a:chOff x="7848720" y="5029200"/>
            <a:chExt cx="457200" cy="457200"/>
          </a:xfrm>
        </p:grpSpPr>
        <p:sp>
          <p:nvSpPr>
            <p:cNvPr id="3546" name=""/>
            <p:cNvSpPr/>
            <p:nvPr/>
          </p:nvSpPr>
          <p:spPr>
            <a:xfrm>
              <a:off x="7925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8077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8229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8077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848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1" name=""/>
          <p:cNvGrpSpPr/>
          <p:nvPr/>
        </p:nvGrpSpPr>
        <p:grpSpPr>
          <a:xfrm>
            <a:off x="4648320" y="5029200"/>
            <a:ext cx="457200" cy="457200"/>
            <a:chOff x="4648320" y="5029200"/>
            <a:chExt cx="457200" cy="457200"/>
          </a:xfrm>
        </p:grpSpPr>
        <p:sp>
          <p:nvSpPr>
            <p:cNvPr id="3552" name=""/>
            <p:cNvSpPr/>
            <p:nvPr/>
          </p:nvSpPr>
          <p:spPr>
            <a:xfrm>
              <a:off x="47246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0295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48769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46483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5105520" y="5029200"/>
            <a:ext cx="457200" cy="457200"/>
            <a:chOff x="5105520" y="5029200"/>
            <a:chExt cx="457200" cy="457200"/>
          </a:xfrm>
        </p:grpSpPr>
        <p:sp>
          <p:nvSpPr>
            <p:cNvPr id="3558" name=""/>
            <p:cNvSpPr/>
            <p:nvPr/>
          </p:nvSpPr>
          <p:spPr>
            <a:xfrm>
              <a:off x="51818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5334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4867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53341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1055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3" name=""/>
          <p:cNvGrpSpPr/>
          <p:nvPr/>
        </p:nvGrpSpPr>
        <p:grpSpPr>
          <a:xfrm>
            <a:off x="5562720" y="5029200"/>
            <a:ext cx="457200" cy="457200"/>
            <a:chOff x="5562720" y="5029200"/>
            <a:chExt cx="457200" cy="457200"/>
          </a:xfrm>
        </p:grpSpPr>
        <p:sp>
          <p:nvSpPr>
            <p:cNvPr id="3564" name=""/>
            <p:cNvSpPr/>
            <p:nvPr/>
          </p:nvSpPr>
          <p:spPr>
            <a:xfrm>
              <a:off x="56390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V="1">
              <a:off x="57913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9439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V="1">
              <a:off x="57913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5627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9" name=""/>
          <p:cNvGrpSpPr/>
          <p:nvPr/>
        </p:nvGrpSpPr>
        <p:grpSpPr>
          <a:xfrm>
            <a:off x="6019920" y="5029200"/>
            <a:ext cx="457200" cy="457200"/>
            <a:chOff x="6019920" y="5029200"/>
            <a:chExt cx="457200" cy="457200"/>
          </a:xfrm>
        </p:grpSpPr>
        <p:sp>
          <p:nvSpPr>
            <p:cNvPr id="3570" name=""/>
            <p:cNvSpPr/>
            <p:nvPr/>
          </p:nvSpPr>
          <p:spPr>
            <a:xfrm>
              <a:off x="609624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V="1">
              <a:off x="6248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40116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624852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01992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5" name=""/>
          <p:cNvGrpSpPr/>
          <p:nvPr/>
        </p:nvGrpSpPr>
        <p:grpSpPr>
          <a:xfrm>
            <a:off x="6477120" y="5486400"/>
            <a:ext cx="457200" cy="457200"/>
            <a:chOff x="6477120" y="5486400"/>
            <a:chExt cx="457200" cy="457200"/>
          </a:xfrm>
        </p:grpSpPr>
        <p:sp>
          <p:nvSpPr>
            <p:cNvPr id="3576" name=""/>
            <p:cNvSpPr/>
            <p:nvPr/>
          </p:nvSpPr>
          <p:spPr>
            <a:xfrm>
              <a:off x="65534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6705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583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67057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4771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1" name=""/>
          <p:cNvGrpSpPr/>
          <p:nvPr/>
        </p:nvGrpSpPr>
        <p:grpSpPr>
          <a:xfrm>
            <a:off x="6934320" y="5486400"/>
            <a:ext cx="457200" cy="457200"/>
            <a:chOff x="6934320" y="5486400"/>
            <a:chExt cx="457200" cy="457200"/>
          </a:xfrm>
        </p:grpSpPr>
        <p:sp>
          <p:nvSpPr>
            <p:cNvPr id="3582" name=""/>
            <p:cNvSpPr/>
            <p:nvPr/>
          </p:nvSpPr>
          <p:spPr>
            <a:xfrm>
              <a:off x="7010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7162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315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7162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34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7" name=""/>
          <p:cNvGrpSpPr/>
          <p:nvPr/>
        </p:nvGrpSpPr>
        <p:grpSpPr>
          <a:xfrm>
            <a:off x="7391520" y="5486400"/>
            <a:ext cx="457200" cy="457200"/>
            <a:chOff x="7391520" y="5486400"/>
            <a:chExt cx="457200" cy="457200"/>
          </a:xfrm>
        </p:grpSpPr>
        <p:sp>
          <p:nvSpPr>
            <p:cNvPr id="3588" name=""/>
            <p:cNvSpPr/>
            <p:nvPr/>
          </p:nvSpPr>
          <p:spPr>
            <a:xfrm>
              <a:off x="7467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7620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772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7620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391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3" name=""/>
          <p:cNvGrpSpPr/>
          <p:nvPr/>
        </p:nvGrpSpPr>
        <p:grpSpPr>
          <a:xfrm>
            <a:off x="7848720" y="5486400"/>
            <a:ext cx="457200" cy="457200"/>
            <a:chOff x="7848720" y="5486400"/>
            <a:chExt cx="457200" cy="457200"/>
          </a:xfrm>
        </p:grpSpPr>
        <p:sp>
          <p:nvSpPr>
            <p:cNvPr id="3594" name=""/>
            <p:cNvSpPr/>
            <p:nvPr/>
          </p:nvSpPr>
          <p:spPr>
            <a:xfrm>
              <a:off x="7925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8077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229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8077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848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9" name=""/>
          <p:cNvGrpSpPr/>
          <p:nvPr/>
        </p:nvGrpSpPr>
        <p:grpSpPr>
          <a:xfrm>
            <a:off x="4648320" y="5486400"/>
            <a:ext cx="457200" cy="457200"/>
            <a:chOff x="4648320" y="5486400"/>
            <a:chExt cx="457200" cy="457200"/>
          </a:xfrm>
        </p:grpSpPr>
        <p:sp>
          <p:nvSpPr>
            <p:cNvPr id="3600" name=""/>
            <p:cNvSpPr/>
            <p:nvPr/>
          </p:nvSpPr>
          <p:spPr>
            <a:xfrm>
              <a:off x="47246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0295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V="1">
              <a:off x="48769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6483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5" name=""/>
          <p:cNvGrpSpPr/>
          <p:nvPr/>
        </p:nvGrpSpPr>
        <p:grpSpPr>
          <a:xfrm>
            <a:off x="5105520" y="5486400"/>
            <a:ext cx="457200" cy="457200"/>
            <a:chOff x="5105520" y="5486400"/>
            <a:chExt cx="457200" cy="457200"/>
          </a:xfrm>
        </p:grpSpPr>
        <p:sp>
          <p:nvSpPr>
            <p:cNvPr id="3606" name=""/>
            <p:cNvSpPr/>
            <p:nvPr/>
          </p:nvSpPr>
          <p:spPr>
            <a:xfrm>
              <a:off x="51818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flipV="1">
              <a:off x="5334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4867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V="1">
              <a:off x="53341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55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1" name=""/>
          <p:cNvGrpSpPr/>
          <p:nvPr/>
        </p:nvGrpSpPr>
        <p:grpSpPr>
          <a:xfrm>
            <a:off x="5562720" y="5486400"/>
            <a:ext cx="457200" cy="457200"/>
            <a:chOff x="5562720" y="5486400"/>
            <a:chExt cx="457200" cy="457200"/>
          </a:xfrm>
        </p:grpSpPr>
        <p:sp>
          <p:nvSpPr>
            <p:cNvPr id="3612" name=""/>
            <p:cNvSpPr/>
            <p:nvPr/>
          </p:nvSpPr>
          <p:spPr>
            <a:xfrm>
              <a:off x="56390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 flipV="1">
              <a:off x="57913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9439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57913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5627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7" name=""/>
          <p:cNvGrpSpPr/>
          <p:nvPr/>
        </p:nvGrpSpPr>
        <p:grpSpPr>
          <a:xfrm>
            <a:off x="6019920" y="5486400"/>
            <a:ext cx="457200" cy="457200"/>
            <a:chOff x="6019920" y="5486400"/>
            <a:chExt cx="457200" cy="457200"/>
          </a:xfrm>
        </p:grpSpPr>
        <p:sp>
          <p:nvSpPr>
            <p:cNvPr id="3618" name=""/>
            <p:cNvSpPr/>
            <p:nvPr/>
          </p:nvSpPr>
          <p:spPr>
            <a:xfrm>
              <a:off x="609624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6248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40116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624852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01992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3" name=""/>
          <p:cNvGrpSpPr/>
          <p:nvPr/>
        </p:nvGrpSpPr>
        <p:grpSpPr>
          <a:xfrm>
            <a:off x="6477120" y="5943600"/>
            <a:ext cx="457200" cy="457200"/>
            <a:chOff x="6477120" y="5943600"/>
            <a:chExt cx="457200" cy="457200"/>
          </a:xfrm>
        </p:grpSpPr>
        <p:sp>
          <p:nvSpPr>
            <p:cNvPr id="3624" name=""/>
            <p:cNvSpPr/>
            <p:nvPr/>
          </p:nvSpPr>
          <p:spPr>
            <a:xfrm>
              <a:off x="65534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7057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8583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67057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4771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9" name=""/>
          <p:cNvGrpSpPr/>
          <p:nvPr/>
        </p:nvGrpSpPr>
        <p:grpSpPr>
          <a:xfrm>
            <a:off x="6934320" y="5943600"/>
            <a:ext cx="457200" cy="457200"/>
            <a:chOff x="6934320" y="5943600"/>
            <a:chExt cx="457200" cy="457200"/>
          </a:xfrm>
        </p:grpSpPr>
        <p:sp>
          <p:nvSpPr>
            <p:cNvPr id="3630" name=""/>
            <p:cNvSpPr/>
            <p:nvPr/>
          </p:nvSpPr>
          <p:spPr>
            <a:xfrm>
              <a:off x="7010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7162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315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V="1">
              <a:off x="7162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934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5" name=""/>
          <p:cNvGrpSpPr/>
          <p:nvPr/>
        </p:nvGrpSpPr>
        <p:grpSpPr>
          <a:xfrm>
            <a:off x="7391520" y="5943600"/>
            <a:ext cx="457200" cy="457200"/>
            <a:chOff x="7391520" y="5943600"/>
            <a:chExt cx="457200" cy="457200"/>
          </a:xfrm>
        </p:grpSpPr>
        <p:sp>
          <p:nvSpPr>
            <p:cNvPr id="3636" name=""/>
            <p:cNvSpPr/>
            <p:nvPr/>
          </p:nvSpPr>
          <p:spPr>
            <a:xfrm>
              <a:off x="7467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7620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772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V="1">
              <a:off x="7620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391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1" name=""/>
          <p:cNvGrpSpPr/>
          <p:nvPr/>
        </p:nvGrpSpPr>
        <p:grpSpPr>
          <a:xfrm>
            <a:off x="7848720" y="5943600"/>
            <a:ext cx="457200" cy="457200"/>
            <a:chOff x="7848720" y="5943600"/>
            <a:chExt cx="457200" cy="457200"/>
          </a:xfrm>
        </p:grpSpPr>
        <p:sp>
          <p:nvSpPr>
            <p:cNvPr id="3642" name=""/>
            <p:cNvSpPr/>
            <p:nvPr/>
          </p:nvSpPr>
          <p:spPr>
            <a:xfrm>
              <a:off x="7925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V="1">
              <a:off x="8077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8229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8077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848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7" name=""/>
          <p:cNvGrpSpPr/>
          <p:nvPr/>
        </p:nvGrpSpPr>
        <p:grpSpPr>
          <a:xfrm>
            <a:off x="4648320" y="5943600"/>
            <a:ext cx="457200" cy="457200"/>
            <a:chOff x="4648320" y="5943600"/>
            <a:chExt cx="457200" cy="457200"/>
          </a:xfrm>
        </p:grpSpPr>
        <p:sp>
          <p:nvSpPr>
            <p:cNvPr id="3648" name=""/>
            <p:cNvSpPr/>
            <p:nvPr/>
          </p:nvSpPr>
          <p:spPr>
            <a:xfrm>
              <a:off x="47246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48769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0295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V="1">
              <a:off x="48769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6483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5105520" y="5943600"/>
            <a:ext cx="457200" cy="457200"/>
            <a:chOff x="5105520" y="5943600"/>
            <a:chExt cx="457200" cy="457200"/>
          </a:xfrm>
        </p:grpSpPr>
        <p:sp>
          <p:nvSpPr>
            <p:cNvPr id="3654" name=""/>
            <p:cNvSpPr/>
            <p:nvPr/>
          </p:nvSpPr>
          <p:spPr>
            <a:xfrm>
              <a:off x="51818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53341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7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53341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1055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5562720" y="5943600"/>
            <a:ext cx="457200" cy="457200"/>
            <a:chOff x="5562720" y="5943600"/>
            <a:chExt cx="457200" cy="457200"/>
          </a:xfrm>
        </p:grpSpPr>
        <p:sp>
          <p:nvSpPr>
            <p:cNvPr id="3660" name=""/>
            <p:cNvSpPr/>
            <p:nvPr/>
          </p:nvSpPr>
          <p:spPr>
            <a:xfrm>
              <a:off x="56390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57913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9439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V="1">
              <a:off x="57913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5627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6019920" y="5943600"/>
            <a:ext cx="457200" cy="457200"/>
            <a:chOff x="6019920" y="5943600"/>
            <a:chExt cx="457200" cy="457200"/>
          </a:xfrm>
        </p:grpSpPr>
        <p:sp>
          <p:nvSpPr>
            <p:cNvPr id="3666" name=""/>
            <p:cNvSpPr/>
            <p:nvPr/>
          </p:nvSpPr>
          <p:spPr>
            <a:xfrm>
              <a:off x="609624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V="1">
              <a:off x="624852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40116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624852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01992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1" name=""/>
          <p:cNvSpPr/>
          <p:nvPr/>
        </p:nvSpPr>
        <p:spPr>
          <a:xfrm>
            <a:off x="701172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18364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5486400" y="57150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5943600" y="52578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5791320" y="52574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248520" y="48002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6705720" y="43430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6705720" y="38858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6400800" y="48006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5334120" y="52574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533412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5486400" y="48006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579132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579132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5943600" y="38862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640080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24852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7162920" y="35809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685800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A61-BE9B-4C05-90EE-14EC21B8E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inimal Adaptive -- It Doesn’t 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mong shortest paths seems like the best way to be adaptive, but it does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hot spot develops, rows, cols build up because there is no more flexibilit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ed rows and cols. act as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gestion sp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7086600" y="4114800"/>
            <a:ext cx="457200" cy="457200"/>
            <a:chOff x="7086600" y="4114800"/>
            <a:chExt cx="457200" cy="457200"/>
          </a:xfrm>
        </p:grpSpPr>
        <p:sp>
          <p:nvSpPr>
            <p:cNvPr id="3694" name=""/>
            <p:cNvSpPr/>
            <p:nvPr/>
          </p:nvSpPr>
          <p:spPr>
            <a:xfrm>
              <a:off x="71629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V="1">
              <a:off x="73152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4678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flipV="1">
              <a:off x="7315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0866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9" name=""/>
          <p:cNvGrpSpPr/>
          <p:nvPr/>
        </p:nvGrpSpPr>
        <p:grpSpPr>
          <a:xfrm>
            <a:off x="7543800" y="4114800"/>
            <a:ext cx="457200" cy="457200"/>
            <a:chOff x="7543800" y="4114800"/>
            <a:chExt cx="457200" cy="457200"/>
          </a:xfrm>
        </p:grpSpPr>
        <p:sp>
          <p:nvSpPr>
            <p:cNvPr id="3700" name=""/>
            <p:cNvSpPr/>
            <p:nvPr/>
          </p:nvSpPr>
          <p:spPr>
            <a:xfrm>
              <a:off x="76201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flipV="1">
              <a:off x="77724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9250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7772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5438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5" name=""/>
          <p:cNvGrpSpPr/>
          <p:nvPr/>
        </p:nvGrpSpPr>
        <p:grpSpPr>
          <a:xfrm>
            <a:off x="5715000" y="4114800"/>
            <a:ext cx="457200" cy="457200"/>
            <a:chOff x="5715000" y="4114800"/>
            <a:chExt cx="457200" cy="457200"/>
          </a:xfrm>
        </p:grpSpPr>
        <p:sp>
          <p:nvSpPr>
            <p:cNvPr id="3706" name=""/>
            <p:cNvSpPr/>
            <p:nvPr/>
          </p:nvSpPr>
          <p:spPr>
            <a:xfrm>
              <a:off x="57913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59436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0962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5943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150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6172200" y="4114800"/>
            <a:ext cx="457200" cy="457200"/>
            <a:chOff x="6172200" y="4114800"/>
            <a:chExt cx="457200" cy="457200"/>
          </a:xfrm>
        </p:grpSpPr>
        <p:sp>
          <p:nvSpPr>
            <p:cNvPr id="3712" name=""/>
            <p:cNvSpPr/>
            <p:nvPr/>
          </p:nvSpPr>
          <p:spPr>
            <a:xfrm>
              <a:off x="62485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V="1">
              <a:off x="64008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5534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6400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1722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7" name=""/>
          <p:cNvGrpSpPr/>
          <p:nvPr/>
        </p:nvGrpSpPr>
        <p:grpSpPr>
          <a:xfrm>
            <a:off x="6629400" y="4114800"/>
            <a:ext cx="457200" cy="457200"/>
            <a:chOff x="6629400" y="4114800"/>
            <a:chExt cx="457200" cy="457200"/>
          </a:xfrm>
        </p:grpSpPr>
        <p:sp>
          <p:nvSpPr>
            <p:cNvPr id="3718" name=""/>
            <p:cNvSpPr/>
            <p:nvPr/>
          </p:nvSpPr>
          <p:spPr>
            <a:xfrm>
              <a:off x="670572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85800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01064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V="1">
              <a:off x="6858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62940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3" name=""/>
          <p:cNvGrpSpPr/>
          <p:nvPr/>
        </p:nvGrpSpPr>
        <p:grpSpPr>
          <a:xfrm>
            <a:off x="7086600" y="4572000"/>
            <a:ext cx="457200" cy="457200"/>
            <a:chOff x="7086600" y="4572000"/>
            <a:chExt cx="457200" cy="457200"/>
          </a:xfrm>
        </p:grpSpPr>
        <p:sp>
          <p:nvSpPr>
            <p:cNvPr id="3724" name=""/>
            <p:cNvSpPr/>
            <p:nvPr/>
          </p:nvSpPr>
          <p:spPr>
            <a:xfrm>
              <a:off x="71629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73152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4678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7315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0866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9" name=""/>
          <p:cNvGrpSpPr/>
          <p:nvPr/>
        </p:nvGrpSpPr>
        <p:grpSpPr>
          <a:xfrm>
            <a:off x="7543800" y="4572000"/>
            <a:ext cx="457200" cy="457200"/>
            <a:chOff x="7543800" y="4572000"/>
            <a:chExt cx="457200" cy="457200"/>
          </a:xfrm>
        </p:grpSpPr>
        <p:sp>
          <p:nvSpPr>
            <p:cNvPr id="3730" name=""/>
            <p:cNvSpPr/>
            <p:nvPr/>
          </p:nvSpPr>
          <p:spPr>
            <a:xfrm>
              <a:off x="76201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77724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79250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7772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5438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5" name=""/>
          <p:cNvGrpSpPr/>
          <p:nvPr/>
        </p:nvGrpSpPr>
        <p:grpSpPr>
          <a:xfrm>
            <a:off x="5715000" y="4572000"/>
            <a:ext cx="457200" cy="457200"/>
            <a:chOff x="5715000" y="4572000"/>
            <a:chExt cx="457200" cy="457200"/>
          </a:xfrm>
        </p:grpSpPr>
        <p:sp>
          <p:nvSpPr>
            <p:cNvPr id="3736" name=""/>
            <p:cNvSpPr/>
            <p:nvPr/>
          </p:nvSpPr>
          <p:spPr>
            <a:xfrm>
              <a:off x="57913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V="1">
              <a:off x="59436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962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5943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7150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1" name=""/>
          <p:cNvGrpSpPr/>
          <p:nvPr/>
        </p:nvGrpSpPr>
        <p:grpSpPr>
          <a:xfrm>
            <a:off x="6172200" y="4572000"/>
            <a:ext cx="457200" cy="457200"/>
            <a:chOff x="6172200" y="4572000"/>
            <a:chExt cx="457200" cy="457200"/>
          </a:xfrm>
        </p:grpSpPr>
        <p:sp>
          <p:nvSpPr>
            <p:cNvPr id="3742" name=""/>
            <p:cNvSpPr/>
            <p:nvPr/>
          </p:nvSpPr>
          <p:spPr>
            <a:xfrm>
              <a:off x="62485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64008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5534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6400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1722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6629400" y="4572000"/>
            <a:ext cx="457200" cy="457200"/>
            <a:chOff x="6629400" y="4572000"/>
            <a:chExt cx="457200" cy="457200"/>
          </a:xfrm>
        </p:grpSpPr>
        <p:sp>
          <p:nvSpPr>
            <p:cNvPr id="3748" name=""/>
            <p:cNvSpPr/>
            <p:nvPr/>
          </p:nvSpPr>
          <p:spPr>
            <a:xfrm>
              <a:off x="670572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685800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01064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6858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62940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7086600" y="5029200"/>
            <a:ext cx="457200" cy="457200"/>
            <a:chOff x="7086600" y="5029200"/>
            <a:chExt cx="457200" cy="457200"/>
          </a:xfrm>
        </p:grpSpPr>
        <p:sp>
          <p:nvSpPr>
            <p:cNvPr id="3754" name=""/>
            <p:cNvSpPr/>
            <p:nvPr/>
          </p:nvSpPr>
          <p:spPr>
            <a:xfrm>
              <a:off x="71629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73152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4678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7315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0866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9" name=""/>
          <p:cNvGrpSpPr/>
          <p:nvPr/>
        </p:nvGrpSpPr>
        <p:grpSpPr>
          <a:xfrm>
            <a:off x="7543800" y="5029200"/>
            <a:ext cx="457200" cy="457200"/>
            <a:chOff x="7543800" y="5029200"/>
            <a:chExt cx="457200" cy="457200"/>
          </a:xfrm>
        </p:grpSpPr>
        <p:sp>
          <p:nvSpPr>
            <p:cNvPr id="3760" name=""/>
            <p:cNvSpPr/>
            <p:nvPr/>
          </p:nvSpPr>
          <p:spPr>
            <a:xfrm>
              <a:off x="76201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77724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9250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7772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5438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5" name=""/>
          <p:cNvGrpSpPr/>
          <p:nvPr/>
        </p:nvGrpSpPr>
        <p:grpSpPr>
          <a:xfrm>
            <a:off x="5715000" y="5029200"/>
            <a:ext cx="457200" cy="457200"/>
            <a:chOff x="5715000" y="5029200"/>
            <a:chExt cx="457200" cy="457200"/>
          </a:xfrm>
        </p:grpSpPr>
        <p:sp>
          <p:nvSpPr>
            <p:cNvPr id="3766" name=""/>
            <p:cNvSpPr/>
            <p:nvPr/>
          </p:nvSpPr>
          <p:spPr>
            <a:xfrm>
              <a:off x="57913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59436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0962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5943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7150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1" name=""/>
          <p:cNvGrpSpPr/>
          <p:nvPr/>
        </p:nvGrpSpPr>
        <p:grpSpPr>
          <a:xfrm>
            <a:off x="6172200" y="5029200"/>
            <a:ext cx="457200" cy="457200"/>
            <a:chOff x="6172200" y="5029200"/>
            <a:chExt cx="457200" cy="457200"/>
          </a:xfrm>
        </p:grpSpPr>
        <p:sp>
          <p:nvSpPr>
            <p:cNvPr id="3772" name=""/>
            <p:cNvSpPr/>
            <p:nvPr/>
          </p:nvSpPr>
          <p:spPr>
            <a:xfrm>
              <a:off x="624852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64008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5534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6400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1722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7" name=""/>
          <p:cNvGrpSpPr/>
          <p:nvPr/>
        </p:nvGrpSpPr>
        <p:grpSpPr>
          <a:xfrm>
            <a:off x="6629400" y="5029200"/>
            <a:ext cx="457200" cy="457200"/>
            <a:chOff x="6629400" y="5029200"/>
            <a:chExt cx="457200" cy="457200"/>
          </a:xfrm>
        </p:grpSpPr>
        <p:sp>
          <p:nvSpPr>
            <p:cNvPr id="3778" name=""/>
            <p:cNvSpPr/>
            <p:nvPr/>
          </p:nvSpPr>
          <p:spPr>
            <a:xfrm>
              <a:off x="6705720" y="5105520"/>
              <a:ext cx="30492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685800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01064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6858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62940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7086600" y="5486400"/>
            <a:ext cx="457200" cy="457200"/>
            <a:chOff x="7086600" y="5486400"/>
            <a:chExt cx="457200" cy="457200"/>
          </a:xfrm>
        </p:grpSpPr>
        <p:sp>
          <p:nvSpPr>
            <p:cNvPr id="3784" name=""/>
            <p:cNvSpPr/>
            <p:nvPr/>
          </p:nvSpPr>
          <p:spPr>
            <a:xfrm>
              <a:off x="71629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V="1">
              <a:off x="73152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4678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V="1">
              <a:off x="73152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0866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9" name=""/>
          <p:cNvGrpSpPr/>
          <p:nvPr/>
        </p:nvGrpSpPr>
        <p:grpSpPr>
          <a:xfrm>
            <a:off x="7543800" y="5486400"/>
            <a:ext cx="457200" cy="457200"/>
            <a:chOff x="7543800" y="5486400"/>
            <a:chExt cx="457200" cy="457200"/>
          </a:xfrm>
        </p:grpSpPr>
        <p:sp>
          <p:nvSpPr>
            <p:cNvPr id="3790" name=""/>
            <p:cNvSpPr/>
            <p:nvPr/>
          </p:nvSpPr>
          <p:spPr>
            <a:xfrm>
              <a:off x="76201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77724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9250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V="1">
              <a:off x="77724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5438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5" name=""/>
          <p:cNvGrpSpPr/>
          <p:nvPr/>
        </p:nvGrpSpPr>
        <p:grpSpPr>
          <a:xfrm>
            <a:off x="5715000" y="5486400"/>
            <a:ext cx="457200" cy="457200"/>
            <a:chOff x="5715000" y="5486400"/>
            <a:chExt cx="457200" cy="457200"/>
          </a:xfrm>
        </p:grpSpPr>
        <p:sp>
          <p:nvSpPr>
            <p:cNvPr id="3796" name=""/>
            <p:cNvSpPr/>
            <p:nvPr/>
          </p:nvSpPr>
          <p:spPr>
            <a:xfrm>
              <a:off x="57913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59436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0962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59436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150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1" name=""/>
          <p:cNvGrpSpPr/>
          <p:nvPr/>
        </p:nvGrpSpPr>
        <p:grpSpPr>
          <a:xfrm>
            <a:off x="6172200" y="5486400"/>
            <a:ext cx="457200" cy="457200"/>
            <a:chOff x="6172200" y="5486400"/>
            <a:chExt cx="457200" cy="457200"/>
          </a:xfrm>
        </p:grpSpPr>
        <p:sp>
          <p:nvSpPr>
            <p:cNvPr id="3802" name=""/>
            <p:cNvSpPr/>
            <p:nvPr/>
          </p:nvSpPr>
          <p:spPr>
            <a:xfrm>
              <a:off x="62485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 flipV="1">
              <a:off x="64008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5534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64008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1722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7" name=""/>
          <p:cNvGrpSpPr/>
          <p:nvPr/>
        </p:nvGrpSpPr>
        <p:grpSpPr>
          <a:xfrm>
            <a:off x="6629400" y="5486400"/>
            <a:ext cx="457200" cy="457200"/>
            <a:chOff x="6629400" y="5486400"/>
            <a:chExt cx="457200" cy="457200"/>
          </a:xfrm>
        </p:grpSpPr>
        <p:sp>
          <p:nvSpPr>
            <p:cNvPr id="3808" name=""/>
            <p:cNvSpPr/>
            <p:nvPr/>
          </p:nvSpPr>
          <p:spPr>
            <a:xfrm>
              <a:off x="670572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685800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01064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685800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62940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3" name=""/>
          <p:cNvGrpSpPr/>
          <p:nvPr/>
        </p:nvGrpSpPr>
        <p:grpSpPr>
          <a:xfrm>
            <a:off x="7086600" y="5943600"/>
            <a:ext cx="457200" cy="457200"/>
            <a:chOff x="7086600" y="5943600"/>
            <a:chExt cx="457200" cy="457200"/>
          </a:xfrm>
        </p:grpSpPr>
        <p:sp>
          <p:nvSpPr>
            <p:cNvPr id="3814" name=""/>
            <p:cNvSpPr/>
            <p:nvPr/>
          </p:nvSpPr>
          <p:spPr>
            <a:xfrm>
              <a:off x="71629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73152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4678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73152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70866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9" name=""/>
          <p:cNvGrpSpPr/>
          <p:nvPr/>
        </p:nvGrpSpPr>
        <p:grpSpPr>
          <a:xfrm>
            <a:off x="7543800" y="5943600"/>
            <a:ext cx="457200" cy="457200"/>
            <a:chOff x="7543800" y="5943600"/>
            <a:chExt cx="457200" cy="457200"/>
          </a:xfrm>
        </p:grpSpPr>
        <p:sp>
          <p:nvSpPr>
            <p:cNvPr id="3820" name=""/>
            <p:cNvSpPr/>
            <p:nvPr/>
          </p:nvSpPr>
          <p:spPr>
            <a:xfrm>
              <a:off x="76201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77724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9250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77724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5438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5" name=""/>
          <p:cNvGrpSpPr/>
          <p:nvPr/>
        </p:nvGrpSpPr>
        <p:grpSpPr>
          <a:xfrm>
            <a:off x="5715000" y="5943600"/>
            <a:ext cx="457200" cy="457200"/>
            <a:chOff x="5715000" y="5943600"/>
            <a:chExt cx="457200" cy="457200"/>
          </a:xfrm>
        </p:grpSpPr>
        <p:sp>
          <p:nvSpPr>
            <p:cNvPr id="3826" name=""/>
            <p:cNvSpPr/>
            <p:nvPr/>
          </p:nvSpPr>
          <p:spPr>
            <a:xfrm>
              <a:off x="57913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59436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962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59436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150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6172200" y="5943600"/>
            <a:ext cx="457200" cy="457200"/>
            <a:chOff x="6172200" y="5943600"/>
            <a:chExt cx="457200" cy="457200"/>
          </a:xfrm>
        </p:grpSpPr>
        <p:sp>
          <p:nvSpPr>
            <p:cNvPr id="3832" name=""/>
            <p:cNvSpPr/>
            <p:nvPr/>
          </p:nvSpPr>
          <p:spPr>
            <a:xfrm>
              <a:off x="62485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64008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5534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V="1">
              <a:off x="64008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1722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6629400" y="5943600"/>
            <a:ext cx="457200" cy="457200"/>
            <a:chOff x="6629400" y="5943600"/>
            <a:chExt cx="457200" cy="457200"/>
          </a:xfrm>
        </p:grpSpPr>
        <p:sp>
          <p:nvSpPr>
            <p:cNvPr id="3838" name=""/>
            <p:cNvSpPr/>
            <p:nvPr/>
          </p:nvSpPr>
          <p:spPr>
            <a:xfrm>
              <a:off x="670572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685800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01064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685800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62940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3" name=""/>
          <p:cNvSpPr/>
          <p:nvPr/>
        </p:nvSpPr>
        <p:spPr>
          <a:xfrm>
            <a:off x="6629400" y="5410080"/>
            <a:ext cx="45720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629400" y="4038480"/>
            <a:ext cx="457200" cy="10670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7086600" y="5486400"/>
            <a:ext cx="914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5715000" y="5486400"/>
            <a:ext cx="914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7086600" y="4114800"/>
            <a:ext cx="914400" cy="13716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5715000" y="4114800"/>
            <a:ext cx="914400" cy="13716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095880" y="6172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6553080" y="617220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095880" y="57150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V="1">
            <a:off x="5943600" y="52574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6400800" y="52574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 flipV="1">
            <a:off x="6400800" y="57146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 flipV="1">
            <a:off x="5943600" y="5714640"/>
            <a:ext cx="0" cy="3049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6095880" y="52578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553080" y="5257800"/>
            <a:ext cx="3049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 rot="5400000">
            <a:off x="5866920" y="4724280"/>
            <a:ext cx="4572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 rot="5400000">
            <a:off x="7390800" y="4724280"/>
            <a:ext cx="457200" cy="1066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9F8-544A-4174-881E-ACE8A9C4B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flection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Potato” routers try to keep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aptive synchron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ackets are matched to outgo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rs are assigned arbitr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ckets leave on the nex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2895480" y="3581280"/>
            <a:ext cx="457200" cy="457200"/>
            <a:chOff x="2895480" y="3581280"/>
            <a:chExt cx="457200" cy="457200"/>
          </a:xfrm>
        </p:grpSpPr>
        <p:sp>
          <p:nvSpPr>
            <p:cNvPr id="3863" name=""/>
            <p:cNvSpPr/>
            <p:nvPr/>
          </p:nvSpPr>
          <p:spPr>
            <a:xfrm>
              <a:off x="29718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3124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32767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V="1">
              <a:off x="31240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8954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8" name=""/>
          <p:cNvGrpSpPr/>
          <p:nvPr/>
        </p:nvGrpSpPr>
        <p:grpSpPr>
          <a:xfrm>
            <a:off x="3352680" y="3581280"/>
            <a:ext cx="457200" cy="457200"/>
            <a:chOff x="3352680" y="3581280"/>
            <a:chExt cx="457200" cy="457200"/>
          </a:xfrm>
        </p:grpSpPr>
        <p:sp>
          <p:nvSpPr>
            <p:cNvPr id="3869" name=""/>
            <p:cNvSpPr/>
            <p:nvPr/>
          </p:nvSpPr>
          <p:spPr>
            <a:xfrm>
              <a:off x="34290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3581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35812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3526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1523880" y="3581280"/>
            <a:ext cx="457200" cy="457200"/>
            <a:chOff x="1523880" y="3581280"/>
            <a:chExt cx="457200" cy="457200"/>
          </a:xfrm>
        </p:grpSpPr>
        <p:sp>
          <p:nvSpPr>
            <p:cNvPr id="3875" name=""/>
            <p:cNvSpPr/>
            <p:nvPr/>
          </p:nvSpPr>
          <p:spPr>
            <a:xfrm>
              <a:off x="16002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752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051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V="1">
              <a:off x="17524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5238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0" name=""/>
          <p:cNvGrpSpPr/>
          <p:nvPr/>
        </p:nvGrpSpPr>
        <p:grpSpPr>
          <a:xfrm>
            <a:off x="1981080" y="3581280"/>
            <a:ext cx="457200" cy="457200"/>
            <a:chOff x="1981080" y="3581280"/>
            <a:chExt cx="457200" cy="457200"/>
          </a:xfrm>
        </p:grpSpPr>
        <p:sp>
          <p:nvSpPr>
            <p:cNvPr id="3881" name=""/>
            <p:cNvSpPr/>
            <p:nvPr/>
          </p:nvSpPr>
          <p:spPr>
            <a:xfrm>
              <a:off x="20574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2209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3623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22096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9810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6" name=""/>
          <p:cNvGrpSpPr/>
          <p:nvPr/>
        </p:nvGrpSpPr>
        <p:grpSpPr>
          <a:xfrm>
            <a:off x="2438280" y="3581280"/>
            <a:ext cx="457200" cy="457200"/>
            <a:chOff x="2438280" y="3581280"/>
            <a:chExt cx="457200" cy="457200"/>
          </a:xfrm>
        </p:grpSpPr>
        <p:sp>
          <p:nvSpPr>
            <p:cNvPr id="3887" name=""/>
            <p:cNvSpPr/>
            <p:nvPr/>
          </p:nvSpPr>
          <p:spPr>
            <a:xfrm>
              <a:off x="251460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2666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1952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266688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438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893" name=""/>
            <p:cNvSpPr/>
            <p:nvPr/>
          </p:nvSpPr>
          <p:spPr>
            <a:xfrm>
              <a:off x="29718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3124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2767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31240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954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8" name=""/>
          <p:cNvGrpSpPr/>
          <p:nvPr/>
        </p:nvGrpSpPr>
        <p:grpSpPr>
          <a:xfrm>
            <a:off x="3352680" y="4038480"/>
            <a:ext cx="457200" cy="457200"/>
            <a:chOff x="3352680" y="4038480"/>
            <a:chExt cx="457200" cy="457200"/>
          </a:xfrm>
        </p:grpSpPr>
        <p:sp>
          <p:nvSpPr>
            <p:cNvPr id="3899" name=""/>
            <p:cNvSpPr/>
            <p:nvPr/>
          </p:nvSpPr>
          <p:spPr>
            <a:xfrm>
              <a:off x="34290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3581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7339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V="1">
              <a:off x="35812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3526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4" name=""/>
          <p:cNvGrpSpPr/>
          <p:nvPr/>
        </p:nvGrpSpPr>
        <p:grpSpPr>
          <a:xfrm>
            <a:off x="1523880" y="4038480"/>
            <a:ext cx="457200" cy="457200"/>
            <a:chOff x="1523880" y="4038480"/>
            <a:chExt cx="457200" cy="457200"/>
          </a:xfrm>
        </p:grpSpPr>
        <p:sp>
          <p:nvSpPr>
            <p:cNvPr id="3905" name=""/>
            <p:cNvSpPr/>
            <p:nvPr/>
          </p:nvSpPr>
          <p:spPr>
            <a:xfrm>
              <a:off x="16002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V="1">
              <a:off x="1752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9051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17524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5238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0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3911" name=""/>
            <p:cNvSpPr/>
            <p:nvPr/>
          </p:nvSpPr>
          <p:spPr>
            <a:xfrm>
              <a:off x="20574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flipV="1">
              <a:off x="2209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3623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V="1">
              <a:off x="22096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810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6" name=""/>
          <p:cNvGrpSpPr/>
          <p:nvPr/>
        </p:nvGrpSpPr>
        <p:grpSpPr>
          <a:xfrm>
            <a:off x="2438280" y="4038480"/>
            <a:ext cx="457200" cy="457200"/>
            <a:chOff x="2438280" y="4038480"/>
            <a:chExt cx="457200" cy="457200"/>
          </a:xfrm>
        </p:grpSpPr>
        <p:sp>
          <p:nvSpPr>
            <p:cNvPr id="3917" name=""/>
            <p:cNvSpPr/>
            <p:nvPr/>
          </p:nvSpPr>
          <p:spPr>
            <a:xfrm>
              <a:off x="251460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V="1">
              <a:off x="2666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1952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V="1">
              <a:off x="266688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43828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2895480" y="4495680"/>
            <a:ext cx="457200" cy="457200"/>
            <a:chOff x="2895480" y="4495680"/>
            <a:chExt cx="457200" cy="457200"/>
          </a:xfrm>
        </p:grpSpPr>
        <p:sp>
          <p:nvSpPr>
            <p:cNvPr id="3923" name=""/>
            <p:cNvSpPr/>
            <p:nvPr/>
          </p:nvSpPr>
          <p:spPr>
            <a:xfrm>
              <a:off x="29718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3124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2767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V="1">
              <a:off x="31240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8" name=""/>
          <p:cNvGrpSpPr/>
          <p:nvPr/>
        </p:nvGrpSpPr>
        <p:grpSpPr>
          <a:xfrm>
            <a:off x="3352680" y="4495680"/>
            <a:ext cx="457200" cy="457200"/>
            <a:chOff x="3352680" y="4495680"/>
            <a:chExt cx="457200" cy="457200"/>
          </a:xfrm>
        </p:grpSpPr>
        <p:sp>
          <p:nvSpPr>
            <p:cNvPr id="3929" name=""/>
            <p:cNvSpPr/>
            <p:nvPr/>
          </p:nvSpPr>
          <p:spPr>
            <a:xfrm>
              <a:off x="34290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V="1">
              <a:off x="3581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7339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V="1">
              <a:off x="35812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3526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4" name=""/>
          <p:cNvGrpSpPr/>
          <p:nvPr/>
        </p:nvGrpSpPr>
        <p:grpSpPr>
          <a:xfrm>
            <a:off x="1523880" y="4495680"/>
            <a:ext cx="457200" cy="457200"/>
            <a:chOff x="1523880" y="4495680"/>
            <a:chExt cx="457200" cy="457200"/>
          </a:xfrm>
        </p:grpSpPr>
        <p:sp>
          <p:nvSpPr>
            <p:cNvPr id="3935" name=""/>
            <p:cNvSpPr/>
            <p:nvPr/>
          </p:nvSpPr>
          <p:spPr>
            <a:xfrm>
              <a:off x="16002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V="1">
              <a:off x="1752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9051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V="1">
              <a:off x="17524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5238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0" name=""/>
          <p:cNvGrpSpPr/>
          <p:nvPr/>
        </p:nvGrpSpPr>
        <p:grpSpPr>
          <a:xfrm>
            <a:off x="1981080" y="4495680"/>
            <a:ext cx="457200" cy="457200"/>
            <a:chOff x="1981080" y="4495680"/>
            <a:chExt cx="457200" cy="457200"/>
          </a:xfrm>
        </p:grpSpPr>
        <p:sp>
          <p:nvSpPr>
            <p:cNvPr id="3941" name=""/>
            <p:cNvSpPr/>
            <p:nvPr/>
          </p:nvSpPr>
          <p:spPr>
            <a:xfrm>
              <a:off x="20574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2209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3623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2096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9810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6" name=""/>
          <p:cNvGrpSpPr/>
          <p:nvPr/>
        </p:nvGrpSpPr>
        <p:grpSpPr>
          <a:xfrm>
            <a:off x="2438280" y="4495680"/>
            <a:ext cx="457200" cy="457200"/>
            <a:chOff x="2438280" y="4495680"/>
            <a:chExt cx="457200" cy="457200"/>
          </a:xfrm>
        </p:grpSpPr>
        <p:sp>
          <p:nvSpPr>
            <p:cNvPr id="3947" name=""/>
            <p:cNvSpPr/>
            <p:nvPr/>
          </p:nvSpPr>
          <p:spPr>
            <a:xfrm>
              <a:off x="251460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V="1">
              <a:off x="2666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81952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V="1">
              <a:off x="266688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43828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2" name=""/>
          <p:cNvGrpSpPr/>
          <p:nvPr/>
        </p:nvGrpSpPr>
        <p:grpSpPr>
          <a:xfrm>
            <a:off x="2895480" y="4952880"/>
            <a:ext cx="457200" cy="457200"/>
            <a:chOff x="2895480" y="4952880"/>
            <a:chExt cx="457200" cy="457200"/>
          </a:xfrm>
        </p:grpSpPr>
        <p:sp>
          <p:nvSpPr>
            <p:cNvPr id="3953" name=""/>
            <p:cNvSpPr/>
            <p:nvPr/>
          </p:nvSpPr>
          <p:spPr>
            <a:xfrm>
              <a:off x="29718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V="1">
              <a:off x="3124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32767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31240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8954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3352680" y="4952880"/>
            <a:ext cx="457200" cy="457200"/>
            <a:chOff x="3352680" y="4952880"/>
            <a:chExt cx="457200" cy="457200"/>
          </a:xfrm>
        </p:grpSpPr>
        <p:sp>
          <p:nvSpPr>
            <p:cNvPr id="3959" name=""/>
            <p:cNvSpPr/>
            <p:nvPr/>
          </p:nvSpPr>
          <p:spPr>
            <a:xfrm>
              <a:off x="34290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3581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7339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flipV="1">
              <a:off x="35812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3526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4" name=""/>
          <p:cNvGrpSpPr/>
          <p:nvPr/>
        </p:nvGrpSpPr>
        <p:grpSpPr>
          <a:xfrm>
            <a:off x="1523880" y="4952880"/>
            <a:ext cx="457200" cy="457200"/>
            <a:chOff x="1523880" y="4952880"/>
            <a:chExt cx="457200" cy="457200"/>
          </a:xfrm>
        </p:grpSpPr>
        <p:sp>
          <p:nvSpPr>
            <p:cNvPr id="3965" name=""/>
            <p:cNvSpPr/>
            <p:nvPr/>
          </p:nvSpPr>
          <p:spPr>
            <a:xfrm>
              <a:off x="16002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1752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051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17524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5238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1981080" y="4952880"/>
            <a:ext cx="457200" cy="457200"/>
            <a:chOff x="1981080" y="4952880"/>
            <a:chExt cx="457200" cy="457200"/>
          </a:xfrm>
        </p:grpSpPr>
        <p:sp>
          <p:nvSpPr>
            <p:cNvPr id="3971" name=""/>
            <p:cNvSpPr/>
            <p:nvPr/>
          </p:nvSpPr>
          <p:spPr>
            <a:xfrm>
              <a:off x="20574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2209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3623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V="1">
              <a:off x="22096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9810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6" name=""/>
          <p:cNvGrpSpPr/>
          <p:nvPr/>
        </p:nvGrpSpPr>
        <p:grpSpPr>
          <a:xfrm>
            <a:off x="2438280" y="4952880"/>
            <a:ext cx="457200" cy="457200"/>
            <a:chOff x="2438280" y="4952880"/>
            <a:chExt cx="457200" cy="457200"/>
          </a:xfrm>
        </p:grpSpPr>
        <p:sp>
          <p:nvSpPr>
            <p:cNvPr id="3977" name=""/>
            <p:cNvSpPr/>
            <p:nvPr/>
          </p:nvSpPr>
          <p:spPr>
            <a:xfrm>
              <a:off x="251460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2666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81952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V="1">
              <a:off x="266688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43828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2" name=""/>
          <p:cNvGrpSpPr/>
          <p:nvPr/>
        </p:nvGrpSpPr>
        <p:grpSpPr>
          <a:xfrm>
            <a:off x="2895480" y="5410080"/>
            <a:ext cx="457200" cy="457200"/>
            <a:chOff x="2895480" y="5410080"/>
            <a:chExt cx="457200" cy="457200"/>
          </a:xfrm>
        </p:grpSpPr>
        <p:sp>
          <p:nvSpPr>
            <p:cNvPr id="3983" name=""/>
            <p:cNvSpPr/>
            <p:nvPr/>
          </p:nvSpPr>
          <p:spPr>
            <a:xfrm>
              <a:off x="29718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3124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2767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flipV="1">
              <a:off x="31240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8954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8" name=""/>
          <p:cNvGrpSpPr/>
          <p:nvPr/>
        </p:nvGrpSpPr>
        <p:grpSpPr>
          <a:xfrm>
            <a:off x="3352680" y="5410080"/>
            <a:ext cx="457200" cy="457200"/>
            <a:chOff x="3352680" y="5410080"/>
            <a:chExt cx="457200" cy="457200"/>
          </a:xfrm>
        </p:grpSpPr>
        <p:sp>
          <p:nvSpPr>
            <p:cNvPr id="3989" name=""/>
            <p:cNvSpPr/>
            <p:nvPr/>
          </p:nvSpPr>
          <p:spPr>
            <a:xfrm>
              <a:off x="34290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flipV="1">
              <a:off x="3581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7339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V="1">
              <a:off x="35812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3526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1523880" y="5410080"/>
            <a:ext cx="457200" cy="457200"/>
            <a:chOff x="1523880" y="5410080"/>
            <a:chExt cx="457200" cy="457200"/>
          </a:xfrm>
        </p:grpSpPr>
        <p:sp>
          <p:nvSpPr>
            <p:cNvPr id="3995" name=""/>
            <p:cNvSpPr/>
            <p:nvPr/>
          </p:nvSpPr>
          <p:spPr>
            <a:xfrm>
              <a:off x="16002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1752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9051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17524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5238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0" name=""/>
          <p:cNvGrpSpPr/>
          <p:nvPr/>
        </p:nvGrpSpPr>
        <p:grpSpPr>
          <a:xfrm>
            <a:off x="1981080" y="5410080"/>
            <a:ext cx="457200" cy="457200"/>
            <a:chOff x="1981080" y="5410080"/>
            <a:chExt cx="457200" cy="457200"/>
          </a:xfrm>
        </p:grpSpPr>
        <p:sp>
          <p:nvSpPr>
            <p:cNvPr id="4001" name=""/>
            <p:cNvSpPr/>
            <p:nvPr/>
          </p:nvSpPr>
          <p:spPr>
            <a:xfrm>
              <a:off x="20574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V="1">
              <a:off x="2209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3623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V="1">
              <a:off x="22096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810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6" name=""/>
          <p:cNvGrpSpPr/>
          <p:nvPr/>
        </p:nvGrpSpPr>
        <p:grpSpPr>
          <a:xfrm>
            <a:off x="2438280" y="5410080"/>
            <a:ext cx="457200" cy="457200"/>
            <a:chOff x="2438280" y="5410080"/>
            <a:chExt cx="457200" cy="457200"/>
          </a:xfrm>
        </p:grpSpPr>
        <p:sp>
          <p:nvSpPr>
            <p:cNvPr id="4007" name=""/>
            <p:cNvSpPr/>
            <p:nvPr/>
          </p:nvSpPr>
          <p:spPr>
            <a:xfrm>
              <a:off x="251460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2666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81952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266688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3828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2" name=""/>
          <p:cNvSpPr/>
          <p:nvPr/>
        </p:nvSpPr>
        <p:spPr>
          <a:xfrm>
            <a:off x="1905120" y="4724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 flipV="1">
            <a:off x="2209680" y="4419720"/>
            <a:ext cx="0" cy="3045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5" name=""/>
          <p:cNvGrpSpPr/>
          <p:nvPr/>
        </p:nvGrpSpPr>
        <p:grpSpPr>
          <a:xfrm>
            <a:off x="6400800" y="3581280"/>
            <a:ext cx="457200" cy="457200"/>
            <a:chOff x="6400800" y="3581280"/>
            <a:chExt cx="457200" cy="457200"/>
          </a:xfrm>
        </p:grpSpPr>
        <p:sp>
          <p:nvSpPr>
            <p:cNvPr id="4016" name=""/>
            <p:cNvSpPr/>
            <p:nvPr/>
          </p:nvSpPr>
          <p:spPr>
            <a:xfrm>
              <a:off x="64771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V="1">
              <a:off x="66294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7820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V="1">
              <a:off x="66294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4008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1" name=""/>
          <p:cNvGrpSpPr/>
          <p:nvPr/>
        </p:nvGrpSpPr>
        <p:grpSpPr>
          <a:xfrm>
            <a:off x="6858000" y="3581280"/>
            <a:ext cx="457200" cy="457200"/>
            <a:chOff x="6858000" y="3581280"/>
            <a:chExt cx="457200" cy="457200"/>
          </a:xfrm>
        </p:grpSpPr>
        <p:sp>
          <p:nvSpPr>
            <p:cNvPr id="4022" name=""/>
            <p:cNvSpPr/>
            <p:nvPr/>
          </p:nvSpPr>
          <p:spPr>
            <a:xfrm>
              <a:off x="69343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V="1">
              <a:off x="70866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2392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V="1">
              <a:off x="70866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8580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5029200" y="3581280"/>
            <a:ext cx="457200" cy="457200"/>
            <a:chOff x="5029200" y="3581280"/>
            <a:chExt cx="457200" cy="457200"/>
          </a:xfrm>
        </p:grpSpPr>
        <p:sp>
          <p:nvSpPr>
            <p:cNvPr id="4028" name=""/>
            <p:cNvSpPr/>
            <p:nvPr/>
          </p:nvSpPr>
          <p:spPr>
            <a:xfrm>
              <a:off x="51055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52578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4104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V="1">
              <a:off x="52578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0292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3" name=""/>
          <p:cNvGrpSpPr/>
          <p:nvPr/>
        </p:nvGrpSpPr>
        <p:grpSpPr>
          <a:xfrm>
            <a:off x="5486400" y="3581280"/>
            <a:ext cx="457200" cy="457200"/>
            <a:chOff x="5486400" y="3581280"/>
            <a:chExt cx="457200" cy="457200"/>
          </a:xfrm>
        </p:grpSpPr>
        <p:sp>
          <p:nvSpPr>
            <p:cNvPr id="4034" name=""/>
            <p:cNvSpPr/>
            <p:nvPr/>
          </p:nvSpPr>
          <p:spPr>
            <a:xfrm>
              <a:off x="55627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V="1">
              <a:off x="57150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676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57150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4864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9" name=""/>
          <p:cNvGrpSpPr/>
          <p:nvPr/>
        </p:nvGrpSpPr>
        <p:grpSpPr>
          <a:xfrm>
            <a:off x="5943600" y="3581280"/>
            <a:ext cx="457200" cy="457200"/>
            <a:chOff x="5943600" y="3581280"/>
            <a:chExt cx="457200" cy="457200"/>
          </a:xfrm>
        </p:grpSpPr>
        <p:sp>
          <p:nvSpPr>
            <p:cNvPr id="4040" name=""/>
            <p:cNvSpPr/>
            <p:nvPr/>
          </p:nvSpPr>
          <p:spPr>
            <a:xfrm>
              <a:off x="6019920" y="36576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617220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6324840" y="3809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6172200" y="396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360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6400800" y="4038480"/>
            <a:ext cx="457200" cy="457200"/>
            <a:chOff x="6400800" y="4038480"/>
            <a:chExt cx="457200" cy="457200"/>
          </a:xfrm>
        </p:grpSpPr>
        <p:sp>
          <p:nvSpPr>
            <p:cNvPr id="4046" name=""/>
            <p:cNvSpPr/>
            <p:nvPr/>
          </p:nvSpPr>
          <p:spPr>
            <a:xfrm>
              <a:off x="64771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V="1">
              <a:off x="66294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7820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V="1">
              <a:off x="66294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4008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6858000" y="4038480"/>
            <a:ext cx="457200" cy="457200"/>
            <a:chOff x="6858000" y="4038480"/>
            <a:chExt cx="457200" cy="457200"/>
          </a:xfrm>
        </p:grpSpPr>
        <p:sp>
          <p:nvSpPr>
            <p:cNvPr id="4052" name=""/>
            <p:cNvSpPr/>
            <p:nvPr/>
          </p:nvSpPr>
          <p:spPr>
            <a:xfrm>
              <a:off x="69343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70866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2392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V="1">
              <a:off x="70866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8580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7" name=""/>
          <p:cNvGrpSpPr/>
          <p:nvPr/>
        </p:nvGrpSpPr>
        <p:grpSpPr>
          <a:xfrm>
            <a:off x="5029200" y="4038480"/>
            <a:ext cx="457200" cy="457200"/>
            <a:chOff x="5029200" y="4038480"/>
            <a:chExt cx="457200" cy="457200"/>
          </a:xfrm>
        </p:grpSpPr>
        <p:sp>
          <p:nvSpPr>
            <p:cNvPr id="4058" name=""/>
            <p:cNvSpPr/>
            <p:nvPr/>
          </p:nvSpPr>
          <p:spPr>
            <a:xfrm>
              <a:off x="51055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V="1">
              <a:off x="52578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4104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52578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029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3" name=""/>
          <p:cNvGrpSpPr/>
          <p:nvPr/>
        </p:nvGrpSpPr>
        <p:grpSpPr>
          <a:xfrm>
            <a:off x="5486400" y="4038480"/>
            <a:ext cx="457200" cy="457200"/>
            <a:chOff x="5486400" y="4038480"/>
            <a:chExt cx="457200" cy="457200"/>
          </a:xfrm>
        </p:grpSpPr>
        <p:sp>
          <p:nvSpPr>
            <p:cNvPr id="4064" name=""/>
            <p:cNvSpPr/>
            <p:nvPr/>
          </p:nvSpPr>
          <p:spPr>
            <a:xfrm>
              <a:off x="55627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V="1">
              <a:off x="57150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8676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V="1">
              <a:off x="57150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4864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9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4070" name=""/>
            <p:cNvSpPr/>
            <p:nvPr/>
          </p:nvSpPr>
          <p:spPr>
            <a:xfrm>
              <a:off x="6019920" y="4114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617220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324840" y="4267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6172200" y="4419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9436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6400800" y="4495680"/>
            <a:ext cx="457200" cy="457200"/>
            <a:chOff x="6400800" y="4495680"/>
            <a:chExt cx="457200" cy="457200"/>
          </a:xfrm>
        </p:grpSpPr>
        <p:sp>
          <p:nvSpPr>
            <p:cNvPr id="4076" name=""/>
            <p:cNvSpPr/>
            <p:nvPr/>
          </p:nvSpPr>
          <p:spPr>
            <a:xfrm>
              <a:off x="64771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V="1">
              <a:off x="66294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7820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66294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4008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1" name=""/>
          <p:cNvGrpSpPr/>
          <p:nvPr/>
        </p:nvGrpSpPr>
        <p:grpSpPr>
          <a:xfrm>
            <a:off x="6858000" y="4495680"/>
            <a:ext cx="457200" cy="457200"/>
            <a:chOff x="6858000" y="4495680"/>
            <a:chExt cx="457200" cy="457200"/>
          </a:xfrm>
        </p:grpSpPr>
        <p:sp>
          <p:nvSpPr>
            <p:cNvPr id="4082" name=""/>
            <p:cNvSpPr/>
            <p:nvPr/>
          </p:nvSpPr>
          <p:spPr>
            <a:xfrm>
              <a:off x="69343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7086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2392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V="1">
              <a:off x="70866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8580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5029200" y="4495680"/>
            <a:ext cx="457200" cy="457200"/>
            <a:chOff x="5029200" y="4495680"/>
            <a:chExt cx="457200" cy="457200"/>
          </a:xfrm>
        </p:grpSpPr>
        <p:sp>
          <p:nvSpPr>
            <p:cNvPr id="4088" name=""/>
            <p:cNvSpPr/>
            <p:nvPr/>
          </p:nvSpPr>
          <p:spPr>
            <a:xfrm>
              <a:off x="51055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V="1">
              <a:off x="52578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4104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V="1">
              <a:off x="52578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0292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3" name=""/>
          <p:cNvGrpSpPr/>
          <p:nvPr/>
        </p:nvGrpSpPr>
        <p:grpSpPr>
          <a:xfrm>
            <a:off x="5486400" y="4495680"/>
            <a:ext cx="457200" cy="457200"/>
            <a:chOff x="5486400" y="4495680"/>
            <a:chExt cx="457200" cy="457200"/>
          </a:xfrm>
        </p:grpSpPr>
        <p:sp>
          <p:nvSpPr>
            <p:cNvPr id="4094" name=""/>
            <p:cNvSpPr/>
            <p:nvPr/>
          </p:nvSpPr>
          <p:spPr>
            <a:xfrm>
              <a:off x="55627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 flipV="1">
              <a:off x="57150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8676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V="1">
              <a:off x="57150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864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5943600" y="4495680"/>
            <a:ext cx="457200" cy="457200"/>
            <a:chOff x="5943600" y="4495680"/>
            <a:chExt cx="457200" cy="457200"/>
          </a:xfrm>
        </p:grpSpPr>
        <p:sp>
          <p:nvSpPr>
            <p:cNvPr id="4100" name=""/>
            <p:cNvSpPr/>
            <p:nvPr/>
          </p:nvSpPr>
          <p:spPr>
            <a:xfrm>
              <a:off x="6019920" y="45720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V="1">
              <a:off x="61722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6324840" y="4724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V="1">
              <a:off x="6172200" y="4876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943600" y="4724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5" name=""/>
          <p:cNvGrpSpPr/>
          <p:nvPr/>
        </p:nvGrpSpPr>
        <p:grpSpPr>
          <a:xfrm>
            <a:off x="6400800" y="4952880"/>
            <a:ext cx="457200" cy="457200"/>
            <a:chOff x="6400800" y="4952880"/>
            <a:chExt cx="457200" cy="457200"/>
          </a:xfrm>
        </p:grpSpPr>
        <p:sp>
          <p:nvSpPr>
            <p:cNvPr id="4106" name=""/>
            <p:cNvSpPr/>
            <p:nvPr/>
          </p:nvSpPr>
          <p:spPr>
            <a:xfrm>
              <a:off x="64771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V="1">
              <a:off x="66294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7820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V="1">
              <a:off x="66294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4008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1" name=""/>
          <p:cNvGrpSpPr/>
          <p:nvPr/>
        </p:nvGrpSpPr>
        <p:grpSpPr>
          <a:xfrm>
            <a:off x="6858000" y="4952880"/>
            <a:ext cx="457200" cy="457200"/>
            <a:chOff x="6858000" y="4952880"/>
            <a:chExt cx="457200" cy="457200"/>
          </a:xfrm>
        </p:grpSpPr>
        <p:sp>
          <p:nvSpPr>
            <p:cNvPr id="4112" name=""/>
            <p:cNvSpPr/>
            <p:nvPr/>
          </p:nvSpPr>
          <p:spPr>
            <a:xfrm>
              <a:off x="69343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V="1">
              <a:off x="70866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2392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V="1">
              <a:off x="70866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8580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7" name=""/>
          <p:cNvGrpSpPr/>
          <p:nvPr/>
        </p:nvGrpSpPr>
        <p:grpSpPr>
          <a:xfrm>
            <a:off x="5029200" y="4952880"/>
            <a:ext cx="457200" cy="457200"/>
            <a:chOff x="5029200" y="4952880"/>
            <a:chExt cx="457200" cy="457200"/>
          </a:xfrm>
        </p:grpSpPr>
        <p:sp>
          <p:nvSpPr>
            <p:cNvPr id="4118" name=""/>
            <p:cNvSpPr/>
            <p:nvPr/>
          </p:nvSpPr>
          <p:spPr>
            <a:xfrm>
              <a:off x="51055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flipV="1">
              <a:off x="52578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4104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V="1">
              <a:off x="52578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0292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3" name=""/>
          <p:cNvGrpSpPr/>
          <p:nvPr/>
        </p:nvGrpSpPr>
        <p:grpSpPr>
          <a:xfrm>
            <a:off x="5486400" y="4952880"/>
            <a:ext cx="457200" cy="457200"/>
            <a:chOff x="5486400" y="4952880"/>
            <a:chExt cx="457200" cy="457200"/>
          </a:xfrm>
        </p:grpSpPr>
        <p:sp>
          <p:nvSpPr>
            <p:cNvPr id="4124" name=""/>
            <p:cNvSpPr/>
            <p:nvPr/>
          </p:nvSpPr>
          <p:spPr>
            <a:xfrm>
              <a:off x="55627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flipV="1">
              <a:off x="57150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676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V="1">
              <a:off x="57150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4864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9" name=""/>
          <p:cNvGrpSpPr/>
          <p:nvPr/>
        </p:nvGrpSpPr>
        <p:grpSpPr>
          <a:xfrm>
            <a:off x="5943600" y="4952880"/>
            <a:ext cx="457200" cy="457200"/>
            <a:chOff x="5943600" y="4952880"/>
            <a:chExt cx="457200" cy="457200"/>
          </a:xfrm>
        </p:grpSpPr>
        <p:sp>
          <p:nvSpPr>
            <p:cNvPr id="4130" name=""/>
            <p:cNvSpPr/>
            <p:nvPr/>
          </p:nvSpPr>
          <p:spPr>
            <a:xfrm>
              <a:off x="6019920" y="50292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flipV="1">
              <a:off x="617220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324840" y="5181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V="1">
              <a:off x="6172200" y="5333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943600" y="5181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5" name=""/>
          <p:cNvGrpSpPr/>
          <p:nvPr/>
        </p:nvGrpSpPr>
        <p:grpSpPr>
          <a:xfrm>
            <a:off x="6400800" y="5410080"/>
            <a:ext cx="457200" cy="457200"/>
            <a:chOff x="6400800" y="5410080"/>
            <a:chExt cx="457200" cy="457200"/>
          </a:xfrm>
        </p:grpSpPr>
        <p:sp>
          <p:nvSpPr>
            <p:cNvPr id="4136" name=""/>
            <p:cNvSpPr/>
            <p:nvPr/>
          </p:nvSpPr>
          <p:spPr>
            <a:xfrm>
              <a:off x="64771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66294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7820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66294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4008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1" name=""/>
          <p:cNvGrpSpPr/>
          <p:nvPr/>
        </p:nvGrpSpPr>
        <p:grpSpPr>
          <a:xfrm>
            <a:off x="6858000" y="5410080"/>
            <a:ext cx="457200" cy="457200"/>
            <a:chOff x="6858000" y="5410080"/>
            <a:chExt cx="457200" cy="457200"/>
          </a:xfrm>
        </p:grpSpPr>
        <p:sp>
          <p:nvSpPr>
            <p:cNvPr id="4142" name=""/>
            <p:cNvSpPr/>
            <p:nvPr/>
          </p:nvSpPr>
          <p:spPr>
            <a:xfrm>
              <a:off x="69343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V="1">
              <a:off x="70866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2392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70866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8580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7" name=""/>
          <p:cNvGrpSpPr/>
          <p:nvPr/>
        </p:nvGrpSpPr>
        <p:grpSpPr>
          <a:xfrm>
            <a:off x="5029200" y="5410080"/>
            <a:ext cx="457200" cy="457200"/>
            <a:chOff x="5029200" y="5410080"/>
            <a:chExt cx="457200" cy="457200"/>
          </a:xfrm>
        </p:grpSpPr>
        <p:sp>
          <p:nvSpPr>
            <p:cNvPr id="4148" name=""/>
            <p:cNvSpPr/>
            <p:nvPr/>
          </p:nvSpPr>
          <p:spPr>
            <a:xfrm>
              <a:off x="51055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V="1">
              <a:off x="52578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4104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V="1">
              <a:off x="52578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0292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3" name=""/>
          <p:cNvGrpSpPr/>
          <p:nvPr/>
        </p:nvGrpSpPr>
        <p:grpSpPr>
          <a:xfrm>
            <a:off x="5486400" y="5410080"/>
            <a:ext cx="457200" cy="457200"/>
            <a:chOff x="5486400" y="5410080"/>
            <a:chExt cx="457200" cy="457200"/>
          </a:xfrm>
        </p:grpSpPr>
        <p:sp>
          <p:nvSpPr>
            <p:cNvPr id="4154" name=""/>
            <p:cNvSpPr/>
            <p:nvPr/>
          </p:nvSpPr>
          <p:spPr>
            <a:xfrm>
              <a:off x="55627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flipV="1">
              <a:off x="57150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8676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57150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4864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9" name=""/>
          <p:cNvGrpSpPr/>
          <p:nvPr/>
        </p:nvGrpSpPr>
        <p:grpSpPr>
          <a:xfrm>
            <a:off x="5943600" y="5410080"/>
            <a:ext cx="457200" cy="457200"/>
            <a:chOff x="5943600" y="5410080"/>
            <a:chExt cx="457200" cy="457200"/>
          </a:xfrm>
        </p:grpSpPr>
        <p:sp>
          <p:nvSpPr>
            <p:cNvPr id="4160" name=""/>
            <p:cNvSpPr/>
            <p:nvPr/>
          </p:nvSpPr>
          <p:spPr>
            <a:xfrm>
              <a:off x="6019920" y="5486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 flipV="1">
              <a:off x="617220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324840" y="5638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6172200" y="57909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943600" y="5638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5" name=""/>
          <p:cNvSpPr/>
          <p:nvPr/>
        </p:nvSpPr>
        <p:spPr>
          <a:xfrm>
            <a:off x="5867280" y="4724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V="1">
            <a:off x="5715000" y="48769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 flipV="1">
            <a:off x="5715000" y="42667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11480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19520" y="6095880"/>
            <a:ext cx="4647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ivelock is a potentia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1BA-7832-4C76-B724-5D1DCC7AD2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t Potato Rou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ection routing used in Ter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it causes too much turbulence in the network … waiting one step might sav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2" name=""/>
          <p:cNvGrpSpPr/>
          <p:nvPr/>
        </p:nvGrpSpPr>
        <p:grpSpPr>
          <a:xfrm>
            <a:off x="1905120" y="3276720"/>
            <a:ext cx="457200" cy="457200"/>
            <a:chOff x="1905120" y="3276720"/>
            <a:chExt cx="457200" cy="457200"/>
          </a:xfrm>
        </p:grpSpPr>
        <p:sp>
          <p:nvSpPr>
            <p:cNvPr id="4173" name=""/>
            <p:cNvSpPr/>
            <p:nvPr/>
          </p:nvSpPr>
          <p:spPr>
            <a:xfrm>
              <a:off x="19814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flipV="1">
              <a:off x="21337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2863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V="1">
              <a:off x="2133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9051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2362320" y="3276720"/>
            <a:ext cx="457200" cy="457200"/>
            <a:chOff x="2362320" y="3276720"/>
            <a:chExt cx="457200" cy="457200"/>
          </a:xfrm>
        </p:grpSpPr>
        <p:sp>
          <p:nvSpPr>
            <p:cNvPr id="4179" name=""/>
            <p:cNvSpPr/>
            <p:nvPr/>
          </p:nvSpPr>
          <p:spPr>
            <a:xfrm>
              <a:off x="24386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V="1">
              <a:off x="25909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7435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2590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3623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2819520" y="3276720"/>
            <a:ext cx="457200" cy="457200"/>
            <a:chOff x="2819520" y="3276720"/>
            <a:chExt cx="457200" cy="457200"/>
          </a:xfrm>
        </p:grpSpPr>
        <p:sp>
          <p:nvSpPr>
            <p:cNvPr id="4185" name=""/>
            <p:cNvSpPr/>
            <p:nvPr/>
          </p:nvSpPr>
          <p:spPr>
            <a:xfrm>
              <a:off x="28958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V="1">
              <a:off x="30481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2007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 flipV="1">
              <a:off x="30481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8195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0" name=""/>
          <p:cNvGrpSpPr/>
          <p:nvPr/>
        </p:nvGrpSpPr>
        <p:grpSpPr>
          <a:xfrm>
            <a:off x="1905120" y="3733920"/>
            <a:ext cx="457200" cy="457200"/>
            <a:chOff x="1905120" y="3733920"/>
            <a:chExt cx="457200" cy="457200"/>
          </a:xfrm>
        </p:grpSpPr>
        <p:sp>
          <p:nvSpPr>
            <p:cNvPr id="4191" name=""/>
            <p:cNvSpPr/>
            <p:nvPr/>
          </p:nvSpPr>
          <p:spPr>
            <a:xfrm>
              <a:off x="19814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 flipV="1">
              <a:off x="21337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2863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flipV="1">
              <a:off x="2133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9051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2362320" y="3733920"/>
            <a:ext cx="457200" cy="457200"/>
            <a:chOff x="2362320" y="3733920"/>
            <a:chExt cx="457200" cy="457200"/>
          </a:xfrm>
        </p:grpSpPr>
        <p:sp>
          <p:nvSpPr>
            <p:cNvPr id="4197" name=""/>
            <p:cNvSpPr/>
            <p:nvPr/>
          </p:nvSpPr>
          <p:spPr>
            <a:xfrm>
              <a:off x="24386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V="1">
              <a:off x="25909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7435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2590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3623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2" name=""/>
          <p:cNvGrpSpPr/>
          <p:nvPr/>
        </p:nvGrpSpPr>
        <p:grpSpPr>
          <a:xfrm>
            <a:off x="2819520" y="3733920"/>
            <a:ext cx="457200" cy="457200"/>
            <a:chOff x="2819520" y="3733920"/>
            <a:chExt cx="457200" cy="457200"/>
          </a:xfrm>
        </p:grpSpPr>
        <p:sp>
          <p:nvSpPr>
            <p:cNvPr id="4203" name=""/>
            <p:cNvSpPr/>
            <p:nvPr/>
          </p:nvSpPr>
          <p:spPr>
            <a:xfrm>
              <a:off x="28958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30481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2007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30481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8195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8" name=""/>
          <p:cNvGrpSpPr/>
          <p:nvPr/>
        </p:nvGrpSpPr>
        <p:grpSpPr>
          <a:xfrm>
            <a:off x="1905120" y="4191120"/>
            <a:ext cx="457200" cy="457200"/>
            <a:chOff x="1905120" y="4191120"/>
            <a:chExt cx="457200" cy="457200"/>
          </a:xfrm>
        </p:grpSpPr>
        <p:sp>
          <p:nvSpPr>
            <p:cNvPr id="4209" name=""/>
            <p:cNvSpPr/>
            <p:nvPr/>
          </p:nvSpPr>
          <p:spPr>
            <a:xfrm>
              <a:off x="19814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21337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2863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2133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9051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2362320" y="4191120"/>
            <a:ext cx="457200" cy="457200"/>
            <a:chOff x="2362320" y="4191120"/>
            <a:chExt cx="457200" cy="457200"/>
          </a:xfrm>
        </p:grpSpPr>
        <p:sp>
          <p:nvSpPr>
            <p:cNvPr id="4215" name=""/>
            <p:cNvSpPr/>
            <p:nvPr/>
          </p:nvSpPr>
          <p:spPr>
            <a:xfrm>
              <a:off x="24386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V="1">
              <a:off x="25909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7435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V="1">
              <a:off x="2590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3623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0" name=""/>
          <p:cNvGrpSpPr/>
          <p:nvPr/>
        </p:nvGrpSpPr>
        <p:grpSpPr>
          <a:xfrm>
            <a:off x="2819520" y="4191120"/>
            <a:ext cx="457200" cy="457200"/>
            <a:chOff x="2819520" y="4191120"/>
            <a:chExt cx="457200" cy="457200"/>
          </a:xfrm>
        </p:grpSpPr>
        <p:sp>
          <p:nvSpPr>
            <p:cNvPr id="4221" name=""/>
            <p:cNvSpPr/>
            <p:nvPr/>
          </p:nvSpPr>
          <p:spPr>
            <a:xfrm>
              <a:off x="28958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V="1">
              <a:off x="30481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2007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30481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28195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1905120" y="4648320"/>
            <a:ext cx="457200" cy="457200"/>
            <a:chOff x="1905120" y="4648320"/>
            <a:chExt cx="457200" cy="457200"/>
          </a:xfrm>
        </p:grpSpPr>
        <p:sp>
          <p:nvSpPr>
            <p:cNvPr id="4227" name=""/>
            <p:cNvSpPr/>
            <p:nvPr/>
          </p:nvSpPr>
          <p:spPr>
            <a:xfrm>
              <a:off x="19814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V="1">
              <a:off x="21337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2863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2133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9051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2" name=""/>
          <p:cNvGrpSpPr/>
          <p:nvPr/>
        </p:nvGrpSpPr>
        <p:grpSpPr>
          <a:xfrm>
            <a:off x="2362320" y="4648320"/>
            <a:ext cx="457200" cy="457200"/>
            <a:chOff x="2362320" y="4648320"/>
            <a:chExt cx="457200" cy="457200"/>
          </a:xfrm>
        </p:grpSpPr>
        <p:sp>
          <p:nvSpPr>
            <p:cNvPr id="4233" name=""/>
            <p:cNvSpPr/>
            <p:nvPr/>
          </p:nvSpPr>
          <p:spPr>
            <a:xfrm>
              <a:off x="24386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25909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7435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V="1">
              <a:off x="2590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3623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8" name=""/>
          <p:cNvGrpSpPr/>
          <p:nvPr/>
        </p:nvGrpSpPr>
        <p:grpSpPr>
          <a:xfrm>
            <a:off x="2819520" y="4648320"/>
            <a:ext cx="457200" cy="457200"/>
            <a:chOff x="2819520" y="4648320"/>
            <a:chExt cx="457200" cy="457200"/>
          </a:xfrm>
        </p:grpSpPr>
        <p:sp>
          <p:nvSpPr>
            <p:cNvPr id="4239" name=""/>
            <p:cNvSpPr/>
            <p:nvPr/>
          </p:nvSpPr>
          <p:spPr>
            <a:xfrm>
              <a:off x="28958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 flipV="1">
              <a:off x="30481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2007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 flipV="1">
              <a:off x="30481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8195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4" name=""/>
          <p:cNvGrpSpPr/>
          <p:nvPr/>
        </p:nvGrpSpPr>
        <p:grpSpPr>
          <a:xfrm>
            <a:off x="1905120" y="5105520"/>
            <a:ext cx="457200" cy="457200"/>
            <a:chOff x="1905120" y="5105520"/>
            <a:chExt cx="457200" cy="457200"/>
          </a:xfrm>
        </p:grpSpPr>
        <p:sp>
          <p:nvSpPr>
            <p:cNvPr id="4245" name=""/>
            <p:cNvSpPr/>
            <p:nvPr/>
          </p:nvSpPr>
          <p:spPr>
            <a:xfrm>
              <a:off x="19814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 flipV="1">
              <a:off x="21337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2863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 flipV="1">
              <a:off x="2133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9051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0" name=""/>
          <p:cNvGrpSpPr/>
          <p:nvPr/>
        </p:nvGrpSpPr>
        <p:grpSpPr>
          <a:xfrm>
            <a:off x="2362320" y="5105520"/>
            <a:ext cx="457200" cy="457200"/>
            <a:chOff x="2362320" y="5105520"/>
            <a:chExt cx="457200" cy="457200"/>
          </a:xfrm>
        </p:grpSpPr>
        <p:sp>
          <p:nvSpPr>
            <p:cNvPr id="4251" name=""/>
            <p:cNvSpPr/>
            <p:nvPr/>
          </p:nvSpPr>
          <p:spPr>
            <a:xfrm>
              <a:off x="24386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V="1">
              <a:off x="25909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7435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2590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3623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6" name=""/>
          <p:cNvGrpSpPr/>
          <p:nvPr/>
        </p:nvGrpSpPr>
        <p:grpSpPr>
          <a:xfrm>
            <a:off x="2819520" y="5105520"/>
            <a:ext cx="457200" cy="457200"/>
            <a:chOff x="2819520" y="5105520"/>
            <a:chExt cx="457200" cy="457200"/>
          </a:xfrm>
        </p:grpSpPr>
        <p:sp>
          <p:nvSpPr>
            <p:cNvPr id="4257" name=""/>
            <p:cNvSpPr/>
            <p:nvPr/>
          </p:nvSpPr>
          <p:spPr>
            <a:xfrm>
              <a:off x="28958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flipV="1">
              <a:off x="30481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2007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V="1">
              <a:off x="30481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8195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2" name=""/>
          <p:cNvSpPr/>
          <p:nvPr/>
        </p:nvSpPr>
        <p:spPr>
          <a:xfrm>
            <a:off x="22860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 flipV="1">
            <a:off x="2590920" y="44197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4" name=""/>
          <p:cNvGrpSpPr/>
          <p:nvPr/>
        </p:nvGrpSpPr>
        <p:grpSpPr>
          <a:xfrm>
            <a:off x="3733920" y="3276720"/>
            <a:ext cx="457200" cy="457200"/>
            <a:chOff x="3733920" y="3276720"/>
            <a:chExt cx="457200" cy="457200"/>
          </a:xfrm>
        </p:grpSpPr>
        <p:sp>
          <p:nvSpPr>
            <p:cNvPr id="4265" name=""/>
            <p:cNvSpPr/>
            <p:nvPr/>
          </p:nvSpPr>
          <p:spPr>
            <a:xfrm>
              <a:off x="38102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V="1">
              <a:off x="39625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1151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flipV="1">
              <a:off x="39625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7339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0" name=""/>
          <p:cNvGrpSpPr/>
          <p:nvPr/>
        </p:nvGrpSpPr>
        <p:grpSpPr>
          <a:xfrm>
            <a:off x="4191120" y="3276720"/>
            <a:ext cx="457200" cy="457200"/>
            <a:chOff x="4191120" y="3276720"/>
            <a:chExt cx="457200" cy="457200"/>
          </a:xfrm>
        </p:grpSpPr>
        <p:sp>
          <p:nvSpPr>
            <p:cNvPr id="4271" name=""/>
            <p:cNvSpPr/>
            <p:nvPr/>
          </p:nvSpPr>
          <p:spPr>
            <a:xfrm>
              <a:off x="42674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flipV="1">
              <a:off x="44197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45723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V="1">
              <a:off x="44197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1911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4648320" y="3276720"/>
            <a:ext cx="457200" cy="457200"/>
            <a:chOff x="4648320" y="3276720"/>
            <a:chExt cx="457200" cy="457200"/>
          </a:xfrm>
        </p:grpSpPr>
        <p:sp>
          <p:nvSpPr>
            <p:cNvPr id="4277" name=""/>
            <p:cNvSpPr/>
            <p:nvPr/>
          </p:nvSpPr>
          <p:spPr>
            <a:xfrm>
              <a:off x="472464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487692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02956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V="1">
              <a:off x="487692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64832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3733920" y="3733920"/>
            <a:ext cx="457200" cy="457200"/>
            <a:chOff x="3733920" y="3733920"/>
            <a:chExt cx="457200" cy="457200"/>
          </a:xfrm>
        </p:grpSpPr>
        <p:sp>
          <p:nvSpPr>
            <p:cNvPr id="4283" name=""/>
            <p:cNvSpPr/>
            <p:nvPr/>
          </p:nvSpPr>
          <p:spPr>
            <a:xfrm>
              <a:off x="38102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39625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1151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39625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7339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8" name=""/>
          <p:cNvGrpSpPr/>
          <p:nvPr/>
        </p:nvGrpSpPr>
        <p:grpSpPr>
          <a:xfrm>
            <a:off x="4191120" y="3733920"/>
            <a:ext cx="457200" cy="457200"/>
            <a:chOff x="4191120" y="3733920"/>
            <a:chExt cx="457200" cy="457200"/>
          </a:xfrm>
        </p:grpSpPr>
        <p:sp>
          <p:nvSpPr>
            <p:cNvPr id="4289" name=""/>
            <p:cNvSpPr/>
            <p:nvPr/>
          </p:nvSpPr>
          <p:spPr>
            <a:xfrm>
              <a:off x="42674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44197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5723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44197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1911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4" name=""/>
          <p:cNvGrpSpPr/>
          <p:nvPr/>
        </p:nvGrpSpPr>
        <p:grpSpPr>
          <a:xfrm>
            <a:off x="4648320" y="3733920"/>
            <a:ext cx="457200" cy="457200"/>
            <a:chOff x="4648320" y="3733920"/>
            <a:chExt cx="457200" cy="457200"/>
          </a:xfrm>
        </p:grpSpPr>
        <p:sp>
          <p:nvSpPr>
            <p:cNvPr id="4295" name=""/>
            <p:cNvSpPr/>
            <p:nvPr/>
          </p:nvSpPr>
          <p:spPr>
            <a:xfrm>
              <a:off x="472464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487692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02956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487692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64832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3733920" y="4191120"/>
            <a:ext cx="457200" cy="457200"/>
            <a:chOff x="3733920" y="4191120"/>
            <a:chExt cx="457200" cy="457200"/>
          </a:xfrm>
        </p:grpSpPr>
        <p:sp>
          <p:nvSpPr>
            <p:cNvPr id="4301" name=""/>
            <p:cNvSpPr/>
            <p:nvPr/>
          </p:nvSpPr>
          <p:spPr>
            <a:xfrm>
              <a:off x="38102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39625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1151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39625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7339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4191120" y="4191120"/>
            <a:ext cx="457200" cy="457200"/>
            <a:chOff x="4191120" y="4191120"/>
            <a:chExt cx="457200" cy="457200"/>
          </a:xfrm>
        </p:grpSpPr>
        <p:sp>
          <p:nvSpPr>
            <p:cNvPr id="4307" name=""/>
            <p:cNvSpPr/>
            <p:nvPr/>
          </p:nvSpPr>
          <p:spPr>
            <a:xfrm>
              <a:off x="42674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44197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5723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V="1">
              <a:off x="44197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1911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4648320" y="4191120"/>
            <a:ext cx="457200" cy="457200"/>
            <a:chOff x="4648320" y="4191120"/>
            <a:chExt cx="457200" cy="457200"/>
          </a:xfrm>
        </p:grpSpPr>
        <p:sp>
          <p:nvSpPr>
            <p:cNvPr id="4313" name=""/>
            <p:cNvSpPr/>
            <p:nvPr/>
          </p:nvSpPr>
          <p:spPr>
            <a:xfrm>
              <a:off x="472464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487692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02956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487692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464832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3733920" y="4648320"/>
            <a:ext cx="457200" cy="457200"/>
            <a:chOff x="3733920" y="4648320"/>
            <a:chExt cx="457200" cy="457200"/>
          </a:xfrm>
        </p:grpSpPr>
        <p:sp>
          <p:nvSpPr>
            <p:cNvPr id="4319" name=""/>
            <p:cNvSpPr/>
            <p:nvPr/>
          </p:nvSpPr>
          <p:spPr>
            <a:xfrm>
              <a:off x="38102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39625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1151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V="1">
              <a:off x="39625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7339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4191120" y="4648320"/>
            <a:ext cx="457200" cy="457200"/>
            <a:chOff x="4191120" y="4648320"/>
            <a:chExt cx="457200" cy="457200"/>
          </a:xfrm>
        </p:grpSpPr>
        <p:sp>
          <p:nvSpPr>
            <p:cNvPr id="4325" name=""/>
            <p:cNvSpPr/>
            <p:nvPr/>
          </p:nvSpPr>
          <p:spPr>
            <a:xfrm>
              <a:off x="42674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V="1">
              <a:off x="44197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5723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44197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41911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48320" y="4648320"/>
            <a:ext cx="457200" cy="457200"/>
            <a:chOff x="4648320" y="4648320"/>
            <a:chExt cx="457200" cy="457200"/>
          </a:xfrm>
        </p:grpSpPr>
        <p:sp>
          <p:nvSpPr>
            <p:cNvPr id="4331" name=""/>
            <p:cNvSpPr/>
            <p:nvPr/>
          </p:nvSpPr>
          <p:spPr>
            <a:xfrm>
              <a:off x="472464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487692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02956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487692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464832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3733920" y="5105520"/>
            <a:ext cx="457200" cy="457200"/>
            <a:chOff x="3733920" y="5105520"/>
            <a:chExt cx="457200" cy="457200"/>
          </a:xfrm>
        </p:grpSpPr>
        <p:sp>
          <p:nvSpPr>
            <p:cNvPr id="4337" name=""/>
            <p:cNvSpPr/>
            <p:nvPr/>
          </p:nvSpPr>
          <p:spPr>
            <a:xfrm>
              <a:off x="38102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V="1">
              <a:off x="39625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41151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39625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7339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4191120" y="5105520"/>
            <a:ext cx="457200" cy="457200"/>
            <a:chOff x="4191120" y="5105520"/>
            <a:chExt cx="457200" cy="457200"/>
          </a:xfrm>
        </p:grpSpPr>
        <p:sp>
          <p:nvSpPr>
            <p:cNvPr id="4343" name=""/>
            <p:cNvSpPr/>
            <p:nvPr/>
          </p:nvSpPr>
          <p:spPr>
            <a:xfrm>
              <a:off x="42674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flipV="1">
              <a:off x="44197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45723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flipV="1">
              <a:off x="44197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41911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4648320" y="5105520"/>
            <a:ext cx="457200" cy="457200"/>
            <a:chOff x="4648320" y="5105520"/>
            <a:chExt cx="457200" cy="457200"/>
          </a:xfrm>
        </p:grpSpPr>
        <p:sp>
          <p:nvSpPr>
            <p:cNvPr id="4349" name=""/>
            <p:cNvSpPr/>
            <p:nvPr/>
          </p:nvSpPr>
          <p:spPr>
            <a:xfrm>
              <a:off x="472464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flipV="1">
              <a:off x="487692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02956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flipV="1">
              <a:off x="487692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64832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4" name=""/>
          <p:cNvSpPr/>
          <p:nvPr/>
        </p:nvSpPr>
        <p:spPr>
          <a:xfrm>
            <a:off x="45720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 flipV="1">
            <a:off x="4419720" y="44197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6" name=""/>
          <p:cNvGrpSpPr/>
          <p:nvPr/>
        </p:nvGrpSpPr>
        <p:grpSpPr>
          <a:xfrm>
            <a:off x="5638680" y="3276720"/>
            <a:ext cx="457200" cy="457200"/>
            <a:chOff x="5638680" y="3276720"/>
            <a:chExt cx="457200" cy="457200"/>
          </a:xfrm>
        </p:grpSpPr>
        <p:sp>
          <p:nvSpPr>
            <p:cNvPr id="4357" name=""/>
            <p:cNvSpPr/>
            <p:nvPr/>
          </p:nvSpPr>
          <p:spPr>
            <a:xfrm>
              <a:off x="57150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V="1">
              <a:off x="58672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199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V="1">
              <a:off x="5867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6386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6095880" y="3276720"/>
            <a:ext cx="457200" cy="457200"/>
            <a:chOff x="6095880" y="3276720"/>
            <a:chExt cx="457200" cy="457200"/>
          </a:xfrm>
        </p:grpSpPr>
        <p:sp>
          <p:nvSpPr>
            <p:cNvPr id="4363" name=""/>
            <p:cNvSpPr/>
            <p:nvPr/>
          </p:nvSpPr>
          <p:spPr>
            <a:xfrm>
              <a:off x="61722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63244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4771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V="1">
              <a:off x="6324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0958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8" name=""/>
          <p:cNvGrpSpPr/>
          <p:nvPr/>
        </p:nvGrpSpPr>
        <p:grpSpPr>
          <a:xfrm>
            <a:off x="6553080" y="3276720"/>
            <a:ext cx="457200" cy="457200"/>
            <a:chOff x="6553080" y="3276720"/>
            <a:chExt cx="457200" cy="457200"/>
          </a:xfrm>
        </p:grpSpPr>
        <p:sp>
          <p:nvSpPr>
            <p:cNvPr id="4369" name=""/>
            <p:cNvSpPr/>
            <p:nvPr/>
          </p:nvSpPr>
          <p:spPr>
            <a:xfrm>
              <a:off x="6629400" y="3353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6781680" y="3276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934320" y="3505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6781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55308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4" name=""/>
          <p:cNvGrpSpPr/>
          <p:nvPr/>
        </p:nvGrpSpPr>
        <p:grpSpPr>
          <a:xfrm>
            <a:off x="5638680" y="3733920"/>
            <a:ext cx="457200" cy="457200"/>
            <a:chOff x="5638680" y="3733920"/>
            <a:chExt cx="457200" cy="457200"/>
          </a:xfrm>
        </p:grpSpPr>
        <p:sp>
          <p:nvSpPr>
            <p:cNvPr id="4375" name=""/>
            <p:cNvSpPr/>
            <p:nvPr/>
          </p:nvSpPr>
          <p:spPr>
            <a:xfrm>
              <a:off x="57150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flipV="1">
              <a:off x="58672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0199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V="1">
              <a:off x="5867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56386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0" name=""/>
          <p:cNvGrpSpPr/>
          <p:nvPr/>
        </p:nvGrpSpPr>
        <p:grpSpPr>
          <a:xfrm>
            <a:off x="6095880" y="3733920"/>
            <a:ext cx="457200" cy="457200"/>
            <a:chOff x="6095880" y="3733920"/>
            <a:chExt cx="457200" cy="457200"/>
          </a:xfrm>
        </p:grpSpPr>
        <p:sp>
          <p:nvSpPr>
            <p:cNvPr id="4381" name=""/>
            <p:cNvSpPr/>
            <p:nvPr/>
          </p:nvSpPr>
          <p:spPr>
            <a:xfrm>
              <a:off x="61722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V="1">
              <a:off x="63244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4771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V="1">
              <a:off x="6324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0958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6" name=""/>
          <p:cNvGrpSpPr/>
          <p:nvPr/>
        </p:nvGrpSpPr>
        <p:grpSpPr>
          <a:xfrm>
            <a:off x="6553080" y="3733920"/>
            <a:ext cx="457200" cy="457200"/>
            <a:chOff x="6553080" y="3733920"/>
            <a:chExt cx="457200" cy="457200"/>
          </a:xfrm>
        </p:grpSpPr>
        <p:sp>
          <p:nvSpPr>
            <p:cNvPr id="4387" name=""/>
            <p:cNvSpPr/>
            <p:nvPr/>
          </p:nvSpPr>
          <p:spPr>
            <a:xfrm>
              <a:off x="6629400" y="3810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V="1">
              <a:off x="6781680" y="3733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934320" y="3962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V="1">
              <a:off x="6781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5530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5638680" y="4191120"/>
            <a:ext cx="457200" cy="457200"/>
            <a:chOff x="5638680" y="4191120"/>
            <a:chExt cx="457200" cy="457200"/>
          </a:xfrm>
        </p:grpSpPr>
        <p:sp>
          <p:nvSpPr>
            <p:cNvPr id="4393" name=""/>
            <p:cNvSpPr/>
            <p:nvPr/>
          </p:nvSpPr>
          <p:spPr>
            <a:xfrm>
              <a:off x="57150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V="1">
              <a:off x="58672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0199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 flipV="1">
              <a:off x="5867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6386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8" name=""/>
          <p:cNvGrpSpPr/>
          <p:nvPr/>
        </p:nvGrpSpPr>
        <p:grpSpPr>
          <a:xfrm>
            <a:off x="6095880" y="4191120"/>
            <a:ext cx="457200" cy="457200"/>
            <a:chOff x="6095880" y="4191120"/>
            <a:chExt cx="457200" cy="457200"/>
          </a:xfrm>
        </p:grpSpPr>
        <p:sp>
          <p:nvSpPr>
            <p:cNvPr id="4399" name=""/>
            <p:cNvSpPr/>
            <p:nvPr/>
          </p:nvSpPr>
          <p:spPr>
            <a:xfrm>
              <a:off x="61722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V="1">
              <a:off x="63244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771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324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0958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4" name=""/>
          <p:cNvGrpSpPr/>
          <p:nvPr/>
        </p:nvGrpSpPr>
        <p:grpSpPr>
          <a:xfrm>
            <a:off x="6553080" y="4191120"/>
            <a:ext cx="457200" cy="457200"/>
            <a:chOff x="6553080" y="4191120"/>
            <a:chExt cx="457200" cy="457200"/>
          </a:xfrm>
        </p:grpSpPr>
        <p:sp>
          <p:nvSpPr>
            <p:cNvPr id="4405" name=""/>
            <p:cNvSpPr/>
            <p:nvPr/>
          </p:nvSpPr>
          <p:spPr>
            <a:xfrm>
              <a:off x="6629400" y="4267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V="1">
              <a:off x="6781680" y="419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934320" y="4419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flipV="1">
              <a:off x="6781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553080" y="4419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0" name=""/>
          <p:cNvGrpSpPr/>
          <p:nvPr/>
        </p:nvGrpSpPr>
        <p:grpSpPr>
          <a:xfrm>
            <a:off x="5638680" y="4648320"/>
            <a:ext cx="457200" cy="457200"/>
            <a:chOff x="5638680" y="4648320"/>
            <a:chExt cx="457200" cy="457200"/>
          </a:xfrm>
        </p:grpSpPr>
        <p:sp>
          <p:nvSpPr>
            <p:cNvPr id="4411" name=""/>
            <p:cNvSpPr/>
            <p:nvPr/>
          </p:nvSpPr>
          <p:spPr>
            <a:xfrm>
              <a:off x="57150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flipV="1">
              <a:off x="58672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0199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5867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6386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6" name=""/>
          <p:cNvGrpSpPr/>
          <p:nvPr/>
        </p:nvGrpSpPr>
        <p:grpSpPr>
          <a:xfrm>
            <a:off x="6095880" y="4648320"/>
            <a:ext cx="457200" cy="457200"/>
            <a:chOff x="6095880" y="4648320"/>
            <a:chExt cx="457200" cy="457200"/>
          </a:xfrm>
        </p:grpSpPr>
        <p:sp>
          <p:nvSpPr>
            <p:cNvPr id="4417" name=""/>
            <p:cNvSpPr/>
            <p:nvPr/>
          </p:nvSpPr>
          <p:spPr>
            <a:xfrm>
              <a:off x="61722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flipV="1">
              <a:off x="63244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771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6324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0958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2" name=""/>
          <p:cNvGrpSpPr/>
          <p:nvPr/>
        </p:nvGrpSpPr>
        <p:grpSpPr>
          <a:xfrm>
            <a:off x="6553080" y="4648320"/>
            <a:ext cx="457200" cy="457200"/>
            <a:chOff x="6553080" y="4648320"/>
            <a:chExt cx="457200" cy="457200"/>
          </a:xfrm>
        </p:grpSpPr>
        <p:sp>
          <p:nvSpPr>
            <p:cNvPr id="4423" name=""/>
            <p:cNvSpPr/>
            <p:nvPr/>
          </p:nvSpPr>
          <p:spPr>
            <a:xfrm>
              <a:off x="6629400" y="4724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6781680" y="4648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934320" y="4876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V="1">
              <a:off x="6781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553080" y="4876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8" name=""/>
          <p:cNvGrpSpPr/>
          <p:nvPr/>
        </p:nvGrpSpPr>
        <p:grpSpPr>
          <a:xfrm>
            <a:off x="5638680" y="5105520"/>
            <a:ext cx="457200" cy="457200"/>
            <a:chOff x="5638680" y="5105520"/>
            <a:chExt cx="457200" cy="457200"/>
          </a:xfrm>
        </p:grpSpPr>
        <p:sp>
          <p:nvSpPr>
            <p:cNvPr id="4429" name=""/>
            <p:cNvSpPr/>
            <p:nvPr/>
          </p:nvSpPr>
          <p:spPr>
            <a:xfrm>
              <a:off x="57150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V="1">
              <a:off x="58672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0199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V="1">
              <a:off x="5867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56386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4" name=""/>
          <p:cNvGrpSpPr/>
          <p:nvPr/>
        </p:nvGrpSpPr>
        <p:grpSpPr>
          <a:xfrm>
            <a:off x="6095880" y="5105520"/>
            <a:ext cx="457200" cy="457200"/>
            <a:chOff x="6095880" y="5105520"/>
            <a:chExt cx="457200" cy="457200"/>
          </a:xfrm>
        </p:grpSpPr>
        <p:sp>
          <p:nvSpPr>
            <p:cNvPr id="4435" name=""/>
            <p:cNvSpPr/>
            <p:nvPr/>
          </p:nvSpPr>
          <p:spPr>
            <a:xfrm>
              <a:off x="61722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63244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4771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 flipV="1">
              <a:off x="6324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0958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0" name=""/>
          <p:cNvGrpSpPr/>
          <p:nvPr/>
        </p:nvGrpSpPr>
        <p:grpSpPr>
          <a:xfrm>
            <a:off x="6553080" y="5105520"/>
            <a:ext cx="457200" cy="457200"/>
            <a:chOff x="6553080" y="5105520"/>
            <a:chExt cx="457200" cy="457200"/>
          </a:xfrm>
        </p:grpSpPr>
        <p:sp>
          <p:nvSpPr>
            <p:cNvPr id="4441" name=""/>
            <p:cNvSpPr/>
            <p:nvPr/>
          </p:nvSpPr>
          <p:spPr>
            <a:xfrm>
              <a:off x="662940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flipV="1">
              <a:off x="6781680" y="5105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934320" y="5334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flipV="1">
              <a:off x="6781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53080" y="5334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6" name=""/>
          <p:cNvSpPr/>
          <p:nvPr/>
        </p:nvSpPr>
        <p:spPr>
          <a:xfrm>
            <a:off x="6934320" y="4419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flipH="1">
            <a:off x="6477120" y="441972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1828800" y="56386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3657600" y="56386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563868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4572000" y="4876920"/>
            <a:ext cx="30492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 flipV="1">
            <a:off x="4876920" y="4419720"/>
            <a:ext cx="0" cy="30456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CF3-B60E-4607-ADD2-E5A653FF04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365-4C62-4EA5-A7CA-9FEC2DC4E3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is a randomizing, non-minimal adaptive packet router (It is not related to Chaos theory of phys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sends packets along minimal paths in almost all cases, but when blocked by severe congestion, it sends packets along any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the hot potato router’s “too eager policy” to send packets the wrong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the minimal adaptive router’s “catch-22” of discovering congestion after all of the flexibility is 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F1A-D49A-45C8-9F34-0BBDF687DA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Chao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os router directs packets according to the follow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Transmit packets with virtual cut-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end packets along a random shortest-path whenever possible, i.e. when traffic i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it briefly inside the switch (no store-and-forward) when traffic is mo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 heavy traffic when there is no more space in the switch to wait, “deroute” some (randomly chosen) waiting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4876920" y="5410080"/>
            <a:ext cx="3429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routing (probably) takes a packet further from its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72D-EC78-4E56-8642-C4F8AA2078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of Chaos between a source (S) and a destination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Take random sho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it briefly in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hen no wai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vailable derou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packe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486400" y="32767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3" name=""/>
          <p:cNvGrpSpPr/>
          <p:nvPr/>
        </p:nvGrpSpPr>
        <p:grpSpPr>
          <a:xfrm>
            <a:off x="6781680" y="2286000"/>
            <a:ext cx="457200" cy="457200"/>
            <a:chOff x="6781680" y="2286000"/>
            <a:chExt cx="457200" cy="457200"/>
          </a:xfrm>
        </p:grpSpPr>
        <p:sp>
          <p:nvSpPr>
            <p:cNvPr id="4464" name=""/>
            <p:cNvSpPr/>
            <p:nvPr/>
          </p:nvSpPr>
          <p:spPr>
            <a:xfrm>
              <a:off x="68580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V="1">
              <a:off x="70102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1629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V="1">
              <a:off x="70102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7816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9" name=""/>
          <p:cNvGrpSpPr/>
          <p:nvPr/>
        </p:nvGrpSpPr>
        <p:grpSpPr>
          <a:xfrm>
            <a:off x="7238880" y="2286000"/>
            <a:ext cx="457200" cy="457200"/>
            <a:chOff x="7238880" y="2286000"/>
            <a:chExt cx="457200" cy="457200"/>
          </a:xfrm>
        </p:grpSpPr>
        <p:sp>
          <p:nvSpPr>
            <p:cNvPr id="4470" name=""/>
            <p:cNvSpPr/>
            <p:nvPr/>
          </p:nvSpPr>
          <p:spPr>
            <a:xfrm>
              <a:off x="73152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7467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76201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flipV="1">
              <a:off x="7467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72388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5" name=""/>
          <p:cNvGrpSpPr/>
          <p:nvPr/>
        </p:nvGrpSpPr>
        <p:grpSpPr>
          <a:xfrm>
            <a:off x="7696080" y="2286000"/>
            <a:ext cx="457200" cy="457200"/>
            <a:chOff x="7696080" y="2286000"/>
            <a:chExt cx="457200" cy="457200"/>
          </a:xfrm>
        </p:grpSpPr>
        <p:sp>
          <p:nvSpPr>
            <p:cNvPr id="4476" name=""/>
            <p:cNvSpPr/>
            <p:nvPr/>
          </p:nvSpPr>
          <p:spPr>
            <a:xfrm>
              <a:off x="77724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79246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80773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V="1">
              <a:off x="7924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6960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1" name=""/>
          <p:cNvGrpSpPr/>
          <p:nvPr/>
        </p:nvGrpSpPr>
        <p:grpSpPr>
          <a:xfrm>
            <a:off x="8153280" y="2286000"/>
            <a:ext cx="457200" cy="457200"/>
            <a:chOff x="8153280" y="2286000"/>
            <a:chExt cx="457200" cy="457200"/>
          </a:xfrm>
        </p:grpSpPr>
        <p:sp>
          <p:nvSpPr>
            <p:cNvPr id="4482" name=""/>
            <p:cNvSpPr/>
            <p:nvPr/>
          </p:nvSpPr>
          <p:spPr>
            <a:xfrm>
              <a:off x="82296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V="1">
              <a:off x="8381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85345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V="1">
              <a:off x="8381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81532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7" name=""/>
          <p:cNvGrpSpPr/>
          <p:nvPr/>
        </p:nvGrpSpPr>
        <p:grpSpPr>
          <a:xfrm>
            <a:off x="4952880" y="2286000"/>
            <a:ext cx="457200" cy="457200"/>
            <a:chOff x="4952880" y="2286000"/>
            <a:chExt cx="457200" cy="457200"/>
          </a:xfrm>
        </p:grpSpPr>
        <p:sp>
          <p:nvSpPr>
            <p:cNvPr id="4488" name=""/>
            <p:cNvSpPr/>
            <p:nvPr/>
          </p:nvSpPr>
          <p:spPr>
            <a:xfrm>
              <a:off x="50292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flipV="1">
              <a:off x="5181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53341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flipV="1">
              <a:off x="51814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9528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3" name=""/>
          <p:cNvGrpSpPr/>
          <p:nvPr/>
        </p:nvGrpSpPr>
        <p:grpSpPr>
          <a:xfrm>
            <a:off x="5410080" y="2286000"/>
            <a:ext cx="457200" cy="457200"/>
            <a:chOff x="5410080" y="2286000"/>
            <a:chExt cx="457200" cy="457200"/>
          </a:xfrm>
        </p:grpSpPr>
        <p:sp>
          <p:nvSpPr>
            <p:cNvPr id="4494" name=""/>
            <p:cNvSpPr/>
            <p:nvPr/>
          </p:nvSpPr>
          <p:spPr>
            <a:xfrm>
              <a:off x="54864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flipV="1">
              <a:off x="56386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7913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flipV="1">
              <a:off x="5638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4100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9" name=""/>
          <p:cNvGrpSpPr/>
          <p:nvPr/>
        </p:nvGrpSpPr>
        <p:grpSpPr>
          <a:xfrm>
            <a:off x="5867280" y="2286000"/>
            <a:ext cx="457200" cy="457200"/>
            <a:chOff x="5867280" y="2286000"/>
            <a:chExt cx="457200" cy="457200"/>
          </a:xfrm>
        </p:grpSpPr>
        <p:sp>
          <p:nvSpPr>
            <p:cNvPr id="4500" name=""/>
            <p:cNvSpPr/>
            <p:nvPr/>
          </p:nvSpPr>
          <p:spPr>
            <a:xfrm>
              <a:off x="59436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 flipV="1">
              <a:off x="6095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2485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 flipV="1">
              <a:off x="60958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58672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6324480" y="2286000"/>
            <a:ext cx="457200" cy="457200"/>
            <a:chOff x="6324480" y="2286000"/>
            <a:chExt cx="457200" cy="457200"/>
          </a:xfrm>
        </p:grpSpPr>
        <p:sp>
          <p:nvSpPr>
            <p:cNvPr id="4506" name=""/>
            <p:cNvSpPr/>
            <p:nvPr/>
          </p:nvSpPr>
          <p:spPr>
            <a:xfrm>
              <a:off x="6400800" y="2362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flipV="1">
              <a:off x="65530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7057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 flipV="1">
              <a:off x="65530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3244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1" name=""/>
          <p:cNvGrpSpPr/>
          <p:nvPr/>
        </p:nvGrpSpPr>
        <p:grpSpPr>
          <a:xfrm>
            <a:off x="6781680" y="2743200"/>
            <a:ext cx="457200" cy="457200"/>
            <a:chOff x="6781680" y="2743200"/>
            <a:chExt cx="457200" cy="457200"/>
          </a:xfrm>
        </p:grpSpPr>
        <p:sp>
          <p:nvSpPr>
            <p:cNvPr id="4512" name=""/>
            <p:cNvSpPr/>
            <p:nvPr/>
          </p:nvSpPr>
          <p:spPr>
            <a:xfrm>
              <a:off x="68580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V="1">
              <a:off x="70102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1629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V="1">
              <a:off x="70102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7816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7" name=""/>
          <p:cNvGrpSpPr/>
          <p:nvPr/>
        </p:nvGrpSpPr>
        <p:grpSpPr>
          <a:xfrm>
            <a:off x="7238880" y="2743200"/>
            <a:ext cx="457200" cy="457200"/>
            <a:chOff x="7238880" y="2743200"/>
            <a:chExt cx="457200" cy="457200"/>
          </a:xfrm>
        </p:grpSpPr>
        <p:sp>
          <p:nvSpPr>
            <p:cNvPr id="4518" name=""/>
            <p:cNvSpPr/>
            <p:nvPr/>
          </p:nvSpPr>
          <p:spPr>
            <a:xfrm>
              <a:off x="73152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flipV="1">
              <a:off x="74674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76201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V="1">
              <a:off x="7467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72388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7696080" y="2743200"/>
            <a:ext cx="457200" cy="457200"/>
            <a:chOff x="7696080" y="2743200"/>
            <a:chExt cx="457200" cy="457200"/>
          </a:xfrm>
        </p:grpSpPr>
        <p:sp>
          <p:nvSpPr>
            <p:cNvPr id="4524" name=""/>
            <p:cNvSpPr/>
            <p:nvPr/>
          </p:nvSpPr>
          <p:spPr>
            <a:xfrm>
              <a:off x="77724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79246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80773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7924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76960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9" name=""/>
          <p:cNvGrpSpPr/>
          <p:nvPr/>
        </p:nvGrpSpPr>
        <p:grpSpPr>
          <a:xfrm>
            <a:off x="8153280" y="2743200"/>
            <a:ext cx="457200" cy="457200"/>
            <a:chOff x="8153280" y="2743200"/>
            <a:chExt cx="457200" cy="457200"/>
          </a:xfrm>
        </p:grpSpPr>
        <p:sp>
          <p:nvSpPr>
            <p:cNvPr id="4530" name=""/>
            <p:cNvSpPr/>
            <p:nvPr/>
          </p:nvSpPr>
          <p:spPr>
            <a:xfrm>
              <a:off x="82296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V="1">
              <a:off x="83818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85345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V="1">
              <a:off x="8381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81532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5" name=""/>
          <p:cNvGrpSpPr/>
          <p:nvPr/>
        </p:nvGrpSpPr>
        <p:grpSpPr>
          <a:xfrm>
            <a:off x="4952880" y="2743200"/>
            <a:ext cx="457200" cy="457200"/>
            <a:chOff x="4952880" y="2743200"/>
            <a:chExt cx="457200" cy="457200"/>
          </a:xfrm>
        </p:grpSpPr>
        <p:sp>
          <p:nvSpPr>
            <p:cNvPr id="4536" name=""/>
            <p:cNvSpPr/>
            <p:nvPr/>
          </p:nvSpPr>
          <p:spPr>
            <a:xfrm>
              <a:off x="50292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 flipV="1">
              <a:off x="51814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53341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51814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9528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1" name=""/>
          <p:cNvGrpSpPr/>
          <p:nvPr/>
        </p:nvGrpSpPr>
        <p:grpSpPr>
          <a:xfrm>
            <a:off x="5410080" y="2743200"/>
            <a:ext cx="457200" cy="457200"/>
            <a:chOff x="5410080" y="2743200"/>
            <a:chExt cx="457200" cy="457200"/>
          </a:xfrm>
        </p:grpSpPr>
        <p:sp>
          <p:nvSpPr>
            <p:cNvPr id="4542" name=""/>
            <p:cNvSpPr/>
            <p:nvPr/>
          </p:nvSpPr>
          <p:spPr>
            <a:xfrm>
              <a:off x="54864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56386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7913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V="1">
              <a:off x="56386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4100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7" name=""/>
          <p:cNvGrpSpPr/>
          <p:nvPr/>
        </p:nvGrpSpPr>
        <p:grpSpPr>
          <a:xfrm>
            <a:off x="5867280" y="2743200"/>
            <a:ext cx="457200" cy="457200"/>
            <a:chOff x="5867280" y="2743200"/>
            <a:chExt cx="457200" cy="457200"/>
          </a:xfrm>
        </p:grpSpPr>
        <p:sp>
          <p:nvSpPr>
            <p:cNvPr id="4548" name=""/>
            <p:cNvSpPr/>
            <p:nvPr/>
          </p:nvSpPr>
          <p:spPr>
            <a:xfrm>
              <a:off x="59436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 flipV="1">
              <a:off x="60958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2485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V="1">
              <a:off x="60958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8672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3" name=""/>
          <p:cNvGrpSpPr/>
          <p:nvPr/>
        </p:nvGrpSpPr>
        <p:grpSpPr>
          <a:xfrm>
            <a:off x="6324480" y="2743200"/>
            <a:ext cx="457200" cy="457200"/>
            <a:chOff x="6324480" y="2743200"/>
            <a:chExt cx="457200" cy="457200"/>
          </a:xfrm>
        </p:grpSpPr>
        <p:sp>
          <p:nvSpPr>
            <p:cNvPr id="4554" name=""/>
            <p:cNvSpPr/>
            <p:nvPr/>
          </p:nvSpPr>
          <p:spPr>
            <a:xfrm>
              <a:off x="6400800" y="2819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5530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70572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55308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32448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9" name=""/>
          <p:cNvGrpSpPr/>
          <p:nvPr/>
        </p:nvGrpSpPr>
        <p:grpSpPr>
          <a:xfrm>
            <a:off x="6781680" y="3200400"/>
            <a:ext cx="457200" cy="457200"/>
            <a:chOff x="6781680" y="3200400"/>
            <a:chExt cx="457200" cy="457200"/>
          </a:xfrm>
        </p:grpSpPr>
        <p:sp>
          <p:nvSpPr>
            <p:cNvPr id="4560" name=""/>
            <p:cNvSpPr/>
            <p:nvPr/>
          </p:nvSpPr>
          <p:spPr>
            <a:xfrm>
              <a:off x="68580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flipV="1">
              <a:off x="70102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71629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V="1">
              <a:off x="7010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7816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5" name=""/>
          <p:cNvGrpSpPr/>
          <p:nvPr/>
        </p:nvGrpSpPr>
        <p:grpSpPr>
          <a:xfrm>
            <a:off x="7238880" y="3200400"/>
            <a:ext cx="457200" cy="457200"/>
            <a:chOff x="7238880" y="3200400"/>
            <a:chExt cx="457200" cy="457200"/>
          </a:xfrm>
        </p:grpSpPr>
        <p:sp>
          <p:nvSpPr>
            <p:cNvPr id="4566" name=""/>
            <p:cNvSpPr/>
            <p:nvPr/>
          </p:nvSpPr>
          <p:spPr>
            <a:xfrm>
              <a:off x="7315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V="1">
              <a:off x="7467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7620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V="1">
              <a:off x="7467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238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7696080" y="3200400"/>
            <a:ext cx="457200" cy="457200"/>
            <a:chOff x="7696080" y="3200400"/>
            <a:chExt cx="457200" cy="457200"/>
          </a:xfrm>
        </p:grpSpPr>
        <p:sp>
          <p:nvSpPr>
            <p:cNvPr id="4572" name=""/>
            <p:cNvSpPr/>
            <p:nvPr/>
          </p:nvSpPr>
          <p:spPr>
            <a:xfrm>
              <a:off x="7772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 flipV="1">
              <a:off x="7924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8077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 flipV="1">
              <a:off x="7924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7696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7" name=""/>
          <p:cNvGrpSpPr/>
          <p:nvPr/>
        </p:nvGrpSpPr>
        <p:grpSpPr>
          <a:xfrm>
            <a:off x="8153280" y="3200400"/>
            <a:ext cx="457200" cy="457200"/>
            <a:chOff x="8153280" y="3200400"/>
            <a:chExt cx="457200" cy="457200"/>
          </a:xfrm>
        </p:grpSpPr>
        <p:sp>
          <p:nvSpPr>
            <p:cNvPr id="4578" name=""/>
            <p:cNvSpPr/>
            <p:nvPr/>
          </p:nvSpPr>
          <p:spPr>
            <a:xfrm>
              <a:off x="8229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V="1">
              <a:off x="8381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8534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 flipV="1">
              <a:off x="8381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8153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3" name=""/>
          <p:cNvGrpSpPr/>
          <p:nvPr/>
        </p:nvGrpSpPr>
        <p:grpSpPr>
          <a:xfrm>
            <a:off x="4952880" y="3200400"/>
            <a:ext cx="457200" cy="457200"/>
            <a:chOff x="4952880" y="3200400"/>
            <a:chExt cx="457200" cy="457200"/>
          </a:xfrm>
        </p:grpSpPr>
        <p:sp>
          <p:nvSpPr>
            <p:cNvPr id="4584" name=""/>
            <p:cNvSpPr/>
            <p:nvPr/>
          </p:nvSpPr>
          <p:spPr>
            <a:xfrm>
              <a:off x="5029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flipV="1">
              <a:off x="5181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5334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flipV="1">
              <a:off x="5181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952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9" name=""/>
          <p:cNvGrpSpPr/>
          <p:nvPr/>
        </p:nvGrpSpPr>
        <p:grpSpPr>
          <a:xfrm>
            <a:off x="5410080" y="3200400"/>
            <a:ext cx="457200" cy="457200"/>
            <a:chOff x="5410080" y="3200400"/>
            <a:chExt cx="457200" cy="457200"/>
          </a:xfrm>
        </p:grpSpPr>
        <p:sp>
          <p:nvSpPr>
            <p:cNvPr id="4590" name=""/>
            <p:cNvSpPr/>
            <p:nvPr/>
          </p:nvSpPr>
          <p:spPr>
            <a:xfrm>
              <a:off x="5486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V="1">
              <a:off x="5638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5791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V="1">
              <a:off x="5638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5410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5" name=""/>
          <p:cNvGrpSpPr/>
          <p:nvPr/>
        </p:nvGrpSpPr>
        <p:grpSpPr>
          <a:xfrm>
            <a:off x="5867280" y="3200400"/>
            <a:ext cx="457200" cy="457200"/>
            <a:chOff x="5867280" y="3200400"/>
            <a:chExt cx="457200" cy="457200"/>
          </a:xfrm>
        </p:grpSpPr>
        <p:sp>
          <p:nvSpPr>
            <p:cNvPr id="4596" name=""/>
            <p:cNvSpPr/>
            <p:nvPr/>
          </p:nvSpPr>
          <p:spPr>
            <a:xfrm>
              <a:off x="5943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V="1">
              <a:off x="6095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6248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 flipV="1">
              <a:off x="6095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5867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1" name=""/>
          <p:cNvGrpSpPr/>
          <p:nvPr/>
        </p:nvGrpSpPr>
        <p:grpSpPr>
          <a:xfrm>
            <a:off x="6324480" y="3200400"/>
            <a:ext cx="457200" cy="457200"/>
            <a:chOff x="6324480" y="3200400"/>
            <a:chExt cx="457200" cy="457200"/>
          </a:xfrm>
        </p:grpSpPr>
        <p:sp>
          <p:nvSpPr>
            <p:cNvPr id="4602" name=""/>
            <p:cNvSpPr/>
            <p:nvPr/>
          </p:nvSpPr>
          <p:spPr>
            <a:xfrm>
              <a:off x="6400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V="1">
              <a:off x="65530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7057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V="1">
              <a:off x="6553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3244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7" name=""/>
          <p:cNvGrpSpPr/>
          <p:nvPr/>
        </p:nvGrpSpPr>
        <p:grpSpPr>
          <a:xfrm>
            <a:off x="6781680" y="3657600"/>
            <a:ext cx="457200" cy="457200"/>
            <a:chOff x="6781680" y="3657600"/>
            <a:chExt cx="457200" cy="457200"/>
          </a:xfrm>
        </p:grpSpPr>
        <p:sp>
          <p:nvSpPr>
            <p:cNvPr id="4608" name=""/>
            <p:cNvSpPr/>
            <p:nvPr/>
          </p:nvSpPr>
          <p:spPr>
            <a:xfrm>
              <a:off x="68580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V="1">
              <a:off x="7010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71629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 flipV="1">
              <a:off x="7010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7816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7238880" y="3657600"/>
            <a:ext cx="457200" cy="457200"/>
            <a:chOff x="7238880" y="3657600"/>
            <a:chExt cx="457200" cy="457200"/>
          </a:xfrm>
        </p:grpSpPr>
        <p:sp>
          <p:nvSpPr>
            <p:cNvPr id="4614" name=""/>
            <p:cNvSpPr/>
            <p:nvPr/>
          </p:nvSpPr>
          <p:spPr>
            <a:xfrm>
              <a:off x="7315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7467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7620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V="1">
              <a:off x="7467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7238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696080" y="3657600"/>
            <a:ext cx="457200" cy="457200"/>
            <a:chOff x="7696080" y="3657600"/>
            <a:chExt cx="457200" cy="457200"/>
          </a:xfrm>
        </p:grpSpPr>
        <p:sp>
          <p:nvSpPr>
            <p:cNvPr id="4620" name=""/>
            <p:cNvSpPr/>
            <p:nvPr/>
          </p:nvSpPr>
          <p:spPr>
            <a:xfrm>
              <a:off x="7772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 flipV="1">
              <a:off x="7924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077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flipV="1">
              <a:off x="7924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696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8153280" y="3657600"/>
            <a:ext cx="457200" cy="457200"/>
            <a:chOff x="8153280" y="3657600"/>
            <a:chExt cx="457200" cy="457200"/>
          </a:xfrm>
        </p:grpSpPr>
        <p:sp>
          <p:nvSpPr>
            <p:cNvPr id="4626" name=""/>
            <p:cNvSpPr/>
            <p:nvPr/>
          </p:nvSpPr>
          <p:spPr>
            <a:xfrm>
              <a:off x="8229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V="1">
              <a:off x="8381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8534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V="1">
              <a:off x="8381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8153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4952880" y="3657600"/>
            <a:ext cx="457200" cy="457200"/>
            <a:chOff x="4952880" y="3657600"/>
            <a:chExt cx="457200" cy="457200"/>
          </a:xfrm>
        </p:grpSpPr>
        <p:sp>
          <p:nvSpPr>
            <p:cNvPr id="4632" name=""/>
            <p:cNvSpPr/>
            <p:nvPr/>
          </p:nvSpPr>
          <p:spPr>
            <a:xfrm>
              <a:off x="5029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flipV="1">
              <a:off x="5181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334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 flipV="1">
              <a:off x="5181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952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5410080" y="3657600"/>
            <a:ext cx="457200" cy="457200"/>
            <a:chOff x="5410080" y="3657600"/>
            <a:chExt cx="457200" cy="457200"/>
          </a:xfrm>
        </p:grpSpPr>
        <p:sp>
          <p:nvSpPr>
            <p:cNvPr id="4638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V="1">
              <a:off x="5638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791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5638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410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5867280" y="3657600"/>
            <a:ext cx="457200" cy="457200"/>
            <a:chOff x="5867280" y="3657600"/>
            <a:chExt cx="457200" cy="457200"/>
          </a:xfrm>
        </p:grpSpPr>
        <p:sp>
          <p:nvSpPr>
            <p:cNvPr id="4644" name=""/>
            <p:cNvSpPr/>
            <p:nvPr/>
          </p:nvSpPr>
          <p:spPr>
            <a:xfrm>
              <a:off x="5943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V="1">
              <a:off x="6095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248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flipV="1">
              <a:off x="6095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5867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324480" y="3657600"/>
            <a:ext cx="457200" cy="457200"/>
            <a:chOff x="6324480" y="3657600"/>
            <a:chExt cx="457200" cy="457200"/>
          </a:xfrm>
        </p:grpSpPr>
        <p:sp>
          <p:nvSpPr>
            <p:cNvPr id="4650" name=""/>
            <p:cNvSpPr/>
            <p:nvPr/>
          </p:nvSpPr>
          <p:spPr>
            <a:xfrm>
              <a:off x="64008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65530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7057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3244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6781680" y="4114800"/>
            <a:ext cx="457200" cy="457200"/>
            <a:chOff x="6781680" y="4114800"/>
            <a:chExt cx="457200" cy="457200"/>
          </a:xfrm>
        </p:grpSpPr>
        <p:sp>
          <p:nvSpPr>
            <p:cNvPr id="4656" name=""/>
            <p:cNvSpPr/>
            <p:nvPr/>
          </p:nvSpPr>
          <p:spPr>
            <a:xfrm>
              <a:off x="6858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V="1">
              <a:off x="7010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1629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7010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7816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7238880" y="4114800"/>
            <a:ext cx="457200" cy="457200"/>
            <a:chOff x="7238880" y="4114800"/>
            <a:chExt cx="457200" cy="457200"/>
          </a:xfrm>
        </p:grpSpPr>
        <p:sp>
          <p:nvSpPr>
            <p:cNvPr id="4662" name=""/>
            <p:cNvSpPr/>
            <p:nvPr/>
          </p:nvSpPr>
          <p:spPr>
            <a:xfrm>
              <a:off x="7315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 flipV="1">
              <a:off x="7467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620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7467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38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696080" y="4114800"/>
            <a:ext cx="457200" cy="457200"/>
            <a:chOff x="7696080" y="4114800"/>
            <a:chExt cx="457200" cy="457200"/>
          </a:xfrm>
        </p:grpSpPr>
        <p:sp>
          <p:nvSpPr>
            <p:cNvPr id="4668" name=""/>
            <p:cNvSpPr/>
            <p:nvPr/>
          </p:nvSpPr>
          <p:spPr>
            <a:xfrm>
              <a:off x="7772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V="1">
              <a:off x="7924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8077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V="1">
              <a:off x="7924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696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8153280" y="4114800"/>
            <a:ext cx="457200" cy="457200"/>
            <a:chOff x="8153280" y="4114800"/>
            <a:chExt cx="457200" cy="457200"/>
          </a:xfrm>
        </p:grpSpPr>
        <p:sp>
          <p:nvSpPr>
            <p:cNvPr id="4674" name=""/>
            <p:cNvSpPr/>
            <p:nvPr/>
          </p:nvSpPr>
          <p:spPr>
            <a:xfrm>
              <a:off x="8229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8381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8534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 flipV="1">
              <a:off x="8381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8153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4952880" y="4114800"/>
            <a:ext cx="457200" cy="457200"/>
            <a:chOff x="4952880" y="4114800"/>
            <a:chExt cx="457200" cy="457200"/>
          </a:xfrm>
        </p:grpSpPr>
        <p:sp>
          <p:nvSpPr>
            <p:cNvPr id="4680" name=""/>
            <p:cNvSpPr/>
            <p:nvPr/>
          </p:nvSpPr>
          <p:spPr>
            <a:xfrm>
              <a:off x="5029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5181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334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5181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952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5410080" y="4114800"/>
            <a:ext cx="457200" cy="457200"/>
            <a:chOff x="5410080" y="4114800"/>
            <a:chExt cx="457200" cy="457200"/>
          </a:xfrm>
        </p:grpSpPr>
        <p:sp>
          <p:nvSpPr>
            <p:cNvPr id="4686" name=""/>
            <p:cNvSpPr/>
            <p:nvPr/>
          </p:nvSpPr>
          <p:spPr>
            <a:xfrm>
              <a:off x="5486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5638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791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5638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410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5867280" y="4114800"/>
            <a:ext cx="457200" cy="457200"/>
            <a:chOff x="5867280" y="4114800"/>
            <a:chExt cx="457200" cy="457200"/>
          </a:xfrm>
        </p:grpSpPr>
        <p:sp>
          <p:nvSpPr>
            <p:cNvPr id="4692" name=""/>
            <p:cNvSpPr/>
            <p:nvPr/>
          </p:nvSpPr>
          <p:spPr>
            <a:xfrm>
              <a:off x="5943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 flipV="1">
              <a:off x="6095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6248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6095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867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6324480" y="4114800"/>
            <a:ext cx="457200" cy="457200"/>
            <a:chOff x="6324480" y="4114800"/>
            <a:chExt cx="457200" cy="457200"/>
          </a:xfrm>
        </p:grpSpPr>
        <p:sp>
          <p:nvSpPr>
            <p:cNvPr id="4698" name=""/>
            <p:cNvSpPr/>
            <p:nvPr/>
          </p:nvSpPr>
          <p:spPr>
            <a:xfrm>
              <a:off x="64008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 flipV="1">
              <a:off x="65530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67057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6553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3244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6781680" y="4572000"/>
            <a:ext cx="457200" cy="457200"/>
            <a:chOff x="6781680" y="4572000"/>
            <a:chExt cx="457200" cy="457200"/>
          </a:xfrm>
        </p:grpSpPr>
        <p:sp>
          <p:nvSpPr>
            <p:cNvPr id="4704" name=""/>
            <p:cNvSpPr/>
            <p:nvPr/>
          </p:nvSpPr>
          <p:spPr>
            <a:xfrm>
              <a:off x="68580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V="1">
              <a:off x="7010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1629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7010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7816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38880" y="4572000"/>
            <a:ext cx="457200" cy="457200"/>
            <a:chOff x="7238880" y="4572000"/>
            <a:chExt cx="457200" cy="457200"/>
          </a:xfrm>
        </p:grpSpPr>
        <p:sp>
          <p:nvSpPr>
            <p:cNvPr id="4710" name=""/>
            <p:cNvSpPr/>
            <p:nvPr/>
          </p:nvSpPr>
          <p:spPr>
            <a:xfrm>
              <a:off x="7315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V="1">
              <a:off x="7467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620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38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696080" y="4572000"/>
            <a:ext cx="457200" cy="457200"/>
            <a:chOff x="7696080" y="4572000"/>
            <a:chExt cx="457200" cy="457200"/>
          </a:xfrm>
        </p:grpSpPr>
        <p:sp>
          <p:nvSpPr>
            <p:cNvPr id="4716" name=""/>
            <p:cNvSpPr/>
            <p:nvPr/>
          </p:nvSpPr>
          <p:spPr>
            <a:xfrm>
              <a:off x="7772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flipV="1">
              <a:off x="7924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8077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 flipV="1">
              <a:off x="7924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96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8153280" y="4572000"/>
            <a:ext cx="457200" cy="457200"/>
            <a:chOff x="8153280" y="4572000"/>
            <a:chExt cx="457200" cy="457200"/>
          </a:xfrm>
        </p:grpSpPr>
        <p:sp>
          <p:nvSpPr>
            <p:cNvPr id="4722" name=""/>
            <p:cNvSpPr/>
            <p:nvPr/>
          </p:nvSpPr>
          <p:spPr>
            <a:xfrm>
              <a:off x="8229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 flipV="1">
              <a:off x="8381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534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 flipV="1">
              <a:off x="8381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8153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4952880" y="4572000"/>
            <a:ext cx="457200" cy="457200"/>
            <a:chOff x="4952880" y="4572000"/>
            <a:chExt cx="457200" cy="457200"/>
          </a:xfrm>
        </p:grpSpPr>
        <p:sp>
          <p:nvSpPr>
            <p:cNvPr id="4728" name=""/>
            <p:cNvSpPr/>
            <p:nvPr/>
          </p:nvSpPr>
          <p:spPr>
            <a:xfrm>
              <a:off x="5029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5181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5334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V="1">
              <a:off x="5181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952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10080" y="4572000"/>
            <a:ext cx="457200" cy="457200"/>
            <a:chOff x="5410080" y="4572000"/>
            <a:chExt cx="457200" cy="457200"/>
          </a:xfrm>
        </p:grpSpPr>
        <p:sp>
          <p:nvSpPr>
            <p:cNvPr id="4734" name=""/>
            <p:cNvSpPr/>
            <p:nvPr/>
          </p:nvSpPr>
          <p:spPr>
            <a:xfrm>
              <a:off x="5486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V="1">
              <a:off x="5638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5791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V="1">
              <a:off x="5638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5410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5867280" y="4572000"/>
            <a:ext cx="457200" cy="457200"/>
            <a:chOff x="5867280" y="4572000"/>
            <a:chExt cx="457200" cy="457200"/>
          </a:xfrm>
        </p:grpSpPr>
        <p:sp>
          <p:nvSpPr>
            <p:cNvPr id="4740" name=""/>
            <p:cNvSpPr/>
            <p:nvPr/>
          </p:nvSpPr>
          <p:spPr>
            <a:xfrm>
              <a:off x="5943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V="1">
              <a:off x="6095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248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V="1">
              <a:off x="6095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5867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6324480" y="4572000"/>
            <a:ext cx="457200" cy="457200"/>
            <a:chOff x="6324480" y="4572000"/>
            <a:chExt cx="457200" cy="457200"/>
          </a:xfrm>
        </p:grpSpPr>
        <p:sp>
          <p:nvSpPr>
            <p:cNvPr id="4746" name=""/>
            <p:cNvSpPr/>
            <p:nvPr/>
          </p:nvSpPr>
          <p:spPr>
            <a:xfrm>
              <a:off x="64008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 flipV="1">
              <a:off x="65530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7057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 flipV="1">
              <a:off x="6553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63244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6781680" y="5029200"/>
            <a:ext cx="457200" cy="457200"/>
            <a:chOff x="6781680" y="5029200"/>
            <a:chExt cx="457200" cy="457200"/>
          </a:xfrm>
        </p:grpSpPr>
        <p:sp>
          <p:nvSpPr>
            <p:cNvPr id="4752" name=""/>
            <p:cNvSpPr/>
            <p:nvPr/>
          </p:nvSpPr>
          <p:spPr>
            <a:xfrm>
              <a:off x="68580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flipV="1">
              <a:off x="7010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1629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7816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7238880" y="5029200"/>
            <a:ext cx="457200" cy="457200"/>
            <a:chOff x="7238880" y="5029200"/>
            <a:chExt cx="457200" cy="457200"/>
          </a:xfrm>
        </p:grpSpPr>
        <p:sp>
          <p:nvSpPr>
            <p:cNvPr id="4758" name=""/>
            <p:cNvSpPr/>
            <p:nvPr/>
          </p:nvSpPr>
          <p:spPr>
            <a:xfrm>
              <a:off x="7315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V="1">
              <a:off x="7467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620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238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696080" y="5029200"/>
            <a:ext cx="457200" cy="457200"/>
            <a:chOff x="7696080" y="5029200"/>
            <a:chExt cx="457200" cy="457200"/>
          </a:xfrm>
        </p:grpSpPr>
        <p:sp>
          <p:nvSpPr>
            <p:cNvPr id="4764" name=""/>
            <p:cNvSpPr/>
            <p:nvPr/>
          </p:nvSpPr>
          <p:spPr>
            <a:xfrm>
              <a:off x="7772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7924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8077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696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8153280" y="5029200"/>
            <a:ext cx="457200" cy="457200"/>
            <a:chOff x="8153280" y="5029200"/>
            <a:chExt cx="457200" cy="457200"/>
          </a:xfrm>
        </p:grpSpPr>
        <p:sp>
          <p:nvSpPr>
            <p:cNvPr id="4770" name=""/>
            <p:cNvSpPr/>
            <p:nvPr/>
          </p:nvSpPr>
          <p:spPr>
            <a:xfrm>
              <a:off x="8229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8381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8534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V="1">
              <a:off x="8381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8153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4952880" y="5029200"/>
            <a:ext cx="457200" cy="457200"/>
            <a:chOff x="4952880" y="5029200"/>
            <a:chExt cx="457200" cy="457200"/>
          </a:xfrm>
        </p:grpSpPr>
        <p:sp>
          <p:nvSpPr>
            <p:cNvPr id="4776" name=""/>
            <p:cNvSpPr/>
            <p:nvPr/>
          </p:nvSpPr>
          <p:spPr>
            <a:xfrm>
              <a:off x="5029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 flipV="1">
              <a:off x="5181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5334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952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5410080" y="5029200"/>
            <a:ext cx="457200" cy="457200"/>
            <a:chOff x="5410080" y="5029200"/>
            <a:chExt cx="457200" cy="457200"/>
          </a:xfrm>
        </p:grpSpPr>
        <p:sp>
          <p:nvSpPr>
            <p:cNvPr id="4782" name=""/>
            <p:cNvSpPr/>
            <p:nvPr/>
          </p:nvSpPr>
          <p:spPr>
            <a:xfrm>
              <a:off x="5486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 flipV="1">
              <a:off x="5638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5791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10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5867280" y="5029200"/>
            <a:ext cx="457200" cy="457200"/>
            <a:chOff x="5867280" y="5029200"/>
            <a:chExt cx="457200" cy="457200"/>
          </a:xfrm>
        </p:grpSpPr>
        <p:sp>
          <p:nvSpPr>
            <p:cNvPr id="4788" name=""/>
            <p:cNvSpPr/>
            <p:nvPr/>
          </p:nvSpPr>
          <p:spPr>
            <a:xfrm>
              <a:off x="5943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flipV="1">
              <a:off x="6095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6248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867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6324480" y="5029200"/>
            <a:ext cx="457200" cy="457200"/>
            <a:chOff x="6324480" y="5029200"/>
            <a:chExt cx="457200" cy="457200"/>
          </a:xfrm>
        </p:grpSpPr>
        <p:sp>
          <p:nvSpPr>
            <p:cNvPr id="4794" name=""/>
            <p:cNvSpPr/>
            <p:nvPr/>
          </p:nvSpPr>
          <p:spPr>
            <a:xfrm>
              <a:off x="64008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flipV="1">
              <a:off x="65530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67057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324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6781680" y="5486400"/>
            <a:ext cx="457200" cy="457200"/>
            <a:chOff x="6781680" y="5486400"/>
            <a:chExt cx="457200" cy="457200"/>
          </a:xfrm>
        </p:grpSpPr>
        <p:sp>
          <p:nvSpPr>
            <p:cNvPr id="4800" name=""/>
            <p:cNvSpPr/>
            <p:nvPr/>
          </p:nvSpPr>
          <p:spPr>
            <a:xfrm>
              <a:off x="68580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7010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1629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flipV="1">
              <a:off x="7010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67816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38880" y="5486400"/>
            <a:ext cx="457200" cy="457200"/>
            <a:chOff x="7238880" y="5486400"/>
            <a:chExt cx="457200" cy="457200"/>
          </a:xfrm>
        </p:grpSpPr>
        <p:sp>
          <p:nvSpPr>
            <p:cNvPr id="4806" name=""/>
            <p:cNvSpPr/>
            <p:nvPr/>
          </p:nvSpPr>
          <p:spPr>
            <a:xfrm>
              <a:off x="7315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flipV="1">
              <a:off x="7467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7620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7467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38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696080" y="5486400"/>
            <a:ext cx="457200" cy="457200"/>
            <a:chOff x="7696080" y="5486400"/>
            <a:chExt cx="457200" cy="457200"/>
          </a:xfrm>
        </p:grpSpPr>
        <p:sp>
          <p:nvSpPr>
            <p:cNvPr id="4812" name=""/>
            <p:cNvSpPr/>
            <p:nvPr/>
          </p:nvSpPr>
          <p:spPr>
            <a:xfrm>
              <a:off x="7772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flipV="1">
              <a:off x="7924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8077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7924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696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8153280" y="5486400"/>
            <a:ext cx="457200" cy="457200"/>
            <a:chOff x="8153280" y="5486400"/>
            <a:chExt cx="457200" cy="457200"/>
          </a:xfrm>
        </p:grpSpPr>
        <p:sp>
          <p:nvSpPr>
            <p:cNvPr id="4818" name=""/>
            <p:cNvSpPr/>
            <p:nvPr/>
          </p:nvSpPr>
          <p:spPr>
            <a:xfrm>
              <a:off x="8229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 flipV="1">
              <a:off x="8381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8534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flipV="1">
              <a:off x="8381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8153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4952880" y="5486400"/>
            <a:ext cx="457200" cy="457200"/>
            <a:chOff x="4952880" y="5486400"/>
            <a:chExt cx="457200" cy="457200"/>
          </a:xfrm>
        </p:grpSpPr>
        <p:sp>
          <p:nvSpPr>
            <p:cNvPr id="4824" name=""/>
            <p:cNvSpPr/>
            <p:nvPr/>
          </p:nvSpPr>
          <p:spPr>
            <a:xfrm>
              <a:off x="5029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5181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34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V="1">
              <a:off x="5181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52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9" name=""/>
          <p:cNvGrpSpPr/>
          <p:nvPr/>
        </p:nvGrpSpPr>
        <p:grpSpPr>
          <a:xfrm>
            <a:off x="5410080" y="5486400"/>
            <a:ext cx="457200" cy="457200"/>
            <a:chOff x="5410080" y="5486400"/>
            <a:chExt cx="457200" cy="457200"/>
          </a:xfrm>
        </p:grpSpPr>
        <p:sp>
          <p:nvSpPr>
            <p:cNvPr id="4830" name=""/>
            <p:cNvSpPr/>
            <p:nvPr/>
          </p:nvSpPr>
          <p:spPr>
            <a:xfrm>
              <a:off x="5486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V="1">
              <a:off x="5638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791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5638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410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67280" y="5486400"/>
            <a:ext cx="457200" cy="457200"/>
            <a:chOff x="5867280" y="5486400"/>
            <a:chExt cx="457200" cy="457200"/>
          </a:xfrm>
        </p:grpSpPr>
        <p:sp>
          <p:nvSpPr>
            <p:cNvPr id="4836" name=""/>
            <p:cNvSpPr/>
            <p:nvPr/>
          </p:nvSpPr>
          <p:spPr>
            <a:xfrm>
              <a:off x="5943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6095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248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V="1">
              <a:off x="6095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867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1" name=""/>
          <p:cNvGrpSpPr/>
          <p:nvPr/>
        </p:nvGrpSpPr>
        <p:grpSpPr>
          <a:xfrm>
            <a:off x="6324480" y="5486400"/>
            <a:ext cx="457200" cy="457200"/>
            <a:chOff x="6324480" y="5486400"/>
            <a:chExt cx="457200" cy="457200"/>
          </a:xfrm>
        </p:grpSpPr>
        <p:sp>
          <p:nvSpPr>
            <p:cNvPr id="4842" name=""/>
            <p:cNvSpPr/>
            <p:nvPr/>
          </p:nvSpPr>
          <p:spPr>
            <a:xfrm>
              <a:off x="64008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V="1">
              <a:off x="65530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7057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6553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3244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7" name=""/>
          <p:cNvSpPr/>
          <p:nvPr/>
        </p:nvSpPr>
        <p:spPr>
          <a:xfrm>
            <a:off x="5488200" y="5029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 flipV="1">
            <a:off x="563868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 flipV="1">
            <a:off x="563868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57913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 flipV="1">
            <a:off x="6095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V="1">
            <a:off x="609588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6248520" y="34290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6705720" y="2971800"/>
            <a:ext cx="3045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 flipV="1">
            <a:off x="6553080" y="297144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 flipV="1">
            <a:off x="7467480" y="312372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7162920" y="2971800"/>
            <a:ext cx="30456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731664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5488200" y="4114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6477120" y="3352680"/>
            <a:ext cx="15228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6477120" y="3429000"/>
            <a:ext cx="1522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6098040" y="3886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6019920" y="3809880"/>
            <a:ext cx="15228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6554520" y="3429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6705720" y="342900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162920" y="3429000"/>
            <a:ext cx="304560" cy="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E50-08C8-4A09-AC8D-353FEDBEDD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 Propert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take random minimal path except in cases of extreme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 Routers are inherently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ity reduces lat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creases through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packets sel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incrementally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ngestion …they ta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e paths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914400" y="5486400"/>
            <a:ext cx="3962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ckets can be delivered out of order and must be reassemb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5943600" y="3733920"/>
            <a:ext cx="2133720" cy="21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1" name=""/>
          <p:cNvGrpSpPr/>
          <p:nvPr/>
        </p:nvGrpSpPr>
        <p:grpSpPr>
          <a:xfrm>
            <a:off x="7238880" y="3200400"/>
            <a:ext cx="457200" cy="457200"/>
            <a:chOff x="7238880" y="3200400"/>
            <a:chExt cx="457200" cy="457200"/>
          </a:xfrm>
        </p:grpSpPr>
        <p:sp>
          <p:nvSpPr>
            <p:cNvPr id="4872" name=""/>
            <p:cNvSpPr/>
            <p:nvPr/>
          </p:nvSpPr>
          <p:spPr>
            <a:xfrm>
              <a:off x="73152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467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76201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74674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72388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7" name=""/>
          <p:cNvGrpSpPr/>
          <p:nvPr/>
        </p:nvGrpSpPr>
        <p:grpSpPr>
          <a:xfrm>
            <a:off x="7696080" y="3200400"/>
            <a:ext cx="457200" cy="457200"/>
            <a:chOff x="7696080" y="3200400"/>
            <a:chExt cx="457200" cy="457200"/>
          </a:xfrm>
        </p:grpSpPr>
        <p:sp>
          <p:nvSpPr>
            <p:cNvPr id="4878" name=""/>
            <p:cNvSpPr/>
            <p:nvPr/>
          </p:nvSpPr>
          <p:spPr>
            <a:xfrm>
              <a:off x="7772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7924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8077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7924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7696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3" name=""/>
          <p:cNvGrpSpPr/>
          <p:nvPr/>
        </p:nvGrpSpPr>
        <p:grpSpPr>
          <a:xfrm>
            <a:off x="8153280" y="3200400"/>
            <a:ext cx="457200" cy="457200"/>
            <a:chOff x="8153280" y="3200400"/>
            <a:chExt cx="457200" cy="457200"/>
          </a:xfrm>
        </p:grpSpPr>
        <p:sp>
          <p:nvSpPr>
            <p:cNvPr id="4884" name=""/>
            <p:cNvSpPr/>
            <p:nvPr/>
          </p:nvSpPr>
          <p:spPr>
            <a:xfrm>
              <a:off x="8229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V="1">
              <a:off x="8381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8534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8381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8153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410080" y="3200400"/>
            <a:ext cx="457200" cy="457200"/>
            <a:chOff x="5410080" y="3200400"/>
            <a:chExt cx="457200" cy="457200"/>
          </a:xfrm>
        </p:grpSpPr>
        <p:sp>
          <p:nvSpPr>
            <p:cNvPr id="4890" name=""/>
            <p:cNvSpPr/>
            <p:nvPr/>
          </p:nvSpPr>
          <p:spPr>
            <a:xfrm>
              <a:off x="54864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6386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7913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56386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4100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5" name=""/>
          <p:cNvGrpSpPr/>
          <p:nvPr/>
        </p:nvGrpSpPr>
        <p:grpSpPr>
          <a:xfrm>
            <a:off x="5867280" y="3200400"/>
            <a:ext cx="457200" cy="457200"/>
            <a:chOff x="5867280" y="3200400"/>
            <a:chExt cx="457200" cy="457200"/>
          </a:xfrm>
        </p:grpSpPr>
        <p:sp>
          <p:nvSpPr>
            <p:cNvPr id="4896" name=""/>
            <p:cNvSpPr/>
            <p:nvPr/>
          </p:nvSpPr>
          <p:spPr>
            <a:xfrm>
              <a:off x="59436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60958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62485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60958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8672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1" name=""/>
          <p:cNvGrpSpPr/>
          <p:nvPr/>
        </p:nvGrpSpPr>
        <p:grpSpPr>
          <a:xfrm>
            <a:off x="6324480" y="3200400"/>
            <a:ext cx="457200" cy="457200"/>
            <a:chOff x="6324480" y="3200400"/>
            <a:chExt cx="457200" cy="457200"/>
          </a:xfrm>
        </p:grpSpPr>
        <p:sp>
          <p:nvSpPr>
            <p:cNvPr id="4902" name=""/>
            <p:cNvSpPr/>
            <p:nvPr/>
          </p:nvSpPr>
          <p:spPr>
            <a:xfrm>
              <a:off x="6400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65530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7057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65530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3244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6781680" y="3200400"/>
            <a:ext cx="457200" cy="457200"/>
            <a:chOff x="6781680" y="3200400"/>
            <a:chExt cx="457200" cy="457200"/>
          </a:xfrm>
        </p:grpSpPr>
        <p:sp>
          <p:nvSpPr>
            <p:cNvPr id="4908" name=""/>
            <p:cNvSpPr/>
            <p:nvPr/>
          </p:nvSpPr>
          <p:spPr>
            <a:xfrm>
              <a:off x="68580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70102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16292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V="1">
              <a:off x="7010280" y="3581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781680" y="3429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3" name=""/>
          <p:cNvGrpSpPr/>
          <p:nvPr/>
        </p:nvGrpSpPr>
        <p:grpSpPr>
          <a:xfrm>
            <a:off x="7238880" y="3657600"/>
            <a:ext cx="457200" cy="457200"/>
            <a:chOff x="7238880" y="3657600"/>
            <a:chExt cx="457200" cy="457200"/>
          </a:xfrm>
        </p:grpSpPr>
        <p:sp>
          <p:nvSpPr>
            <p:cNvPr id="4914" name=""/>
            <p:cNvSpPr/>
            <p:nvPr/>
          </p:nvSpPr>
          <p:spPr>
            <a:xfrm>
              <a:off x="73152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V="1">
              <a:off x="74674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76201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V="1">
              <a:off x="74674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2388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9" name=""/>
          <p:cNvGrpSpPr/>
          <p:nvPr/>
        </p:nvGrpSpPr>
        <p:grpSpPr>
          <a:xfrm>
            <a:off x="7696080" y="3657600"/>
            <a:ext cx="457200" cy="457200"/>
            <a:chOff x="7696080" y="3657600"/>
            <a:chExt cx="457200" cy="457200"/>
          </a:xfrm>
        </p:grpSpPr>
        <p:sp>
          <p:nvSpPr>
            <p:cNvPr id="4920" name=""/>
            <p:cNvSpPr/>
            <p:nvPr/>
          </p:nvSpPr>
          <p:spPr>
            <a:xfrm>
              <a:off x="7772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flipV="1">
              <a:off x="7924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8077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 flipV="1">
              <a:off x="7924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7696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8153280" y="3657600"/>
            <a:ext cx="457200" cy="457200"/>
            <a:chOff x="8153280" y="3657600"/>
            <a:chExt cx="457200" cy="457200"/>
          </a:xfrm>
        </p:grpSpPr>
        <p:sp>
          <p:nvSpPr>
            <p:cNvPr id="4926" name=""/>
            <p:cNvSpPr/>
            <p:nvPr/>
          </p:nvSpPr>
          <p:spPr>
            <a:xfrm>
              <a:off x="8229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 flipV="1">
              <a:off x="8381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8534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 flipV="1">
              <a:off x="8381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8153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1" name=""/>
          <p:cNvGrpSpPr/>
          <p:nvPr/>
        </p:nvGrpSpPr>
        <p:grpSpPr>
          <a:xfrm>
            <a:off x="5410080" y="3657600"/>
            <a:ext cx="457200" cy="457200"/>
            <a:chOff x="5410080" y="3657600"/>
            <a:chExt cx="457200" cy="457200"/>
          </a:xfrm>
        </p:grpSpPr>
        <p:sp>
          <p:nvSpPr>
            <p:cNvPr id="4932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 flipV="1">
              <a:off x="56386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7913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 flipV="1">
              <a:off x="56386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4100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5867280" y="3657600"/>
            <a:ext cx="457200" cy="457200"/>
            <a:chOff x="5867280" y="3657600"/>
            <a:chExt cx="457200" cy="457200"/>
          </a:xfrm>
        </p:grpSpPr>
        <p:sp>
          <p:nvSpPr>
            <p:cNvPr id="4938" name=""/>
            <p:cNvSpPr/>
            <p:nvPr/>
          </p:nvSpPr>
          <p:spPr>
            <a:xfrm>
              <a:off x="59436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 flipV="1">
              <a:off x="60958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2485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V="1">
              <a:off x="60958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8672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3" name=""/>
          <p:cNvGrpSpPr/>
          <p:nvPr/>
        </p:nvGrpSpPr>
        <p:grpSpPr>
          <a:xfrm>
            <a:off x="6324480" y="3657600"/>
            <a:ext cx="457200" cy="457200"/>
            <a:chOff x="6324480" y="3657600"/>
            <a:chExt cx="457200" cy="457200"/>
          </a:xfrm>
        </p:grpSpPr>
        <p:sp>
          <p:nvSpPr>
            <p:cNvPr id="4944" name=""/>
            <p:cNvSpPr/>
            <p:nvPr/>
          </p:nvSpPr>
          <p:spPr>
            <a:xfrm>
              <a:off x="64008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flipV="1">
              <a:off x="65530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7057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63244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9" name=""/>
          <p:cNvGrpSpPr/>
          <p:nvPr/>
        </p:nvGrpSpPr>
        <p:grpSpPr>
          <a:xfrm>
            <a:off x="6781680" y="3657600"/>
            <a:ext cx="457200" cy="457200"/>
            <a:chOff x="6781680" y="3657600"/>
            <a:chExt cx="457200" cy="457200"/>
          </a:xfrm>
        </p:grpSpPr>
        <p:sp>
          <p:nvSpPr>
            <p:cNvPr id="4950" name=""/>
            <p:cNvSpPr/>
            <p:nvPr/>
          </p:nvSpPr>
          <p:spPr>
            <a:xfrm>
              <a:off x="6858000" y="3733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V="1">
              <a:off x="701028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16292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7010280" y="4038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78168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5" name=""/>
          <p:cNvGrpSpPr/>
          <p:nvPr/>
        </p:nvGrpSpPr>
        <p:grpSpPr>
          <a:xfrm>
            <a:off x="7238880" y="4114800"/>
            <a:ext cx="457200" cy="457200"/>
            <a:chOff x="7238880" y="4114800"/>
            <a:chExt cx="457200" cy="457200"/>
          </a:xfrm>
        </p:grpSpPr>
        <p:sp>
          <p:nvSpPr>
            <p:cNvPr id="4956" name=""/>
            <p:cNvSpPr/>
            <p:nvPr/>
          </p:nvSpPr>
          <p:spPr>
            <a:xfrm>
              <a:off x="73152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V="1">
              <a:off x="74674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6201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V="1">
              <a:off x="74674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72388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1" name=""/>
          <p:cNvGrpSpPr/>
          <p:nvPr/>
        </p:nvGrpSpPr>
        <p:grpSpPr>
          <a:xfrm>
            <a:off x="7696080" y="4114800"/>
            <a:ext cx="457200" cy="457200"/>
            <a:chOff x="7696080" y="4114800"/>
            <a:chExt cx="457200" cy="457200"/>
          </a:xfrm>
        </p:grpSpPr>
        <p:sp>
          <p:nvSpPr>
            <p:cNvPr id="4962" name=""/>
            <p:cNvSpPr/>
            <p:nvPr/>
          </p:nvSpPr>
          <p:spPr>
            <a:xfrm>
              <a:off x="7772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7924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8077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flipV="1">
              <a:off x="7924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7696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7" name=""/>
          <p:cNvGrpSpPr/>
          <p:nvPr/>
        </p:nvGrpSpPr>
        <p:grpSpPr>
          <a:xfrm>
            <a:off x="8153280" y="4114800"/>
            <a:ext cx="457200" cy="457200"/>
            <a:chOff x="8153280" y="4114800"/>
            <a:chExt cx="457200" cy="457200"/>
          </a:xfrm>
        </p:grpSpPr>
        <p:sp>
          <p:nvSpPr>
            <p:cNvPr id="4968" name=""/>
            <p:cNvSpPr/>
            <p:nvPr/>
          </p:nvSpPr>
          <p:spPr>
            <a:xfrm>
              <a:off x="8229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8381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8534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8381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8153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3" name=""/>
          <p:cNvGrpSpPr/>
          <p:nvPr/>
        </p:nvGrpSpPr>
        <p:grpSpPr>
          <a:xfrm>
            <a:off x="5410080" y="4114800"/>
            <a:ext cx="457200" cy="457200"/>
            <a:chOff x="5410080" y="4114800"/>
            <a:chExt cx="457200" cy="457200"/>
          </a:xfrm>
        </p:grpSpPr>
        <p:sp>
          <p:nvSpPr>
            <p:cNvPr id="4974" name=""/>
            <p:cNvSpPr/>
            <p:nvPr/>
          </p:nvSpPr>
          <p:spPr>
            <a:xfrm>
              <a:off x="54864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56386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7913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 flipV="1">
              <a:off x="56386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4100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9" name=""/>
          <p:cNvGrpSpPr/>
          <p:nvPr/>
        </p:nvGrpSpPr>
        <p:grpSpPr>
          <a:xfrm>
            <a:off x="5867280" y="4114800"/>
            <a:ext cx="457200" cy="457200"/>
            <a:chOff x="5867280" y="4114800"/>
            <a:chExt cx="457200" cy="457200"/>
          </a:xfrm>
        </p:grpSpPr>
        <p:sp>
          <p:nvSpPr>
            <p:cNvPr id="4980" name=""/>
            <p:cNvSpPr/>
            <p:nvPr/>
          </p:nvSpPr>
          <p:spPr>
            <a:xfrm>
              <a:off x="59436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958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485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60958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8672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5" name=""/>
          <p:cNvGrpSpPr/>
          <p:nvPr/>
        </p:nvGrpSpPr>
        <p:grpSpPr>
          <a:xfrm>
            <a:off x="6324480" y="4114800"/>
            <a:ext cx="457200" cy="457200"/>
            <a:chOff x="6324480" y="4114800"/>
            <a:chExt cx="457200" cy="457200"/>
          </a:xfrm>
        </p:grpSpPr>
        <p:sp>
          <p:nvSpPr>
            <p:cNvPr id="4986" name=""/>
            <p:cNvSpPr/>
            <p:nvPr/>
          </p:nvSpPr>
          <p:spPr>
            <a:xfrm>
              <a:off x="64008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65530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7057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V="1">
              <a:off x="65530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3244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6781680" y="4114800"/>
            <a:ext cx="457200" cy="457200"/>
            <a:chOff x="6781680" y="4114800"/>
            <a:chExt cx="457200" cy="457200"/>
          </a:xfrm>
        </p:grpSpPr>
        <p:sp>
          <p:nvSpPr>
            <p:cNvPr id="4992" name=""/>
            <p:cNvSpPr/>
            <p:nvPr/>
          </p:nvSpPr>
          <p:spPr>
            <a:xfrm>
              <a:off x="6858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V="1">
              <a:off x="7010280" y="4114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16292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V="1">
              <a:off x="701028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781680" y="4343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7238880" y="4572000"/>
            <a:ext cx="457200" cy="457200"/>
            <a:chOff x="7238880" y="4572000"/>
            <a:chExt cx="457200" cy="457200"/>
          </a:xfrm>
        </p:grpSpPr>
        <p:sp>
          <p:nvSpPr>
            <p:cNvPr id="4998" name=""/>
            <p:cNvSpPr/>
            <p:nvPr/>
          </p:nvSpPr>
          <p:spPr>
            <a:xfrm>
              <a:off x="73152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 flipV="1">
              <a:off x="74674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6201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74674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72388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3" name=""/>
          <p:cNvGrpSpPr/>
          <p:nvPr/>
        </p:nvGrpSpPr>
        <p:grpSpPr>
          <a:xfrm>
            <a:off x="7696080" y="4572000"/>
            <a:ext cx="457200" cy="457200"/>
            <a:chOff x="7696080" y="4572000"/>
            <a:chExt cx="457200" cy="457200"/>
          </a:xfrm>
        </p:grpSpPr>
        <p:sp>
          <p:nvSpPr>
            <p:cNvPr id="5004" name=""/>
            <p:cNvSpPr/>
            <p:nvPr/>
          </p:nvSpPr>
          <p:spPr>
            <a:xfrm>
              <a:off x="7772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V="1">
              <a:off x="7924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8077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V="1">
              <a:off x="7924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7696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9" name=""/>
          <p:cNvGrpSpPr/>
          <p:nvPr/>
        </p:nvGrpSpPr>
        <p:grpSpPr>
          <a:xfrm>
            <a:off x="8153280" y="4572000"/>
            <a:ext cx="457200" cy="457200"/>
            <a:chOff x="8153280" y="4572000"/>
            <a:chExt cx="457200" cy="457200"/>
          </a:xfrm>
        </p:grpSpPr>
        <p:sp>
          <p:nvSpPr>
            <p:cNvPr id="5010" name=""/>
            <p:cNvSpPr/>
            <p:nvPr/>
          </p:nvSpPr>
          <p:spPr>
            <a:xfrm>
              <a:off x="8229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8381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8534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V="1">
              <a:off x="8381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8153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5410080" y="4572000"/>
            <a:ext cx="457200" cy="457200"/>
            <a:chOff x="5410080" y="4572000"/>
            <a:chExt cx="457200" cy="457200"/>
          </a:xfrm>
        </p:grpSpPr>
        <p:sp>
          <p:nvSpPr>
            <p:cNvPr id="5016" name=""/>
            <p:cNvSpPr/>
            <p:nvPr/>
          </p:nvSpPr>
          <p:spPr>
            <a:xfrm>
              <a:off x="54864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V="1">
              <a:off x="56386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7913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56386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4100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1" name=""/>
          <p:cNvGrpSpPr/>
          <p:nvPr/>
        </p:nvGrpSpPr>
        <p:grpSpPr>
          <a:xfrm>
            <a:off x="5867280" y="4572000"/>
            <a:ext cx="457200" cy="457200"/>
            <a:chOff x="5867280" y="4572000"/>
            <a:chExt cx="457200" cy="457200"/>
          </a:xfrm>
        </p:grpSpPr>
        <p:sp>
          <p:nvSpPr>
            <p:cNvPr id="5022" name=""/>
            <p:cNvSpPr/>
            <p:nvPr/>
          </p:nvSpPr>
          <p:spPr>
            <a:xfrm>
              <a:off x="59436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V="1">
              <a:off x="60958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2485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60958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8672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7" name=""/>
          <p:cNvGrpSpPr/>
          <p:nvPr/>
        </p:nvGrpSpPr>
        <p:grpSpPr>
          <a:xfrm>
            <a:off x="6324480" y="4572000"/>
            <a:ext cx="457200" cy="457200"/>
            <a:chOff x="6324480" y="4572000"/>
            <a:chExt cx="457200" cy="457200"/>
          </a:xfrm>
        </p:grpSpPr>
        <p:sp>
          <p:nvSpPr>
            <p:cNvPr id="5028" name=""/>
            <p:cNvSpPr/>
            <p:nvPr/>
          </p:nvSpPr>
          <p:spPr>
            <a:xfrm>
              <a:off x="64008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 flipV="1">
              <a:off x="65530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7057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65530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63244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3" name=""/>
          <p:cNvGrpSpPr/>
          <p:nvPr/>
        </p:nvGrpSpPr>
        <p:grpSpPr>
          <a:xfrm>
            <a:off x="6781680" y="4572000"/>
            <a:ext cx="457200" cy="457200"/>
            <a:chOff x="6781680" y="4572000"/>
            <a:chExt cx="457200" cy="457200"/>
          </a:xfrm>
        </p:grpSpPr>
        <p:sp>
          <p:nvSpPr>
            <p:cNvPr id="5034" name=""/>
            <p:cNvSpPr/>
            <p:nvPr/>
          </p:nvSpPr>
          <p:spPr>
            <a:xfrm>
              <a:off x="6858000" y="4648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7010280" y="4572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16292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 flipV="1">
              <a:off x="7010280" y="4952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781680" y="4800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7238880" y="5029200"/>
            <a:ext cx="457200" cy="457200"/>
            <a:chOff x="7238880" y="5029200"/>
            <a:chExt cx="457200" cy="457200"/>
          </a:xfrm>
        </p:grpSpPr>
        <p:sp>
          <p:nvSpPr>
            <p:cNvPr id="5040" name=""/>
            <p:cNvSpPr/>
            <p:nvPr/>
          </p:nvSpPr>
          <p:spPr>
            <a:xfrm>
              <a:off x="73152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74674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6201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2388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5" name=""/>
          <p:cNvGrpSpPr/>
          <p:nvPr/>
        </p:nvGrpSpPr>
        <p:grpSpPr>
          <a:xfrm>
            <a:off x="7696080" y="5029200"/>
            <a:ext cx="457200" cy="457200"/>
            <a:chOff x="7696080" y="5029200"/>
            <a:chExt cx="457200" cy="457200"/>
          </a:xfrm>
        </p:grpSpPr>
        <p:sp>
          <p:nvSpPr>
            <p:cNvPr id="5046" name=""/>
            <p:cNvSpPr/>
            <p:nvPr/>
          </p:nvSpPr>
          <p:spPr>
            <a:xfrm>
              <a:off x="7772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7924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8077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696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1" name=""/>
          <p:cNvGrpSpPr/>
          <p:nvPr/>
        </p:nvGrpSpPr>
        <p:grpSpPr>
          <a:xfrm>
            <a:off x="8153280" y="5029200"/>
            <a:ext cx="457200" cy="457200"/>
            <a:chOff x="8153280" y="5029200"/>
            <a:chExt cx="457200" cy="457200"/>
          </a:xfrm>
        </p:grpSpPr>
        <p:sp>
          <p:nvSpPr>
            <p:cNvPr id="5052" name=""/>
            <p:cNvSpPr/>
            <p:nvPr/>
          </p:nvSpPr>
          <p:spPr>
            <a:xfrm>
              <a:off x="8229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flipV="1">
              <a:off x="8381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8534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V="1">
              <a:off x="8381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8153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5410080" y="5029200"/>
            <a:ext cx="457200" cy="457200"/>
            <a:chOff x="5410080" y="5029200"/>
            <a:chExt cx="457200" cy="457200"/>
          </a:xfrm>
        </p:grpSpPr>
        <p:sp>
          <p:nvSpPr>
            <p:cNvPr id="5058" name=""/>
            <p:cNvSpPr/>
            <p:nvPr/>
          </p:nvSpPr>
          <p:spPr>
            <a:xfrm>
              <a:off x="54864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V="1">
              <a:off x="56386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7913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100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3" name=""/>
          <p:cNvGrpSpPr/>
          <p:nvPr/>
        </p:nvGrpSpPr>
        <p:grpSpPr>
          <a:xfrm>
            <a:off x="5867280" y="5029200"/>
            <a:ext cx="457200" cy="457200"/>
            <a:chOff x="5867280" y="5029200"/>
            <a:chExt cx="457200" cy="457200"/>
          </a:xfrm>
        </p:grpSpPr>
        <p:sp>
          <p:nvSpPr>
            <p:cNvPr id="5064" name=""/>
            <p:cNvSpPr/>
            <p:nvPr/>
          </p:nvSpPr>
          <p:spPr>
            <a:xfrm>
              <a:off x="59436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V="1">
              <a:off x="60958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62485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8672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9" name=""/>
          <p:cNvGrpSpPr/>
          <p:nvPr/>
        </p:nvGrpSpPr>
        <p:grpSpPr>
          <a:xfrm>
            <a:off x="6324480" y="5029200"/>
            <a:ext cx="457200" cy="457200"/>
            <a:chOff x="6324480" y="5029200"/>
            <a:chExt cx="457200" cy="457200"/>
          </a:xfrm>
        </p:grpSpPr>
        <p:sp>
          <p:nvSpPr>
            <p:cNvPr id="5070" name=""/>
            <p:cNvSpPr/>
            <p:nvPr/>
          </p:nvSpPr>
          <p:spPr>
            <a:xfrm>
              <a:off x="64008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flipV="1">
              <a:off x="65530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7057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3244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6781680" y="5029200"/>
            <a:ext cx="457200" cy="457200"/>
            <a:chOff x="6781680" y="5029200"/>
            <a:chExt cx="457200" cy="457200"/>
          </a:xfrm>
        </p:grpSpPr>
        <p:sp>
          <p:nvSpPr>
            <p:cNvPr id="5076" name=""/>
            <p:cNvSpPr/>
            <p:nvPr/>
          </p:nvSpPr>
          <p:spPr>
            <a:xfrm>
              <a:off x="6858000" y="5105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 flipV="1">
              <a:off x="70102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16292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6781680" y="5257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7238880" y="5486400"/>
            <a:ext cx="457200" cy="457200"/>
            <a:chOff x="7238880" y="5486400"/>
            <a:chExt cx="457200" cy="457200"/>
          </a:xfrm>
        </p:grpSpPr>
        <p:sp>
          <p:nvSpPr>
            <p:cNvPr id="5082" name=""/>
            <p:cNvSpPr/>
            <p:nvPr/>
          </p:nvSpPr>
          <p:spPr>
            <a:xfrm>
              <a:off x="73152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 flipV="1">
              <a:off x="74674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6201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 flipV="1">
              <a:off x="74674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2388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7" name=""/>
          <p:cNvGrpSpPr/>
          <p:nvPr/>
        </p:nvGrpSpPr>
        <p:grpSpPr>
          <a:xfrm>
            <a:off x="7696080" y="5486400"/>
            <a:ext cx="457200" cy="457200"/>
            <a:chOff x="7696080" y="5486400"/>
            <a:chExt cx="457200" cy="457200"/>
          </a:xfrm>
        </p:grpSpPr>
        <p:sp>
          <p:nvSpPr>
            <p:cNvPr id="5088" name=""/>
            <p:cNvSpPr/>
            <p:nvPr/>
          </p:nvSpPr>
          <p:spPr>
            <a:xfrm>
              <a:off x="7772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 flipV="1">
              <a:off x="7924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8077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 flipV="1">
              <a:off x="7924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696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3" name=""/>
          <p:cNvGrpSpPr/>
          <p:nvPr/>
        </p:nvGrpSpPr>
        <p:grpSpPr>
          <a:xfrm>
            <a:off x="8153280" y="5486400"/>
            <a:ext cx="457200" cy="457200"/>
            <a:chOff x="8153280" y="5486400"/>
            <a:chExt cx="457200" cy="457200"/>
          </a:xfrm>
        </p:grpSpPr>
        <p:sp>
          <p:nvSpPr>
            <p:cNvPr id="5094" name=""/>
            <p:cNvSpPr/>
            <p:nvPr/>
          </p:nvSpPr>
          <p:spPr>
            <a:xfrm>
              <a:off x="8229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 flipV="1">
              <a:off x="8381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8534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V="1">
              <a:off x="8381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8153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5410080" y="5486400"/>
            <a:ext cx="457200" cy="457200"/>
            <a:chOff x="5410080" y="5486400"/>
            <a:chExt cx="457200" cy="457200"/>
          </a:xfrm>
        </p:grpSpPr>
        <p:sp>
          <p:nvSpPr>
            <p:cNvPr id="5100" name=""/>
            <p:cNvSpPr/>
            <p:nvPr/>
          </p:nvSpPr>
          <p:spPr>
            <a:xfrm>
              <a:off x="54864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 flipV="1">
              <a:off x="56386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7913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 flipV="1">
              <a:off x="56386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4100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5" name=""/>
          <p:cNvGrpSpPr/>
          <p:nvPr/>
        </p:nvGrpSpPr>
        <p:grpSpPr>
          <a:xfrm>
            <a:off x="5867280" y="5486400"/>
            <a:ext cx="457200" cy="457200"/>
            <a:chOff x="5867280" y="5486400"/>
            <a:chExt cx="457200" cy="457200"/>
          </a:xfrm>
        </p:grpSpPr>
        <p:sp>
          <p:nvSpPr>
            <p:cNvPr id="5106" name=""/>
            <p:cNvSpPr/>
            <p:nvPr/>
          </p:nvSpPr>
          <p:spPr>
            <a:xfrm>
              <a:off x="59436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 flipV="1">
              <a:off x="60958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2485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60958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8672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1" name=""/>
          <p:cNvGrpSpPr/>
          <p:nvPr/>
        </p:nvGrpSpPr>
        <p:grpSpPr>
          <a:xfrm>
            <a:off x="6324480" y="5486400"/>
            <a:ext cx="457200" cy="457200"/>
            <a:chOff x="6324480" y="5486400"/>
            <a:chExt cx="457200" cy="457200"/>
          </a:xfrm>
        </p:grpSpPr>
        <p:sp>
          <p:nvSpPr>
            <p:cNvPr id="5112" name=""/>
            <p:cNvSpPr/>
            <p:nvPr/>
          </p:nvSpPr>
          <p:spPr>
            <a:xfrm>
              <a:off x="64008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V="1">
              <a:off x="65530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67057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 flipV="1">
              <a:off x="65530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63244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7" name=""/>
          <p:cNvGrpSpPr/>
          <p:nvPr/>
        </p:nvGrpSpPr>
        <p:grpSpPr>
          <a:xfrm>
            <a:off x="6781680" y="5486400"/>
            <a:ext cx="457200" cy="457200"/>
            <a:chOff x="6781680" y="5486400"/>
            <a:chExt cx="457200" cy="457200"/>
          </a:xfrm>
        </p:grpSpPr>
        <p:sp>
          <p:nvSpPr>
            <p:cNvPr id="5118" name=""/>
            <p:cNvSpPr/>
            <p:nvPr/>
          </p:nvSpPr>
          <p:spPr>
            <a:xfrm>
              <a:off x="6858000" y="5562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7010280" y="5486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162920" y="5715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7010280" y="5867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6781680" y="5715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3" name=""/>
          <p:cNvGrpSpPr/>
          <p:nvPr/>
        </p:nvGrpSpPr>
        <p:grpSpPr>
          <a:xfrm>
            <a:off x="7238880" y="5943600"/>
            <a:ext cx="457200" cy="457200"/>
            <a:chOff x="7238880" y="5943600"/>
            <a:chExt cx="457200" cy="457200"/>
          </a:xfrm>
        </p:grpSpPr>
        <p:sp>
          <p:nvSpPr>
            <p:cNvPr id="5124" name=""/>
            <p:cNvSpPr/>
            <p:nvPr/>
          </p:nvSpPr>
          <p:spPr>
            <a:xfrm>
              <a:off x="73152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74674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6201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74674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2388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7696080" y="5943600"/>
            <a:ext cx="457200" cy="457200"/>
            <a:chOff x="7696080" y="5943600"/>
            <a:chExt cx="457200" cy="457200"/>
          </a:xfrm>
        </p:grpSpPr>
        <p:sp>
          <p:nvSpPr>
            <p:cNvPr id="5130" name=""/>
            <p:cNvSpPr/>
            <p:nvPr/>
          </p:nvSpPr>
          <p:spPr>
            <a:xfrm>
              <a:off x="77724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79246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80773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 flipV="1">
              <a:off x="79246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6960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5" name=""/>
          <p:cNvGrpSpPr/>
          <p:nvPr/>
        </p:nvGrpSpPr>
        <p:grpSpPr>
          <a:xfrm>
            <a:off x="8153280" y="5943600"/>
            <a:ext cx="457200" cy="457200"/>
            <a:chOff x="8153280" y="5943600"/>
            <a:chExt cx="457200" cy="457200"/>
          </a:xfrm>
        </p:grpSpPr>
        <p:sp>
          <p:nvSpPr>
            <p:cNvPr id="5136" name=""/>
            <p:cNvSpPr/>
            <p:nvPr/>
          </p:nvSpPr>
          <p:spPr>
            <a:xfrm>
              <a:off x="82296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 flipV="1">
              <a:off x="83818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85345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V="1">
              <a:off x="83818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81532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5410080" y="5943600"/>
            <a:ext cx="457200" cy="457200"/>
            <a:chOff x="5410080" y="5943600"/>
            <a:chExt cx="457200" cy="457200"/>
          </a:xfrm>
        </p:grpSpPr>
        <p:sp>
          <p:nvSpPr>
            <p:cNvPr id="5142" name=""/>
            <p:cNvSpPr/>
            <p:nvPr/>
          </p:nvSpPr>
          <p:spPr>
            <a:xfrm>
              <a:off x="54864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flipV="1">
              <a:off x="56386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7913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flipV="1">
              <a:off x="56386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100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7" name=""/>
          <p:cNvGrpSpPr/>
          <p:nvPr/>
        </p:nvGrpSpPr>
        <p:grpSpPr>
          <a:xfrm>
            <a:off x="5867280" y="5943600"/>
            <a:ext cx="457200" cy="457200"/>
            <a:chOff x="5867280" y="5943600"/>
            <a:chExt cx="457200" cy="457200"/>
          </a:xfrm>
        </p:grpSpPr>
        <p:sp>
          <p:nvSpPr>
            <p:cNvPr id="5148" name=""/>
            <p:cNvSpPr/>
            <p:nvPr/>
          </p:nvSpPr>
          <p:spPr>
            <a:xfrm>
              <a:off x="59436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flipV="1">
              <a:off x="60958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2485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V="1">
              <a:off x="60958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8672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3" name=""/>
          <p:cNvGrpSpPr/>
          <p:nvPr/>
        </p:nvGrpSpPr>
        <p:grpSpPr>
          <a:xfrm>
            <a:off x="6324480" y="5943600"/>
            <a:ext cx="457200" cy="457200"/>
            <a:chOff x="6324480" y="5943600"/>
            <a:chExt cx="457200" cy="457200"/>
          </a:xfrm>
        </p:grpSpPr>
        <p:sp>
          <p:nvSpPr>
            <p:cNvPr id="5154" name=""/>
            <p:cNvSpPr/>
            <p:nvPr/>
          </p:nvSpPr>
          <p:spPr>
            <a:xfrm>
              <a:off x="64008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flipV="1">
              <a:off x="65530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67057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flipV="1">
              <a:off x="65530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63244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9" name=""/>
          <p:cNvGrpSpPr/>
          <p:nvPr/>
        </p:nvGrpSpPr>
        <p:grpSpPr>
          <a:xfrm>
            <a:off x="6781680" y="5943600"/>
            <a:ext cx="457200" cy="457200"/>
            <a:chOff x="6781680" y="5943600"/>
            <a:chExt cx="457200" cy="457200"/>
          </a:xfrm>
        </p:grpSpPr>
        <p:sp>
          <p:nvSpPr>
            <p:cNvPr id="5160" name=""/>
            <p:cNvSpPr/>
            <p:nvPr/>
          </p:nvSpPr>
          <p:spPr>
            <a:xfrm>
              <a:off x="6858000" y="6019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7010280" y="5943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7162920" y="6172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 flipV="1">
              <a:off x="7010280" y="6324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781680" y="6172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777384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5945400" y="5486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6705720" y="52578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7620120" y="38862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V="1">
            <a:off x="6553080" y="52574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7010280" y="48002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 flipV="1">
            <a:off x="7467480" y="43430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V="1">
            <a:off x="7467480" y="388584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7162920" y="4800600"/>
            <a:ext cx="3045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 flipV="1">
            <a:off x="6095880" y="52574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6553080" y="48002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6248520" y="52578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 flipV="1">
            <a:off x="6095880" y="43430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 flipV="1">
            <a:off x="6095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6248520" y="38862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67057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8381880" y="38858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 flipV="1">
            <a:off x="7924680" y="35809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>
            <a:off x="71629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>
            <a:off x="6095880" y="48006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76201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8077320" y="4343400"/>
            <a:ext cx="3045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 flipV="1">
            <a:off x="8381880" y="3428640"/>
            <a:ext cx="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7924680" y="34290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6553080" y="297180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6780240" y="27432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8078040" y="24382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7772400" y="2666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8FB-25A4-4AA9-9C23-E5FD1091DF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er Design (2-ary, n-cube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202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2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5223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3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2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5253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3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1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5282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2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8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0" name=""/>
          <p:cNvGrpSpPr/>
          <p:nvPr/>
        </p:nvGrpSpPr>
        <p:grpSpPr>
          <a:xfrm>
            <a:off x="6324480" y="1905120"/>
            <a:ext cx="1523880" cy="380880"/>
            <a:chOff x="6324480" y="1905120"/>
            <a:chExt cx="1523880" cy="380880"/>
          </a:xfrm>
        </p:grpSpPr>
        <p:sp>
          <p:nvSpPr>
            <p:cNvPr id="5311" name=""/>
            <p:cNvSpPr/>
            <p:nvPr/>
          </p:nvSpPr>
          <p:spPr>
            <a:xfrm>
              <a:off x="63244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64004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476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5530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6290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705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7816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8576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933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70102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70862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162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72388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73148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391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74674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75434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619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769608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777204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1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9" name=""/>
          <p:cNvGrpSpPr/>
          <p:nvPr/>
        </p:nvGrpSpPr>
        <p:grpSpPr>
          <a:xfrm>
            <a:off x="1371600" y="3733920"/>
            <a:ext cx="1523880" cy="380880"/>
            <a:chOff x="1371600" y="3733920"/>
            <a:chExt cx="1523880" cy="380880"/>
          </a:xfrm>
        </p:grpSpPr>
        <p:sp>
          <p:nvSpPr>
            <p:cNvPr id="5340" name=""/>
            <p:cNvSpPr/>
            <p:nvPr/>
          </p:nvSpPr>
          <p:spPr>
            <a:xfrm>
              <a:off x="13716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1447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15238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6002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676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7524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8288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904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9810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0574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133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2096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2860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361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4382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5146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590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66688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74320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819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0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2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5363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3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7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5388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8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2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5413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3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9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5440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0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4" name=""/>
          <p:cNvGrpSpPr/>
          <p:nvPr/>
        </p:nvGrpSpPr>
        <p:grpSpPr>
          <a:xfrm>
            <a:off x="1371600" y="3276720"/>
            <a:ext cx="1523880" cy="380880"/>
            <a:chOff x="1371600" y="3276720"/>
            <a:chExt cx="1523880" cy="380880"/>
          </a:xfrm>
        </p:grpSpPr>
        <p:sp>
          <p:nvSpPr>
            <p:cNvPr id="5465" name=""/>
            <p:cNvSpPr/>
            <p:nvPr/>
          </p:nvSpPr>
          <p:spPr>
            <a:xfrm>
              <a:off x="1371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1447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1523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1600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1676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17524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18288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1904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19810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0574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133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2096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2860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361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4382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514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590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666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743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819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5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0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5491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1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3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5514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4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6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5537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7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8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9" name=""/>
          <p:cNvGrpSpPr/>
          <p:nvPr/>
        </p:nvGrpSpPr>
        <p:grpSpPr>
          <a:xfrm>
            <a:off x="5257800" y="4648320"/>
            <a:ext cx="380880" cy="1523880"/>
            <a:chOff x="5257800" y="4648320"/>
            <a:chExt cx="380880" cy="1523880"/>
          </a:xfrm>
        </p:grpSpPr>
        <p:sp>
          <p:nvSpPr>
            <p:cNvPr id="5560" name=""/>
            <p:cNvSpPr/>
            <p:nvPr/>
          </p:nvSpPr>
          <p:spPr>
            <a:xfrm rot="5400000">
              <a:off x="54100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5400000">
              <a:off x="54100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rot="5400000">
              <a:off x="54100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rot="5400000">
              <a:off x="54100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rot="5400000">
              <a:off x="54100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rot="5400000">
              <a:off x="54100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rot="5400000">
              <a:off x="54100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rot="5400000">
              <a:off x="54100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rot="5400000">
              <a:off x="54100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rot="5400000">
              <a:off x="54100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rot="5400000">
              <a:off x="54100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5400000">
              <a:off x="54100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5400000">
              <a:off x="54100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rot="5400000">
              <a:off x="54100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 rot="5400000">
              <a:off x="54100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rot="5400000">
              <a:off x="54100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rot="5400000">
              <a:off x="54100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rot="5400000">
              <a:off x="54100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rot="5400000">
              <a:off x="54100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rot="5400000">
              <a:off x="54100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C07-E26E-4457-8A16-735B562AD4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oals of Network 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ock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vation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sensitiv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781680" y="1600200"/>
            <a:ext cx="457200" cy="457200"/>
            <a:chOff x="6781680" y="1600200"/>
            <a:chExt cx="457200" cy="457200"/>
          </a:xfrm>
        </p:grpSpPr>
        <p:sp>
          <p:nvSpPr>
            <p:cNvPr id="171" name=""/>
            <p:cNvSpPr/>
            <p:nvPr/>
          </p:nvSpPr>
          <p:spPr>
            <a:xfrm>
              <a:off x="6858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0102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102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38880" y="1600200"/>
            <a:ext cx="457200" cy="457200"/>
            <a:chOff x="7238880" y="1600200"/>
            <a:chExt cx="457200" cy="457200"/>
          </a:xfrm>
        </p:grpSpPr>
        <p:sp>
          <p:nvSpPr>
            <p:cNvPr id="177" name=""/>
            <p:cNvSpPr/>
            <p:nvPr/>
          </p:nvSpPr>
          <p:spPr>
            <a:xfrm>
              <a:off x="73152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674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01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467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88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696080" y="1600200"/>
            <a:ext cx="457200" cy="457200"/>
            <a:chOff x="7696080" y="1600200"/>
            <a:chExt cx="457200" cy="457200"/>
          </a:xfrm>
        </p:grpSpPr>
        <p:sp>
          <p:nvSpPr>
            <p:cNvPr id="183" name=""/>
            <p:cNvSpPr/>
            <p:nvPr/>
          </p:nvSpPr>
          <p:spPr>
            <a:xfrm>
              <a:off x="77724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246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73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924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60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153280" y="1600200"/>
            <a:ext cx="457200" cy="457200"/>
            <a:chOff x="8153280" y="1600200"/>
            <a:chExt cx="457200" cy="457200"/>
          </a:xfrm>
        </p:grpSpPr>
        <p:sp>
          <p:nvSpPr>
            <p:cNvPr id="189" name=""/>
            <p:cNvSpPr/>
            <p:nvPr/>
          </p:nvSpPr>
          <p:spPr>
            <a:xfrm>
              <a:off x="82296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3818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345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83818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32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52880" y="1600200"/>
            <a:ext cx="457200" cy="457200"/>
            <a:chOff x="4952880" y="1600200"/>
            <a:chExt cx="457200" cy="457200"/>
          </a:xfrm>
        </p:grpSpPr>
        <p:sp>
          <p:nvSpPr>
            <p:cNvPr id="195" name=""/>
            <p:cNvSpPr/>
            <p:nvPr/>
          </p:nvSpPr>
          <p:spPr>
            <a:xfrm>
              <a:off x="50292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1814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41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1814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28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0080" y="1600200"/>
            <a:ext cx="457200" cy="457200"/>
            <a:chOff x="5410080" y="1600200"/>
            <a:chExt cx="457200" cy="457200"/>
          </a:xfrm>
        </p:grpSpPr>
        <p:sp>
          <p:nvSpPr>
            <p:cNvPr id="201" name=""/>
            <p:cNvSpPr/>
            <p:nvPr/>
          </p:nvSpPr>
          <p:spPr>
            <a:xfrm>
              <a:off x="54864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6386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13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6386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867280" y="1600200"/>
            <a:ext cx="457200" cy="457200"/>
            <a:chOff x="5867280" y="1600200"/>
            <a:chExt cx="457200" cy="457200"/>
          </a:xfrm>
        </p:grpSpPr>
        <p:sp>
          <p:nvSpPr>
            <p:cNvPr id="207" name=""/>
            <p:cNvSpPr/>
            <p:nvPr/>
          </p:nvSpPr>
          <p:spPr>
            <a:xfrm>
              <a:off x="59436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0958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5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0958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324480" y="1600200"/>
            <a:ext cx="457200" cy="457200"/>
            <a:chOff x="6324480" y="1600200"/>
            <a:chExt cx="457200" cy="457200"/>
          </a:xfrm>
        </p:grpSpPr>
        <p:sp>
          <p:nvSpPr>
            <p:cNvPr id="213" name=""/>
            <p:cNvSpPr/>
            <p:nvPr/>
          </p:nvSpPr>
          <p:spPr>
            <a:xfrm>
              <a:off x="64008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55308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5720" y="1828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3080" y="1981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24480" y="1828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781680" y="2057400"/>
            <a:ext cx="457200" cy="457200"/>
            <a:chOff x="6781680" y="2057400"/>
            <a:chExt cx="457200" cy="457200"/>
          </a:xfrm>
        </p:grpSpPr>
        <p:sp>
          <p:nvSpPr>
            <p:cNvPr id="219" name=""/>
            <p:cNvSpPr/>
            <p:nvPr/>
          </p:nvSpPr>
          <p:spPr>
            <a:xfrm>
              <a:off x="68580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0102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629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0102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816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38880" y="2057400"/>
            <a:ext cx="457200" cy="457200"/>
            <a:chOff x="7238880" y="2057400"/>
            <a:chExt cx="457200" cy="457200"/>
          </a:xfrm>
        </p:grpSpPr>
        <p:sp>
          <p:nvSpPr>
            <p:cNvPr id="225" name=""/>
            <p:cNvSpPr/>
            <p:nvPr/>
          </p:nvSpPr>
          <p:spPr>
            <a:xfrm>
              <a:off x="73152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4674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01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4674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88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696080" y="2057400"/>
            <a:ext cx="457200" cy="457200"/>
            <a:chOff x="7696080" y="2057400"/>
            <a:chExt cx="457200" cy="457200"/>
          </a:xfrm>
        </p:grpSpPr>
        <p:sp>
          <p:nvSpPr>
            <p:cNvPr id="231" name=""/>
            <p:cNvSpPr/>
            <p:nvPr/>
          </p:nvSpPr>
          <p:spPr>
            <a:xfrm>
              <a:off x="7772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9246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773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9246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960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153280" y="2057400"/>
            <a:ext cx="457200" cy="457200"/>
            <a:chOff x="8153280" y="2057400"/>
            <a:chExt cx="457200" cy="457200"/>
          </a:xfrm>
        </p:grpSpPr>
        <p:sp>
          <p:nvSpPr>
            <p:cNvPr id="237" name=""/>
            <p:cNvSpPr/>
            <p:nvPr/>
          </p:nvSpPr>
          <p:spPr>
            <a:xfrm>
              <a:off x="82296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3818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345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818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53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952880" y="2057400"/>
            <a:ext cx="457200" cy="457200"/>
            <a:chOff x="4952880" y="2057400"/>
            <a:chExt cx="457200" cy="457200"/>
          </a:xfrm>
        </p:grpSpPr>
        <p:sp>
          <p:nvSpPr>
            <p:cNvPr id="243" name=""/>
            <p:cNvSpPr/>
            <p:nvPr/>
          </p:nvSpPr>
          <p:spPr>
            <a:xfrm>
              <a:off x="50292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1814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41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1814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528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410080" y="2057400"/>
            <a:ext cx="457200" cy="457200"/>
            <a:chOff x="5410080" y="2057400"/>
            <a:chExt cx="457200" cy="457200"/>
          </a:xfrm>
        </p:grpSpPr>
        <p:sp>
          <p:nvSpPr>
            <p:cNvPr id="249" name=""/>
            <p:cNvSpPr/>
            <p:nvPr/>
          </p:nvSpPr>
          <p:spPr>
            <a:xfrm>
              <a:off x="5486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6386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13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6386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2057400"/>
            <a:ext cx="457200" cy="457200"/>
            <a:chOff x="5867280" y="2057400"/>
            <a:chExt cx="457200" cy="457200"/>
          </a:xfrm>
        </p:grpSpPr>
        <p:sp>
          <p:nvSpPr>
            <p:cNvPr id="255" name=""/>
            <p:cNvSpPr/>
            <p:nvPr/>
          </p:nvSpPr>
          <p:spPr>
            <a:xfrm>
              <a:off x="59436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0958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485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0958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324480" y="2057400"/>
            <a:ext cx="457200" cy="457200"/>
            <a:chOff x="6324480" y="2057400"/>
            <a:chExt cx="457200" cy="457200"/>
          </a:xfrm>
        </p:grpSpPr>
        <p:sp>
          <p:nvSpPr>
            <p:cNvPr id="261" name=""/>
            <p:cNvSpPr/>
            <p:nvPr/>
          </p:nvSpPr>
          <p:spPr>
            <a:xfrm>
              <a:off x="64008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55308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720" y="2286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553080" y="2438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2286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781680" y="2514600"/>
            <a:ext cx="457200" cy="457200"/>
            <a:chOff x="6781680" y="2514600"/>
            <a:chExt cx="457200" cy="457200"/>
          </a:xfrm>
        </p:grpSpPr>
        <p:sp>
          <p:nvSpPr>
            <p:cNvPr id="267" name=""/>
            <p:cNvSpPr/>
            <p:nvPr/>
          </p:nvSpPr>
          <p:spPr>
            <a:xfrm>
              <a:off x="68580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102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29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102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238880" y="2514600"/>
            <a:ext cx="457200" cy="457200"/>
            <a:chOff x="7238880" y="2514600"/>
            <a:chExt cx="457200" cy="457200"/>
          </a:xfrm>
        </p:grpSpPr>
        <p:sp>
          <p:nvSpPr>
            <p:cNvPr id="273" name=""/>
            <p:cNvSpPr/>
            <p:nvPr/>
          </p:nvSpPr>
          <p:spPr>
            <a:xfrm>
              <a:off x="73152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74674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01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4674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696080" y="2514600"/>
            <a:ext cx="457200" cy="457200"/>
            <a:chOff x="7696080" y="2514600"/>
            <a:chExt cx="457200" cy="457200"/>
          </a:xfrm>
        </p:grpSpPr>
        <p:sp>
          <p:nvSpPr>
            <p:cNvPr id="279" name=""/>
            <p:cNvSpPr/>
            <p:nvPr/>
          </p:nvSpPr>
          <p:spPr>
            <a:xfrm>
              <a:off x="77724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9246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73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246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153280" y="2514600"/>
            <a:ext cx="457200" cy="457200"/>
            <a:chOff x="8153280" y="2514600"/>
            <a:chExt cx="457200" cy="457200"/>
          </a:xfrm>
        </p:grpSpPr>
        <p:sp>
          <p:nvSpPr>
            <p:cNvPr id="285" name=""/>
            <p:cNvSpPr/>
            <p:nvPr/>
          </p:nvSpPr>
          <p:spPr>
            <a:xfrm>
              <a:off x="82296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3818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345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83818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952880" y="2514600"/>
            <a:ext cx="457200" cy="457200"/>
            <a:chOff x="4952880" y="2514600"/>
            <a:chExt cx="457200" cy="457200"/>
          </a:xfrm>
        </p:grpSpPr>
        <p:sp>
          <p:nvSpPr>
            <p:cNvPr id="291" name=""/>
            <p:cNvSpPr/>
            <p:nvPr/>
          </p:nvSpPr>
          <p:spPr>
            <a:xfrm>
              <a:off x="50292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1814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41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1814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528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10080" y="2514600"/>
            <a:ext cx="457200" cy="457200"/>
            <a:chOff x="5410080" y="2514600"/>
            <a:chExt cx="457200" cy="457200"/>
          </a:xfrm>
        </p:grpSpPr>
        <p:sp>
          <p:nvSpPr>
            <p:cNvPr id="297" name=""/>
            <p:cNvSpPr/>
            <p:nvPr/>
          </p:nvSpPr>
          <p:spPr>
            <a:xfrm>
              <a:off x="54864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6386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913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6386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303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0958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485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0958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324480" y="2514600"/>
            <a:ext cx="457200" cy="457200"/>
            <a:chOff x="6324480" y="2514600"/>
            <a:chExt cx="457200" cy="457200"/>
          </a:xfrm>
        </p:grpSpPr>
        <p:sp>
          <p:nvSpPr>
            <p:cNvPr id="309" name=""/>
            <p:cNvSpPr/>
            <p:nvPr/>
          </p:nvSpPr>
          <p:spPr>
            <a:xfrm>
              <a:off x="6400800" y="2590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530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55308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2448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781680" y="2971800"/>
            <a:ext cx="457200" cy="457200"/>
            <a:chOff x="6781680" y="2971800"/>
            <a:chExt cx="457200" cy="457200"/>
          </a:xfrm>
        </p:grpSpPr>
        <p:sp>
          <p:nvSpPr>
            <p:cNvPr id="315" name="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0102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629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0102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8880" y="2971800"/>
            <a:ext cx="457200" cy="457200"/>
            <a:chOff x="7238880" y="2971800"/>
            <a:chExt cx="457200" cy="457200"/>
          </a:xfrm>
        </p:grpSpPr>
        <p:sp>
          <p:nvSpPr>
            <p:cNvPr id="321" name=""/>
            <p:cNvSpPr/>
            <p:nvPr/>
          </p:nvSpPr>
          <p:spPr>
            <a:xfrm>
              <a:off x="73152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4674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01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4674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388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696080" y="2971800"/>
            <a:ext cx="457200" cy="457200"/>
            <a:chOff x="7696080" y="2971800"/>
            <a:chExt cx="457200" cy="457200"/>
          </a:xfrm>
        </p:grpSpPr>
        <p:sp>
          <p:nvSpPr>
            <p:cNvPr id="327" name=""/>
            <p:cNvSpPr/>
            <p:nvPr/>
          </p:nvSpPr>
          <p:spPr>
            <a:xfrm>
              <a:off x="77724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9246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773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9246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960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153280" y="2971800"/>
            <a:ext cx="457200" cy="457200"/>
            <a:chOff x="8153280" y="2971800"/>
            <a:chExt cx="457200" cy="457200"/>
          </a:xfrm>
        </p:grpSpPr>
        <p:sp>
          <p:nvSpPr>
            <p:cNvPr id="333" name=""/>
            <p:cNvSpPr/>
            <p:nvPr/>
          </p:nvSpPr>
          <p:spPr>
            <a:xfrm>
              <a:off x="82296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83818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345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83818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52880" y="2971800"/>
            <a:ext cx="457200" cy="457200"/>
            <a:chOff x="4952880" y="2971800"/>
            <a:chExt cx="457200" cy="457200"/>
          </a:xfrm>
        </p:grpSpPr>
        <p:sp>
          <p:nvSpPr>
            <p:cNvPr id="339" name=""/>
            <p:cNvSpPr/>
            <p:nvPr/>
          </p:nvSpPr>
          <p:spPr>
            <a:xfrm>
              <a:off x="50292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1814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41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1814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28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410080" y="2971800"/>
            <a:ext cx="457200" cy="457200"/>
            <a:chOff x="5410080" y="2971800"/>
            <a:chExt cx="457200" cy="457200"/>
          </a:xfrm>
        </p:grpSpPr>
        <p:sp>
          <p:nvSpPr>
            <p:cNvPr id="345" name=""/>
            <p:cNvSpPr/>
            <p:nvPr/>
          </p:nvSpPr>
          <p:spPr>
            <a:xfrm>
              <a:off x="54864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6386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13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6386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867280" y="2971800"/>
            <a:ext cx="457200" cy="457200"/>
            <a:chOff x="5867280" y="2971800"/>
            <a:chExt cx="457200" cy="457200"/>
          </a:xfrm>
        </p:grpSpPr>
        <p:sp>
          <p:nvSpPr>
            <p:cNvPr id="351" name=""/>
            <p:cNvSpPr/>
            <p:nvPr/>
          </p:nvSpPr>
          <p:spPr>
            <a:xfrm>
              <a:off x="59436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0958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958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324480" y="2971800"/>
            <a:ext cx="457200" cy="457200"/>
            <a:chOff x="6324480" y="2971800"/>
            <a:chExt cx="457200" cy="457200"/>
          </a:xfrm>
        </p:grpSpPr>
        <p:sp>
          <p:nvSpPr>
            <p:cNvPr id="357" name=""/>
            <p:cNvSpPr/>
            <p:nvPr/>
          </p:nvSpPr>
          <p:spPr>
            <a:xfrm>
              <a:off x="6400800" y="3048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553080" y="2971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5720" y="3200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308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24480" y="3200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781680" y="3429000"/>
            <a:ext cx="457200" cy="457200"/>
            <a:chOff x="6781680" y="3429000"/>
            <a:chExt cx="457200" cy="457200"/>
          </a:xfrm>
        </p:grpSpPr>
        <p:sp>
          <p:nvSpPr>
            <p:cNvPr id="363" name=""/>
            <p:cNvSpPr/>
            <p:nvPr/>
          </p:nvSpPr>
          <p:spPr>
            <a:xfrm>
              <a:off x="68580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0102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629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0102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816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38880" y="3429000"/>
            <a:ext cx="457200" cy="457200"/>
            <a:chOff x="7238880" y="3429000"/>
            <a:chExt cx="457200" cy="457200"/>
          </a:xfrm>
        </p:grpSpPr>
        <p:sp>
          <p:nvSpPr>
            <p:cNvPr id="369" name=""/>
            <p:cNvSpPr/>
            <p:nvPr/>
          </p:nvSpPr>
          <p:spPr>
            <a:xfrm>
              <a:off x="73152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4674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201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67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88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7696080" y="3429000"/>
            <a:ext cx="457200" cy="457200"/>
            <a:chOff x="7696080" y="3429000"/>
            <a:chExt cx="457200" cy="457200"/>
          </a:xfrm>
        </p:grpSpPr>
        <p:sp>
          <p:nvSpPr>
            <p:cNvPr id="375" name=""/>
            <p:cNvSpPr/>
            <p:nvPr/>
          </p:nvSpPr>
          <p:spPr>
            <a:xfrm>
              <a:off x="77724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9246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924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960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153280" y="3429000"/>
            <a:ext cx="457200" cy="457200"/>
            <a:chOff x="8153280" y="3429000"/>
            <a:chExt cx="457200" cy="457200"/>
          </a:xfrm>
        </p:grpSpPr>
        <p:sp>
          <p:nvSpPr>
            <p:cNvPr id="381" name=""/>
            <p:cNvSpPr/>
            <p:nvPr/>
          </p:nvSpPr>
          <p:spPr>
            <a:xfrm>
              <a:off x="82296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3818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345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3818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532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952880" y="3429000"/>
            <a:ext cx="457200" cy="457200"/>
            <a:chOff x="4952880" y="3429000"/>
            <a:chExt cx="457200" cy="457200"/>
          </a:xfrm>
        </p:grpSpPr>
        <p:sp>
          <p:nvSpPr>
            <p:cNvPr id="387" name=""/>
            <p:cNvSpPr/>
            <p:nvPr/>
          </p:nvSpPr>
          <p:spPr>
            <a:xfrm>
              <a:off x="50292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1814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341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181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410080" y="3429000"/>
            <a:ext cx="457200" cy="457200"/>
            <a:chOff x="5410080" y="3429000"/>
            <a:chExt cx="457200" cy="457200"/>
          </a:xfrm>
        </p:grpSpPr>
        <p:sp>
          <p:nvSpPr>
            <p:cNvPr id="393" name=""/>
            <p:cNvSpPr/>
            <p:nvPr/>
          </p:nvSpPr>
          <p:spPr>
            <a:xfrm>
              <a:off x="54864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6386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638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00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867280" y="3429000"/>
            <a:ext cx="457200" cy="457200"/>
            <a:chOff x="5867280" y="3429000"/>
            <a:chExt cx="457200" cy="457200"/>
          </a:xfrm>
        </p:grpSpPr>
        <p:sp>
          <p:nvSpPr>
            <p:cNvPr id="399" name=""/>
            <p:cNvSpPr/>
            <p:nvPr/>
          </p:nvSpPr>
          <p:spPr>
            <a:xfrm>
              <a:off x="59436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0958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0958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72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324480" y="3429000"/>
            <a:ext cx="457200" cy="457200"/>
            <a:chOff x="6324480" y="3429000"/>
            <a:chExt cx="457200" cy="457200"/>
          </a:xfrm>
        </p:grpSpPr>
        <p:sp>
          <p:nvSpPr>
            <p:cNvPr id="405" name=""/>
            <p:cNvSpPr/>
            <p:nvPr/>
          </p:nvSpPr>
          <p:spPr>
            <a:xfrm>
              <a:off x="6400800" y="35053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553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05720" y="3657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48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781680" y="3886200"/>
            <a:ext cx="457200" cy="457200"/>
            <a:chOff x="6781680" y="3886200"/>
            <a:chExt cx="457200" cy="457200"/>
          </a:xfrm>
        </p:grpSpPr>
        <p:sp>
          <p:nvSpPr>
            <p:cNvPr id="411" name=""/>
            <p:cNvSpPr/>
            <p:nvPr/>
          </p:nvSpPr>
          <p:spPr>
            <a:xfrm>
              <a:off x="68580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0102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29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0102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816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38880" y="3886200"/>
            <a:ext cx="457200" cy="457200"/>
            <a:chOff x="7238880" y="3886200"/>
            <a:chExt cx="457200" cy="457200"/>
          </a:xfrm>
        </p:grpSpPr>
        <p:sp>
          <p:nvSpPr>
            <p:cNvPr id="417" name=""/>
            <p:cNvSpPr/>
            <p:nvPr/>
          </p:nvSpPr>
          <p:spPr>
            <a:xfrm>
              <a:off x="7315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674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01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74674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88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696080" y="3886200"/>
            <a:ext cx="457200" cy="457200"/>
            <a:chOff x="7696080" y="3886200"/>
            <a:chExt cx="457200" cy="457200"/>
          </a:xfrm>
        </p:grpSpPr>
        <p:sp>
          <p:nvSpPr>
            <p:cNvPr id="423" name=""/>
            <p:cNvSpPr/>
            <p:nvPr/>
          </p:nvSpPr>
          <p:spPr>
            <a:xfrm>
              <a:off x="77724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9246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773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246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60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153280" y="3886200"/>
            <a:ext cx="457200" cy="457200"/>
            <a:chOff x="8153280" y="3886200"/>
            <a:chExt cx="457200" cy="457200"/>
          </a:xfrm>
        </p:grpSpPr>
        <p:sp>
          <p:nvSpPr>
            <p:cNvPr id="429" name=""/>
            <p:cNvSpPr/>
            <p:nvPr/>
          </p:nvSpPr>
          <p:spPr>
            <a:xfrm>
              <a:off x="82296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83818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345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83818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53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2880" y="3886200"/>
            <a:ext cx="457200" cy="457200"/>
            <a:chOff x="4952880" y="3886200"/>
            <a:chExt cx="457200" cy="457200"/>
          </a:xfrm>
        </p:grpSpPr>
        <p:sp>
          <p:nvSpPr>
            <p:cNvPr id="435" name=""/>
            <p:cNvSpPr/>
            <p:nvPr/>
          </p:nvSpPr>
          <p:spPr>
            <a:xfrm>
              <a:off x="50292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1814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341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1814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410080" y="3886200"/>
            <a:ext cx="457200" cy="457200"/>
            <a:chOff x="5410080" y="3886200"/>
            <a:chExt cx="457200" cy="457200"/>
          </a:xfrm>
        </p:grpSpPr>
        <p:sp>
          <p:nvSpPr>
            <p:cNvPr id="441" name=""/>
            <p:cNvSpPr/>
            <p:nvPr/>
          </p:nvSpPr>
          <p:spPr>
            <a:xfrm>
              <a:off x="54864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6386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6386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00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67280" y="3886200"/>
            <a:ext cx="457200" cy="457200"/>
            <a:chOff x="5867280" y="3886200"/>
            <a:chExt cx="457200" cy="457200"/>
          </a:xfrm>
        </p:grpSpPr>
        <p:sp>
          <p:nvSpPr>
            <p:cNvPr id="447" name=""/>
            <p:cNvSpPr/>
            <p:nvPr/>
          </p:nvSpPr>
          <p:spPr>
            <a:xfrm>
              <a:off x="59436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0958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485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958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672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6324480" y="3886200"/>
            <a:ext cx="457200" cy="457200"/>
            <a:chOff x="6324480" y="3886200"/>
            <a:chExt cx="457200" cy="457200"/>
          </a:xfrm>
        </p:grpSpPr>
        <p:sp>
          <p:nvSpPr>
            <p:cNvPr id="453" name=""/>
            <p:cNvSpPr/>
            <p:nvPr/>
          </p:nvSpPr>
          <p:spPr>
            <a:xfrm>
              <a:off x="640080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5530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05720" y="4114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55308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4480" y="4114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781680" y="4343400"/>
            <a:ext cx="457200" cy="457200"/>
            <a:chOff x="6781680" y="4343400"/>
            <a:chExt cx="457200" cy="457200"/>
          </a:xfrm>
        </p:grpSpPr>
        <p:sp>
          <p:nvSpPr>
            <p:cNvPr id="459" name=""/>
            <p:cNvSpPr/>
            <p:nvPr/>
          </p:nvSpPr>
          <p:spPr>
            <a:xfrm>
              <a:off x="68580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0102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0102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16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238880" y="4343400"/>
            <a:ext cx="457200" cy="457200"/>
            <a:chOff x="7238880" y="4343400"/>
            <a:chExt cx="457200" cy="457200"/>
          </a:xfrm>
        </p:grpSpPr>
        <p:sp>
          <p:nvSpPr>
            <p:cNvPr id="465" name=""/>
            <p:cNvSpPr/>
            <p:nvPr/>
          </p:nvSpPr>
          <p:spPr>
            <a:xfrm>
              <a:off x="73152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74674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01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4674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388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96080" y="4343400"/>
            <a:ext cx="457200" cy="457200"/>
            <a:chOff x="7696080" y="4343400"/>
            <a:chExt cx="457200" cy="457200"/>
          </a:xfrm>
        </p:grpSpPr>
        <p:sp>
          <p:nvSpPr>
            <p:cNvPr id="471" name=""/>
            <p:cNvSpPr/>
            <p:nvPr/>
          </p:nvSpPr>
          <p:spPr>
            <a:xfrm>
              <a:off x="77724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9246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773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9246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60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8153280" y="4343400"/>
            <a:ext cx="457200" cy="457200"/>
            <a:chOff x="8153280" y="4343400"/>
            <a:chExt cx="457200" cy="457200"/>
          </a:xfrm>
        </p:grpSpPr>
        <p:sp>
          <p:nvSpPr>
            <p:cNvPr id="477" name=""/>
            <p:cNvSpPr/>
            <p:nvPr/>
          </p:nvSpPr>
          <p:spPr>
            <a:xfrm>
              <a:off x="82296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83818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345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83818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532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52880" y="4343400"/>
            <a:ext cx="457200" cy="457200"/>
            <a:chOff x="4952880" y="4343400"/>
            <a:chExt cx="457200" cy="457200"/>
          </a:xfrm>
        </p:grpSpPr>
        <p:sp>
          <p:nvSpPr>
            <p:cNvPr id="483" name=""/>
            <p:cNvSpPr/>
            <p:nvPr/>
          </p:nvSpPr>
          <p:spPr>
            <a:xfrm>
              <a:off x="50292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814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41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1814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528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410080" y="4343400"/>
            <a:ext cx="457200" cy="457200"/>
            <a:chOff x="5410080" y="4343400"/>
            <a:chExt cx="457200" cy="457200"/>
          </a:xfrm>
        </p:grpSpPr>
        <p:sp>
          <p:nvSpPr>
            <p:cNvPr id="489" name=""/>
            <p:cNvSpPr/>
            <p:nvPr/>
          </p:nvSpPr>
          <p:spPr>
            <a:xfrm>
              <a:off x="54864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6386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13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386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867280" y="4343400"/>
            <a:ext cx="457200" cy="457200"/>
            <a:chOff x="5867280" y="4343400"/>
            <a:chExt cx="457200" cy="457200"/>
          </a:xfrm>
        </p:grpSpPr>
        <p:sp>
          <p:nvSpPr>
            <p:cNvPr id="495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0958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485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0958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672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324480" y="4343400"/>
            <a:ext cx="457200" cy="457200"/>
            <a:chOff x="6324480" y="4343400"/>
            <a:chExt cx="457200" cy="457200"/>
          </a:xfrm>
        </p:grpSpPr>
        <p:sp>
          <p:nvSpPr>
            <p:cNvPr id="501" name=""/>
            <p:cNvSpPr/>
            <p:nvPr/>
          </p:nvSpPr>
          <p:spPr>
            <a:xfrm>
              <a:off x="6400800" y="4419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55308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05720" y="4572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553080" y="47242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2448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781680" y="4800600"/>
            <a:ext cx="457200" cy="457200"/>
            <a:chOff x="6781680" y="4800600"/>
            <a:chExt cx="457200" cy="457200"/>
          </a:xfrm>
        </p:grpSpPr>
        <p:sp>
          <p:nvSpPr>
            <p:cNvPr id="507" name=""/>
            <p:cNvSpPr/>
            <p:nvPr/>
          </p:nvSpPr>
          <p:spPr>
            <a:xfrm>
              <a:off x="68580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0102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629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0102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16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238880" y="4800600"/>
            <a:ext cx="457200" cy="457200"/>
            <a:chOff x="7238880" y="4800600"/>
            <a:chExt cx="457200" cy="457200"/>
          </a:xfrm>
        </p:grpSpPr>
        <p:sp>
          <p:nvSpPr>
            <p:cNvPr id="513" name=""/>
            <p:cNvSpPr/>
            <p:nvPr/>
          </p:nvSpPr>
          <p:spPr>
            <a:xfrm>
              <a:off x="73152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674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01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4674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388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7696080" y="4800600"/>
            <a:ext cx="457200" cy="457200"/>
            <a:chOff x="7696080" y="4800600"/>
            <a:chExt cx="457200" cy="457200"/>
          </a:xfrm>
        </p:grpSpPr>
        <p:sp>
          <p:nvSpPr>
            <p:cNvPr id="519" name=""/>
            <p:cNvSpPr/>
            <p:nvPr/>
          </p:nvSpPr>
          <p:spPr>
            <a:xfrm>
              <a:off x="77724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9246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773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9246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60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8153280" y="4800600"/>
            <a:ext cx="457200" cy="457200"/>
            <a:chOff x="8153280" y="4800600"/>
            <a:chExt cx="457200" cy="457200"/>
          </a:xfrm>
        </p:grpSpPr>
        <p:sp>
          <p:nvSpPr>
            <p:cNvPr id="525" name=""/>
            <p:cNvSpPr/>
            <p:nvPr/>
          </p:nvSpPr>
          <p:spPr>
            <a:xfrm>
              <a:off x="82296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381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5345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83818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532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952880" y="4800600"/>
            <a:ext cx="457200" cy="457200"/>
            <a:chOff x="4952880" y="4800600"/>
            <a:chExt cx="457200" cy="457200"/>
          </a:xfrm>
        </p:grpSpPr>
        <p:sp>
          <p:nvSpPr>
            <p:cNvPr id="531" name=""/>
            <p:cNvSpPr/>
            <p:nvPr/>
          </p:nvSpPr>
          <p:spPr>
            <a:xfrm>
              <a:off x="50292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1814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41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1814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528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10080" y="4800600"/>
            <a:ext cx="457200" cy="457200"/>
            <a:chOff x="5410080" y="4800600"/>
            <a:chExt cx="457200" cy="457200"/>
          </a:xfrm>
        </p:grpSpPr>
        <p:sp>
          <p:nvSpPr>
            <p:cNvPr id="537" name=""/>
            <p:cNvSpPr/>
            <p:nvPr/>
          </p:nvSpPr>
          <p:spPr>
            <a:xfrm>
              <a:off x="54864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6386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913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56386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100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67280" y="4800600"/>
            <a:ext cx="457200" cy="457200"/>
            <a:chOff x="5867280" y="4800600"/>
            <a:chExt cx="457200" cy="457200"/>
          </a:xfrm>
        </p:grpSpPr>
        <p:sp>
          <p:nvSpPr>
            <p:cNvPr id="543" name=""/>
            <p:cNvSpPr/>
            <p:nvPr/>
          </p:nvSpPr>
          <p:spPr>
            <a:xfrm>
              <a:off x="59436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0958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485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0958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672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324480" y="4800600"/>
            <a:ext cx="457200" cy="457200"/>
            <a:chOff x="6324480" y="4800600"/>
            <a:chExt cx="457200" cy="457200"/>
          </a:xfrm>
        </p:grpSpPr>
        <p:sp>
          <p:nvSpPr>
            <p:cNvPr id="549" name=""/>
            <p:cNvSpPr/>
            <p:nvPr/>
          </p:nvSpPr>
          <p:spPr>
            <a:xfrm>
              <a:off x="6400800" y="4876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55308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5029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553080" y="5181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316640" y="2514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8200" y="4343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657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86600" y="2743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09588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095880" y="3657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53080" y="3200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5530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AD9-0719-4893-869F-D2CAF4E58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agement of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queue implements logical queu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osition in list of frames is un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ackets with same destination serviced in arrival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ultiple output channels are possible, packet takes the firs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queue packets take precedence over newly arriv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cket moves to MQ until it is fully arrived -- implying there is no chance of cutting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ulti-queue frame must always be empty, ready to receive a packet -- for livelock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outing victims are chosen fairly at random from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can go from input frame directly into multi-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AF1-B2FA-4749-B374-1517204A94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necting Channels with Virtual C-Thru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6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597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7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5618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63244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64008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64771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65530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66294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67057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67816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68580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69343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70102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70866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71629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723888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7315200" y="28195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7391520" y="281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746748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754380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7620120" y="2819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769608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7772400" y="28195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5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5676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6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4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5755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5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13716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14479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15238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6002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6765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17524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8288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19051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10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20574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21337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22096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22860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23623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243828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2514600" y="23623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2590920" y="236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2666880" y="23623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743200" y="23623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2819520" y="23623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5804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4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5831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1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5" name=""/>
          <p:cNvGrpSpPr/>
          <p:nvPr/>
        </p:nvGrpSpPr>
        <p:grpSpPr>
          <a:xfrm>
            <a:off x="1371600" y="3276720"/>
            <a:ext cx="1523880" cy="380880"/>
            <a:chOff x="1371600" y="3276720"/>
            <a:chExt cx="1523880" cy="380880"/>
          </a:xfrm>
        </p:grpSpPr>
        <p:sp>
          <p:nvSpPr>
            <p:cNvPr id="5856" name=""/>
            <p:cNvSpPr/>
            <p:nvPr/>
          </p:nvSpPr>
          <p:spPr>
            <a:xfrm>
              <a:off x="1371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1447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1523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1600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1676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17524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18288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1904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19810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0574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133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2096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2860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61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4382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5146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90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66688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74320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819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6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1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5882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2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4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5905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5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5928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8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0" name=""/>
          <p:cNvGrpSpPr/>
          <p:nvPr/>
        </p:nvGrpSpPr>
        <p:grpSpPr>
          <a:xfrm>
            <a:off x="5257800" y="4648320"/>
            <a:ext cx="380880" cy="1523880"/>
            <a:chOff x="5257800" y="4648320"/>
            <a:chExt cx="380880" cy="1523880"/>
          </a:xfrm>
        </p:grpSpPr>
        <p:sp>
          <p:nvSpPr>
            <p:cNvPr id="5951" name=""/>
            <p:cNvSpPr/>
            <p:nvPr/>
          </p:nvSpPr>
          <p:spPr>
            <a:xfrm rot="5400000">
              <a:off x="54100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rot="5400000">
              <a:off x="54100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rot="5400000">
              <a:off x="54100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rot="5400000">
              <a:off x="54100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rot="5400000">
              <a:off x="54100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 rot="5400000">
              <a:off x="54100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rot="5400000">
              <a:off x="54100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rot="5400000">
              <a:off x="54100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rot="5400000">
              <a:off x="54100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rot="5400000">
              <a:off x="54100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rot="5400000">
              <a:off x="54100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rot="5400000">
              <a:off x="54100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rot="5400000">
              <a:off x="54100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rot="5400000">
              <a:off x="54100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rot="5400000">
              <a:off x="54100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rot="5400000">
              <a:off x="54100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rot="5400000">
              <a:off x="54100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rot="5400000">
              <a:off x="54100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rot="5400000">
              <a:off x="54100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rot="5400000">
              <a:off x="54100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1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3124080" y="2514600"/>
            <a:ext cx="266724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 flipV="1">
            <a:off x="3124080" y="2057400"/>
            <a:ext cx="266724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A42-DE19-42D4-9763-75124B86F1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iting In The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7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5988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8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6009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8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6039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9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7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6068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8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6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6147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7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1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6172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2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6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6197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7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3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6224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4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13716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14479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>
            <a:off x="15238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6765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>
            <a:off x="18288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>
            <a:off x="19051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9810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20574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21337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22096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22860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23623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24382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25146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5909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668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7432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8195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3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6274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4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6297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7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9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6320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0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 rot="5400000">
            <a:off x="5408640" y="44942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 rot="5400000">
            <a:off x="5408640" y="45705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 rot="5400000">
            <a:off x="5408640" y="4646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 rot="5400000">
            <a:off x="5408640" y="47228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 rot="5400000">
            <a:off x="5408640" y="47991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 rot="5400000">
            <a:off x="5408640" y="487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 rot="5400000">
            <a:off x="5408640" y="49514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 rot="5400000">
            <a:off x="5408640" y="50277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 rot="5400000">
            <a:off x="5408640" y="5103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rot="5400000">
            <a:off x="5408640" y="51800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rot="5400000">
            <a:off x="5408640" y="52563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 rot="5400000">
            <a:off x="5408640" y="533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rot="5400000">
            <a:off x="5408640" y="54086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 rot="5400000">
            <a:off x="5408640" y="54849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 rot="5400000">
            <a:off x="5408640" y="5560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rot="5400000">
            <a:off x="5408640" y="56372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 rot="5400000">
            <a:off x="5408640" y="57135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 rot="5400000">
            <a:off x="5408640" y="578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rot="5400000">
            <a:off x="5408640" y="58658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 rot="5400000">
            <a:off x="5408640" y="59421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 flipV="1">
            <a:off x="3124080" y="2057400"/>
            <a:ext cx="266724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3124080" y="3429000"/>
            <a:ext cx="236232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D5D-A1D2-493C-ABCE-0FA50CDC2B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utting Through Multi-queu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>
            <a:off x="1066680" y="1752480"/>
            <a:ext cx="701064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048120" y="1905120"/>
            <a:ext cx="2819160" cy="2666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 flipV="1">
            <a:off x="35812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35053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5867280" y="34290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8" name=""/>
          <p:cNvGrpSpPr/>
          <p:nvPr/>
        </p:nvGrpSpPr>
        <p:grpSpPr>
          <a:xfrm>
            <a:off x="6324480" y="3276720"/>
            <a:ext cx="1523880" cy="380880"/>
            <a:chOff x="6324480" y="3276720"/>
            <a:chExt cx="1523880" cy="380880"/>
          </a:xfrm>
        </p:grpSpPr>
        <p:sp>
          <p:nvSpPr>
            <p:cNvPr id="6379" name=""/>
            <p:cNvSpPr/>
            <p:nvPr/>
          </p:nvSpPr>
          <p:spPr>
            <a:xfrm>
              <a:off x="6324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6400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6476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6553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6629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67053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67816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8576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9339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0102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0862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1625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2388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3148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3911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4674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5434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61976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696080" y="32767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772040" y="3276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9" name=""/>
          <p:cNvGrpSpPr/>
          <p:nvPr/>
        </p:nvGrpSpPr>
        <p:grpSpPr>
          <a:xfrm>
            <a:off x="3429000" y="4648320"/>
            <a:ext cx="380880" cy="1523880"/>
            <a:chOff x="3429000" y="4648320"/>
            <a:chExt cx="380880" cy="1523880"/>
          </a:xfrm>
        </p:grpSpPr>
        <p:sp>
          <p:nvSpPr>
            <p:cNvPr id="6400" name=""/>
            <p:cNvSpPr/>
            <p:nvPr/>
          </p:nvSpPr>
          <p:spPr>
            <a:xfrm rot="5400000">
              <a:off x="35812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 rot="5400000">
              <a:off x="35812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 rot="5400000">
              <a:off x="35812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 rot="5400000">
              <a:off x="35812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 rot="5400000">
              <a:off x="35812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 rot="5400000">
              <a:off x="35812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rot="5400000">
              <a:off x="35812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 rot="5400000">
              <a:off x="35812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rot="5400000">
              <a:off x="35812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 rot="5400000">
              <a:off x="35812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 rot="5400000">
              <a:off x="35812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 rot="5400000">
              <a:off x="35812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 rot="5400000">
              <a:off x="35812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 rot="5400000">
              <a:off x="35812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 rot="5400000">
              <a:off x="35812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 rot="5400000">
              <a:off x="35812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 rot="5400000">
              <a:off x="35812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 rot="5400000">
              <a:off x="35812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 rot="5400000">
              <a:off x="35812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 rot="5400000">
              <a:off x="35812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0" name=""/>
          <p:cNvSpPr/>
          <p:nvPr/>
        </p:nvSpPr>
        <p:spPr>
          <a:xfrm>
            <a:off x="6019920" y="4876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>
            <a:off x="5943600" y="32767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>
            <a:off x="6095880" y="3352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6019920" y="3429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>
            <a:off x="60199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82296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571500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>
            <a:off x="83077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5867280" y="29718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9" name=""/>
          <p:cNvGrpSpPr/>
          <p:nvPr/>
        </p:nvGrpSpPr>
        <p:grpSpPr>
          <a:xfrm>
            <a:off x="6324480" y="2819520"/>
            <a:ext cx="1523880" cy="380880"/>
            <a:chOff x="6324480" y="2819520"/>
            <a:chExt cx="1523880" cy="380880"/>
          </a:xfrm>
        </p:grpSpPr>
        <p:sp>
          <p:nvSpPr>
            <p:cNvPr id="6430" name=""/>
            <p:cNvSpPr/>
            <p:nvPr/>
          </p:nvSpPr>
          <p:spPr>
            <a:xfrm>
              <a:off x="6324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400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476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553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6629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705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67816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68576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933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0102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0862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162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2388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3148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391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4674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5434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619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69608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77204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0" name=""/>
          <p:cNvSpPr/>
          <p:nvPr/>
        </p:nvSpPr>
        <p:spPr>
          <a:xfrm>
            <a:off x="5943600" y="2819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6095880" y="2895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6019920" y="2971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60199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82296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571500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83073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5867280" y="25146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8" name=""/>
          <p:cNvGrpSpPr/>
          <p:nvPr/>
        </p:nvGrpSpPr>
        <p:grpSpPr>
          <a:xfrm>
            <a:off x="6324480" y="2362320"/>
            <a:ext cx="1523880" cy="380880"/>
            <a:chOff x="6324480" y="2362320"/>
            <a:chExt cx="1523880" cy="380880"/>
          </a:xfrm>
        </p:grpSpPr>
        <p:sp>
          <p:nvSpPr>
            <p:cNvPr id="6459" name=""/>
            <p:cNvSpPr/>
            <p:nvPr/>
          </p:nvSpPr>
          <p:spPr>
            <a:xfrm>
              <a:off x="6324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6400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6476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6553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6629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6705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67816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68576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6933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0102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70862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162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2388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3148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391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4674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5434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619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69608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77204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9" name=""/>
          <p:cNvSpPr/>
          <p:nvPr/>
        </p:nvSpPr>
        <p:spPr>
          <a:xfrm>
            <a:off x="5943600" y="23623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>
            <a:off x="6095880" y="2438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6019920" y="2514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60199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82296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571500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83077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5867280" y="205740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6324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6400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>
            <a:off x="64771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65530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66294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>
            <a:off x="67057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67816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68580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69343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70102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70866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71629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72388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>
            <a:off x="73152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>
            <a:off x="7391520" y="19051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746748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>
            <a:off x="7543800" y="19051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7620120" y="190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>
            <a:off x="769608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7772400" y="19051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5943600" y="19051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6095880" y="1981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6019920" y="2057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6019920" y="2209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82296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571500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83077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1219320" y="3886200"/>
            <a:ext cx="1828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1371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1447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1523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1600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9" name=""/>
          <p:cNvSpPr/>
          <p:nvPr/>
        </p:nvSpPr>
        <p:spPr>
          <a:xfrm>
            <a:off x="1676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17524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18288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2" name=""/>
          <p:cNvSpPr/>
          <p:nvPr/>
        </p:nvSpPr>
        <p:spPr>
          <a:xfrm>
            <a:off x="19051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3" name=""/>
          <p:cNvSpPr/>
          <p:nvPr/>
        </p:nvSpPr>
        <p:spPr>
          <a:xfrm>
            <a:off x="19810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4" name=""/>
          <p:cNvSpPr/>
          <p:nvPr/>
        </p:nvSpPr>
        <p:spPr>
          <a:xfrm>
            <a:off x="20574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5" name=""/>
          <p:cNvSpPr/>
          <p:nvPr/>
        </p:nvSpPr>
        <p:spPr>
          <a:xfrm>
            <a:off x="21337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6" name=""/>
          <p:cNvSpPr/>
          <p:nvPr/>
        </p:nvSpPr>
        <p:spPr>
          <a:xfrm>
            <a:off x="22096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7" name=""/>
          <p:cNvSpPr/>
          <p:nvPr/>
        </p:nvSpPr>
        <p:spPr>
          <a:xfrm>
            <a:off x="22860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8" name=""/>
          <p:cNvSpPr/>
          <p:nvPr/>
        </p:nvSpPr>
        <p:spPr>
          <a:xfrm>
            <a:off x="23623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9" name=""/>
          <p:cNvSpPr/>
          <p:nvPr/>
        </p:nvSpPr>
        <p:spPr>
          <a:xfrm>
            <a:off x="24382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0" name=""/>
          <p:cNvSpPr/>
          <p:nvPr/>
        </p:nvSpPr>
        <p:spPr>
          <a:xfrm>
            <a:off x="25146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>
            <a:off x="25909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266688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2743200" y="37339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>
            <a:off x="2819520" y="3733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304812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>
            <a:off x="990720" y="29718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7" name=""/>
          <p:cNvGrpSpPr/>
          <p:nvPr/>
        </p:nvGrpSpPr>
        <p:grpSpPr>
          <a:xfrm>
            <a:off x="1371600" y="2819520"/>
            <a:ext cx="1523880" cy="380880"/>
            <a:chOff x="1371600" y="2819520"/>
            <a:chExt cx="1523880" cy="380880"/>
          </a:xfrm>
        </p:grpSpPr>
        <p:sp>
          <p:nvSpPr>
            <p:cNvPr id="6538" name=""/>
            <p:cNvSpPr/>
            <p:nvPr/>
          </p:nvSpPr>
          <p:spPr>
            <a:xfrm>
              <a:off x="1371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1447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1523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1600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1676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17524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18288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9047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9810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0574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333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2096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2860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3619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24382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5146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5905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66688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743200" y="28195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819160" y="2819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8" name=""/>
          <p:cNvSpPr/>
          <p:nvPr/>
        </p:nvSpPr>
        <p:spPr>
          <a:xfrm>
            <a:off x="3048120" y="28954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838080" y="28954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534960" y="2819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>
            <a:off x="990720" y="25146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2" name=""/>
          <p:cNvGrpSpPr/>
          <p:nvPr/>
        </p:nvGrpSpPr>
        <p:grpSpPr>
          <a:xfrm>
            <a:off x="1371600" y="2362320"/>
            <a:ext cx="1523880" cy="380880"/>
            <a:chOff x="1371600" y="2362320"/>
            <a:chExt cx="1523880" cy="380880"/>
          </a:xfrm>
        </p:grpSpPr>
        <p:sp>
          <p:nvSpPr>
            <p:cNvPr id="6563" name=""/>
            <p:cNvSpPr/>
            <p:nvPr/>
          </p:nvSpPr>
          <p:spPr>
            <a:xfrm>
              <a:off x="1371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447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1523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1600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1676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17524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18288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19047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19810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20574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333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2096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2860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23619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4382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25146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5905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66688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743200" y="23623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819160" y="2362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3" name=""/>
          <p:cNvSpPr/>
          <p:nvPr/>
        </p:nvSpPr>
        <p:spPr>
          <a:xfrm>
            <a:off x="3048120" y="24382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838080" y="24382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5" name=""/>
          <p:cNvSpPr/>
          <p:nvPr/>
        </p:nvSpPr>
        <p:spPr>
          <a:xfrm>
            <a:off x="53532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6" name=""/>
          <p:cNvSpPr/>
          <p:nvPr/>
        </p:nvSpPr>
        <p:spPr>
          <a:xfrm>
            <a:off x="990720" y="20574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7" name=""/>
          <p:cNvGrpSpPr/>
          <p:nvPr/>
        </p:nvGrpSpPr>
        <p:grpSpPr>
          <a:xfrm>
            <a:off x="1371600" y="1905120"/>
            <a:ext cx="1523880" cy="380880"/>
            <a:chOff x="1371600" y="1905120"/>
            <a:chExt cx="1523880" cy="380880"/>
          </a:xfrm>
        </p:grpSpPr>
        <p:sp>
          <p:nvSpPr>
            <p:cNvPr id="6588" name=""/>
            <p:cNvSpPr/>
            <p:nvPr/>
          </p:nvSpPr>
          <p:spPr>
            <a:xfrm>
              <a:off x="1371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1447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1523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1600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1676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17524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18288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19047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19810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0574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33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2096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2860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3619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24382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5146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25905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66688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743200" y="19051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819160" y="1905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8" name=""/>
          <p:cNvSpPr/>
          <p:nvPr/>
        </p:nvSpPr>
        <p:spPr>
          <a:xfrm>
            <a:off x="3048120" y="19810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838080" y="19810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53532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V="1">
            <a:off x="1143000" y="3885480"/>
            <a:ext cx="76320" cy="2514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106668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67280" y="3886200"/>
            <a:ext cx="213372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4" name=""/>
          <p:cNvGrpSpPr/>
          <p:nvPr/>
        </p:nvGrpSpPr>
        <p:grpSpPr>
          <a:xfrm>
            <a:off x="6324480" y="3733920"/>
            <a:ext cx="1523880" cy="380880"/>
            <a:chOff x="6324480" y="3733920"/>
            <a:chExt cx="1523880" cy="380880"/>
          </a:xfrm>
        </p:grpSpPr>
        <p:sp>
          <p:nvSpPr>
            <p:cNvPr id="6615" name=""/>
            <p:cNvSpPr/>
            <p:nvPr/>
          </p:nvSpPr>
          <p:spPr>
            <a:xfrm>
              <a:off x="6324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6400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6476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6553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6629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67053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67816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8576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9339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0102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0862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71625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72388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73148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73911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74674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75434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761976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7696080" y="373392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7772040" y="3733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5" name="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 flipV="1">
            <a:off x="7924680" y="3961800"/>
            <a:ext cx="76320" cy="243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7848720" y="6324480"/>
            <a:ext cx="22860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990720" y="3429000"/>
            <a:ext cx="20574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13716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14479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15238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16002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16765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17524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182880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905120" y="3276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981080" y="327672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20574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>
            <a:off x="21337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>
            <a:off x="22096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/>
          <p:cNvSpPr/>
          <p:nvPr/>
        </p:nvSpPr>
        <p:spPr>
          <a:xfrm>
            <a:off x="22860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/>
          <p:nvPr/>
        </p:nvSpPr>
        <p:spPr>
          <a:xfrm>
            <a:off x="23623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24382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"/>
          <p:cNvSpPr/>
          <p:nvPr/>
        </p:nvSpPr>
        <p:spPr>
          <a:xfrm>
            <a:off x="25146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25909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266688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2743200" y="327672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2819520" y="32767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3048120" y="335268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838080" y="3352680"/>
            <a:ext cx="15264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53532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 flipV="1">
            <a:off x="40384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39625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4" name=""/>
          <p:cNvGrpSpPr/>
          <p:nvPr/>
        </p:nvGrpSpPr>
        <p:grpSpPr>
          <a:xfrm>
            <a:off x="3886200" y="4648320"/>
            <a:ext cx="380880" cy="1523880"/>
            <a:chOff x="3886200" y="4648320"/>
            <a:chExt cx="380880" cy="1523880"/>
          </a:xfrm>
        </p:grpSpPr>
        <p:sp>
          <p:nvSpPr>
            <p:cNvPr id="6665" name=""/>
            <p:cNvSpPr/>
            <p:nvPr/>
          </p:nvSpPr>
          <p:spPr>
            <a:xfrm rot="5400000">
              <a:off x="40384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 rot="5400000">
              <a:off x="40384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 rot="5400000">
              <a:off x="40384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 rot="5400000">
              <a:off x="40384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rot="5400000">
              <a:off x="40384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rot="5400000">
              <a:off x="40384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 rot="5400000">
              <a:off x="40384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 rot="5400000">
              <a:off x="40384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 rot="5400000">
              <a:off x="40384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rot="5400000">
              <a:off x="40384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 rot="5400000">
              <a:off x="40384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 rot="5400000">
              <a:off x="40384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 rot="5400000">
              <a:off x="40384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 rot="5400000">
              <a:off x="40384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 rot="5400000">
              <a:off x="40384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 rot="5400000">
              <a:off x="40384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 rot="5400000">
              <a:off x="40384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 rot="5400000">
              <a:off x="40384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 rot="5400000">
              <a:off x="40384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 rot="5400000">
              <a:off x="40384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5" name=""/>
          <p:cNvSpPr/>
          <p:nvPr/>
        </p:nvSpPr>
        <p:spPr>
          <a:xfrm flipV="1">
            <a:off x="44956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44197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7" name=""/>
          <p:cNvGrpSpPr/>
          <p:nvPr/>
        </p:nvGrpSpPr>
        <p:grpSpPr>
          <a:xfrm>
            <a:off x="4343400" y="4648320"/>
            <a:ext cx="380880" cy="1523880"/>
            <a:chOff x="4343400" y="4648320"/>
            <a:chExt cx="380880" cy="1523880"/>
          </a:xfrm>
        </p:grpSpPr>
        <p:sp>
          <p:nvSpPr>
            <p:cNvPr id="6688" name=""/>
            <p:cNvSpPr/>
            <p:nvPr/>
          </p:nvSpPr>
          <p:spPr>
            <a:xfrm rot="5400000">
              <a:off x="44956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 rot="5400000">
              <a:off x="44956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 rot="5400000">
              <a:off x="44956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 rot="5400000">
              <a:off x="44956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 rot="5400000">
              <a:off x="44956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 rot="5400000">
              <a:off x="44956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 rot="5400000">
              <a:off x="44956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 rot="5400000">
              <a:off x="44956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 rot="5400000">
              <a:off x="44956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 rot="5400000">
              <a:off x="44956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 rot="5400000">
              <a:off x="44956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 rot="5400000">
              <a:off x="44956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 rot="5400000">
              <a:off x="44956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 rot="5400000">
              <a:off x="44956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 rot="5400000">
              <a:off x="44956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 rot="5400000">
              <a:off x="44956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 rot="5400000">
              <a:off x="44956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 rot="5400000">
              <a:off x="44956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 rot="5400000">
              <a:off x="44956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 rot="5400000">
              <a:off x="44956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8" name=""/>
          <p:cNvSpPr/>
          <p:nvPr/>
        </p:nvSpPr>
        <p:spPr>
          <a:xfrm flipV="1">
            <a:off x="49528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48769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0" name=""/>
          <p:cNvGrpSpPr/>
          <p:nvPr/>
        </p:nvGrpSpPr>
        <p:grpSpPr>
          <a:xfrm>
            <a:off x="4800600" y="4648320"/>
            <a:ext cx="380880" cy="1523880"/>
            <a:chOff x="4800600" y="4648320"/>
            <a:chExt cx="380880" cy="1523880"/>
          </a:xfrm>
        </p:grpSpPr>
        <p:sp>
          <p:nvSpPr>
            <p:cNvPr id="6711" name=""/>
            <p:cNvSpPr/>
            <p:nvPr/>
          </p:nvSpPr>
          <p:spPr>
            <a:xfrm rot="5400000">
              <a:off x="4952880" y="4495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 rot="5400000">
              <a:off x="4952880" y="4572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 rot="5400000">
              <a:off x="4952880" y="4648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 rot="5400000">
              <a:off x="4952880" y="4724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 rot="5400000">
              <a:off x="4952880" y="4800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 rot="5400000">
              <a:off x="4952880" y="48769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 rot="5400000">
              <a:off x="4952880" y="49528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 rot="5400000">
              <a:off x="4952880" y="50292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 rot="5400000">
              <a:off x="4952880" y="51055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 rot="5400000">
              <a:off x="4952880" y="51814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 rot="5400000">
              <a:off x="4952880" y="52578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 rot="5400000">
              <a:off x="4952880" y="53341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 rot="5400000">
              <a:off x="4952880" y="5410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 rot="5400000">
              <a:off x="4952880" y="54864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 rot="5400000">
              <a:off x="4952880" y="55627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 rot="5400000">
              <a:off x="4952880" y="56386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 rot="5400000">
              <a:off x="4952880" y="57150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 rot="5400000">
              <a:off x="4952880" y="579132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 rot="5400000">
              <a:off x="4952880" y="58672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 rot="5400000">
              <a:off x="4952880" y="594360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1" name=""/>
          <p:cNvSpPr/>
          <p:nvPr/>
        </p:nvSpPr>
        <p:spPr>
          <a:xfrm flipV="1">
            <a:off x="5410080" y="4571280"/>
            <a:ext cx="7632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5334120" y="4419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 rot="5400000">
            <a:off x="5408640" y="44942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 rot="5400000">
            <a:off x="5408640" y="45705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rot="5400000">
            <a:off x="5408640" y="46465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rot="5400000">
            <a:off x="5408640" y="472284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 rot="5400000">
            <a:off x="5408640" y="4799160"/>
            <a:ext cx="7632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rot="5400000">
            <a:off x="5408640" y="4875120"/>
            <a:ext cx="759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 rot="5400000">
            <a:off x="5408640" y="49514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 rot="5400000">
            <a:off x="5408640" y="50277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rot="5400000">
            <a:off x="5408640" y="51037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rot="5400000">
            <a:off x="5408640" y="51800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 rot="5400000">
            <a:off x="5408640" y="52563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 rot="5400000">
            <a:off x="5408640" y="53323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 rot="5400000">
            <a:off x="5408640" y="54086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rot="5400000">
            <a:off x="5408640" y="54849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rot="5400000">
            <a:off x="5408640" y="55609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 rot="5400000">
            <a:off x="5408640" y="56372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rot="5400000">
            <a:off x="5408640" y="57135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rot="5400000">
            <a:off x="5408640" y="578952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 rot="5400000">
            <a:off x="5408640" y="586584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 rot="5400000">
            <a:off x="5408640" y="594216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>
            <a:off x="1295280" y="5867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om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617220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to 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38098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3716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>
            <a:off x="594360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>
            <a:off x="1981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5778000" y="4800600"/>
            <a:ext cx="18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Symbol"/>
                <a:ea typeface="Symbol"/>
              </a:rPr>
              <a:t>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V="1">
            <a:off x="5410080" y="2057040"/>
            <a:ext cx="381240" cy="2438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3124080" y="3429000"/>
            <a:ext cx="236232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B16-9A53-4800-9857-67A36B4CBB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Difficult Less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packets can move directly into the multi-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ing them to make their first move productively is a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asymmetry in the network … and the asymmetry caused the router to slow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1066680" y="4800600"/>
            <a:ext cx="7391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esson: Randomizing, adaptive routers (probably all routers) want to be as regular and consistent and symmetric as possible … otherwise traffic will get “caught” and become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8B5-2606-4517-AA4E-7ADC245AF5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ad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a condition in which packets are permanently bl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ly impossible for non-minimal routers because a packet can always d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, deadlock is a concern because packets monopoliz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is deadlock-free by using packet-exchange protocol: A router wanting to send a packet must be willing to receive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914400" y="5791320"/>
            <a:ext cx="716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variant -- 1 of the 4 frames is always avail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2E1-BC15-4FBD-987E-D34589ADFA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cket Exchange Protoco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1066680" y="266688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1523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1600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1676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1752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828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1905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1981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2057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2133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2209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22860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23623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4382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25146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25909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2666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2743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2819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2895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9" name=""/>
          <p:cNvSpPr/>
          <p:nvPr/>
        </p:nvSpPr>
        <p:spPr>
          <a:xfrm>
            <a:off x="2971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0" name=""/>
          <p:cNvSpPr/>
          <p:nvPr/>
        </p:nvSpPr>
        <p:spPr>
          <a:xfrm>
            <a:off x="1143000" y="25146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2" name=""/>
          <p:cNvSpPr/>
          <p:nvPr/>
        </p:nvSpPr>
        <p:spPr>
          <a:xfrm>
            <a:off x="1219320" y="2666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3" name=""/>
          <p:cNvSpPr/>
          <p:nvPr/>
        </p:nvSpPr>
        <p:spPr>
          <a:xfrm>
            <a:off x="1219320" y="2819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34290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9144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33544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4952880" y="3276720"/>
            <a:ext cx="243864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8" name=""/>
          <p:cNvGrpSpPr/>
          <p:nvPr/>
        </p:nvGrpSpPr>
        <p:grpSpPr>
          <a:xfrm>
            <a:off x="5334120" y="3124080"/>
            <a:ext cx="1523880" cy="380880"/>
            <a:chOff x="5334120" y="3124080"/>
            <a:chExt cx="1523880" cy="380880"/>
          </a:xfrm>
        </p:grpSpPr>
        <p:sp>
          <p:nvSpPr>
            <p:cNvPr id="6799" name=""/>
            <p:cNvSpPr/>
            <p:nvPr/>
          </p:nvSpPr>
          <p:spPr>
            <a:xfrm>
              <a:off x="53341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54100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54864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55627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56386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57150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57913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58672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59436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60199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60958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61722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62485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63244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64008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64771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65530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662940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670572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678168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73152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48006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4725720" y="2895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1066680" y="3276720"/>
            <a:ext cx="2438640" cy="75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3" name=""/>
          <p:cNvGrpSpPr/>
          <p:nvPr/>
        </p:nvGrpSpPr>
        <p:grpSpPr>
          <a:xfrm>
            <a:off x="1523880" y="3124080"/>
            <a:ext cx="1523880" cy="380880"/>
            <a:chOff x="1523880" y="3124080"/>
            <a:chExt cx="1523880" cy="380880"/>
          </a:xfrm>
        </p:grpSpPr>
        <p:sp>
          <p:nvSpPr>
            <p:cNvPr id="6824" name=""/>
            <p:cNvSpPr/>
            <p:nvPr/>
          </p:nvSpPr>
          <p:spPr>
            <a:xfrm>
              <a:off x="15238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5998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16761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17524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8284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19047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19810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570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1333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2096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2856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3619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4382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5142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5905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6668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7428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81916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895480" y="3124080"/>
              <a:ext cx="759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971440" y="3124080"/>
              <a:ext cx="7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4" name=""/>
          <p:cNvSpPr/>
          <p:nvPr/>
        </p:nvSpPr>
        <p:spPr>
          <a:xfrm>
            <a:off x="34290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914400" y="320040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3354480" y="281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4952880" y="2666880"/>
            <a:ext cx="243864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5334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410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5486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5562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5638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57150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57913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58672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59436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60199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8" name=""/>
          <p:cNvSpPr/>
          <p:nvPr/>
        </p:nvSpPr>
        <p:spPr>
          <a:xfrm>
            <a:off x="60958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9" name=""/>
          <p:cNvSpPr/>
          <p:nvPr/>
        </p:nvSpPr>
        <p:spPr>
          <a:xfrm>
            <a:off x="61722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0" name=""/>
          <p:cNvSpPr/>
          <p:nvPr/>
        </p:nvSpPr>
        <p:spPr>
          <a:xfrm>
            <a:off x="62485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63244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2" name=""/>
          <p:cNvSpPr/>
          <p:nvPr/>
        </p:nvSpPr>
        <p:spPr>
          <a:xfrm>
            <a:off x="64008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"/>
          <p:cNvSpPr/>
          <p:nvPr/>
        </p:nvSpPr>
        <p:spPr>
          <a:xfrm>
            <a:off x="64771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4" name=""/>
          <p:cNvSpPr/>
          <p:nvPr/>
        </p:nvSpPr>
        <p:spPr>
          <a:xfrm>
            <a:off x="65530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5" name=""/>
          <p:cNvSpPr/>
          <p:nvPr/>
        </p:nvSpPr>
        <p:spPr>
          <a:xfrm>
            <a:off x="662940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6" name=""/>
          <p:cNvSpPr/>
          <p:nvPr/>
        </p:nvSpPr>
        <p:spPr>
          <a:xfrm>
            <a:off x="6705720" y="2514600"/>
            <a:ext cx="7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7" name=""/>
          <p:cNvSpPr/>
          <p:nvPr/>
        </p:nvSpPr>
        <p:spPr>
          <a:xfrm>
            <a:off x="6781680" y="2514600"/>
            <a:ext cx="76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6934320" y="25146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7086600" y="2590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7010280" y="26668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7010280" y="28195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73152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4800600" y="2590920"/>
            <a:ext cx="152280" cy="228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4725720" y="2286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H="1">
            <a:off x="3429000" y="2743200"/>
            <a:ext cx="144792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H="1" flipV="1">
            <a:off x="3505320" y="2666520"/>
            <a:ext cx="137160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s Connect to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914400" y="3809880"/>
            <a:ext cx="71629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gically, a router should be able to accept a packet by moving it to the multi-queue … unless it is full … but it can’t be full since one frame is always available … when it is used, some packet must deroute to make a frame available, but it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go because accepting gave the router the right to se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912-E764-4330-9BCC-B57F8102BA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ive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livelock is the situation where a packet keeps moving, but is never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technique is to use counting or timestamps to measure the “age” of a packet, and never let a packet get too old … everything is eventually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s/counts take up valuable payloa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must be tested before a route is com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e number for old age is tougher than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ng against livelock was a showstopper for adaptive routers before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1" name=""/>
          <p:cNvGrpSpPr/>
          <p:nvPr/>
        </p:nvGrpSpPr>
        <p:grpSpPr>
          <a:xfrm>
            <a:off x="2236680" y="4190760"/>
            <a:ext cx="4496040" cy="533160"/>
            <a:chOff x="2236680" y="4190760"/>
            <a:chExt cx="4496040" cy="533160"/>
          </a:xfrm>
        </p:grpSpPr>
        <p:sp>
          <p:nvSpPr>
            <p:cNvPr id="6882" name=""/>
            <p:cNvSpPr/>
            <p:nvPr/>
          </p:nvSpPr>
          <p:spPr>
            <a:xfrm>
              <a:off x="3200400" y="4267080"/>
              <a:ext cx="3532320" cy="38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:09:20:1234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 rot="16200000">
              <a:off x="2451960" y="3975480"/>
              <a:ext cx="533160" cy="963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73392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5513400" y="4267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54E-295D-426C-9846-D7682BEB81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ivelock for Chao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1: Livelock is an extremely rar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2: Chaos routers randomize routes, and randomizes the victim when picking a d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rategy is, ignore livelock and g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any packet ag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is possible that a Chaos packet can be so unlucky that it is not deliver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Chaos Router is not livelock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1CB-2BB9-47B5-97F6-EA6D2C47B9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babilistic Livelock Freedo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r is probabilistically livelock free if the probability that a packet remains in the network 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onds goes to 0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ally livelock fre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terministic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0" name=""/>
          <p:cNvSpPr/>
          <p:nvPr/>
        </p:nvSpPr>
        <p:spPr>
          <a:xfrm rot="16200000">
            <a:off x="1020240" y="4316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82880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18288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5411880" y="579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>
            <a:off x="1828800" y="3733920"/>
            <a:ext cx="30492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2057400" y="3962520"/>
            <a:ext cx="30492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2362320" y="4267080"/>
            <a:ext cx="30456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 flipV="1">
            <a:off x="2666880" y="426672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2971800" y="42670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 flipV="1">
            <a:off x="3276720" y="4266720"/>
            <a:ext cx="3045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3581280" y="42670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3886200" y="457200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4191120" y="4876920"/>
            <a:ext cx="304560" cy="3045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4495680" y="518148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 flipV="1">
            <a:off x="4800600" y="518112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5105520" y="5181480"/>
            <a:ext cx="30456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5410080" y="5486400"/>
            <a:ext cx="304920" cy="3049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4648320" y="41148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oof requires a probabilistic arg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7D5-A9B9-41A8-966D-A34DC23DDD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hysical Connec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res connecting switches can be either unidirectional -- all wires transmit the same way, which alternates -- or bidirectional -- half of the wires are permanently set to transmit in each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ustained information flow in both directions, the bandwidth and latenc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ne packet in the network, the latency is the same, but the bandwidth is doubled with unidire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148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1480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5780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578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3733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5780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5410080"/>
            <a:ext cx="4343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“flit” is a flow-control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76520" y="6019920"/>
            <a:ext cx="6172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“phit” is a physical-transmission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6B4-909A-4EC7-A20E-5FD335E7E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by Kevin B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4, suitable for mesh and torus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phit frames, 16 bit phits, 5 frame multi-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-feedback shift register for random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channels with alternating opportunity at the end of each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injection and deliver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latency is 4 ticks with 15 ns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 is 1.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MOS, with scalable desig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ble to the Elko router, an oblivious router designed at Caltech using the sam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05B-8E1C-4E8D-B17E-DC2451EA5B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Chi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6911" name="chip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73240" y="304920"/>
            <a:ext cx="5943600" cy="5967360"/>
          </a:xfrm>
          <a:prstGeom prst="rect">
            <a:avLst/>
          </a:prstGeom>
          <a:ln w="0">
            <a:noFill/>
          </a:ln>
        </p:spPr>
      </p:pic>
      <p:sp>
        <p:nvSpPr>
          <p:cNvPr id="6912" name=""/>
          <p:cNvSpPr/>
          <p:nvPr/>
        </p:nvSpPr>
        <p:spPr>
          <a:xfrm>
            <a:off x="685800" y="2362320"/>
            <a:ext cx="21337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frames, scoreboard for the MQ logic, and cross bar were custom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CBB-E875-457C-87DC-74844C15D3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has a 4 tick node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read the header and determine the productive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set up the cross bar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increment/decrement th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travel across the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ko Router has a 3 tick node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read the header and decide to stop/turn/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increment/decrement th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ck to travel across the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7C1-4CD6-4EF8-B7F0-6BE82517F19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Assess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Analysis by Melanie Ful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and Elko routers simulated at the fli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ed means computing 95% confidence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throughput -- proportion of the network bisection bandwidth that wa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latency -- a packet’s injection to delivery time exclusive of source queu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month-Lewis prime modulus multiplicative congruential pseudo random number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Patterns: random (all destinations equally likely, including self), transpose, bit-reversal, complement, perfect-shuffle, hot spots (10 destinations 4x more likely than rand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"/>
          <p:cNvSpPr/>
          <p:nvPr/>
        </p:nvSpPr>
        <p:spPr>
          <a:xfrm>
            <a:off x="3962520" y="5867280"/>
            <a:ext cx="4343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ko has 3 tick node lat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24D-B6F6-46C5-8193-C35BEB7850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Descriptio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rformance numbers are given in Fulgham’s thesis + IEEE Comput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onclusions for 2D torus, 256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1 packet in network Elko is slightly faster gaining one tick per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ko and Chaos are comparable to about 40% of B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peak: Elko is 60% of BBW, Chaos is 96% BBW on random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40%-90% of BBW, Chaos has significantly better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90% of BBW, Chaos has worse latency, but both routers are fully saturated and cong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BE2-C33E-492B-824B-E2BFC6BBCC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formance Descrip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ther traffic patterns Chaos is usually better than Elko for both throughput and latency, though sometimes not by a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tterns are inherentl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se saturates at about 50% B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he point at which saturation occurs -- Chaos is significantly better (often carries 2x the load) except for “bit revers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2" name=""/>
          <p:cNvSpPr/>
          <p:nvPr/>
        </p:nvSpPr>
        <p:spPr>
          <a:xfrm>
            <a:off x="990720" y="5486400"/>
            <a:ext cx="693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ottom line: Chaos carries more traffic 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5CB-484D-49FF-ADBF-FFE6888A5C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ur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handles bursts well because the wires “fill up” carrying traffic quickly, and the multi-queue can hold “over capa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 Chaos works best at about 90% of saturation, when it is carrying great capacity and latency is still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rst that floods the network beyond saturation, however, creates excessive amounts of derouting, wasting channel 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"/>
          <p:cNvSpPr/>
          <p:nvPr/>
        </p:nvSpPr>
        <p:spPr>
          <a:xfrm>
            <a:off x="2895480" y="5867280"/>
            <a:ext cx="5334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haos does not transmit “back pressure”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FD-59CE-4FBA-9FF3-A5DB26FFAE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ault Tolera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minimal adaptive routers are inherently fault-tolerant because a faulty neighbor is indistinguishable from a busy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er requires special design considerations to be fault toleran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out of an outpu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reassembly is a good place to recognize lost packets … but they may just be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ut on reassembly, force a halt, deliver everything, apply diagnostics, restart if everything i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320-A067-4D83-9552-5B528EA982A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network communication and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switched, packet switched, worm-hole swi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physical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irectional or bidirectional 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ivious on a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 and handling that problem with a 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adaptive -- b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Potato -- too e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os -- random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/>
          <p:nvPr/>
        </p:nvSpPr>
        <p:spPr>
          <a:xfrm>
            <a:off x="4726800" y="5715000"/>
            <a:ext cx="3259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haos is a friend of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-- Bob Dy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4FE-1F8D-4056-A1FF-8ECF97B65A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stination Addre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regular topology the switches can compute the path to the destination based only on it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ting the destination address into the first phit allows the node to begin addressing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rregular networks packets are “source routed” -- the path to the destination is computed at the source, and prefixed to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ach hop its own address is removed from the 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943600"/>
            <a:ext cx="7925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ource routing sets path w/o considering con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0BF-9388-4FD0-9D95-CC0235F15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ransport Approaches -- Circuit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tic path is set-up between source and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set up the information is pipelined along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h is “torn down” when the transmission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-up and tear-down are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ffective for l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i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nherited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934320" y="3962520"/>
            <a:ext cx="457200" cy="457200"/>
            <a:chOff x="6934320" y="3962520"/>
            <a:chExt cx="457200" cy="457200"/>
          </a:xfrm>
        </p:grpSpPr>
        <p:sp>
          <p:nvSpPr>
            <p:cNvPr id="590" name=""/>
            <p:cNvSpPr/>
            <p:nvPr/>
          </p:nvSpPr>
          <p:spPr>
            <a:xfrm>
              <a:off x="70106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1629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155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71629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343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391520" y="3962520"/>
            <a:ext cx="457200" cy="457200"/>
            <a:chOff x="7391520" y="3962520"/>
            <a:chExt cx="457200" cy="457200"/>
          </a:xfrm>
        </p:grpSpPr>
        <p:sp>
          <p:nvSpPr>
            <p:cNvPr id="596" name=""/>
            <p:cNvSpPr/>
            <p:nvPr/>
          </p:nvSpPr>
          <p:spPr>
            <a:xfrm>
              <a:off x="74678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6201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727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6201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915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562720" y="3962520"/>
            <a:ext cx="457200" cy="457200"/>
            <a:chOff x="5562720" y="3962520"/>
            <a:chExt cx="457200" cy="457200"/>
          </a:xfrm>
        </p:grpSpPr>
        <p:sp>
          <p:nvSpPr>
            <p:cNvPr id="602" name=""/>
            <p:cNvSpPr/>
            <p:nvPr/>
          </p:nvSpPr>
          <p:spPr>
            <a:xfrm>
              <a:off x="56390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7913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439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7913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627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019920" y="3962520"/>
            <a:ext cx="457200" cy="457200"/>
            <a:chOff x="6019920" y="3962520"/>
            <a:chExt cx="457200" cy="457200"/>
          </a:xfrm>
        </p:grpSpPr>
        <p:sp>
          <p:nvSpPr>
            <p:cNvPr id="608" name=""/>
            <p:cNvSpPr/>
            <p:nvPr/>
          </p:nvSpPr>
          <p:spPr>
            <a:xfrm>
              <a:off x="60962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2485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011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2485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199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477120" y="3962520"/>
            <a:ext cx="457200" cy="457200"/>
            <a:chOff x="6477120" y="3962520"/>
            <a:chExt cx="457200" cy="457200"/>
          </a:xfrm>
        </p:grpSpPr>
        <p:sp>
          <p:nvSpPr>
            <p:cNvPr id="614" name=""/>
            <p:cNvSpPr/>
            <p:nvPr/>
          </p:nvSpPr>
          <p:spPr>
            <a:xfrm>
              <a:off x="6553440" y="4038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705720" y="3962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360" y="4191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70572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934320" y="4419720"/>
            <a:ext cx="457200" cy="457200"/>
            <a:chOff x="6934320" y="4419720"/>
            <a:chExt cx="457200" cy="457200"/>
          </a:xfrm>
        </p:grpSpPr>
        <p:sp>
          <p:nvSpPr>
            <p:cNvPr id="620" name=""/>
            <p:cNvSpPr/>
            <p:nvPr/>
          </p:nvSpPr>
          <p:spPr>
            <a:xfrm>
              <a:off x="70106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1629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155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1629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343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391520" y="4419720"/>
            <a:ext cx="457200" cy="457200"/>
            <a:chOff x="7391520" y="4419720"/>
            <a:chExt cx="457200" cy="457200"/>
          </a:xfrm>
        </p:grpSpPr>
        <p:sp>
          <p:nvSpPr>
            <p:cNvPr id="626" name=""/>
            <p:cNvSpPr/>
            <p:nvPr/>
          </p:nvSpPr>
          <p:spPr>
            <a:xfrm>
              <a:off x="74678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6201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727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6201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15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562720" y="4419720"/>
            <a:ext cx="457200" cy="457200"/>
            <a:chOff x="5562720" y="4419720"/>
            <a:chExt cx="457200" cy="457200"/>
          </a:xfrm>
        </p:grpSpPr>
        <p:sp>
          <p:nvSpPr>
            <p:cNvPr id="632" name=""/>
            <p:cNvSpPr/>
            <p:nvPr/>
          </p:nvSpPr>
          <p:spPr>
            <a:xfrm>
              <a:off x="56390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57913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39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57913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627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6019920" y="4419720"/>
            <a:ext cx="457200" cy="457200"/>
            <a:chOff x="6019920" y="4419720"/>
            <a:chExt cx="457200" cy="457200"/>
          </a:xfrm>
        </p:grpSpPr>
        <p:sp>
          <p:nvSpPr>
            <p:cNvPr id="638" name=""/>
            <p:cNvSpPr/>
            <p:nvPr/>
          </p:nvSpPr>
          <p:spPr>
            <a:xfrm>
              <a:off x="60962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2485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011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2485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199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477120" y="4419720"/>
            <a:ext cx="457200" cy="457200"/>
            <a:chOff x="6477120" y="4419720"/>
            <a:chExt cx="457200" cy="457200"/>
          </a:xfrm>
        </p:grpSpPr>
        <p:sp>
          <p:nvSpPr>
            <p:cNvPr id="644" name=""/>
            <p:cNvSpPr/>
            <p:nvPr/>
          </p:nvSpPr>
          <p:spPr>
            <a:xfrm>
              <a:off x="6553440" y="44960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705720" y="4419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8360" y="4648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67057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77120" y="4648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934320" y="4876920"/>
            <a:ext cx="457200" cy="457200"/>
            <a:chOff x="6934320" y="4876920"/>
            <a:chExt cx="457200" cy="457200"/>
          </a:xfrm>
        </p:grpSpPr>
        <p:sp>
          <p:nvSpPr>
            <p:cNvPr id="650" name=""/>
            <p:cNvSpPr/>
            <p:nvPr/>
          </p:nvSpPr>
          <p:spPr>
            <a:xfrm>
              <a:off x="70106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1629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155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71629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343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391520" y="4876920"/>
            <a:ext cx="457200" cy="457200"/>
            <a:chOff x="7391520" y="4876920"/>
            <a:chExt cx="457200" cy="457200"/>
          </a:xfrm>
        </p:grpSpPr>
        <p:sp>
          <p:nvSpPr>
            <p:cNvPr id="656" name=""/>
            <p:cNvSpPr/>
            <p:nvPr/>
          </p:nvSpPr>
          <p:spPr>
            <a:xfrm>
              <a:off x="74678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201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727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6201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915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562720" y="4876920"/>
            <a:ext cx="457200" cy="457200"/>
            <a:chOff x="5562720" y="4876920"/>
            <a:chExt cx="457200" cy="457200"/>
          </a:xfrm>
        </p:grpSpPr>
        <p:sp>
          <p:nvSpPr>
            <p:cNvPr id="662" name=""/>
            <p:cNvSpPr/>
            <p:nvPr/>
          </p:nvSpPr>
          <p:spPr>
            <a:xfrm>
              <a:off x="56390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57913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439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913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627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019920" y="4876920"/>
            <a:ext cx="457200" cy="457200"/>
            <a:chOff x="6019920" y="4876920"/>
            <a:chExt cx="457200" cy="457200"/>
          </a:xfrm>
        </p:grpSpPr>
        <p:sp>
          <p:nvSpPr>
            <p:cNvPr id="668" name=""/>
            <p:cNvSpPr/>
            <p:nvPr/>
          </p:nvSpPr>
          <p:spPr>
            <a:xfrm>
              <a:off x="60962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2485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11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2485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99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477120" y="4876920"/>
            <a:ext cx="457200" cy="457200"/>
            <a:chOff x="6477120" y="4876920"/>
            <a:chExt cx="457200" cy="457200"/>
          </a:xfrm>
        </p:grpSpPr>
        <p:sp>
          <p:nvSpPr>
            <p:cNvPr id="674" name=""/>
            <p:cNvSpPr/>
            <p:nvPr/>
          </p:nvSpPr>
          <p:spPr>
            <a:xfrm>
              <a:off x="6553440" y="49532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6705720" y="48769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58360" y="5105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70572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77120" y="5105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934320" y="5334120"/>
            <a:ext cx="457200" cy="457200"/>
            <a:chOff x="6934320" y="5334120"/>
            <a:chExt cx="457200" cy="457200"/>
          </a:xfrm>
        </p:grpSpPr>
        <p:sp>
          <p:nvSpPr>
            <p:cNvPr id="680" name=""/>
            <p:cNvSpPr/>
            <p:nvPr/>
          </p:nvSpPr>
          <p:spPr>
            <a:xfrm>
              <a:off x="70106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1629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55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1629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343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7391520" y="5334120"/>
            <a:ext cx="457200" cy="457200"/>
            <a:chOff x="7391520" y="5334120"/>
            <a:chExt cx="457200" cy="457200"/>
          </a:xfrm>
        </p:grpSpPr>
        <p:sp>
          <p:nvSpPr>
            <p:cNvPr id="686" name=""/>
            <p:cNvSpPr/>
            <p:nvPr/>
          </p:nvSpPr>
          <p:spPr>
            <a:xfrm>
              <a:off x="74678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201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727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201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915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5562720" y="5334120"/>
            <a:ext cx="457200" cy="457200"/>
            <a:chOff x="5562720" y="5334120"/>
            <a:chExt cx="457200" cy="457200"/>
          </a:xfrm>
        </p:grpSpPr>
        <p:sp>
          <p:nvSpPr>
            <p:cNvPr id="692" name=""/>
            <p:cNvSpPr/>
            <p:nvPr/>
          </p:nvSpPr>
          <p:spPr>
            <a:xfrm>
              <a:off x="56390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7913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39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7913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27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019920" y="5334120"/>
            <a:ext cx="457200" cy="457200"/>
            <a:chOff x="6019920" y="5334120"/>
            <a:chExt cx="457200" cy="457200"/>
          </a:xfrm>
        </p:grpSpPr>
        <p:sp>
          <p:nvSpPr>
            <p:cNvPr id="698" name=""/>
            <p:cNvSpPr/>
            <p:nvPr/>
          </p:nvSpPr>
          <p:spPr>
            <a:xfrm>
              <a:off x="60962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2485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011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2485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477120" y="5334120"/>
            <a:ext cx="457200" cy="457200"/>
            <a:chOff x="6477120" y="5334120"/>
            <a:chExt cx="457200" cy="457200"/>
          </a:xfrm>
        </p:grpSpPr>
        <p:sp>
          <p:nvSpPr>
            <p:cNvPr id="704" name=""/>
            <p:cNvSpPr/>
            <p:nvPr/>
          </p:nvSpPr>
          <p:spPr>
            <a:xfrm>
              <a:off x="6553440" y="54104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705720" y="5334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58360" y="556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670572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5627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5791320"/>
            <a:ext cx="457200" cy="457200"/>
            <a:chOff x="6934320" y="5791320"/>
            <a:chExt cx="457200" cy="457200"/>
          </a:xfrm>
        </p:grpSpPr>
        <p:sp>
          <p:nvSpPr>
            <p:cNvPr id="710" name=""/>
            <p:cNvSpPr/>
            <p:nvPr/>
          </p:nvSpPr>
          <p:spPr>
            <a:xfrm>
              <a:off x="70106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1629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155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1629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343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391520" y="5791320"/>
            <a:ext cx="457200" cy="457200"/>
            <a:chOff x="7391520" y="5791320"/>
            <a:chExt cx="457200" cy="457200"/>
          </a:xfrm>
        </p:grpSpPr>
        <p:sp>
          <p:nvSpPr>
            <p:cNvPr id="716" name=""/>
            <p:cNvSpPr/>
            <p:nvPr/>
          </p:nvSpPr>
          <p:spPr>
            <a:xfrm>
              <a:off x="74678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6201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727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76201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15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562720" y="5791320"/>
            <a:ext cx="457200" cy="457200"/>
            <a:chOff x="5562720" y="5791320"/>
            <a:chExt cx="457200" cy="457200"/>
          </a:xfrm>
        </p:grpSpPr>
        <p:sp>
          <p:nvSpPr>
            <p:cNvPr id="722" name=""/>
            <p:cNvSpPr/>
            <p:nvPr/>
          </p:nvSpPr>
          <p:spPr>
            <a:xfrm>
              <a:off x="56390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7913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439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7913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627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019920" y="5791320"/>
            <a:ext cx="457200" cy="457200"/>
            <a:chOff x="6019920" y="5791320"/>
            <a:chExt cx="457200" cy="457200"/>
          </a:xfrm>
        </p:grpSpPr>
        <p:sp>
          <p:nvSpPr>
            <p:cNvPr id="728" name=""/>
            <p:cNvSpPr/>
            <p:nvPr/>
          </p:nvSpPr>
          <p:spPr>
            <a:xfrm>
              <a:off x="60962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2485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011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2485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0199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477120" y="5791320"/>
            <a:ext cx="457200" cy="457200"/>
            <a:chOff x="6477120" y="5791320"/>
            <a:chExt cx="457200" cy="457200"/>
          </a:xfrm>
        </p:grpSpPr>
        <p:sp>
          <p:nvSpPr>
            <p:cNvPr id="734" name=""/>
            <p:cNvSpPr/>
            <p:nvPr/>
          </p:nvSpPr>
          <p:spPr>
            <a:xfrm>
              <a:off x="6553440" y="5867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6705720" y="57913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58360" y="60199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7057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7712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7468920" y="396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40840" y="5791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43600" y="60199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248520" y="51055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5105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705720" y="41911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C96-6A71-48E0-98FC-DD18823F96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ransport Approaches -- Packet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cket switching the information is divided up into packets, and the destination address is prefixed to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cket is treated independently, preventing any packet from monopolizing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ed to favor short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ader is overhead; pipelining is less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ad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approach for store &amp; forward 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ut-through has replaced S&amp;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343400" y="4495680"/>
            <a:ext cx="2133720" cy="533520"/>
            <a:chOff x="4343400" y="4495680"/>
            <a:chExt cx="2133720" cy="533520"/>
          </a:xfrm>
        </p:grpSpPr>
        <p:sp>
          <p:nvSpPr>
            <p:cNvPr id="749" name=""/>
            <p:cNvSpPr/>
            <p:nvPr/>
          </p:nvSpPr>
          <p:spPr>
            <a:xfrm>
              <a:off x="4800600" y="4572000"/>
              <a:ext cx="167652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,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3.141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6200000">
              <a:off x="4305240" y="4533840"/>
              <a:ext cx="53352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89840" y="457812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C98-987A-4468-86CD-C253DE093B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ore and Forward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Virtual Cut-throug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&amp;F allows for more sophisticated protocol, with higher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cut-through allows for greate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219320" y="3733920"/>
            <a:ext cx="2438280" cy="2361960"/>
            <a:chOff x="1219320" y="3733920"/>
            <a:chExt cx="2438280" cy="2361960"/>
          </a:xfrm>
        </p:grpSpPr>
        <p:sp>
          <p:nvSpPr>
            <p:cNvPr id="755" name=""/>
            <p:cNvSpPr/>
            <p:nvPr/>
          </p:nvSpPr>
          <p:spPr>
            <a:xfrm flipH="1" flipV="1">
              <a:off x="1980720" y="44953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2057040" y="44193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1219320" y="3733920"/>
              <a:ext cx="2438280" cy="2361960"/>
              <a:chOff x="1219320" y="3733920"/>
              <a:chExt cx="2438280" cy="2361960"/>
            </a:xfrm>
          </p:grpSpPr>
          <p:sp>
            <p:nvSpPr>
              <p:cNvPr id="758" name=""/>
              <p:cNvSpPr/>
              <p:nvPr/>
            </p:nvSpPr>
            <p:spPr>
              <a:xfrm>
                <a:off x="236232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19320" y="48006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19320" y="49528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33720" y="45720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914400" y="39625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3733560" y="4876920"/>
            <a:ext cx="685800" cy="228600"/>
            <a:chOff x="3733560" y="4876920"/>
            <a:chExt cx="685800" cy="228600"/>
          </a:xfrm>
        </p:grpSpPr>
        <p:sp>
          <p:nvSpPr>
            <p:cNvPr id="765" name=""/>
            <p:cNvSpPr/>
            <p:nvPr/>
          </p:nvSpPr>
          <p:spPr>
            <a:xfrm rot="10800000">
              <a:off x="3733560" y="4914720"/>
              <a:ext cx="457200" cy="152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4190760" y="4876920"/>
              <a:ext cx="228600" cy="228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272320" y="468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19320" y="49528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286000" y="46483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905120" y="42667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828800" y="4267080"/>
            <a:ext cx="76320" cy="7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28800" y="4343400"/>
            <a:ext cx="6094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38280" y="49528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57800" y="49528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495288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5181480" y="3733920"/>
            <a:ext cx="2438280" cy="2361960"/>
            <a:chOff x="5181480" y="3733920"/>
            <a:chExt cx="2438280" cy="2361960"/>
          </a:xfrm>
        </p:grpSpPr>
        <p:sp>
          <p:nvSpPr>
            <p:cNvPr id="777" name=""/>
            <p:cNvSpPr/>
            <p:nvPr/>
          </p:nvSpPr>
          <p:spPr>
            <a:xfrm flipH="1" flipV="1">
              <a:off x="5942880" y="4495320"/>
              <a:ext cx="20340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6019200" y="441936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181480" y="3733920"/>
              <a:ext cx="2438280" cy="2361960"/>
              <a:chOff x="5181480" y="3733920"/>
              <a:chExt cx="2438280" cy="2361960"/>
            </a:xfrm>
          </p:grpSpPr>
          <p:sp>
            <p:nvSpPr>
              <p:cNvPr id="780" name=""/>
              <p:cNvSpPr/>
              <p:nvPr/>
            </p:nvSpPr>
            <p:spPr>
              <a:xfrm>
                <a:off x="632448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76760" y="37339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181480" y="48006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81480" y="49528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095880" y="4572000"/>
                <a:ext cx="609480" cy="609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>
            <a:off x="4876920" y="3962520"/>
            <a:ext cx="114300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95720" y="4876920"/>
            <a:ext cx="685800" cy="228600"/>
            <a:chOff x="7695720" y="4876920"/>
            <a:chExt cx="685800" cy="228600"/>
          </a:xfrm>
        </p:grpSpPr>
        <p:sp>
          <p:nvSpPr>
            <p:cNvPr id="787" name=""/>
            <p:cNvSpPr/>
            <p:nvPr/>
          </p:nvSpPr>
          <p:spPr>
            <a:xfrm rot="10800000">
              <a:off x="7695720" y="4914720"/>
              <a:ext cx="457200" cy="1522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8152920" y="4876920"/>
              <a:ext cx="228600" cy="228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ddddd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234840" y="468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181480" y="4952880"/>
            <a:ext cx="1067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248520" y="4800240"/>
            <a:ext cx="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48520" y="48006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00800" y="495288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C5D-61F4-4A84-8029-958C056BB0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Xport Approaches -- Wormhole Switch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-hole routers send entire message as a single packet -- dynamically circuit swit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the overhead of set-up and tear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exploits pipelining, minimizes overhead of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polizes resources and penalizes shor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delivered in order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 is the most popular transmission method of communication networks --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e.g. page, variable length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mall messages to “play throug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A85-6553-4080-AC7E-1E071D216A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2-03T00:36:16Z</dcterms:modified>
  <cp:revision>119</cp:revision>
  <dc:subject/>
  <dc:title>Survey of Parallel Computation</dc:title>
</cp:coreProperties>
</file>