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157-8181-4A3B-BA38-7A533DDA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A64-D6C4-4443-B912-510AF2C5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1A0-9035-4A31-8871-7856E417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2D0E-9A42-43E7-A3B2-099CF321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D7C-D569-4788-AA45-769AA345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CB8-286B-4377-84DB-EDD60ACE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B1E-5992-4E50-86CB-321F47D7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B83-ADB8-4252-BB7E-D6736256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78D-2F6B-4E6C-90C5-47E45345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DC7-A2F2-45D4-B4A6-36641EE4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5D6-17EC-48BA-8597-86274DD5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14F-6AB4-478E-972F-066118C6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13BC-0158-4BFF-AB24-E804EEEA7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9640" y="1419120"/>
            <a:ext cx="7238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Parallel Runtim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ough parallel computers run Linux kernels and though compilation is largely routine, there are a few aspects of parallel computers run-time of interest.  Communication will be our main foc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95280"/>
            <a:ext cx="7772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C96-1C2A-4B0B-BF4E-02D4EB9A7B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chematic of Nod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Integrated into PE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rcRect l="13282" t="33337" r="16405" b="17709"/>
          <a:stretch/>
        </p:blipFill>
        <p:spPr>
          <a:xfrm>
            <a:off x="1219320" y="2362320"/>
            <a:ext cx="685800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F67-27ED-4378-8F2F-C1E7A6923E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CUBE/2 Physical Arrangemen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card performed all of the operations, allowing it to be very econo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dding to the system is impossible … new boards are needed, and new communication -- not so sca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2819520"/>
            <a:ext cx="556272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2895480"/>
            <a:ext cx="129528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19520" y="2895480"/>
            <a:ext cx="1295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3505320"/>
            <a:ext cx="1295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2895480"/>
            <a:ext cx="129528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91120" y="3505320"/>
            <a:ext cx="1295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2895480"/>
            <a:ext cx="129528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62720" y="3505320"/>
            <a:ext cx="1295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142640" y="2971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14264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142640" y="3276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14264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14264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14264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BDE-8EC9-405D-8BFB-A1471FFD29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nection Machine - 5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ing Machines Inc.’s MIMD machine [Caution: CM-1 and CM-2 are SIM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Create an architecture that could scale arbitrar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are standard  proc/fpu/mem/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 came in “powers of 2” using fat t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hardware performed ‘reduction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d I/O” meant PE was split between comp and comm du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3CB-3028-4160-99BC-B5CD277C8B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chematic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to MMU 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rcRect l="17188" t="37501" r="28126" b="11458"/>
          <a:stretch/>
        </p:blipFill>
        <p:spPr>
          <a:xfrm>
            <a:off x="1752480" y="2514600"/>
            <a:ext cx="5334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5E4-DA60-489D-98BE-9145F3E9CF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M-5 A “Thinking Machine”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-5 Used a fat tre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54100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54100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5120" y="54100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38280" y="54100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54100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54100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38480" y="54100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54100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4572000"/>
            <a:ext cx="5335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46483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4876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46483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4876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29492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33720" y="4572000"/>
            <a:ext cx="53316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46483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09680" y="4876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46483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38280" y="4876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28564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4572000"/>
            <a:ext cx="5335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46483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4876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46483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05320" y="4876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35232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3400" y="4572000"/>
            <a:ext cx="5335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46483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4876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48320" y="46483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48320" y="4876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49532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066680" y="5105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1447560" y="51055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057400" y="5105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2438280" y="51055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124080" y="5105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3504960" y="51055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267080" y="5105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4647960" y="51055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05320" y="3657600"/>
            <a:ext cx="106668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3733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81280" y="39625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9880" y="3733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39625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8098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657240" y="38098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114800" y="3733920"/>
            <a:ext cx="380520" cy="380520"/>
            <a:chOff x="4114800" y="3733920"/>
            <a:chExt cx="380520" cy="380520"/>
          </a:xfrm>
        </p:grpSpPr>
        <p:sp>
          <p:nvSpPr>
            <p:cNvPr id="339" name=""/>
            <p:cNvSpPr/>
            <p:nvPr/>
          </p:nvSpPr>
          <p:spPr>
            <a:xfrm>
              <a:off x="4114800" y="373392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14800" y="396216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040" y="373392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3040" y="396216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90760" y="3809880"/>
              <a:ext cx="22824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190760" y="3809880"/>
              <a:ext cx="22824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886200" y="38098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886200" y="38095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3657600"/>
            <a:ext cx="106668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3880" y="3733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39625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3733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52480" y="39625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00200" y="38098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599840" y="38098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057400" y="3733920"/>
            <a:ext cx="380520" cy="380520"/>
            <a:chOff x="2057400" y="3733920"/>
            <a:chExt cx="380520" cy="380520"/>
          </a:xfrm>
        </p:grpSpPr>
        <p:sp>
          <p:nvSpPr>
            <p:cNvPr id="355" name=""/>
            <p:cNvSpPr/>
            <p:nvPr/>
          </p:nvSpPr>
          <p:spPr>
            <a:xfrm>
              <a:off x="2057400" y="373392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57400" y="396216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85640" y="373392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5640" y="396216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33360" y="3809880"/>
              <a:ext cx="22824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133360" y="3809880"/>
              <a:ext cx="22824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828800" y="38098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28800" y="38095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447920" y="4191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2057400" y="4191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505320" y="4191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4114800" y="4191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2286000"/>
            <a:ext cx="106668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66880" y="23623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66880" y="2590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23623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95480" y="2590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43200" y="2438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742840" y="2438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200400" y="2362320"/>
            <a:ext cx="380520" cy="380520"/>
            <a:chOff x="3200400" y="2362320"/>
            <a:chExt cx="380520" cy="380520"/>
          </a:xfrm>
        </p:grpSpPr>
        <p:sp>
          <p:nvSpPr>
            <p:cNvPr id="375" name=""/>
            <p:cNvSpPr/>
            <p:nvPr/>
          </p:nvSpPr>
          <p:spPr>
            <a:xfrm>
              <a:off x="3200400" y="236232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00400" y="259056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28640" y="236232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8640" y="259056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6360" y="2438280"/>
              <a:ext cx="22824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276360" y="2438280"/>
              <a:ext cx="22824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971800" y="24382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971800" y="24379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66880" y="28195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66880" y="30481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95480" y="28195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95480" y="30481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43200" y="28954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742840" y="28954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200400" y="2819520"/>
            <a:ext cx="380520" cy="380520"/>
            <a:chOff x="3200400" y="2819520"/>
            <a:chExt cx="380520" cy="380520"/>
          </a:xfrm>
        </p:grpSpPr>
        <p:sp>
          <p:nvSpPr>
            <p:cNvPr id="390" name=""/>
            <p:cNvSpPr/>
            <p:nvPr/>
          </p:nvSpPr>
          <p:spPr>
            <a:xfrm>
              <a:off x="3200400" y="281952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00400" y="304776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28640" y="281952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28640" y="304776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76360" y="2895480"/>
              <a:ext cx="22824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276360" y="2895480"/>
              <a:ext cx="22824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971800" y="28954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971800" y="28951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71800" y="26668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971440" y="26668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981080" y="327672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00400" y="3276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86400" y="2819520"/>
            <a:ext cx="3124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o handle more traffic at higher levels, add more channels and switching capac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05320" y="3276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1676520" y="32767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429000" y="4191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4191120" y="4191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133720" y="4191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371600" y="4191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828800" y="32767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523880" y="327672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3276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276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ED4-4D47-416E-B670-5AFE528E7C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ray T3D and T3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 shared address space -- all processors see the same address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t not the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is implemented using shmem-get and shmem-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is a non-coherent 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29200" y="4495680"/>
            <a:ext cx="2819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T3s are three dimensional torus topologies, i.e. a 3D mesh w/wr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438280" y="4495680"/>
            <a:ext cx="1981440" cy="1295640"/>
            <a:chOff x="2438280" y="4495680"/>
            <a:chExt cx="1981440" cy="1295640"/>
          </a:xfrm>
        </p:grpSpPr>
        <p:sp>
          <p:nvSpPr>
            <p:cNvPr id="417" name=""/>
            <p:cNvSpPr/>
            <p:nvPr/>
          </p:nvSpPr>
          <p:spPr>
            <a:xfrm flipH="1">
              <a:off x="2819160" y="53341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819160" y="47242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3276720" y="47242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3886200" y="47242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76720" y="47242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48120" y="44956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57600" y="44956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76720" y="5334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48120" y="51055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57600" y="51055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200400" y="480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809880" y="480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00400" y="4800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71800" y="457200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81280" y="457200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00400" y="54100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71800" y="51814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81280" y="51814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3124080" y="48765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733920" y="48765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4080" y="48769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95480" y="46483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05320" y="46483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24080" y="54864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95480" y="525780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05320" y="525780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048120" y="49528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57600" y="49528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48120" y="49528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19520" y="47242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29000" y="47242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48120" y="55627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19520" y="53341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3581280" y="4952880"/>
              <a:ext cx="763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114800" y="472392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14800" y="47242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3581280" y="5334120"/>
              <a:ext cx="838440" cy="304560"/>
              <a:chOff x="3581280" y="5334120"/>
              <a:chExt cx="838440" cy="304560"/>
            </a:xfrm>
          </p:grpSpPr>
          <p:sp>
            <p:nvSpPr>
              <p:cNvPr id="456" name=""/>
              <p:cNvSpPr/>
              <p:nvPr/>
            </p:nvSpPr>
            <p:spPr>
              <a:xfrm flipH="1">
                <a:off x="3581280" y="5562720"/>
                <a:ext cx="763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581280" y="56386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114800" y="5334120"/>
                <a:ext cx="3049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14800" y="5334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flipH="1">
              <a:off x="2971800" y="5562720"/>
              <a:ext cx="763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438280" y="5638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2438280" y="5334120"/>
              <a:ext cx="3812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2971800" y="4952880"/>
              <a:ext cx="763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4382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438280" y="4723920"/>
              <a:ext cx="3812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1BE-415A-483E-A3C7-44C970D518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ray T3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ize a pseudo-processor and a pseudo-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rcRect l="14844" t="38544" r="12500" b="12502"/>
          <a:stretch/>
        </p:blipFill>
        <p:spPr>
          <a:xfrm>
            <a:off x="1066680" y="2819520"/>
            <a:ext cx="708660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4D5-B0EC-4887-962B-BF569CDBBF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3D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mem-get and -put eliminate synchronization for the processor, though communication subsystem m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short sequence of instructions to initiate a transfer and then ~100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parate network implements global synchronization operations like (eurek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068-E7F1-455F-84E8-0DAF702C36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3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simplification over T3D by using 512 E-registers for loading/s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/Puts instructions move data between global addresses and E-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/Modify/Write also possible with E-re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processor address portion in E-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get with a mem-mapped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transfer made from remote processor E-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from E-register get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ce the speed of T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42C-E676-42FD-98C2-0734538B1D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ving Data In Parallel Compu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iews of data motion in parallel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be transparent -- shared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vement is complex … simplify by eliminat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ous mechanisms (VM, paging, caching) have proved their worth and show that amortizing costs work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programmer’s responsibility to move data to wherever it is needed -- message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vement is complex ... rely on programmer to do it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passing is universal -- it works on any machine while shared memory needs special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5638680"/>
            <a:ext cx="7848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any furious battles have taken place over this issue … at the moment message passing is the state-of-the-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EBB-9FB8-4BEA-8EA2-4102ADA775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loyd-Warshall Alg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Homework not assigned)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 an nxn (symmetric) arra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edge weights with 0 on diagonals, </a:t>
            </a:r>
            <a:r>
              <a:rPr b="1" lang="en-US" sz="24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no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all pairs shortest path: min(d[i,j],d[i,k]+d[k,j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30240" y="3317760"/>
            <a:ext cx="3247560" cy="2212560"/>
            <a:chOff x="930240" y="3317760"/>
            <a:chExt cx="3247560" cy="2212560"/>
          </a:xfrm>
        </p:grpSpPr>
        <p:sp>
          <p:nvSpPr>
            <p:cNvPr id="49" name=""/>
            <p:cNvSpPr/>
            <p:nvPr/>
          </p:nvSpPr>
          <p:spPr>
            <a:xfrm>
              <a:off x="3368520" y="4613400"/>
              <a:ext cx="304920" cy="3045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073240" y="48420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1996920" y="38512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682360" y="44604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759040" y="377496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082520" y="3774600"/>
              <a:ext cx="838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1158480" y="468936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96920" y="36990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2073240" y="38512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597120" y="3927600"/>
              <a:ext cx="3049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36960" y="484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44640" y="5146560"/>
              <a:ext cx="30492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0240" y="4460760"/>
              <a:ext cx="30492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68320" y="3622680"/>
              <a:ext cx="30492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54120" y="4232160"/>
              <a:ext cx="30492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25720" y="3622680"/>
              <a:ext cx="30492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60640" y="4003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60840" y="331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4160" y="430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27680" y="369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8040" y="392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84880" y="446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27880" y="4156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32240" y="507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5101560" y="3048120"/>
            <a:ext cx="3087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 a  b  c  d  e 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5  0  3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 6  3  0  2  3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2  0  2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3  2  0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 7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4  1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25920" y="3394080"/>
            <a:ext cx="27432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248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ssume all edge weights are less than 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B6A-E1BE-4B42-B088-CBE03DBBB5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essage Pass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passing is provided by a machine-specific library, but there are standard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-- Message passing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VM -- Parallel Virtual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send … send msg, wait until it is ack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blocking send … send msg, continue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_for_ACK … wait for ack of non-blocking s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… get msg that has arr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insert the library calls in-line in C or Fortran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E2B-5B38-4680-ADD5-F4E2B6808D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essage Passing Exampl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essage passing, there is no abstraction … the programmer does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overlapping comm/co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xchanging data in middle of a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b_send(to_right, data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ch compu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v(from_left, loc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grammer knows th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not be used, and so there can be no error in delaying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ompilers usually mu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more conserv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19920" y="335268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162920" y="335268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67057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485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647712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24816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2485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19920" y="5105520"/>
            <a:ext cx="6858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62920" y="5105520"/>
            <a:ext cx="6858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70572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24852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6477120" y="5790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624816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4852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008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25560" y="5181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6019920"/>
            <a:ext cx="4114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piler uses blocking s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125-D7AD-43B0-A80B-3C396852D2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ternative Middle Communic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lighter weight” approach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e-sided 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perations are supported -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(P.loc,mine);  -- read directly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proc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(mine,P.loc,);  -- st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rectly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pro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hared memory since there is no memory coherence -- the programmer is responsible for keeping the memory sen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27A-416D-4C4F-A565-853D052393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ternative Implemen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passing is “heavy weight” because it needs send, acknowledgement, marsha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one-sided communication is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_temp := data1;     -- store where neighbor can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t(P-1,my_data_ready);  -- say that it’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ch computing;       -- over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(P+1,his_data_ready); -- wait if neighbor not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(P+1.his_temp, loc1); -- get i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 is more efficient because of reduced waiting and less network traf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52480" y="5791320"/>
            <a:ext cx="5943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ost computers do not implement shm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830-F61A-4C5C-89D0-C059722E18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sg Pass Lowest Common Denominator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rogrammers write direct message passing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explicit message passing statements in code it is difficult to adapt to new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mpilers targeting large parallel machines (except ZPL) use message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ble to exploit other communicatio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33520" y="3200400"/>
            <a:ext cx="8076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sg passing, shmem, shared are all different concep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81080" y="5257800"/>
            <a:ext cx="5181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essage passing, shmem, shared require different compiler 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C8D-0831-4849-9778-0481848342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rea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095-E344-42C2-8166-F69B0DF07E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piling ZPL Program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PL uses a “single program, multiple data” (SPMD) view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iler produces 1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ly, ZPL executes 1 statement at a time, but processors go at their own rate using “data synchroniz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i := 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1..m,*]  Col := &gt;&gt;[ ,k] A; -- Flood kth col o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*,1..p]  Row := &gt;&gt;[k, ] B; -- Flood kth row of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1..m,1..p]    C += Col*Row;   -- Combine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48320" y="4876920"/>
            <a:ext cx="53316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4876920"/>
            <a:ext cx="53316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48320" y="4876920"/>
            <a:ext cx="7596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57800" y="4876920"/>
            <a:ext cx="53352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257800" y="4876920"/>
            <a:ext cx="5335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486400"/>
            <a:ext cx="533160" cy="5335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486400"/>
            <a:ext cx="7596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57800" y="5486400"/>
            <a:ext cx="533520" cy="5335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5029200"/>
            <a:ext cx="137016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cst co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cst r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8400" y="5486400"/>
            <a:ext cx="13266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cst co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v r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24240" y="5486400"/>
            <a:ext cx="12276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v co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v r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471080" y="4952880"/>
            <a:ext cx="13420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v co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cst r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95480" y="5105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8669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5866920" y="5105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EC0-CA1B-4B43-94DF-E0F29930E8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l Part Of One Cod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MD program form requires that both ‘sides’ of the communication are cod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my_col(k) then bdcast(A[mylo1..myhi1,k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record(Col[mylo1..myhi1. * 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my_row(k) then bdcast(B[k,mylo2..myhi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record(Row[ * ,mylo2..myhi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28680" y="5486400"/>
            <a:ext cx="6769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actual form of communication is give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6D5-3359-4FEE-A461-EE129CF7C2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piling ZPL Programs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ZPL is high level, most optimizations have a huge payo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important optim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edge  := max&lt;&lt; Pts.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pedge    := max&lt;&lt; Pts.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ftedge   := min&lt;&lt; Pts.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ttomedge := min&lt;&lt; Pts.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s to 1 Ladner/Fischer tree on 4-par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rth := A@N + B@N + C@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all communication to north (and south)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B5F4-21C0-41D1-B8D6-E17A86E13D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hat Happens When A Program Ru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rocessor starts, gets the logical arrangement from command line, sends it to others and they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iffers slightly from machine to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or computes which region it 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or sets up its scalars, routing tables and data arrays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" y="4038480"/>
            <a:ext cx="1371600" cy="1371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9072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7160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5248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43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580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" y="5029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71600" y="4343400"/>
            <a:ext cx="38088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14800" y="4876920"/>
            <a:ext cx="1066680" cy="10666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038480" y="4876920"/>
            <a:ext cx="76320" cy="1066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81480" y="4876920"/>
            <a:ext cx="76320" cy="1066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14800" y="5943600"/>
            <a:ext cx="1066680" cy="76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14800" y="4800600"/>
            <a:ext cx="1066680" cy="76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733920" y="4876920"/>
            <a:ext cx="75960" cy="10666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4495680"/>
            <a:ext cx="1066680" cy="763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638680" y="3886200"/>
            <a:ext cx="31244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luff -- the temporary storage used to hold  values transmitted for @-communication -- it is inline to make indexing transpa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029200" y="41144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3520" y="5791320"/>
            <a:ext cx="28191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lood arrays -- minimum 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4572000"/>
            <a:ext cx="320040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362320" y="457200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62320" y="56383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038480" y="5943600"/>
            <a:ext cx="76320" cy="76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4800600"/>
            <a:ext cx="76320" cy="76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038480" y="4800600"/>
            <a:ext cx="76320" cy="76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81480" y="5943600"/>
            <a:ext cx="76320" cy="76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3F3-D3BB-4D13-95B5-3B684EE475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Homework Solu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gram F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fig var n : integer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R = [1..n,1..n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= [*,1..n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= [1..n,*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   E : [R] intege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k : [H]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k : [V]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FW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k 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R] begi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Read E here, infinity is 1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k := 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H]     Hk := &gt;&gt; [k, ]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V]     Vk := &gt;&gt; [ ,k]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:= min(E, Hk + V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Write 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B70-C0F8-4F4D-BEBA-3F2B4A8E75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re are lots of different machin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will generate code for different code for different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a compiler do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with som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240F-6F7F-4010-87FC-BCE4D2A4CE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xample -- shared memo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@east 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hared memory model each processor writes directly into the portion of B that it ‘owns,’ referencing elements of A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plicit ‘fluff’ regions, but synch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arrier_synch(); -- proceed when all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=mylo1_B;i&lt;myhi1_B;i++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j=mylo2_B;j&lt;myhi2_B;j++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[i][j]=A[i][j+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105520" y="5257800"/>
            <a:ext cx="167616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5334120"/>
            <a:ext cx="762120" cy="114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19920" y="5334120"/>
            <a:ext cx="68580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010280" y="5257800"/>
            <a:ext cx="167652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86600" y="5334120"/>
            <a:ext cx="762120" cy="114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924680" y="5334120"/>
            <a:ext cx="68580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924680" y="5334120"/>
            <a:ext cx="76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5943240" y="5867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867280" y="5334120"/>
            <a:ext cx="76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F32-3387-4BD9-955E-84D1ACAA40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xample -- message pass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@east 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edge elements of A, then local copy to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pass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shall the elements into a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, Receive, and Demars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952880" y="16002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5880" y="16002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540972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09880" y="16002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1676520"/>
            <a:ext cx="3049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4120" y="1676520"/>
            <a:ext cx="75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172200" y="1676520"/>
            <a:ext cx="3049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77120" y="1676520"/>
            <a:ext cx="75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1676520"/>
            <a:ext cx="3049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91120" y="1676520"/>
            <a:ext cx="75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86200" y="1676520"/>
            <a:ext cx="763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200" y="1676520"/>
            <a:ext cx="763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72200" y="1676520"/>
            <a:ext cx="763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426672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200400"/>
            <a:ext cx="57909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90720" y="32004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86000" y="320040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438280" y="3200400"/>
            <a:ext cx="1526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33920" y="320040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6200" y="32004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81480" y="320040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4120" y="32004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629400" y="320040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48120" y="50292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00400" y="50292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52680" y="5029200"/>
            <a:ext cx="1526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05320" y="50292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4572000"/>
            <a:ext cx="57909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45720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86000" y="457200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38280" y="4572000"/>
            <a:ext cx="1526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33920" y="457200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45720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81480" y="457200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4120" y="45720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457200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143000" y="4724280"/>
            <a:ext cx="1905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0920" y="47242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3505320" y="4724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657240" y="472428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67080" y="5562720"/>
            <a:ext cx="1526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19720" y="556272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72000" y="556272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5562720"/>
            <a:ext cx="1526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90720" y="6019920"/>
            <a:ext cx="57909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601992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86000" y="6019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8280" y="6019920"/>
            <a:ext cx="1526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86200" y="601992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81480" y="6019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629400" y="6019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76920" y="571500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24280" y="5715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886200" y="57150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438280" y="57150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63400" y="4419720"/>
            <a:ext cx="161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63400" y="5867280"/>
            <a:ext cx="161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62720" y="487692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to Send to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62720" y="5410080"/>
            <a:ext cx="35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Recv’d from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3962160" y="5105520"/>
            <a:ext cx="160020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5105520" y="5638680"/>
            <a:ext cx="45720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956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386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6B9-5E0A-4ACA-81F7-5763C3F6107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xample -- one-sided communic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@east 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edge elements of A, then local copy to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(my_data_ready);      -- say it’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(P+1,his_data_ready); --wait if neighbor ~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(P+1.my_low1,his_col);--addr of P+1 1st 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j=mylo1_B;j&lt;myhi1_B;j++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(Pi+1.A[j][his_col],B[j][fluffCol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-- directly fetch items and put in fluff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952880" y="16002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095880" y="16002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540972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09880" y="16002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29200" y="1676520"/>
            <a:ext cx="3049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334120" y="1676520"/>
            <a:ext cx="75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172200" y="1676520"/>
            <a:ext cx="3049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77120" y="1676520"/>
            <a:ext cx="75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676520"/>
            <a:ext cx="3049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91120" y="1676520"/>
            <a:ext cx="75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86200" y="1676520"/>
            <a:ext cx="763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29200" y="1676520"/>
            <a:ext cx="763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676520"/>
            <a:ext cx="763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26672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66F-F93E-4AA6-AA32-6BB7089AB0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pilation Challenge for Parallelis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 memory models exist on production machin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a single compiler target all mod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ried by this problem, the ZPL designers modeled communication by an abstraction called Ironma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onman abstracts a CTA communication as a time-dependent load,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onman is not biased for/against any comm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514600" y="5638680"/>
            <a:ext cx="4038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ronman is designed for compilers, not program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44B-AAA9-432B-B171-BEC634DDE9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ronman Communic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ronman abstraction say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be transferred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no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dea: 4 procedure calls mark the intervals during which communication can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estination location ready to receive data [R sid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ource data is ready for transfer  [S sid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estination data is now needed   [R sid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V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ource location is volatile (to be overwritten) [S sid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 the interval on the sending (S) and receiving (R) sides of the communication and let the hardware implement th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08A-5822-4162-973A-3800189015A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ronman Exampl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ment of the Ironman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629400" y="2514600"/>
            <a:ext cx="1600200" cy="266688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V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2438280"/>
            <a:ext cx="1676520" cy="266724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:=…A@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R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N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:=…A@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90920" y="2286000"/>
            <a:ext cx="3809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estination location 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2895480"/>
            <a:ext cx="3809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ource data is 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4572000"/>
            <a:ext cx="3809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estination data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5181480"/>
            <a:ext cx="3809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ource location 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1992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172200" y="47239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1828800" y="45716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1828800" y="25909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43200" y="3505320"/>
            <a:ext cx="35053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mmunication occurs inside the 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295280" y="54864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238880" y="541008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8580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371600" y="5562720"/>
            <a:ext cx="3049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676520" y="5562720"/>
            <a:ext cx="75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315200" y="5486400"/>
            <a:ext cx="3049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5486400"/>
            <a:ext cx="7596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371600" y="5562720"/>
            <a:ext cx="763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315200" y="5486400"/>
            <a:ext cx="763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7524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953760" y="6019920"/>
            <a:ext cx="126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f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071720" y="6095880"/>
            <a:ext cx="105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f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B94-8656-473F-8C0A-907943634A1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ronman Call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mpiled ZPL program uses Ironman calls, but they have different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28600" y="3048120"/>
            <a:ext cx="297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8600" y="3657600"/>
            <a:ext cx="297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8600" y="5181480"/>
            <a:ext cx="297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8600" y="5791320"/>
            <a:ext cx="297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2666880"/>
            <a:ext cx="1447920" cy="3606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re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952880" y="2666880"/>
            <a:ext cx="1676520" cy="3606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PI Asych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pi_ire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pi_i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pi_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pi_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2666880"/>
            <a:ext cx="1905120" cy="35499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a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t_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it_ready shmem_putpost_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it_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09D-865F-4937-BB3E-039A8F37F6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ronman Advantag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man neutralizes different communication models -- avoiding one-size fits all message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man allows the best communication model to be used for th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optimizations are possible by moving DR, SR calls earlier, and DN, SV calls later … thus reducing wait time and allowing processors to drift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EC1-C695-4E10-868D-64067D66BAE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hree basic techniques for memory reference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t shared memory w/ transparent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memory access with message passing -- everything is left to the progr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sided communication, a variation on message passing in whi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passing is state-of-the-art for both programmers and compilers (except ZP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man is ZPL’s communication abstraction that neutralizes differences &amp; enables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BE7-EF3E-4FDA-8C0D-F9CE256AC4F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5880" y="3581280"/>
            <a:ext cx="304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6019920"/>
            <a:ext cx="3045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67480" y="2590920"/>
            <a:ext cx="304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5105520"/>
            <a:ext cx="3045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2590920"/>
            <a:ext cx="3045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505320"/>
            <a:ext cx="3045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xample, Connecting Through (a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4480" y="1600200"/>
            <a:ext cx="3087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 a  b  c  d  e 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5  0  3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 6  3  0  2  3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2  0  2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3  2  0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 7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4  1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6080" y="1676520"/>
            <a:ext cx="3076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k -  -  -  - 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3920" y="4191120"/>
            <a:ext cx="3076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k -  -  -  - 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0  0  0  0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5  5  5  5  5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6  6  6  6  6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7  7  7  7  7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93840" y="388620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(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7+6)=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334120" y="4267080"/>
            <a:ext cx="3246840" cy="2212560"/>
            <a:chOff x="5334120" y="4267080"/>
            <a:chExt cx="3246840" cy="2212560"/>
          </a:xfrm>
        </p:grpSpPr>
        <p:sp>
          <p:nvSpPr>
            <p:cNvPr id="90" name=""/>
            <p:cNvSpPr/>
            <p:nvPr/>
          </p:nvSpPr>
          <p:spPr>
            <a:xfrm>
              <a:off x="7772040" y="5562720"/>
              <a:ext cx="304560" cy="3045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476760" y="579132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6400440" y="48006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7086240" y="5409720"/>
              <a:ext cx="761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162560" y="4724280"/>
              <a:ext cx="1142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486040" y="4723920"/>
              <a:ext cx="838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562360" y="5638680"/>
              <a:ext cx="7617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0440" y="46483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476400" y="4800600"/>
              <a:ext cx="456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8000640" y="4876920"/>
              <a:ext cx="3045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40480" y="579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48160" y="60958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54100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71840" y="45720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7640" y="51814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29240" y="45720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64160" y="4952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4360" y="4267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7680" y="525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30840" y="4648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560" y="487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88040" y="541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31040" y="510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5760" y="601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H="1" flipV="1">
            <a:off x="3733560" y="281916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38280" y="365724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342-4F0C-4D58-BE47-C7A5FDEE78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638680" y="2666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18148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2362320"/>
            <a:ext cx="30492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4876920"/>
            <a:ext cx="30456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228600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2590920"/>
            <a:ext cx="30456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xample, Connecting Through (a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4480" y="1600200"/>
            <a:ext cx="3087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 a  b  c  d  e 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5  0  3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 6  3  0  2  3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2  0  2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3  2  0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 7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4  1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6080" y="1676520"/>
            <a:ext cx="3076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k -  -  -  - 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3920" y="4191120"/>
            <a:ext cx="3076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k -  -  -  - 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0  0  0  0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5  5  5  5  5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6  6  6  6  6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7  7  7  7  7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960" y="389412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(3,5+6)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34120" y="4267080"/>
            <a:ext cx="3246840" cy="2212560"/>
            <a:chOff x="5334120" y="4267080"/>
            <a:chExt cx="3246840" cy="2212560"/>
          </a:xfrm>
        </p:grpSpPr>
        <p:sp>
          <p:nvSpPr>
            <p:cNvPr id="128" name=""/>
            <p:cNvSpPr/>
            <p:nvPr/>
          </p:nvSpPr>
          <p:spPr>
            <a:xfrm>
              <a:off x="7772040" y="5562720"/>
              <a:ext cx="304560" cy="3045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476760" y="579132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400440" y="48006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7086240" y="5409720"/>
              <a:ext cx="761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162560" y="4724280"/>
              <a:ext cx="1142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486040" y="4723920"/>
              <a:ext cx="838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5562360" y="5638680"/>
              <a:ext cx="7617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00440" y="46483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6476400" y="4800600"/>
              <a:ext cx="456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8000640" y="4876920"/>
              <a:ext cx="3045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40480" y="579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48160" y="60958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34120" y="54100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71840" y="45720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7640" y="51814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9240" y="45720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64160" y="4952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4360" y="4267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7680" y="525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30840" y="4648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1560" y="487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88040" y="541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31040" y="510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5760" y="601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 flipV="1">
            <a:off x="2438280" y="2438280"/>
            <a:ext cx="15242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1981080" y="266652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CFF-1AD4-4232-8B02-EDBC8BB971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omework: Performance Model &amp; UDR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SP paper gives two mode compu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Use WYSIWYG analysis to say which is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Create custom “maxmode” to improve las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“Standard” mod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]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: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i := 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i..n] S += ((&gt;&gt;[i] V) = 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:= max&lt;&lt; S; -- largest freq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de := max&lt;&lt;((count = S) * V); -- ge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589-78DB-4CC5-919A-EB8B755712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SP Mod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PSP mod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,1..n] begin -- assume R = [1..n,1..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assume row 1 of V is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,1]   Vt := V#[Index2,Index1]; -- tran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Replicate, compute and col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:= +&lt;&lt;[R] (&gt;&gt;[1,]V = &gt;&gt;[,1]V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:= max&lt;&lt; 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de := max&lt;&lt; ((count = S)*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 Reasoning is what counts in (a); in (b) use global data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DA1-9056-4989-8EB9-813F2D4F2A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on-shared Memo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shared memory in hardware is difficult, and its programming advantages are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it out; focus on speed and sc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UBE, an early hypercub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-5, connection machine’s “ultimately scal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3D/T3E Cray’s first foray into shared address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achine tries to do some aspect of communication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C46-E7AA-4EED-8449-811E893578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 flipV="1">
            <a:off x="3809880" y="3124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419720" y="3124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31240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CUBE/2  A ‘Classic’ Multiprocessor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CUBE/2 was a hypercube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node channel capacity grows as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28954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8954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28954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31240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954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28954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3733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350532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350532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791320" y="3124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400800" y="3124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312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28954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28954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37339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350532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715000" y="32000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324480" y="32000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3200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297180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297180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35812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35812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914400" y="4724280"/>
            <a:ext cx="2895480" cy="1524240"/>
            <a:chOff x="914400" y="4724280"/>
            <a:chExt cx="2895480" cy="1524240"/>
          </a:xfrm>
        </p:grpSpPr>
        <p:grpSp>
          <p:nvGrpSpPr>
            <p:cNvPr id="191" name=""/>
            <p:cNvGrpSpPr/>
            <p:nvPr/>
          </p:nvGrpSpPr>
          <p:grpSpPr>
            <a:xfrm>
              <a:off x="1828800" y="6019560"/>
              <a:ext cx="1752480" cy="152640"/>
              <a:chOff x="1828800" y="6019560"/>
              <a:chExt cx="1752480" cy="152640"/>
            </a:xfrm>
          </p:grpSpPr>
          <p:sp>
            <p:nvSpPr>
              <p:cNvPr id="192" name=""/>
              <p:cNvSpPr/>
              <p:nvPr/>
            </p:nvSpPr>
            <p:spPr>
              <a:xfrm>
                <a:off x="3581280" y="6019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1828800" y="617184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828800" y="60195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752480" y="6095880"/>
              <a:ext cx="1752480" cy="152640"/>
              <a:chOff x="1752480" y="6095880"/>
              <a:chExt cx="1752480" cy="152640"/>
            </a:xfrm>
          </p:grpSpPr>
          <p:sp>
            <p:nvSpPr>
              <p:cNvPr id="196" name=""/>
              <p:cNvSpPr/>
              <p:nvPr/>
            </p:nvSpPr>
            <p:spPr>
              <a:xfrm>
                <a:off x="3504960" y="60958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752480" y="624852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1752480" y="60958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218960" y="5943600"/>
              <a:ext cx="1752480" cy="228240"/>
              <a:chOff x="1218960" y="5943600"/>
              <a:chExt cx="1752480" cy="228240"/>
            </a:xfrm>
          </p:grpSpPr>
          <p:sp>
            <p:nvSpPr>
              <p:cNvPr id="200" name=""/>
              <p:cNvSpPr/>
              <p:nvPr/>
            </p:nvSpPr>
            <p:spPr>
              <a:xfrm>
                <a:off x="2971440" y="594360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218960" y="617184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1218960" y="594360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143000" y="6019920"/>
              <a:ext cx="1752480" cy="228240"/>
              <a:chOff x="1143000" y="6019920"/>
              <a:chExt cx="1752480" cy="228240"/>
            </a:xfrm>
          </p:grpSpPr>
          <p:sp>
            <p:nvSpPr>
              <p:cNvPr id="204" name=""/>
              <p:cNvSpPr/>
              <p:nvPr/>
            </p:nvSpPr>
            <p:spPr>
              <a:xfrm>
                <a:off x="2895480" y="601992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1143000" y="624816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1143000" y="601992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 flipV="1">
              <a:off x="121896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82880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18960" y="51814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90360" y="49528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200" y="49528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57913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90360" y="55627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00200" y="55627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143000" y="52574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752480" y="52574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43000" y="5257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502920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23880" y="502920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43000" y="58672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4400" y="56386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23880" y="56386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97180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58128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71800" y="5181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3200" y="49528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52680" y="49528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71800" y="57913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3200" y="55627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52680" y="55627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895480" y="52574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504960" y="52574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5257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66880" y="502920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76360" y="502920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95480" y="58672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66880" y="56386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76360" y="56386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828800" y="4800240"/>
              <a:ext cx="1752480" cy="152640"/>
              <a:chOff x="1828800" y="4800240"/>
              <a:chExt cx="1752480" cy="152640"/>
            </a:xfrm>
          </p:grpSpPr>
          <p:sp>
            <p:nvSpPr>
              <p:cNvPr id="240" name=""/>
              <p:cNvSpPr/>
              <p:nvPr/>
            </p:nvSpPr>
            <p:spPr>
              <a:xfrm flipV="1">
                <a:off x="3581280" y="480024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1828800" y="480060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28800" y="48006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752480" y="4876560"/>
              <a:ext cx="1752480" cy="152640"/>
              <a:chOff x="1752480" y="4876560"/>
              <a:chExt cx="1752480" cy="15264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3504960" y="48765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752480" y="487692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876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1218960" y="4724280"/>
              <a:ext cx="1752480" cy="228240"/>
              <a:chOff x="1218960" y="4724280"/>
              <a:chExt cx="1752480" cy="228240"/>
            </a:xfrm>
          </p:grpSpPr>
          <p:sp>
            <p:nvSpPr>
              <p:cNvPr id="248" name=""/>
              <p:cNvSpPr/>
              <p:nvPr/>
            </p:nvSpPr>
            <p:spPr>
              <a:xfrm flipV="1">
                <a:off x="2971440" y="472428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1218960" y="472428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18960" y="472428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1143000" y="4800600"/>
              <a:ext cx="1752480" cy="228240"/>
              <a:chOff x="1143000" y="4800600"/>
              <a:chExt cx="1752480" cy="22824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2895480" y="480060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1143000" y="480060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143000" y="480060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693720" y="3429000"/>
            <a:ext cx="1162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9000" y="3429000"/>
            <a:ext cx="1162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13240" y="4038480"/>
            <a:ext cx="1162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94320" y="4114800"/>
            <a:ext cx="1162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70440" y="5257800"/>
            <a:ext cx="1162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4800600"/>
            <a:ext cx="2743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ach node has a d bit address To go from d to d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, “correct” 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64D-21BC-4C65-8548-D645CE969A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2:35:28Z</dcterms:created>
  <dc:creator>Snyder</dc:creator>
  <dc:description/>
  <dc:language>en-US</dc:language>
  <cp:lastModifiedBy>Snyder</cp:lastModifiedBy>
  <dcterms:modified xsi:type="dcterms:W3CDTF">2002-11-26T00:17:22Z</dcterms:modified>
  <cp:revision>66</cp:revision>
  <dc:subject/>
  <dc:title>Survey of Parallel Computation</dc:title>
</cp:coreProperties>
</file>