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44D-05D4-42C8-A022-46CB5437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AEF-85E7-4353-9A52-265453E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745-ED4A-486C-9340-91FBF346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807-07F4-43CB-9C7A-EA714150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DDF-0F55-445C-AC39-FB82614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B42-799A-4AF5-ACA7-FE321761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A5A-6C0D-49E9-A6FF-6A503A2E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3E8-9DCA-4144-B600-7473DCCC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A67-4787-4664-BAC0-6CA72980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FFF-A59F-4849-BEDA-0A3A515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1BB-2200-441E-A741-612B21D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5FD-AF54-4DD6-9459-E0A817E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5B0F-FF4D-47D8-8749-27DD394E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Basics of ZP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ke sequential computation with its C programming language and von Neumann model of computation explaining the performance of programs, parallel computation needs a language calibrated to the CTA model. ZPL is the only such langu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881-8ACD-4BD4-B6A7-609110A6E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perations on 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S of 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1676520"/>
            <a:ext cx="320040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ransform regions using “prepositional” operators: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f, in, at, by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 etc. 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[S of 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pecifies region south of R of extent given by len., i.e. single 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48320" y="4038480"/>
            <a:ext cx="914400" cy="914400"/>
            <a:chOff x="4648320" y="4038480"/>
            <a:chExt cx="914400" cy="914400"/>
          </a:xfrm>
        </p:grpSpPr>
        <p:grpSp>
          <p:nvGrpSpPr>
            <p:cNvPr id="219" name=""/>
            <p:cNvGrpSpPr/>
            <p:nvPr/>
          </p:nvGrpSpPr>
          <p:grpSpPr>
            <a:xfrm>
              <a:off x="4648320" y="4038480"/>
              <a:ext cx="914400" cy="914400"/>
              <a:chOff x="4648320" y="4038480"/>
              <a:chExt cx="914400" cy="914400"/>
            </a:xfrm>
          </p:grpSpPr>
          <p:sp>
            <p:nvSpPr>
              <p:cNvPr id="220" name=""/>
              <p:cNvSpPr/>
              <p:nvPr/>
            </p:nvSpPr>
            <p:spPr>
              <a:xfrm>
                <a:off x="541044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434340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00960" y="419112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48320" y="44956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48320" y="419112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48320" y="464832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48320" y="480060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48320" y="4343400"/>
                <a:ext cx="83844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48320" y="40384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48320" y="4952880"/>
                <a:ext cx="91440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96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324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055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5816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627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8320" y="4038480"/>
                <a:ext cx="0" cy="9144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800600" y="4190760"/>
              <a:ext cx="609480" cy="609480"/>
              <a:chOff x="4800600" y="4190760"/>
              <a:chExt cx="609480" cy="609480"/>
            </a:xfrm>
          </p:grpSpPr>
          <p:sp>
            <p:nvSpPr>
              <p:cNvPr id="237" name=""/>
              <p:cNvSpPr/>
              <p:nvPr/>
            </p:nvSpPr>
            <p:spPr>
              <a:xfrm>
                <a:off x="4800600" y="4190760"/>
                <a:ext cx="609480" cy="60948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5288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0516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57440" y="4190760"/>
                <a:ext cx="0" cy="609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0600" y="434304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0600" y="449532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00600" y="464796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800600" y="4800600"/>
              <a:ext cx="609480" cy="1522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288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4800600"/>
              <a:ext cx="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3276360" y="4572000"/>
            <a:ext cx="1143000" cy="38088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944-AB4C-4DFA-8DA7-8A538F077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ferencing 4 Nearest Neighb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Temp :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@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@E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A@S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A@W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/4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4191120"/>
            <a:ext cx="3200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@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shifts applicable region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62120" y="2438280"/>
            <a:ext cx="7398720" cy="1524240"/>
            <a:chOff x="762120" y="2438280"/>
            <a:chExt cx="7398720" cy="1524240"/>
          </a:xfrm>
        </p:grpSpPr>
        <p:sp>
          <p:nvSpPr>
            <p:cNvPr id="253" name=""/>
            <p:cNvSpPr/>
            <p:nvPr/>
          </p:nvSpPr>
          <p:spPr>
            <a:xfrm>
              <a:off x="762120" y="2438280"/>
              <a:ext cx="7391160" cy="1524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286000" y="2743200"/>
              <a:ext cx="914040" cy="914400"/>
              <a:chOff x="2286000" y="2743200"/>
              <a:chExt cx="914040" cy="914400"/>
            </a:xfrm>
          </p:grpSpPr>
          <p:sp>
            <p:nvSpPr>
              <p:cNvPr id="255" name=""/>
              <p:cNvSpPr/>
              <p:nvPr/>
            </p:nvSpPr>
            <p:spPr>
              <a:xfrm>
                <a:off x="3047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792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8600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28600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8600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8600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3792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3792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37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905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42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95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0004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60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990360" y="2895480"/>
              <a:ext cx="609480" cy="609480"/>
              <a:chOff x="990360" y="2895480"/>
              <a:chExt cx="609480" cy="60948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360" y="2895480"/>
                <a:ext cx="609480" cy="60948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4264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9492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7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9036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9036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9036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676160" y="2895480"/>
              <a:ext cx="699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438280" y="2743200"/>
              <a:ext cx="609120" cy="609480"/>
              <a:chOff x="2438280" y="2743200"/>
              <a:chExt cx="609120" cy="609480"/>
            </a:xfrm>
          </p:grpSpPr>
          <p:sp>
            <p:nvSpPr>
              <p:cNvPr id="281" name=""/>
              <p:cNvSpPr/>
              <p:nvPr/>
            </p:nvSpPr>
            <p:spPr>
              <a:xfrm>
                <a:off x="2438280" y="2743200"/>
                <a:ext cx="609120" cy="60948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905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4284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947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438280" y="28954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438280" y="320040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172200" y="2743200"/>
              <a:ext cx="914040" cy="914400"/>
              <a:chOff x="6172200" y="2743200"/>
              <a:chExt cx="914040" cy="914400"/>
            </a:xfrm>
          </p:grpSpPr>
          <p:sp>
            <p:nvSpPr>
              <p:cNvPr id="289" name=""/>
              <p:cNvSpPr/>
              <p:nvPr/>
            </p:nvSpPr>
            <p:spPr>
              <a:xfrm>
                <a:off x="69339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7220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412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17220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7220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7220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7220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7220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2412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2412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24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6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29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13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24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2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172200" y="2895480"/>
              <a:ext cx="609120" cy="609480"/>
              <a:chOff x="6172200" y="2895480"/>
              <a:chExt cx="609120" cy="609480"/>
            </a:xfrm>
          </p:grpSpPr>
          <p:sp>
            <p:nvSpPr>
              <p:cNvPr id="306" name=""/>
              <p:cNvSpPr/>
              <p:nvPr/>
            </p:nvSpPr>
            <p:spPr>
              <a:xfrm>
                <a:off x="6172200" y="2895480"/>
                <a:ext cx="609120" cy="60948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24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76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286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220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72200" y="320004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2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876560" y="2743200"/>
              <a:ext cx="914040" cy="914400"/>
              <a:chOff x="4876560" y="2743200"/>
              <a:chExt cx="914040" cy="914400"/>
            </a:xfrm>
          </p:grpSpPr>
          <p:sp>
            <p:nvSpPr>
              <p:cNvPr id="314" name=""/>
              <p:cNvSpPr/>
              <p:nvPr/>
            </p:nvSpPr>
            <p:spPr>
              <a:xfrm>
                <a:off x="56383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7656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2848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7656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7656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656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656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7656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2848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2848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28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33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856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906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56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029200" y="3048120"/>
              <a:ext cx="609120" cy="609480"/>
              <a:chOff x="5029200" y="3048120"/>
              <a:chExt cx="609120" cy="609480"/>
            </a:xfrm>
          </p:grpSpPr>
          <p:sp>
            <p:nvSpPr>
              <p:cNvPr id="331" name=""/>
              <p:cNvSpPr/>
              <p:nvPr/>
            </p:nvSpPr>
            <p:spPr>
              <a:xfrm>
                <a:off x="5029200" y="3048120"/>
                <a:ext cx="609120" cy="609480"/>
              </a:xfrm>
              <a:prstGeom prst="rect">
                <a:avLst/>
              </a:prstGeom>
              <a:solidFill>
                <a:srgbClr val="ff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814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3376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856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29200" y="320040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29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50532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3581280" y="2743200"/>
              <a:ext cx="914040" cy="914400"/>
              <a:chOff x="3581280" y="2743200"/>
              <a:chExt cx="914040" cy="914400"/>
            </a:xfrm>
          </p:grpSpPr>
          <p:sp>
            <p:nvSpPr>
              <p:cNvPr id="339" name=""/>
              <p:cNvSpPr/>
              <p:nvPr/>
            </p:nvSpPr>
            <p:spPr>
              <a:xfrm>
                <a:off x="4343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81280" y="30481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33200" y="2895840"/>
                <a:ext cx="60948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81280" y="320040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581280" y="28958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581280" y="335304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581280" y="350532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81280" y="304812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33200" y="2743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33200" y="36576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33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5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038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90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953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812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886200" y="2895480"/>
              <a:ext cx="609120" cy="609480"/>
              <a:chOff x="3886200" y="2895480"/>
              <a:chExt cx="609120" cy="60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3886200" y="2895480"/>
                <a:ext cx="609120" cy="6094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90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426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6200" y="304776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86200" y="320004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86200" y="3352680"/>
                <a:ext cx="60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057400" y="2895480"/>
              <a:ext cx="564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36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2000" y="2895480"/>
              <a:ext cx="6631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2895480"/>
              <a:ext cx="66312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62560" y="2895480"/>
              <a:ext cx="9982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/4.0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8600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656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72200" y="2743200"/>
              <a:ext cx="91404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E21-525E-4A6D-A433-AF1F6BEEF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“High Level” Logic Of J-Iter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3399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until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3429000"/>
            <a:ext cx="3429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 new av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nd the larges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pdate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ntil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9BB-A334-4BB4-A92F-5095AB3CC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In Detail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has the usual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ata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igned and unsigned integ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-,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-, *, /, ^, %, &amp;,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, &lt;=, =, !=, &gt;=, &gt;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Operations: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not(), band(), bor(), bxor(), bsl(), bs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=, +=, -=, *=, /=, %=, &amp;=, |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ntrol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-then-[elseif]-else, repeat-until, while-do, for-do, exit, return, continue, halt, begin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762-F828-4E77-9495-1323D0144F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Detail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tements are terminated by semicolon (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to the end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/*   *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all text within pairs including new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ariables must be declared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are case sen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begi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rogram &lt;name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e with &lt;name&gt; is the 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6EA-8E14-456B-9E9B-73E10FC21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Detail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ary global operation redu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“reduces” an entire array to a single value using an associative operator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l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mmation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x&lt;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lobal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4400" y="4800600"/>
            <a:ext cx="7315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Global sum was solved the first day with a tree algorithm; global maximum was solved with the tournament algorithm … primitive in Z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47B-E0A9-451B-A407-37CD0C294C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ounding Box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,Y be 1-dimension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 arrays such that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position in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box is the extreme coordinates in each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:= max&lt;&l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:= max&lt;&l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:= min&lt;&lt;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324480" y="3733920"/>
            <a:ext cx="1828800" cy="1981080"/>
            <a:chOff x="6324480" y="3733920"/>
            <a:chExt cx="1828800" cy="1981080"/>
          </a:xfrm>
        </p:grpSpPr>
        <p:sp>
          <p:nvSpPr>
            <p:cNvPr id="385" name=""/>
            <p:cNvSpPr/>
            <p:nvPr/>
          </p:nvSpPr>
          <p:spPr>
            <a:xfrm>
              <a:off x="6362640" y="3762360"/>
              <a:ext cx="175248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57800" y="37339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24480" y="4381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43360" y="5639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76960" y="382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53040" y="4800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15080" y="40197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05440" y="552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48520" y="53816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57920" y="4372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86600" y="47149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00720" y="3915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3000" y="40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57920" y="4029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00880" y="50007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V="1">
            <a:off x="61722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2600" y="5715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21720" y="5334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D05-3F68-4C5A-B503-089483E67A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lternative Data Represent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allows programmers to define a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using X and Y arrays,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 cartPoint =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: integer; -- x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: integer; -- y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Pts : [1..n] cartPoint; -- an array 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edge  := max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edge    := max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edge   := min&lt;&lt; Pts.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edge := min&lt;&lt; Pt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EC5-75B4-402A-AB9B-318E9AAB30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Inherits from C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translated into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functions come from math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’s Input and Output follow C conventions and formatting, though the behavior on parallel machines can d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4343400"/>
            <a:ext cx="68580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nfiguration variables (config vars) are a list of command line assignable variables with specified defaults … cannot be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onfig var prob_size : integer = 64;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EF4-819A-4700-9971-B6D17B1960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an and Standard Deviation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rray of Samp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gram Sample_Sta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fig var n : integer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 V = [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Sample_Stat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Sample : [V] fl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,sigma: fl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V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d(Samp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 := +&lt;&lt;Sample/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ma := sqrt(+&lt;&lt;((Sample-mu)^2)/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 ("Mean: ", mu,"S.D. :", sigm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13200" y="5410080"/>
            <a:ext cx="2562840" cy="1028160"/>
            <a:chOff x="313200" y="5410080"/>
            <a:chExt cx="2562840" cy="1028160"/>
          </a:xfrm>
        </p:grpSpPr>
        <p:sp>
          <p:nvSpPr>
            <p:cNvPr id="412" name=""/>
            <p:cNvSpPr/>
            <p:nvPr/>
          </p:nvSpPr>
          <p:spPr>
            <a:xfrm>
              <a:off x="313200" y="5410080"/>
              <a:ext cx="256284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= </a:t>
              </a:r>
              <a:r>
                <a:rPr b="1" lang="en-US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Sample</a:t>
              </a:r>
              <a:r>
                <a:rPr b="1" i="1" lang="en-US" sz="2400" spc="-1" strike="noStrike" baseline="-25000">
                  <a:solidFill>
                    <a:srgbClr val="cc3300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       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43000" y="6019920"/>
              <a:ext cx="1676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20640" y="3352680"/>
            <a:ext cx="3871080" cy="1028160"/>
            <a:chOff x="5120640" y="3352680"/>
            <a:chExt cx="3871080" cy="1028160"/>
          </a:xfrm>
        </p:grpSpPr>
        <p:sp>
          <p:nvSpPr>
            <p:cNvPr id="415" name=""/>
            <p:cNvSpPr/>
            <p:nvPr/>
          </p:nvSpPr>
          <p:spPr>
            <a:xfrm>
              <a:off x="5120640" y="3352680"/>
              <a:ext cx="376812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=  </a:t>
              </a:r>
              <a:r>
                <a:rPr b="1" lang="en-US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(Sample</a:t>
              </a:r>
              <a:r>
                <a:rPr b="1" i="1" lang="en-US" sz="2400" spc="-1" strike="noStrike" baseline="-25000">
                  <a:solidFill>
                    <a:srgbClr val="cc3300"/>
                  </a:solidFill>
                  <a:latin typeface="Courier New"/>
                </a:rPr>
                <a:t>i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 -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)</a:t>
              </a:r>
              <a:r>
                <a:rPr b="1" i="1" lang="en-US" sz="2400" spc="-1" strike="noStrike" baseline="30000">
                  <a:solidFill>
                    <a:srgbClr val="cc33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urier New"/>
                </a:rPr>
                <a:t>          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2200" y="3962520"/>
              <a:ext cx="27432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3886200"/>
              <a:ext cx="76320" cy="304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943600" y="3428640"/>
              <a:ext cx="152280" cy="7621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5880" y="3429000"/>
              <a:ext cx="28958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 flipV="1">
            <a:off x="533520" y="44197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105160" y="38862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5410080"/>
            <a:ext cx="4495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asically, a direct translation into imperativ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AF1-99E5-4BA6-8B49-EFD2E2A2C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read of CSE596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ing bringing us to this poin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f computation: We cannot write fast programs without having some idea of how they will perform when they execute … 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memory (PRAM) seems like a natural programming generalization of sequential computation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“hides” performance-critical info (= locality) at “log co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cy on shared memory is comp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shared memory OK for SMP, … but beyond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global view of the computation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 new abstractions for a global view … Z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36C-D5DB-4456-95DB-6ADD81939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named sets of index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declared with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= [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..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..&lt;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n, 1..n];   -- Std 2-dim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V = [0..m-1];       -- 0-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names common; caps by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ride with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ing the limi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Evens = [0..n by 2]; -- 0, 2, 4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BFA-8E73-4863-B07B-80DB3336C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claring Variabl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declarations have the form of a list followed by colon (:) followed by a data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x, y, z :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an array is a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&lt;region&gt;] &lt;data typ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ion can be named or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, B, C : [R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all_data : [1..n] 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passed as parameters must have this type given in the formal param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155-4517-457F-BA3F-F5427C8EB2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 Controlling Array Stmt Execu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specify the indices over which computation will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egion in brackets as statement pre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..n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 of the region are replaced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ir corresponding element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are sc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] beg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Work on first column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= 2*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68C-0FB2-405C-86FE-0215B26D2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About Reg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xplicit indices leave a dimension blank to inherit from enclosing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 1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:= Y; -- replace first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 , 2]  X += X; -- double second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s must “conform” in rank and both define elements for indices of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ble region” for assignments are (generally) the most tightly enclosing region of the rank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ft han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76520" y="2895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C71-690C-4E4D-A913-D0C80FB9F4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are vectors pointing in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direction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&lt;name&gt; = [ &lt;tuple&gt;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upl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quence of indices separated by com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northwest = [-1, -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= [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names are common and pre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83C-A5E8-47ED-8B2F-68270E5EAE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@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akes as operands an array variable and a direction, and returns an array whose values come from the given array offset from the prevailing region by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1..n-1]  A := B@e;  -- assume e = 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[r,s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[r,s+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@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he last n-1 column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assigned to the first n-1 columns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133720" y="5257800"/>
            <a:ext cx="2743200" cy="990720"/>
            <a:chOff x="2133720" y="5257800"/>
            <a:chExt cx="2743200" cy="990720"/>
          </a:xfrm>
        </p:grpSpPr>
        <p:sp>
          <p:nvSpPr>
            <p:cNvPr id="437" name=""/>
            <p:cNvSpPr/>
            <p:nvPr/>
          </p:nvSpPr>
          <p:spPr>
            <a:xfrm>
              <a:off x="2133720" y="5257800"/>
              <a:ext cx="914400" cy="99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33720" y="5257800"/>
              <a:ext cx="99036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62520" y="5257800"/>
              <a:ext cx="914400" cy="990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86200" y="5257800"/>
              <a:ext cx="9907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1840" y="556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257800" y="571500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@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must reference defin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E6A-B718-4379-97B3-F4131527C6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 Identical Values In Sequenc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V = [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Letters : [V] ch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: [V] 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s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 = [1]; r2 = 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-2]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q     := (Letters = Letters@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 (Letters = Letters@r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ples := +&lt;&lt; Se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FC4-5083-45C7-85E8-EC6AADB265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hat Happe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d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199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91520" y="17524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25146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91520" y="28954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32767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cast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67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7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dcb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483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199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cd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91520" y="4267080"/>
            <a:ext cx="1218960" cy="1981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91520" y="502920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e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5410080"/>
            <a:ext cx="1218960" cy="3049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91520" y="5791320"/>
            <a:ext cx="22860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67480" y="4343400"/>
            <a:ext cx="3812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2760" y="37339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66E-C62F-4766-959F-DE2ED5F477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 Operat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has region operators taking as operands a region and a direction, and producing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lates the region’s index set in th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a new region adjacent to the given region along direction edge and of direction ex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44560" y="3505320"/>
            <a:ext cx="368604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R = [1..8,1..8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[2..7,2..7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X, Y : [R] by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35680" y="3505320"/>
            <a:ext cx="3381120" cy="7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e = [ 0,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 [-1,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 = [-1,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3520" y="4495680"/>
            <a:ext cx="1218600" cy="1219320"/>
            <a:chOff x="533520" y="4495680"/>
            <a:chExt cx="1218600" cy="1219320"/>
          </a:xfrm>
        </p:grpSpPr>
        <p:sp>
          <p:nvSpPr>
            <p:cNvPr id="493" name=""/>
            <p:cNvSpPr/>
            <p:nvPr/>
          </p:nvSpPr>
          <p:spPr>
            <a:xfrm>
              <a:off x="53352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4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036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426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952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4756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9984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3520" y="46479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440" y="46479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808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036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42640" y="46479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9528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7560" y="46479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9984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48006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44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808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36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4264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9528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7560" y="48006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9984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520" y="49528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8544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036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264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528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47560" y="49528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984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51051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44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36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264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9528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7560" y="5105160"/>
              <a:ext cx="15192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9984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520" y="52578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44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3808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9036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4264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9528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7560" y="525780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9984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3520" y="54100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44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808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036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4264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9528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47560" y="5410080"/>
              <a:ext cx="15192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9984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352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4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9036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426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52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756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9984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133720" y="4495680"/>
            <a:ext cx="1218600" cy="1219320"/>
            <a:chOff x="2133720" y="4495680"/>
            <a:chExt cx="1218600" cy="1219320"/>
          </a:xfrm>
        </p:grpSpPr>
        <p:sp>
          <p:nvSpPr>
            <p:cNvPr id="558" name=""/>
            <p:cNvSpPr/>
            <p:nvPr/>
          </p:nvSpPr>
          <p:spPr>
            <a:xfrm>
              <a:off x="213372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860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382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56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432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9548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776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44956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3372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86000" y="46479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3828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056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320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9548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4776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00400" y="46479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72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48006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828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9056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4320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548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4776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00400" y="48006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372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86000" y="49528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3828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9056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4320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9548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776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00400" y="49528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3372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86000" y="51051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3828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56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4320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9548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4776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00400" y="5105160"/>
              <a:ext cx="15192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3372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86000" y="525780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3828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9056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320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9548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776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00400" y="525780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286000" y="541008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56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4320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548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776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0400" y="541008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860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382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9056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432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548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776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5562360"/>
              <a:ext cx="15192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495680" y="4495680"/>
            <a:ext cx="1219320" cy="1219320"/>
            <a:chOff x="4495680" y="4495680"/>
            <a:chExt cx="1219320" cy="1219320"/>
          </a:xfrm>
        </p:grpSpPr>
        <p:sp>
          <p:nvSpPr>
            <p:cNvPr id="623" name=""/>
            <p:cNvSpPr/>
            <p:nvPr/>
          </p:nvSpPr>
          <p:spPr>
            <a:xfrm>
              <a:off x="449568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479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006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528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051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578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100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62360" y="44956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956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479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060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28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05160" y="46479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5780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100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360" y="46479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9568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47960" y="48006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0060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528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05160" y="48006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780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100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62360" y="48006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9568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47960" y="49528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0060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528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160" y="49528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780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100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2360" y="49528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9568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7960" y="51051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0060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528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160" y="51051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5780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100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62360" y="51051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568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47960" y="525780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0060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5160" y="52578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5780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100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62360" y="525780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568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47960" y="541008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0060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28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05160" y="54100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25780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00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62360" y="5410080"/>
              <a:ext cx="15264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479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006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28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051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00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3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858000" y="4495680"/>
            <a:ext cx="1218960" cy="1219320"/>
            <a:chOff x="6858000" y="4495680"/>
            <a:chExt cx="1218960" cy="1219320"/>
          </a:xfrm>
        </p:grpSpPr>
        <p:sp>
          <p:nvSpPr>
            <p:cNvPr id="688" name=""/>
            <p:cNvSpPr/>
            <p:nvPr/>
          </p:nvSpPr>
          <p:spPr>
            <a:xfrm>
              <a:off x="685800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102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625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152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6748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19760" y="4495680"/>
              <a:ext cx="15264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72400" y="4495680"/>
              <a:ext cx="152280" cy="152280"/>
            </a:xfrm>
            <a:prstGeom prst="rect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24680" y="44956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580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102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625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152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6748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19760" y="46479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72400" y="46479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24680" y="46479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5800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028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2560" y="48006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1520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67480" y="48006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19760" y="48006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48006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24680" y="48006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1028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62560" y="49528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1520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67480" y="49528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19760" y="49528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72400" y="49528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24680" y="49528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5800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1028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62560" y="5105160"/>
              <a:ext cx="15264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1520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67480" y="5105160"/>
              <a:ext cx="15228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19760" y="5105160"/>
              <a:ext cx="152640" cy="152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2400" y="51051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4680" y="51051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5800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62560" y="52578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1520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67480" y="525780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19760" y="525780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72400" y="52578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24680" y="52578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5800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1028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2560" y="54100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1520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67480" y="5410080"/>
              <a:ext cx="15228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19760" y="5410080"/>
              <a:ext cx="152640" cy="152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72400" y="541008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24680" y="541008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580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102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625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52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674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19760" y="5562360"/>
              <a:ext cx="1526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7240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4680" y="5562360"/>
              <a:ext cx="15228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539640" y="5791320"/>
            <a:ext cx="1400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] X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5867280"/>
            <a:ext cx="152640" cy="152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40200" y="5791320"/>
            <a:ext cx="2161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 at e] Y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02160" y="5791320"/>
            <a:ext cx="2161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 of C] Y: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77120" y="5867280"/>
            <a:ext cx="152280" cy="152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64480" y="5791320"/>
            <a:ext cx="2009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C] Y:=X@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583-C5A8-4B97-BEDD-6BF14320A0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dex1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comes with “constant arrays” of any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indices of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1..n,1..n] 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 := Index1; -- fill with firs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:= Index2; -- fill with secon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 := Z=P;    -- define identit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ray -- of arbitrary dimension -- are compiler created using no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F21-E240-4837-8712-FC6E4B83EF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-- A Practical Parallel Languag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was designed and built using the CTA model, so lik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are defined relative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and run-time system assume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ZPL programs are efficient for any CT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designed from “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nciples” mean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L is not an extension of existing language -- it’s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ful analysis of programming task: X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gramming “fads”: functional, OO, “miracle”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new idea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“user needs,” e.g. scientific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94360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ZPL is the third attempt -- Spot and Orca “failed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018-7707-4929-9476-7EAB49893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c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is the parallel prefix operation for associative operator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, *, min, max, &amp;,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is like reduction, but us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x sum from the first lecture i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4   6   8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||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2  6  12  20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“or scan”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|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  0  0  1  1  0  1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un:=|||B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  0  0  1  1  1  1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2..n] Run := (Run != Run@w)*Index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 := max&lt;&lt; Ru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19720" y="6095880"/>
            <a:ext cx="24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nk globab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FCB-A10E-4222-BC14-18C10021CC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75E-9F8F-4464-9C48-20F1836AA4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all 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19520" y="2743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0968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23623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00200" y="2743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00200" y="23623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0020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0020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09680" y="1981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16002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9520" y="19810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19520" y="16002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24280" y="5715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09880" y="3505320"/>
            <a:ext cx="4953240" cy="28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 is initialized to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rrays A, B are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sk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, B move “across” C one ste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lements arriving at a place are multiplied, ad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523880" y="3124080"/>
            <a:ext cx="1828800" cy="2895480"/>
            <a:chOff x="1523880" y="3124080"/>
            <a:chExt cx="1828800" cy="2895480"/>
          </a:xfrm>
        </p:grpSpPr>
        <p:sp>
          <p:nvSpPr>
            <p:cNvPr id="783" name=""/>
            <p:cNvSpPr/>
            <p:nvPr/>
          </p:nvSpPr>
          <p:spPr>
            <a:xfrm flipV="1">
              <a:off x="1523880" y="312408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523880" y="4952520"/>
              <a:ext cx="1828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23880" y="41148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3352680" y="3124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2211120" y="3200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98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1600200"/>
            <a:ext cx="5105160" cy="1447920"/>
          </a:xfrm>
          <a:prstGeom prst="parallelogram">
            <a:avLst>
              <a:gd name="adj" fmla="val 171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981-E1B2-4F21-8AF2-CA78999800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5181480" y="3657600"/>
            <a:ext cx="175284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5105520"/>
            <a:ext cx="18288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4080" y="3657600"/>
            <a:ext cx="18288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gramming Cannon’s In ZP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Handle the skewed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a21 a22 a23 a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a31 a32 a33 a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41 a42 a43 a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3   c11 c12 c13  a11 a12 a13 a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2 b23   c21 c22 c23  a22 a23 a24 a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22 b33   c31 c32 c33  a33 a34 a31 a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32 b43   c41 c42 c43  a44 a41 a42 a4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       b11 b22 b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          b21 b32 b4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42 b1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b12 b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71500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150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3244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244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9343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43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3733920" y="6171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3392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43434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434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98108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048120" y="26668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7800" y="5105520"/>
            <a:ext cx="3429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ck skewed arrays into dense arrays by rotation; process all n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elements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C22-7EF2-44D3-9F50-62B789BC70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rap-@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@-operator has (recently) been extended to automatically wrap-around an array rather than “falling off” -- excellent for “periodic boundarie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 : [1..n,1..n] double; -- array of dou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A@^east; -- rotate columns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971800" y="4952880"/>
            <a:ext cx="3441600" cy="1650960"/>
            <a:chOff x="2971800" y="4952880"/>
            <a:chExt cx="3441600" cy="1650960"/>
          </a:xfrm>
        </p:grpSpPr>
        <p:sp>
          <p:nvSpPr>
            <p:cNvPr id="812" name=""/>
            <p:cNvSpPr/>
            <p:nvPr/>
          </p:nvSpPr>
          <p:spPr>
            <a:xfrm>
              <a:off x="2971800" y="5308560"/>
              <a:ext cx="1295280" cy="1295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52880" y="5308560"/>
              <a:ext cx="1295280" cy="1295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8520" y="5765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29200" y="4952880"/>
              <a:ext cx="1384200" cy="355680"/>
            </a:xfrm>
            <a:custGeom>
              <a:avLst/>
              <a:gdLst/>
              <a:ahLst/>
              <a:rect l="l" t="t" r="r" b="b"/>
              <a:pathLst>
                <a:path w="872" h="224">
                  <a:moveTo>
                    <a:pt x="0" y="224"/>
                  </a:moveTo>
                  <a:cubicBezTo>
                    <a:pt x="32" y="144"/>
                    <a:pt x="64" y="64"/>
                    <a:pt x="192" y="32"/>
                  </a:cubicBezTo>
                  <a:cubicBezTo>
                    <a:pt x="320" y="0"/>
                    <a:pt x="664" y="0"/>
                    <a:pt x="768" y="32"/>
                  </a:cubicBezTo>
                  <a:cubicBezTo>
                    <a:pt x="872" y="64"/>
                    <a:pt x="844" y="144"/>
                    <a:pt x="816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52880" y="5308560"/>
              <a:ext cx="763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48160" y="5308560"/>
              <a:ext cx="76320" cy="1295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3809880" y="2971800"/>
            <a:ext cx="3810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Falling off” relative to the declared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4FA-F041-47A8-8AEE-ABB6226EC0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kewing Computation for 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 b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ment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ifting last of array left, finishing 1 row /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Lop = [1..m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ight = [0,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2 a23 a24 a2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nd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3 a34 a31 a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4 a41 a42 a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2 to m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..m, 1..n]   A := A@^right; -- Shift last i row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03848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6483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64832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578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1FF-4E63-4C73-B6F2-235E718093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 Steps of Skewing 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i := 2 to m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..m, 1..n] A := A@^right;  -- Shift last m-i rows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1 a12 a13 a14            a11 a12 a13 a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1 a22 a23 a24            a22 a23 a24 a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1 a32 a33 a34            a32 a33 a34 a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41 a42 a43 a44            a42 a43 a44 a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itia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                i = 2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1 a12 a13 a14            a11 a12 a13 a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22 a23 a24 a21            a22 a23 a24 a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33 a34 a31 a32            a33 a34 a31 a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43 a44 a41 a42            a44 a41 a42 a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 = 3 step                                               i = 4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2286000"/>
            <a:ext cx="2743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kew B ver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98F-6D48-4A73-9705-CBF28311C1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Declaration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mpleteness, when A is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and B is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, the declaration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     Lop = [1..m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p = [1..n, 1..p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 = [1..m, 1..p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ion right = [ 0, 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ow = [ 1, 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        A : [Lo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 [Ro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 [Res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665-2470-4B29-8B39-192A42B0D4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 A, Skew B, {Multiply, Accumulate, Rotat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m do -- Sk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..m, 1..n] A := A@^r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p do -- Sk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n, i..p] B := B@^belo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es] C := 0.0;      -- Initializ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1 to n do -- For common d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es] C := C + A*B;  -- For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Lop] A := A@^right; -- Rot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Rop] B := B@^below; -- Rotat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53B-B6EB-4A9C-8A58-584D72F476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Arrays of Different Rank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arent limitation of ZPL (so far) is: Only arrays of like rank can be comb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-wise operators combine corresponding element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R] A := B+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ombining arrays of different rank is needed. E.g. Scale the elements of each row by the row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row maximum:  2 dimension reduced to 1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each element of the row by its row max: 1 dimension applied to 2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43800" y="4343400"/>
            <a:ext cx="990360" cy="459720"/>
            <a:chOff x="7543800" y="4343400"/>
            <a:chExt cx="990360" cy="459720"/>
          </a:xfrm>
        </p:grpSpPr>
        <p:sp>
          <p:nvSpPr>
            <p:cNvPr id="837" name=""/>
            <p:cNvSpPr/>
            <p:nvPr/>
          </p:nvSpPr>
          <p:spPr>
            <a:xfrm>
              <a:off x="8076960" y="4343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43800" y="434340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647840" y="4343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943600" y="5486400"/>
            <a:ext cx="1682280" cy="459720"/>
            <a:chOff x="5943600" y="5486400"/>
            <a:chExt cx="1682280" cy="459720"/>
          </a:xfrm>
        </p:grpSpPr>
        <p:sp>
          <p:nvSpPr>
            <p:cNvPr id="841" name=""/>
            <p:cNvSpPr/>
            <p:nvPr/>
          </p:nvSpPr>
          <p:spPr>
            <a:xfrm>
              <a:off x="6858000" y="5486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43800" y="5486400"/>
              <a:ext cx="7632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28880" y="54864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943600" y="54864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02880" y="54864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3657600" y="6019920"/>
            <a:ext cx="182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wo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C8F-E6C0-4763-ADD5-1B4EDC6BE2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rray language -- whole arrays are manipulated with primitiv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new thinking strategies 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get one-operation-a-time scalar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the computation globally -- make the global logic work efficiently and leave the details to the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arallel, but there are no parallel constructs in the language; the compi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all con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all interprocesso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all necessary synchronization (almost n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extensive parallel and scalar 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2AE-00D9-4E7C-801E-1B8DC4359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on’t Change Ran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change rank, use “singleton” values to collapse dimensions for lower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reg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 = [1..m, 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rank 2 array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1 = [1..m, 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2 = [1, 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gions corresponding to the first column and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designed to exploit the similarity between an array with collapsed dimensions and a corresponding array of lower r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276720" y="4343400"/>
            <a:ext cx="1828800" cy="457200"/>
            <a:chOff x="3276720" y="4343400"/>
            <a:chExt cx="1828800" cy="457200"/>
          </a:xfrm>
        </p:grpSpPr>
        <p:sp>
          <p:nvSpPr>
            <p:cNvPr id="850" name=""/>
            <p:cNvSpPr/>
            <p:nvPr/>
          </p:nvSpPr>
          <p:spPr>
            <a:xfrm>
              <a:off x="5029200" y="4343400"/>
              <a:ext cx="7632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76720" y="4343400"/>
              <a:ext cx="60948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14800" y="4343400"/>
              <a:ext cx="609480" cy="759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F1A-992C-4451-B259-D9E6BE2D75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Reduction Cas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reduction applies reduction to an array to produce a subarray … two reg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region” specifies the shape of th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region” specifies the shape of the ope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array that is combined is the subarray of the operand formed by the singleton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..m,1] Max1 := max&lt;&lt; [1..m,1..n]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47242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atemen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00200" y="5638680"/>
            <a:ext cx="2286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1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1280" y="472428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tial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5638680"/>
            <a:ext cx="1600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ress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4724280"/>
            <a:ext cx="17524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..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60020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289548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41972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31520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01992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D1B-A110-407F-99AA-1BE848C174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tial Reduction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ssociative operators can be used in partial form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, *, max, min, &amp;,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ingleton” dimension is “meaningful” in that the values are stored with like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tored with other first colum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can have arbitrary dimension values if they have the right rank &amp; elements defin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 Add row elements 2..n and store sum in 1st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 A := +&lt;&lt; [1..m, 2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657600" y="6019920"/>
            <a:ext cx="6094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6019920"/>
            <a:ext cx="6094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6019920"/>
            <a:ext cx="763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029200" y="5410080"/>
            <a:ext cx="2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95288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29200" y="5790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8148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5181480" y="5790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518112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5181120" y="5790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657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6576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769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105520" y="5790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5181480" y="5790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25A-58DE-4765-B66B-6C07B709AB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od Regions and Array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regions recognize that reducing into a specific colum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 specif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-- or a column that does not have a specific position … use ‘*’ a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FlCol = [1..m, *];  -- Floo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Row = [*, 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MaxCol : [FlCol] double; -- An m length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w : [FlRow] double; -- An n length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 --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952880" y="6019920"/>
            <a:ext cx="5335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57600" y="6019920"/>
            <a:ext cx="7632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29200" y="5410080"/>
            <a:ext cx="29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95288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5029200" y="5790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5181480" y="5790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5181480" y="57909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5181120" y="5790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5181120" y="57909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6576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5105520" y="579096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5181480" y="57909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7339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601992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6019920"/>
            <a:ext cx="76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05320" y="6019920"/>
            <a:ext cx="759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9436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9718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481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48120" y="6477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248520" y="5715000"/>
            <a:ext cx="23619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ink of column in every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E1E-5BD3-40A8-96BC-C16A93AE31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lood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flood arrays have unspecified dimensions, they can be “promoted” in those dimensions, i.e logically re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ation is complete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A := A / MaxCol;     --Scale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33520" y="5105520"/>
            <a:ext cx="8229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lood makes combining different ranks “element-wi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66680" y="5867280"/>
            <a:ext cx="7010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promotion of flooded arrays is only 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AB2-79A1-44FC-9542-54151789F8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Flood Operator (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&gt;&gt;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ternative is to save flooded vals -- du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plicates values of a subarray to fill a larger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region” specifies the shape of th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region” specifies the shape of the ope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array is replicated in all of the operand’s singleton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1..m,1..n] Maxfill := &gt;&gt;[1..m,1] Max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38080" y="5029200"/>
            <a:ext cx="14479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tatemen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5943600"/>
            <a:ext cx="2514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fill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..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43400" y="5029200"/>
            <a:ext cx="1447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10080" y="5943600"/>
            <a:ext cx="1600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ress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5029200"/>
            <a:ext cx="2286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x1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declared [1..m,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6002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42900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18148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762012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32448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E77-AE4D-4F0A-9495-F7F58D20E5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plicit Solution vs Logical Solution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into a specific position and then flooding works, but it explicitly replicate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]    Max1 := max&lt;&lt;[1..m,1..n] A;--Save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Maxfill := &gt;&gt;[1..m,1] Max1;  --Flood 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 A := A/Maxfill; --Div by col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 logically replicates values...and it’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MaxCol := max&lt;&lt; [1..m,1..n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     A := A / MaxCol; --Scale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 or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n] A := A/(&gt;&gt;[1..m,*]  max&lt;&lt; [1..m,1..n]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A54-3E89-41E5-8641-C8EC313CA3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tial Sca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scan would seen to be an easy generalization of partial reduce, but since it doesn’t “collapse” dimensions, it is not necessary to specify a region, only a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= Index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= +||[2]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92560" y="449568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1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2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3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92760" y="4495680"/>
            <a:ext cx="94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2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4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6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95B-D5BC-4767-90E9-684789B353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membering Reduce, Scan &amp; Floo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for reduce, scan and flood are suggesti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small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the sam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o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s a result of great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86200" y="3124080"/>
            <a:ext cx="990360" cy="459720"/>
            <a:chOff x="3886200" y="3124080"/>
            <a:chExt cx="990360" cy="459720"/>
          </a:xfrm>
        </p:grpSpPr>
        <p:sp>
          <p:nvSpPr>
            <p:cNvPr id="931" name=""/>
            <p:cNvSpPr/>
            <p:nvPr/>
          </p:nvSpPr>
          <p:spPr>
            <a:xfrm>
              <a:off x="4419360" y="312408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86200" y="312408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0240" y="31240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581280" y="4191120"/>
            <a:ext cx="1295640" cy="459720"/>
            <a:chOff x="3581280" y="4191120"/>
            <a:chExt cx="1295640" cy="459720"/>
          </a:xfrm>
        </p:grpSpPr>
        <p:sp>
          <p:nvSpPr>
            <p:cNvPr id="935" name=""/>
            <p:cNvSpPr/>
            <p:nvPr/>
          </p:nvSpPr>
          <p:spPr>
            <a:xfrm>
              <a:off x="4419720" y="419112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90600" y="419112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81280" y="419112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581280" y="5257800"/>
            <a:ext cx="914400" cy="459720"/>
            <a:chOff x="3581280" y="5257800"/>
            <a:chExt cx="914400" cy="459720"/>
          </a:xfrm>
        </p:grpSpPr>
        <p:sp>
          <p:nvSpPr>
            <p:cNvPr id="939" name=""/>
            <p:cNvSpPr/>
            <p:nvPr/>
          </p:nvSpPr>
          <p:spPr>
            <a:xfrm>
              <a:off x="3581280" y="5257800"/>
              <a:ext cx="45720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19720" y="5257800"/>
              <a:ext cx="75960" cy="45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990600" y="5257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D44-450E-4B77-9DD7-9C7098D3B59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 Illustrate Computing With Flood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SUMMA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617220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6200000">
            <a:off x="4267080" y="228564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2286000"/>
            <a:ext cx="76320" cy="1676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72200" y="2286000"/>
            <a:ext cx="167652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33920" y="297180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733920" y="3124080"/>
            <a:ext cx="380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62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8672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765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81080" y="2286000"/>
            <a:ext cx="1676520" cy="1676520"/>
          </a:xfrm>
          <a:prstGeom prst="rect">
            <a:avLst/>
          </a:prstGeom>
          <a:solidFill>
            <a:srgbClr val="ff9f9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09680" y="4800600"/>
            <a:ext cx="15242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426708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76520" y="4800600"/>
            <a:ext cx="6094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71800" y="4800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09680" y="5486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09680" y="487692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5638680"/>
            <a:ext cx="8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71800" y="49528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71800" y="5638680"/>
            <a:ext cx="83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4267080"/>
            <a:ext cx="39625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witch Orientation -- By using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A and a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row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f B broadcast to all, compute the “next” terms of the do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710-3EFF-45A9-A486-3BFAFCD9C4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of ZPL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676520"/>
            <a:ext cx="3048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ZPL is an imperative array language with the usual datatypes and operators, the familiar statement forms, and a few new concepts added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s a mix of Pascal, C and new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2A1-4562-492A-BC70-91A5E04CD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umn broadcast is simply a column flood and similarly for row broadcast is a row f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  Col : [1..m,*] double; -- Col flood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w : [*,1..p] double; -- Row flood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: [1..m,1..n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: [1..n,1..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: [1..m,1..p] dou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977-1573-47EF-9C92-8F7C3B0EAAD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 Algorithm (continued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ol-row in the common dimension, flood the item and combin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  C := 0.0;       -- Initializ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*]  Col := &gt;&gt;[ ,k] A; -- Flood kth col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*,1..p]  Row := &gt;&gt;[k, ] B; -- Flood kth row of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  C += Col*Row;   -- Combin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410080"/>
            <a:ext cx="4419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MMA is the easiest MM algorithm to program in Z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91D-CE66-46DE-AD18-3DC518F6D72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685800" y="3048120"/>
            <a:ext cx="1828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66880" y="1600200"/>
            <a:ext cx="60984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, The First Ste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11 c12 c13  a11 a12 a13 a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21 c22 c23  a21 a22 a23 a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31 c32 c33  a31 a32 a33 a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41 c42 c43  a41 a42 a43 a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1 b22 b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31 b32 b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41 b42 b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506760" y="3809880"/>
            <a:ext cx="185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 a11 a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1 a21 a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1 a31 a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1 a41 a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40480" y="3809880"/>
            <a:ext cx="185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11 b12 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40480" y="5334120"/>
            <a:ext cx="322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1b11 a11b12 a1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21b11 a21b12 a2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31b11 a31b12 a3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41b11 a41b12 a41b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98120" y="4191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5376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487480" y="3581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8784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94A-5863-4AE2-A2DD-BFFFA9E189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annon’s or SUMMA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lgorithm is better for M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n’s algorithm uses the simpler concepts and simple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 is conceptually cleaner, but requires ideas like flood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nalyze the two algorithms when we have a performance mode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F57-EED1-4FF2-8A7F-8F7915EC2E5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ill Another MM Algorith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looding is so good for columns/rows, why not use it for whole pla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on IK = [1..n,*,1..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K = [*,1..n,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J = [1..n,1..n,*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JK = [1..n,1..n,1..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K]  A2 := &lt;##[Index1,Index3,Index2]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JK]  B2 := &lt;##[Index3,Index2,Index1]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IJ]   C := +&lt;&lt;[IJK](&gt;&gt;[IK]A2)*(&gt;&gt;[JK]B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590920" y="5486400"/>
            <a:ext cx="838080" cy="83808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9880" y="5257800"/>
            <a:ext cx="1067040" cy="10666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43400" y="5334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5791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148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809880" y="6019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148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38680" y="5410080"/>
            <a:ext cx="838440" cy="8384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rot="16200000">
            <a:off x="4952160" y="5715000"/>
            <a:ext cx="990360" cy="228600"/>
          </a:xfrm>
          <a:prstGeom prst="parallelogram">
            <a:avLst>
              <a:gd name="adj" fmla="val 108307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5638680" y="5105160"/>
            <a:ext cx="990720" cy="228600"/>
          </a:xfrm>
          <a:prstGeom prst="parallelogram">
            <a:avLst>
              <a:gd name="adj" fmla="val 108346"/>
            </a:avLst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6476760" y="5562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67600" y="63244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78720" y="60958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554880" y="50450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78560" y="6095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FEA-4A64-401E-AFD6-85DBC901C4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PL Proced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have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&lt;name&gt; ({&lt;params&gt;}) {:Type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tatement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are listed with their type separated by com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dure F(A, B : [R] byte, x : float)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return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…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are “called by value” as the default, but by prefixing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can be called by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G(var A : [R] integer, big 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F63-9461-4409-AE3D-06BAE89E327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Procedure for Matrix Multiplic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MM (n: integ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A:[1..m,1..n] dou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B:[1..n,1..p] dou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C:[1..m,1..p] doub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1..p] 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(&gt;&gt;[ ,k] A)*(&gt;&gt;[k, ]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M(n, E, F, 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4952880"/>
            <a:ext cx="2971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xplicit values in the parameter list force specific global variables to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810-ACA9-457F-883A-2146E87268D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ank Defined Formal Paramete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ufficient for the compiler to know the ranks of the arrays, not their specific dimensional values … rank-define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mmas to imply the rank (r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the procedure in the context of the prope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MM(n:integer, var A,B,C :[ , ] doub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 i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k := 1 to n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(&gt;&gt;[ ,k] A)*(&gt;&gt;[k, ]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19720" y="5791320"/>
            <a:ext cx="3962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nherit regions … call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[1..m,1..p] MM(n,E,F,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CA4-FAB1-4442-B415-CE93BFF2D9E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moting Scalar Procedu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that only use scalar parameters, operations, etc. can be promoted to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use regions, array operations or other array-based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sign (x: double) 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x &lt; 0 then return 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if x = 0 then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1..m, 1..n] A := sign(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19720" y="5791320"/>
            <a:ext cx="3962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mporting scalar computations from C is a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0A3-6386-4BDE-8AED-D3578D2183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hattered Control Flow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logically executes one instruction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natural generalization in which statements are controlled by arrays rather than sca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 &lt; 0 then A := -A;  -- define abso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ient for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 and Nfact be defined [1..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fact :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i := 2 to N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fact := Nfact * i;  -- Compute 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C88-2105-49A7-9D06-7986C6CABD9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Sample of ZPL Cod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1752480"/>
            <a:ext cx="220968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w features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fig vars region direction prefixing [ ]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ssist with the global view of 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397-D00D-4050-BDB1-D4AC3EA1E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Exercise: Game of Lif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ZPL program for the game of life on a toroidal world, i.e. top wraps to bottom, left wraps to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is populated by organisms --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1 bit with exactly 2 neighbors in this generation lives on in the next generation; all other 1s go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0 bit with exactly 3 neighbors is born in the next generation; all other 0s st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958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528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86728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95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7242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952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51055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100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6386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8672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958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42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5288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41008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38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672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9588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42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528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148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100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6386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095880" y="57913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242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528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814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4100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386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67280" y="57913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5820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0866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152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438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724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10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2296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4582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866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3152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43800" y="51055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0010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2296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0866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31520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5438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772400" y="53341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0010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2296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84582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0866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3152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5438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7724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0010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2296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582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0866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3152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5438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7724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0010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82296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54360" y="518148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9568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95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9568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9568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58000" y="4876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580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0" y="5791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7200" y="6172200"/>
            <a:ext cx="6095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pect a homework assignment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458200" y="55627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229600" y="4876920"/>
            <a:ext cx="228600" cy="228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947-0032-430C-B182-B60B973FF6C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 is an array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 programming emphasizes large operations in which the compiler specifies the looping and index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ew idea is th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et of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in ZPL emphasizes thinking about the task at a high level rather than at the detailed scala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85C-7084-4B6A-B5C0-1E54D138F75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Jacobi Iteration: How does it work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Temp := 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@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A@E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Courier New"/>
              </a:rPr>
              <a:t>A@S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A@W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)/4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114800"/>
            <a:ext cx="5181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nk of averaging the 4 nearest neighbors as whole arra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2438280"/>
            <a:ext cx="7399440" cy="1524240"/>
            <a:chOff x="609480" y="2438280"/>
            <a:chExt cx="7399440" cy="1524240"/>
          </a:xfrm>
        </p:grpSpPr>
        <p:sp>
          <p:nvSpPr>
            <p:cNvPr id="63" name=""/>
            <p:cNvSpPr/>
            <p:nvPr/>
          </p:nvSpPr>
          <p:spPr>
            <a:xfrm>
              <a:off x="609480" y="2438280"/>
              <a:ext cx="7391520" cy="1524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2743200"/>
              <a:ext cx="914400" cy="914400"/>
              <a:chOff x="2133720" y="2743200"/>
              <a:chExt cx="91440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2895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13372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600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3372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3372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3372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3372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3372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60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386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90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481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1337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38080" y="2895480"/>
              <a:ext cx="609840" cy="609480"/>
              <a:chOff x="838080" y="2895480"/>
              <a:chExt cx="609840" cy="609480"/>
            </a:xfrm>
          </p:grpSpPr>
          <p:sp>
            <p:nvSpPr>
              <p:cNvPr id="82" name=""/>
              <p:cNvSpPr/>
              <p:nvPr/>
            </p:nvSpPr>
            <p:spPr>
              <a:xfrm>
                <a:off x="838080" y="2895480"/>
                <a:ext cx="609840" cy="609480"/>
              </a:xfrm>
              <a:prstGeom prst="rect">
                <a:avLst/>
              </a:prstGeom>
              <a:solidFill>
                <a:srgbClr val="b2b2b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9072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30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952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304776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320004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080" y="33526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23880" y="2895480"/>
              <a:ext cx="700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286000" y="2743200"/>
              <a:ext cx="609480" cy="609480"/>
              <a:chOff x="2286000" y="2743200"/>
              <a:chExt cx="60948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2286000" y="2743200"/>
                <a:ext cx="609480" cy="60948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3828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056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42840" y="274320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6000" y="28954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0" y="3200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19920" y="2743200"/>
              <a:ext cx="914400" cy="914400"/>
              <a:chOff x="6019920" y="2743200"/>
              <a:chExt cx="914400" cy="914400"/>
            </a:xfrm>
          </p:grpSpPr>
          <p:sp>
            <p:nvSpPr>
              <p:cNvPr id="99" name=""/>
              <p:cNvSpPr/>
              <p:nvPr/>
            </p:nvSpPr>
            <p:spPr>
              <a:xfrm>
                <a:off x="67820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1992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7220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1992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1992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1992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1992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220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7220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72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2484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77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9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343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1992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019920" y="2895480"/>
              <a:ext cx="609480" cy="609480"/>
              <a:chOff x="6019920" y="2895480"/>
              <a:chExt cx="60948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6019920" y="2895480"/>
                <a:ext cx="609480" cy="60948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72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24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6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92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1992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19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724280" y="2743200"/>
              <a:ext cx="914400" cy="914400"/>
              <a:chOff x="4724280" y="2743200"/>
              <a:chExt cx="914400" cy="91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54864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2428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7656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2428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428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2428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428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7656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7656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765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29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81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3376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386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876920" y="3048120"/>
              <a:ext cx="609480" cy="609480"/>
              <a:chOff x="4876920" y="3048120"/>
              <a:chExt cx="609480" cy="609480"/>
            </a:xfrm>
          </p:grpSpPr>
          <p:sp>
            <p:nvSpPr>
              <p:cNvPr id="141" name=""/>
              <p:cNvSpPr/>
              <p:nvPr/>
            </p:nvSpPr>
            <p:spPr>
              <a:xfrm>
                <a:off x="4876920" y="3048120"/>
                <a:ext cx="609480" cy="609480"/>
              </a:xfrm>
              <a:prstGeom prst="rect">
                <a:avLst/>
              </a:prstGeom>
              <a:solidFill>
                <a:srgbClr val="ff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2920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8148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3760" y="304812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76920" y="3200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76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76920" y="350532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429000" y="2743200"/>
              <a:ext cx="914400" cy="914400"/>
              <a:chOff x="3429000" y="2743200"/>
              <a:chExt cx="914400" cy="914400"/>
            </a:xfrm>
          </p:grpSpPr>
          <p:sp>
            <p:nvSpPr>
              <p:cNvPr id="149" name=""/>
              <p:cNvSpPr/>
              <p:nvPr/>
            </p:nvSpPr>
            <p:spPr>
              <a:xfrm>
                <a:off x="41911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30481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81280" y="2895840"/>
                <a:ext cx="609840" cy="6094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29000" y="32004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29000" y="28958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35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29000" y="3505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29000" y="3048120"/>
                <a:ext cx="838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1280" y="27432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81280" y="365760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12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8620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38480" y="274320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434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29000" y="289584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733920" y="2895480"/>
              <a:ext cx="609480" cy="609480"/>
              <a:chOff x="3733920" y="2895480"/>
              <a:chExt cx="609480" cy="60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920" y="2895480"/>
                <a:ext cx="609480" cy="6094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8620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3848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90760" y="2895480"/>
                <a:ext cx="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33920" y="3047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33920" y="32000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33920" y="335268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905120" y="2895480"/>
              <a:ext cx="5652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4080" y="2895480"/>
              <a:ext cx="6638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2895480"/>
              <a:ext cx="66348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2895480"/>
              <a:ext cx="99864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26640" bIns="26640" anchor="t">
              <a:noAutofit/>
            </a:bodyPr>
            <a:p>
              <a:pPr>
                <a:lnSpc>
                  <a:spcPts val="3549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705040"/>
                  <a:tab algn="l" pos="3606840"/>
                  <a:tab algn="l" pos="4508640"/>
                  <a:tab algn="l" pos="5410080"/>
                  <a:tab algn="l" pos="6311880"/>
                  <a:tab algn="l" pos="7213680"/>
                  <a:tab algn="l" pos="8115480"/>
                  <a:tab algn="l" pos="9016920"/>
                  <a:tab algn="l" pos="9918720"/>
                  <a:tab algn="l" pos="1082052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)/4.0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372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2900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2428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920" y="2743200"/>
              <a:ext cx="914400" cy="914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128-851D-4BA4-BB96-81C0576E74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gions: A New Concep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[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[Big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Big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[S of R]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48520" y="1600200"/>
            <a:ext cx="609480" cy="609480"/>
            <a:chOff x="6248520" y="1600200"/>
            <a:chExt cx="609480" cy="609480"/>
          </a:xfrm>
        </p:grpSpPr>
        <p:sp>
          <p:nvSpPr>
            <p:cNvPr id="185" name=""/>
            <p:cNvSpPr/>
            <p:nvPr/>
          </p:nvSpPr>
          <p:spPr>
            <a:xfrm>
              <a:off x="6248520" y="1600200"/>
              <a:ext cx="609480" cy="6094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080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5308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360" y="160020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48520" y="175248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48520" y="190476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2057400"/>
              <a:ext cx="6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172200" y="2438280"/>
            <a:ext cx="914400" cy="914400"/>
            <a:chOff x="6172200" y="2438280"/>
            <a:chExt cx="914400" cy="914400"/>
          </a:xfrm>
        </p:grpSpPr>
        <p:sp>
          <p:nvSpPr>
            <p:cNvPr id="193" name=""/>
            <p:cNvSpPr/>
            <p:nvPr/>
          </p:nvSpPr>
          <p:spPr>
            <a:xfrm>
              <a:off x="693432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72200" y="274320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840" y="2590920"/>
              <a:ext cx="609480" cy="6094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28954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2200" y="259092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304812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72200" y="320040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2200" y="274320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2200" y="24382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3352680"/>
              <a:ext cx="9144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2484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294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204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866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2438280"/>
              <a:ext cx="0" cy="9144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9880" y="3886200"/>
            <a:ext cx="4953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Regions are index sets -- like arrays but with no data; used for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eclarations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647960" y="2209680"/>
            <a:ext cx="1523880" cy="38124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028840" y="2514600"/>
            <a:ext cx="1066680" cy="22860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CB6-4D08-4994-A510-0196C17E9A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irections: Another New Concep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gram Jaco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config var n : integer = 512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ps : float = 0.000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gion     R = [1..n, 1..n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BigR = [0..n+1,0..n+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direction  N = [-1, 0];  S = [ 1, 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E = [ 0, 1];  W = [ 0,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var     Temp : [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: [BigR]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: flo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procedure Jacobi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R]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BigR] A :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[S of R] A := 1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Temp := (A@N + A@E + A@S + A@W)/4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rr  := max&lt;&lt; abs(Temp -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A    :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until err &lt; ep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276120"/>
                <a:tab algn="l" pos="901800"/>
                <a:tab algn="l" pos="1352520"/>
                <a:tab algn="l" pos="315756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1905120"/>
            <a:ext cx="28954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irections are vectors pointing in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nde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space …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 = [ 1, 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oints to row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39E8-8895-474D-AC94-DFA4390116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Snyder</cp:lastModifiedBy>
  <dcterms:modified xsi:type="dcterms:W3CDTF">2002-11-05T16:27:24Z</dcterms:modified>
  <cp:revision>45</cp:revision>
  <dc:subject/>
  <dc:title>Survey of Parallel Computation</dc:title>
</cp:coreProperties>
</file>