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F3E7-7F80-4254-8D63-87DAF332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63F-F13F-4B96-AC54-11C3685B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C53-21A3-4409-9BC8-34FBD30E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9E1-F67A-4609-B87D-5345F29B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12A-CC33-40D6-85A1-4B9B0D99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6D86-EE4A-4873-BE86-350D8B6F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FFC-E242-44ED-900A-95131371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0568-8D17-41DF-8CB1-0F554BDA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281-2F23-4B8B-A091-7930C3C9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85D2-393D-4B90-8C5C-420D7BC0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428-E7AE-4671-B6F8-EF44FFFA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68CC-02F8-483E-A1E1-2B09268C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9732-C063-42A8-A5FA-200F9C9A9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9640" y="1419120"/>
            <a:ext cx="72388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1447920"/>
            <a:ext cx="76201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andling Memory Problem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ough the PRAM model does not suffice, memory sharing could be good given a realistic cost assess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challenge in shared memory is the delay, calle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tenc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between the time the memory is requested and the time at which the value is delivered.  It slows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295280"/>
            <a:ext cx="7772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oo Few Threads = Wait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enabled threads are too few to cover the latency, processors finish computing before next data arr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nough paralle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subsystem may be less 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743200" y="4038480"/>
            <a:ext cx="1676520" cy="533520"/>
          </a:xfrm>
          <a:prstGeom prst="parallelogram">
            <a:avLst>
              <a:gd name="adj" fmla="val 7855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8000" y="41148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: 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447920" y="4038480"/>
            <a:ext cx="1676160" cy="533520"/>
          </a:xfrm>
          <a:prstGeom prst="parallelogram">
            <a:avLst>
              <a:gd name="adj" fmla="val 7854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2720" y="4114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: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038480" y="4038480"/>
            <a:ext cx="1676520" cy="533520"/>
          </a:xfrm>
          <a:prstGeom prst="parallelogram">
            <a:avLst>
              <a:gd name="adj" fmla="val 7855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3280" y="41148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: n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038480" y="4647600"/>
            <a:ext cx="914400" cy="533160"/>
          </a:xfrm>
          <a:prstGeom prst="parallelogram">
            <a:avLst>
              <a:gd name="adj" fmla="val 4287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8880" y="472428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743200" y="4647600"/>
            <a:ext cx="914400" cy="533160"/>
          </a:xfrm>
          <a:prstGeom prst="parallelogram">
            <a:avLst>
              <a:gd name="adj" fmla="val 42876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9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334120" y="4647600"/>
            <a:ext cx="914400" cy="533160"/>
          </a:xfrm>
          <a:prstGeom prst="parallelogram">
            <a:avLst>
              <a:gd name="adj" fmla="val 4287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520" y="472428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334120" y="5257800"/>
            <a:ext cx="1676160" cy="533520"/>
          </a:xfrm>
          <a:prstGeom prst="parallelogram">
            <a:avLst>
              <a:gd name="adj" fmla="val 7854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7840" y="533412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038480" y="5257800"/>
            <a:ext cx="1676520" cy="533520"/>
          </a:xfrm>
          <a:prstGeom prst="parallelogram">
            <a:avLst>
              <a:gd name="adj" fmla="val 7855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2560" y="53341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43200" y="5257800"/>
            <a:ext cx="1676520" cy="533520"/>
          </a:xfrm>
          <a:prstGeom prst="parallelogram">
            <a:avLst>
              <a:gd name="adj" fmla="val 78559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7280" y="533412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447920" y="5257800"/>
            <a:ext cx="1676160" cy="533520"/>
          </a:xfrm>
          <a:prstGeom prst="parallelogram">
            <a:avLst>
              <a:gd name="adj" fmla="val 7854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2000" y="533412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447920" y="4647600"/>
            <a:ext cx="914400" cy="533160"/>
          </a:xfrm>
          <a:prstGeom prst="parallelogram">
            <a:avLst>
              <a:gd name="adj" fmla="val 4287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4640" y="4724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7339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02884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3792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5943600"/>
            <a:ext cx="7772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oretically, P log P threads are needed,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arallel Slacknes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ant called the amount of “excess” parallelism needed to cover latenc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allel slac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“best case” a parallel slackness of logP is required because in the best case latency will be proportional to log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additional delays require further slac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roblems With BSP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 threads are often very numerous, it is difficult always to have P log P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twork needs to hav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igh band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xplained in later lecture, but meaning O(n) bisection bandwid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etwork conges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magnified when operating at peak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emory conten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quires that a value  be fetched from each processor’s memory at each cycle …what happens when multiple values are in the same memory un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implications of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low memo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fast processo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ducing </a:t>
            </a: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quires good engineering and some clever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U’s Ultracomputer Group tried both using 2-3 very slick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 they were ultimately unsuccessful, the approach stands as a fair test of a true shared memory paralle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5257800"/>
            <a:ext cx="76960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J.T. Schwartz,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Ultracomputers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, ACM Transactions on Programming Languages and Systems 2(4):484-521,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istorical caution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 Schwartz wrote a paper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ltracomp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which he obser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l parallel computer would be a PRAM (he called it a paracomputer), but it can’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listic alterative would be an “ultracomputer” which was a specific (CTA-type architecture) using a shuffle-ex network, vN processor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en Gottlieb started a project to build an ultracomputer, but after getting started, i.e. after the computer was already named, decided they’d build a para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5257800"/>
            <a:ext cx="6248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lthough the original ultracomputer doesn’t have a shared memory the machine that was built did … conf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n Alternate Concurrency Primitiv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using the Test&amp;Set to guard shared data, use Fetch&amp;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&amp;Add is an atomic read-modify-write operation on memory -- requires special hardware, to be discu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Fetch&amp;Add as a semaphore and as a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:  Fetch&amp;Add(V,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is a memory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is an integer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s of V are retu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alue of V is V+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 is ato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3886200"/>
            <a:ext cx="274320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V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Fetch&amp;Add(V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V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0 is retu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current Fetch&amp;Add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ultiple Fetch&amp;Adds are executed simultaneously, they are serializ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 Fetch&amp;Add(V, e1) and Fetch&amp;Add(V, e2) are execute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ing an initial value of e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value is e0+e1+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1st process receives either e0 or e0+e2, implying it was first (e0) or second (e0+e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nd process receives either e0 or e0+e1, implying it was second (e0+e1) or first (e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5638680"/>
            <a:ext cx="6858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uppose both execute Fetch&amp;Add(I,1), then one gets I back, the other I+1, and final is I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etch&amp;Add on Work Lis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D[1..n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a Todo list of Task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index of the first unassigned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exec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&amp;Add(Next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an index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nde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, wrap around =&gt; Fetch&amp;Add(Next,-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5257800"/>
            <a:ext cx="7162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uch automatic scheduling can be useful for rows of an array or other ordered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Generalizing Fetch&amp;Add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tch&amp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,e) is a generalization for arbitrary binary, associative opera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,b) = a+b to define Fetch&amp;Add(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ssociative, the final value is independent of the serializing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&amp;Set(V) is just Fetch&amp;Or(V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and Store us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,b)=a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,b)=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 R &lt;-- Fetch&amp;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,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 * &lt;--  Fetch&amp;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,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0240" y="617220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* means value doesn’t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rea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to think about at the break … are test&amp;set and fetch&amp;add equival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clusion from Last Wee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idea of a parallel machine will be defined by the CT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evant propertie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von Neumann processors operating concur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 by an unspecified, but sparse network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reference is either local, requiring unit time, or nonlocal requiring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&gt;1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etch&amp;Add vs. Test&amp;Se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K concurrent processes using Fetch&amp;Add(I,1) and Test&amp;Set(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tch&amp;Add distinguishes among and orders the competing processes, assigning each one a unique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for allocating work and 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&amp;Set returns the FALSE to at most one of the processes, and so divides the set of competing processes into two groups, the winner and K-1 oth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for mutual ex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6019920"/>
            <a:ext cx="4419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&amp;S is a potential bottlen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etch&amp;Add Exploits Shar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 earlier solutions attempt to reduce sharing to reduce the amount of invalidation and acknowledgment, Fetch&amp;Add does better with greater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ing is used to schedule or allocate, which is then independent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is concentrated in a few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e grain size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load/store, Test&amp;Set, etc. are implementable, it is a sufficient primitiv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mplementing Fetch&amp;Add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tch&amp;Add assumes a flat shared memory as implemented by a “dance hall architect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066680" y="2819520"/>
            <a:ext cx="762120" cy="1295280"/>
            <a:chOff x="1066680" y="2819520"/>
            <a:chExt cx="762120" cy="1295280"/>
          </a:xfrm>
        </p:grpSpPr>
        <p:sp>
          <p:nvSpPr>
            <p:cNvPr id="182" name=""/>
            <p:cNvSpPr/>
            <p:nvPr/>
          </p:nvSpPr>
          <p:spPr>
            <a:xfrm>
              <a:off x="1447920" y="3352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66680" y="2819520"/>
              <a:ext cx="762120" cy="53316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3505320"/>
              <a:ext cx="685800" cy="38088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905120" y="2819520"/>
            <a:ext cx="761760" cy="1295280"/>
            <a:chOff x="1905120" y="2819520"/>
            <a:chExt cx="761760" cy="1295280"/>
          </a:xfrm>
        </p:grpSpPr>
        <p:sp>
          <p:nvSpPr>
            <p:cNvPr id="186" name=""/>
            <p:cNvSpPr/>
            <p:nvPr/>
          </p:nvSpPr>
          <p:spPr>
            <a:xfrm>
              <a:off x="2286000" y="3352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05120" y="2819520"/>
              <a:ext cx="761760" cy="53316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05120" y="3505320"/>
              <a:ext cx="685440" cy="38088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2819520"/>
            <a:ext cx="762120" cy="1295280"/>
            <a:chOff x="2743200" y="2819520"/>
            <a:chExt cx="762120" cy="1295280"/>
          </a:xfrm>
        </p:grpSpPr>
        <p:sp>
          <p:nvSpPr>
            <p:cNvPr id="190" name=""/>
            <p:cNvSpPr/>
            <p:nvPr/>
          </p:nvSpPr>
          <p:spPr>
            <a:xfrm>
              <a:off x="3124440" y="3352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43200" y="2819520"/>
              <a:ext cx="762120" cy="53316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43200" y="3505320"/>
              <a:ext cx="685800" cy="38088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095880" y="2819520"/>
            <a:ext cx="762120" cy="1295280"/>
            <a:chOff x="6095880" y="2819520"/>
            <a:chExt cx="762120" cy="1295280"/>
          </a:xfrm>
        </p:grpSpPr>
        <p:sp>
          <p:nvSpPr>
            <p:cNvPr id="194" name=""/>
            <p:cNvSpPr/>
            <p:nvPr/>
          </p:nvSpPr>
          <p:spPr>
            <a:xfrm>
              <a:off x="6477120" y="3352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2819520"/>
              <a:ext cx="762120" cy="53316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95880" y="3505320"/>
              <a:ext cx="685800" cy="38088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934320" y="2819520"/>
            <a:ext cx="761760" cy="1295280"/>
            <a:chOff x="6934320" y="2819520"/>
            <a:chExt cx="761760" cy="1295280"/>
          </a:xfrm>
        </p:grpSpPr>
        <p:sp>
          <p:nvSpPr>
            <p:cNvPr id="198" name=""/>
            <p:cNvSpPr/>
            <p:nvPr/>
          </p:nvSpPr>
          <p:spPr>
            <a:xfrm>
              <a:off x="7315200" y="3352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34320" y="2819520"/>
              <a:ext cx="761760" cy="53316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34320" y="3505320"/>
              <a:ext cx="685440" cy="38088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581280" y="2819520"/>
            <a:ext cx="762120" cy="1295280"/>
            <a:chOff x="3581280" y="2819520"/>
            <a:chExt cx="762120" cy="1295280"/>
          </a:xfrm>
        </p:grpSpPr>
        <p:sp>
          <p:nvSpPr>
            <p:cNvPr id="202" name=""/>
            <p:cNvSpPr/>
            <p:nvPr/>
          </p:nvSpPr>
          <p:spPr>
            <a:xfrm>
              <a:off x="3962520" y="3352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81280" y="2819520"/>
              <a:ext cx="762120" cy="53316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81280" y="3505320"/>
              <a:ext cx="685800" cy="38088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419720" y="2819520"/>
            <a:ext cx="761760" cy="1295280"/>
            <a:chOff x="4419720" y="2819520"/>
            <a:chExt cx="761760" cy="1295280"/>
          </a:xfrm>
        </p:grpSpPr>
        <p:sp>
          <p:nvSpPr>
            <p:cNvPr id="206" name=""/>
            <p:cNvSpPr/>
            <p:nvPr/>
          </p:nvSpPr>
          <p:spPr>
            <a:xfrm>
              <a:off x="4800600" y="3352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19720" y="2819520"/>
              <a:ext cx="761760" cy="53316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19720" y="3505320"/>
              <a:ext cx="685440" cy="38088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257800" y="2819520"/>
            <a:ext cx="762120" cy="1295280"/>
            <a:chOff x="5257800" y="2819520"/>
            <a:chExt cx="762120" cy="1295280"/>
          </a:xfrm>
        </p:grpSpPr>
        <p:sp>
          <p:nvSpPr>
            <p:cNvPr id="210" name=""/>
            <p:cNvSpPr/>
            <p:nvPr/>
          </p:nvSpPr>
          <p:spPr>
            <a:xfrm>
              <a:off x="5639040" y="3352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57800" y="2819520"/>
              <a:ext cx="762120" cy="53316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57800" y="3505320"/>
              <a:ext cx="685800" cy="38088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066680" y="4038480"/>
            <a:ext cx="6705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io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066680" y="5410080"/>
            <a:ext cx="762120" cy="1066680"/>
            <a:chOff x="1066680" y="5410080"/>
            <a:chExt cx="762120" cy="1066680"/>
          </a:xfrm>
        </p:grpSpPr>
        <p:sp>
          <p:nvSpPr>
            <p:cNvPr id="215" name=""/>
            <p:cNvSpPr/>
            <p:nvPr/>
          </p:nvSpPr>
          <p:spPr>
            <a:xfrm>
              <a:off x="1447560" y="54100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66680" y="5943600"/>
              <a:ext cx="762120" cy="533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66680" y="5486400"/>
              <a:ext cx="685800" cy="3808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905120" y="5410080"/>
            <a:ext cx="761760" cy="1066680"/>
            <a:chOff x="1905120" y="5410080"/>
            <a:chExt cx="761760" cy="1066680"/>
          </a:xfrm>
        </p:grpSpPr>
        <p:sp>
          <p:nvSpPr>
            <p:cNvPr id="219" name=""/>
            <p:cNvSpPr/>
            <p:nvPr/>
          </p:nvSpPr>
          <p:spPr>
            <a:xfrm>
              <a:off x="2285640" y="54100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5120" y="5943600"/>
              <a:ext cx="761760" cy="533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05120" y="5486400"/>
              <a:ext cx="685440" cy="3808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743200" y="5410080"/>
            <a:ext cx="762120" cy="1066680"/>
            <a:chOff x="2743200" y="5410080"/>
            <a:chExt cx="762120" cy="1066680"/>
          </a:xfrm>
        </p:grpSpPr>
        <p:sp>
          <p:nvSpPr>
            <p:cNvPr id="223" name=""/>
            <p:cNvSpPr/>
            <p:nvPr/>
          </p:nvSpPr>
          <p:spPr>
            <a:xfrm>
              <a:off x="3124080" y="54100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43200" y="5943600"/>
              <a:ext cx="762120" cy="533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43200" y="5486400"/>
              <a:ext cx="685800" cy="3808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581280" y="5410080"/>
            <a:ext cx="762120" cy="1066680"/>
            <a:chOff x="3581280" y="5410080"/>
            <a:chExt cx="762120" cy="1066680"/>
          </a:xfrm>
        </p:grpSpPr>
        <p:sp>
          <p:nvSpPr>
            <p:cNvPr id="227" name=""/>
            <p:cNvSpPr/>
            <p:nvPr/>
          </p:nvSpPr>
          <p:spPr>
            <a:xfrm>
              <a:off x="3962160" y="54100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81280" y="5943600"/>
              <a:ext cx="762120" cy="533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81280" y="5486400"/>
              <a:ext cx="685800" cy="3808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419720" y="5410080"/>
            <a:ext cx="761760" cy="1066680"/>
            <a:chOff x="4419720" y="5410080"/>
            <a:chExt cx="761760" cy="1066680"/>
          </a:xfrm>
        </p:grpSpPr>
        <p:sp>
          <p:nvSpPr>
            <p:cNvPr id="231" name=""/>
            <p:cNvSpPr/>
            <p:nvPr/>
          </p:nvSpPr>
          <p:spPr>
            <a:xfrm>
              <a:off x="4800240" y="54100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19720" y="5943600"/>
              <a:ext cx="761760" cy="533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19720" y="5486400"/>
              <a:ext cx="685440" cy="3808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095880" y="5410080"/>
            <a:ext cx="762120" cy="1066680"/>
            <a:chOff x="6095880" y="5410080"/>
            <a:chExt cx="762120" cy="1066680"/>
          </a:xfrm>
        </p:grpSpPr>
        <p:sp>
          <p:nvSpPr>
            <p:cNvPr id="235" name=""/>
            <p:cNvSpPr/>
            <p:nvPr/>
          </p:nvSpPr>
          <p:spPr>
            <a:xfrm>
              <a:off x="6476760" y="54100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95880" y="5943600"/>
              <a:ext cx="762120" cy="533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95880" y="5486400"/>
              <a:ext cx="685800" cy="3808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257800" y="5410080"/>
            <a:ext cx="762120" cy="1066680"/>
            <a:chOff x="5257800" y="5410080"/>
            <a:chExt cx="762120" cy="1066680"/>
          </a:xfrm>
        </p:grpSpPr>
        <p:sp>
          <p:nvSpPr>
            <p:cNvPr id="239" name=""/>
            <p:cNvSpPr/>
            <p:nvPr/>
          </p:nvSpPr>
          <p:spPr>
            <a:xfrm>
              <a:off x="5638680" y="54100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57800" y="5943600"/>
              <a:ext cx="762120" cy="533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57800" y="5486400"/>
              <a:ext cx="685800" cy="3808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934320" y="5410080"/>
            <a:ext cx="761760" cy="1066680"/>
            <a:chOff x="6934320" y="5410080"/>
            <a:chExt cx="761760" cy="1066680"/>
          </a:xfrm>
        </p:grpSpPr>
        <p:sp>
          <p:nvSpPr>
            <p:cNvPr id="243" name=""/>
            <p:cNvSpPr/>
            <p:nvPr/>
          </p:nvSpPr>
          <p:spPr>
            <a:xfrm>
              <a:off x="7314840" y="54100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34320" y="5943600"/>
              <a:ext cx="761760" cy="533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34320" y="5486400"/>
              <a:ext cx="685440" cy="3808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Omega Networ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connection network is 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600200" y="2209680"/>
            <a:ext cx="6172200" cy="3200400"/>
            <a:chOff x="1600200" y="2209680"/>
            <a:chExt cx="6172200" cy="3200400"/>
          </a:xfrm>
        </p:grpSpPr>
        <p:sp>
          <p:nvSpPr>
            <p:cNvPr id="249" name=""/>
            <p:cNvSpPr/>
            <p:nvPr/>
          </p:nvSpPr>
          <p:spPr>
            <a:xfrm>
              <a:off x="2514600" y="22096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28564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2285640" y="2361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971440" y="2361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97144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14600" y="304776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28564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2285640" y="320040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2971440" y="320040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97144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14600" y="388620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285640" y="4419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28564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97144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971440" y="4419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14600" y="47242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28564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285640" y="4876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971440" y="4876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97144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14800" y="22096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885840" y="274320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3885840" y="2361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571640" y="2361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4571640" y="274320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14800" y="304776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388584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88584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457164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57164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14800" y="388620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885840" y="4419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88584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57164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4571640" y="4419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14800" y="47242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388584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3885840" y="4876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571640" y="4876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57164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00400" y="23619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0400" y="2743200"/>
              <a:ext cx="685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3200400" y="2743200"/>
              <a:ext cx="6858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00400" y="3581280"/>
              <a:ext cx="685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200400" y="3200400"/>
              <a:ext cx="685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00400" y="441936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200400" y="3581280"/>
              <a:ext cx="685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0040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15000" y="22096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548604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486040" y="2361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171840" y="2361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617184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15000" y="304776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48604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548604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17184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617184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15000" y="388620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486040" y="4419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5486040" y="403848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617184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171840" y="44193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15000" y="47242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548604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5486040" y="4876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6171840" y="4876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617184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00600" y="23619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00600" y="2743200"/>
              <a:ext cx="685800" cy="129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800600" y="27432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00600" y="3581280"/>
              <a:ext cx="685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4800600" y="3200400"/>
              <a:ext cx="685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00600" y="441936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800600" y="3581280"/>
              <a:ext cx="685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0060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00800" y="23619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00800" y="2743200"/>
              <a:ext cx="685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400800" y="27432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00800" y="3581280"/>
              <a:ext cx="685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6400800" y="3200400"/>
              <a:ext cx="685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00800" y="4419360"/>
              <a:ext cx="6858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400800" y="3581280"/>
              <a:ext cx="685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0080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600200" y="220968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2361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5704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00200" y="304776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057040" y="320040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05704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00200" y="388620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205704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2057040" y="4419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00200" y="472428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057040" y="4876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05704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15200" y="220968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708624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086240" y="2361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15200" y="304776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708624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08624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5200" y="388620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086240" y="4419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08624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15200" y="472428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708624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7086240" y="48765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676520" y="5638680"/>
            <a:ext cx="57909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onnection between 2 and 6 … follow bits to destination lsb to m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96480" y="363852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Processor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7104600" y="371484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i Memory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Notice Detail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Network requires O(P log P)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iven network uses 2x2 but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ing is consistent at each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447920" y="3048120"/>
            <a:ext cx="6172200" cy="3200400"/>
            <a:chOff x="1447920" y="3048120"/>
            <a:chExt cx="6172200" cy="3200400"/>
          </a:xfrm>
        </p:grpSpPr>
        <p:sp>
          <p:nvSpPr>
            <p:cNvPr id="363" name=""/>
            <p:cNvSpPr/>
            <p:nvPr/>
          </p:nvSpPr>
          <p:spPr>
            <a:xfrm>
              <a:off x="2362320" y="304812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213336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13336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81916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281916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62320" y="388620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2133360" y="441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133360" y="4038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819160" y="4038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819160" y="441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62320" y="47242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13336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2133360" y="4876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2819160" y="4876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81916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62320" y="556272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13336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2133360" y="5715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2819160" y="5715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281916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62520" y="304812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3733560" y="3581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373356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441936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4419360" y="3581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62520" y="388620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733560" y="441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73356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441936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4419360" y="441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62520" y="47242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73356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3733560" y="4876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419360" y="4876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441936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556272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373356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3733560" y="5715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4419360" y="5715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441936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48120" y="3200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48120" y="3581280"/>
              <a:ext cx="6858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048120" y="3581280"/>
              <a:ext cx="685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48120" y="4419720"/>
              <a:ext cx="685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3048120" y="4038120"/>
              <a:ext cx="6858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48120" y="52578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3048120" y="4419720"/>
              <a:ext cx="685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048120" y="6095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62720" y="304812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533376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33376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601956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01956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62720" y="388620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333760" y="441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533376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01956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6019560" y="441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62720" y="47242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533376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5333760" y="48769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019560" y="4876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6019560" y="5257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562720" y="556272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533376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5333760" y="5715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019560" y="5715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01956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48320" y="3200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48320" y="3581280"/>
              <a:ext cx="68580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648320" y="35812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8320" y="4419720"/>
              <a:ext cx="685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648320" y="4038120"/>
              <a:ext cx="6858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48320" y="52578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648320" y="4419720"/>
              <a:ext cx="685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48320" y="6095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48520" y="3200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48520" y="3581280"/>
              <a:ext cx="6858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6248520" y="35812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48520" y="4419720"/>
              <a:ext cx="685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248520" y="4038120"/>
              <a:ext cx="6858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48520" y="5257800"/>
              <a:ext cx="685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6248520" y="4419720"/>
              <a:ext cx="685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48520" y="6095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47920" y="304812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190476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190476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447920" y="388620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1904760" y="4038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1904760" y="441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47920" y="472428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1904760" y="4876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190476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447920" y="556272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1904760" y="5715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190476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62920" y="304812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693396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93396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162920" y="388620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933960" y="441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693396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62920" y="472428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693396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6933960" y="4876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162920" y="556272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93396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6933960" y="5715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4114800" y="6248520"/>
            <a:ext cx="4191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Long Wires Are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outing In </a:t>
            </a: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-Networ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twork is pipel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unique path between any processor and memory port 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s are possible because there exist permutations in which packets col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when two packets collide at a rou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is delayed, leaving its “fi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pelining is affected, here comes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86600" y="480060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6857640" y="5334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6857640" y="4952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54344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543440" y="5334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86600" y="49528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866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371600" y="6019920"/>
            <a:ext cx="6172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separate packets must be ser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wo Processors Make Fetch&amp;Add(V,1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requests collide in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95480" y="228600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66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6665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3523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33523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95480" y="312408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6665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2666520" y="32767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3352320" y="32767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3523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895480" y="39625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2666520" y="44956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6665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3352320" y="41148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33523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895480" y="480060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26665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6665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352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33523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95680" y="228600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4266720" y="28195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266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9525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4952520" y="28195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95680" y="312408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2667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4266720" y="32767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49525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952520" y="36576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95680" y="39625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2667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2667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49525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49525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495680" y="480060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42667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2667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9525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9525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8128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81280" y="281952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581280" y="281952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81280" y="36576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3581280" y="3276720"/>
            <a:ext cx="6858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81280" y="4495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3581280" y="365760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8128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5880" y="228600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58669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58669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6552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65527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95880" y="312408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58669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58669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65527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65527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95880" y="39625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5866920" y="44956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5866920" y="41148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65527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6552720" y="4495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5880" y="480060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58669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58669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65527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65527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8148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181480" y="2819520"/>
            <a:ext cx="68580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181480" y="2819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81480" y="3657600"/>
            <a:ext cx="6858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181480" y="32767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81480" y="4495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5181480" y="365760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8148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78168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81680" y="281952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781680" y="2819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81680" y="36576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781680" y="32767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781680" y="449568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781680" y="365760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78168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81080" y="228600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4379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24379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981080" y="312408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437920" y="32767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24379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981080" y="396252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4379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437920" y="44956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81080" y="480060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4379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4379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696080" y="228600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74671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74671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696080" y="312408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74671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74671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696080" y="396252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74671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74671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96080" y="480060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4671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746712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2280" y="304812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&amp;Add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52280" y="43434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&amp;Add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231400" y="4724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371600" y="6019920"/>
            <a:ext cx="6705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Fetch&amp;Add increases potential for coll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086600" y="2057400"/>
            <a:ext cx="152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Hot sp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553080" y="2438280"/>
            <a:ext cx="609840" cy="152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Bright Idea: Combine Request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Combine requests for same dest. In the limit all nodes could be referencing same l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28195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057040" y="33526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2057040" y="29718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2742840" y="29718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86000" y="365760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057040" y="41911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057040" y="38098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742840" y="38098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74284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86000" y="449568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057040" y="50292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057040" y="46483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742840" y="46483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274284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86000" y="53341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057040" y="58672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2057040" y="54864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2742840" y="54864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74284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886200" y="28195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3657240" y="33526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3657240" y="29718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434304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4343040" y="33526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86200" y="365760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3657240" y="41911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3657240" y="38098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434304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343040" y="41911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886200" y="449568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365724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65724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434304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434304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86200" y="53341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365724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365724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434304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434304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971800" y="29718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971800" y="33526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2971800" y="3352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971800" y="41911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2971800" y="3809520"/>
            <a:ext cx="68580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971800" y="5029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971800" y="4191120"/>
            <a:ext cx="68580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71800" y="586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486400" y="28195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525744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525744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94324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94324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86400" y="365760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525744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525744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594324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594324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86400" y="449568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5257440" y="50292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5257440" y="46483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594324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943240" y="50292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486400" y="53341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25744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525744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94324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594324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0" y="3352680"/>
            <a:ext cx="685800" cy="129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4572000" y="3352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572000" y="4191120"/>
            <a:ext cx="6858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4572000" y="380952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572000" y="5029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572000" y="419112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72000" y="586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722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172200" y="33526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6172200" y="3352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172200" y="41911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172200" y="380952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72200" y="502920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6172200" y="419112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172200" y="586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371600" y="281952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1828440" y="29718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1828440" y="33526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371600" y="365760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1828440" y="38098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828440" y="41911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371600" y="449568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1828440" y="46483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1828440" y="50292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71600" y="533412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828440" y="54864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1828440" y="58672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086600" y="281952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685764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685764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086600" y="365760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85764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685764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086600" y="449568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685764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685764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086600" y="533412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685764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6857640" y="54864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920" y="5257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mbining Loads and Stor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switch combine loads and stores to a common location as fol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/Load -- forward one of the loads towards the memory, and when the value is returned, satisfy bo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/Store -- forward the store, and when the ACK arrives back at the switch, return value to satisfy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/Store -- forward one of the stores, and when the ACK arrives back at the switch, return it for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s are restricted to having only one outstanding request at a time to a given 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 flipV="1">
            <a:off x="6934320" y="26665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7543800" y="26665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6934320" y="3505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7543800" y="3505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mplementing Fetch&amp;Add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n adder with the Memory Network Interface c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Fetch&amp;Add(V,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 the value of V, say e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e0 to processor reques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e0+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e0+e back into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robably necessary to do these concur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629400" y="297180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77120" y="3809880"/>
            <a:ext cx="7617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315200" y="3809880"/>
            <a:ext cx="762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haring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aspects to sharing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ue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ared mem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every processor can reference every memory location of a “single coherent memory,” i.e every processor sees the sam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ared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ace means every processor can reference every memory location in the machine but the memory is not kept cohe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4680" y="4952880"/>
            <a:ext cx="63133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he problem: Suppose in time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ocessor 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ads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location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ocessor B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writes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location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ocessors A and C use 1000 in later com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en A, C use values are they the same or differ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mbining Fetch&amp;Adds at Switch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Fetch&amp;Add(V,e) and Fetch&amp;Add(V,f) arrive at a switch together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the sum f+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Fetch&amp;Add(V,f+e) on to th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e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0 is returned by th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g0 as response to Fetch&amp;Add(V,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g0+e as response to Fetch&amp;Add(V,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2057400" y="5105520"/>
            <a:ext cx="5486400" cy="1389600"/>
            <a:chOff x="2057400" y="5105520"/>
            <a:chExt cx="5486400" cy="1389600"/>
          </a:xfrm>
        </p:grpSpPr>
        <p:sp>
          <p:nvSpPr>
            <p:cNvPr id="723" name=""/>
            <p:cNvSpPr/>
            <p:nvPr/>
          </p:nvSpPr>
          <p:spPr>
            <a:xfrm>
              <a:off x="4114800" y="5334120"/>
              <a:ext cx="121896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33760" y="541044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638680" y="5105520"/>
              <a:ext cx="144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&amp;E(V,e+f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639760" y="533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62560" y="52578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7162200" y="55627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361960" y="61722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668320" y="5867640"/>
              <a:ext cx="115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&amp;E(V,f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666880" y="6096240"/>
              <a:ext cx="75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0+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361960" y="55627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667960" y="5257800"/>
              <a:ext cx="122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&amp;E(V,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667960" y="5486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057400" y="54104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20574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057400" y="6019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2057400" y="6324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mbine Fetch&amp;Add with other request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ing can apply to all memory traffic to a location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following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&amp;Add/Fetch&amp;Add -- as just descri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&amp;Add/Load -- Treat Load as Fetch&amp;Add(V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&amp;Add/Store -- If Fetch&amp;Add(V,e) meets Store(V,f) send Store(V,e+f) to memory; when ACK is received, return f as value of F&amp;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 -- it is possible to combine all requests to the same memory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ill It Work?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Problem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routing is driven entirely by performance, so a complicated switch is usually a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 typically forward non-blocked packets in &lt;= 3 t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to recognize that two requests collide is an “add”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ing is an “add” oper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previous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ing relies on the requests getting to the switch simultaneously, or at worst, before the forwarded packet leaves … this is improb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traffic is non-combinable -- head for different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bining router was created by Susan Dic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 Backup Strateg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network switch is too slow the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ombine at every stage … so that some stages can be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wo networks, one fast and one that does combining -- it can handle the sharing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only like requests, e.g. loads/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combining at a node to two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t hap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like requests have ever been implemented in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used the two network solution in the RP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ore Globall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on and Pfister discovered in simulation for the RP3 computer that t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etwork develops hot-sp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thought that combining would remove the hot-spots … it seemed to for 64-way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lem is that once a node becomes hot, a “back-up” tree forms “behind” the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505320" y="4038480"/>
            <a:ext cx="137160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rot="5400000">
            <a:off x="3390480" y="4457520"/>
            <a:ext cx="1371600" cy="1143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648320" y="49528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876920" y="4114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876920" y="4267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87692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76920" y="4572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876920" y="4724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8769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876920" y="5181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876920" y="5334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876920" y="5486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8769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876920" y="5791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876920" y="5943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87692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876920" y="6248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876920" y="6400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3526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352680" y="4267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352680" y="4419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352680" y="4572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352680" y="4724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3526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3526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352680" y="5181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52680" y="5334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352680" y="5486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352680" y="5638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352680" y="5791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52680" y="5943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352680" y="6095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352680" y="6248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352680" y="6400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ore Globall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ee, Kruskal and Kuck showed by simulation and also proved it won’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KK discovered and named the “back-up tre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ed in simulation that the 64-way network is a lucky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ing doesn’t help because it is the other traffic that is really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rcRect l="32814" t="41325" r="31253" b="20835"/>
          <a:stretch/>
        </p:blipFill>
        <p:spPr>
          <a:xfrm>
            <a:off x="2514600" y="3548160"/>
            <a:ext cx="4191120" cy="33098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6858000" y="4495680"/>
            <a:ext cx="20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25% traffic directed at a hot sp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63244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ssessmen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a good idea but it didn’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good and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&amp;Add is clever -- a primitive with good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ing from protecting data to allocating work is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tion at memory is powerful, worth d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pelined multistage networks probably just don’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 in a switch is wrong -- speed is 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ed to exploit locality -- caching essentially im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447920" y="5867280"/>
            <a:ext cx="6476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an other designs include the good ide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introduced the concept of the Fetch&amp;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ed how F&amp;A can be used to implement many basic parallel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ed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and interface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combining at switches w/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ing may fix hotspots, but its slow performance can slow down other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wo procedures --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t_Task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_Task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in any language, e.g. C, and using Fetch&amp;Add for synchronization as fol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D[1..n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ToDo array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=c*Processo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o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or first free, pointing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first fre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or next available, pointing to next task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t_Task(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kes a task as input, and places it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_Task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turns the next task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here is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nagement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mpletely decentr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990720" y="6095880"/>
            <a:ext cx="7238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ubmit solution by email to Adam prior to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emory Sharing on a CTA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many processors referencing a single memory image, the probability that a given reference is nonlocal is (P-1)/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by the CTA nearly all memory references will tak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 implying that each processor can do littl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“sea” of small processors that can be used “inefficient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many threads for processors to switch am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way to greatly redu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processors from vN to something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a” of Processor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 of zillions of simple processors derives from early theory on cellular automata and neural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 Batcher built MASPAR ca. 19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ny Hillis built CM-1 and CM-2 ca. 85-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s must be SIMD (single instruction, multiple data) because they are too simple to be full vN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rocessors doing the same thing at the same time is too cons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iding Latenc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ide memory reference latency 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CTA model) requires that there be many more threads (work) than there are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hread is a sequence of instructions operating on a small quantity of data -- for example, a loop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 is that a processor with many threads to execute, can switch to execute another thread when it is stalled waiting for a memory reference, getting productive work done during the wai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 can be used in either a programming model or hardware imple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atency Hiding In Programming Mod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k-synchronous programming (BSP) is a solution by Vali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 execute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erste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reads execute 3-address code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=b op c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Load]  Fetch operands from memory for many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Compute]  For all threads having available operands compu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=b op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Store] Return the result to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many threads, there is compute work enough to hide the data transmiss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5791320"/>
            <a:ext cx="6781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ach thread may not execute on each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SP Skews A Synchronous Step in Tim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series of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ough operands must be shipped on step n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ough threads at computation step n to cover the latency of the store of n-1 and the fetch of n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438280" y="2286000"/>
            <a:ext cx="1676520" cy="533520"/>
          </a:xfrm>
          <a:prstGeom prst="parallelogram">
            <a:avLst>
              <a:gd name="adj" fmla="val 7855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3080" y="23623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: 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143000" y="2286000"/>
            <a:ext cx="1676520" cy="533520"/>
          </a:xfrm>
          <a:prstGeom prst="parallelogram">
            <a:avLst>
              <a:gd name="adj" fmla="val 7855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7800" y="23623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: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33920" y="2286000"/>
            <a:ext cx="1676160" cy="533520"/>
          </a:xfrm>
          <a:prstGeom prst="parallelogram">
            <a:avLst>
              <a:gd name="adj" fmla="val 7854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8360" y="23623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: n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733920" y="2895480"/>
            <a:ext cx="1676160" cy="533520"/>
          </a:xfrm>
          <a:prstGeom prst="parallelogram">
            <a:avLst>
              <a:gd name="adj" fmla="val 7854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8360" y="29718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: 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38280" y="2895480"/>
            <a:ext cx="1676520" cy="533520"/>
          </a:xfrm>
          <a:prstGeom prst="parallelogram">
            <a:avLst>
              <a:gd name="adj" fmla="val 7855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3080" y="29718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: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029200" y="2895480"/>
            <a:ext cx="1676520" cy="533520"/>
          </a:xfrm>
          <a:prstGeom prst="parallelogram">
            <a:avLst>
              <a:gd name="adj" fmla="val 7855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3640" y="29718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: n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029200" y="3504600"/>
            <a:ext cx="1676520" cy="533160"/>
          </a:xfrm>
          <a:prstGeom prst="parallelogram">
            <a:avLst>
              <a:gd name="adj" fmla="val 7861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3280" y="358128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33920" y="3504600"/>
            <a:ext cx="1676160" cy="533160"/>
          </a:xfrm>
          <a:prstGeom prst="parallelogram">
            <a:avLst>
              <a:gd name="adj" fmla="val 7859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7640" y="3581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24480" y="3504600"/>
            <a:ext cx="1676520" cy="533160"/>
          </a:xfrm>
          <a:prstGeom prst="parallelogram">
            <a:avLst>
              <a:gd name="adj" fmla="val 7861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8560" y="358128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438280" y="3504600"/>
            <a:ext cx="1676520" cy="533160"/>
          </a:xfrm>
          <a:prstGeom prst="parallelogram">
            <a:avLst>
              <a:gd name="adj" fmla="val 786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2720" y="358128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143000" y="3504600"/>
            <a:ext cx="1676520" cy="533160"/>
          </a:xfrm>
          <a:prstGeom prst="parallelogram">
            <a:avLst>
              <a:gd name="adj" fmla="val 7861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7080" y="358128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143000" y="2895480"/>
            <a:ext cx="1676520" cy="533520"/>
          </a:xfrm>
          <a:prstGeom prst="parallelogram">
            <a:avLst>
              <a:gd name="adj" fmla="val 7855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7800" y="29718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: n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6095880"/>
            <a:ext cx="6019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otice that the strategy ignores lo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1676520"/>
            <a:ext cx="32004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 parallelogram represents many threads at the same step &amp;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any Threads = More Parallelis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nabled-threads are numerous, the processors keep busy; “compute boun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parallelism exists than can be used by 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subsystem operates “below saturation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666880" y="3429000"/>
            <a:ext cx="1676520" cy="533520"/>
          </a:xfrm>
          <a:prstGeom prst="parallelogram">
            <a:avLst>
              <a:gd name="adj" fmla="val 7855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21680" y="35053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: 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066680" y="3429000"/>
            <a:ext cx="1676520" cy="533520"/>
          </a:xfrm>
          <a:prstGeom prst="parallelogram">
            <a:avLst>
              <a:gd name="adj" fmla="val 7855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21840" y="35053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: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267080" y="3429000"/>
            <a:ext cx="1676520" cy="533520"/>
          </a:xfrm>
          <a:prstGeom prst="parallelogram">
            <a:avLst>
              <a:gd name="adj" fmla="val 7855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1880" y="35053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: n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267080" y="4038480"/>
            <a:ext cx="2057400" cy="533520"/>
          </a:xfrm>
          <a:prstGeom prst="parallelogram">
            <a:avLst>
              <a:gd name="adj" fmla="val 964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4160" y="41148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: 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867280" y="4647600"/>
            <a:ext cx="1676520" cy="533160"/>
          </a:xfrm>
          <a:prstGeom prst="parallelogram">
            <a:avLst>
              <a:gd name="adj" fmla="val 7861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21360" y="472428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267080" y="4647600"/>
            <a:ext cx="1676520" cy="533160"/>
          </a:xfrm>
          <a:prstGeom prst="parallelogram">
            <a:avLst>
              <a:gd name="adj" fmla="val 7861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21160" y="4724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666880" y="4647600"/>
            <a:ext cx="1676520" cy="533160"/>
          </a:xfrm>
          <a:prstGeom prst="parallelogram">
            <a:avLst>
              <a:gd name="adj" fmla="val 7861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1320" y="472428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066680" y="4647600"/>
            <a:ext cx="1676520" cy="533160"/>
          </a:xfrm>
          <a:prstGeom prst="parallelogram">
            <a:avLst>
              <a:gd name="adj" fmla="val 7861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21120" y="472428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066680" y="4038480"/>
            <a:ext cx="2057400" cy="533520"/>
          </a:xfrm>
          <a:prstGeom prst="parallelogram">
            <a:avLst>
              <a:gd name="adj" fmla="val 964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3760" y="41148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: n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666880" y="4038480"/>
            <a:ext cx="2057400" cy="533520"/>
          </a:xfrm>
          <a:prstGeom prst="parallelogram">
            <a:avLst>
              <a:gd name="adj" fmla="val 9640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3960" y="41148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: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867280" y="4038480"/>
            <a:ext cx="2057400" cy="533520"/>
          </a:xfrm>
          <a:prstGeom prst="parallelogram">
            <a:avLst>
              <a:gd name="adj" fmla="val 964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4360" y="41148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: 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5562720"/>
            <a:ext cx="7238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M is example: 2m values imply m</a:t>
            </a:r>
            <a:r>
              <a:rPr b="1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02:35:28Z</dcterms:created>
  <dc:creator>Snyder</dc:creator>
  <dc:description/>
  <dc:language>en-US</dc:language>
  <cp:lastModifiedBy>uw</cp:lastModifiedBy>
  <dcterms:modified xsi:type="dcterms:W3CDTF">2002-10-15T18:44:01Z</dcterms:modified>
  <cp:revision>96</cp:revision>
  <dc:subject/>
  <dc:title>Survey of Parallel Computation</dc:title>
</cp:coreProperties>
</file>