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EB2-1C69-41F1-B031-089B2EAC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D0C-5988-4B7E-AFC6-BA7BCE03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1CF-892B-4A9B-97F7-CC43C3F3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30D-16ED-44BA-8CCA-C0D9CA7F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443-E333-42E3-BDDC-16183512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D05-545E-4E7F-AD5D-603EF255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2FD-7F14-4863-8E48-3B10E930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3B0-B797-4907-B16D-149E92B2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4A5-91AF-4250-9DEC-59A9E26D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B2E-5185-4F0B-8966-8DEF2F36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8A8-1866-43C1-B69E-F340B2D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29D-FC12-4F2D-88D2-2FEFEAB6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46F4-BD8C-4AD5-9F3C-E634D639E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9640" y="1419120"/>
            <a:ext cx="7238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andling Memory Problem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ough the PRAM model does not suffice, memory sharing could be good given a realistic cost assess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challenge in shared memory is the delay, calle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tenc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between the time the memory is requested and the time at which the value is delivered.  It slows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95280"/>
            <a:ext cx="7772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oo Few Threads = Wait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enabled threads are too few to cover the latency, processors finish computing before next data ar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nough 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ubsystem may be less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43200" y="403848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8000" y="41148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447920" y="403848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2720" y="4114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38480" y="403848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3280" y="41148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038480" y="4647600"/>
            <a:ext cx="914400" cy="533160"/>
          </a:xfrm>
          <a:prstGeom prst="parallelogram">
            <a:avLst>
              <a:gd name="adj" fmla="val 428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472428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43200" y="4647600"/>
            <a:ext cx="914400" cy="533160"/>
          </a:xfrm>
          <a:prstGeom prst="parallelogram">
            <a:avLst>
              <a:gd name="adj" fmla="val 4287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9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34120" y="4647600"/>
            <a:ext cx="914400" cy="533160"/>
          </a:xfrm>
          <a:prstGeom prst="parallelogram">
            <a:avLst>
              <a:gd name="adj" fmla="val 428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520" y="472428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334120" y="525780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7840" y="53341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038480" y="525780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2560" y="53341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525780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7280" y="53341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447920" y="525780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2000" y="53341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47920" y="4647600"/>
            <a:ext cx="914400" cy="533160"/>
          </a:xfrm>
          <a:prstGeom prst="parallelogram">
            <a:avLst>
              <a:gd name="adj" fmla="val 428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4640" y="4724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7339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02884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3792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5943600"/>
            <a:ext cx="7772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oretically, P log P threads are needed,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rallel Slacknes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ant called the amount of “excess” parallelism needed to cover latenc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allel sla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“best case” a parallel slackness of logP is required because in the best case latency will be proportional to lo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additional delays require further sla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roblems With BSP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threads are often very numerous, it is difficult always to have P log P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twork needs to ha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igh 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xplained in later lecture, but meaning O(n) bisection bandwid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etwork conges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magnified when operating at pea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emory conten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s that a value  be fetched from each processor’s memory at each cycle …what happens when multiple values are in the same memory un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implications of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ow mem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ast process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ducing </a:t>
            </a: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s good engineering and some cleve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U’s Ultracomputer Group tried both using 2-3 very slick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they were ultimately unsuccessful, the approach stands as a fair test of a true shared memory paralle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5257800"/>
            <a:ext cx="7696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J.T. Schwartz,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Ultracomputers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, ACM Transactions on Programming Languages and Systems 2(4):484-521,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istorical caution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 Schwartz wrote a paper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ltracomp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he ob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parallel computer would be a PRAM (he called it a paracomputer), but it can’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istic alterative would be an “ultracomputer” which was a specific (CTA-type architecture) using a shuffle-ex network, vN processo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n Gottlieb started a project to build an ultracomputer, but after getting started, i.e. after the computer was already named, decided they’d build a para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5257800"/>
            <a:ext cx="624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lthough the original ultracomputer doesn’t have a shared memory the machine that was built did … conf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n Alternate Concurrency Primitiv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using the Test&amp;Set to guard shared data, use Fetch&amp;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 is an atomic read-modify-write operation on memory -- requires special hardware, to be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etch&amp;Add as a semaphore and as a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:  Fetch&amp;Add(V,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is a memory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is an integer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of V are retu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of V is V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is a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886200"/>
            <a:ext cx="274320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etch&amp;Add(V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0 is retu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urrent Fetch&amp;Add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ultiple Fetch&amp;Adds are executed simultaneously, they are serial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 Fetch&amp;Add(V, e1) and Fetch&amp;Add(V, e2) are execute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an initial value of 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value is e0+e1+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st process receives either e0 or e0+e2, implying it was first (e0) or second (e0+e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nd process receives either e0 or e0+e1, implying it was second (e0+e1) or first (e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5638680"/>
            <a:ext cx="6858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uppose both execute Fetch&amp;Add(I,1), then one gets I back, the other I+1, and final is I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etch&amp;Add on Work Lis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D[1..n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 Todo list of Tas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index of the first unassigned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exe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(Next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an index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de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, wrap around =&gt; Fetch&amp;Add(Next,-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5257800"/>
            <a:ext cx="716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uch automatic scheduling can be useful for rows of an array or other ordered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Generalizing Fetch&amp;Ad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ch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,e) is a generalization for arbitrary binary, associative oper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b) = a+b to define Fetch&amp;Add(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ssociative, the final value is independent of the serializi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&amp;Set(V) is just Fetch&amp;Or(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nd Store us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b)=a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b)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 R &lt;-- Fetch&amp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,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 * &lt;--  Fetch&amp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0240" y="617220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* means value doesn’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to think about at the break … are test&amp;set and fetch&amp;add equival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clusion from Last Wee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idea of a parallel machine will be defined by the C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evant propertie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von Neumann processors operating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by an unspecified, but sparse network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reference is either local, requiring unit time, or nonlocal requir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1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etch&amp;Add vs. Test&amp;Se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K concurrent processes using Fetch&amp;Add(I,1) and Test&amp;Set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tch&amp;Add distinguishes among and orders the competing processes, assigning each one a uniqu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for allocating work and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&amp;Set returns the FALSE to at most one of the processes, and so divides the set of competing processes into two groups, the winner and K-1 ot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for mutual ex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6019920"/>
            <a:ext cx="4419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&amp;S is a potential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etch&amp;Add Exploits Sharing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earlier solutions attempt to reduce sharing to reduce the amount of invalidation and acknowledgment, Fetch&amp;Add does better with greater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is used to schedule or allocate, which is then independen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is concentrated in a few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 grain size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load/store, Test&amp;Set, etc. are implementable, it is a sufficient primit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mplementing Fetch&amp;Ad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ch&amp;Add assumes a flat shared memory as implemented by a “dance hall archite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066680" y="2819520"/>
            <a:ext cx="762120" cy="1295280"/>
            <a:chOff x="1066680" y="2819520"/>
            <a:chExt cx="762120" cy="1295280"/>
          </a:xfrm>
        </p:grpSpPr>
        <p:sp>
          <p:nvSpPr>
            <p:cNvPr id="182" name=""/>
            <p:cNvSpPr/>
            <p:nvPr/>
          </p:nvSpPr>
          <p:spPr>
            <a:xfrm>
              <a:off x="144792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668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905120" y="2819520"/>
            <a:ext cx="761760" cy="1295280"/>
            <a:chOff x="1905120" y="2819520"/>
            <a:chExt cx="761760" cy="1295280"/>
          </a:xfrm>
        </p:grpSpPr>
        <p:sp>
          <p:nvSpPr>
            <p:cNvPr id="186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5120" y="2819520"/>
              <a:ext cx="76176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3505320"/>
              <a:ext cx="68544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2819520"/>
            <a:ext cx="762120" cy="1295280"/>
            <a:chOff x="2743200" y="2819520"/>
            <a:chExt cx="762120" cy="1295280"/>
          </a:xfrm>
        </p:grpSpPr>
        <p:sp>
          <p:nvSpPr>
            <p:cNvPr id="190" name=""/>
            <p:cNvSpPr/>
            <p:nvPr/>
          </p:nvSpPr>
          <p:spPr>
            <a:xfrm>
              <a:off x="312444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4320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320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95880" y="2819520"/>
            <a:ext cx="762120" cy="1295280"/>
            <a:chOff x="6095880" y="2819520"/>
            <a:chExt cx="762120" cy="1295280"/>
          </a:xfrm>
        </p:grpSpPr>
        <p:sp>
          <p:nvSpPr>
            <p:cNvPr id="194" name=""/>
            <p:cNvSpPr/>
            <p:nvPr/>
          </p:nvSpPr>
          <p:spPr>
            <a:xfrm>
              <a:off x="647712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588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934320" y="2819520"/>
            <a:ext cx="761760" cy="1295280"/>
            <a:chOff x="6934320" y="2819520"/>
            <a:chExt cx="761760" cy="1295280"/>
          </a:xfrm>
        </p:grpSpPr>
        <p:sp>
          <p:nvSpPr>
            <p:cNvPr id="198" name=""/>
            <p:cNvSpPr/>
            <p:nvPr/>
          </p:nvSpPr>
          <p:spPr>
            <a:xfrm>
              <a:off x="731520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2819520"/>
              <a:ext cx="76176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3505320"/>
              <a:ext cx="68544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581280" y="2819520"/>
            <a:ext cx="762120" cy="1295280"/>
            <a:chOff x="3581280" y="2819520"/>
            <a:chExt cx="762120" cy="1295280"/>
          </a:xfrm>
        </p:grpSpPr>
        <p:sp>
          <p:nvSpPr>
            <p:cNvPr id="202" name=""/>
            <p:cNvSpPr/>
            <p:nvPr/>
          </p:nvSpPr>
          <p:spPr>
            <a:xfrm>
              <a:off x="396252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28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419720" y="2819520"/>
            <a:ext cx="761760" cy="1295280"/>
            <a:chOff x="4419720" y="2819520"/>
            <a:chExt cx="761760" cy="1295280"/>
          </a:xfrm>
        </p:grpSpPr>
        <p:sp>
          <p:nvSpPr>
            <p:cNvPr id="206" name=""/>
            <p:cNvSpPr/>
            <p:nvPr/>
          </p:nvSpPr>
          <p:spPr>
            <a:xfrm>
              <a:off x="480060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19720" y="2819520"/>
              <a:ext cx="76176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19720" y="3505320"/>
              <a:ext cx="68544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257800" y="2819520"/>
            <a:ext cx="762120" cy="1295280"/>
            <a:chOff x="5257800" y="2819520"/>
            <a:chExt cx="762120" cy="1295280"/>
          </a:xfrm>
        </p:grpSpPr>
        <p:sp>
          <p:nvSpPr>
            <p:cNvPr id="210" name=""/>
            <p:cNvSpPr/>
            <p:nvPr/>
          </p:nvSpPr>
          <p:spPr>
            <a:xfrm>
              <a:off x="5639040" y="3352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2819520"/>
              <a:ext cx="762120" cy="53316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57800" y="3505320"/>
              <a:ext cx="685800" cy="380880"/>
            </a:xfrm>
            <a:prstGeom prst="rect">
              <a:avLst/>
            </a:prstGeom>
            <a:solidFill>
              <a:srgbClr val="ff9f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066680" y="4038480"/>
            <a:ext cx="67057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66680" y="5410080"/>
            <a:ext cx="762120" cy="1066680"/>
            <a:chOff x="1066680" y="5410080"/>
            <a:chExt cx="762120" cy="1066680"/>
          </a:xfrm>
        </p:grpSpPr>
        <p:sp>
          <p:nvSpPr>
            <p:cNvPr id="215" name=""/>
            <p:cNvSpPr/>
            <p:nvPr/>
          </p:nvSpPr>
          <p:spPr>
            <a:xfrm>
              <a:off x="144756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6668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905120" y="5410080"/>
            <a:ext cx="761760" cy="1066680"/>
            <a:chOff x="1905120" y="5410080"/>
            <a:chExt cx="761760" cy="1066680"/>
          </a:xfrm>
        </p:grpSpPr>
        <p:sp>
          <p:nvSpPr>
            <p:cNvPr id="219" name=""/>
            <p:cNvSpPr/>
            <p:nvPr/>
          </p:nvSpPr>
          <p:spPr>
            <a:xfrm>
              <a:off x="228564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5943600"/>
              <a:ext cx="76176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5120" y="5486400"/>
              <a:ext cx="68544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743200" y="5410080"/>
            <a:ext cx="762120" cy="1066680"/>
            <a:chOff x="2743200" y="5410080"/>
            <a:chExt cx="762120" cy="1066680"/>
          </a:xfrm>
        </p:grpSpPr>
        <p:sp>
          <p:nvSpPr>
            <p:cNvPr id="223" name=""/>
            <p:cNvSpPr/>
            <p:nvPr/>
          </p:nvSpPr>
          <p:spPr>
            <a:xfrm>
              <a:off x="312408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320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320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581280" y="5410080"/>
            <a:ext cx="762120" cy="1066680"/>
            <a:chOff x="3581280" y="5410080"/>
            <a:chExt cx="762120" cy="1066680"/>
          </a:xfrm>
        </p:grpSpPr>
        <p:sp>
          <p:nvSpPr>
            <p:cNvPr id="227" name=""/>
            <p:cNvSpPr/>
            <p:nvPr/>
          </p:nvSpPr>
          <p:spPr>
            <a:xfrm>
              <a:off x="396216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128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8128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419720" y="5410080"/>
            <a:ext cx="761760" cy="1066680"/>
            <a:chOff x="4419720" y="5410080"/>
            <a:chExt cx="761760" cy="1066680"/>
          </a:xfrm>
        </p:grpSpPr>
        <p:sp>
          <p:nvSpPr>
            <p:cNvPr id="231" name=""/>
            <p:cNvSpPr/>
            <p:nvPr/>
          </p:nvSpPr>
          <p:spPr>
            <a:xfrm>
              <a:off x="480024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19720" y="5943600"/>
              <a:ext cx="76176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19720" y="5486400"/>
              <a:ext cx="68544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95880" y="5410080"/>
            <a:ext cx="762120" cy="1066680"/>
            <a:chOff x="6095880" y="5410080"/>
            <a:chExt cx="762120" cy="1066680"/>
          </a:xfrm>
        </p:grpSpPr>
        <p:sp>
          <p:nvSpPr>
            <p:cNvPr id="235" name=""/>
            <p:cNvSpPr/>
            <p:nvPr/>
          </p:nvSpPr>
          <p:spPr>
            <a:xfrm>
              <a:off x="647676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588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257800" y="5410080"/>
            <a:ext cx="762120" cy="1066680"/>
            <a:chOff x="5257800" y="5410080"/>
            <a:chExt cx="762120" cy="1066680"/>
          </a:xfrm>
        </p:grpSpPr>
        <p:sp>
          <p:nvSpPr>
            <p:cNvPr id="239" name=""/>
            <p:cNvSpPr/>
            <p:nvPr/>
          </p:nvSpPr>
          <p:spPr>
            <a:xfrm>
              <a:off x="563868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7800" y="5943600"/>
              <a:ext cx="76212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57800" y="5486400"/>
              <a:ext cx="68580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934320" y="5410080"/>
            <a:ext cx="761760" cy="1066680"/>
            <a:chOff x="6934320" y="5410080"/>
            <a:chExt cx="761760" cy="1066680"/>
          </a:xfrm>
        </p:grpSpPr>
        <p:sp>
          <p:nvSpPr>
            <p:cNvPr id="243" name=""/>
            <p:cNvSpPr/>
            <p:nvPr/>
          </p:nvSpPr>
          <p:spPr>
            <a:xfrm>
              <a:off x="7314840" y="5410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34320" y="5943600"/>
              <a:ext cx="761760" cy="533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4320" y="5486400"/>
              <a:ext cx="685440" cy="3808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mega Networ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connection network is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00200" y="2209680"/>
            <a:ext cx="6172200" cy="3200400"/>
            <a:chOff x="1600200" y="2209680"/>
            <a:chExt cx="6172200" cy="3200400"/>
          </a:xfrm>
        </p:grpSpPr>
        <p:sp>
          <p:nvSpPr>
            <p:cNvPr id="249" name=""/>
            <p:cNvSpPr/>
            <p:nvPr/>
          </p:nvSpPr>
          <p:spPr>
            <a:xfrm>
              <a:off x="25146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2856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2856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9714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9714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2856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285640" y="32004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971440" y="32004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9714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146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2856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2856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9714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9714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146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2856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2856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9714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9714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148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85840" y="27432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8858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5716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571640" y="27432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8858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8858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716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5716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48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8858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8858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5716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5716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148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8858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8858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5716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5716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00400" y="2361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0400" y="274320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200400" y="2743200"/>
              <a:ext cx="6858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0400" y="358128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200400" y="320040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44193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200400" y="358128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040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4860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4860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1718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1718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150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4860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4860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1718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1718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50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4860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486040" y="403848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1718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171840" y="44193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150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4860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4860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61718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1718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0600" y="2361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0600" y="2743200"/>
              <a:ext cx="685800" cy="12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800600" y="27432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00600" y="358128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800600" y="320040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44193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800600" y="358128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0060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00800" y="23619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00800" y="274320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400800" y="27432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00800" y="358128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6400800" y="320040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00800" y="4419360"/>
              <a:ext cx="6858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400800" y="358128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0080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002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02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057040" y="32004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002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20570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570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002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057040" y="4876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0570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15200" y="22096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08624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086240" y="2361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5200" y="304776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708624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08624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086240" y="4419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08624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1520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08624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086240" y="48765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676520" y="5638680"/>
            <a:ext cx="57909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onnection between 2 and 6 … follow bits to destination lsb to m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96480" y="3638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rocessor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7104600" y="371484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i Memory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Notice Detail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etwork requires O(P log P)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ven network uses 2x2 bu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is consistent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447920" y="3048120"/>
            <a:ext cx="6172200" cy="3200400"/>
            <a:chOff x="1447920" y="3048120"/>
            <a:chExt cx="6172200" cy="3200400"/>
          </a:xfrm>
        </p:grpSpPr>
        <p:sp>
          <p:nvSpPr>
            <p:cNvPr id="363" name=""/>
            <p:cNvSpPr/>
            <p:nvPr/>
          </p:nvSpPr>
          <p:spPr>
            <a:xfrm>
              <a:off x="23623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1333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1333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8191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8191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623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1333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13336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1916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8191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623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1333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1333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8191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8191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623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1333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1333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8191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8191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625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733560" y="358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7335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4193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419360" y="358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625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7335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7335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4193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4193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625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7335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7335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4193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44193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7335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7335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4193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4193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812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8120" y="3581280"/>
              <a:ext cx="6858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48120" y="358128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48120" y="441972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048120" y="4038120"/>
              <a:ext cx="685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8120" y="5257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048120" y="44197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48120" y="6095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627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3337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3337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0195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0195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627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3337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3337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0195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0195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3337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333760" y="48769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0195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019560" y="5257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627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3337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3337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0195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195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4832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48320" y="3581280"/>
              <a:ext cx="68580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48320" y="35812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441972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648320" y="4038120"/>
              <a:ext cx="685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48320" y="5257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648320" y="44197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48320" y="6095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4852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48520" y="3581280"/>
              <a:ext cx="6858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248520" y="35812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48520" y="4419720"/>
              <a:ext cx="685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248520" y="4038120"/>
              <a:ext cx="685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48520" y="525780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248520" y="4419720"/>
              <a:ext cx="685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8520" y="6095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479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19047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047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479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904760" y="4038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9047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79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9047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9047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479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90476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9047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62920" y="304812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93396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93396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62920" y="388620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933960" y="441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93396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62920" y="472428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933960" y="5257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933960" y="4876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62920" y="5562720"/>
              <a:ext cx="457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933960" y="6095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933960" y="5715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114800" y="6248520"/>
            <a:ext cx="4191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ng Wires Are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uting In </a:t>
            </a:r>
            <a:r>
              <a:rPr b="0" lang="en-US" sz="3200" spc="-1" strike="noStrike">
                <a:solidFill>
                  <a:srgbClr val="cc33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-Networ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is pipel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unique path between any processor and memory port 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 are possible because there exist permutations in which packets col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when two packets collide at a ro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is delayed, leaving its “f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ing is affected, here comes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86600" y="4800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857640" y="5334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857640" y="4952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543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543440" y="5334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86600" y="4952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866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71600" y="6019920"/>
            <a:ext cx="6172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e separate packets must be ser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wo Processors Make Fetch&amp;Add(V,1)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requests collide i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2860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66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666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3523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3523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31240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5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666520" y="3276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3352320" y="3276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352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95480" y="3962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6665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65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352320" y="4114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352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95480" y="4800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666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6665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352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3523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95680" y="22860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266720" y="28195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266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9525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952520" y="28195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31240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2667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4266720" y="3276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9525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952520" y="36576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3962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6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266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9525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9525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95680" y="4800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266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525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52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12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81280" y="28195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581280" y="281952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581280" y="3276720"/>
            <a:ext cx="6858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8128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581280" y="36576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8128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22860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866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866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552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5527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5880" y="31240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58669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58669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5527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65527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3962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58669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866920" y="4114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552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552720" y="4495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5880" y="4800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8669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866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55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552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81480" y="28195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1814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3657600"/>
            <a:ext cx="6858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181480" y="32767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8148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181480" y="36576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8148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816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1680" y="28195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81680" y="2819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781680" y="32767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449568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781680" y="365760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8168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81080" y="22860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437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2437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981080" y="31240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437920" y="3276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4379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81080" y="39625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379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437920" y="4495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81080" y="48006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37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4379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696080" y="22860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4671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4671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31240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4671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4671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96080" y="39625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4671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74671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96080" y="48006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4671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46712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280" y="304812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2280" y="43434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31400" y="472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6019920"/>
            <a:ext cx="6705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etch&amp;Add increases potential for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86600" y="2057400"/>
            <a:ext cx="152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Hot s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553080" y="2438280"/>
            <a:ext cx="60984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 Bright Idea: Combine Request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Combine requests for same dest. In the limit all nodes could be referencing same l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2819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057040" y="3352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057040" y="29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742840" y="29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86000" y="3657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057040" y="41911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057040" y="3809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3809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7428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44956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05704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057040" y="4648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42840" y="4648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74284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53341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057040" y="58672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057040" y="5486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742840" y="5486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7428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86200" y="2819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3657240" y="3352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657240" y="29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34304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343040" y="3352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86200" y="3657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657240" y="41911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657240" y="3809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43430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343040" y="41911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886200" y="44956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65724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65724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434304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34304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53341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36572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6572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3430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3430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29718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971800" y="33526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971800" y="3352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1800" y="41911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971800" y="3809520"/>
            <a:ext cx="68580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71800" y="419112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86400" y="28195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5744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525744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94324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94324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86400" y="365760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52574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2574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9432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9432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86400" y="44956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525744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257440" y="4648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94324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94324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86400" y="53341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2574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9432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9432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3352680"/>
            <a:ext cx="68580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57200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4191120"/>
            <a:ext cx="6858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4572000" y="38095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572000" y="41911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72200" y="33526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172200" y="3352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72200" y="41911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172200" y="380952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72200" y="502920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172200" y="4191120"/>
            <a:ext cx="6858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17220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371600" y="28195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828440" y="29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828440" y="33526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71600" y="36576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1828440" y="38098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828440" y="41911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71600" y="4495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828440" y="4648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828440" y="50292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71600" y="53341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828440" y="5486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828440" y="58672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86600" y="28195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85764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85764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86600" y="365760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85764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85764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86600" y="4495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85764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85764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86600" y="533412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85764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6857640" y="5486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920" y="5257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bining Loads and Store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switch combine loads and stores to a common location as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/Load -- forward one of the loads towards the memory, and when the value is returned, satisfy bo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/Store -- forward the store, and when the ACK arrives back at the switch, return value to satisfy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/Store -- forward one of the stores, and when the ACK arrives back at the switch, return it for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s are restricted to having only one outstanding request at a time to a given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 flipV="1">
            <a:off x="6934320" y="2666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7543800" y="2666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934320" y="3505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7543800" y="3505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mplementing Fetch&amp;Add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adder with the Memory Network Interface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etch&amp;Add(V,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 the value of V, say 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e0 to processor reque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e0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e0+e back into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bably necessary to do these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629400" y="297180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3809880"/>
            <a:ext cx="7617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15200" y="3809880"/>
            <a:ext cx="762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haring ..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aspects to shar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ue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red 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very processor can reference every memory location of a “single coherent memory,” i.e every processor sees the sam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red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e means every processor can reference every memory location in the machine but the memory is not kept coh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4680" y="4952880"/>
            <a:ext cx="63133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problem: Suppose in tim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cessor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ads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location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cessor B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writes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location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cessors A and C use 1000 in later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n A, C use values are they the same or differ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bining Fetch&amp;Adds at Switch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etch&amp;Add(V,e) and Fetch&amp;Add(V,f) arrive at a switch togethe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sum f+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Fetch&amp;Add(V,f+e) on to th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0 is returned by th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g0 as response to Fetch&amp;Add(V,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g0+e as response to Fetch&amp;Add(V,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057400" y="5105520"/>
            <a:ext cx="5486400" cy="1389600"/>
            <a:chOff x="2057400" y="5105520"/>
            <a:chExt cx="5486400" cy="1389600"/>
          </a:xfrm>
        </p:grpSpPr>
        <p:sp>
          <p:nvSpPr>
            <p:cNvPr id="723" name=""/>
            <p:cNvSpPr/>
            <p:nvPr/>
          </p:nvSpPr>
          <p:spPr>
            <a:xfrm>
              <a:off x="4114800" y="5334120"/>
              <a:ext cx="121896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33760" y="541044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38680" y="5105520"/>
              <a:ext cx="144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&amp;E(V,e+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39760" y="533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62560" y="5257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162200" y="55627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61960" y="61722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668320" y="5867640"/>
              <a:ext cx="11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&amp;E(V,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66880" y="6096240"/>
              <a:ext cx="7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0+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61960" y="5562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67960" y="525780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&amp;E(V,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67960" y="5486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57400" y="5410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0574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57400" y="6019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057400" y="6324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mbine Fetch&amp;Add with other request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can apply to all memory traffic to a location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/Fetch&amp;Add -- as just descri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/Load -- Treat Load as Fetch&amp;Add(V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/Store -- If Fetch&amp;Add(V,e) meets Store(V,f) send Store(V,e+f) to memory; when ACK is received, return f as value of F&amp;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-- it is possible to combine all requests to the same memor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ill It Work?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Problem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routing is driven entirely by performance, so a complicated switch is usually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typically forward non-blocked packets in &lt;= 3 t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to recognize that two requests collide is an “add”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is an “add” oper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evious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ing relies on the requests getting to the switch simultaneously, or at worst, before the forwarded packet leaves … this is improb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traffic is non-combinable -- head for different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bining router was created by Susan Dic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 Backup Strateg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etwork switch is too slow the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mbine at every stage … so that some stages can be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wo networks, one fast and one that does combining -- it can handle the sharing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nly like requests, e.g. loads/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combining at a node to two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like requests have ever been implemented in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used the two network solution in the R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Globall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on and Pfister discovered in simulation for the RP3 computer that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twork develops hot-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thought that combining would remove the hot-spots … it seemed to for 64-way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is that once a node becomes hot, a “back-up” tree forms “behind” th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4038480"/>
            <a:ext cx="137160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3390480" y="4457520"/>
            <a:ext cx="137160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48320" y="49528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7692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7692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7692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7692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769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87692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876920" y="5486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769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7692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7692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769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76920" y="6248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876920" y="6400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26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352680" y="4572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352680" y="4724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3526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526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352680" y="5181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526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352680" y="5486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352680" y="5638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5791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52680" y="5943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352680" y="6095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352680" y="6248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52680" y="6400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ore Globall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ee, Kruskal and Kuck showed by simulation and also proved it w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KK discovered and named the “back-up tre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ed in simulation that the 64-way network is a luck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doesn’t help because it is the other traffic that is really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rcRect l="32814" t="41325" r="31253" b="20835"/>
          <a:stretch/>
        </p:blipFill>
        <p:spPr>
          <a:xfrm>
            <a:off x="2514600" y="3548160"/>
            <a:ext cx="4191120" cy="33098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6858000" y="449568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25% traffic directed at a hot s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6324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ssess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a good idea but it didn’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good and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tch&amp;Add is clever -- a primitive with good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ing from protecting data to allocating work is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 at memory is powerful, worth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d multistage networks probably just don’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in a switch is wrong -- speed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to exploit locality -- caching essentially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5867280"/>
            <a:ext cx="647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an other designs include the good ide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introduced the concept of the Fetch&amp;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d how F&amp;A can be used to implement many basic paralle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nd interfac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combining at switches w/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may fix hotspots, but its slow performance can slow down other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wo procedures --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_Task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et_Task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in any language, e.g. C, and using Fetch&amp;Add for synchronization as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[1..n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ToDo array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=c*Processo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first free, pointing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irst fre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next available, pointing to next task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t_Task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s a task as input, and places it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_Task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urns the next task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re is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agement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mpletely de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990720" y="6095880"/>
            <a:ext cx="723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ubmit solution by email to Adam prior t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emory Sharing on a CTA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any processors referencing a single memory image, the probability that a given reference is nonlocal is (P-1)/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by the CTA nearly all memory references will tak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 implying that each processor can do littl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sea” of small processors that can be used “inefficient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many threads for processors to switch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a way to greatly redu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processors from vN to some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a” of Processors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zillions of simple processors derives from early theory on cellular automata and neural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 Batcher built MASPAR ca. 1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ny Hillis built CM-1 and CM-2 ca. 85-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s must be SIMD (single instruction, multiple data) because they are too simple to be full vN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cessors doing the same thing at the same time is too cons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iding Latency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ide memory reference latency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TA model) requires that there be many more threads (work) than there are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read is a sequence of instructions operating on a small quantity of data -- for example, a loop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 is that a processor with many threads to execute, can switch to execute another thread when it is stalled waiting for a memory reference, getting productive work done during the wai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can be used in either a programming model or hardware imple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tency Hiding In Programming Mod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k-synchronous programming (BSP) is a solution by Val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 execut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erste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reads execute 3-address code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=b op c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Load]  Fetch operands from memory for many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ompute]  For all threads having available operands comp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=b op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tore] Return the result to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any threads, there is compute work enough to hide the data transmis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5791320"/>
            <a:ext cx="6781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ach thread may not execute on each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SP Skews A Synchronous Step in Tim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eries of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ough operands must be shipped on step 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ough threads at computation step n to cover the latency of the store of n-1 and the fetch of n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228600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3080" y="2362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43000" y="228600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7800" y="23623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33920" y="228600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8360" y="2362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733920" y="2895480"/>
            <a:ext cx="1676160" cy="533520"/>
          </a:xfrm>
          <a:prstGeom prst="parallelogram">
            <a:avLst>
              <a:gd name="adj" fmla="val 7854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8360" y="2971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38280" y="289548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3080" y="29718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029200" y="289548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3640" y="2971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029200" y="3504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3280" y="35812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3504600"/>
            <a:ext cx="1676160" cy="533160"/>
          </a:xfrm>
          <a:prstGeom prst="parallelogram">
            <a:avLst>
              <a:gd name="adj" fmla="val 7859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7640" y="3581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24480" y="3504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8560" y="35812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38280" y="3504600"/>
            <a:ext cx="1676520" cy="533160"/>
          </a:xfrm>
          <a:prstGeom prst="parallelogram">
            <a:avLst>
              <a:gd name="adj" fmla="val 786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2720" y="35812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143000" y="3504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7080" y="35812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143000" y="289548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7800" y="2971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6095880"/>
            <a:ext cx="6019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otice that the strategy ignores lo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1676520"/>
            <a:ext cx="32004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 parallelogram represents many threads at the same step &amp;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any Threads = More Parallelism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nabled-threads are numerous, the processors keep busy; “compute bou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arallelism exists than can be used by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ubsystem operates “below saturatio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666880" y="3429000"/>
            <a:ext cx="1676520" cy="533520"/>
          </a:xfrm>
          <a:prstGeom prst="parallelogram">
            <a:avLst>
              <a:gd name="adj" fmla="val 7855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1680" y="3505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66680" y="342900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21840" y="35053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267080" y="3429000"/>
            <a:ext cx="1676520" cy="533520"/>
          </a:xfrm>
          <a:prstGeom prst="parallelogram">
            <a:avLst>
              <a:gd name="adj" fmla="val 7855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1880" y="35053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67080" y="4038480"/>
            <a:ext cx="2057400" cy="533520"/>
          </a:xfrm>
          <a:prstGeom prst="parallelogram">
            <a:avLst>
              <a:gd name="adj" fmla="val 964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4160" y="4114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867280" y="4647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21360" y="47242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267080" y="4647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1160" y="4724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66880" y="4647600"/>
            <a:ext cx="1676520" cy="533160"/>
          </a:xfrm>
          <a:prstGeom prst="parallelogram">
            <a:avLst>
              <a:gd name="adj" fmla="val 786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1320" y="47242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066680" y="4647600"/>
            <a:ext cx="1676520" cy="533160"/>
          </a:xfrm>
          <a:prstGeom prst="parallelogram">
            <a:avLst>
              <a:gd name="adj" fmla="val 786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21120" y="47242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: n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066680" y="4038480"/>
            <a:ext cx="2057400" cy="533520"/>
          </a:xfrm>
          <a:prstGeom prst="parallelogram">
            <a:avLst>
              <a:gd name="adj" fmla="val 964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3760" y="4114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666880" y="4038480"/>
            <a:ext cx="2057400" cy="533520"/>
          </a:xfrm>
          <a:prstGeom prst="parallelogram">
            <a:avLst>
              <a:gd name="adj" fmla="val 9640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3960" y="41148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867280" y="4038480"/>
            <a:ext cx="2057400" cy="533520"/>
          </a:xfrm>
          <a:prstGeom prst="parallelogram">
            <a:avLst>
              <a:gd name="adj" fmla="val 964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4360" y="41148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: 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562720"/>
            <a:ext cx="723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M is example: 2m values imply m</a:t>
            </a:r>
            <a:r>
              <a:rPr b="1" lang="en-US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2:35:28Z</dcterms:created>
  <dc:creator>Snyder</dc:creator>
  <dc:description/>
  <dc:language>en-US</dc:language>
  <cp:lastModifiedBy>uw</cp:lastModifiedBy>
  <dcterms:modified xsi:type="dcterms:W3CDTF">2002-10-15T18:44:01Z</dcterms:modified>
  <cp:revision>96</cp:revision>
  <dc:subject/>
  <dc:title>Survey of Parallel Computation</dc:title>
</cp:coreProperties>
</file>