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2D6-08E3-435E-87B1-3AD88156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DC7-81BA-42DE-A252-86878A2C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33B-74FE-43F7-8800-0B6DF4EE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803-4AEA-44B7-B85F-275EF4A6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6D5-A2EB-43BA-8857-77251517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AA8-833A-4CBF-BBB0-CFE2DC6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1D8-3759-4D41-9396-D74211D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F04-B649-453F-830F-3627FF9F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60E-48BA-461E-8372-50126EFA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7C3-2704-4453-A44B-138D80E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FC1-4B63-4392-8842-A7D5A92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519-D278-43BA-B365-FBEA41D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413-6443-4727-A837-9C7B43104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dels In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fficult to write programs without a good idea of how the target computer will execute the code. The most important information is knowing how expensive the operations are in terms of time, space, and communica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AM Often Proposed As A Candidat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M (Parallel RAM) ignores memory organization, collisions, latency, conflict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ing these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i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benefit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everywhere since it is very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simple programming model ignoring only insignificant details -- off by “only log 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memory difficulties is OK because hardware can “fake” a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PRAM then refine the program to a practical solution -- good for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Parallel Random-Access Machin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M has any number of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or references any memory in “time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ad and write collisions must be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00200" y="3505320"/>
            <a:ext cx="914400" cy="914400"/>
            <a:chOff x="1600200" y="3505320"/>
            <a:chExt cx="914400" cy="914400"/>
          </a:xfrm>
        </p:grpSpPr>
        <p:sp>
          <p:nvSpPr>
            <p:cNvPr id="77" name=""/>
            <p:cNvSpPr/>
            <p:nvPr/>
          </p:nvSpPr>
          <p:spPr>
            <a:xfrm>
              <a:off x="16765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02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480" y="3505320"/>
            <a:ext cx="914400" cy="914400"/>
            <a:chOff x="609480" y="3505320"/>
            <a:chExt cx="914400" cy="914400"/>
          </a:xfrm>
        </p:grpSpPr>
        <p:sp>
          <p:nvSpPr>
            <p:cNvPr id="80" name=""/>
            <p:cNvSpPr/>
            <p:nvPr/>
          </p:nvSpPr>
          <p:spPr>
            <a:xfrm>
              <a:off x="6858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4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581280" y="3505320"/>
            <a:ext cx="914400" cy="914400"/>
            <a:chOff x="3581280" y="3505320"/>
            <a:chExt cx="914400" cy="914400"/>
          </a:xfrm>
        </p:grpSpPr>
        <p:sp>
          <p:nvSpPr>
            <p:cNvPr id="83" name=""/>
            <p:cNvSpPr/>
            <p:nvPr/>
          </p:nvSpPr>
          <p:spPr>
            <a:xfrm>
              <a:off x="36576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3505320"/>
            <a:ext cx="914400" cy="914400"/>
            <a:chOff x="2590920" y="3505320"/>
            <a:chExt cx="914400" cy="914400"/>
          </a:xfrm>
        </p:grpSpPr>
        <p:sp>
          <p:nvSpPr>
            <p:cNvPr id="86" name=""/>
            <p:cNvSpPr/>
            <p:nvPr/>
          </p:nvSpPr>
          <p:spPr>
            <a:xfrm>
              <a:off x="26672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09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562720" y="3505320"/>
            <a:ext cx="914400" cy="914400"/>
            <a:chOff x="5562720" y="3505320"/>
            <a:chExt cx="914400" cy="914400"/>
          </a:xfrm>
        </p:grpSpPr>
        <p:sp>
          <p:nvSpPr>
            <p:cNvPr id="89" name=""/>
            <p:cNvSpPr/>
            <p:nvPr/>
          </p:nvSpPr>
          <p:spPr>
            <a:xfrm>
              <a:off x="56390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27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72000" y="3505320"/>
            <a:ext cx="914400" cy="914400"/>
            <a:chOff x="4572000" y="3505320"/>
            <a:chExt cx="914400" cy="914400"/>
          </a:xfrm>
        </p:grpSpPr>
        <p:sp>
          <p:nvSpPr>
            <p:cNvPr id="92" name=""/>
            <p:cNvSpPr/>
            <p:nvPr/>
          </p:nvSpPr>
          <p:spPr>
            <a:xfrm>
              <a:off x="46483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543800" y="3505320"/>
            <a:ext cx="914400" cy="914400"/>
            <a:chOff x="7543800" y="3505320"/>
            <a:chExt cx="914400" cy="914400"/>
          </a:xfrm>
        </p:grpSpPr>
        <p:sp>
          <p:nvSpPr>
            <p:cNvPr id="95" name=""/>
            <p:cNvSpPr/>
            <p:nvPr/>
          </p:nvSpPr>
          <p:spPr>
            <a:xfrm>
              <a:off x="76201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438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553080" y="3505320"/>
            <a:ext cx="914400" cy="914400"/>
            <a:chOff x="6553080" y="3505320"/>
            <a:chExt cx="914400" cy="914400"/>
          </a:xfrm>
        </p:grpSpPr>
        <p:sp>
          <p:nvSpPr>
            <p:cNvPr id="98" name=""/>
            <p:cNvSpPr/>
            <p:nvPr/>
          </p:nvSpPr>
          <p:spPr>
            <a:xfrm>
              <a:off x="66294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30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52480" y="5410080"/>
            <a:ext cx="56390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143000" y="4419360"/>
            <a:ext cx="31240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2057400" y="4419360"/>
            <a:ext cx="22096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048120" y="4419360"/>
            <a:ext cx="12189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038120" y="441936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41936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441936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67080" y="4419360"/>
            <a:ext cx="28195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4419360"/>
            <a:ext cx="3810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97180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828800" y="548604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00032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293364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4864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54864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095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62485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6095880"/>
            <a:ext cx="99072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5486400"/>
            <a:ext cx="152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486400"/>
            <a:ext cx="2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5486400"/>
            <a:ext cx="2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ariations on PRA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ng the memory conflicts considers read and write conflicts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 read/exclusive write (ER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limi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read/exclusive write (CR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ad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read/concurrent write (CRC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write-conflict resolution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t least dozen other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5943600"/>
            <a:ext cx="586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l theoretical -- not used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 Maximum with PRAM (Valiant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largest of n integers w/ n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CW PRAM (writes OK if sam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G.Valiant, “Parallelism in comparison problems,” SIAM J. Computing 4(3):348-355,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G. Valiant, “A Bridging Model for Parallel Computation,” CACM 33(8):103-111, 19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J. Anderson &amp; L. Snyder, “A Comparison of Shared and Nonshared Memory Models for Parallel Computation,”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c. IE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9(4):480-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gorithm Sket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 rounds of O(1) time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ound, process groups of m vals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m memory location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,j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a processor test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 else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it’s max of group; pas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next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943600"/>
            <a:ext cx="632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‘trick’ is to pick m right to minimiz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ing Max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1: m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2819520"/>
            <a:ext cx="838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819520"/>
            <a:ext cx="83808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200400"/>
            <a:ext cx="838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62320" y="2286000"/>
            <a:ext cx="3063240" cy="1765080"/>
            <a:chOff x="2362320" y="2286000"/>
            <a:chExt cx="3063240" cy="1765080"/>
          </a:xfrm>
        </p:grpSpPr>
        <p:sp>
          <p:nvSpPr>
            <p:cNvPr id="138" name=""/>
            <p:cNvSpPr/>
            <p:nvPr/>
          </p:nvSpPr>
          <p:spPr>
            <a:xfrm>
              <a:off x="2374560" y="2292480"/>
              <a:ext cx="30510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    -     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: 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-         -       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23920" y="229572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376000" y="2786040"/>
              <a:ext cx="30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71320" y="316224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362320" y="3543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400" y="2291040"/>
              <a:ext cx="0" cy="15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24120" y="2286000"/>
              <a:ext cx="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362320" y="5029200"/>
            <a:ext cx="30510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1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24280" y="404352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376000" y="431784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371320" y="4529160"/>
            <a:ext cx="3048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404172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24480" y="4038480"/>
            <a:ext cx="0" cy="87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600200"/>
            <a:ext cx="305136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   3      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029200"/>
            <a:ext cx="305100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0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3657600"/>
            <a:ext cx="2819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1240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3581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2286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038480"/>
            <a:ext cx="4800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or groups of size 3, three tests can find max, i.e. 3 proce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80600" y="2209680"/>
            <a:ext cx="144864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9000" y="1523880"/>
            <a:ext cx="8589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5880" y="5791320"/>
            <a:ext cx="10965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520" y="5486400"/>
            <a:ext cx="153540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ck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olving Whole Proble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1 uses P processors to find the max in groups of m=3 … producing P/3 group m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2 uses P processors to find the max in groups of m=7 … producing P/21 group m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to find the max of a group requires m(m-1)/2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ing m when there are P processors, r maxes … largest m s.t. (r/m)(m(m-1)/2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i.e. r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nding Max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, r = P, 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m = 3, producing r = P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P/3)(m-1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P implies next group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size increases quadratically implying the maximum is found in O(loglog n) steps on CRCW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6019920"/>
            <a:ext cx="6934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t’s very clever, but is it of any practical us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ing Valiant’s Max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AM model caused us to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the “free use” of read and write collisions, which are not possible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the costs of data motion, so we adopt an algorithm that ru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time required to bring all data values together, which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unning Valiant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M’s don’t exist and can’t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he algorithm we need a simulator for the CRCWP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simulate the concurrent reads and the concurrent writes, a parallel computer will ne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 P) time per step, though there are bandwidth requirements and serious engineering problems to attain that goal [details in future lectur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performance of Valiant’s M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n log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was used to illustrate different paralle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aximum parallel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(log 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PRA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ips x panels)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pel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ystolic)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VL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MMA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d many techniques, O(n) time,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cessors, scalable, Distributed Memo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est (practical) way of computing m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nament algorithm, a variation on global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P) time on P processors (as with sum, the problem size can be Plog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urnament algorithm doesn’t need to be simulated … it runs in the stated time directly on all existing parallel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(log n) &lt; O(log n loglog n) the PRAM model mispredicted the best practical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6095880"/>
            <a:ext cx="586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AM didn’t help, it hurt our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s The PRAM A Good Abstraction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pinion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for finding theoretical limits to parallelism</a:t>
            </a:r>
            <a:r>
              <a:rPr b="0" lang="en-US" sz="2800" spc="-1" strike="noStrike">
                <a:solidFill>
                  <a:srgbClr val="00ff00"/>
                </a:solidFill>
                <a:latin typeface="Wingdings 3"/>
                <a:ea typeface="Wingdings 3"/>
              </a:rPr>
              <a:t>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simple programming model ignoring only insignificant details -- off only by log P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ing memory difficulties is OK because hardware can “fake” a shared memory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PRAM then evolve to more realistic solution -- good for getting started </a:t>
            </a:r>
            <a:r>
              <a:rPr b="0" lang="en-US" sz="2800" spc="-1" strike="noStrike">
                <a:solidFill>
                  <a:srgbClr val="ff0000"/>
                </a:solidFill>
                <a:latin typeface="Wingdings 3"/>
                <a:ea typeface="Wingdings 3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to think abou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model of computation be ‘close to the machine’ so that the programs are efficient, or ‘far from the machine’ so the programs are machine independen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quirements Of A Practical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von Neuman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key features of HW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costs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ross phys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s simple as possible relative to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for parallel programme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computers have widely different architectures -- steady-state cost not esta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SW for Cray vector machines, poo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computers keep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del Must Be “Realizable”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should be no “mag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 processors connect to t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3505320"/>
            <a:ext cx="914400" cy="914400"/>
            <a:chOff x="1600200" y="3505320"/>
            <a:chExt cx="914400" cy="914400"/>
          </a:xfrm>
        </p:grpSpPr>
        <p:sp>
          <p:nvSpPr>
            <p:cNvPr id="186" name=""/>
            <p:cNvSpPr/>
            <p:nvPr/>
          </p:nvSpPr>
          <p:spPr>
            <a:xfrm>
              <a:off x="16765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2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3505320"/>
            <a:ext cx="914400" cy="914400"/>
            <a:chOff x="609480" y="3505320"/>
            <a:chExt cx="914400" cy="914400"/>
          </a:xfrm>
        </p:grpSpPr>
        <p:sp>
          <p:nvSpPr>
            <p:cNvPr id="189" name=""/>
            <p:cNvSpPr/>
            <p:nvPr/>
          </p:nvSpPr>
          <p:spPr>
            <a:xfrm>
              <a:off x="6858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581280" y="3505320"/>
            <a:ext cx="914400" cy="914400"/>
            <a:chOff x="3581280" y="3505320"/>
            <a:chExt cx="914400" cy="914400"/>
          </a:xfrm>
        </p:grpSpPr>
        <p:sp>
          <p:nvSpPr>
            <p:cNvPr id="192" name=""/>
            <p:cNvSpPr/>
            <p:nvPr/>
          </p:nvSpPr>
          <p:spPr>
            <a:xfrm>
              <a:off x="36576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90920" y="3505320"/>
            <a:ext cx="914400" cy="914400"/>
            <a:chOff x="2590920" y="3505320"/>
            <a:chExt cx="914400" cy="914400"/>
          </a:xfrm>
        </p:grpSpPr>
        <p:sp>
          <p:nvSpPr>
            <p:cNvPr id="195" name=""/>
            <p:cNvSpPr/>
            <p:nvPr/>
          </p:nvSpPr>
          <p:spPr>
            <a:xfrm>
              <a:off x="26672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09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562720" y="3505320"/>
            <a:ext cx="914400" cy="914400"/>
            <a:chOff x="5562720" y="3505320"/>
            <a:chExt cx="914400" cy="914400"/>
          </a:xfrm>
        </p:grpSpPr>
        <p:sp>
          <p:nvSpPr>
            <p:cNvPr id="198" name=""/>
            <p:cNvSpPr/>
            <p:nvPr/>
          </p:nvSpPr>
          <p:spPr>
            <a:xfrm>
              <a:off x="563904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72000" y="3505320"/>
            <a:ext cx="914400" cy="914400"/>
            <a:chOff x="4572000" y="3505320"/>
            <a:chExt cx="914400" cy="914400"/>
          </a:xfrm>
        </p:grpSpPr>
        <p:sp>
          <p:nvSpPr>
            <p:cNvPr id="201" name=""/>
            <p:cNvSpPr/>
            <p:nvPr/>
          </p:nvSpPr>
          <p:spPr>
            <a:xfrm>
              <a:off x="46483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543800" y="3505320"/>
            <a:ext cx="914400" cy="914400"/>
            <a:chOff x="7543800" y="3505320"/>
            <a:chExt cx="914400" cy="914400"/>
          </a:xfrm>
        </p:grpSpPr>
        <p:sp>
          <p:nvSpPr>
            <p:cNvPr id="204" name=""/>
            <p:cNvSpPr/>
            <p:nvPr/>
          </p:nvSpPr>
          <p:spPr>
            <a:xfrm>
              <a:off x="762012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553080" y="3505320"/>
            <a:ext cx="914400" cy="914400"/>
            <a:chOff x="6553080" y="3505320"/>
            <a:chExt cx="914400" cy="914400"/>
          </a:xfrm>
        </p:grpSpPr>
        <p:sp>
          <p:nvSpPr>
            <p:cNvPr id="207" name=""/>
            <p:cNvSpPr/>
            <p:nvPr/>
          </p:nvSpPr>
          <p:spPr>
            <a:xfrm>
              <a:off x="6629400" y="358164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3505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752480" y="5410080"/>
            <a:ext cx="56390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143000" y="4419360"/>
            <a:ext cx="31240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057400" y="4419360"/>
            <a:ext cx="22096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048120" y="4419360"/>
            <a:ext cx="12189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038120" y="441936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267080" y="441936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267080" y="441936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7080" y="4419360"/>
            <a:ext cx="28195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4419360"/>
            <a:ext cx="381024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828800" y="548604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00032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933640" y="552384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5486400"/>
            <a:ext cx="1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5486400"/>
            <a:ext cx="14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95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62485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6095880"/>
            <a:ext cx="99072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486400"/>
            <a:ext cx="15228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6095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5486400"/>
            <a:ext cx="2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5486400"/>
            <a:ext cx="2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4267080"/>
            <a:ext cx="16002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8080" y="4848120"/>
            <a:ext cx="819000" cy="4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7080" y="4886280"/>
            <a:ext cx="728640" cy="447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95600" y="5353200"/>
            <a:ext cx="146232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4572000"/>
            <a:ext cx="68580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24440" y="4300560"/>
            <a:ext cx="257040" cy="103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262400" y="4343400"/>
            <a:ext cx="309600" cy="1009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5091120"/>
            <a:ext cx="838080" cy="2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266720" y="4681440"/>
            <a:ext cx="662040" cy="652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66720" y="5105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57520" y="5476680"/>
            <a:ext cx="1347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743600">
            <a:off x="4814640" y="5762160"/>
            <a:ext cx="1676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posed Practical Parallel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* Machi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680" y="617076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= Candidate Typ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5800" y="2438280"/>
            <a:ext cx="5410080" cy="2666880"/>
            <a:chOff x="685800" y="2438280"/>
            <a:chExt cx="5410080" cy="2666880"/>
          </a:xfrm>
        </p:grpSpPr>
        <p:sp>
          <p:nvSpPr>
            <p:cNvPr id="248" name=""/>
            <p:cNvSpPr/>
            <p:nvPr/>
          </p:nvSpPr>
          <p:spPr>
            <a:xfrm>
              <a:off x="685800" y="4343040"/>
              <a:ext cx="5410080" cy="762120"/>
            </a:xfrm>
            <a:prstGeom prst="cube">
              <a:avLst>
                <a:gd name="adj" fmla="val 25000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connec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9400" y="3581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837720" y="3200040"/>
              <a:ext cx="686160" cy="1295280"/>
              <a:chOff x="837720" y="3200040"/>
              <a:chExt cx="686160" cy="12952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837720" y="4038120"/>
                <a:ext cx="533880" cy="457200"/>
                <a:chOff x="837720" y="4038120"/>
                <a:chExt cx="533880" cy="457200"/>
              </a:xfrm>
            </p:grpSpPr>
            <p:sp>
              <p:nvSpPr>
                <p:cNvPr id="252" name=""/>
                <p:cNvSpPr/>
                <p:nvPr/>
              </p:nvSpPr>
              <p:spPr>
                <a:xfrm flipH="1">
                  <a:off x="83772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4300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99036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14300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83808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14300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599840" y="3200040"/>
              <a:ext cx="686160" cy="1295280"/>
              <a:chOff x="1599840" y="3200040"/>
              <a:chExt cx="686160" cy="12952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599840" y="4038120"/>
                <a:ext cx="533880" cy="457200"/>
                <a:chOff x="1599840" y="4038120"/>
                <a:chExt cx="533880" cy="457200"/>
              </a:xfrm>
            </p:grpSpPr>
            <p:sp>
              <p:nvSpPr>
                <p:cNvPr id="260" name=""/>
                <p:cNvSpPr/>
                <p:nvPr/>
              </p:nvSpPr>
              <p:spPr>
                <a:xfrm flipH="1">
                  <a:off x="159984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0512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175248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0512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160020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90512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361960" y="3200040"/>
              <a:ext cx="686160" cy="1295280"/>
              <a:chOff x="2361960" y="3200040"/>
              <a:chExt cx="686160" cy="1295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361960" y="4038120"/>
                <a:ext cx="533880" cy="457200"/>
                <a:chOff x="2361960" y="4038120"/>
                <a:chExt cx="533880" cy="457200"/>
              </a:xfrm>
            </p:grpSpPr>
            <p:sp>
              <p:nvSpPr>
                <p:cNvPr id="268" name=""/>
                <p:cNvSpPr/>
                <p:nvPr/>
              </p:nvSpPr>
              <p:spPr>
                <a:xfrm flipH="1">
                  <a:off x="236196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66724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251460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6724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236232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66724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123720" y="3200040"/>
              <a:ext cx="686160" cy="1295280"/>
              <a:chOff x="3123720" y="3200040"/>
              <a:chExt cx="686160" cy="12952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3123720" y="4038120"/>
                <a:ext cx="533880" cy="457200"/>
                <a:chOff x="3123720" y="4038120"/>
                <a:chExt cx="533880" cy="45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312372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2900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327636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2900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12408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2900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885840" y="3200040"/>
              <a:ext cx="686160" cy="1295280"/>
              <a:chOff x="3885840" y="3200040"/>
              <a:chExt cx="686160" cy="12952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885840" y="4038120"/>
                <a:ext cx="533880" cy="457200"/>
                <a:chOff x="3885840" y="4038120"/>
                <a:chExt cx="533880" cy="457200"/>
              </a:xfrm>
            </p:grpSpPr>
            <p:sp>
              <p:nvSpPr>
                <p:cNvPr id="284" name=""/>
                <p:cNvSpPr/>
                <p:nvPr/>
              </p:nvSpPr>
              <p:spPr>
                <a:xfrm flipH="1">
                  <a:off x="388584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9112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03848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19112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388620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19112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333760" y="3200040"/>
              <a:ext cx="686160" cy="1295280"/>
              <a:chOff x="5333760" y="3200040"/>
              <a:chExt cx="686160" cy="12952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5333760" y="4038120"/>
                <a:ext cx="533880" cy="457200"/>
                <a:chOff x="5333760" y="4038120"/>
                <a:chExt cx="533880" cy="45720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5333760" y="4038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639040" y="4038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5486400" y="4038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39040" y="4038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334120" y="3504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39040" y="3200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838080" y="2438280"/>
              <a:ext cx="685800" cy="609480"/>
            </a:xfrm>
            <a:prstGeom prst="cube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32000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143000" y="3047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enefit from everything the vN model does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553080" y="1828800"/>
            <a:ext cx="1776240" cy="1466640"/>
            <a:chOff x="6553080" y="1828800"/>
            <a:chExt cx="1776240" cy="1466640"/>
          </a:xfrm>
        </p:grpSpPr>
        <p:sp>
          <p:nvSpPr>
            <p:cNvPr id="303" name=""/>
            <p:cNvSpPr/>
            <p:nvPr/>
          </p:nvSpPr>
          <p:spPr>
            <a:xfrm>
              <a:off x="6553080" y="1928520"/>
              <a:ext cx="1776240" cy="12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91200" y="24382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09960" y="19810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9960" y="259056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09960" y="25146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19800" y="251460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2944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0540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8172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58040" y="30668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8253000" y="182880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34200" y="250488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81560" y="2557440"/>
              <a:ext cx="30492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perties of the CTA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Elements are von Neumann machines -- they could be SMPs or other parallel designs, but they execute vN 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 are connected by a sparse (O(n) edges) point-to-point network,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’s connection to network is “narr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&gt; 1 for non-local memor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has “thin” broadcast connection to all proc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5943600"/>
            <a:ext cx="6553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distributed memory model of last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 Not Specifi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, programmers have “programmed to the network” harming their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3276360"/>
            <a:ext cx="1981440" cy="2057400"/>
            <a:chOff x="838080" y="3276360"/>
            <a:chExt cx="1981440" cy="2057400"/>
          </a:xfrm>
        </p:grpSpPr>
        <p:sp>
          <p:nvSpPr>
            <p:cNvPr id="322" name=""/>
            <p:cNvSpPr/>
            <p:nvPr/>
          </p:nvSpPr>
          <p:spPr>
            <a:xfrm flipV="1">
              <a:off x="11430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6002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0574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514600" y="32763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080" y="35812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907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79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2320" y="3429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0384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479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2320" y="38862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4956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479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51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62320" y="43434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49528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07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479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48006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2819520"/>
            <a:ext cx="2818800" cy="2590200"/>
            <a:chOff x="5562720" y="2819520"/>
            <a:chExt cx="2818800" cy="2590200"/>
          </a:xfrm>
        </p:grpSpPr>
        <p:sp>
          <p:nvSpPr>
            <p:cNvPr id="347" name=""/>
            <p:cNvSpPr/>
            <p:nvPr/>
          </p:nvSpPr>
          <p:spPr>
            <a:xfrm>
              <a:off x="6933960" y="38862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5880" y="38862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3080" y="44193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44193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588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38862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933960" y="2971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95880" y="2971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43600" y="37335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81680" y="2819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281952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81680" y="37335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5000" y="35049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441936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3080" y="3504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715000" y="3504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62720" y="426708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335268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35268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426708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5867280" y="29718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705360" y="29718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867280" y="38862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6705360" y="388620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47242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29600" y="380952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91160" y="380952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38880" y="45720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6960" y="36576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38880" y="36576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76960" y="4572000"/>
              <a:ext cx="304560" cy="304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43434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10280" y="5257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848360" y="43430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10280" y="43430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0" y="51051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96080" y="41907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0" y="4190760"/>
              <a:ext cx="3042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510516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162560" y="38098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001000" y="38098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162560" y="47242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001000" y="4724280"/>
              <a:ext cx="2282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33960" y="29718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5880" y="297180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35049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3504960"/>
              <a:ext cx="11426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819520" y="3505320"/>
            <a:ext cx="3352680" cy="1904760"/>
            <a:chOff x="2819520" y="3505320"/>
            <a:chExt cx="3352680" cy="1904760"/>
          </a:xfrm>
        </p:grpSpPr>
        <p:sp>
          <p:nvSpPr>
            <p:cNvPr id="396" name=""/>
            <p:cNvSpPr/>
            <p:nvPr/>
          </p:nvSpPr>
          <p:spPr>
            <a:xfrm>
              <a:off x="4343400" y="35053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403848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403848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266720" y="36576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6576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4572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1280" y="457200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88584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1480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105520" y="4572000"/>
              <a:ext cx="30456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3560" y="4572000"/>
              <a:ext cx="30492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419112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191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0040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124080" y="4724280"/>
              <a:ext cx="60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352320" y="4724280"/>
              <a:ext cx="3812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19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885840" y="47242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1480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05520" y="5105520"/>
              <a:ext cx="30456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24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76920" y="47242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7692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6728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86400" y="5105520"/>
              <a:ext cx="30492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47242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472428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280880" y="54500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60120" y="54100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79640" y="5410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6095880"/>
            <a:ext cx="716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twork is like the system bus -- forget it exis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ing CTA What Is Best Max Algorithm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 charges for operations, memory reference, communication … PRAM solution of litt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nament algorithm finds maximum of n elements in O(log n) time like the global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 PEs send value to next lower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PEs recv, compare and send larger value to “par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ivide PE index by 2, and repeat until one processor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O(log n) communication + parallel compare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19320" y="5715000"/>
            <a:ext cx="701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s is a practical algorithm that can be t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TA Emphasizes Localit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A models … where the data is &amp; where it g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captures the benefit of exploiting locally sto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s moving data to other PEs has significan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62120" y="3581280"/>
            <a:ext cx="5410080" cy="2666880"/>
            <a:chOff x="762120" y="3581280"/>
            <a:chExt cx="5410080" cy="2666880"/>
          </a:xfrm>
        </p:grpSpPr>
        <p:sp>
          <p:nvSpPr>
            <p:cNvPr id="435" name=""/>
            <p:cNvSpPr/>
            <p:nvPr/>
          </p:nvSpPr>
          <p:spPr>
            <a:xfrm>
              <a:off x="762120" y="5486040"/>
              <a:ext cx="5410080" cy="762120"/>
            </a:xfrm>
            <a:prstGeom prst="cube">
              <a:avLst>
                <a:gd name="adj" fmla="val 25000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connec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5720" y="4724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914040" y="4343040"/>
              <a:ext cx="686160" cy="1295280"/>
              <a:chOff x="914040" y="4343040"/>
              <a:chExt cx="686160" cy="12952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914040" y="5181120"/>
                <a:ext cx="533880" cy="457200"/>
                <a:chOff x="914040" y="5181120"/>
                <a:chExt cx="533880" cy="457200"/>
              </a:xfrm>
            </p:grpSpPr>
            <p:sp>
              <p:nvSpPr>
                <p:cNvPr id="439" name=""/>
                <p:cNvSpPr/>
                <p:nvPr/>
              </p:nvSpPr>
              <p:spPr>
                <a:xfrm flipH="1">
                  <a:off x="91404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21932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106668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21932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91440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21932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676160" y="4343040"/>
              <a:ext cx="686160" cy="1295280"/>
              <a:chOff x="1676160" y="4343040"/>
              <a:chExt cx="686160" cy="129528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1676160" y="5181120"/>
                <a:ext cx="533880" cy="457200"/>
                <a:chOff x="1676160" y="5181120"/>
                <a:chExt cx="533880" cy="45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167616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98144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82880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98144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167652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198144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38280" y="4343040"/>
              <a:ext cx="686160" cy="1295280"/>
              <a:chOff x="2438280" y="4343040"/>
              <a:chExt cx="686160" cy="129528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2438280" y="5181120"/>
                <a:ext cx="533880" cy="457200"/>
                <a:chOff x="2438280" y="5181120"/>
                <a:chExt cx="533880" cy="45720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243828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4356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259092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74356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243864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74356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200040" y="4343040"/>
              <a:ext cx="686160" cy="1295280"/>
              <a:chOff x="3200040" y="4343040"/>
              <a:chExt cx="686160" cy="129528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200040" y="5181120"/>
                <a:ext cx="533880" cy="457200"/>
                <a:chOff x="3200040" y="5181120"/>
                <a:chExt cx="533880" cy="45720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320004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50532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335268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50532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320040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350532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3962160" y="4343040"/>
              <a:ext cx="686160" cy="1295280"/>
              <a:chOff x="3962160" y="4343040"/>
              <a:chExt cx="686160" cy="129528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3962160" y="5181120"/>
                <a:ext cx="533880" cy="457200"/>
                <a:chOff x="3962160" y="5181120"/>
                <a:chExt cx="533880" cy="4572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396216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26744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11480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26744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396252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426744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410080" y="4343040"/>
              <a:ext cx="686160" cy="1295280"/>
              <a:chOff x="5410080" y="4343040"/>
              <a:chExt cx="686160" cy="12952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5410080" y="5181120"/>
                <a:ext cx="533880" cy="457200"/>
                <a:chOff x="5410080" y="5181120"/>
                <a:chExt cx="533880" cy="457200"/>
              </a:xfrm>
            </p:grpSpPr>
            <p:sp>
              <p:nvSpPr>
                <p:cNvPr id="479" name=""/>
                <p:cNvSpPr/>
                <p:nvPr/>
              </p:nvSpPr>
              <p:spPr>
                <a:xfrm flipH="1">
                  <a:off x="5410080" y="5181120"/>
                  <a:ext cx="3049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15360" y="5181120"/>
                  <a:ext cx="22860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5562720" y="5181120"/>
                  <a:ext cx="15228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15360" y="5181120"/>
                  <a:ext cx="7632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410440" y="4647960"/>
                <a:ext cx="685800" cy="609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v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715360" y="43430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914400" y="3581280"/>
              <a:ext cx="685800" cy="609480"/>
            </a:xfrm>
            <a:prstGeom prst="cube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3430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1219320" y="419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705720" y="4191120"/>
            <a:ext cx="1776240" cy="1466640"/>
            <a:chOff x="6705720" y="4191120"/>
            <a:chExt cx="1776240" cy="1466640"/>
          </a:xfrm>
        </p:grpSpPr>
        <p:sp>
          <p:nvSpPr>
            <p:cNvPr id="489" name=""/>
            <p:cNvSpPr/>
            <p:nvPr/>
          </p:nvSpPr>
          <p:spPr>
            <a:xfrm>
              <a:off x="6705720" y="4290840"/>
              <a:ext cx="1776240" cy="12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43840" y="48006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62600" y="434340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62600" y="495288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62600" y="48769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72440" y="4876920"/>
              <a:ext cx="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8208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5804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3436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1068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8405640" y="419112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86840" y="48672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34200" y="4919760"/>
              <a:ext cx="304920" cy="55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Week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echniques illustrated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into independ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comput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arge task size, e.g. several rows/column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aching by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der computation to “use data o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broadcas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6019920"/>
            <a:ext cx="685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SUMMA algorithm used all of thes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val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urposely vague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is not known and cannot be known because every machine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agreement yet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bandwidth, engineering, interfaces, m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cannot be a si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because of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, conflic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ing for communication -- if possible -- should be done by the compiler not a 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943600" y="3657240"/>
            <a:ext cx="1295280" cy="1219320"/>
            <a:chOff x="5943600" y="3657240"/>
            <a:chExt cx="1295280" cy="1219320"/>
          </a:xfrm>
        </p:grpSpPr>
        <p:sp>
          <p:nvSpPr>
            <p:cNvPr id="505" name=""/>
            <p:cNvSpPr/>
            <p:nvPr/>
          </p:nvSpPr>
          <p:spPr>
            <a:xfrm flipV="1">
              <a:off x="614268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4418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7406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039440" y="365724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43600" y="383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433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421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4092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0080" y="374760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43600" y="41090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433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421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4092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40080" y="40186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3600" y="4379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33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421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092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40080" y="428976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43600" y="46508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433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421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4092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0080" y="4560480"/>
              <a:ext cx="199080" cy="18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TA Abstracts Existing Architect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MD parallel machines -- all machines since mid 1980s -- are modeled by 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minor adjustments may be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chines do not have a controller (front end machine), but one PE can be both a PE and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chines such as bus-architectures fail to meet the point-to-point network feature, but a decent bus is an OK approximation (and there is no other mode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TA contains the von Neumann architecture C is good for programming PEs but more global abstractions are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ing the CT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iderations w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key features of HW implemen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costs realis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across phys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he above have been established experi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s simple as possible relative to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ifficult to measure, but programmers can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use the CTA in thi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5715000"/>
            <a:ext cx="8153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mproving CTA may be possible, but not in some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odels have been proposed, but they have ha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P [UC Berkeley] is CTA+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measures latency and other variables related to communication -- too many fre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was effective at predicting behavior on the Thinking Machines CM-5, which motivate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many parameters, it was difficult to decide which were significant, especially when their values ar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model of theoretic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6095880"/>
            <a:ext cx="8458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gP’s parameters try being exact about 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.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ogramming has motivated many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urrency is natural part of parameter evalu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s not specifically identified -- they simply work on next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-once memory avoids races and indetermin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otion of locality since it is not possible to associate memory with any logi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models presume shared memory computers and have considerable overhead; functional has not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n Neumann model allows us to be successful C program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allel alternativ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AM is not a good alternative because it leads us to impractical algorithms like the O(loglog n)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TA does work because it charges for data motion and communication using the paramet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locality is a central benefit of the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abstracts all contemporary MIMD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5486400"/>
            <a:ext cx="7467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ding a model is a balancing act in which the “right” things are modeled and everything else is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lan for Toda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von Neumann model &amp; 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PRA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ant’s Maximu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esult to evalu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esult to evalu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P is too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is too v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ccessful Program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write programs in C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programs run fast, especially if we use performance as a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rse arrays in row major order to improve ca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cono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use resources w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data by packing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r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run well on any computer with C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uters are universal, but with C fast programs are fast ever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asy to 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- we know many ‘good’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data, don’t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1992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se qualities all derive from von Neumma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on Neumann (RAM)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‘standard’ model of a computer (RAM) the von Neuman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or interpreting 3-address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pointing to the next instruction of program in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, randomly accessed memory requires 1 tim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is composed of fixed-size addressabl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struction executes at a time, and is completed before the next instruction exec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is not literally true, e.g., memory is hierarchical but made to “look fl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867280"/>
            <a:ext cx="6324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directly implements this model in a H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N Model Contributes To Succes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C statements on the vN machine is “understood” by C programmer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[r][s] += B[r][s]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row_size_A, r, s, A_base, B_base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(row_size_A * r + s) * data_siz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_base + temp; B_base + temp; load both values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values and return to memory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or many operations, any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measured in “instructions” no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conom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Easy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61722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idely known and effective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ortabilit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 property of the C-vN coupl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approximately righ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little variation in sequential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895480"/>
            <a:ext cx="3124080" cy="914400"/>
          </a:xfrm>
          <a:custGeom>
            <a:avLst/>
            <a:gdLst>
              <a:gd name="textAreaLeft" fmla="*/ 619920 w 3124080"/>
              <a:gd name="textAreaRight" fmla="*/ 2121840 w 31240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2" hR="21600" stAng="10800000" swAng="5400000"/>
                <a:lnTo>
                  <a:pt x="10383" y="0"/>
                </a:lnTo>
                <a:arcTo wR="8572" hR="21600" stAng="-5400000" swAng="3279914"/>
                <a:lnTo>
                  <a:pt x="21280" y="15750"/>
                </a:lnTo>
                <a:lnTo>
                  <a:pt x="18050" y="21600"/>
                </a:lnTo>
                <a:lnTo>
                  <a:pt x="14179" y="15750"/>
                </a:lnTo>
                <a:lnTo>
                  <a:pt x="16824" y="15750"/>
                </a:lnTo>
                <a:arcTo wR="8572" hR="21600" stAng="-2120086" swAng="-3135075"/>
                <a:lnTo>
                  <a:pt x="9478" y="121"/>
                </a:lnTo>
                <a:arcTo wR="8572" hR="21600" stAng="-5544840" swAng="-5255160"/>
                <a:close/>
              </a:path>
              <a:path fill="darkenLess" w="21600" h="21600">
                <a:moveTo>
                  <a:pt x="0" y="21600"/>
                </a:moveTo>
                <a:arcTo wR="8572" hR="21600" stAng="10800000" swAng="5400000"/>
                <a:lnTo>
                  <a:pt x="8572" y="0"/>
                </a:lnTo>
                <a:arcTo wR="8572" hR="21600" stAng="-5400000" swAng="144840"/>
                <a:lnTo>
                  <a:pt x="9478" y="121"/>
                </a:lnTo>
                <a:arcTo wR="8572" hR="21600" stAng="-5544840" swAng="-525516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962520"/>
            <a:ext cx="2971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W vendors must run installed SW so follow v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3962520"/>
            <a:ext cx="3124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 vendors must run on installed HW so follow vN r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743200" y="5334120"/>
            <a:ext cx="3124080" cy="914400"/>
          </a:xfrm>
          <a:custGeom>
            <a:avLst/>
            <a:gdLst>
              <a:gd name="textAreaLeft" fmla="*/ 619920 w 3124080"/>
              <a:gd name="textAreaRight" fmla="*/ 2121840 w 31240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2" hR="21600" stAng="10800000" swAng="5400000"/>
                <a:lnTo>
                  <a:pt x="10383" y="0"/>
                </a:lnTo>
                <a:arcTo wR="8572" hR="21600" stAng="-5400000" swAng="3279914"/>
                <a:lnTo>
                  <a:pt x="21280" y="15750"/>
                </a:lnTo>
                <a:lnTo>
                  <a:pt x="18050" y="21600"/>
                </a:lnTo>
                <a:lnTo>
                  <a:pt x="14179" y="15750"/>
                </a:lnTo>
                <a:lnTo>
                  <a:pt x="16824" y="15750"/>
                </a:lnTo>
                <a:arcTo wR="8572" hR="21600" stAng="-2120086" swAng="-3135075"/>
                <a:lnTo>
                  <a:pt x="9478" y="121"/>
                </a:lnTo>
                <a:arcTo wR="8572" hR="21600" stAng="-5544840" swAng="-5255160"/>
                <a:close/>
              </a:path>
              <a:path fill="darkenLess" w="21600" h="21600">
                <a:moveTo>
                  <a:pt x="0" y="21600"/>
                </a:moveTo>
                <a:arcTo wR="8572" hR="21600" stAng="10800000" swAng="5400000"/>
                <a:lnTo>
                  <a:pt x="8572" y="0"/>
                </a:lnTo>
                <a:arcTo wR="8572" hR="21600" stAng="-5400000" swAng="144840"/>
                <a:lnTo>
                  <a:pt x="9478" y="121"/>
                </a:lnTo>
                <a:arcTo wR="8572" hR="21600" stAng="-5544840" swAng="-525516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5867280"/>
            <a:ext cx="3276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veryone wins … no motive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on Neumann 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n Neumann model “explains” the costs of C because C expresses the facilities of the von Neumann machines in a set of useful programming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the relationship between C and the von Neumann machine is essential for writing effici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ules produces good results everywhere because everyon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5791320"/>
            <a:ext cx="5257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What is the parallel version of v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0-11T14:57:38Z</dcterms:modified>
  <cp:revision>31</cp:revision>
  <dc:subject/>
  <dc:title>Survey of Parallel Computation</dc:title>
</cp:coreProperties>
</file>