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3F6-B550-4944-BEAF-25755F44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73E-3FAF-47E2-A87E-5FCA6EBA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1FD-DE44-4FEE-AC36-D44CAA12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F88-65AD-448E-9D73-59E96B61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7D0-198A-4ED6-9D38-3D8B1D82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D5D-BEDC-4EC1-A018-BDE64223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8E4-B23B-4F6B-AD81-2FB03F47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844B-20AB-49C2-A510-ABF01D15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A5A-CE69-4B1F-8EE8-245B313E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E17-6D74-48E2-8A93-3357C1AB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C59-AFDE-4E89-B63D-74CF13CE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154-9600-4472-B56B-52C93E4A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BE0C-EDEE-4223-B5A8-72842D3FB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9640" y="1419120"/>
            <a:ext cx="7238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dels In Parallel Compu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is difficult to write programs without a good idea of how the target computer will execute the code. The most important information is knowing how expensive the operations are in terms of time, space, and communicati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95280"/>
            <a:ext cx="7772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AM Often Proposed As A Candidat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M (Parallel RAM) ignores memory organization, collisions, latency, conflict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ing these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i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benefit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everywhere since it is very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imple programming model ignoring only insignificant details -- off by “only log 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ing memory difficulties is OK because hardware can “fake” a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PRAM then refine the program to a practical solution -- good for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call Parallel Random-Access Machin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M has any number of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or references any memory in “time 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read and write collisions must be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600200" y="3505320"/>
            <a:ext cx="914400" cy="914400"/>
            <a:chOff x="1600200" y="3505320"/>
            <a:chExt cx="914400" cy="914400"/>
          </a:xfrm>
        </p:grpSpPr>
        <p:sp>
          <p:nvSpPr>
            <p:cNvPr id="77" name=""/>
            <p:cNvSpPr/>
            <p:nvPr/>
          </p:nvSpPr>
          <p:spPr>
            <a:xfrm>
              <a:off x="167652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020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09480" y="3505320"/>
            <a:ext cx="914400" cy="914400"/>
            <a:chOff x="609480" y="3505320"/>
            <a:chExt cx="914400" cy="914400"/>
          </a:xfrm>
        </p:grpSpPr>
        <p:sp>
          <p:nvSpPr>
            <p:cNvPr id="80" name=""/>
            <p:cNvSpPr/>
            <p:nvPr/>
          </p:nvSpPr>
          <p:spPr>
            <a:xfrm>
              <a:off x="68580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948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581280" y="3505320"/>
            <a:ext cx="914400" cy="914400"/>
            <a:chOff x="3581280" y="3505320"/>
            <a:chExt cx="914400" cy="914400"/>
          </a:xfrm>
        </p:grpSpPr>
        <p:sp>
          <p:nvSpPr>
            <p:cNvPr id="83" name=""/>
            <p:cNvSpPr/>
            <p:nvPr/>
          </p:nvSpPr>
          <p:spPr>
            <a:xfrm>
              <a:off x="365760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128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590920" y="3505320"/>
            <a:ext cx="914400" cy="914400"/>
            <a:chOff x="2590920" y="3505320"/>
            <a:chExt cx="914400" cy="914400"/>
          </a:xfrm>
        </p:grpSpPr>
        <p:sp>
          <p:nvSpPr>
            <p:cNvPr id="86" name=""/>
            <p:cNvSpPr/>
            <p:nvPr/>
          </p:nvSpPr>
          <p:spPr>
            <a:xfrm>
              <a:off x="266724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9092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562720" y="3505320"/>
            <a:ext cx="914400" cy="914400"/>
            <a:chOff x="5562720" y="3505320"/>
            <a:chExt cx="914400" cy="914400"/>
          </a:xfrm>
        </p:grpSpPr>
        <p:sp>
          <p:nvSpPr>
            <p:cNvPr id="89" name=""/>
            <p:cNvSpPr/>
            <p:nvPr/>
          </p:nvSpPr>
          <p:spPr>
            <a:xfrm>
              <a:off x="563904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6272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572000" y="3505320"/>
            <a:ext cx="914400" cy="914400"/>
            <a:chOff x="4572000" y="3505320"/>
            <a:chExt cx="914400" cy="914400"/>
          </a:xfrm>
        </p:grpSpPr>
        <p:sp>
          <p:nvSpPr>
            <p:cNvPr id="92" name=""/>
            <p:cNvSpPr/>
            <p:nvPr/>
          </p:nvSpPr>
          <p:spPr>
            <a:xfrm>
              <a:off x="464832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543800" y="3505320"/>
            <a:ext cx="914400" cy="914400"/>
            <a:chOff x="7543800" y="3505320"/>
            <a:chExt cx="914400" cy="914400"/>
          </a:xfrm>
        </p:grpSpPr>
        <p:sp>
          <p:nvSpPr>
            <p:cNvPr id="95" name=""/>
            <p:cNvSpPr/>
            <p:nvPr/>
          </p:nvSpPr>
          <p:spPr>
            <a:xfrm>
              <a:off x="762012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4380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553080" y="3505320"/>
            <a:ext cx="914400" cy="914400"/>
            <a:chOff x="6553080" y="3505320"/>
            <a:chExt cx="914400" cy="914400"/>
          </a:xfrm>
        </p:grpSpPr>
        <p:sp>
          <p:nvSpPr>
            <p:cNvPr id="98" name=""/>
            <p:cNvSpPr/>
            <p:nvPr/>
          </p:nvSpPr>
          <p:spPr>
            <a:xfrm>
              <a:off x="662940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5308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752480" y="5410080"/>
            <a:ext cx="56390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143000" y="4419360"/>
            <a:ext cx="312408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2057400" y="4419360"/>
            <a:ext cx="220968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048120" y="4419360"/>
            <a:ext cx="12189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038120" y="4419360"/>
            <a:ext cx="2286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67080" y="441936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441936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67080" y="4419360"/>
            <a:ext cx="28195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267080" y="4419360"/>
            <a:ext cx="381024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971800"/>
            <a:ext cx="114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828800" y="5486040"/>
            <a:ext cx="10666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4000320" y="5523840"/>
            <a:ext cx="1066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2933640" y="5523840"/>
            <a:ext cx="1066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5486400"/>
            <a:ext cx="1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5486400"/>
            <a:ext cx="14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095880"/>
            <a:ext cx="1066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6248520"/>
            <a:ext cx="1066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6095880"/>
            <a:ext cx="990720" cy="152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5486400"/>
            <a:ext cx="152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60958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486400"/>
            <a:ext cx="2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5486400"/>
            <a:ext cx="2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Variations on PRA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ing the memory conflicts considers read and write conflicts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sive read/exclusive write (ER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limite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 read/exclusive write (CR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eaders are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 read/concurrent write (CRC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write-conflict resolution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at least dozen other var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5943600"/>
            <a:ext cx="5867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ll theoretical -- not used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nd Maximum with PRAM (Valiant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as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largest of n integers w/ n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CW PRAM (writes OK if same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.G.Valiant, “Parallelism in comparison problems,” SIAM J. Computing 4(3):348-355, 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.G. Valiant, “A Bridging Model for Parallel Computation,” CACM 33(8):103-111, 19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J. Anderson &amp; L. Snyder, “A Comparison of Shared and Nonshared Memory Models for Parallel Computation,”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c. IE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79(4):480-4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gorithm Sketch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lgorith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 rounds of O(1) time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ound, process groups of m vals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m memory location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,j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a processor test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lt;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0 else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it’s max of group; pas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next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5943600"/>
            <a:ext cx="6324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‘trick’ is to pick m right to minimiz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nding Max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1: m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2819520"/>
            <a:ext cx="838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819520"/>
            <a:ext cx="83808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200400"/>
            <a:ext cx="838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362320" y="2286000"/>
            <a:ext cx="3063240" cy="1765080"/>
            <a:chOff x="2362320" y="2286000"/>
            <a:chExt cx="3063240" cy="1765080"/>
          </a:xfrm>
        </p:grpSpPr>
        <p:sp>
          <p:nvSpPr>
            <p:cNvPr id="138" name=""/>
            <p:cNvSpPr/>
            <p:nvPr/>
          </p:nvSpPr>
          <p:spPr>
            <a:xfrm>
              <a:off x="2374560" y="2292480"/>
              <a:ext cx="30510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-    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: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: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-         -     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: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-         -        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23920" y="2295720"/>
              <a:ext cx="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376000" y="2786040"/>
              <a:ext cx="30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371320" y="316224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362320" y="35434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3400" y="2291040"/>
              <a:ext cx="0" cy="15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24120" y="2286000"/>
              <a:ext cx="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362320" y="5029200"/>
            <a:ext cx="305100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1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24280" y="4043520"/>
            <a:ext cx="0" cy="871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376000" y="4317840"/>
            <a:ext cx="3048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371320" y="4529160"/>
            <a:ext cx="3048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4041720"/>
            <a:ext cx="0" cy="871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24480" y="4038480"/>
            <a:ext cx="0" cy="871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1600200"/>
            <a:ext cx="305136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    3      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029200"/>
            <a:ext cx="305100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   0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3657600"/>
            <a:ext cx="2819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12408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5053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3581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5486400"/>
            <a:ext cx="22860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038480"/>
            <a:ext cx="4800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For groups of size 3, three tests can find max, i.e. 3 proce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80600" y="2209680"/>
            <a:ext cx="1448640" cy="459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9000" y="1523880"/>
            <a:ext cx="858960" cy="459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5880" y="5791320"/>
            <a:ext cx="1096560" cy="459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3520" y="5486400"/>
            <a:ext cx="1535400" cy="459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ck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olving Whole Proble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1 uses P processors to find the max in groups of m=3 … producing P/3 group m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2 uses P processors to find the max in groups of m=7 … producing P/21 group m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to find the max of a group requires m(m-1)/2 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ing m when there are P processors, r maxes … largest m s.t. (r/m)(m(m-1)/2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 i.e. r(m-1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nding Max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, r = P, 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(m-1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es m = 3, producing r = P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P/3)(m-1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 implies next group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size increases quadratically implying the maximum is found in O(loglog n) steps on CRCW P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6019920"/>
            <a:ext cx="6934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t’s very clever, but is it of any practical us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ssessing Valiant’s Max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AM model caused us to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the “free use” of read and write collisions, which are not possible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 the costs of data motion, so we adopt an algorithm that ru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the time required to bring all data values together, which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unning Valiant’s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M’s don’t exist and can’t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un the algorithm we need a simulator for the CRCWP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simulate the concurrent reads and the concurrent writes, a parallel computer will ne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g P) time per step, though there are bandwidth requirements and serious engineering problems to attain that goal [details in future lectur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performance of Valiant’s Max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log n log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Multiplication was used to illustrate different parallel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aximum parallel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(log n) time,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rocessors, PRA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rips x panels), O(n) time,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ipel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ystolic), O(n) time,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rocessors, VLSI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UMMA algori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sed many techniques, O(n) time,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rocessors, scalable, Distributed Memor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ternative Solu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best (practical) way of computing ma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urnament algorithm, a variation on global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log P) time on P processors (as with sum, the problem size can be Plog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urnament algorithm doesn’t need to be simulated … it runs in the stated time directly on all existing parallel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O(log n) &lt; O(log n loglog n) the PRAM model mispredicted the best practical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6095880"/>
            <a:ext cx="586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PRAM didn’t help, it hurt our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s The PRAM A Good Abstraction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Opinion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for finding theoretical limits to parallelism</a:t>
            </a:r>
            <a:r>
              <a:rPr b="0" lang="en-US" sz="2800" spc="-1" strike="noStrike">
                <a:solidFill>
                  <a:srgbClr val="00ff00"/>
                </a:solidFill>
                <a:latin typeface="Wingdings 3"/>
                <a:ea typeface="Wingdings 3"/>
              </a:rPr>
              <a:t>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simple programming model ignoring only insignificant details -- off only by log P </a:t>
            </a:r>
            <a:r>
              <a:rPr b="0" lang="en-US" sz="2800" spc="-1" strike="noStrike">
                <a:solidFill>
                  <a:srgbClr val="ff0000"/>
                </a:solidFill>
                <a:latin typeface="Wingdings 3"/>
                <a:ea typeface="Wingdings 3"/>
              </a:rPr>
              <a:t>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ing memory difficulties is OK because hardware can “fake” a shared memory</a:t>
            </a:r>
            <a:r>
              <a:rPr b="0" lang="en-US" sz="2800" spc="-1" strike="noStrike">
                <a:solidFill>
                  <a:srgbClr val="ff0000"/>
                </a:solidFill>
                <a:latin typeface="Wingdings 3"/>
                <a:ea typeface="Wingdings 3"/>
              </a:rPr>
              <a:t>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PRAM then evolve to more realistic solution -- good for getting started </a:t>
            </a:r>
            <a:r>
              <a:rPr b="0" lang="en-US" sz="2800" spc="-1" strike="noStrike">
                <a:solidFill>
                  <a:srgbClr val="ff0000"/>
                </a:solidFill>
                <a:latin typeface="Wingdings 3"/>
                <a:ea typeface="Wingdings 3"/>
              </a:rPr>
              <a:t>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rea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o think abou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 model of computation be ‘close to the machine’ so that the programs are efficient, or ‘far from the machine’ so the programs are machine independen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quirements Of A Practical Mod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von Neuman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key features of HW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costs realis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across physical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s simple as possible relative to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for parallel programmer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computers have widely different architectures -- steady-state cost not establish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SW for Cray vector machines, poor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computers keep getting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del Must Be “Realizable”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should be no “magi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he processors connect to th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00200" y="3505320"/>
            <a:ext cx="914400" cy="914400"/>
            <a:chOff x="1600200" y="3505320"/>
            <a:chExt cx="914400" cy="914400"/>
          </a:xfrm>
        </p:grpSpPr>
        <p:sp>
          <p:nvSpPr>
            <p:cNvPr id="186" name=""/>
            <p:cNvSpPr/>
            <p:nvPr/>
          </p:nvSpPr>
          <p:spPr>
            <a:xfrm>
              <a:off x="167652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020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09480" y="3505320"/>
            <a:ext cx="914400" cy="914400"/>
            <a:chOff x="609480" y="3505320"/>
            <a:chExt cx="914400" cy="914400"/>
          </a:xfrm>
        </p:grpSpPr>
        <p:sp>
          <p:nvSpPr>
            <p:cNvPr id="189" name=""/>
            <p:cNvSpPr/>
            <p:nvPr/>
          </p:nvSpPr>
          <p:spPr>
            <a:xfrm>
              <a:off x="68580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48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581280" y="3505320"/>
            <a:ext cx="914400" cy="914400"/>
            <a:chOff x="3581280" y="3505320"/>
            <a:chExt cx="914400" cy="914400"/>
          </a:xfrm>
        </p:grpSpPr>
        <p:sp>
          <p:nvSpPr>
            <p:cNvPr id="192" name=""/>
            <p:cNvSpPr/>
            <p:nvPr/>
          </p:nvSpPr>
          <p:spPr>
            <a:xfrm>
              <a:off x="365760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8128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90920" y="3505320"/>
            <a:ext cx="914400" cy="914400"/>
            <a:chOff x="2590920" y="3505320"/>
            <a:chExt cx="914400" cy="914400"/>
          </a:xfrm>
        </p:grpSpPr>
        <p:sp>
          <p:nvSpPr>
            <p:cNvPr id="195" name=""/>
            <p:cNvSpPr/>
            <p:nvPr/>
          </p:nvSpPr>
          <p:spPr>
            <a:xfrm>
              <a:off x="266724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9092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562720" y="3505320"/>
            <a:ext cx="914400" cy="914400"/>
            <a:chOff x="5562720" y="3505320"/>
            <a:chExt cx="914400" cy="914400"/>
          </a:xfrm>
        </p:grpSpPr>
        <p:sp>
          <p:nvSpPr>
            <p:cNvPr id="198" name=""/>
            <p:cNvSpPr/>
            <p:nvPr/>
          </p:nvSpPr>
          <p:spPr>
            <a:xfrm>
              <a:off x="563904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6272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72000" y="3505320"/>
            <a:ext cx="914400" cy="914400"/>
            <a:chOff x="4572000" y="3505320"/>
            <a:chExt cx="914400" cy="914400"/>
          </a:xfrm>
        </p:grpSpPr>
        <p:sp>
          <p:nvSpPr>
            <p:cNvPr id="201" name=""/>
            <p:cNvSpPr/>
            <p:nvPr/>
          </p:nvSpPr>
          <p:spPr>
            <a:xfrm>
              <a:off x="464832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543800" y="3505320"/>
            <a:ext cx="914400" cy="914400"/>
            <a:chOff x="7543800" y="3505320"/>
            <a:chExt cx="914400" cy="914400"/>
          </a:xfrm>
        </p:grpSpPr>
        <p:sp>
          <p:nvSpPr>
            <p:cNvPr id="204" name=""/>
            <p:cNvSpPr/>
            <p:nvPr/>
          </p:nvSpPr>
          <p:spPr>
            <a:xfrm>
              <a:off x="762012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4380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553080" y="3505320"/>
            <a:ext cx="914400" cy="914400"/>
            <a:chOff x="6553080" y="3505320"/>
            <a:chExt cx="914400" cy="914400"/>
          </a:xfrm>
        </p:grpSpPr>
        <p:sp>
          <p:nvSpPr>
            <p:cNvPr id="207" name=""/>
            <p:cNvSpPr/>
            <p:nvPr/>
          </p:nvSpPr>
          <p:spPr>
            <a:xfrm>
              <a:off x="662940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5308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752480" y="5410080"/>
            <a:ext cx="56390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1143000" y="4419360"/>
            <a:ext cx="312408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2057400" y="4419360"/>
            <a:ext cx="220968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048120" y="4419360"/>
            <a:ext cx="12189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038120" y="4419360"/>
            <a:ext cx="2286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267080" y="441936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267080" y="441936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267080" y="4419360"/>
            <a:ext cx="28195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67080" y="4419360"/>
            <a:ext cx="381024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1828800" y="5486040"/>
            <a:ext cx="10666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4000320" y="5523840"/>
            <a:ext cx="1066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2933640" y="5523840"/>
            <a:ext cx="1066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5486400"/>
            <a:ext cx="1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5486400"/>
            <a:ext cx="14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6095880"/>
            <a:ext cx="1066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6248520"/>
            <a:ext cx="1066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6095880"/>
            <a:ext cx="990720" cy="152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486400"/>
            <a:ext cx="152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60958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5486400"/>
            <a:ext cx="2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5486400"/>
            <a:ext cx="2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29000" y="4267080"/>
            <a:ext cx="1600200" cy="1600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48080" y="4848120"/>
            <a:ext cx="819000" cy="4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267080" y="4886280"/>
            <a:ext cx="728640" cy="447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95600" y="5353200"/>
            <a:ext cx="14623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4572000"/>
            <a:ext cx="68580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24440" y="4300560"/>
            <a:ext cx="257040" cy="1033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262400" y="4343400"/>
            <a:ext cx="309600" cy="1009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5091120"/>
            <a:ext cx="838080" cy="2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266720" y="4681440"/>
            <a:ext cx="662040" cy="652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266720" y="5105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557520" y="5476680"/>
            <a:ext cx="13478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743600">
            <a:off x="4814640" y="5762160"/>
            <a:ext cx="1676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posed Practical Parallel Mod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A* Machin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1680" y="617076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= Candidate Typ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85800" y="2438280"/>
            <a:ext cx="5410080" cy="2666880"/>
            <a:chOff x="685800" y="2438280"/>
            <a:chExt cx="5410080" cy="2666880"/>
          </a:xfrm>
        </p:grpSpPr>
        <p:sp>
          <p:nvSpPr>
            <p:cNvPr id="248" name=""/>
            <p:cNvSpPr/>
            <p:nvPr/>
          </p:nvSpPr>
          <p:spPr>
            <a:xfrm>
              <a:off x="685800" y="4343040"/>
              <a:ext cx="5410080" cy="762120"/>
            </a:xfrm>
            <a:prstGeom prst="cube">
              <a:avLst>
                <a:gd name="adj" fmla="val 25000"/>
              </a:avLst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erconnection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49400" y="3581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837720" y="3200040"/>
              <a:ext cx="686160" cy="1295280"/>
              <a:chOff x="837720" y="3200040"/>
              <a:chExt cx="686160" cy="12952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837720" y="4038120"/>
                <a:ext cx="533880" cy="457200"/>
                <a:chOff x="837720" y="4038120"/>
                <a:chExt cx="533880" cy="457200"/>
              </a:xfrm>
            </p:grpSpPr>
            <p:sp>
              <p:nvSpPr>
                <p:cNvPr id="252" name=""/>
                <p:cNvSpPr/>
                <p:nvPr/>
              </p:nvSpPr>
              <p:spPr>
                <a:xfrm flipH="1">
                  <a:off x="837720" y="4038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143000" y="4038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990360" y="4038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143000" y="4038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838080" y="3504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1143000" y="320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599840" y="3200040"/>
              <a:ext cx="686160" cy="1295280"/>
              <a:chOff x="1599840" y="3200040"/>
              <a:chExt cx="686160" cy="129528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1599840" y="4038120"/>
                <a:ext cx="533880" cy="457200"/>
                <a:chOff x="1599840" y="4038120"/>
                <a:chExt cx="533880" cy="457200"/>
              </a:xfrm>
            </p:grpSpPr>
            <p:sp>
              <p:nvSpPr>
                <p:cNvPr id="260" name=""/>
                <p:cNvSpPr/>
                <p:nvPr/>
              </p:nvSpPr>
              <p:spPr>
                <a:xfrm flipH="1">
                  <a:off x="1599840" y="4038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905120" y="4038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1752480" y="4038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905120" y="4038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1600200" y="3504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1905120" y="320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361960" y="3200040"/>
              <a:ext cx="686160" cy="1295280"/>
              <a:chOff x="2361960" y="3200040"/>
              <a:chExt cx="686160" cy="129528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2361960" y="4038120"/>
                <a:ext cx="533880" cy="457200"/>
                <a:chOff x="2361960" y="4038120"/>
                <a:chExt cx="533880" cy="457200"/>
              </a:xfrm>
            </p:grpSpPr>
            <p:sp>
              <p:nvSpPr>
                <p:cNvPr id="268" name=""/>
                <p:cNvSpPr/>
                <p:nvPr/>
              </p:nvSpPr>
              <p:spPr>
                <a:xfrm flipH="1">
                  <a:off x="2361960" y="4038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667240" y="4038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2514600" y="4038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667240" y="4038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2362320" y="3504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2667240" y="320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123720" y="3200040"/>
              <a:ext cx="686160" cy="1295280"/>
              <a:chOff x="3123720" y="3200040"/>
              <a:chExt cx="686160" cy="129528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3123720" y="4038120"/>
                <a:ext cx="533880" cy="457200"/>
                <a:chOff x="3123720" y="4038120"/>
                <a:chExt cx="533880" cy="457200"/>
              </a:xfrm>
            </p:grpSpPr>
            <p:sp>
              <p:nvSpPr>
                <p:cNvPr id="276" name=""/>
                <p:cNvSpPr/>
                <p:nvPr/>
              </p:nvSpPr>
              <p:spPr>
                <a:xfrm flipH="1">
                  <a:off x="3123720" y="4038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29000" y="4038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3276360" y="4038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429000" y="4038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3124080" y="3504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429000" y="320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885840" y="3200040"/>
              <a:ext cx="686160" cy="1295280"/>
              <a:chOff x="3885840" y="3200040"/>
              <a:chExt cx="686160" cy="129528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3885840" y="4038120"/>
                <a:ext cx="533880" cy="457200"/>
                <a:chOff x="3885840" y="4038120"/>
                <a:chExt cx="533880" cy="457200"/>
              </a:xfrm>
            </p:grpSpPr>
            <p:sp>
              <p:nvSpPr>
                <p:cNvPr id="284" name=""/>
                <p:cNvSpPr/>
                <p:nvPr/>
              </p:nvSpPr>
              <p:spPr>
                <a:xfrm flipH="1">
                  <a:off x="3885840" y="4038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191120" y="4038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038480" y="4038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191120" y="4038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3886200" y="3504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191120" y="320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333760" y="3200040"/>
              <a:ext cx="686160" cy="1295280"/>
              <a:chOff x="5333760" y="3200040"/>
              <a:chExt cx="686160" cy="12952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5333760" y="4038120"/>
                <a:ext cx="533880" cy="457200"/>
                <a:chOff x="5333760" y="4038120"/>
                <a:chExt cx="533880" cy="457200"/>
              </a:xfrm>
            </p:grpSpPr>
            <p:sp>
              <p:nvSpPr>
                <p:cNvPr id="292" name=""/>
                <p:cNvSpPr/>
                <p:nvPr/>
              </p:nvSpPr>
              <p:spPr>
                <a:xfrm flipH="1">
                  <a:off x="5333760" y="4038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639040" y="4038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5486400" y="4038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639040" y="4038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5334120" y="3504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639040" y="320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838080" y="2438280"/>
              <a:ext cx="685800" cy="609480"/>
            </a:xfrm>
            <a:prstGeom prst="cube">
              <a:avLst>
                <a:gd name="adj" fmla="val 25000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43000" y="320004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143000" y="3047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838080" y="5410080"/>
            <a:ext cx="7239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enefit from everything the vN model does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553080" y="1828800"/>
            <a:ext cx="1776240" cy="1466640"/>
            <a:chOff x="6553080" y="1828800"/>
            <a:chExt cx="1776240" cy="1466640"/>
          </a:xfrm>
        </p:grpSpPr>
        <p:sp>
          <p:nvSpPr>
            <p:cNvPr id="303" name=""/>
            <p:cNvSpPr/>
            <p:nvPr/>
          </p:nvSpPr>
          <p:spPr>
            <a:xfrm>
              <a:off x="6553080" y="1928520"/>
              <a:ext cx="1776240" cy="1224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91200" y="243828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09960" y="1981080"/>
              <a:ext cx="16002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9960" y="2590560"/>
              <a:ext cx="129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09960" y="251460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19800" y="251460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029440" y="30668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05400" y="30668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81720" y="30668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258040" y="30668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8253000" y="182880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34200" y="250488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81560" y="2557440"/>
              <a:ext cx="304920" cy="5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perties of the CTA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Elements are von Neumann machines -- they could be SMPs or other parallel designs, but they execute vN 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 are connected by a sparse (O(n) edges) point-to-point network, not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’s connection to network is “narro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&gt; 1 for non-local memory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er has “thin” broadcast connection to all process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5943600"/>
            <a:ext cx="655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distributed memory model of last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etwork Not Specified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, programmers have “programmed to the network” harming their compu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838080" y="3276360"/>
            <a:ext cx="1981440" cy="2057400"/>
            <a:chOff x="838080" y="3276360"/>
            <a:chExt cx="1981440" cy="2057400"/>
          </a:xfrm>
        </p:grpSpPr>
        <p:sp>
          <p:nvSpPr>
            <p:cNvPr id="322" name=""/>
            <p:cNvSpPr/>
            <p:nvPr/>
          </p:nvSpPr>
          <p:spPr>
            <a:xfrm flipV="1">
              <a:off x="1143000" y="32763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600200" y="32763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057400" y="32763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514600" y="32763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8080" y="358128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90720" y="34290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47920" y="34290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05120" y="34290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2320" y="34290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8080" y="403848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0720" y="38862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47920" y="38862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38862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62320" y="38862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8080" y="449568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90720" y="43434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47920" y="43434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05120" y="43434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62320" y="43434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38080" y="495288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90720" y="48006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47920" y="48006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48006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62320" y="48006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562720" y="2819520"/>
            <a:ext cx="2818800" cy="2590200"/>
            <a:chOff x="5562720" y="2819520"/>
            <a:chExt cx="2818800" cy="2590200"/>
          </a:xfrm>
        </p:grpSpPr>
        <p:sp>
          <p:nvSpPr>
            <p:cNvPr id="347" name=""/>
            <p:cNvSpPr/>
            <p:nvPr/>
          </p:nvSpPr>
          <p:spPr>
            <a:xfrm>
              <a:off x="6933960" y="3886200"/>
              <a:ext cx="11426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5880" y="3886200"/>
              <a:ext cx="11426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53080" y="4419360"/>
              <a:ext cx="11426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15000" y="4419360"/>
              <a:ext cx="11426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5880" y="2971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5880" y="38862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933960" y="297144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095880" y="297144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43600" y="3733560"/>
              <a:ext cx="3042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781680" y="281952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43600" y="2819520"/>
              <a:ext cx="3042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81680" y="373356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15000" y="350496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15000" y="441936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553080" y="350460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715000" y="350460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62720" y="426708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00800" y="3352680"/>
              <a:ext cx="3042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62720" y="335268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00800" y="4267080"/>
              <a:ext cx="3042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5867280" y="2971800"/>
              <a:ext cx="2282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705360" y="2971800"/>
              <a:ext cx="2282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867280" y="3886200"/>
              <a:ext cx="2282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6705360" y="3886200"/>
              <a:ext cx="2282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91160" y="3809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91160" y="47242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229600" y="380952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391160" y="380952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38880" y="4572000"/>
              <a:ext cx="304560" cy="304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76960" y="3657600"/>
              <a:ext cx="304560" cy="304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238880" y="3657600"/>
              <a:ext cx="304560" cy="304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76960" y="4572000"/>
              <a:ext cx="304560" cy="304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10280" y="43434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10280" y="5257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848360" y="434304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010280" y="434304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0" y="5105160"/>
              <a:ext cx="3042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96080" y="419076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58000" y="4190760"/>
              <a:ext cx="3042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510516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7162560" y="3809880"/>
              <a:ext cx="2282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8001000" y="3809880"/>
              <a:ext cx="2282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162560" y="4724280"/>
              <a:ext cx="2282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001000" y="4724280"/>
              <a:ext cx="2282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33960" y="2971800"/>
              <a:ext cx="11426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95880" y="2971800"/>
              <a:ext cx="11426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3504960"/>
              <a:ext cx="11426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3504960"/>
              <a:ext cx="11426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819520" y="3505320"/>
            <a:ext cx="3352680" cy="1904760"/>
            <a:chOff x="2819520" y="3505320"/>
            <a:chExt cx="3352680" cy="1904760"/>
          </a:xfrm>
        </p:grpSpPr>
        <p:sp>
          <p:nvSpPr>
            <p:cNvPr id="396" name=""/>
            <p:cNvSpPr/>
            <p:nvPr/>
          </p:nvSpPr>
          <p:spPr>
            <a:xfrm>
              <a:off x="4343400" y="3505320"/>
              <a:ext cx="30492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4038480"/>
              <a:ext cx="30492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403848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4266720" y="36576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95680" y="36576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45720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81280" y="4572000"/>
              <a:ext cx="30492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388584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1480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105520" y="45720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723560" y="4572000"/>
              <a:ext cx="30492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7692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7692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81280" y="5105520"/>
              <a:ext cx="30492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00400" y="5105520"/>
              <a:ext cx="30492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124080" y="4724280"/>
              <a:ext cx="6098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352320" y="4724280"/>
              <a:ext cx="3812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19520" y="510552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510552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885840" y="472428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14800" y="4724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105520" y="510552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24280" y="5105520"/>
              <a:ext cx="30492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76920" y="472428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76920" y="4724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67280" y="5105520"/>
              <a:ext cx="30492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86400" y="5105520"/>
              <a:ext cx="30492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57800" y="47242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57800" y="472428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1280880" y="54500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60120" y="54100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479640" y="54100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6095880"/>
            <a:ext cx="7162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twork is like the system bus -- forget it exis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Using CTA What Is Best Max Algorithm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A charges for operations, memory reference, communication … PRAM solution of littl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rnament algorithm finds maximum of n elements in O(log n) time like the global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 PEs send value to next lower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PEs recv, compare and send larger value to “par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ivide PE index by 2, and repeat until one processor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is O(log n) communication + parallel compare ste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19320" y="5715000"/>
            <a:ext cx="7010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is is a practical algorithm that can be tes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TA Emphasizes Localit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A models … where the data is &amp; where it go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captures the benefit of exploiting locally stor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s moving data to other PEs has significant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762120" y="3581280"/>
            <a:ext cx="5410080" cy="2666880"/>
            <a:chOff x="762120" y="3581280"/>
            <a:chExt cx="5410080" cy="2666880"/>
          </a:xfrm>
        </p:grpSpPr>
        <p:sp>
          <p:nvSpPr>
            <p:cNvPr id="435" name=""/>
            <p:cNvSpPr/>
            <p:nvPr/>
          </p:nvSpPr>
          <p:spPr>
            <a:xfrm>
              <a:off x="762120" y="5486040"/>
              <a:ext cx="5410080" cy="762120"/>
            </a:xfrm>
            <a:prstGeom prst="cube">
              <a:avLst>
                <a:gd name="adj" fmla="val 25000"/>
              </a:avLst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erconnection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5720" y="4724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914040" y="4343040"/>
              <a:ext cx="686160" cy="1295280"/>
              <a:chOff x="914040" y="4343040"/>
              <a:chExt cx="686160" cy="129528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914040" y="5181120"/>
                <a:ext cx="533880" cy="457200"/>
                <a:chOff x="914040" y="5181120"/>
                <a:chExt cx="533880" cy="457200"/>
              </a:xfrm>
            </p:grpSpPr>
            <p:sp>
              <p:nvSpPr>
                <p:cNvPr id="439" name=""/>
                <p:cNvSpPr/>
                <p:nvPr/>
              </p:nvSpPr>
              <p:spPr>
                <a:xfrm flipH="1">
                  <a:off x="914040" y="5181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219320" y="5181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>
                  <a:off x="1066680" y="5181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219320" y="5181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914400" y="4647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1219320" y="4343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1676160" y="4343040"/>
              <a:ext cx="686160" cy="1295280"/>
              <a:chOff x="1676160" y="4343040"/>
              <a:chExt cx="686160" cy="129528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1676160" y="5181120"/>
                <a:ext cx="533880" cy="457200"/>
                <a:chOff x="1676160" y="5181120"/>
                <a:chExt cx="533880" cy="457200"/>
              </a:xfrm>
            </p:grpSpPr>
            <p:sp>
              <p:nvSpPr>
                <p:cNvPr id="447" name=""/>
                <p:cNvSpPr/>
                <p:nvPr/>
              </p:nvSpPr>
              <p:spPr>
                <a:xfrm flipH="1">
                  <a:off x="1676160" y="5181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981440" y="5181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>
                  <a:off x="1828800" y="5181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981440" y="5181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1" name=""/>
              <p:cNvSpPr/>
              <p:nvPr/>
            </p:nvSpPr>
            <p:spPr>
              <a:xfrm>
                <a:off x="1676520" y="4647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1981440" y="4343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438280" y="4343040"/>
              <a:ext cx="686160" cy="1295280"/>
              <a:chOff x="2438280" y="4343040"/>
              <a:chExt cx="686160" cy="129528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2438280" y="5181120"/>
                <a:ext cx="533880" cy="457200"/>
                <a:chOff x="2438280" y="5181120"/>
                <a:chExt cx="533880" cy="457200"/>
              </a:xfrm>
            </p:grpSpPr>
            <p:sp>
              <p:nvSpPr>
                <p:cNvPr id="455" name=""/>
                <p:cNvSpPr/>
                <p:nvPr/>
              </p:nvSpPr>
              <p:spPr>
                <a:xfrm flipH="1">
                  <a:off x="2438280" y="5181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743560" y="5181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2590920" y="5181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743560" y="5181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>
                <a:off x="2438640" y="4647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2743560" y="4343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3200040" y="4343040"/>
              <a:ext cx="686160" cy="1295280"/>
              <a:chOff x="3200040" y="4343040"/>
              <a:chExt cx="686160" cy="129528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3200040" y="5181120"/>
                <a:ext cx="533880" cy="457200"/>
                <a:chOff x="3200040" y="5181120"/>
                <a:chExt cx="533880" cy="457200"/>
              </a:xfrm>
            </p:grpSpPr>
            <p:sp>
              <p:nvSpPr>
                <p:cNvPr id="463" name=""/>
                <p:cNvSpPr/>
                <p:nvPr/>
              </p:nvSpPr>
              <p:spPr>
                <a:xfrm flipH="1">
                  <a:off x="3200040" y="5181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505320" y="5181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3352680" y="5181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505320" y="5181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3200400" y="4647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3505320" y="4343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3962160" y="4343040"/>
              <a:ext cx="686160" cy="1295280"/>
              <a:chOff x="3962160" y="4343040"/>
              <a:chExt cx="686160" cy="129528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3962160" y="5181120"/>
                <a:ext cx="533880" cy="457200"/>
                <a:chOff x="3962160" y="5181120"/>
                <a:chExt cx="533880" cy="457200"/>
              </a:xfrm>
            </p:grpSpPr>
            <p:sp>
              <p:nvSpPr>
                <p:cNvPr id="471" name=""/>
                <p:cNvSpPr/>
                <p:nvPr/>
              </p:nvSpPr>
              <p:spPr>
                <a:xfrm flipH="1">
                  <a:off x="3962160" y="5181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267440" y="5181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4114800" y="5181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267440" y="5181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3962520" y="4647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4267440" y="4343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5410080" y="4343040"/>
              <a:ext cx="686160" cy="1295280"/>
              <a:chOff x="5410080" y="4343040"/>
              <a:chExt cx="686160" cy="129528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5410080" y="5181120"/>
                <a:ext cx="533880" cy="457200"/>
                <a:chOff x="5410080" y="5181120"/>
                <a:chExt cx="533880" cy="457200"/>
              </a:xfrm>
            </p:grpSpPr>
            <p:sp>
              <p:nvSpPr>
                <p:cNvPr id="479" name=""/>
                <p:cNvSpPr/>
                <p:nvPr/>
              </p:nvSpPr>
              <p:spPr>
                <a:xfrm flipH="1">
                  <a:off x="5410080" y="5181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715360" y="5181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5562720" y="5181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715360" y="5181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5410440" y="4647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715360" y="4343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914400" y="3581280"/>
              <a:ext cx="685800" cy="609480"/>
            </a:xfrm>
            <a:prstGeom prst="cube">
              <a:avLst>
                <a:gd name="adj" fmla="val 25000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9320" y="434304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1219320" y="419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705720" y="4191120"/>
            <a:ext cx="1776240" cy="1466640"/>
            <a:chOff x="6705720" y="4191120"/>
            <a:chExt cx="1776240" cy="1466640"/>
          </a:xfrm>
        </p:grpSpPr>
        <p:sp>
          <p:nvSpPr>
            <p:cNvPr id="489" name=""/>
            <p:cNvSpPr/>
            <p:nvPr/>
          </p:nvSpPr>
          <p:spPr>
            <a:xfrm>
              <a:off x="6705720" y="4290840"/>
              <a:ext cx="1776240" cy="1224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43840" y="480060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62600" y="4343400"/>
              <a:ext cx="16002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62600" y="4952880"/>
              <a:ext cx="129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62600" y="487692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72440" y="487692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182080" y="54291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258040" y="54291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34360" y="54291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10680" y="54291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8405640" y="419112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286840" y="486720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134200" y="4919760"/>
              <a:ext cx="304920" cy="5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st Week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echniques illustrated -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mpose into independent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ping computation and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large task size, e.g. several rows/columns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aching by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order computation to “use data o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broadcas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6019920"/>
            <a:ext cx="6858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SUMMA algorithm used all of these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valu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urposely vague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st is not known and cannot be known because every machine is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agreement yet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bandwidth, engineering, interfaces, m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st cannot be a si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because of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, conflic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ing for communication -- if possible -- should be done by the compiler not a progra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943600" y="3657240"/>
            <a:ext cx="1295280" cy="1219320"/>
            <a:chOff x="5943600" y="3657240"/>
            <a:chExt cx="1295280" cy="1219320"/>
          </a:xfrm>
        </p:grpSpPr>
        <p:sp>
          <p:nvSpPr>
            <p:cNvPr id="505" name=""/>
            <p:cNvSpPr/>
            <p:nvPr/>
          </p:nvSpPr>
          <p:spPr>
            <a:xfrm flipV="1">
              <a:off x="6142680" y="36572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6441840" y="36572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6740640" y="36572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039440" y="36572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43600" y="38379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43320" y="374760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42120" y="374760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640920" y="374760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40080" y="374760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43600" y="41090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43320" y="401868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42120" y="401868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40920" y="401868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40080" y="401868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43600" y="43797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43320" y="428976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42120" y="428976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0920" y="428976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40080" y="428976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43600" y="46508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43320" y="456048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42120" y="456048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40920" y="456048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40080" y="456048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TA Abstracts Existing Architectur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MD parallel machines -- all machines since mid 1980s -- are modeled by 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minor adjustments may be ne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chines do not have a controller (front end machine), but one PE can be both a PE and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chines such as bus-architectures fail to meet the point-to-point network feature, but a decent bus is an OK approximation (and there is no other mode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CTA contains the von Neumann architecture C is good for programming PEs but more global abstractions are ne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ssessing the CTA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iderations w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key features of HW implement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costs realis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across physical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he above have been established experiment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s simple as possible relative to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ifficult to measure, but programmers can us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use the CTA in this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5715000"/>
            <a:ext cx="8153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mproving CTA may be possible, but not in some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ternatives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models have been proposed, but they have had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P [UC Berkeley] is CTA+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measures latency and other variables related to communication -- too many fre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l was effective at predicting behavior on the Thinking Machines CM-5, which motivate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many parameters, it was difficult to decide which were significant, especially when their values are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remains a model of theoretical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6095880"/>
            <a:ext cx="8458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ogP’s parameters try being exact about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.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ternatives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ogramming has motivated many mod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currency is natural part of parameter evalu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ors not specifically identified -- they simply work on next ta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-once memory avoids races and indetermin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otion of locality since it is not possible to associate memory with any logical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models presume shared memory computers and have considerable overhead; functional has not become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n Neumann model allows us to be successful C programm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allel alternative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AM is not a good alternative because it leads us to impractical algorithms like the O(loglog n)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TA does work because it charges for data motion and communication using the paramete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ing locality is a central benefit of the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A abstracts all contemporary MIMD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38080" y="5486400"/>
            <a:ext cx="7467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nding a model is a balancing act in which the “right” things are modeled and everything else is ign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lan for Toda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von Neumann model &amp; C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PRAM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ant’s Maximum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result to evaluat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C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result to evaluat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P is too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is too va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ccessful Programm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write programs in C they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programs run fast, especially if we use performance as a go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rse arrays in row major order to improve ca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conom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use resources w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data by packing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or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un well on any computer with C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puters are universal, but with C fast programs are fast every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asy to 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we know many ‘good’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data, don’t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019920"/>
            <a:ext cx="777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se qualities all derive from von Neumma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Von Neumann (RAM) Mod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the ‘standard’ model of a computer (RAM) the von Neuman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cessor interpreting 3-address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pointing to the next instruction of program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, randomly accessed memory requires 1 tim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is composed of fixed-size addressable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struction executes at a time, and is completed before the next instruction exec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is not literally true, e.g., memory is hierarchical but made to “look fl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5867280"/>
            <a:ext cx="6324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 directly implements this model in a H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vN Model Contributes To Succes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st of C statements on the vN machine is “understood” by C programmers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time doe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[r][s] += B[r][s]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qui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row_size_A, r, s, A_base, B_base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 = (row_size_A * r + s) * data_size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_base + temp; B_base + temp; load both values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values and return to memory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or many operations, any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is measured in “instructions” no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conomic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Easy to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6172200"/>
            <a:ext cx="5334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Widely known and effectively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ortabilit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mportant property of the C-vN coupl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is approximately right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o little variation in sequential compu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895480"/>
            <a:ext cx="3124080" cy="914400"/>
          </a:xfrm>
          <a:custGeom>
            <a:avLst/>
            <a:gdLst>
              <a:gd name="textAreaLeft" fmla="*/ 619920 w 3124080"/>
              <a:gd name="textAreaRight" fmla="*/ 2121840 w 312408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72" hR="21600" stAng="10800000" swAng="5400000"/>
                <a:lnTo>
                  <a:pt x="10383" y="0"/>
                </a:lnTo>
                <a:arcTo wR="8572" hR="21600" stAng="-5400000" swAng="3279914"/>
                <a:lnTo>
                  <a:pt x="21280" y="15750"/>
                </a:lnTo>
                <a:lnTo>
                  <a:pt x="18050" y="21600"/>
                </a:lnTo>
                <a:lnTo>
                  <a:pt x="14179" y="15750"/>
                </a:lnTo>
                <a:lnTo>
                  <a:pt x="16824" y="15750"/>
                </a:lnTo>
                <a:arcTo wR="8572" hR="21600" stAng="-2120086" swAng="-3135075"/>
                <a:lnTo>
                  <a:pt x="9478" y="121"/>
                </a:lnTo>
                <a:arcTo wR="8572" hR="21600" stAng="-5544840" swAng="-5255160"/>
                <a:close/>
              </a:path>
              <a:path fill="darkenLess" w="21600" h="21600">
                <a:moveTo>
                  <a:pt x="0" y="21600"/>
                </a:moveTo>
                <a:arcTo wR="8572" hR="21600" stAng="10800000" swAng="5400000"/>
                <a:lnTo>
                  <a:pt x="8572" y="0"/>
                </a:lnTo>
                <a:arcTo wR="8572" hR="21600" stAng="-5400000" swAng="144840"/>
                <a:lnTo>
                  <a:pt x="9478" y="121"/>
                </a:lnTo>
                <a:arcTo wR="8572" hR="21600" stAng="-5544840" swAng="-525516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962520"/>
            <a:ext cx="2971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HW vendors must run installed SW so follow vN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3962520"/>
            <a:ext cx="3124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W vendors must run on installed HW so follow vN r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2743200" y="5334120"/>
            <a:ext cx="3124080" cy="914400"/>
          </a:xfrm>
          <a:custGeom>
            <a:avLst/>
            <a:gdLst>
              <a:gd name="textAreaLeft" fmla="*/ 619920 w 3124080"/>
              <a:gd name="textAreaRight" fmla="*/ 2121840 w 312408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72" hR="21600" stAng="10800000" swAng="5400000"/>
                <a:lnTo>
                  <a:pt x="10383" y="0"/>
                </a:lnTo>
                <a:arcTo wR="8572" hR="21600" stAng="-5400000" swAng="3279914"/>
                <a:lnTo>
                  <a:pt x="21280" y="15750"/>
                </a:lnTo>
                <a:lnTo>
                  <a:pt x="18050" y="21600"/>
                </a:lnTo>
                <a:lnTo>
                  <a:pt x="14179" y="15750"/>
                </a:lnTo>
                <a:lnTo>
                  <a:pt x="16824" y="15750"/>
                </a:lnTo>
                <a:arcTo wR="8572" hR="21600" stAng="-2120086" swAng="-3135075"/>
                <a:lnTo>
                  <a:pt x="9478" y="121"/>
                </a:lnTo>
                <a:arcTo wR="8572" hR="21600" stAng="-5544840" swAng="-5255160"/>
                <a:close/>
              </a:path>
              <a:path fill="darkenLess" w="21600" h="21600">
                <a:moveTo>
                  <a:pt x="0" y="21600"/>
                </a:moveTo>
                <a:arcTo wR="8572" hR="21600" stAng="10800000" swAng="5400000"/>
                <a:lnTo>
                  <a:pt x="8572" y="0"/>
                </a:lnTo>
                <a:arcTo wR="8572" hR="21600" stAng="-5400000" swAng="144840"/>
                <a:lnTo>
                  <a:pt x="9478" y="121"/>
                </a:lnTo>
                <a:arcTo wR="8572" hR="21600" stAng="-5544840" swAng="-525516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5867280"/>
            <a:ext cx="3276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veryone wins … no motive 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Von Neumann Summa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n Neumann model “explains” the costs of C because C expresses the facilities of the von Neumann machines in a set of useful programming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the relationship between C and the von Neumann machine is essential for writing efficien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the rules produces good results everywhere because everyon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5791320"/>
            <a:ext cx="5257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What is the parallel version of v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2:35:28Z</dcterms:created>
  <dc:creator>Snyder</dc:creator>
  <dc:description/>
  <dc:language>en-US</dc:language>
  <cp:lastModifiedBy>Snyder</cp:lastModifiedBy>
  <dcterms:modified xsi:type="dcterms:W3CDTF">2002-10-11T14:57:38Z</dcterms:modified>
  <cp:revision>31</cp:revision>
  <dc:subject/>
  <dc:title>Survey of Parallel Computation</dc:title>
</cp:coreProperties>
</file>