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F97-F624-433D-93E7-98994D28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064-AECA-4B20-8C25-9AD8545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350-F93E-4D67-9882-9FF78BED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9C5-29D3-4CE6-851A-5C74174F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35F-8DB8-4C1A-9092-019BBF0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E1A-14B6-434E-894B-E37DFDB3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10F-CC68-404F-96EC-E61C817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1DC-E8CC-4B18-8947-BDE3DF6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464-279E-4445-8D88-618E531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F49-C682-4572-BDD7-C9565CB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131-3F1C-4D0A-8973-FC9F493B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4C4-BEEB-4B29-8887-250A457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879-E699-4E67-B146-4C09FBDF3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vey of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rry Sny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versity of Washington, 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n-Parallel Techniqu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mputing, e.g. client/server structure, is not usually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-and-conquer is usually limited by “sending and receiving” the data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hat assu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or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techniques that focus on reducing operation counts and building complex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Computation: Global 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sequence of number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sequential solu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specifies an order of summation that is not essential to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895480"/>
            <a:ext cx="54864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sum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for (i=0; i&lt;n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sum = sum + x[i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 Alternative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ummation tre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 associativity of addi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the processors 0 to n/2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s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P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962520"/>
            <a:ext cx="548640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mmon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is used for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roblem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is used for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number of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tion tree on 4 process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66680" y="5791320"/>
            <a:ext cx="685800" cy="685800"/>
            <a:chOff x="1066680" y="5791320"/>
            <a:chExt cx="685800" cy="685800"/>
          </a:xfrm>
        </p:grpSpPr>
        <p:sp>
          <p:nvSpPr>
            <p:cNvPr id="128" name=""/>
            <p:cNvSpPr/>
            <p:nvPr/>
          </p:nvSpPr>
          <p:spPr>
            <a:xfrm>
              <a:off x="10666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43200" y="5791320"/>
            <a:ext cx="685800" cy="685800"/>
            <a:chOff x="2743200" y="5791320"/>
            <a:chExt cx="685800" cy="685800"/>
          </a:xfrm>
        </p:grpSpPr>
        <p:sp>
          <p:nvSpPr>
            <p:cNvPr id="131" name=""/>
            <p:cNvSpPr/>
            <p:nvPr/>
          </p:nvSpPr>
          <p:spPr>
            <a:xfrm>
              <a:off x="274320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5120" y="5791320"/>
            <a:ext cx="685800" cy="685800"/>
            <a:chOff x="1905120" y="5791320"/>
            <a:chExt cx="685800" cy="685800"/>
          </a:xfrm>
        </p:grpSpPr>
        <p:sp>
          <p:nvSpPr>
            <p:cNvPr id="134" name=""/>
            <p:cNvSpPr/>
            <p:nvPr/>
          </p:nvSpPr>
          <p:spPr>
            <a:xfrm>
              <a:off x="19051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51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581280" y="5791320"/>
            <a:ext cx="685800" cy="685800"/>
            <a:chOff x="3581280" y="5791320"/>
            <a:chExt cx="685800" cy="685800"/>
          </a:xfrm>
        </p:grpSpPr>
        <p:sp>
          <p:nvSpPr>
            <p:cNvPr id="137" name=""/>
            <p:cNvSpPr/>
            <p:nvPr/>
          </p:nvSpPr>
          <p:spPr>
            <a:xfrm>
              <a:off x="35812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19720" y="5791320"/>
            <a:ext cx="685800" cy="685800"/>
            <a:chOff x="4419720" y="5791320"/>
            <a:chExt cx="685800" cy="685800"/>
          </a:xfrm>
        </p:grpSpPr>
        <p:sp>
          <p:nvSpPr>
            <p:cNvPr id="140" name=""/>
            <p:cNvSpPr/>
            <p:nvPr/>
          </p:nvSpPr>
          <p:spPr>
            <a:xfrm>
              <a:off x="44197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95880" y="5791320"/>
            <a:ext cx="685800" cy="685800"/>
            <a:chOff x="6095880" y="5791320"/>
            <a:chExt cx="685800" cy="685800"/>
          </a:xfrm>
        </p:grpSpPr>
        <p:sp>
          <p:nvSpPr>
            <p:cNvPr id="143" name=""/>
            <p:cNvSpPr/>
            <p:nvPr/>
          </p:nvSpPr>
          <p:spPr>
            <a:xfrm>
              <a:off x="60958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5791320"/>
            <a:ext cx="685800" cy="685800"/>
            <a:chOff x="5257800" y="5791320"/>
            <a:chExt cx="685800" cy="685800"/>
          </a:xfrm>
        </p:grpSpPr>
        <p:sp>
          <p:nvSpPr>
            <p:cNvPr id="146" name=""/>
            <p:cNvSpPr/>
            <p:nvPr/>
          </p:nvSpPr>
          <p:spPr>
            <a:xfrm>
              <a:off x="525780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934320" y="5791320"/>
            <a:ext cx="685800" cy="685800"/>
            <a:chOff x="6934320" y="5791320"/>
            <a:chExt cx="685800" cy="685800"/>
          </a:xfrm>
        </p:grpSpPr>
        <p:sp>
          <p:nvSpPr>
            <p:cNvPr id="149" name=""/>
            <p:cNvSpPr/>
            <p:nvPr/>
          </p:nvSpPr>
          <p:spPr>
            <a:xfrm>
              <a:off x="69343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43200" y="4876920"/>
            <a:ext cx="761760" cy="685800"/>
            <a:chOff x="2743200" y="4876920"/>
            <a:chExt cx="761760" cy="685800"/>
          </a:xfrm>
        </p:grpSpPr>
        <p:sp>
          <p:nvSpPr>
            <p:cNvPr id="152" name=""/>
            <p:cNvSpPr/>
            <p:nvPr/>
          </p:nvSpPr>
          <p:spPr>
            <a:xfrm>
              <a:off x="274320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66680" y="4876920"/>
            <a:ext cx="761760" cy="685800"/>
            <a:chOff x="1066680" y="4876920"/>
            <a:chExt cx="761760" cy="685800"/>
          </a:xfrm>
        </p:grpSpPr>
        <p:sp>
          <p:nvSpPr>
            <p:cNvPr id="155" name=""/>
            <p:cNvSpPr/>
            <p:nvPr/>
          </p:nvSpPr>
          <p:spPr>
            <a:xfrm>
              <a:off x="106668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19720" y="4876920"/>
            <a:ext cx="761760" cy="685800"/>
            <a:chOff x="4419720" y="4876920"/>
            <a:chExt cx="761760" cy="685800"/>
          </a:xfrm>
        </p:grpSpPr>
        <p:sp>
          <p:nvSpPr>
            <p:cNvPr id="158" name=""/>
            <p:cNvSpPr/>
            <p:nvPr/>
          </p:nvSpPr>
          <p:spPr>
            <a:xfrm>
              <a:off x="441972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5880" y="4876920"/>
            <a:ext cx="761760" cy="685800"/>
            <a:chOff x="6095880" y="4876920"/>
            <a:chExt cx="761760" cy="685800"/>
          </a:xfrm>
        </p:grpSpPr>
        <p:sp>
          <p:nvSpPr>
            <p:cNvPr id="161" name=""/>
            <p:cNvSpPr/>
            <p:nvPr/>
          </p:nvSpPr>
          <p:spPr>
            <a:xfrm>
              <a:off x="609588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66680" y="3809880"/>
            <a:ext cx="761760" cy="685800"/>
            <a:chOff x="1066680" y="3809880"/>
            <a:chExt cx="761760" cy="685800"/>
          </a:xfrm>
        </p:grpSpPr>
        <p:sp>
          <p:nvSpPr>
            <p:cNvPr id="164" name=""/>
            <p:cNvSpPr/>
            <p:nvPr/>
          </p:nvSpPr>
          <p:spPr>
            <a:xfrm>
              <a:off x="1066680" y="380988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3885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19720" y="3809880"/>
            <a:ext cx="761760" cy="685800"/>
            <a:chOff x="4419720" y="3809880"/>
            <a:chExt cx="761760" cy="685800"/>
          </a:xfrm>
        </p:grpSpPr>
        <p:sp>
          <p:nvSpPr>
            <p:cNvPr id="167" name=""/>
            <p:cNvSpPr/>
            <p:nvPr/>
          </p:nvSpPr>
          <p:spPr>
            <a:xfrm>
              <a:off x="4419720" y="380988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9720" y="3885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66680" y="2743200"/>
            <a:ext cx="761760" cy="685800"/>
            <a:chOff x="1066680" y="2743200"/>
            <a:chExt cx="761760" cy="685800"/>
          </a:xfrm>
        </p:grpSpPr>
        <p:sp>
          <p:nvSpPr>
            <p:cNvPr id="170" name=""/>
            <p:cNvSpPr/>
            <p:nvPr/>
          </p:nvSpPr>
          <p:spPr>
            <a:xfrm>
              <a:off x="1066680" y="274320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28191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914400" y="1828800"/>
            <a:ext cx="762120" cy="685800"/>
            <a:chOff x="914400" y="1828800"/>
            <a:chExt cx="762120" cy="685800"/>
          </a:xfrm>
        </p:grpSpPr>
        <p:sp>
          <p:nvSpPr>
            <p:cNvPr id="173" name=""/>
            <p:cNvSpPr/>
            <p:nvPr/>
          </p:nvSpPr>
          <p:spPr>
            <a:xfrm>
              <a:off x="9144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75248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812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42900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2428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10552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0080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78168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4495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752120" y="4495320"/>
            <a:ext cx="12956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24280" y="4495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105520" y="4495320"/>
            <a:ext cx="1295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37160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752120" y="34290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1828800"/>
            <a:ext cx="761760" cy="685800"/>
            <a:chOff x="2590920" y="1828800"/>
            <a:chExt cx="761760" cy="685800"/>
          </a:xfrm>
        </p:grpSpPr>
        <p:sp>
          <p:nvSpPr>
            <p:cNvPr id="190" name=""/>
            <p:cNvSpPr/>
            <p:nvPr/>
          </p:nvSpPr>
          <p:spPr>
            <a:xfrm>
              <a:off x="25909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267080" y="1828800"/>
            <a:ext cx="762120" cy="685800"/>
            <a:chOff x="4267080" y="1828800"/>
            <a:chExt cx="762120" cy="685800"/>
          </a:xfrm>
        </p:grpSpPr>
        <p:sp>
          <p:nvSpPr>
            <p:cNvPr id="193" name=""/>
            <p:cNvSpPr/>
            <p:nvPr/>
          </p:nvSpPr>
          <p:spPr>
            <a:xfrm>
              <a:off x="426708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708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943600" y="1828800"/>
            <a:ext cx="762120" cy="685800"/>
            <a:chOff x="5943600" y="1828800"/>
            <a:chExt cx="762120" cy="685800"/>
          </a:xfrm>
        </p:grpSpPr>
        <p:sp>
          <p:nvSpPr>
            <p:cNvPr id="196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086600" y="2971800"/>
            <a:ext cx="152388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doe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 a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onsider time, processors, com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: operation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: P temp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 = P-1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67080" y="2666880"/>
            <a:ext cx="4571640" cy="3200400"/>
            <a:chOff x="4267080" y="2666880"/>
            <a:chExt cx="4571640" cy="3200400"/>
          </a:xfrm>
        </p:grpSpPr>
        <p:sp>
          <p:nvSpPr>
            <p:cNvPr id="202" name=""/>
            <p:cNvSpPr/>
            <p:nvPr/>
          </p:nvSpPr>
          <p:spPr>
            <a:xfrm>
              <a:off x="4370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13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56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99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370400" y="5396040"/>
              <a:ext cx="468000" cy="471240"/>
              <a:chOff x="4370400" y="5396040"/>
              <a:chExt cx="468000" cy="471240"/>
            </a:xfrm>
          </p:grpSpPr>
          <p:sp>
            <p:nvSpPr>
              <p:cNvPr id="207" name=""/>
              <p:cNvSpPr/>
              <p:nvPr/>
            </p:nvSpPr>
            <p:spPr>
              <a:xfrm>
                <a:off x="4371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70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513400" y="5396040"/>
              <a:ext cx="468000" cy="471240"/>
              <a:chOff x="5513400" y="5396040"/>
              <a:chExt cx="468000" cy="471240"/>
            </a:xfrm>
          </p:grpSpPr>
          <p:sp>
            <p:nvSpPr>
              <p:cNvPr id="210" name=""/>
              <p:cNvSpPr/>
              <p:nvPr/>
            </p:nvSpPr>
            <p:spPr>
              <a:xfrm>
                <a:off x="5514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13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941720" y="5396040"/>
              <a:ext cx="468000" cy="471240"/>
              <a:chOff x="4941720" y="5396040"/>
              <a:chExt cx="468000" cy="47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42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41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084720" y="5396040"/>
              <a:ext cx="468000" cy="471240"/>
              <a:chOff x="6084720" y="5396040"/>
              <a:chExt cx="468000" cy="471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085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84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656400" y="5396040"/>
              <a:ext cx="468000" cy="471240"/>
              <a:chOff x="6656400" y="5396040"/>
              <a:chExt cx="468000" cy="471240"/>
            </a:xfrm>
          </p:grpSpPr>
          <p:sp>
            <p:nvSpPr>
              <p:cNvPr id="219" name=""/>
              <p:cNvSpPr/>
              <p:nvPr/>
            </p:nvSpPr>
            <p:spPr>
              <a:xfrm>
                <a:off x="6657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56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799400" y="5396040"/>
              <a:ext cx="468000" cy="471240"/>
              <a:chOff x="7799400" y="5396040"/>
              <a:chExt cx="468000" cy="471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800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99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227720" y="5396040"/>
              <a:ext cx="468000" cy="471240"/>
              <a:chOff x="7227720" y="5396040"/>
              <a:chExt cx="468000" cy="471240"/>
            </a:xfrm>
          </p:grpSpPr>
          <p:sp>
            <p:nvSpPr>
              <p:cNvPr id="225" name=""/>
              <p:cNvSpPr/>
              <p:nvPr/>
            </p:nvSpPr>
            <p:spPr>
              <a:xfrm>
                <a:off x="7228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27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370720" y="5396040"/>
              <a:ext cx="468000" cy="471240"/>
              <a:chOff x="8370720" y="5396040"/>
              <a:chExt cx="468000" cy="47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8371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70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513400" y="4765680"/>
              <a:ext cx="520560" cy="471600"/>
              <a:chOff x="5513400" y="4765680"/>
              <a:chExt cx="520560" cy="471600"/>
            </a:xfrm>
          </p:grpSpPr>
          <p:sp>
            <p:nvSpPr>
              <p:cNvPr id="231" name=""/>
              <p:cNvSpPr/>
              <p:nvPr/>
            </p:nvSpPr>
            <p:spPr>
              <a:xfrm>
                <a:off x="5514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13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370400" y="4765680"/>
              <a:ext cx="520560" cy="471600"/>
              <a:chOff x="4370400" y="4765680"/>
              <a:chExt cx="520560" cy="471600"/>
            </a:xfrm>
          </p:grpSpPr>
          <p:sp>
            <p:nvSpPr>
              <p:cNvPr id="234" name=""/>
              <p:cNvSpPr/>
              <p:nvPr/>
            </p:nvSpPr>
            <p:spPr>
              <a:xfrm>
                <a:off x="4371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70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656400" y="4765680"/>
              <a:ext cx="520560" cy="471600"/>
              <a:chOff x="6656400" y="4765680"/>
              <a:chExt cx="520560" cy="471600"/>
            </a:xfrm>
          </p:grpSpPr>
          <p:sp>
            <p:nvSpPr>
              <p:cNvPr id="237" name=""/>
              <p:cNvSpPr/>
              <p:nvPr/>
            </p:nvSpPr>
            <p:spPr>
              <a:xfrm>
                <a:off x="6657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56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799400" y="4765680"/>
              <a:ext cx="520560" cy="471600"/>
              <a:chOff x="7799400" y="4765680"/>
              <a:chExt cx="520560" cy="471600"/>
            </a:xfrm>
          </p:grpSpPr>
          <p:sp>
            <p:nvSpPr>
              <p:cNvPr id="240" name=""/>
              <p:cNvSpPr/>
              <p:nvPr/>
            </p:nvSpPr>
            <p:spPr>
              <a:xfrm>
                <a:off x="7800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7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370400" y="4030560"/>
              <a:ext cx="520560" cy="473040"/>
              <a:chOff x="4370400" y="4030560"/>
              <a:chExt cx="520560" cy="473040"/>
            </a:xfrm>
          </p:grpSpPr>
          <p:sp>
            <p:nvSpPr>
              <p:cNvPr id="243" name=""/>
              <p:cNvSpPr/>
              <p:nvPr/>
            </p:nvSpPr>
            <p:spPr>
              <a:xfrm>
                <a:off x="4371480" y="4030560"/>
                <a:ext cx="4676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70400" y="408276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656400" y="4030560"/>
              <a:ext cx="520560" cy="473040"/>
              <a:chOff x="6656400" y="4030560"/>
              <a:chExt cx="520560" cy="473040"/>
            </a:xfrm>
          </p:grpSpPr>
          <p:sp>
            <p:nvSpPr>
              <p:cNvPr id="246" name=""/>
              <p:cNvSpPr/>
              <p:nvPr/>
            </p:nvSpPr>
            <p:spPr>
              <a:xfrm>
                <a:off x="6657480" y="4030560"/>
                <a:ext cx="4676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56400" y="408276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370400" y="3297240"/>
              <a:ext cx="520560" cy="471600"/>
              <a:chOff x="4370400" y="3297240"/>
              <a:chExt cx="520560" cy="47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4371480" y="329724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70400" y="335160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267080" y="2666880"/>
              <a:ext cx="519120" cy="471600"/>
              <a:chOff x="4267080" y="2666880"/>
              <a:chExt cx="519120" cy="471600"/>
            </a:xfrm>
          </p:grpSpPr>
          <p:sp>
            <p:nvSpPr>
              <p:cNvPr id="252" name=""/>
              <p:cNvSpPr/>
              <p:nvPr/>
            </p:nvSpPr>
            <p:spPr>
              <a:xfrm>
                <a:off x="4267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67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V="1">
              <a:off x="4578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4838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721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5981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864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7124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007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8267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578480" y="4503600"/>
              <a:ext cx="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838760" y="4503600"/>
              <a:ext cx="88272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64480" y="4503600"/>
              <a:ext cx="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7124760" y="4503600"/>
              <a:ext cx="88272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578480" y="3768480"/>
              <a:ext cx="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838400" y="3768480"/>
              <a:ext cx="202572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410080" y="2666880"/>
              <a:ext cx="519120" cy="471600"/>
              <a:chOff x="5410080" y="2666880"/>
              <a:chExt cx="519120" cy="47160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53080" y="2666880"/>
              <a:ext cx="519120" cy="471600"/>
              <a:chOff x="6553080" y="2666880"/>
              <a:chExt cx="519120" cy="471600"/>
            </a:xfrm>
          </p:grpSpPr>
          <p:sp>
            <p:nvSpPr>
              <p:cNvPr id="272" name=""/>
              <p:cNvSpPr/>
              <p:nvPr/>
            </p:nvSpPr>
            <p:spPr>
              <a:xfrm>
                <a:off x="6553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53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696080" y="2666880"/>
              <a:ext cx="519120" cy="471600"/>
              <a:chOff x="7696080" y="2666880"/>
              <a:chExt cx="519120" cy="471600"/>
            </a:xfrm>
          </p:grpSpPr>
          <p:sp>
            <p:nvSpPr>
              <p:cNvPr id="275" name=""/>
              <p:cNvSpPr/>
              <p:nvPr/>
            </p:nvSpPr>
            <p:spPr>
              <a:xfrm>
                <a:off x="7696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96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w would solution scale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(almost) always much larger than the available processors, so scaling concerns solving problem w/ fewer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2971800"/>
            <a:ext cx="3657240" cy="2666880"/>
            <a:chOff x="914400" y="2971800"/>
            <a:chExt cx="3657240" cy="2666880"/>
          </a:xfrm>
        </p:grpSpPr>
        <p:sp>
          <p:nvSpPr>
            <p:cNvPr id="280" name=""/>
            <p:cNvSpPr/>
            <p:nvPr/>
          </p:nvSpPr>
          <p:spPr>
            <a:xfrm>
              <a:off x="996840" y="3278160"/>
              <a:ext cx="12891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5640" y="3278160"/>
              <a:ext cx="12891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996840" y="5246640"/>
              <a:ext cx="374400" cy="392040"/>
              <a:chOff x="996840" y="5246640"/>
              <a:chExt cx="374400" cy="392040"/>
            </a:xfrm>
          </p:grpSpPr>
          <p:sp>
            <p:nvSpPr>
              <p:cNvPr id="283" name=""/>
              <p:cNvSpPr/>
              <p:nvPr/>
            </p:nvSpPr>
            <p:spPr>
              <a:xfrm>
                <a:off x="9975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68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911240" y="5246640"/>
              <a:ext cx="374400" cy="392040"/>
              <a:chOff x="1911240" y="5246640"/>
              <a:chExt cx="374400" cy="392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9119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112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454040" y="5246640"/>
              <a:ext cx="374400" cy="392040"/>
              <a:chOff x="1454040" y="5246640"/>
              <a:chExt cx="374400" cy="392040"/>
            </a:xfrm>
          </p:grpSpPr>
          <p:sp>
            <p:nvSpPr>
              <p:cNvPr id="289" name=""/>
              <p:cNvSpPr/>
              <p:nvPr/>
            </p:nvSpPr>
            <p:spPr>
              <a:xfrm>
                <a:off x="14547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540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68440" y="5246640"/>
              <a:ext cx="374400" cy="392040"/>
              <a:chOff x="2368440" y="5246640"/>
              <a:chExt cx="374400" cy="392040"/>
            </a:xfrm>
          </p:grpSpPr>
          <p:sp>
            <p:nvSpPr>
              <p:cNvPr id="292" name=""/>
              <p:cNvSpPr/>
              <p:nvPr/>
            </p:nvSpPr>
            <p:spPr>
              <a:xfrm>
                <a:off x="23691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684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825640" y="5246640"/>
              <a:ext cx="374400" cy="392040"/>
              <a:chOff x="2825640" y="5246640"/>
              <a:chExt cx="374400" cy="392040"/>
            </a:xfrm>
          </p:grpSpPr>
          <p:sp>
            <p:nvSpPr>
              <p:cNvPr id="295" name=""/>
              <p:cNvSpPr/>
              <p:nvPr/>
            </p:nvSpPr>
            <p:spPr>
              <a:xfrm>
                <a:off x="28263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256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740040" y="5246640"/>
              <a:ext cx="374400" cy="392040"/>
              <a:chOff x="3740040" y="5246640"/>
              <a:chExt cx="374400" cy="392040"/>
            </a:xfrm>
          </p:grpSpPr>
          <p:sp>
            <p:nvSpPr>
              <p:cNvPr id="298" name=""/>
              <p:cNvSpPr/>
              <p:nvPr/>
            </p:nvSpPr>
            <p:spPr>
              <a:xfrm>
                <a:off x="37407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400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282840" y="5246640"/>
              <a:ext cx="374400" cy="392040"/>
              <a:chOff x="3282840" y="5246640"/>
              <a:chExt cx="374400" cy="392040"/>
            </a:xfrm>
          </p:grpSpPr>
          <p:sp>
            <p:nvSpPr>
              <p:cNvPr id="301" name=""/>
              <p:cNvSpPr/>
              <p:nvPr/>
            </p:nvSpPr>
            <p:spPr>
              <a:xfrm>
                <a:off x="32835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828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197240" y="5246640"/>
              <a:ext cx="374400" cy="392040"/>
              <a:chOff x="4197240" y="5246640"/>
              <a:chExt cx="374400" cy="39204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79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972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911240" y="4721400"/>
              <a:ext cx="416160" cy="392040"/>
              <a:chOff x="1911240" y="4721400"/>
              <a:chExt cx="416160" cy="392040"/>
            </a:xfrm>
          </p:grpSpPr>
          <p:sp>
            <p:nvSpPr>
              <p:cNvPr id="307" name=""/>
              <p:cNvSpPr/>
              <p:nvPr/>
            </p:nvSpPr>
            <p:spPr>
              <a:xfrm>
                <a:off x="19119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112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996840" y="4721400"/>
              <a:ext cx="416160" cy="392040"/>
              <a:chOff x="996840" y="4721400"/>
              <a:chExt cx="416160" cy="392040"/>
            </a:xfrm>
          </p:grpSpPr>
          <p:sp>
            <p:nvSpPr>
              <p:cNvPr id="310" name=""/>
              <p:cNvSpPr/>
              <p:nvPr/>
            </p:nvSpPr>
            <p:spPr>
              <a:xfrm>
                <a:off x="9975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968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825640" y="4721400"/>
              <a:ext cx="416160" cy="392040"/>
              <a:chOff x="2825640" y="4721400"/>
              <a:chExt cx="416160" cy="392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8263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256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740040" y="4721400"/>
              <a:ext cx="416160" cy="392040"/>
              <a:chOff x="3740040" y="4721400"/>
              <a:chExt cx="416160" cy="392040"/>
            </a:xfrm>
          </p:grpSpPr>
          <p:sp>
            <p:nvSpPr>
              <p:cNvPr id="316" name=""/>
              <p:cNvSpPr/>
              <p:nvPr/>
            </p:nvSpPr>
            <p:spPr>
              <a:xfrm>
                <a:off x="37407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400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996840" y="4108320"/>
              <a:ext cx="416160" cy="393840"/>
              <a:chOff x="996840" y="4108320"/>
              <a:chExt cx="416160" cy="393840"/>
            </a:xfrm>
          </p:grpSpPr>
          <p:sp>
            <p:nvSpPr>
              <p:cNvPr id="319" name=""/>
              <p:cNvSpPr/>
              <p:nvPr/>
            </p:nvSpPr>
            <p:spPr>
              <a:xfrm>
                <a:off x="997560" y="4108320"/>
                <a:ext cx="373680" cy="393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96840" y="415296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825640" y="4108320"/>
              <a:ext cx="416160" cy="393840"/>
              <a:chOff x="2825640" y="4108320"/>
              <a:chExt cx="416160" cy="39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2826360" y="4108320"/>
                <a:ext cx="373680" cy="393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25640" y="415296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996840" y="3497400"/>
              <a:ext cx="416160" cy="392040"/>
              <a:chOff x="996840" y="3497400"/>
              <a:chExt cx="416160" cy="392040"/>
            </a:xfrm>
          </p:grpSpPr>
          <p:sp>
            <p:nvSpPr>
              <p:cNvPr id="325" name=""/>
              <p:cNvSpPr/>
              <p:nvPr/>
            </p:nvSpPr>
            <p:spPr>
              <a:xfrm>
                <a:off x="997560" y="3497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96840" y="35434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914400" y="2971800"/>
              <a:ext cx="415800" cy="393840"/>
              <a:chOff x="914400" y="2971800"/>
              <a:chExt cx="415800" cy="39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914400" y="2971800"/>
                <a:ext cx="373320" cy="3938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4400" y="301644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V="1">
              <a:off x="11635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13716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0779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22860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923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2004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9067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41148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163520" y="45018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371600" y="4501800"/>
              <a:ext cx="70632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92320" y="45018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3200400" y="4501800"/>
              <a:ext cx="70632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163520" y="3889440"/>
              <a:ext cx="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371600" y="3889440"/>
              <a:ext cx="16207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743200" y="2971800"/>
              <a:ext cx="415800" cy="393840"/>
              <a:chOff x="2743200" y="2971800"/>
              <a:chExt cx="415800" cy="393840"/>
            </a:xfrm>
          </p:grpSpPr>
          <p:sp>
            <p:nvSpPr>
              <p:cNvPr id="345" name=""/>
              <p:cNvSpPr/>
              <p:nvPr/>
            </p:nvSpPr>
            <p:spPr>
              <a:xfrm>
                <a:off x="2743200" y="2971800"/>
                <a:ext cx="373320" cy="3938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3200" y="301644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4952880" y="2971800"/>
            <a:ext cx="3657240" cy="2666520"/>
            <a:chOff x="4952880" y="2971800"/>
            <a:chExt cx="3657240" cy="2666520"/>
          </a:xfrm>
        </p:grpSpPr>
        <p:sp>
          <p:nvSpPr>
            <p:cNvPr id="348" name=""/>
            <p:cNvSpPr/>
            <p:nvPr/>
          </p:nvSpPr>
          <p:spPr>
            <a:xfrm>
              <a:off x="5035320" y="3277800"/>
              <a:ext cx="3747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64120" y="3277800"/>
              <a:ext cx="3747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035320" y="5246280"/>
              <a:ext cx="374400" cy="392040"/>
              <a:chOff x="5035320" y="5246280"/>
              <a:chExt cx="374400" cy="392040"/>
            </a:xfrm>
          </p:grpSpPr>
          <p:sp>
            <p:nvSpPr>
              <p:cNvPr id="351" name=""/>
              <p:cNvSpPr/>
              <p:nvPr/>
            </p:nvSpPr>
            <p:spPr>
              <a:xfrm>
                <a:off x="50360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53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49720" y="5246280"/>
              <a:ext cx="374400" cy="392040"/>
              <a:chOff x="5949720" y="5246280"/>
              <a:chExt cx="374400" cy="392040"/>
            </a:xfrm>
          </p:grpSpPr>
          <p:sp>
            <p:nvSpPr>
              <p:cNvPr id="354" name=""/>
              <p:cNvSpPr/>
              <p:nvPr/>
            </p:nvSpPr>
            <p:spPr>
              <a:xfrm>
                <a:off x="59504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497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92520" y="5246280"/>
              <a:ext cx="374400" cy="392040"/>
              <a:chOff x="5492520" y="5246280"/>
              <a:chExt cx="374400" cy="392040"/>
            </a:xfrm>
          </p:grpSpPr>
          <p:sp>
            <p:nvSpPr>
              <p:cNvPr id="357" name=""/>
              <p:cNvSpPr/>
              <p:nvPr/>
            </p:nvSpPr>
            <p:spPr>
              <a:xfrm>
                <a:off x="54932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925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406920" y="5246280"/>
              <a:ext cx="374400" cy="392040"/>
              <a:chOff x="6406920" y="5246280"/>
              <a:chExt cx="374400" cy="392040"/>
            </a:xfrm>
          </p:grpSpPr>
          <p:sp>
            <p:nvSpPr>
              <p:cNvPr id="360" name=""/>
              <p:cNvSpPr/>
              <p:nvPr/>
            </p:nvSpPr>
            <p:spPr>
              <a:xfrm>
                <a:off x="64076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069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864120" y="5246280"/>
              <a:ext cx="374400" cy="392040"/>
              <a:chOff x="6864120" y="5246280"/>
              <a:chExt cx="374400" cy="392040"/>
            </a:xfrm>
          </p:grpSpPr>
          <p:sp>
            <p:nvSpPr>
              <p:cNvPr id="363" name=""/>
              <p:cNvSpPr/>
              <p:nvPr/>
            </p:nvSpPr>
            <p:spPr>
              <a:xfrm>
                <a:off x="68648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641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778520" y="5246280"/>
              <a:ext cx="374400" cy="392040"/>
              <a:chOff x="7778520" y="5246280"/>
              <a:chExt cx="374400" cy="392040"/>
            </a:xfrm>
          </p:grpSpPr>
          <p:sp>
            <p:nvSpPr>
              <p:cNvPr id="366" name=""/>
              <p:cNvSpPr/>
              <p:nvPr/>
            </p:nvSpPr>
            <p:spPr>
              <a:xfrm>
                <a:off x="77792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785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321320" y="5246280"/>
              <a:ext cx="374400" cy="392040"/>
              <a:chOff x="7321320" y="5246280"/>
              <a:chExt cx="374400" cy="392040"/>
            </a:xfrm>
          </p:grpSpPr>
          <p:sp>
            <p:nvSpPr>
              <p:cNvPr id="369" name=""/>
              <p:cNvSpPr/>
              <p:nvPr/>
            </p:nvSpPr>
            <p:spPr>
              <a:xfrm>
                <a:off x="73220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213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235720" y="5246280"/>
              <a:ext cx="374400" cy="392040"/>
              <a:chOff x="8235720" y="5246280"/>
              <a:chExt cx="374400" cy="392040"/>
            </a:xfrm>
          </p:grpSpPr>
          <p:sp>
            <p:nvSpPr>
              <p:cNvPr id="372" name=""/>
              <p:cNvSpPr/>
              <p:nvPr/>
            </p:nvSpPr>
            <p:spPr>
              <a:xfrm>
                <a:off x="82364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357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035320" y="4108320"/>
              <a:ext cx="415800" cy="393120"/>
              <a:chOff x="5035320" y="4108320"/>
              <a:chExt cx="415800" cy="393120"/>
            </a:xfrm>
          </p:grpSpPr>
          <p:sp>
            <p:nvSpPr>
              <p:cNvPr id="375" name=""/>
              <p:cNvSpPr/>
              <p:nvPr/>
            </p:nvSpPr>
            <p:spPr>
              <a:xfrm>
                <a:off x="5036040" y="4108320"/>
                <a:ext cx="373320" cy="393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35320" y="415260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64120" y="4108320"/>
              <a:ext cx="415800" cy="393120"/>
              <a:chOff x="6864120" y="4108320"/>
              <a:chExt cx="415800" cy="393120"/>
            </a:xfrm>
          </p:grpSpPr>
          <p:sp>
            <p:nvSpPr>
              <p:cNvPr id="378" name=""/>
              <p:cNvSpPr/>
              <p:nvPr/>
            </p:nvSpPr>
            <p:spPr>
              <a:xfrm>
                <a:off x="6864840" y="4108320"/>
                <a:ext cx="373320" cy="393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64120" y="415260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035320" y="3497040"/>
              <a:ext cx="415800" cy="391680"/>
              <a:chOff x="5035320" y="3497040"/>
              <a:chExt cx="415800" cy="391680"/>
            </a:xfrm>
          </p:grpSpPr>
          <p:sp>
            <p:nvSpPr>
              <p:cNvPr id="381" name=""/>
              <p:cNvSpPr/>
              <p:nvPr/>
            </p:nvSpPr>
            <p:spPr>
              <a:xfrm>
                <a:off x="5036040" y="3497040"/>
                <a:ext cx="373320" cy="391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35320" y="354312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952880" y="2971800"/>
              <a:ext cx="415800" cy="393480"/>
              <a:chOff x="4952880" y="2971800"/>
              <a:chExt cx="415800" cy="393480"/>
            </a:xfrm>
          </p:grpSpPr>
          <p:sp>
            <p:nvSpPr>
              <p:cNvPr id="384" name=""/>
              <p:cNvSpPr/>
              <p:nvPr/>
            </p:nvSpPr>
            <p:spPr>
              <a:xfrm>
                <a:off x="4952880" y="2971800"/>
                <a:ext cx="373320" cy="3934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52880" y="301608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V="1">
              <a:off x="5181480" y="44953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181120" y="4495680"/>
              <a:ext cx="4777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181120" y="4495680"/>
              <a:ext cx="9349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181120" y="4495680"/>
              <a:ext cx="13921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02000" y="3889080"/>
              <a:ext cx="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410080" y="3889080"/>
              <a:ext cx="16207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781680" y="2971800"/>
              <a:ext cx="415800" cy="393480"/>
              <a:chOff x="6781680" y="2971800"/>
              <a:chExt cx="415800" cy="393480"/>
            </a:xfrm>
          </p:grpSpPr>
          <p:sp>
            <p:nvSpPr>
              <p:cNvPr id="393" name=""/>
              <p:cNvSpPr/>
              <p:nvPr/>
            </p:nvSpPr>
            <p:spPr>
              <a:xfrm>
                <a:off x="6781680" y="2971800"/>
                <a:ext cx="373320" cy="3934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81680" y="301608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V="1">
              <a:off x="7010280" y="44953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009920" y="4495680"/>
              <a:ext cx="4777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09920" y="4495680"/>
              <a:ext cx="9349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009920" y="4495680"/>
              <a:ext cx="13921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143000" y="5791320"/>
            <a:ext cx="7467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cognize internal structure in the algorithm rather than “simulate” full processor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505320"/>
            <a:ext cx="129528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0280" y="3505320"/>
            <a:ext cx="12956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efix Su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prefixes of a seque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at is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+1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+5+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Problem with Parallelism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ems to depend on computing the previous item -- it looks very sequ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lle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llel computation is to discover how to solve problems when it appears that a “sequential solution is necess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ne (Not So Good)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olution is to apply the summation tree to compute each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lle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“reduce to previous solution”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ould be maximum depth, I.e.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requirements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1+2+2+3+3+ … +n/2+n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638680" y="3962520"/>
            <a:ext cx="2722320" cy="2376000"/>
            <a:chOff x="5638680" y="3962520"/>
            <a:chExt cx="2722320" cy="2376000"/>
          </a:xfrm>
        </p:grpSpPr>
        <p:sp>
          <p:nvSpPr>
            <p:cNvPr id="409" name=""/>
            <p:cNvSpPr/>
            <p:nvPr/>
          </p:nvSpPr>
          <p:spPr>
            <a:xfrm>
              <a:off x="5721120" y="4235400"/>
              <a:ext cx="37152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7600" y="4235400"/>
              <a:ext cx="37332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35880" y="4235400"/>
              <a:ext cx="37116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21120" y="5987880"/>
              <a:ext cx="371160" cy="350640"/>
              <a:chOff x="5721120" y="5987880"/>
              <a:chExt cx="371160" cy="350640"/>
            </a:xfrm>
          </p:grpSpPr>
          <p:sp>
            <p:nvSpPr>
              <p:cNvPr id="413" name=""/>
              <p:cNvSpPr/>
              <p:nvPr/>
            </p:nvSpPr>
            <p:spPr>
              <a:xfrm>
                <a:off x="5721840" y="5987880"/>
                <a:ext cx="3704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21120" y="6027480"/>
                <a:ext cx="330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27600" y="5987880"/>
              <a:ext cx="372960" cy="350640"/>
              <a:chOff x="6627600" y="5987880"/>
              <a:chExt cx="372960" cy="350640"/>
            </a:xfrm>
          </p:grpSpPr>
          <p:sp>
            <p:nvSpPr>
              <p:cNvPr id="416" name=""/>
              <p:cNvSpPr/>
              <p:nvPr/>
            </p:nvSpPr>
            <p:spPr>
              <a:xfrm>
                <a:off x="6628320" y="5987880"/>
                <a:ext cx="3722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27600" y="6027480"/>
                <a:ext cx="332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173640" y="5987880"/>
              <a:ext cx="372600" cy="350640"/>
              <a:chOff x="6173640" y="5987880"/>
              <a:chExt cx="372600" cy="350640"/>
            </a:xfrm>
          </p:grpSpPr>
          <p:sp>
            <p:nvSpPr>
              <p:cNvPr id="419" name=""/>
              <p:cNvSpPr/>
              <p:nvPr/>
            </p:nvSpPr>
            <p:spPr>
              <a:xfrm>
                <a:off x="6175080" y="5987880"/>
                <a:ext cx="37116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3640" y="602748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081560" y="5987880"/>
              <a:ext cx="372960" cy="350640"/>
              <a:chOff x="7081560" y="5987880"/>
              <a:chExt cx="372960" cy="350640"/>
            </a:xfrm>
          </p:grpSpPr>
          <p:sp>
            <p:nvSpPr>
              <p:cNvPr id="422" name=""/>
              <p:cNvSpPr/>
              <p:nvPr/>
            </p:nvSpPr>
            <p:spPr>
              <a:xfrm>
                <a:off x="7082280" y="5987880"/>
                <a:ext cx="3722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81560" y="6027480"/>
                <a:ext cx="332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535880" y="5987880"/>
              <a:ext cx="370800" cy="350640"/>
              <a:chOff x="7535880" y="5987880"/>
              <a:chExt cx="370800" cy="350640"/>
            </a:xfrm>
          </p:grpSpPr>
          <p:sp>
            <p:nvSpPr>
              <p:cNvPr id="425" name=""/>
              <p:cNvSpPr/>
              <p:nvPr/>
            </p:nvSpPr>
            <p:spPr>
              <a:xfrm>
                <a:off x="7536600" y="5987880"/>
                <a:ext cx="37008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5880" y="6027480"/>
                <a:ext cx="329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989840" y="5987880"/>
              <a:ext cx="371160" cy="350640"/>
              <a:chOff x="7989840" y="5987880"/>
              <a:chExt cx="371160" cy="350640"/>
            </a:xfrm>
          </p:grpSpPr>
          <p:sp>
            <p:nvSpPr>
              <p:cNvPr id="428" name=""/>
              <p:cNvSpPr/>
              <p:nvPr/>
            </p:nvSpPr>
            <p:spPr>
              <a:xfrm>
                <a:off x="7990560" y="5987880"/>
                <a:ext cx="3704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89840" y="6027480"/>
                <a:ext cx="330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627600" y="5521320"/>
              <a:ext cx="414360" cy="348840"/>
              <a:chOff x="6627600" y="5521320"/>
              <a:chExt cx="414360" cy="348840"/>
            </a:xfrm>
          </p:grpSpPr>
          <p:sp>
            <p:nvSpPr>
              <p:cNvPr id="431" name=""/>
              <p:cNvSpPr/>
              <p:nvPr/>
            </p:nvSpPr>
            <p:spPr>
              <a:xfrm>
                <a:off x="6628320" y="5521320"/>
                <a:ext cx="37224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27600" y="555984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721120" y="5521320"/>
              <a:ext cx="412920" cy="348840"/>
              <a:chOff x="5721120" y="5521320"/>
              <a:chExt cx="412920" cy="348840"/>
            </a:xfrm>
          </p:grpSpPr>
          <p:sp>
            <p:nvSpPr>
              <p:cNvPr id="434" name=""/>
              <p:cNvSpPr/>
              <p:nvPr/>
            </p:nvSpPr>
            <p:spPr>
              <a:xfrm>
                <a:off x="5721840" y="5521320"/>
                <a:ext cx="37080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721120" y="555984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35880" y="5521320"/>
              <a:ext cx="414360" cy="348840"/>
              <a:chOff x="7535880" y="5521320"/>
              <a:chExt cx="414360" cy="348840"/>
            </a:xfrm>
          </p:grpSpPr>
          <p:sp>
            <p:nvSpPr>
              <p:cNvPr id="437" name=""/>
              <p:cNvSpPr/>
              <p:nvPr/>
            </p:nvSpPr>
            <p:spPr>
              <a:xfrm>
                <a:off x="7536600" y="5521320"/>
                <a:ext cx="37116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35880" y="555984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721120" y="4975200"/>
              <a:ext cx="412920" cy="350280"/>
              <a:chOff x="5721120" y="4975200"/>
              <a:chExt cx="412920" cy="350280"/>
            </a:xfrm>
          </p:grpSpPr>
          <p:sp>
            <p:nvSpPr>
              <p:cNvPr id="440" name=""/>
              <p:cNvSpPr/>
              <p:nvPr/>
            </p:nvSpPr>
            <p:spPr>
              <a:xfrm>
                <a:off x="5721840" y="4975200"/>
                <a:ext cx="370800" cy="35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21120" y="501480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535880" y="4975200"/>
              <a:ext cx="414360" cy="350280"/>
              <a:chOff x="7535880" y="4975200"/>
              <a:chExt cx="414360" cy="350280"/>
            </a:xfrm>
          </p:grpSpPr>
          <p:sp>
            <p:nvSpPr>
              <p:cNvPr id="443" name=""/>
              <p:cNvSpPr/>
              <p:nvPr/>
            </p:nvSpPr>
            <p:spPr>
              <a:xfrm>
                <a:off x="7536600" y="4975200"/>
                <a:ext cx="371160" cy="35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535880" y="501480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721120" y="4430520"/>
              <a:ext cx="412920" cy="348840"/>
              <a:chOff x="5721120" y="4430520"/>
              <a:chExt cx="412920" cy="348840"/>
            </a:xfrm>
          </p:grpSpPr>
          <p:sp>
            <p:nvSpPr>
              <p:cNvPr id="446" name=""/>
              <p:cNvSpPr/>
              <p:nvPr/>
            </p:nvSpPr>
            <p:spPr>
              <a:xfrm>
                <a:off x="5721840" y="4430520"/>
                <a:ext cx="37080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21120" y="446976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638680" y="3962520"/>
              <a:ext cx="412920" cy="350640"/>
              <a:chOff x="5638680" y="3962520"/>
              <a:chExt cx="412920" cy="350640"/>
            </a:xfrm>
          </p:grpSpPr>
          <p:sp>
            <p:nvSpPr>
              <p:cNvPr id="449" name=""/>
              <p:cNvSpPr/>
              <p:nvPr/>
            </p:nvSpPr>
            <p:spPr>
              <a:xfrm>
                <a:off x="5638680" y="3962520"/>
                <a:ext cx="37152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38680" y="400212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 flipV="1">
              <a:off x="588636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092640" y="5870160"/>
              <a:ext cx="2476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79284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7000560" y="5870160"/>
              <a:ext cx="2458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70076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7907040" y="5870160"/>
              <a:ext cx="2476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886360" y="532584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6092280" y="5325840"/>
              <a:ext cx="70020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700760" y="532584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886360" y="477972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6092280" y="4779720"/>
              <a:ext cx="160812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6546600" y="3962520"/>
              <a:ext cx="411120" cy="350640"/>
              <a:chOff x="6546600" y="3962520"/>
              <a:chExt cx="411120" cy="350640"/>
            </a:xfrm>
          </p:grpSpPr>
          <p:sp>
            <p:nvSpPr>
              <p:cNvPr id="463" name=""/>
              <p:cNvSpPr/>
              <p:nvPr/>
            </p:nvSpPr>
            <p:spPr>
              <a:xfrm>
                <a:off x="6546600" y="3962520"/>
                <a:ext cx="37044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46600" y="400212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454880" y="3962520"/>
              <a:ext cx="410760" cy="350640"/>
              <a:chOff x="7454880" y="3962520"/>
              <a:chExt cx="410760" cy="350640"/>
            </a:xfrm>
          </p:grpSpPr>
          <p:sp>
            <p:nvSpPr>
              <p:cNvPr id="466" name=""/>
              <p:cNvSpPr/>
              <p:nvPr/>
            </p:nvSpPr>
            <p:spPr>
              <a:xfrm>
                <a:off x="7454880" y="3962520"/>
                <a:ext cx="37008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55600" y="4002120"/>
                <a:ext cx="410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3809880" y="5334120"/>
            <a:ext cx="1524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k = 6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dner Fischer [1980] Better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refix algorithm uses idea like “carry propagation” to reduc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rst half of algorithm, each processor adds as in “global sum” technique, but it also passes to its parent the sum of its left su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cond half of algorithm, each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sum of items to its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s that to its left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 the sum of its left sub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result to its right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or i gets data to produce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urse Logistic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ssistant: Car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ext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lecture notes -- the slides will be online sometime after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 homework problems, including programming in Z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5715000"/>
            <a:ext cx="586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lease ask questions when they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Prefix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0060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371600"/>
            <a:ext cx="8076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124080" y="5181480"/>
            <a:ext cx="762120" cy="761760"/>
            <a:chOff x="3124080" y="5181480"/>
            <a:chExt cx="762120" cy="761760"/>
          </a:xfrm>
        </p:grpSpPr>
        <p:sp>
          <p:nvSpPr>
            <p:cNvPr id="478" name=""/>
            <p:cNvSpPr/>
            <p:nvPr/>
          </p:nvSpPr>
          <p:spPr>
            <a:xfrm>
              <a:off x="3124080" y="52574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4080" y="51814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62120" y="1828800"/>
            <a:ext cx="761760" cy="685800"/>
            <a:chOff x="762120" y="1828800"/>
            <a:chExt cx="761760" cy="685800"/>
          </a:xfrm>
        </p:grpSpPr>
        <p:sp>
          <p:nvSpPr>
            <p:cNvPr id="481" name=""/>
            <p:cNvSpPr/>
            <p:nvPr/>
          </p:nvSpPr>
          <p:spPr>
            <a:xfrm>
              <a:off x="7621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1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V="1">
            <a:off x="175248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213372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42900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380988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10552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548640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716292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752480" y="5105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2133720" y="510516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105520" y="5105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486400" y="510516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133720" y="4267080"/>
            <a:ext cx="26668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1828800"/>
            <a:ext cx="762120" cy="685800"/>
            <a:chOff x="2438280" y="1828800"/>
            <a:chExt cx="762120" cy="685800"/>
          </a:xfrm>
        </p:grpSpPr>
        <p:sp>
          <p:nvSpPr>
            <p:cNvPr id="497" name=""/>
            <p:cNvSpPr/>
            <p:nvPr/>
          </p:nvSpPr>
          <p:spPr>
            <a:xfrm>
              <a:off x="243828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828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114800" y="1828800"/>
            <a:ext cx="762120" cy="685800"/>
            <a:chOff x="4114800" y="1828800"/>
            <a:chExt cx="762120" cy="685800"/>
          </a:xfrm>
        </p:grpSpPr>
        <p:sp>
          <p:nvSpPr>
            <p:cNvPr id="500" name=""/>
            <p:cNvSpPr/>
            <p:nvPr/>
          </p:nvSpPr>
          <p:spPr>
            <a:xfrm>
              <a:off x="41148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148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1320" y="1828800"/>
            <a:ext cx="761760" cy="685800"/>
            <a:chOff x="5791320" y="1828800"/>
            <a:chExt cx="761760" cy="685800"/>
          </a:xfrm>
        </p:grpSpPr>
        <p:sp>
          <p:nvSpPr>
            <p:cNvPr id="503" name=""/>
            <p:cNvSpPr/>
            <p:nvPr/>
          </p:nvSpPr>
          <p:spPr>
            <a:xfrm>
              <a:off x="57913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13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447920" y="5181480"/>
            <a:ext cx="761760" cy="761760"/>
            <a:chOff x="1447920" y="5181480"/>
            <a:chExt cx="761760" cy="761760"/>
          </a:xfrm>
        </p:grpSpPr>
        <p:sp>
          <p:nvSpPr>
            <p:cNvPr id="506" name=""/>
            <p:cNvSpPr/>
            <p:nvPr/>
          </p:nvSpPr>
          <p:spPr>
            <a:xfrm>
              <a:off x="1447920" y="52574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7920" y="51814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800600" y="5181480"/>
            <a:ext cx="762120" cy="761760"/>
            <a:chOff x="4800600" y="5181480"/>
            <a:chExt cx="762120" cy="761760"/>
          </a:xfrm>
        </p:grpSpPr>
        <p:sp>
          <p:nvSpPr>
            <p:cNvPr id="509" name=""/>
            <p:cNvSpPr/>
            <p:nvPr/>
          </p:nvSpPr>
          <p:spPr>
            <a:xfrm>
              <a:off x="4800600" y="52574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00600" y="51814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477120" y="5181480"/>
            <a:ext cx="761760" cy="761760"/>
            <a:chOff x="6477120" y="5181480"/>
            <a:chExt cx="761760" cy="761760"/>
          </a:xfrm>
        </p:grpSpPr>
        <p:sp>
          <p:nvSpPr>
            <p:cNvPr id="512" name=""/>
            <p:cNvSpPr/>
            <p:nvPr/>
          </p:nvSpPr>
          <p:spPr>
            <a:xfrm>
              <a:off x="6477120" y="52574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7120" y="51814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447920" y="4343400"/>
            <a:ext cx="761760" cy="761760"/>
            <a:chOff x="1447920" y="4343400"/>
            <a:chExt cx="761760" cy="761760"/>
          </a:xfrm>
        </p:grpSpPr>
        <p:sp>
          <p:nvSpPr>
            <p:cNvPr id="515" name=""/>
            <p:cNvSpPr/>
            <p:nvPr/>
          </p:nvSpPr>
          <p:spPr>
            <a:xfrm>
              <a:off x="1447920" y="44193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47920" y="43434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800600" y="4343400"/>
            <a:ext cx="762120" cy="761760"/>
            <a:chOff x="4800600" y="4343400"/>
            <a:chExt cx="762120" cy="761760"/>
          </a:xfrm>
        </p:grpSpPr>
        <p:sp>
          <p:nvSpPr>
            <p:cNvPr id="518" name=""/>
            <p:cNvSpPr/>
            <p:nvPr/>
          </p:nvSpPr>
          <p:spPr>
            <a:xfrm>
              <a:off x="4800600" y="44193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00600" y="43434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V="1">
            <a:off x="1752480" y="42670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47920" y="2666880"/>
            <a:ext cx="761760" cy="761760"/>
            <a:chOff x="1447920" y="2666880"/>
            <a:chExt cx="761760" cy="761760"/>
          </a:xfrm>
        </p:grpSpPr>
        <p:sp>
          <p:nvSpPr>
            <p:cNvPr id="522" name=""/>
            <p:cNvSpPr/>
            <p:nvPr/>
          </p:nvSpPr>
          <p:spPr>
            <a:xfrm>
              <a:off x="1447920" y="27428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47920" y="26668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800600" y="2666880"/>
            <a:ext cx="762120" cy="761760"/>
            <a:chOff x="4800600" y="2666880"/>
            <a:chExt cx="762120" cy="761760"/>
          </a:xfrm>
        </p:grpSpPr>
        <p:sp>
          <p:nvSpPr>
            <p:cNvPr id="525" name=""/>
            <p:cNvSpPr/>
            <p:nvPr/>
          </p:nvSpPr>
          <p:spPr>
            <a:xfrm>
              <a:off x="4800600" y="27428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00600" y="26668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447920" y="3505320"/>
            <a:ext cx="761760" cy="761760"/>
            <a:chOff x="1447920" y="3505320"/>
            <a:chExt cx="761760" cy="761760"/>
          </a:xfrm>
        </p:grpSpPr>
        <p:sp>
          <p:nvSpPr>
            <p:cNvPr id="528" name=""/>
            <p:cNvSpPr/>
            <p:nvPr/>
          </p:nvSpPr>
          <p:spPr>
            <a:xfrm>
              <a:off x="1447920" y="358128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7920" y="350532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124080" y="1828800"/>
            <a:ext cx="762120" cy="761760"/>
            <a:chOff x="3124080" y="1828800"/>
            <a:chExt cx="762120" cy="761760"/>
          </a:xfrm>
        </p:grpSpPr>
        <p:sp>
          <p:nvSpPr>
            <p:cNvPr id="531" name=""/>
            <p:cNvSpPr/>
            <p:nvPr/>
          </p:nvSpPr>
          <p:spPr>
            <a:xfrm>
              <a:off x="3124080" y="19047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4080" y="18288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800600" y="1828800"/>
            <a:ext cx="762120" cy="761760"/>
            <a:chOff x="4800600" y="1828800"/>
            <a:chExt cx="762120" cy="761760"/>
          </a:xfrm>
        </p:grpSpPr>
        <p:sp>
          <p:nvSpPr>
            <p:cNvPr id="534" name=""/>
            <p:cNvSpPr/>
            <p:nvPr/>
          </p:nvSpPr>
          <p:spPr>
            <a:xfrm>
              <a:off x="4800600" y="19047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00600" y="18288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477120" y="1828800"/>
            <a:ext cx="761760" cy="761760"/>
            <a:chOff x="6477120" y="1828800"/>
            <a:chExt cx="761760" cy="761760"/>
          </a:xfrm>
        </p:grpSpPr>
        <p:sp>
          <p:nvSpPr>
            <p:cNvPr id="537" name=""/>
            <p:cNvSpPr/>
            <p:nvPr/>
          </p:nvSpPr>
          <p:spPr>
            <a:xfrm>
              <a:off x="6477120" y="19047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77120" y="18288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447920" y="1828800"/>
            <a:ext cx="761760" cy="761760"/>
            <a:chOff x="1447920" y="1828800"/>
            <a:chExt cx="761760" cy="761760"/>
          </a:xfrm>
        </p:grpSpPr>
        <p:sp>
          <p:nvSpPr>
            <p:cNvPr id="540" name=""/>
            <p:cNvSpPr/>
            <p:nvPr/>
          </p:nvSpPr>
          <p:spPr>
            <a:xfrm>
              <a:off x="1447920" y="19047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47920" y="18288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H="1">
            <a:off x="2133720" y="3429000"/>
            <a:ext cx="2666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133720" y="259092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486400" y="2590920"/>
            <a:ext cx="1371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523880" y="1143000"/>
            <a:ext cx="533520" cy="533520"/>
            <a:chOff x="1523880" y="1143000"/>
            <a:chExt cx="533520" cy="533520"/>
          </a:xfrm>
        </p:grpSpPr>
        <p:sp>
          <p:nvSpPr>
            <p:cNvPr id="546" name=""/>
            <p:cNvSpPr/>
            <p:nvPr/>
          </p:nvSpPr>
          <p:spPr>
            <a:xfrm>
              <a:off x="1523880" y="11430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3880" y="12020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362320" y="1143000"/>
            <a:ext cx="533160" cy="533520"/>
            <a:chOff x="2362320" y="1143000"/>
            <a:chExt cx="533160" cy="533520"/>
          </a:xfrm>
        </p:grpSpPr>
        <p:sp>
          <p:nvSpPr>
            <p:cNvPr id="549" name=""/>
            <p:cNvSpPr/>
            <p:nvPr/>
          </p:nvSpPr>
          <p:spPr>
            <a:xfrm>
              <a:off x="23623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623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23880" y="6172200"/>
            <a:ext cx="533520" cy="533520"/>
            <a:chOff x="1523880" y="6172200"/>
            <a:chExt cx="533520" cy="533520"/>
          </a:xfrm>
        </p:grpSpPr>
        <p:sp>
          <p:nvSpPr>
            <p:cNvPr id="552" name=""/>
            <p:cNvSpPr/>
            <p:nvPr/>
          </p:nvSpPr>
          <p:spPr>
            <a:xfrm>
              <a:off x="15238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38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200400" y="6172200"/>
            <a:ext cx="533520" cy="533520"/>
            <a:chOff x="3200400" y="6172200"/>
            <a:chExt cx="533520" cy="533520"/>
          </a:xfrm>
        </p:grpSpPr>
        <p:sp>
          <p:nvSpPr>
            <p:cNvPr id="555" name=""/>
            <p:cNvSpPr/>
            <p:nvPr/>
          </p:nvSpPr>
          <p:spPr>
            <a:xfrm>
              <a:off x="320040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040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362320" y="6172200"/>
            <a:ext cx="533160" cy="533520"/>
            <a:chOff x="2362320" y="6172200"/>
            <a:chExt cx="533160" cy="533520"/>
          </a:xfrm>
        </p:grpSpPr>
        <p:sp>
          <p:nvSpPr>
            <p:cNvPr id="558" name=""/>
            <p:cNvSpPr/>
            <p:nvPr/>
          </p:nvSpPr>
          <p:spPr>
            <a:xfrm>
              <a:off x="23623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23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038480" y="6172200"/>
            <a:ext cx="533520" cy="533520"/>
            <a:chOff x="4038480" y="6172200"/>
            <a:chExt cx="533520" cy="533520"/>
          </a:xfrm>
        </p:grpSpPr>
        <p:sp>
          <p:nvSpPr>
            <p:cNvPr id="561" name=""/>
            <p:cNvSpPr/>
            <p:nvPr/>
          </p:nvSpPr>
          <p:spPr>
            <a:xfrm>
              <a:off x="40384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84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76920" y="6172200"/>
            <a:ext cx="533160" cy="533520"/>
            <a:chOff x="4876920" y="6172200"/>
            <a:chExt cx="533160" cy="533520"/>
          </a:xfrm>
        </p:grpSpPr>
        <p:sp>
          <p:nvSpPr>
            <p:cNvPr id="564" name=""/>
            <p:cNvSpPr/>
            <p:nvPr/>
          </p:nvSpPr>
          <p:spPr>
            <a:xfrm>
              <a:off x="48769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769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553080" y="6172200"/>
            <a:ext cx="533520" cy="533520"/>
            <a:chOff x="6553080" y="6172200"/>
            <a:chExt cx="533520" cy="533520"/>
          </a:xfrm>
        </p:grpSpPr>
        <p:sp>
          <p:nvSpPr>
            <p:cNvPr id="567" name=""/>
            <p:cNvSpPr/>
            <p:nvPr/>
          </p:nvSpPr>
          <p:spPr>
            <a:xfrm>
              <a:off x="65530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715000" y="6172200"/>
            <a:ext cx="533520" cy="533520"/>
            <a:chOff x="5715000" y="6172200"/>
            <a:chExt cx="533520" cy="533520"/>
          </a:xfrm>
        </p:grpSpPr>
        <p:sp>
          <p:nvSpPr>
            <p:cNvPr id="570" name=""/>
            <p:cNvSpPr/>
            <p:nvPr/>
          </p:nvSpPr>
          <p:spPr>
            <a:xfrm>
              <a:off x="571500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1500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391520" y="6172200"/>
            <a:ext cx="533160" cy="533520"/>
            <a:chOff x="7391520" y="6172200"/>
            <a:chExt cx="533160" cy="533520"/>
          </a:xfrm>
        </p:grpSpPr>
        <p:sp>
          <p:nvSpPr>
            <p:cNvPr id="573" name=""/>
            <p:cNvSpPr/>
            <p:nvPr/>
          </p:nvSpPr>
          <p:spPr>
            <a:xfrm>
              <a:off x="73915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915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 flipV="1">
            <a:off x="1752480" y="34286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7524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75248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33720" y="167616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809880" y="167616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486400" y="167616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162920" y="167616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50532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10552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8168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200400" y="1143000"/>
            <a:ext cx="533160" cy="533520"/>
            <a:chOff x="3200400" y="1143000"/>
            <a:chExt cx="533160" cy="533520"/>
          </a:xfrm>
        </p:grpSpPr>
        <p:sp>
          <p:nvSpPr>
            <p:cNvPr id="586" name=""/>
            <p:cNvSpPr/>
            <p:nvPr/>
          </p:nvSpPr>
          <p:spPr>
            <a:xfrm>
              <a:off x="320040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0040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038480" y="1143000"/>
            <a:ext cx="533160" cy="533520"/>
            <a:chOff x="4038480" y="1143000"/>
            <a:chExt cx="533160" cy="533520"/>
          </a:xfrm>
        </p:grpSpPr>
        <p:sp>
          <p:nvSpPr>
            <p:cNvPr id="589" name=""/>
            <p:cNvSpPr/>
            <p:nvPr/>
          </p:nvSpPr>
          <p:spPr>
            <a:xfrm>
              <a:off x="403848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3848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876920" y="1143000"/>
            <a:ext cx="533160" cy="533520"/>
            <a:chOff x="4876920" y="1143000"/>
            <a:chExt cx="533160" cy="533520"/>
          </a:xfrm>
        </p:grpSpPr>
        <p:sp>
          <p:nvSpPr>
            <p:cNvPr id="592" name=""/>
            <p:cNvSpPr/>
            <p:nvPr/>
          </p:nvSpPr>
          <p:spPr>
            <a:xfrm>
              <a:off x="48769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715000" y="1143000"/>
            <a:ext cx="533160" cy="533520"/>
            <a:chOff x="5715000" y="1143000"/>
            <a:chExt cx="533160" cy="533520"/>
          </a:xfrm>
        </p:grpSpPr>
        <p:sp>
          <p:nvSpPr>
            <p:cNvPr id="595" name=""/>
            <p:cNvSpPr/>
            <p:nvPr/>
          </p:nvSpPr>
          <p:spPr>
            <a:xfrm>
              <a:off x="571500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1500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553080" y="1143000"/>
            <a:ext cx="533160" cy="533520"/>
            <a:chOff x="6553080" y="1143000"/>
            <a:chExt cx="533160" cy="533520"/>
          </a:xfrm>
        </p:grpSpPr>
        <p:sp>
          <p:nvSpPr>
            <p:cNvPr id="598" name=""/>
            <p:cNvSpPr/>
            <p:nvPr/>
          </p:nvSpPr>
          <p:spPr>
            <a:xfrm>
              <a:off x="655308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308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391520" y="1143000"/>
            <a:ext cx="533160" cy="533520"/>
            <a:chOff x="7391520" y="1143000"/>
            <a:chExt cx="533160" cy="533520"/>
          </a:xfrm>
        </p:grpSpPr>
        <p:sp>
          <p:nvSpPr>
            <p:cNvPr id="601" name=""/>
            <p:cNvSpPr/>
            <p:nvPr/>
          </p:nvSpPr>
          <p:spPr>
            <a:xfrm>
              <a:off x="73915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15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315200" y="1828800"/>
            <a:ext cx="1676520" cy="40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oes binary add, receives sum of items to its left, fwds to left subtree, adds sum of left subtree, sends to root of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1814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105520" y="38052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does the algorithm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= 2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P =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= P memory cells for local s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2 (P-1)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4876920"/>
            <a:ext cx="4952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Ladner-Fischer algorithm requires twice as much time as standard global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Bonu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ner - Fischer can solve a larger problem in “same” time! [Works for other algorithm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re are P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alues, stored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per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each processor to add the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items locally, and then solve the problem as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mpletion, compute the prefix for each of the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5334120"/>
            <a:ext cx="495288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ough the problem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P times larger, the execution time is roughly three times a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 E. Ladner and M. J. Fis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refix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urnal of the A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(4):831-8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 Ques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“best” parallel matrix multi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or nxn arrays A and B, compute their product C=AB. That i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e A and B arrays are (initially) stored in the parallel processors as blocks, strips or panels (your ch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812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8120" y="518148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8148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4876920"/>
            <a:ext cx="759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3400" y="4876920"/>
            <a:ext cx="763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876920"/>
            <a:ext cx="763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4876920"/>
            <a:ext cx="759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10080" y="4876920"/>
            <a:ext cx="60984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5029200"/>
            <a:ext cx="60984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0080" y="5181480"/>
            <a:ext cx="60984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5334120"/>
            <a:ext cx="60984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 Proble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y goal is for you to think about how to solve this problem, and to understand what makes i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stu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llel computation, and there have b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y ans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i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should try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unlimited number of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successful, try to solv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limited number of processors P 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lan For Discussing M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-- easi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ol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w/column solution +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 per “ste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unica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communication with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ient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“best practical”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ole of Comput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Matrix Multiplication (MM) Defini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arrays A and B, compute C = AB wher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114300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609588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4191120" y="32767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51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430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1120" y="3886200"/>
            <a:ext cx="16761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9400" y="3276720"/>
            <a:ext cx="15228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38862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62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6000" y="368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124080" y="5257800"/>
            <a:ext cx="4495320" cy="1008720"/>
            <a:chOff x="3124080" y="5257800"/>
            <a:chExt cx="4495320" cy="1008720"/>
          </a:xfrm>
        </p:grpSpPr>
        <p:sp>
          <p:nvSpPr>
            <p:cNvPr id="649" name=""/>
            <p:cNvSpPr/>
            <p:nvPr/>
          </p:nvSpPr>
          <p:spPr>
            <a:xfrm>
              <a:off x="4419360" y="5410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3962160" y="5257800"/>
              <a:ext cx="533520" cy="1008720"/>
              <a:chOff x="3962160" y="5257800"/>
              <a:chExt cx="533520" cy="1008720"/>
            </a:xfrm>
          </p:grpSpPr>
          <p:sp>
            <p:nvSpPr>
              <p:cNvPr id="651" name=""/>
              <p:cNvSpPr/>
              <p:nvPr/>
            </p:nvSpPr>
            <p:spPr>
              <a:xfrm>
                <a:off x="4038480" y="525780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6200000">
                <a:off x="4038120" y="594360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62160" y="54104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14800" y="52578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14800" y="58676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800600" y="5257800"/>
              <a:ext cx="532800" cy="1008720"/>
              <a:chOff x="4800600" y="5257800"/>
              <a:chExt cx="532800" cy="1008720"/>
            </a:xfrm>
          </p:grpSpPr>
          <p:sp>
            <p:nvSpPr>
              <p:cNvPr id="657" name=""/>
              <p:cNvSpPr/>
              <p:nvPr/>
            </p:nvSpPr>
            <p:spPr>
              <a:xfrm>
                <a:off x="4876560" y="525780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4876200" y="594396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800600" y="5410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52880" y="52578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952880" y="58676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638680" y="5257800"/>
              <a:ext cx="533520" cy="1008720"/>
              <a:chOff x="5638680" y="5257800"/>
              <a:chExt cx="533520" cy="1008720"/>
            </a:xfrm>
          </p:grpSpPr>
          <p:sp>
            <p:nvSpPr>
              <p:cNvPr id="663" name=""/>
              <p:cNvSpPr/>
              <p:nvPr/>
            </p:nvSpPr>
            <p:spPr>
              <a:xfrm>
                <a:off x="5715000" y="525780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200000">
                <a:off x="5714640" y="594360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38680" y="54104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1320" y="52578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8676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7086600" y="5257800"/>
              <a:ext cx="532800" cy="1008720"/>
              <a:chOff x="7086600" y="5257800"/>
              <a:chExt cx="532800" cy="1008720"/>
            </a:xfrm>
          </p:grpSpPr>
          <p:sp>
            <p:nvSpPr>
              <p:cNvPr id="669" name=""/>
              <p:cNvSpPr/>
              <p:nvPr/>
            </p:nvSpPr>
            <p:spPr>
              <a:xfrm>
                <a:off x="7162560" y="525780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7162200" y="594396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6600" y="5410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38880" y="52578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38880" y="58676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525780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9588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00800" y="54104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360" y="5410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5268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24080" y="55627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8862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13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59092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1500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atures of MM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s are independent, additions can each use global sum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04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743200" y="2971800"/>
            <a:ext cx="533520" cy="1008720"/>
            <a:chOff x="2743200" y="2971800"/>
            <a:chExt cx="533520" cy="1008720"/>
          </a:xfrm>
        </p:grpSpPr>
        <p:sp>
          <p:nvSpPr>
            <p:cNvPr id="691" name=""/>
            <p:cNvSpPr/>
            <p:nvPr/>
          </p:nvSpPr>
          <p:spPr>
            <a:xfrm>
              <a:off x="281952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6200000">
              <a:off x="281916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4320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9584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9584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581280" y="2971800"/>
            <a:ext cx="533520" cy="1008720"/>
            <a:chOff x="3581280" y="2971800"/>
            <a:chExt cx="533520" cy="1008720"/>
          </a:xfrm>
        </p:grpSpPr>
        <p:sp>
          <p:nvSpPr>
            <p:cNvPr id="697" name=""/>
            <p:cNvSpPr/>
            <p:nvPr/>
          </p:nvSpPr>
          <p:spPr>
            <a:xfrm>
              <a:off x="365760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6200000">
              <a:off x="365724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8128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3392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392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419720" y="2971800"/>
            <a:ext cx="532800" cy="1008720"/>
            <a:chOff x="4419720" y="2971800"/>
            <a:chExt cx="532800" cy="1008720"/>
          </a:xfrm>
        </p:grpSpPr>
        <p:sp>
          <p:nvSpPr>
            <p:cNvPr id="703" name=""/>
            <p:cNvSpPr/>
            <p:nvPr/>
          </p:nvSpPr>
          <p:spPr>
            <a:xfrm>
              <a:off x="4495680" y="297180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4495320" y="365796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3124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72000" y="29718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72000" y="35816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867280" y="2971800"/>
            <a:ext cx="533520" cy="1008720"/>
            <a:chOff x="5867280" y="2971800"/>
            <a:chExt cx="533520" cy="1008720"/>
          </a:xfrm>
        </p:grpSpPr>
        <p:sp>
          <p:nvSpPr>
            <p:cNvPr id="709" name=""/>
            <p:cNvSpPr/>
            <p:nvPr/>
          </p:nvSpPr>
          <p:spPr>
            <a:xfrm>
              <a:off x="594360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6200000">
              <a:off x="594324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92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38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814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5638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90920" y="4343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7180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276360" y="411480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952520" y="411480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4343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54100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43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86400" y="441972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(n) processors for each result element implies O(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86400" y="5867280"/>
            <a:ext cx="32004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ime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276360" y="5021280"/>
            <a:ext cx="9954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62520" y="502920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4114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valuation of Most Parallel MM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parallel … shows limit of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--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 is a good bound … fa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s memory structure and referenc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s data mo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-uses processors -- half of the processors do only 1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66880" y="5562720"/>
            <a:ext cx="342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nrealistically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ic Overview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 To give a good idea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-- looking at problems with “parallel ey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-- different resources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-- reduce control flow; increas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-- the challenge is communication, not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-- describe the computation without saying it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ere Is The Data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hared memory is one po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 work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76520" y="2514600"/>
            <a:ext cx="914400" cy="914400"/>
            <a:chOff x="1676520" y="2514600"/>
            <a:chExt cx="914400" cy="914400"/>
          </a:xfrm>
        </p:grpSpPr>
        <p:sp>
          <p:nvSpPr>
            <p:cNvPr id="743" name=""/>
            <p:cNvSpPr/>
            <p:nvPr/>
          </p:nvSpPr>
          <p:spPr>
            <a:xfrm>
              <a:off x="17528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85800" y="2514600"/>
            <a:ext cx="914400" cy="914400"/>
            <a:chOff x="685800" y="2514600"/>
            <a:chExt cx="914400" cy="914400"/>
          </a:xfrm>
        </p:grpSpPr>
        <p:sp>
          <p:nvSpPr>
            <p:cNvPr id="746" name=""/>
            <p:cNvSpPr/>
            <p:nvPr/>
          </p:nvSpPr>
          <p:spPr>
            <a:xfrm>
              <a:off x="7621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58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657600" y="2514600"/>
            <a:ext cx="914400" cy="914400"/>
            <a:chOff x="3657600" y="2514600"/>
            <a:chExt cx="914400" cy="914400"/>
          </a:xfrm>
        </p:grpSpPr>
        <p:sp>
          <p:nvSpPr>
            <p:cNvPr id="749" name=""/>
            <p:cNvSpPr/>
            <p:nvPr/>
          </p:nvSpPr>
          <p:spPr>
            <a:xfrm>
              <a:off x="37339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576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666880" y="2514600"/>
            <a:ext cx="914400" cy="914400"/>
            <a:chOff x="2666880" y="2514600"/>
            <a:chExt cx="914400" cy="914400"/>
          </a:xfrm>
        </p:grpSpPr>
        <p:sp>
          <p:nvSpPr>
            <p:cNvPr id="752" name=""/>
            <p:cNvSpPr/>
            <p:nvPr/>
          </p:nvSpPr>
          <p:spPr>
            <a:xfrm>
              <a:off x="274320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638680" y="2514600"/>
            <a:ext cx="914400" cy="914400"/>
            <a:chOff x="5638680" y="2514600"/>
            <a:chExt cx="914400" cy="914400"/>
          </a:xfrm>
        </p:grpSpPr>
        <p:sp>
          <p:nvSpPr>
            <p:cNvPr id="755" name=""/>
            <p:cNvSpPr/>
            <p:nvPr/>
          </p:nvSpPr>
          <p:spPr>
            <a:xfrm>
              <a:off x="571500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3868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648320" y="2514600"/>
            <a:ext cx="914400" cy="914400"/>
            <a:chOff x="4648320" y="2514600"/>
            <a:chExt cx="914400" cy="914400"/>
          </a:xfrm>
        </p:grpSpPr>
        <p:sp>
          <p:nvSpPr>
            <p:cNvPr id="758" name=""/>
            <p:cNvSpPr/>
            <p:nvPr/>
          </p:nvSpPr>
          <p:spPr>
            <a:xfrm>
              <a:off x="47246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483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620120" y="2514600"/>
            <a:ext cx="914400" cy="914400"/>
            <a:chOff x="7620120" y="2514600"/>
            <a:chExt cx="914400" cy="914400"/>
          </a:xfrm>
        </p:grpSpPr>
        <p:sp>
          <p:nvSpPr>
            <p:cNvPr id="761" name=""/>
            <p:cNvSpPr/>
            <p:nvPr/>
          </p:nvSpPr>
          <p:spPr>
            <a:xfrm>
              <a:off x="76964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201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629400" y="2514600"/>
            <a:ext cx="914400" cy="914400"/>
            <a:chOff x="6629400" y="2514600"/>
            <a:chExt cx="914400" cy="914400"/>
          </a:xfrm>
        </p:grpSpPr>
        <p:sp>
          <p:nvSpPr>
            <p:cNvPr id="764" name=""/>
            <p:cNvSpPr/>
            <p:nvPr/>
          </p:nvSpPr>
          <p:spPr>
            <a:xfrm>
              <a:off x="67057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94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rot="16200000">
            <a:off x="1752480" y="46479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5562720" y="46483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3657600" y="46479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232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524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5257800"/>
            <a:ext cx="167652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5880" y="4648320"/>
            <a:ext cx="15264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4419720"/>
            <a:ext cx="5943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219320" y="3429000"/>
            <a:ext cx="3124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2133720" y="3429000"/>
            <a:ext cx="22096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123720" y="3429000"/>
            <a:ext cx="12193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4114440" y="3429000"/>
            <a:ext cx="2286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343400" y="342900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343400" y="34290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343400" y="3429000"/>
            <a:ext cx="2819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343400" y="3429000"/>
            <a:ext cx="38098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576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524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952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58672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Random-Access Machine (PRAM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processors, inclu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rocessor can reference any memory in “unit time,” that is, with n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contention must b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llisions -- many processors are allowed to read the same location at o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Collisions -- what happens when many processors write to the same memory 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must all write the sa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value from highest indexed processor w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a random value w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ib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6172200"/>
            <a:ext cx="3047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 well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ere Else Could The Data Be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emory Distributed Among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to Global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676520" y="2895480"/>
            <a:ext cx="914400" cy="914400"/>
            <a:chOff x="1676520" y="2895480"/>
            <a:chExt cx="914400" cy="914400"/>
          </a:xfrm>
        </p:grpSpPr>
        <p:sp>
          <p:nvSpPr>
            <p:cNvPr id="796" name=""/>
            <p:cNvSpPr/>
            <p:nvPr/>
          </p:nvSpPr>
          <p:spPr>
            <a:xfrm>
              <a:off x="17528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765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85800" y="2895480"/>
            <a:ext cx="914400" cy="914400"/>
            <a:chOff x="685800" y="2895480"/>
            <a:chExt cx="914400" cy="914400"/>
          </a:xfrm>
        </p:grpSpPr>
        <p:sp>
          <p:nvSpPr>
            <p:cNvPr id="799" name=""/>
            <p:cNvSpPr/>
            <p:nvPr/>
          </p:nvSpPr>
          <p:spPr>
            <a:xfrm>
              <a:off x="7621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8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657600" y="2895480"/>
            <a:ext cx="914400" cy="914400"/>
            <a:chOff x="3657600" y="2895480"/>
            <a:chExt cx="914400" cy="914400"/>
          </a:xfrm>
        </p:grpSpPr>
        <p:sp>
          <p:nvSpPr>
            <p:cNvPr id="802" name=""/>
            <p:cNvSpPr/>
            <p:nvPr/>
          </p:nvSpPr>
          <p:spPr>
            <a:xfrm>
              <a:off x="37339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576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666880" y="2895480"/>
            <a:ext cx="914400" cy="914400"/>
            <a:chOff x="2666880" y="2895480"/>
            <a:chExt cx="914400" cy="914400"/>
          </a:xfrm>
        </p:grpSpPr>
        <p:sp>
          <p:nvSpPr>
            <p:cNvPr id="805" name=""/>
            <p:cNvSpPr/>
            <p:nvPr/>
          </p:nvSpPr>
          <p:spPr>
            <a:xfrm>
              <a:off x="274320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6688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638680" y="2895480"/>
            <a:ext cx="914400" cy="914400"/>
            <a:chOff x="5638680" y="2895480"/>
            <a:chExt cx="914400" cy="914400"/>
          </a:xfrm>
        </p:grpSpPr>
        <p:sp>
          <p:nvSpPr>
            <p:cNvPr id="808" name=""/>
            <p:cNvSpPr/>
            <p:nvPr/>
          </p:nvSpPr>
          <p:spPr>
            <a:xfrm>
              <a:off x="571500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3868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648320" y="2895480"/>
            <a:ext cx="914400" cy="914400"/>
            <a:chOff x="4648320" y="2895480"/>
            <a:chExt cx="914400" cy="914400"/>
          </a:xfrm>
        </p:grpSpPr>
        <p:sp>
          <p:nvSpPr>
            <p:cNvPr id="811" name=""/>
            <p:cNvSpPr/>
            <p:nvPr/>
          </p:nvSpPr>
          <p:spPr>
            <a:xfrm>
              <a:off x="47246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483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7620120" y="2895480"/>
            <a:ext cx="914400" cy="914400"/>
            <a:chOff x="7620120" y="2895480"/>
            <a:chExt cx="914400" cy="914400"/>
          </a:xfrm>
        </p:grpSpPr>
        <p:sp>
          <p:nvSpPr>
            <p:cNvPr id="814" name=""/>
            <p:cNvSpPr/>
            <p:nvPr/>
          </p:nvSpPr>
          <p:spPr>
            <a:xfrm>
              <a:off x="76964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01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6629400" y="2895480"/>
            <a:ext cx="914400" cy="914400"/>
            <a:chOff x="6629400" y="2895480"/>
            <a:chExt cx="914400" cy="914400"/>
          </a:xfrm>
        </p:grpSpPr>
        <p:sp>
          <p:nvSpPr>
            <p:cNvPr id="817" name=""/>
            <p:cNvSpPr/>
            <p:nvPr/>
          </p:nvSpPr>
          <p:spPr>
            <a:xfrm>
              <a:off x="67057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294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85800" y="3809880"/>
            <a:ext cx="990720" cy="1295640"/>
            <a:chOff x="685800" y="3809880"/>
            <a:chExt cx="990720" cy="1295640"/>
          </a:xfrm>
        </p:grpSpPr>
        <p:sp>
          <p:nvSpPr>
            <p:cNvPr id="820" name=""/>
            <p:cNvSpPr/>
            <p:nvPr/>
          </p:nvSpPr>
          <p:spPr>
            <a:xfrm>
              <a:off x="7621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58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002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30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676520" y="3809880"/>
            <a:ext cx="990360" cy="1295640"/>
            <a:chOff x="1676520" y="3809880"/>
            <a:chExt cx="990360" cy="1295640"/>
          </a:xfrm>
        </p:grpSpPr>
        <p:sp>
          <p:nvSpPr>
            <p:cNvPr id="825" name=""/>
            <p:cNvSpPr/>
            <p:nvPr/>
          </p:nvSpPr>
          <p:spPr>
            <a:xfrm>
              <a:off x="17524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765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05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333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2666880" y="3809880"/>
            <a:ext cx="990720" cy="1295640"/>
            <a:chOff x="2666880" y="3809880"/>
            <a:chExt cx="990720" cy="1295640"/>
          </a:xfrm>
        </p:grpSpPr>
        <p:sp>
          <p:nvSpPr>
            <p:cNvPr id="830" name=""/>
            <p:cNvSpPr/>
            <p:nvPr/>
          </p:nvSpPr>
          <p:spPr>
            <a:xfrm>
              <a:off x="274320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6688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8128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408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657600" y="3809880"/>
            <a:ext cx="990720" cy="1295640"/>
            <a:chOff x="3657600" y="3809880"/>
            <a:chExt cx="990720" cy="1295640"/>
          </a:xfrm>
        </p:grpSpPr>
        <p:sp>
          <p:nvSpPr>
            <p:cNvPr id="835" name=""/>
            <p:cNvSpPr/>
            <p:nvPr/>
          </p:nvSpPr>
          <p:spPr>
            <a:xfrm>
              <a:off x="37339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576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48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4648320" y="3809880"/>
            <a:ext cx="990360" cy="1295640"/>
            <a:chOff x="4648320" y="3809880"/>
            <a:chExt cx="990360" cy="1295640"/>
          </a:xfrm>
        </p:grpSpPr>
        <p:sp>
          <p:nvSpPr>
            <p:cNvPr id="840" name=""/>
            <p:cNvSpPr/>
            <p:nvPr/>
          </p:nvSpPr>
          <p:spPr>
            <a:xfrm>
              <a:off x="47242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483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623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1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638680" y="3809880"/>
            <a:ext cx="990720" cy="1295640"/>
            <a:chOff x="5638680" y="3809880"/>
            <a:chExt cx="990720" cy="1295640"/>
          </a:xfrm>
        </p:grpSpPr>
        <p:sp>
          <p:nvSpPr>
            <p:cNvPr id="845" name=""/>
            <p:cNvSpPr/>
            <p:nvPr/>
          </p:nvSpPr>
          <p:spPr>
            <a:xfrm>
              <a:off x="571500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3868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588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629400" y="3809880"/>
            <a:ext cx="990720" cy="1295640"/>
            <a:chOff x="6629400" y="3809880"/>
            <a:chExt cx="990720" cy="1295640"/>
          </a:xfrm>
        </p:grpSpPr>
        <p:sp>
          <p:nvSpPr>
            <p:cNvPr id="850" name=""/>
            <p:cNvSpPr/>
            <p:nvPr/>
          </p:nvSpPr>
          <p:spPr>
            <a:xfrm>
              <a:off x="67057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94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438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866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620120" y="3809880"/>
            <a:ext cx="990360" cy="1295640"/>
            <a:chOff x="7620120" y="3809880"/>
            <a:chExt cx="990360" cy="1295640"/>
          </a:xfrm>
        </p:grpSpPr>
        <p:sp>
          <p:nvSpPr>
            <p:cNvPr id="855" name=""/>
            <p:cNvSpPr/>
            <p:nvPr/>
          </p:nvSpPr>
          <p:spPr>
            <a:xfrm>
              <a:off x="76960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201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5341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769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762120" y="5105520"/>
            <a:ext cx="7772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24080" y="5105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to-poi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838080" y="4343400"/>
            <a:ext cx="685800" cy="304560"/>
            <a:chOff x="838080" y="4343400"/>
            <a:chExt cx="685800" cy="304560"/>
          </a:xfrm>
        </p:grpSpPr>
        <p:sp>
          <p:nvSpPr>
            <p:cNvPr id="862" name=""/>
            <p:cNvSpPr/>
            <p:nvPr/>
          </p:nvSpPr>
          <p:spPr>
            <a:xfrm>
              <a:off x="8380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66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52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140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666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12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828800" y="4343400"/>
            <a:ext cx="685800" cy="304560"/>
            <a:chOff x="1828800" y="4343400"/>
            <a:chExt cx="685800" cy="304560"/>
          </a:xfrm>
        </p:grpSpPr>
        <p:sp>
          <p:nvSpPr>
            <p:cNvPr id="869" name=""/>
            <p:cNvSpPr/>
            <p:nvPr/>
          </p:nvSpPr>
          <p:spPr>
            <a:xfrm>
              <a:off x="18288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574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047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574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19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819520" y="4343400"/>
            <a:ext cx="685800" cy="304560"/>
            <a:chOff x="2819520" y="4343400"/>
            <a:chExt cx="685800" cy="304560"/>
          </a:xfrm>
        </p:grpSpPr>
        <p:sp>
          <p:nvSpPr>
            <p:cNvPr id="876" name=""/>
            <p:cNvSpPr/>
            <p:nvPr/>
          </p:nvSpPr>
          <p:spPr>
            <a:xfrm>
              <a:off x="28195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81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767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9548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812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5268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09880" y="4343400"/>
            <a:ext cx="685800" cy="304560"/>
            <a:chOff x="3809880" y="4343400"/>
            <a:chExt cx="685800" cy="304560"/>
          </a:xfrm>
        </p:grpSpPr>
        <p:sp>
          <p:nvSpPr>
            <p:cNvPr id="883" name=""/>
            <p:cNvSpPr/>
            <p:nvPr/>
          </p:nvSpPr>
          <p:spPr>
            <a:xfrm>
              <a:off x="38098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0384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70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858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0384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430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800600" y="4343400"/>
            <a:ext cx="685800" cy="304560"/>
            <a:chOff x="4800600" y="4343400"/>
            <a:chExt cx="685800" cy="304560"/>
          </a:xfrm>
        </p:grpSpPr>
        <p:sp>
          <p:nvSpPr>
            <p:cNvPr id="890" name=""/>
            <p:cNvSpPr/>
            <p:nvPr/>
          </p:nvSpPr>
          <p:spPr>
            <a:xfrm>
              <a:off x="48006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578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765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337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791320" y="4343400"/>
            <a:ext cx="685800" cy="304560"/>
            <a:chOff x="5791320" y="4343400"/>
            <a:chExt cx="685800" cy="304560"/>
          </a:xfrm>
        </p:grpSpPr>
        <p:sp>
          <p:nvSpPr>
            <p:cNvPr id="897" name=""/>
            <p:cNvSpPr/>
            <p:nvPr/>
          </p:nvSpPr>
          <p:spPr>
            <a:xfrm>
              <a:off x="57913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99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485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6728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1992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448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781680" y="4343400"/>
            <a:ext cx="685800" cy="304560"/>
            <a:chOff x="6781680" y="4343400"/>
            <a:chExt cx="685800" cy="304560"/>
          </a:xfrm>
        </p:grpSpPr>
        <p:sp>
          <p:nvSpPr>
            <p:cNvPr id="904" name=""/>
            <p:cNvSpPr/>
            <p:nvPr/>
          </p:nvSpPr>
          <p:spPr>
            <a:xfrm>
              <a:off x="67816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102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88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576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102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48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772400" y="4343400"/>
            <a:ext cx="685800" cy="304560"/>
            <a:chOff x="7772400" y="4343400"/>
            <a:chExt cx="685800" cy="304560"/>
          </a:xfrm>
        </p:grpSpPr>
        <p:sp>
          <p:nvSpPr>
            <p:cNvPr id="911" name=""/>
            <p:cNvSpPr/>
            <p:nvPr/>
          </p:nvSpPr>
          <p:spPr>
            <a:xfrm>
              <a:off x="77724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010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2296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483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0010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055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143000" y="594360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nd/Receive make data motion cost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Organiz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is perfect for VLSI circuit implementations since many processors could be fabricated on a chip or w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ar constraints are significant, how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tak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tion is critical to a successfu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220968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19520" y="2743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0968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19520" y="23623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0020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0020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0020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0968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0968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9810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9520" y="1600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Algorithm (Kung/Leiserson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724280" y="571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3505320"/>
            <a:ext cx="4953240" cy="28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is initialized to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rrays A, B ar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, B move “across” C one ste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ements arriving at a place are multiplied, ad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523880" y="3124080"/>
            <a:ext cx="1828800" cy="2895480"/>
            <a:chOff x="1523880" y="3124080"/>
            <a:chExt cx="1828800" cy="2895480"/>
          </a:xfrm>
        </p:grpSpPr>
        <p:sp>
          <p:nvSpPr>
            <p:cNvPr id="937" name=""/>
            <p:cNvSpPr/>
            <p:nvPr/>
          </p:nvSpPr>
          <p:spPr>
            <a:xfrm flipV="1">
              <a:off x="1523880" y="31240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1523880" y="495252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23880" y="41148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3352680" y="3124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211120" y="320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098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05320" y="1600200"/>
            <a:ext cx="5105160" cy="1447920"/>
          </a:xfrm>
          <a:prstGeom prst="parallelogram">
            <a:avLst>
              <a:gd name="adj" fmla="val 17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286000" y="2819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95480" y="2819520"/>
            <a:ext cx="53352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8600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54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76520" y="2819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765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76520" y="20574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676520" y="1676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0" y="20574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86000" y="1676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95480" y="20574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95480" y="1676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3429000"/>
            <a:ext cx="25146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tion of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 a42 a43 a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429000" y="312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733920" y="350532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363760" y="4648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72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57800" y="4419720"/>
            <a:ext cx="3429000" cy="18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cond step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1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 of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d algorithm that computes as it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yst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,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to fill pipeline,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to empt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, communication ar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signal processing -- Cannon’s reason for developing it -- where there is a pipeline of M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cessors And Memor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ally, parallel computers must be made from commodity parts, which means that the processors will be RISC machines with large caches, large memories, support for V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 is to use a RISC design as a base and modify it -- it did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cratch processors are never fas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lan -- try to use the RISC as it was designed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095880" y="3124080"/>
            <a:ext cx="83844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95880" y="3962520"/>
            <a:ext cx="83844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9112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00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4300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3962520"/>
            <a:ext cx="83844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nd Larger Units of Inform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s often pipelin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 whole row -- or as much as fits into a packet -- in on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16200000">
            <a:off x="1143000" y="312372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6095880" y="312372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16200000">
            <a:off x="4190760" y="3123720"/>
            <a:ext cx="16765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91120" y="3505320"/>
            <a:ext cx="16761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629400" y="3124080"/>
            <a:ext cx="1522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35053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52680" y="380988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91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38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76520" y="3124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3124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430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0199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10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666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1480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0199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051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9528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029200" y="3123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95880" y="3962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76720" y="4952880"/>
            <a:ext cx="167616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00400" y="4876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76720" y="5334120"/>
            <a:ext cx="83808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14800" y="6172200"/>
            <a:ext cx="83808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49528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rot="5400000">
            <a:off x="3467160" y="6134040"/>
            <a:ext cx="8380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6324480"/>
            <a:ext cx="8380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49528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48320" y="5334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1480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038480" y="571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 Processors More Effective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 rows and the corresponding t columns to each processor so it can compute a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sub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rot="16200000">
            <a:off x="114300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16200000">
            <a:off x="609588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6200000">
            <a:off x="4191120" y="32767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3657600"/>
            <a:ext cx="16761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477120" y="3276720"/>
            <a:ext cx="38088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523880" y="36576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13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8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2388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9051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623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4300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52480" y="5181480"/>
            <a:ext cx="525780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element requires n 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odern pipelined processors benefit from large block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23880" y="3657600"/>
            <a:ext cx="381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y study parallelism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user applications sequential computers are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phisticated scientific modeling, engineering design, drug design, data mining, etc. sequential computers are too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fundamental breakthroughs in algorithms, parallelism is the only known method for greater speed beyond baseline sequential compu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791320"/>
            <a:ext cx="4724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rallelism is interesting, t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uting t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t b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ic for computing a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b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19320" y="22860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=0; r &lt; t; r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s=0; s &lt; t; s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r][s]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k=0; k &lt; n; k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r][s] += a[r][k]*b[k][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752480" y="5181480"/>
            <a:ext cx="5867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op is easy to analyze and “unroll” Branch prediction should work well  This code may be near “optim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cality Can Be Improv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ache behavior by “bloc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981080" y="4724280"/>
            <a:ext cx="6933960" cy="1904760"/>
            <a:chOff x="1981080" y="4724280"/>
            <a:chExt cx="6933960" cy="1904760"/>
          </a:xfrm>
        </p:grpSpPr>
        <p:sp>
          <p:nvSpPr>
            <p:cNvPr id="1050" name=""/>
            <p:cNvSpPr/>
            <p:nvPr/>
          </p:nvSpPr>
          <p:spPr>
            <a:xfrm rot="16200000">
              <a:off x="2285640" y="4952520"/>
              <a:ext cx="167616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6200000">
              <a:off x="7238880" y="4952880"/>
              <a:ext cx="1676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6200000">
              <a:off x="5333760" y="4952520"/>
              <a:ext cx="167616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3760" y="5333760"/>
              <a:ext cx="1676520" cy="380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19760" y="4952880"/>
              <a:ext cx="380880" cy="167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66880" y="5333760"/>
              <a:ext cx="3808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95680" y="5638680"/>
              <a:ext cx="3808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495680" y="5790960"/>
              <a:ext cx="38088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2884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93396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8108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6688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776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496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85640" y="53337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85640" y="5714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85640" y="61718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14640" y="5333760"/>
              <a:ext cx="12956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19760" y="5333760"/>
              <a:ext cx="3808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66880" y="533376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12794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2120" y="2057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p=0; p &lt; n; p=p+t){ //block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=0; r &lt; t; r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s=0; s &lt; t; s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k=0; k &lt; t; k++){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c[r][s] += a[p+r][p+k]*b[p+k][p+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cality Can Be Improv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perands in registers, “strip m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1981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617220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6200000">
            <a:off x="4267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67080" y="2666880"/>
            <a:ext cx="1676520" cy="381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553080" y="2286000"/>
            <a:ext cx="38124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362320" y="2666880"/>
            <a:ext cx="380880" cy="38124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3920" y="297180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3920" y="312408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62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867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676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432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2004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2666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8108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8108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43400" y="26668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553080" y="2362320"/>
            <a:ext cx="381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2666880"/>
            <a:ext cx="3808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48320" y="26668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09680" y="4800600"/>
            <a:ext cx="15242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33720" y="42670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76520" y="4800600"/>
            <a:ext cx="609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971800" y="4800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09680" y="5486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87692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09680" y="563868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971800" y="49528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71800" y="56386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43400" y="4267080"/>
            <a:ext cx="39625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 Orientation -- By using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A an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B compute all of the “1” terms of the dot product, i.e. use 2t inputs to produce t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firs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munication Is Importa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the algorithm is “send-then-compu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verlapping an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roadcas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14300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676520" y="312408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365760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426708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5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002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4300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76520" y="4191120"/>
            <a:ext cx="53316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4300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472428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0666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6765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0666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0968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4320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0968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4320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337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68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0968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74320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0968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4320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1337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68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4008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9343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008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9343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244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9343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244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580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008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343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008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244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343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244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010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6748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0010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3915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0010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915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246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46748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010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46748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0010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3915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010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915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246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00800" y="3505320"/>
            <a:ext cx="21337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4038480"/>
            <a:ext cx="21337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00800" y="4572000"/>
            <a:ext cx="21337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400800" y="5105520"/>
            <a:ext cx="21337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65760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200400" y="5638680"/>
            <a:ext cx="533520" cy="1008720"/>
            <a:chOff x="3200400" y="5638680"/>
            <a:chExt cx="533520" cy="1008720"/>
          </a:xfrm>
        </p:grpSpPr>
        <p:sp>
          <p:nvSpPr>
            <p:cNvPr id="1182" name=""/>
            <p:cNvSpPr/>
            <p:nvPr/>
          </p:nvSpPr>
          <p:spPr>
            <a:xfrm>
              <a:off x="327672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16200000">
              <a:off x="327636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0040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5304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35304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4038480" y="5638680"/>
            <a:ext cx="533520" cy="1008720"/>
            <a:chOff x="4038480" y="5638680"/>
            <a:chExt cx="533520" cy="1008720"/>
          </a:xfrm>
        </p:grpSpPr>
        <p:sp>
          <p:nvSpPr>
            <p:cNvPr id="1188" name=""/>
            <p:cNvSpPr/>
            <p:nvPr/>
          </p:nvSpPr>
          <p:spPr>
            <a:xfrm>
              <a:off x="411480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200000">
              <a:off x="411444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848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112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112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876920" y="5638680"/>
            <a:ext cx="532800" cy="1008720"/>
            <a:chOff x="4876920" y="5638680"/>
            <a:chExt cx="532800" cy="1008720"/>
          </a:xfrm>
        </p:grpSpPr>
        <p:sp>
          <p:nvSpPr>
            <p:cNvPr id="1194" name=""/>
            <p:cNvSpPr/>
            <p:nvPr/>
          </p:nvSpPr>
          <p:spPr>
            <a:xfrm>
              <a:off x="4952880" y="563868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6200000">
              <a:off x="4952520" y="632484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769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29200" y="56386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29200" y="62485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67280" y="5638680"/>
            <a:ext cx="533520" cy="1008720"/>
            <a:chOff x="5867280" y="5638680"/>
            <a:chExt cx="533520" cy="1008720"/>
          </a:xfrm>
        </p:grpSpPr>
        <p:sp>
          <p:nvSpPr>
            <p:cNvPr id="1200" name=""/>
            <p:cNvSpPr/>
            <p:nvPr/>
          </p:nvSpPr>
          <p:spPr>
            <a:xfrm>
              <a:off x="594360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6200000">
              <a:off x="594324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6728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1992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1992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495680" y="5791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341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362320" y="5943600"/>
            <a:ext cx="152280" cy="15228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391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915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39152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246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924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246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458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4582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6576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9625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49568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49568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6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4197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862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4197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625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9625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9568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4956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62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4197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292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627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0292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9528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4864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528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4864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5627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5627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9528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864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34340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76920" y="3124080"/>
            <a:ext cx="75960" cy="2133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41008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4360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769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76920" y="365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44197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52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9528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44197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5288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952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44197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4419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9528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528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munication Patter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s differ, but row and column broadcasts are often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nly the segment of row stored locally to the processors in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 block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blocks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required is only 4t elements -- 2t for the segments being processed and 2t for the segments ar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001000" y="32004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001000" y="37339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00100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9246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001000" y="4267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001000" y="4800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001000" y="4191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924680" y="4724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458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001000" y="4114800"/>
            <a:ext cx="5335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001000" y="4648320"/>
            <a:ext cx="5335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001000" y="5181480"/>
            <a:ext cx="5335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001000" y="3581280"/>
            <a:ext cx="5335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an de Geijn and Watts’ SUMM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Universal M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ed to be the best practic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verlap, pipelining, decomposi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, blocking all array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1st A column to processors in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1st B row to processors in colum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2 through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next A column to all processors in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next B row to all processors in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i-1 term in dot product for all elements of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last term for all elements of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91440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914400" y="4419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 Groups of Rows and Colum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machines both communication and processing capabilities can usually be helped by processing more than a single row and colu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more values amortizes star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s and caching favor large sequences of uninterrupted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all of ideas of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’s Important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number of process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amount of work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size of 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(minimizing) degree of data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data motion (interprocessor com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synchroneity or asynchro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ing portability among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 work load across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programming 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races, deadlocks, guaranteeing determin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oftware engineering: robust, maintain,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nowing The Parallel Comp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difficult to design a MM algorithm without a clear idea of how the processors interact with the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effective, programmers and algorithm designers must k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omputer that will run thei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is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ch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rget the importance of the machine model because the sequential model -- von Neumann -- is in our bones … we never think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ism needs a different model from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xt Week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the best parallel machine model for programming parallel mach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the P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VL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distributed memory machin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 proces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Worlds Fastest Compu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netlib.org/benchmark/top500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what computation is used to measure the world’s fastest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962520"/>
            <a:ext cx="746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ree levels of performanc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claim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easur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performance on interesting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it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 F. Cannon [1969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ellular Computer to Implement the Kalman Filter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hD Thesis, Monta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T. Kung &amp; C. E. Leiserson, Systolic Arrays, in Carver Mead and Lynn Conwa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tion to VL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ddison-Wesley,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van de Geijn &amp; Jerrell Watts (to appear).  "SUMMA: Scalable Universal Matrix Multiplication Algorithm,"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urrency: Practice and 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is a standard technique in computer science … think of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ing In Processo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instruction is fetched before the current instruction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processors there can be 7-10 pipeline stages or more, and usually many instructions are being execut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71500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ipelining is a powerful form of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computation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s construct the page and display it in incomplete form while the images are being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 switch tasks while pages are being fetched in response to a page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1814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verlapping comp/comm is a powerful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67080" y="5334120"/>
            <a:ext cx="9907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105520"/>
            <a:ext cx="1143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5334120"/>
            <a:ext cx="9907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638680"/>
            <a:ext cx="1143000" cy="1067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task into many independent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and Monte Carlo simulation can be partitioned into many independent sub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each subproblem, report results to Master task, which record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” problems can be especially successful compared to sequenti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120" y="5181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2428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400" y="5943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09720" y="5943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1028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629400" y="5943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95720" y="5943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5181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10480" y="6248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257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5029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5257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5562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10552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rtitioning into subproblems is a powerful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 of Parallelism Typ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rallelism is a complex combination of these and similar technique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are not easy to class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learn algorithms to illustrate thes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signing algorithms we seek scalable parallelism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724280"/>
            <a:ext cx="769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calable parallelism means that an algorithm is designed so it can use “any” number of pro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0-04T17:48:01Z</dcterms:modified>
  <cp:revision>14</cp:revision>
  <dc:subject/>
  <dc:title>Survey of Parallel Computation</dc:title>
</cp:coreProperties>
</file>