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2788-9CA7-474B-8C20-90DA73733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D3DA-A815-4CB9-979B-0C933BDF5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356E-B11E-4583-9E81-AA667013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3D6-5D42-40D4-A92A-2210CCD5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F29F-5866-4AE6-B910-B8DC4663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CDFA-8DC8-4972-8929-BC31FD84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8DD4-51DF-4439-ABBE-D4758FCB0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B1DB-CA80-4AF8-8E66-14B7E4127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14A9-1AD4-4F77-8788-B34ED81E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2513-4D5A-4912-A97C-57888F5FD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EF86-9622-40E6-B81B-966244265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FABB-3E2B-4589-91F2-2CEE00B06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6B57-E7B5-4DBD-9B1C-1A63FB45B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0588-DB58-4996-810C-815C6B3F1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E388-F5E9-4CA5-A5A9-DAA96831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A3D-06B0-4E1F-A9AA-63CC9D771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1B94-90F1-46A1-806F-4C744DFC0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8B2B-5801-4A52-A750-EAE6AE72A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A7A3-BDA4-40C2-8320-F70CF7459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9C0-7217-421D-B004-9CB157D2F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6089-3A1E-4FA0-96B6-D0F9C4F0D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7FAE-FB9E-4890-97E4-80E0DD5F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9154-3E03-47B4-AC8E-999D32F0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B019-FD70-44A8-B257-75D93E651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08B1-BAF1-4920-9991-757EB1DD8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39BF-9DE3-4755-B4A3-98A73D819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B411-B9B9-4AC1-A9CE-94265A3BB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083-CE00-4A27-9BB7-32C993D90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7398-45C7-4683-A3E1-DD3835D4C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FA5B-D484-40FF-B377-5D47990BB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FD74-849E-4075-91DF-4F146EED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60E1-A3DF-47C0-8389-0B52A046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12D7-EEB0-4174-9730-2EEABBA55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F543-94C2-409C-9B94-1692A5E2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E27F-2C66-41EF-8E29-113139F8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EB40-A03C-43DE-A6B7-75EC5FA7A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CBE3-FAEB-4B2A-8E01-6FF2CA340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5A84-5B1D-4806-A1E9-E449B618C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46BB-BC60-4922-AF52-A9058AC73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C76E-E681-487E-8B05-551ED4FF1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5B6E-722B-4E0E-96B8-1332CC8F2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54DC-B0E7-4DAC-B0FC-D2C4111A8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D9E9-090D-4A61-8E52-81F7071FD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CBD8-F143-47C6-BD98-7A94966C1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0CFD-F872-474C-A828-A7B74E7F9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B72D-3B3A-4F3B-BF09-8C05DB4B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94C9-854A-41EF-8760-FC57EF164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034C-6306-4D58-829E-8E5242AFE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23920" y="69372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B7A-DE75-4845-9CA0-E24ECAFC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719-B20C-47D5-B19D-FBB6CC7A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D4A-E2E3-467C-AE3D-0A45B80E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291-1DE8-4563-BB2B-348B2126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4E7-DB7E-4F1A-8CE4-FD3695D9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B81-8B18-4856-847C-FBA86A87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CCA-7515-4023-8D7E-6F7433F2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0F3-205A-41E9-A63E-5A8C51A0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9A6-471A-40FB-BB8F-9979F046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990-5ADA-4C9B-93FF-4F545F3C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309-BAE0-4AE7-849C-46B13CFB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9F7-5E5C-4B9E-A51B-303437A1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503D-71FB-486F-B413-9622CA07F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Documents\tmp_584\image47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Documents\tmp_584\image38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Documents\tmp_584\image37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Documents\tmp_584\image36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Documents\tmp_584\image35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Documents\tmp_584\image34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Documents\tmp_584\image17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:\Documents\tmp_584\image33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Documents\tmp_584\image3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Documents\tmp_584\image32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:\Documents\tmp_584\image31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Documents\tmp_584\image46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Documents\tmp_584\image5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Documents\tmp_584\image30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Documents\tmp_584\image29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Documents\tmp_584\image28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Documents\tmp_584\image2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Documents\tmp_584\image10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Documents\tmp_584\image42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Documents\tmp_584\image27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:\Documents\tmp_584\image26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:\Documents\tmp_584\image25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Documents\tmp_584\image45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:\Documents\tmp_584\image8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:\Documents\tmp_584\image22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:\Documents\tmp_584\image24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Documents\tmp_584\image23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:\Documents\tmp_584\image7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Documents\tmp_584\image21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:\Documents\tmp_584\image20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Documents\tmp_584\image19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:\Documents\tmp_584\image18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:\Documents\tmp_584\image1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Documents\tmp_584\image6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F:\Documents\tmp_584\image16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F:\Documents\tmp_584\image15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:\Documents\tmp_584\image14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:\Documents\tmp_584\image13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:\Documents\tmp_584\image12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:\Documents\tmp_584\image11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Documents\tmp_584\image4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:\Documents\tmp_584\image9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Documents\tmp_584\image44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Documents\tmp_584\image43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Documents\tmp_584\image41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Documents\tmp_584\image40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Documents\tmp_584\image39.jpg"/>
          <p:cNvPicPr/>
          <p:nvPr/>
        </p:nvPicPr>
        <p:blipFill>
          <a:blip r:embed="rId1"/>
          <a:stretch/>
        </p:blipFill>
        <p:spPr>
          <a:xfrm>
            <a:off x="698400" y="-76212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7:58:03Z</dcterms:created>
  <dc:creator>David Notkin</dc:creator>
  <dc:description/>
  <dc:language>en-US</dc:language>
  <cp:lastModifiedBy>Fred Videon</cp:lastModifiedBy>
  <dcterms:modified xsi:type="dcterms:W3CDTF">2007-10-15T18:49:32Z</dcterms:modified>
  <cp:revision>2</cp:revision>
  <dc:subject/>
  <dc:title>Slide 1</dc:title>
</cp:coreProperties>
</file>