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4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1.jpeg" ContentType="image/jpeg"/>
  <Override PartName="/ppt/media/image9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55DD1-E34D-4AA9-B794-8BABFA2783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7C7FA-A9B2-4097-A8B6-36A74C591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23920" y="693720"/>
            <a:ext cx="4611600" cy="34592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C3E9B-BAD7-4383-B548-F11CFDC577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23920" y="693720"/>
            <a:ext cx="4611600" cy="34592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26C1A-3E9E-4DE5-B786-217DE69C2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23920" y="693720"/>
            <a:ext cx="4611600" cy="34592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157F1-7532-4B20-AC51-D6B12DE2E2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23920" y="693720"/>
            <a:ext cx="4611600" cy="34592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352F8-677F-4726-9474-ED105827E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23920" y="693720"/>
            <a:ext cx="4611600" cy="3459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3D439-9057-4474-A517-9DB623E37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23920" y="693720"/>
            <a:ext cx="4611600" cy="3459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36022-F3A8-49F3-95F1-A03B5786D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23920" y="693720"/>
            <a:ext cx="4611600" cy="34592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1EF05-C3C7-45FD-BD6F-655DF440E1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23920" y="693720"/>
            <a:ext cx="4611600" cy="34592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DF64C-FB7E-4B11-AD02-B38746AA10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23920" y="693720"/>
            <a:ext cx="4611600" cy="34592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CEFD5-95CA-4011-A5E5-E931996E6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23920" y="693720"/>
            <a:ext cx="4611600" cy="3459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D9415-3A0F-4BA0-B676-E0ADC69490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23920" y="693720"/>
            <a:ext cx="4611600" cy="3459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986DA-7335-4D92-BEB9-54002C994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23920" y="693720"/>
            <a:ext cx="4611600" cy="3459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B7C0C-7EE2-4DAB-9952-DE7685783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23920" y="693720"/>
            <a:ext cx="4611600" cy="3459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4DEE8-7763-47B1-9A31-3DC1350482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23920" y="693720"/>
            <a:ext cx="4611600" cy="34592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63EE7-40DC-42D1-8868-F9B0A48CA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23920" y="693720"/>
            <a:ext cx="4611600" cy="3459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4171D-3FF1-4CF3-A816-F3BEB79AE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23920" y="693720"/>
            <a:ext cx="4611600" cy="3459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A3225-05AB-44D7-9E81-0E26828565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23920" y="693720"/>
            <a:ext cx="4611600" cy="3459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D402C-16F1-45A7-908D-E60C33D07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23920" y="693720"/>
            <a:ext cx="4611600" cy="3459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09AC4-E1BA-46AC-A786-179F9FDF8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23920" y="693720"/>
            <a:ext cx="4611600" cy="3459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D512B-0B4C-4155-BB58-9FEF062437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23920" y="693720"/>
            <a:ext cx="4611600" cy="3459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B95BA-9FCD-42F7-AC66-DD1792011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23920" y="693720"/>
            <a:ext cx="4611600" cy="3459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598CE-FD31-47FC-AF69-5C893EBE9B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23920" y="693720"/>
            <a:ext cx="4611600" cy="34592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DDC32-1EFF-4A5A-9A03-39DC046105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23920" y="693720"/>
            <a:ext cx="4611600" cy="34592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4847A-425C-4DE6-B76C-A3ED1D46B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23920" y="693720"/>
            <a:ext cx="4611600" cy="34592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FD2A0-FF1B-4B92-863D-4E5A6B10E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23920" y="693720"/>
            <a:ext cx="4611600" cy="34592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854B1-2A15-40E9-9678-C1B785E613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23920" y="693720"/>
            <a:ext cx="4611600" cy="34592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BBFA8-60B3-43F3-AF3B-5BAD58392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23920" y="693720"/>
            <a:ext cx="4611600" cy="3459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89983-8FDA-4C93-83DB-908EE092B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23920" y="693720"/>
            <a:ext cx="4611600" cy="34592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D1BBF-2628-4514-AD07-9D70B6D44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23920" y="693720"/>
            <a:ext cx="4611600" cy="34592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AEE3B-1AB6-40FF-945C-8436685C2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23920" y="693720"/>
            <a:ext cx="4611600" cy="34592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7BAD1-9F7C-4166-872F-D50A9FC6DD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23920" y="693720"/>
            <a:ext cx="4611600" cy="34592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F7452-C8BE-41DA-8C65-2700EC92C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23920" y="693720"/>
            <a:ext cx="4611600" cy="34592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75E0D-F5DE-4B79-9CE0-6C976462C6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23920" y="693720"/>
            <a:ext cx="4611600" cy="34592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2B3E9-7EAA-4A32-978A-D6B416173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23920" y="693720"/>
            <a:ext cx="4611600" cy="34592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6B66A-E351-4C9E-8F95-D5B3B0187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23920" y="693720"/>
            <a:ext cx="4611600" cy="34592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A236D-4CDF-4255-AB39-D350C4D06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23920" y="693720"/>
            <a:ext cx="4611600" cy="34592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E9968-12B6-4BA0-81B1-A6315629C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23920" y="693720"/>
            <a:ext cx="4611600" cy="34592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1891C-DA89-4252-ADAB-02C7875C2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23920" y="693720"/>
            <a:ext cx="4611600" cy="34592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1873B-D786-49F5-B304-4ABDEE00C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23920" y="693720"/>
            <a:ext cx="4611600" cy="34592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E4BF8-528E-4BCC-9C6E-6EF0322CCB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23920" y="693720"/>
            <a:ext cx="4611600" cy="34592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A457E-488A-40CC-A1B5-8493C6031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23920" y="693720"/>
            <a:ext cx="4611600" cy="34592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A8587-1B49-4D79-B2B1-046E09532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23920" y="693720"/>
            <a:ext cx="4611600" cy="34592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35EC9-C68C-4704-995E-68FE77109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23920" y="693720"/>
            <a:ext cx="4611600" cy="34592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84BE4-0B4D-46FE-9035-387054D95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23920" y="693720"/>
            <a:ext cx="4611600" cy="34592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1C324-80D8-479D-8BAC-49F4A82FE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23920" y="693720"/>
            <a:ext cx="4611600" cy="34592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37347-37A0-496C-80A0-A116B7401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23920" y="693720"/>
            <a:ext cx="4611600" cy="3459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5138C-8F84-4E09-9AD9-5296B6CC7A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23920" y="693720"/>
            <a:ext cx="4611600" cy="3459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8A7A-63B3-4F66-B656-39177EBFE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1DB6-7771-47FC-A31A-15DEA5851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1C10-8EEB-4233-B5F8-079AD0CDB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B148-FE3D-4B82-842F-45F276C96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46D4-96B5-4DD6-B7FF-94030E9DD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BCDF-5CB3-4578-B436-C6DB3CB7E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43A8-6E6C-4D0E-A467-3EDD5BB92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7A64-E2B1-47E6-A370-32BA2FC46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9C9C-501F-43C6-ABEB-4FD2DBFDF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673A-8B01-4E37-86FC-8078A4E2E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1292-203E-4856-8B6C-AB3E97EFF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7B78-29CC-444C-84E4-BA2E7531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75820-4E61-42C9-8F4C-7FD4C80B3D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F:\Documents\tmp_584\image47.jpg"/>
          <p:cNvPicPr/>
          <p:nvPr/>
        </p:nvPicPr>
        <p:blipFill>
          <a:blip r:embed="rId1"/>
          <a:stretch/>
        </p:blipFill>
        <p:spPr>
          <a:xfrm>
            <a:off x="698400" y="-76212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F:\Documents\tmp_584\image38.jpg"/>
          <p:cNvPicPr/>
          <p:nvPr/>
        </p:nvPicPr>
        <p:blipFill>
          <a:blip r:embed="rId1"/>
          <a:stretch/>
        </p:blipFill>
        <p:spPr>
          <a:xfrm>
            <a:off x="698400" y="-76212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F:\Documents\tmp_584\image37.jpg"/>
          <p:cNvPicPr/>
          <p:nvPr/>
        </p:nvPicPr>
        <p:blipFill>
          <a:blip r:embed="rId1"/>
          <a:stretch/>
        </p:blipFill>
        <p:spPr>
          <a:xfrm>
            <a:off x="698400" y="-76212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F:\Documents\tmp_584\image36.jpg"/>
          <p:cNvPicPr/>
          <p:nvPr/>
        </p:nvPicPr>
        <p:blipFill>
          <a:blip r:embed="rId1"/>
          <a:stretch/>
        </p:blipFill>
        <p:spPr>
          <a:xfrm>
            <a:off x="698400" y="-76212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F:\Documents\tmp_584\image35.jpg"/>
          <p:cNvPicPr/>
          <p:nvPr/>
        </p:nvPicPr>
        <p:blipFill>
          <a:blip r:embed="rId1"/>
          <a:stretch/>
        </p:blipFill>
        <p:spPr>
          <a:xfrm>
            <a:off x="698400" y="-76212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F:\Documents\tmp_584\image34.jpg"/>
          <p:cNvPicPr/>
          <p:nvPr/>
        </p:nvPicPr>
        <p:blipFill>
          <a:blip r:embed="rId1"/>
          <a:stretch/>
        </p:blipFill>
        <p:spPr>
          <a:xfrm>
            <a:off x="698400" y="-76212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F:\Documents\tmp_584\image17.jpg"/>
          <p:cNvPicPr/>
          <p:nvPr/>
        </p:nvPicPr>
        <p:blipFill>
          <a:blip r:embed="rId1"/>
          <a:stretch/>
        </p:blipFill>
        <p:spPr>
          <a:xfrm>
            <a:off x="698400" y="-76212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F:\Documents\tmp_584\image33.jpg"/>
          <p:cNvPicPr/>
          <p:nvPr/>
        </p:nvPicPr>
        <p:blipFill>
          <a:blip r:embed="rId1"/>
          <a:stretch/>
        </p:blipFill>
        <p:spPr>
          <a:xfrm>
            <a:off x="698400" y="-76212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F:\Documents\tmp_584\image3.jpg"/>
          <p:cNvPicPr/>
          <p:nvPr/>
        </p:nvPicPr>
        <p:blipFill>
          <a:blip r:embed="rId1"/>
          <a:stretch/>
        </p:blipFill>
        <p:spPr>
          <a:xfrm>
            <a:off x="698400" y="-76212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F:\Documents\tmp_584\image32.jpg"/>
          <p:cNvPicPr/>
          <p:nvPr/>
        </p:nvPicPr>
        <p:blipFill>
          <a:blip r:embed="rId1"/>
          <a:stretch/>
        </p:blipFill>
        <p:spPr>
          <a:xfrm>
            <a:off x="698400" y="-76212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F:\Documents\tmp_584\image31.jpg"/>
          <p:cNvPicPr/>
          <p:nvPr/>
        </p:nvPicPr>
        <p:blipFill>
          <a:blip r:embed="rId1"/>
          <a:stretch/>
        </p:blipFill>
        <p:spPr>
          <a:xfrm>
            <a:off x="698400" y="-76212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F:\Documents\tmp_584\image46.jpg"/>
          <p:cNvPicPr/>
          <p:nvPr/>
        </p:nvPicPr>
        <p:blipFill>
          <a:blip r:embed="rId1"/>
          <a:stretch/>
        </p:blipFill>
        <p:spPr>
          <a:xfrm>
            <a:off x="698400" y="-76212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F:\Documents\tmp_584\image5.jpg"/>
          <p:cNvPicPr/>
          <p:nvPr/>
        </p:nvPicPr>
        <p:blipFill>
          <a:blip r:embed="rId1"/>
          <a:stretch/>
        </p:blipFill>
        <p:spPr>
          <a:xfrm>
            <a:off x="698400" y="-76212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F:\Documents\tmp_584\image30.jpg"/>
          <p:cNvPicPr/>
          <p:nvPr/>
        </p:nvPicPr>
        <p:blipFill>
          <a:blip r:embed="rId1"/>
          <a:stretch/>
        </p:blipFill>
        <p:spPr>
          <a:xfrm>
            <a:off x="698400" y="-76212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F:\Documents\tmp_584\image29.jpg"/>
          <p:cNvPicPr/>
          <p:nvPr/>
        </p:nvPicPr>
        <p:blipFill>
          <a:blip r:embed="rId1"/>
          <a:stretch/>
        </p:blipFill>
        <p:spPr>
          <a:xfrm>
            <a:off x="698400" y="-76212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F:\Documents\tmp_584\image28.jpg"/>
          <p:cNvPicPr/>
          <p:nvPr/>
        </p:nvPicPr>
        <p:blipFill>
          <a:blip r:embed="rId1"/>
          <a:stretch/>
        </p:blipFill>
        <p:spPr>
          <a:xfrm>
            <a:off x="698400" y="-76212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F:\Documents\tmp_584\image2.jpg"/>
          <p:cNvPicPr/>
          <p:nvPr/>
        </p:nvPicPr>
        <p:blipFill>
          <a:blip r:embed="rId1"/>
          <a:stretch/>
        </p:blipFill>
        <p:spPr>
          <a:xfrm>
            <a:off x="698400" y="-76212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F:\Documents\tmp_584\image10.jpg"/>
          <p:cNvPicPr/>
          <p:nvPr/>
        </p:nvPicPr>
        <p:blipFill>
          <a:blip r:embed="rId1"/>
          <a:stretch/>
        </p:blipFill>
        <p:spPr>
          <a:xfrm>
            <a:off x="698400" y="-76212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F:\Documents\tmp_584\image42.jpg"/>
          <p:cNvPicPr/>
          <p:nvPr/>
        </p:nvPicPr>
        <p:blipFill>
          <a:blip r:embed="rId1"/>
          <a:stretch/>
        </p:blipFill>
        <p:spPr>
          <a:xfrm>
            <a:off x="698400" y="-76212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F:\Documents\tmp_584\image27.jpg"/>
          <p:cNvPicPr/>
          <p:nvPr/>
        </p:nvPicPr>
        <p:blipFill>
          <a:blip r:embed="rId1"/>
          <a:stretch/>
        </p:blipFill>
        <p:spPr>
          <a:xfrm>
            <a:off x="698400" y="-76212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F:\Documents\tmp_584\image26.jpg"/>
          <p:cNvPicPr/>
          <p:nvPr/>
        </p:nvPicPr>
        <p:blipFill>
          <a:blip r:embed="rId1"/>
          <a:stretch/>
        </p:blipFill>
        <p:spPr>
          <a:xfrm>
            <a:off x="698400" y="-76212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F:\Documents\tmp_584\image25.jpg"/>
          <p:cNvPicPr/>
          <p:nvPr/>
        </p:nvPicPr>
        <p:blipFill>
          <a:blip r:embed="rId1"/>
          <a:stretch/>
        </p:blipFill>
        <p:spPr>
          <a:xfrm>
            <a:off x="698400" y="-76212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F:\Documents\tmp_584\image45.jpg"/>
          <p:cNvPicPr/>
          <p:nvPr/>
        </p:nvPicPr>
        <p:blipFill>
          <a:blip r:embed="rId1"/>
          <a:stretch/>
        </p:blipFill>
        <p:spPr>
          <a:xfrm>
            <a:off x="698400" y="-76212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F:\Documents\tmp_584\image8.jpg"/>
          <p:cNvPicPr/>
          <p:nvPr/>
        </p:nvPicPr>
        <p:blipFill>
          <a:blip r:embed="rId1"/>
          <a:stretch/>
        </p:blipFill>
        <p:spPr>
          <a:xfrm>
            <a:off x="698400" y="-76212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F:\Documents\tmp_584\image22.jpg"/>
          <p:cNvPicPr/>
          <p:nvPr/>
        </p:nvPicPr>
        <p:blipFill>
          <a:blip r:embed="rId1"/>
          <a:stretch/>
        </p:blipFill>
        <p:spPr>
          <a:xfrm>
            <a:off x="698400" y="-76212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F:\Documents\tmp_584\image24.jpg"/>
          <p:cNvPicPr/>
          <p:nvPr/>
        </p:nvPicPr>
        <p:blipFill>
          <a:blip r:embed="rId1"/>
          <a:stretch/>
        </p:blipFill>
        <p:spPr>
          <a:xfrm>
            <a:off x="698400" y="-76212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F:\Documents\tmp_584\image23.jpg"/>
          <p:cNvPicPr/>
          <p:nvPr/>
        </p:nvPicPr>
        <p:blipFill>
          <a:blip r:embed="rId1"/>
          <a:stretch/>
        </p:blipFill>
        <p:spPr>
          <a:xfrm>
            <a:off x="698400" y="-76212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F:\Documents\tmp_584\image7.jpg"/>
          <p:cNvPicPr/>
          <p:nvPr/>
        </p:nvPicPr>
        <p:blipFill>
          <a:blip r:embed="rId1"/>
          <a:stretch/>
        </p:blipFill>
        <p:spPr>
          <a:xfrm>
            <a:off x="698400" y="-76212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F:\Documents\tmp_584\image21.jpg"/>
          <p:cNvPicPr/>
          <p:nvPr/>
        </p:nvPicPr>
        <p:blipFill>
          <a:blip r:embed="rId1"/>
          <a:stretch/>
        </p:blipFill>
        <p:spPr>
          <a:xfrm>
            <a:off x="698400" y="-76212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F:\Documents\tmp_584\image20.jpg"/>
          <p:cNvPicPr/>
          <p:nvPr/>
        </p:nvPicPr>
        <p:blipFill>
          <a:blip r:embed="rId1"/>
          <a:stretch/>
        </p:blipFill>
        <p:spPr>
          <a:xfrm>
            <a:off x="698400" y="-76212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F:\Documents\tmp_584\image19.jpg"/>
          <p:cNvPicPr/>
          <p:nvPr/>
        </p:nvPicPr>
        <p:blipFill>
          <a:blip r:embed="rId1"/>
          <a:stretch/>
        </p:blipFill>
        <p:spPr>
          <a:xfrm>
            <a:off x="698400" y="-76212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F:\Documents\tmp_584\image18.jpg"/>
          <p:cNvPicPr/>
          <p:nvPr/>
        </p:nvPicPr>
        <p:blipFill>
          <a:blip r:embed="rId1"/>
          <a:stretch/>
        </p:blipFill>
        <p:spPr>
          <a:xfrm>
            <a:off x="698400" y="-76212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F:\Documents\tmp_584\image1.jpg"/>
          <p:cNvPicPr/>
          <p:nvPr/>
        </p:nvPicPr>
        <p:blipFill>
          <a:blip r:embed="rId1"/>
          <a:stretch/>
        </p:blipFill>
        <p:spPr>
          <a:xfrm>
            <a:off x="698400" y="-76212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F:\Documents\tmp_584\image6.jpg"/>
          <p:cNvPicPr/>
          <p:nvPr/>
        </p:nvPicPr>
        <p:blipFill>
          <a:blip r:embed="rId1"/>
          <a:stretch/>
        </p:blipFill>
        <p:spPr>
          <a:xfrm>
            <a:off x="698400" y="-76212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F:\Documents\tmp_584\image16.jpg"/>
          <p:cNvPicPr/>
          <p:nvPr/>
        </p:nvPicPr>
        <p:blipFill>
          <a:blip r:embed="rId1"/>
          <a:stretch/>
        </p:blipFill>
        <p:spPr>
          <a:xfrm>
            <a:off x="698400" y="-76212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F:\Documents\tmp_584\image15.jpg"/>
          <p:cNvPicPr/>
          <p:nvPr/>
        </p:nvPicPr>
        <p:blipFill>
          <a:blip r:embed="rId1"/>
          <a:stretch/>
        </p:blipFill>
        <p:spPr>
          <a:xfrm>
            <a:off x="698400" y="-76212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F:\Documents\tmp_584\image14.jpg"/>
          <p:cNvPicPr/>
          <p:nvPr/>
        </p:nvPicPr>
        <p:blipFill>
          <a:blip r:embed="rId1"/>
          <a:stretch/>
        </p:blipFill>
        <p:spPr>
          <a:xfrm>
            <a:off x="698400" y="-76212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F:\Documents\tmp_584\image13.jpg"/>
          <p:cNvPicPr/>
          <p:nvPr/>
        </p:nvPicPr>
        <p:blipFill>
          <a:blip r:embed="rId1"/>
          <a:stretch/>
        </p:blipFill>
        <p:spPr>
          <a:xfrm>
            <a:off x="698400" y="-76212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F:\Documents\tmp_584\image12.jpg"/>
          <p:cNvPicPr/>
          <p:nvPr/>
        </p:nvPicPr>
        <p:blipFill>
          <a:blip r:embed="rId1"/>
          <a:stretch/>
        </p:blipFill>
        <p:spPr>
          <a:xfrm>
            <a:off x="698400" y="-76212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F:\Documents\tmp_584\image11.jpg"/>
          <p:cNvPicPr/>
          <p:nvPr/>
        </p:nvPicPr>
        <p:blipFill>
          <a:blip r:embed="rId1"/>
          <a:stretch/>
        </p:blipFill>
        <p:spPr>
          <a:xfrm>
            <a:off x="698400" y="-76212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F:\Documents\tmp_584\image4.jpg"/>
          <p:cNvPicPr/>
          <p:nvPr/>
        </p:nvPicPr>
        <p:blipFill>
          <a:blip r:embed="rId1"/>
          <a:stretch/>
        </p:blipFill>
        <p:spPr>
          <a:xfrm>
            <a:off x="698400" y="-76212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F:\Documents\tmp_584\image9.jpg"/>
          <p:cNvPicPr/>
          <p:nvPr/>
        </p:nvPicPr>
        <p:blipFill>
          <a:blip r:embed="rId1"/>
          <a:stretch/>
        </p:blipFill>
        <p:spPr>
          <a:xfrm>
            <a:off x="698400" y="-76212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F:\Documents\tmp_584\image44.jpg"/>
          <p:cNvPicPr/>
          <p:nvPr/>
        </p:nvPicPr>
        <p:blipFill>
          <a:blip r:embed="rId1"/>
          <a:stretch/>
        </p:blipFill>
        <p:spPr>
          <a:xfrm>
            <a:off x="698400" y="-76212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F:\Documents\tmp_584\image43.jpg"/>
          <p:cNvPicPr/>
          <p:nvPr/>
        </p:nvPicPr>
        <p:blipFill>
          <a:blip r:embed="rId1"/>
          <a:stretch/>
        </p:blipFill>
        <p:spPr>
          <a:xfrm>
            <a:off x="698400" y="-76212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F:\Documents\tmp_584\image41.jpg"/>
          <p:cNvPicPr/>
          <p:nvPr/>
        </p:nvPicPr>
        <p:blipFill>
          <a:blip r:embed="rId1"/>
          <a:stretch/>
        </p:blipFill>
        <p:spPr>
          <a:xfrm>
            <a:off x="698400" y="-76212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F:\Documents\tmp_584\image40.jpg"/>
          <p:cNvPicPr/>
          <p:nvPr/>
        </p:nvPicPr>
        <p:blipFill>
          <a:blip r:embed="rId1"/>
          <a:stretch/>
        </p:blipFill>
        <p:spPr>
          <a:xfrm>
            <a:off x="698400" y="-76212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F:\Documents\tmp_584\image39.jpg"/>
          <p:cNvPicPr/>
          <p:nvPr/>
        </p:nvPicPr>
        <p:blipFill>
          <a:blip r:embed="rId1"/>
          <a:stretch/>
        </p:blipFill>
        <p:spPr>
          <a:xfrm>
            <a:off x="698400" y="-76212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5T17:58:03Z</dcterms:created>
  <dc:creator>David Notkin</dc:creator>
  <dc:description/>
  <dc:language>en-US</dc:language>
  <cp:lastModifiedBy>Fred Videon</cp:lastModifiedBy>
  <dcterms:modified xsi:type="dcterms:W3CDTF">2007-10-15T18:49:32Z</dcterms:modified>
  <cp:revision>2</cp:revision>
  <dc:subject/>
  <dc:title>Slide 1</dc:title>
</cp:coreProperties>
</file>