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1.wmf" ContentType="image/x-wmf"/>
  <Override PartName="/ppt/media/image3.png" ContentType="image/png"/>
  <Override PartName="/ppt/media/image17.jpeg" ContentType="image/jpeg"/>
  <Override PartName="/ppt/media/image13.wmf" ContentType="image/x-wmf"/>
  <Override PartName="/ppt/media/image16.jpeg" ContentType="image/jpeg"/>
  <Override PartName="/ppt/media/image15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FB6-AADC-4C15-853D-359E6693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יש חסם תחת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43C-5BAF-4F04-A69B-812B4508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B4F-2C6E-460B-89F7-6FE7B03C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AE7-654C-4D69-91E0-FC88F0E3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634-5F9C-416C-8F75-5D82A235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B5B-F821-4F8F-AF28-CC1629BC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F50-F7A8-46C3-AF20-9AD874B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675-03E1-4ECF-A0FD-FC5A9AC8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0D72-9147-418D-BCCB-6D0FAA1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51EC-23F1-4631-8384-A37E0872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F54-69B0-4FCE-8726-3B74A18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B52C-3F24-440B-A62B-1479D71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31A-0533-4187-B008-FF25B22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E60C-3115-47F0-9906-555366C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BA21-9D03-4D34-A824-CDFDAE8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4CB-4DFC-48DF-93BC-C8906B6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0DF-9853-4FA7-96A9-779223B0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3B13-C06B-42E7-AA7D-AA57A787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2E1-371E-4BC6-9DD5-3B1DEF36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749-6A6E-48BA-9C80-FD1922D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368-9795-4331-B959-035CA5A5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CDB-21A8-4D13-BEE8-8D4CBD1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3AD-6B33-4B62-8CB4-8116693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D98-235C-4F0D-93B9-B51838A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58B-0923-4E9D-A646-5AF0358D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C98B-BE5B-4C0B-A9D6-54E987114B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DC7-846E-4B64-9ADF-256D9E2E01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Algorithms and Economics of Networks: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Comic Sans MS"/>
              </a:rPr>
              <a:t>Coordination Mechanis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Comic Sans MS"/>
              </a:rPr>
              <a:t>Abraham Flaxman and Vahab Mirrokni, 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Comic Sans MS"/>
              </a:rPr>
              <a:t>Local Scheduling Polici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Comic Sans MS"/>
              </a:rPr>
              <a:t>Shortest-first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Comic Sans MS"/>
              </a:rPr>
              <a:t>Longest-first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Comic Sans MS"/>
              </a:rPr>
              <a:t>Random Orde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Comic Sans MS"/>
              </a:rPr>
              <a:t>MakeSpa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Challenge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b812f"/>
                </a:solidFill>
                <a:latin typeface="Comic Sans MS"/>
              </a:rPr>
              <a:t>Design policies that results i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Comic Sans MS"/>
              </a:rPr>
              <a:t>good</a:t>
            </a:r>
            <a:r>
              <a:rPr b="0" lang="en-US" sz="3700" spc="-1" strike="noStrike">
                <a:solidFill>
                  <a:srgbClr val="3b812f"/>
                </a:solidFill>
                <a:latin typeface="Comic Sans MS"/>
              </a:rPr>
              <a:t> NE (i.e. low PoA)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2952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24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Unrelated Machines Scheduling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063880"/>
          <a:ext cx="8229600" cy="36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3880"/>
                    <a:ext cx="822960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quilibrium for Longest Firs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55760" y="1600200"/>
          <a:ext cx="64310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600200"/>
                    <a:ext cx="64310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oA of Longest Firs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Results in poor 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The PoA is unbounded even for 2 mach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The optimum completion time is lo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The completion time of NE is lar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485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Machine Scheduling Model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825"/>
              </a:spcBef>
              <a:spcAft>
                <a:spcPts val="8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Identical Machines: P||Cma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spcAft>
                <a:spcPts val="8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Related Machines: Q||Cmax (Different Speeds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spcAft>
                <a:spcPts val="8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Restricted Assignment: B||Cma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spcAft>
                <a:spcPts val="8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Unrelated Machines: R||Cma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oA Result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97720" y="4902120"/>
                <a:ext cx="139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320" y="1371600"/>
          <a:ext cx="9067680" cy="4738680"/>
        </p:xfrm>
        <a:graphic>
          <a:graphicData uri="http://schemas.openxmlformats.org/drawingml/2006/table">
            <a:tbl>
              <a:tblPr/>
              <a:tblGrid>
                <a:gridCol w="1603080"/>
                <a:gridCol w="1673280"/>
                <a:gridCol w="1752840"/>
                <a:gridCol w="1981080"/>
                <a:gridCol w="205740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MakeSpan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Shortest-first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Longest-first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Randomized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P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-1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-1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4/3-1/3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-2/m+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Q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2-1/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B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log 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R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Unbound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(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Unbound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(m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ure NE Result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597720" y="4902120"/>
                <a:ext cx="139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371600"/>
          <a:ext cx="8839440" cy="4768920"/>
        </p:xfrm>
        <a:graphic>
          <a:graphicData uri="http://schemas.openxmlformats.org/drawingml/2006/table">
            <a:tbl>
              <a:tblPr/>
              <a:tblGrid>
                <a:gridCol w="1559160"/>
                <a:gridCol w="1710360"/>
                <a:gridCol w="1707120"/>
                <a:gridCol w="1765080"/>
                <a:gridCol w="209772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MakeSpan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Shortest-first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Longest-first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Randomized Poli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P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Q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B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R||Cma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Exi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??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OP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6699"/>
                </a:solidFill>
                <a:latin typeface="Comic Sans MS"/>
              </a:rPr>
              <a:t>Type of Policie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Local policy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– depends on jobs assigned to mach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Strongly local policy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- depends only on processing time of jobs on that mach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Ordering Policy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IA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(independence of irrelevant alternativ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Lower Bound for Strongly Local Policy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We start with Shortest-Firs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Extend it to  arbitrary strongly local IIA polic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Shortest-First is interesting by its ow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rice on Anarchy [KP, RT]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64"/>
              </a:spcBef>
              <a:spcAft>
                <a:spcPts val="9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Selfish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64"/>
              </a:spcBef>
              <a:spcAft>
                <a:spcPts val="9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User goal: minimize its co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64"/>
              </a:spcBef>
              <a:spcAft>
                <a:spcPts val="9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Nash Equilibrium (N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64"/>
              </a:spcBef>
              <a:spcAft>
                <a:spcPts val="9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System goal (e.g. Social welfar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64"/>
              </a:spcBef>
              <a:spcAft>
                <a:spcPts val="96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The worst ratio of </a:t>
            </a: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NE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cost to </a:t>
            </a: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OPT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co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57600" y="1371600"/>
          <a:ext cx="8190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819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800600" y="1447920"/>
          <a:ext cx="61740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447920"/>
                    <a:ext cx="617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751360" y="1353960"/>
          <a:ext cx="554040" cy="81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1360" y="1353960"/>
                    <a:ext cx="55404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858000" y="3147840"/>
            <a:ext cx="15908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Shortest-Firs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Approx factor known to be at most 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NE can be computed by shortest-first greedy algorith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5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(Alg D by Ibarra and Kim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An open question from 197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We show it is at least m/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Idea of the Proof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363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types of jo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363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can be scheduled on machines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+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363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ocessing time of typ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on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is low and on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+1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is high (ratio is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363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jobs on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have almost the same processing ti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xample for Shortest-Firs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44600" y="1600200"/>
          <a:ext cx="64533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600200"/>
                    <a:ext cx="64533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Idea of the Proof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PT assign all jobs of typ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to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Number of jobs is chosen such that OPT has the same completion time for all machin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Optimal Assignmen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43000" y="1697040"/>
          <a:ext cx="68896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97040"/>
                    <a:ext cx="68896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Idea of the Proof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5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n NE about half jobs of typ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are on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and half on machin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j+1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ompletion time of NE grows linearly in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</a:rPr>
              <a:t>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quilibrium for Shortest-Firs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35000" y="1655640"/>
          <a:ext cx="70740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655640"/>
                    <a:ext cx="707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xtend to Arbitrary Strongly Local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Structure is similar to lower bound for Shortest-Firs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Arbitrary ordering function is given for each mach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Indices of jobs are chosen to behave similar to the above examp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5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fficiency Based Algorithm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Order jobs on each machine by their efficienc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Efficiency of job on machine is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3b812f"/>
                </a:solidFill>
                <a:latin typeface="Comic Sans MS"/>
              </a:rPr>
              <a:t>The ratio between job’s best processing time to its processing time on this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PoA of algorithm is O(log m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9716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quilibrium Improve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35000" y="1655640"/>
          <a:ext cx="70740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655640"/>
                    <a:ext cx="707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rice of Anarchy Concept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Not algorithm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Only analy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What to do if PoA is lar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How to influence the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Efficiency Based Algorithm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Unfortunately – pure NE may not exis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Iterative improvement may cyc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Modified algorithm guarantees convergence and pure NE with PoA of  O(log^2 m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9716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438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Modified Algorithm</a:t>
            </a:r>
            <a:r>
              <a:rPr b="0" lang="en-US" sz="39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Each machine simulate log m submachines (by round robin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Submachine k of machine j handles jobs on efficiency between 2^{-k}  and 2^{-k+1}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Jobs are ordered on submachine by Shortest-Fir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PoA of algorithm is O(log^2 m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1440" y="3035160"/>
                <a:ext cx="117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9903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3049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b812f"/>
                </a:solidFill>
                <a:latin typeface="Comic Sans MS"/>
              </a:rPr>
              <a:t>Coordination Mechanism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Influence on the quality of the equilibriu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b812f"/>
                </a:solidFill>
                <a:latin typeface="Comic Sans MS"/>
              </a:rPr>
              <a:t>Unrelated Machin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m – lower b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Shortest-First is at least 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Local order by efficiency  O(log m) – optim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Pure + Convergence O(log^2 m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Discussion and Open Problem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Non ordering strategies – get below log 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39"/>
              </a:spcBef>
              <a:spcAft>
                <a:spcPts val="123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Extend to network rout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39"/>
              </a:spcBef>
              <a:spcAft>
                <a:spcPts val="123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Show more effective usage of coordination mechanis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Possible Solution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Change the system (add tolls, payment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Stackelberg strategy = control some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Disadvantages</a:t>
            </a:r>
            <a:r>
              <a:rPr b="1" lang="en-US" sz="3100" spc="-1" strike="noStrike">
                <a:solidFill>
                  <a:srgbClr val="3b812f"/>
                </a:solidFill>
                <a:latin typeface="Comic Sans MS"/>
              </a:rPr>
              <a:t>: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 changing the settings, global knowled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Challenge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: influence within the same setting and locally (distribute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Coordination Mechanism [CKN]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Mechanism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: local policy (algorithm) that assigns  a cost for each strategy of the use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Advantages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: local, same type of co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Goal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: achieving good  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b812f"/>
                </a:solidFill>
                <a:latin typeface="Comic Sans MS"/>
              </a:rPr>
              <a:t>Example</a:t>
            </a:r>
            <a:r>
              <a:rPr b="0" lang="en-US" sz="3100" spc="-1" strike="noStrike">
                <a:solidFill>
                  <a:srgbClr val="3b812f"/>
                </a:solidFill>
                <a:latin typeface="Comic Sans MS"/>
              </a:rPr>
              <a:t>: scheduling jobs on mach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6699"/>
                </a:solidFill>
                <a:latin typeface="Comic Sans MS"/>
              </a:rPr>
              <a:t>Unrelated Machine Scheduling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b812f"/>
                </a:solidFill>
                <a:latin typeface="Comic Sans MS"/>
              </a:rPr>
              <a:t>m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 unrelated machin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b812f"/>
                </a:solidFill>
                <a:latin typeface="Comic Sans MS"/>
              </a:rPr>
              <a:t>n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jobs – each </a:t>
            </a:r>
            <a:r>
              <a:rPr b="1" lang="en-US" sz="2900" spc="-1" strike="noStrike">
                <a:solidFill>
                  <a:srgbClr val="3b812f"/>
                </a:solidFill>
                <a:latin typeface="Comic Sans MS"/>
              </a:rPr>
              <a:t>owned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by different us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b812f"/>
                </a:solidFill>
                <a:latin typeface="Comic Sans MS"/>
              </a:rPr>
              <a:t>p(i,j)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- processing time of job i on machine 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b812f"/>
                </a:solidFill>
                <a:latin typeface="Comic Sans MS"/>
              </a:rPr>
              <a:t>Social Objective: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minimize completion ti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b812f"/>
                </a:solidFill>
                <a:latin typeface="Comic Sans MS"/>
              </a:rPr>
              <a:t>User goal</a:t>
            </a:r>
            <a:r>
              <a:rPr b="1" lang="en-US" sz="2900" spc="-1" strike="noStrike">
                <a:solidFill>
                  <a:srgbClr val="3b812f"/>
                </a:solidFill>
                <a:latin typeface="Comic Sans MS"/>
              </a:rPr>
              <a:t>:</a:t>
            </a:r>
            <a:r>
              <a:rPr b="0" lang="en-US" sz="2900" spc="-1" strike="noStrike">
                <a:solidFill>
                  <a:srgbClr val="3b812f"/>
                </a:solidFill>
                <a:latin typeface="Comic Sans MS"/>
              </a:rPr>
              <a:t> minimize its own completion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time (Makespan: Cmax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835200"/>
            <a:ext cx="752400" cy="717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48520" y="835200"/>
            <a:ext cx="1252440" cy="76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0120" y="835200"/>
            <a:ext cx="7570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8077320" y="1913040"/>
          <a:ext cx="533160" cy="52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77320" y="1913040"/>
                    <a:ext cx="5331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38880" y="1836720"/>
          <a:ext cx="409680" cy="60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1836720"/>
                    <a:ext cx="4096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Unrelated Machines Scheduling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2063880"/>
          <a:ext cx="8229600" cy="36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3880"/>
                    <a:ext cx="822960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Comic Sans MS"/>
              </a:rPr>
              <a:t>Coordination Mechanism for Scheduling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3b812f"/>
                </a:solidFill>
                <a:latin typeface="Comic Sans MS"/>
              </a:rPr>
              <a:t>Policy</a:t>
            </a: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 for each machine (algorithm) whi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decides how to schedule jobs assigned to 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b812f"/>
                </a:solidFill>
                <a:latin typeface="Comic Sans MS"/>
              </a:rPr>
              <a:t>Each Policy induces NE on job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4962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b812f"/>
                </a:solidFill>
                <a:latin typeface="Comic Sans MS"/>
              </a:rPr>
              <a:t>Local Scheduling Policies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52320" y="1666800"/>
          <a:ext cx="770904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666800"/>
                    <a:ext cx="77090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0:35:18Z</dcterms:created>
  <dc:creator>Nicole Immorlica</dc:creator>
  <dc:description/>
  <cp:keywords/>
  <dc:language>en-US</dc:language>
  <cp:lastModifiedBy>mirrokni</cp:lastModifiedBy>
  <dcterms:modified xsi:type="dcterms:W3CDTF">2007-04-06T17:58:44Z</dcterms:modified>
  <cp:revision>110</cp:revision>
  <dc:subject/>
  <dc:title>Two Results in Ad A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91033</vt:lpwstr>
  </property>
</Properties>
</file>