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ABD8-5141-466A-AF18-8764656B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90720" y="40870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E2E0-C12B-460A-985D-C6F54EEC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9072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776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790C-069D-41B4-AAE9-CD185474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3160" y="2057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5600" y="2057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90720" y="40870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3160" y="40870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5600" y="40870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0908-47C9-4E28-86B1-2404714A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E0FF-A1E8-4CAC-B50A-D67B07CF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626E-1B26-41DE-8A80-5E21B4A6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B7B-3F42-4073-9F17-FB4A67C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DC37-2D1E-4D29-A150-D9974DE8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E5F-285D-45E1-AFF3-C6716350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5462-7721-47C6-9F33-1B3AA71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DF8A-DDA8-425A-94F1-209880E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87E6-B227-43D9-88A8-96853413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0776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3BD-ACEB-4712-B8DE-34E5EA1B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720" y="40870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81B7-A968-443B-8FD8-1056733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90720" y="40870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0AA5-23F0-45C9-A1E3-B145907D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72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0776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03AE-B20D-4F0C-BB40-B8FD9CDF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73160" y="2057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5600" y="2057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90720" y="40870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73160" y="40870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5600" y="40870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4A63-0917-4926-82E5-6A65A85C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D806-6699-49B5-B5F5-368ECF55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88FE-2FC1-42B5-AE6F-426FE75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104B-3CDA-4C61-BCF4-57CE8FC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6382-F098-4CAD-8DEC-980846EA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E46E-8193-4E9B-BC78-F6F07B2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7760" y="40870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972A-E519-4746-8A70-F84BEB7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7760" y="2057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0870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0DC6-F201-4063-8760-BA5FF832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6E7-56C4-4003-9581-ECC89047A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9907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B21-2EE3-4320-AE64-6916E5930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itle Page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60020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Times New Roman"/>
              </a:rPr>
              <a:t>An Application of Market Equilibrium in Distributed Load Balancing in Wireless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gorithms and Economics of Networ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W CSE-599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ogousness is Inspirat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situation is analogous to Fisher setting with Linear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Fisher Setting Linear Ut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3400" y="11430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21000" y="10666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133720"/>
            <a:ext cx="2057400" cy="685800"/>
            <a:chOff x="990720" y="2133720"/>
            <a:chExt cx="2057400" cy="685800"/>
          </a:xfrm>
        </p:grpSpPr>
        <p:sp>
          <p:nvSpPr>
            <p:cNvPr id="131" name=""/>
            <p:cNvSpPr/>
            <p:nvPr/>
          </p:nvSpPr>
          <p:spPr>
            <a:xfrm>
              <a:off x="990720" y="213372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246320" y="2224080"/>
            <a:ext cx="1641240" cy="52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46320" y="2224080"/>
                      <a:ext cx="164124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4" name=""/>
          <p:cNvGrpSpPr/>
          <p:nvPr/>
        </p:nvGrpSpPr>
        <p:grpSpPr>
          <a:xfrm>
            <a:off x="1066680" y="3733920"/>
            <a:ext cx="2057400" cy="685800"/>
            <a:chOff x="1066680" y="3733920"/>
            <a:chExt cx="2057400" cy="685800"/>
          </a:xfrm>
        </p:grpSpPr>
        <p:sp>
          <p:nvSpPr>
            <p:cNvPr id="135" name=""/>
            <p:cNvSpPr/>
            <p:nvPr/>
          </p:nvSpPr>
          <p:spPr>
            <a:xfrm>
              <a:off x="1066680" y="373392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1323720" y="3809880"/>
            <a:ext cx="163836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23720" y="3809880"/>
                      <a:ext cx="163836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"/>
          <p:cNvGrpSpPr/>
          <p:nvPr/>
        </p:nvGrpSpPr>
        <p:grpSpPr>
          <a:xfrm>
            <a:off x="1066680" y="5486400"/>
            <a:ext cx="2057400" cy="685800"/>
            <a:chOff x="1066680" y="5486400"/>
            <a:chExt cx="2057400" cy="685800"/>
          </a:xfrm>
        </p:grpSpPr>
        <p:sp>
          <p:nvSpPr>
            <p:cNvPr id="139" name=""/>
            <p:cNvSpPr/>
            <p:nvPr/>
          </p:nvSpPr>
          <p:spPr>
            <a:xfrm>
              <a:off x="1066680" y="548640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1320480" y="5583240"/>
            <a:ext cx="1643040" cy="5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20480" y="5583240"/>
                      <a:ext cx="1643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" name=""/>
          <p:cNvGrpSpPr/>
          <p:nvPr/>
        </p:nvGrpSpPr>
        <p:grpSpPr>
          <a:xfrm>
            <a:off x="5742000" y="2130480"/>
            <a:ext cx="2057400" cy="685800"/>
            <a:chOff x="5742000" y="2130480"/>
            <a:chExt cx="2057400" cy="685800"/>
          </a:xfrm>
        </p:grpSpPr>
        <p:sp>
          <p:nvSpPr>
            <p:cNvPr id="143" name=""/>
            <p:cNvSpPr/>
            <p:nvPr/>
          </p:nvSpPr>
          <p:spPr>
            <a:xfrm>
              <a:off x="5742000" y="213048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6524640" y="2290680"/>
            <a:ext cx="284040" cy="425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24640" y="2290680"/>
                      <a:ext cx="28404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6" name=""/>
          <p:cNvSpPr/>
          <p:nvPr/>
        </p:nvSpPr>
        <p:spPr>
          <a:xfrm>
            <a:off x="5742000" y="2130480"/>
            <a:ext cx="2057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2000" y="3807000"/>
            <a:ext cx="2057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518160" y="3962520"/>
          <a:ext cx="29844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8160" y="3962520"/>
                    <a:ext cx="2984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742000" y="5254560"/>
            <a:ext cx="2057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496200" y="5421240"/>
          <a:ext cx="34272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6200" y="5421240"/>
                    <a:ext cx="34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H="1" flipV="1">
            <a:off x="3048120" y="2437920"/>
            <a:ext cx="2590560" cy="175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267080" y="2819520"/>
          <a:ext cx="32076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819520"/>
                    <a:ext cx="3207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962520" y="3429000"/>
          <a:ext cx="549000" cy="436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3429000"/>
                    <a:ext cx="549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Clients assignment to 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4120" y="114300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20640" y="10666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90720" y="2133720"/>
            <a:ext cx="2057400" cy="685800"/>
            <a:chOff x="990720" y="2133720"/>
            <a:chExt cx="2057400" cy="685800"/>
          </a:xfrm>
        </p:grpSpPr>
        <p:sp>
          <p:nvSpPr>
            <p:cNvPr id="162" name=""/>
            <p:cNvSpPr/>
            <p:nvPr/>
          </p:nvSpPr>
          <p:spPr>
            <a:xfrm>
              <a:off x="990720" y="213372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1246320" y="2279520"/>
            <a:ext cx="1641240" cy="41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46320" y="2279520"/>
                      <a:ext cx="16412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5" name=""/>
          <p:cNvGrpSpPr/>
          <p:nvPr/>
        </p:nvGrpSpPr>
        <p:grpSpPr>
          <a:xfrm>
            <a:off x="1066680" y="3733920"/>
            <a:ext cx="2057400" cy="685800"/>
            <a:chOff x="1066680" y="3733920"/>
            <a:chExt cx="2057400" cy="685800"/>
          </a:xfrm>
        </p:grpSpPr>
        <p:sp>
          <p:nvSpPr>
            <p:cNvPr id="166" name=""/>
            <p:cNvSpPr/>
            <p:nvPr/>
          </p:nvSpPr>
          <p:spPr>
            <a:xfrm>
              <a:off x="1066680" y="373392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1323720" y="3868560"/>
            <a:ext cx="1638360" cy="4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23720" y="3868560"/>
                      <a:ext cx="163836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" name=""/>
          <p:cNvGrpSpPr/>
          <p:nvPr/>
        </p:nvGrpSpPr>
        <p:grpSpPr>
          <a:xfrm>
            <a:off x="1066680" y="5486400"/>
            <a:ext cx="2057400" cy="685800"/>
            <a:chOff x="1066680" y="5486400"/>
            <a:chExt cx="2057400" cy="685800"/>
          </a:xfrm>
        </p:grpSpPr>
        <p:sp>
          <p:nvSpPr>
            <p:cNvPr id="170" name=""/>
            <p:cNvSpPr/>
            <p:nvPr/>
          </p:nvSpPr>
          <p:spPr>
            <a:xfrm>
              <a:off x="1066680" y="548640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1320480" y="5637240"/>
            <a:ext cx="1643040" cy="401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20480" y="5637240"/>
                      <a:ext cx="164304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3" name=""/>
          <p:cNvGrpSpPr/>
          <p:nvPr/>
        </p:nvGrpSpPr>
        <p:grpSpPr>
          <a:xfrm>
            <a:off x="5742000" y="2130480"/>
            <a:ext cx="2057400" cy="685800"/>
            <a:chOff x="5742000" y="2130480"/>
            <a:chExt cx="2057400" cy="685800"/>
          </a:xfrm>
        </p:grpSpPr>
        <p:sp>
          <p:nvSpPr>
            <p:cNvPr id="174" name=""/>
            <p:cNvSpPr/>
            <p:nvPr/>
          </p:nvSpPr>
          <p:spPr>
            <a:xfrm>
              <a:off x="5742000" y="2130480"/>
              <a:ext cx="20574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6502320" y="2290680"/>
            <a:ext cx="330120" cy="425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02320" y="2290680"/>
                      <a:ext cx="33012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5742000" y="2130480"/>
            <a:ext cx="2057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42000" y="3807000"/>
            <a:ext cx="2057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496200" y="3962520"/>
          <a:ext cx="34272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96200" y="3962520"/>
                    <a:ext cx="3427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742000" y="5254560"/>
            <a:ext cx="2057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473880" y="5421240"/>
          <a:ext cx="38736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3880" y="5421240"/>
                    <a:ext cx="3873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flipH="1" flipV="1">
            <a:off x="3048120" y="2437920"/>
            <a:ext cx="2590560" cy="175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267080" y="2819520"/>
          <a:ext cx="32076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819520"/>
                    <a:ext cx="3207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962520" y="3429000"/>
          <a:ext cx="549000" cy="436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3429000"/>
                    <a:ext cx="549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ogousness is Inspirat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situation is analogous to Fisher setting with Linear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inspiration from various algorithms for the Fisher setting and develop algorithms for our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know any reduction – in fact there are some key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from the Market Equilibrium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 dependent in Market equilibrium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independent in our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mand split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for the Market equilibrium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or our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mild assumptions, market equilibrium clears both sides but our solution requires clearance on either one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ther all clients are 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ll APs are satu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so means two separate linear programs for these two separat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Approaches for Market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 Programming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enberg, Gale 1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-Dual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nur, Papadimitriou, Saberi, Vazirani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g, Kapoo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Approaches for Load Bal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weight complete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-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properties of bipartite graph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oop invari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dynamically changing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Application of Market Equilibria in Network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isher, Jain, Mahdian 2004 used market equilibrium inspiration to obtain Toll-Taxes in Multi-commodity Selfish Rout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essentially a distributed load balancing  i.e., distributed congestion control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Programming Based So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complete bipartit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ide is the set of all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side is the set of all APs, conceptually each AP is repeated as many times as its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between cli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weight complete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weight matching is supported by a power assignment to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assignment are the du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ases for the primal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 can satisfy all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 can saturate all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-Breathing in Wireless Networks,  by Victor Bahl, MohammadTaghi Hajiaghayi, Kamal Jain, Vahab Mirrokni, Lili Qiu, Amin Sab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1 – Complete matching covers all cli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438280" y="2057400"/>
          <a:ext cx="4075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075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1 – Pick Dual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752480" y="2057400"/>
          <a:ext cx="541044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41044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Dual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3880" y="2209680"/>
          <a:ext cx="582948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8294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mize the dual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i="1" lang="el-G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 baseline="22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complementary slackness condition we will show that the minimum weight complete matching is supported by these pow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feasibility g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.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ary slackness g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mplie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l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.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they impl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nected to the AP with the strongest received signal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2 – Complete matching saturates all 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438280" y="2071800"/>
          <a:ext cx="407520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71800"/>
                    <a:ext cx="40752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e 2 – The rest of the proof is simi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mizing Dual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primal is optimized the dual can be optimized with the Dijkstra algorithm for the shortest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mal-Dual-Type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algorithm needs the input up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we need a tatone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eived signal strength formula does not work in case there are ob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aker assumption is that the received signal strength is directly proportional to the transmitted power – true even in the presence of ob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808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Cell-phon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49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Cell-tow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De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-phones, laptops with WiFi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as clients or users interchangea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for cell-phones (voice conn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uniform for laptops (application depen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Start with arbitrary non-zero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244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Powers and Received Signal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258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514600" y="16002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1752480"/>
            <a:ext cx="31240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1752480"/>
            <a:ext cx="320040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198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5486400"/>
            <a:ext cx="2209680" cy="1190880"/>
            <a:chOff x="3429000" y="5486400"/>
            <a:chExt cx="2209680" cy="1190880"/>
          </a:xfrm>
        </p:grpSpPr>
        <p:sp>
          <p:nvSpPr>
            <p:cNvPr id="271" name=""/>
            <p:cNvSpPr/>
            <p:nvPr/>
          </p:nvSpPr>
          <p:spPr>
            <a:xfrm flipV="1">
              <a:off x="4572000" y="54864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609588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Equality E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283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514600" y="16002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198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429000" y="5486400"/>
            <a:ext cx="2209680" cy="1190880"/>
            <a:chOff x="3429000" y="5486400"/>
            <a:chExt cx="2209680" cy="1190880"/>
          </a:xfrm>
        </p:grpSpPr>
        <p:sp>
          <p:nvSpPr>
            <p:cNvPr id="292" name=""/>
            <p:cNvSpPr/>
            <p:nvPr/>
          </p:nvSpPr>
          <p:spPr>
            <a:xfrm flipV="1">
              <a:off x="4572000" y="54864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609588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 R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Equality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rable APs for each 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311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Maximum Ma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ximum Matching, Deficiency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332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Neighborhood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ighborhood S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353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990720"/>
            <a:ext cx="129528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62720" y="57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Deficiency of a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ciency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apacities 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378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57800" y="990720"/>
            <a:ext cx="129528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62720" y="57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ciency of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Deficiency of the Maximum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eficiency over Sets ≤ Minimum Deficiency over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ization of Hall’s Theor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eficiency over Sets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imum Deficiency over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eficiency over Sets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ciency of the Maximum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Maximum Ma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ximum Matching, Deficiency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407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Points (AP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-towers, Wireless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raffic they can 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for Cell-t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Transmission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le of operating at various power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levels are continuous re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Most Deficient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Most Deficient S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428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143000"/>
            <a:ext cx="1523880" cy="480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Smallest Most Deficient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ck the smallest. Use Super-modularity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451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Neighborhood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ighborhood S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474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7800" y="990720"/>
            <a:ext cx="129528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62720" y="57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380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Complement of the Neighborhood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ment of the Neighborhood 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499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Initialize </a:t>
            </a:r>
            <a:r>
              <a:rPr b="0" i="1" lang="en-US" sz="40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524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About to start raising </a:t>
            </a:r>
            <a:r>
              <a:rPr b="0" i="1" lang="en-US" sz="40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 Rais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549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380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Equality edges about to be l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edge which will be l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574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Useless equality edg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d not belong to any maximum mat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514600" y="2895480"/>
            <a:ext cx="3124080" cy="2362320"/>
          </a:xfrm>
          <a:prstGeom prst="line">
            <a:avLst/>
          </a:prstGeom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599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3520" y="380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Equality edges dele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it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623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All other equality edges rem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other equality edges are preserv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647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ents to APs assig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clients to APs in an efficient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-loading of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the maximum number of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ying the maximum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A new equality edge ad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some point a new equality appear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671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38280" y="3429000"/>
            <a:ext cx="3124440" cy="1219320"/>
          </a:xfrm>
          <a:prstGeom prst="line">
            <a:avLst/>
          </a:prstGeom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352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Subcase A – Deficiency 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equality edge gives an augmenting 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696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4038480"/>
            <a:ext cx="3124080" cy="1219320"/>
          </a:xfrm>
          <a:prstGeom prst="line">
            <a:avLst/>
          </a:prstGeom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380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Subcase B – Deficiency does not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6019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edge does not create any augmenting 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721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1905120" y="1219320"/>
            <a:ext cx="914400" cy="312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28600" y="2101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57800" y="3352680"/>
            <a:ext cx="1295280" cy="266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34360" y="5181480"/>
            <a:ext cx="5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14600" y="4038480"/>
            <a:ext cx="3124080" cy="0"/>
          </a:xfrm>
          <a:prstGeom prst="line">
            <a:avLst/>
          </a:prstGeom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520" y="380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Smallest most deficient set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strict super set of ol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746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990720" y="32767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4038480"/>
            <a:ext cx="3124080" cy="0"/>
          </a:xfrm>
          <a:prstGeom prst="line">
            <a:avLst/>
          </a:prstGeom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1066680"/>
            <a:ext cx="1523880" cy="480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380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Eventually Subcase A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tually the size of the matching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769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990720" y="32767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14600" y="4038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00200" y="1066680"/>
            <a:ext cx="1523880" cy="480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90920" y="52578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5638680" y="4952880"/>
            <a:ext cx="60984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380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Case 1 – Deficiency Reaches Z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86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Clients are serv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6248520" y="1309680"/>
            <a:ext cx="1218960" cy="4178160"/>
            <a:chOff x="6248520" y="1309680"/>
            <a:chExt cx="1218960" cy="4178160"/>
          </a:xfrm>
        </p:grpSpPr>
        <p:sp>
          <p:nvSpPr>
            <p:cNvPr id="793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24480" y="49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990720" y="32767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14600" y="4038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00200" y="1066680"/>
            <a:ext cx="1523880" cy="480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90920" y="52578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5638680" y="3733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38680" y="259092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1371600"/>
            <a:ext cx="60984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14479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09680" y="27432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09680" y="380988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514600" y="160020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14600" y="1676520"/>
            <a:ext cx="3124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2895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514600" y="2895480"/>
            <a:ext cx="3124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2514600" y="4038120"/>
            <a:ext cx="3124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520" y="380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</a:rPr>
              <a:t>All APs are satur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the algorithm will prove that none exis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32767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4038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600200" y="1066680"/>
            <a:ext cx="1523880" cy="480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8520" y="1309680"/>
            <a:ext cx="1218960" cy="4176720"/>
            <a:chOff x="6248520" y="1309680"/>
            <a:chExt cx="1218960" cy="4176720"/>
          </a:xfrm>
        </p:grpSpPr>
        <p:sp>
          <p:nvSpPr>
            <p:cNvPr id="819" name=""/>
            <p:cNvSpPr/>
            <p:nvPr/>
          </p:nvSpPr>
          <p:spPr>
            <a:xfrm>
              <a:off x="6248520" y="1309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48520" y="2529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24480" y="37479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24480" y="4967280"/>
              <a:ext cx="1143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plittable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splittable case by solving the minimum weight matching linea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plittable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2438280" y="2222640"/>
          <a:ext cx="407520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22640"/>
                    <a:ext cx="407520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plittable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splittable case by solving the minimum weight matching linea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act compute a basic feasibl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number of clients is much larger than the number of APs – a realistic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Heuristic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ient connects to the AP with the best signal and the lightes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upport both from AP and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have to communicate their curren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have WiFi cards from various vendors running legac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enefit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but a small numb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are integ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sis of Basic Feasibl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2438280" y="2222640"/>
          <a:ext cx="407520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22640"/>
                    <a:ext cx="407520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but a small numb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are integ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are not integral is at most the number of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lients are served unsplitta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s which are served splittably – do not serv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is still almost opt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rete Power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he shelf APs have only fixed number of discrete pow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um may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 it is NP-hard to test whether it exis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very client has a deterministic tie breaking rule then we can compute the equilibrium – if exist under the tie break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rete Power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maximum power levels for each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ny overloaded AP and decrease its power level by one no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equilibrium exist then it will be computed in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AP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pow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distributed tatonement pro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o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ilibrium power level fo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tively prove that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s the power lev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it will not be overloaded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we use the deterministic tie breaking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y of market equilibrium is a good way of synchronizing independent entity’s to do distributed load balanc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imulated these algorithm. Observed meaningful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 Kamal Jain for the main part of sl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ould like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connects to the AP with the best received signal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mitting at power 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a cli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distanc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ives signal with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.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s various models of power atten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 Breathing Heuris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loaded AP decreases its communication radius by decreas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ghtly loaded AP increases its communication radius by increas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efully an equilibrium would be reach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how that an equilibrium ex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mputed in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ached by a tatone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 Equilibrium – A distributed load balancing mechanis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=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Capacities of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Powers at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Received Signal Strengt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6:15:39Z</dcterms:created>
  <dc:creator>Amin Saberi</dc:creator>
  <dc:description/>
  <dc:language>en-US</dc:language>
  <cp:lastModifiedBy>mirrokni</cp:lastModifiedBy>
  <dcterms:modified xsi:type="dcterms:W3CDTF">2007-05-11T19:30:44Z</dcterms:modified>
  <cp:revision>226</cp:revision>
  <dc:subject/>
  <dc:title>Algorithmic Game Theory and Internet Computing</dc:title>
</cp:coreProperties>
</file>