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4365-11FA-4D50-B67D-883A7902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D088-BC6E-44D1-AD89-1E7DF907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5C14-6741-4C87-9350-B7F1A9EE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F8DA-8B80-4ACE-BE82-57ADDE76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3E0A-2D8D-4F97-B50C-D96D413C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AA7B-FABE-417D-9FE1-BC63F8AC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9055-6E8B-4F3A-9575-90FFDACC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C484-A888-4549-B75F-34EF5765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174A-7F33-44D2-9730-26DB6040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8780-F261-4211-87AE-9A8C45C9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76C2-6570-4F0B-89C5-3AAC4FB0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B81E-7D27-4488-8724-1E573100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AAC2-191D-46E5-8AE2-4C3F212B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E4AE-D04F-4444-AEBA-742372A8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ACC3-4483-40D3-ADFC-AAF10EB6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9F8B-951A-4AC2-B0E4-AD1855FE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0A56-9C75-4604-8034-77F30889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F07-2B37-486C-92BD-C59B1A6E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ADAB-B647-4A1E-B9E3-D72FFD90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9C4D-57AA-4707-B779-D024D09B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95F0-0CFF-4172-AA1B-F6D82B0F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4EE5-3900-4C50-8B61-97D236E5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7808-E50D-486A-A117-9B8CCED5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6C1E-C4A3-4300-8976-165330BA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36B4-CA62-4D73-98F9-68BE429FAE7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3CF1-2EAC-4A11-886E-C99865E189C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s.washington.edu/education/courses/cse599m/07sp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Comic Sans MS"/>
              </a:rPr>
              <a:t>Algorithms and Economics of Network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19320" y="396252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Comic Sans MS"/>
              </a:rPr>
              <a:t>Abraham Flaxman and Vahab Mirrokni, Microsoft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Comic Sans MS"/>
              </a:rPr>
              <a:t>Basics of Game Theor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96252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Game The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Comic Sans MS"/>
              </a:rPr>
              <a:t>Was first developed to explain the optimal strategy in two-person interac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Comic Sans MS"/>
              </a:rPr>
              <a:t>Initiated for Zero-Sum Games, and two-person gam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Comic Sans MS"/>
              </a:rPr>
              <a:t>We study games with </a:t>
            </a:r>
            <a:r>
              <a:rPr b="0" lang="en-US" sz="3400" spc="-1" strike="noStrike">
                <a:solidFill>
                  <a:srgbClr val="996600"/>
                </a:solidFill>
                <a:latin typeface="Comic Sans MS"/>
              </a:rPr>
              <a:t>many</a:t>
            </a:r>
            <a:r>
              <a:rPr b="0" lang="en-US" sz="3400" spc="-1" strike="noStrike">
                <a:solidFill>
                  <a:srgbClr val="006633"/>
                </a:solidFill>
                <a:latin typeface="Comic Sans MS"/>
              </a:rPr>
              <a:t> players in a networ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Example: </a:t>
            </a: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ig Monkey and Little Monke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[Example by Chris Brook, USFCA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Monkeys usually eat ground-level fru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Occasionally climb a tree to get a coconut (1 per tre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A Coconut yields 10 Calo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Big Monkey spends 2 Calories climbing the tre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Little Monkey spends 0 Calories climbing the tree.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Example: </a:t>
            </a: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ig Monkey and Little Monke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If BM climbs the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b812f"/>
                </a:solidFill>
                <a:latin typeface="Comic Sans MS"/>
              </a:rPr>
              <a:t>BM gets 6 C, LM gets 4 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b812f"/>
                </a:solidFill>
                <a:latin typeface="Comic Sans MS"/>
              </a:rPr>
              <a:t>LM eats some before BM gets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If LM climbs the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b812f"/>
                </a:solidFill>
                <a:latin typeface="Comic Sans MS"/>
              </a:rPr>
              <a:t>BM gets 9 C, LM gets 1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b812f"/>
                </a:solidFill>
                <a:latin typeface="Comic Sans MS"/>
              </a:rPr>
              <a:t>BM eats almost all before LM gets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If both climb the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b812f"/>
                </a:solidFill>
                <a:latin typeface="Comic Sans MS"/>
              </a:rPr>
              <a:t>BM gets 7 C, LM gets 3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b812f"/>
                </a:solidFill>
                <a:latin typeface="Comic Sans MS"/>
              </a:rPr>
              <a:t>BM hogs cocon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How should the monkeys </a:t>
            </a:r>
            <a:r>
              <a:rPr b="0" i="1" lang="en-US" sz="2600" spc="-1" strike="noStrike">
                <a:solidFill>
                  <a:srgbClr val="3b812f"/>
                </a:solidFill>
                <a:latin typeface="Comic Sans MS"/>
              </a:rPr>
              <a:t>each </a:t>
            </a: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act so as to maximize </a:t>
            </a:r>
            <a:r>
              <a:rPr b="0" i="1" lang="en-US" sz="2600" spc="-1" strike="noStrike">
                <a:solidFill>
                  <a:srgbClr val="3b812f"/>
                </a:solidFill>
                <a:latin typeface="Comic Sans MS"/>
              </a:rPr>
              <a:t>their own </a:t>
            </a: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calorie gai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Example: </a:t>
            </a: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ig Monkey and Little Monke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Comic Sans MS"/>
              </a:rPr>
              <a:t>Assume  BM decid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Comic Sans MS"/>
              </a:rPr>
              <a:t>Two choices: wait or cli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Comic Sans MS"/>
              </a:rPr>
              <a:t>LM has also has two choices after BM mo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Comic Sans MS"/>
              </a:rPr>
              <a:t>These choices are called </a:t>
            </a:r>
            <a:r>
              <a:rPr b="0" i="1" lang="en-US" sz="2800" spc="-1" strike="noStrike">
                <a:solidFill>
                  <a:srgbClr val="996600"/>
                </a:solidFill>
                <a:latin typeface="Comic Sans MS"/>
              </a:rPr>
              <a:t>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Comic Sans MS"/>
              </a:rPr>
              <a:t>A sequence of actions is called a </a:t>
            </a:r>
            <a:r>
              <a:rPr b="0" i="1" lang="en-US" sz="2800" spc="-1" strike="noStrike">
                <a:solidFill>
                  <a:srgbClr val="996600"/>
                </a:solidFill>
                <a:latin typeface="Comic Sans MS"/>
              </a:rPr>
              <a:t>strategy</a:t>
            </a:r>
            <a:r>
              <a:rPr b="0" i="1" lang="en-US" sz="2800" spc="-1" strike="noStrike">
                <a:solidFill>
                  <a:srgbClr val="006633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Example: </a:t>
            </a: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ig Monkey and Little Monke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435560" y="1447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749400" y="24382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87840" y="24382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49960" y="144792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78560" y="2209680"/>
            <a:ext cx="3045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35760" y="22096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92120" y="14526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Comic Sans MS"/>
                <a:ea typeface="Times New Roman"/>
              </a:rPr>
              <a:t>Big mon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85080" y="141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2332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2836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08160" y="1371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03680" y="2133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03480" y="228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14960" y="3124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61600" y="23623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Little mon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65960" y="3124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19720" y="31240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08560" y="31240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3890880"/>
            <a:ext cx="853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Comic Sans MS"/>
                <a:ea typeface="Times New Roman"/>
              </a:rPr>
              <a:t>What should Big Monke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6633"/>
                </a:solidFill>
                <a:latin typeface="Comic Sans MS"/>
                <a:ea typeface="Times New Roman"/>
              </a:rPr>
              <a:t>If BM waits, LM will climb – BM get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6633"/>
                </a:solidFill>
                <a:latin typeface="Comic Sans MS"/>
                <a:ea typeface="Times New Roman"/>
              </a:rPr>
              <a:t>If BM climbs, LM will wait – BM gets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6633"/>
                </a:solidFill>
                <a:latin typeface="Comic Sans MS"/>
                <a:ea typeface="Times New Roman"/>
              </a:rPr>
              <a:t>BM should w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6633"/>
                </a:solidFill>
                <a:latin typeface="Comic Sans MS"/>
                <a:ea typeface="Times New Roman"/>
              </a:rPr>
              <a:t>What about L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6633"/>
                </a:solidFill>
                <a:latin typeface="Comic Sans MS"/>
                <a:ea typeface="Times New Roman"/>
              </a:rPr>
              <a:t>Opposite of BM (even though we’ll never get to the right side of the t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Example: </a:t>
            </a: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ig Monkey and Little Monke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These strategies (w and cw) are called </a:t>
            </a:r>
            <a:r>
              <a:rPr b="0" i="1" lang="en-US" sz="3000" spc="-1" strike="noStrike">
                <a:solidFill>
                  <a:srgbClr val="006633"/>
                </a:solidFill>
                <a:latin typeface="Comic Sans MS"/>
              </a:rPr>
              <a:t>best respon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Comic Sans MS"/>
              </a:rPr>
              <a:t>Given what the other guy is doing, this is the best thing to 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A solution where everyone is playing a best response is called a </a:t>
            </a:r>
            <a:r>
              <a:rPr b="0" i="1" lang="en-US" sz="3000" spc="-1" strike="noStrike">
                <a:solidFill>
                  <a:srgbClr val="006633"/>
                </a:solidFill>
                <a:latin typeface="Comic Sans MS"/>
              </a:rPr>
              <a:t>Nash equilibriu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Comic Sans MS"/>
              </a:rPr>
              <a:t>No one can unilaterally change and improve thin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This representation of a game is called </a:t>
            </a:r>
            <a:r>
              <a:rPr b="0" i="1" lang="en-US" sz="3000" spc="-1" strike="noStrike">
                <a:solidFill>
                  <a:srgbClr val="006633"/>
                </a:solidFill>
                <a:latin typeface="Comic Sans MS"/>
              </a:rPr>
              <a:t>extensive 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Example: </a:t>
            </a: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ig Monkey and Little Monke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What if the monkeys have to decide simultaneousl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It can often be easier to analyze a game through a different representation, called </a:t>
            </a:r>
            <a:r>
              <a:rPr b="0" i="1" lang="en-US" sz="3000" spc="-1" strike="noStrike">
                <a:solidFill>
                  <a:srgbClr val="006633"/>
                </a:solidFill>
                <a:latin typeface="Comic Sans MS"/>
              </a:rPr>
              <a:t>normal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6633"/>
                </a:solidFill>
                <a:latin typeface="Comic Sans MS"/>
              </a:rPr>
              <a:t>Strategic Games: One-Shot Normal-Form Games with Complete Informatio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Normal Form Gam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Normal form game (or Strategic gam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nite set of </a:t>
            </a:r>
            <a:r>
              <a:rPr b="0" lang="en-US" sz="2600" spc="-1" strike="noStrike">
                <a:solidFill>
                  <a:srgbClr val="afbf39"/>
                </a:solidFill>
                <a:latin typeface="Comic Sans MS"/>
              </a:rPr>
              <a:t>player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{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, …,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r each player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, a finite set of </a:t>
            </a:r>
            <a:r>
              <a:rPr b="0" lang="en-US" sz="2600" spc="-1" strike="noStrike">
                <a:solidFill>
                  <a:srgbClr val="afbf39"/>
                </a:solidFill>
                <a:latin typeface="Comic Sans MS"/>
              </a:rPr>
              <a:t>action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(also called </a:t>
            </a:r>
            <a:r>
              <a:rPr b="0" lang="en-US" sz="2600" spc="-1" strike="noStrike">
                <a:solidFill>
                  <a:srgbClr val="afbf39"/>
                </a:solidFill>
                <a:latin typeface="Comic Sans MS"/>
              </a:rPr>
              <a:t>pure strategie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: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s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</a:rPr>
              <a:t>i</a:t>
            </a:r>
            <a:r>
              <a:rPr b="0" lang="en-US" sz="2600" spc="-1" strike="noStrike" baseline="30000">
                <a:solidFill>
                  <a:srgbClr val="996600"/>
                </a:solidFill>
                <a:latin typeface="Comic Sans M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, …,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s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</a:rPr>
              <a:t>i</a:t>
            </a:r>
            <a:r>
              <a:rPr b="0" lang="en-US" sz="2600" spc="-1" strike="noStrike" baseline="30000">
                <a:solidFill>
                  <a:srgbClr val="996600"/>
                </a:solidFill>
                <a:latin typeface="Comic Sans MS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Comic Sans MS"/>
              </a:rPr>
              <a:t>strategy profil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: a vector of strategies (one for each play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r each strategy profile </a:t>
            </a:r>
            <a:r>
              <a:rPr b="1" lang="en-US" sz="2600" spc="-1" strike="noStrike">
                <a:solidFill>
                  <a:srgbClr val="996600"/>
                </a:solidFill>
                <a:latin typeface="Comic Sans MS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, a </a:t>
            </a:r>
            <a:r>
              <a:rPr b="0" lang="en-US" sz="2600" spc="-1" strike="noStrike">
                <a:solidFill>
                  <a:srgbClr val="afbf39"/>
                </a:solidFill>
                <a:latin typeface="Comic Sans MS"/>
              </a:rPr>
              <a:t>payoff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P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</a:rPr>
              <a:t>i</a:t>
            </a:r>
            <a:r>
              <a:rPr b="1" lang="en-US" sz="2600" spc="-1" strike="noStrike" baseline="30000">
                <a:solidFill>
                  <a:srgbClr val="996600"/>
                </a:solidFill>
                <a:latin typeface="Comic Sans MS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o each play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Example: </a:t>
            </a: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ig Monkey and Little Monke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This Game has two Pure Nash equilib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A Mixed Nash equilibrium: Each Monkey Plays each action with probability 0.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3200" y="48006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Big Mon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3280" y="28195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Little Mon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3352680"/>
            <a:ext cx="53341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502920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419112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33526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33526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0476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82720" y="3505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88560" y="3505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21680" y="5181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29360" y="4308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6280" y="4343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26280" y="5181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45200" y="5181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91120" y="5181480"/>
            <a:ext cx="838080" cy="457200"/>
          </a:xfrm>
          <a:prstGeom prst="rect">
            <a:avLst/>
          </a:prstGeom>
          <a:noFill/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4343400"/>
            <a:ext cx="838080" cy="457200"/>
          </a:xfrm>
          <a:prstGeom prst="rect">
            <a:avLst/>
          </a:prstGeom>
          <a:noFill/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Topic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Algorithms for Complex Net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Economics and Game The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Nash’s Theore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6633"/>
                </a:solidFill>
                <a:latin typeface="Comic Sans MS"/>
              </a:rPr>
              <a:t>Nash defined the concept of mixed Nash equilibria in games, and proved tha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6633"/>
                </a:solidFill>
                <a:latin typeface="Comic Sans MS"/>
              </a:rPr>
              <a:t>Any Strategic Game possess a mixed Nash equilibrium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Best-Response Dynamic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ff00"/>
                </a:solidFill>
                <a:latin typeface="Comic Sans MS"/>
              </a:rPr>
              <a:t>State Graph</a:t>
            </a:r>
            <a:r>
              <a:rPr b="0" i="1" lang="en-US" sz="3000" spc="-1" strike="noStrike">
                <a:solidFill>
                  <a:srgbClr val="006633"/>
                </a:solidFill>
                <a:latin typeface="Comic Sans MS"/>
              </a:rPr>
              <a:t>: </a:t>
            </a:r>
            <a:r>
              <a:rPr b="0" i="1" lang="en-US" sz="2400" spc="-1" strike="noStrike">
                <a:solidFill>
                  <a:srgbClr val="006633"/>
                </a:solidFill>
                <a:latin typeface="Comic Sans MS"/>
              </a:rPr>
              <a:t>Vertices are strategy profiles. An edge with label </a:t>
            </a:r>
            <a:r>
              <a:rPr b="0" i="1" lang="en-US" sz="2400" spc="-1" strike="noStrike">
                <a:solidFill>
                  <a:srgbClr val="996600"/>
                </a:solidFill>
                <a:latin typeface="Comic Sans MS"/>
              </a:rPr>
              <a:t>j</a:t>
            </a:r>
            <a:r>
              <a:rPr b="0" i="1" lang="en-US" sz="2400" spc="-1" strike="noStrike">
                <a:solidFill>
                  <a:srgbClr val="006633"/>
                </a:solidFill>
                <a:latin typeface="Comic Sans MS"/>
              </a:rPr>
              <a:t> correspond to a </a:t>
            </a:r>
            <a:r>
              <a:rPr b="0" i="1" lang="en-US" sz="2400" spc="-1" strike="noStrike">
                <a:solidFill>
                  <a:srgbClr val="b2b2b2"/>
                </a:solidFill>
                <a:latin typeface="Comic Sans MS"/>
              </a:rPr>
              <a:t>strict improvement move</a:t>
            </a:r>
            <a:r>
              <a:rPr b="0" i="1" lang="en-US" sz="2400" spc="-1" strike="noStrike">
                <a:solidFill>
                  <a:srgbClr val="006633"/>
                </a:solidFill>
                <a:latin typeface="Comic Sans MS"/>
              </a:rPr>
              <a:t> of one player </a:t>
            </a:r>
            <a:r>
              <a:rPr b="0" i="1" lang="en-US" sz="2400" spc="-1" strike="noStrike">
                <a:solidFill>
                  <a:srgbClr val="996600"/>
                </a:solidFill>
                <a:latin typeface="Comic Sans MS"/>
              </a:rPr>
              <a:t>j</a:t>
            </a:r>
            <a:r>
              <a:rPr b="0" i="1" lang="en-US" sz="3000" spc="-1" strike="noStrike">
                <a:solidFill>
                  <a:srgbClr val="006633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6633"/>
                </a:solidFill>
                <a:latin typeface="Wingdings"/>
                <a:ea typeface="Wingdings"/>
              </a:rPr>
              <a:t></a:t>
            </a:r>
            <a:r>
              <a:rPr b="0" i="1" lang="en-US" sz="3000" spc="-1" strike="noStrike">
                <a:solidFill>
                  <a:srgbClr val="006633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6633"/>
                </a:solidFill>
                <a:latin typeface="Comic Sans MS"/>
              </a:rPr>
              <a:t>Pure Nash equilibria are vertices with no outgoing ed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ff00"/>
                </a:solidFill>
                <a:latin typeface="Comic Sans MS"/>
              </a:rPr>
              <a:t>Best-Response Graph</a:t>
            </a:r>
            <a:r>
              <a:rPr b="0" i="1" lang="en-US" sz="3000" spc="-1" strike="noStrike">
                <a:solidFill>
                  <a:srgbClr val="006633"/>
                </a:solidFill>
                <a:latin typeface="Comic Sans MS"/>
              </a:rPr>
              <a:t>: </a:t>
            </a:r>
            <a:r>
              <a:rPr b="0" i="1" lang="en-US" sz="2400" spc="-1" strike="noStrike">
                <a:solidFill>
                  <a:srgbClr val="006633"/>
                </a:solidFill>
                <a:latin typeface="Comic Sans MS"/>
              </a:rPr>
              <a:t>Vertices are strategy profiles. An edge with label </a:t>
            </a:r>
            <a:r>
              <a:rPr b="0" i="1" lang="en-US" sz="2400" spc="-1" strike="noStrike">
                <a:solidFill>
                  <a:srgbClr val="996600"/>
                </a:solidFill>
                <a:latin typeface="Comic Sans MS"/>
              </a:rPr>
              <a:t>j</a:t>
            </a:r>
            <a:r>
              <a:rPr b="0" i="1" lang="en-US" sz="2400" spc="-1" strike="noStrike">
                <a:solidFill>
                  <a:srgbClr val="006633"/>
                </a:solidFill>
                <a:latin typeface="Comic Sans MS"/>
              </a:rPr>
              <a:t> correspond to a best-response of one player </a:t>
            </a:r>
            <a:r>
              <a:rPr b="0" i="1" lang="en-US" sz="2400" spc="-1" strike="noStrike">
                <a:solidFill>
                  <a:srgbClr val="996600"/>
                </a:solidFill>
                <a:latin typeface="Comic Sans MS"/>
              </a:rPr>
              <a:t>j</a:t>
            </a:r>
            <a:r>
              <a:rPr b="0" i="1" lang="en-US" sz="2400" spc="-1" strike="noStrike">
                <a:solidFill>
                  <a:srgbClr val="0066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ff00"/>
                </a:solidFill>
                <a:latin typeface="Comic Sans MS"/>
              </a:rPr>
              <a:t>Potential Games</a:t>
            </a:r>
            <a:r>
              <a:rPr b="0" i="1" lang="en-US" sz="3000" spc="-1" strike="noStrike">
                <a:solidFill>
                  <a:srgbClr val="006633"/>
                </a:solidFill>
                <a:latin typeface="Comic Sans MS"/>
              </a:rPr>
              <a:t>: </a:t>
            </a:r>
            <a:r>
              <a:rPr b="0" i="1" lang="en-US" sz="2400" spc="-1" strike="noStrike">
                <a:solidFill>
                  <a:srgbClr val="006633"/>
                </a:solidFill>
                <a:latin typeface="Comic Sans MS"/>
              </a:rPr>
              <a:t>There is no cycle of strict improvement moves</a:t>
            </a:r>
            <a:r>
              <a:rPr b="0" i="1" lang="en-US" sz="3000" spc="-1" strike="noStrike">
                <a:solidFill>
                  <a:srgbClr val="006633"/>
                </a:solidFill>
                <a:latin typeface="Comic Sans MS"/>
              </a:rPr>
              <a:t> </a:t>
            </a:r>
            <a:r>
              <a:rPr b="0" i="1" lang="en-US" sz="3000" spc="-1" strike="noStrike">
                <a:solidFill>
                  <a:srgbClr val="006633"/>
                </a:solidFill>
                <a:latin typeface="Wingdings"/>
                <a:ea typeface="Wingdings"/>
              </a:rPr>
              <a:t></a:t>
            </a:r>
            <a:r>
              <a:rPr b="0" i="1" lang="en-US" sz="3000" spc="-1" strike="noStrike">
                <a:solidFill>
                  <a:srgbClr val="006633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6633"/>
                </a:solidFill>
                <a:latin typeface="Comic Sans MS"/>
              </a:rPr>
              <a:t>There is a potential function for the g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33"/>
                </a:solidFill>
                <a:latin typeface="Comic Sans MS"/>
              </a:rPr>
              <a:t>BM-LM is a potential game. Matching Penny game is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Example: Prisoner’s Dilem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6633"/>
                </a:solidFill>
                <a:latin typeface="Comic Sans MS"/>
              </a:rPr>
              <a:t>Defect-Defect is the only Nash equilibriu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6633"/>
                </a:solidFill>
                <a:latin typeface="Comic Sans MS"/>
              </a:rPr>
              <a:t>It is very bad social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3200400"/>
            <a:ext cx="533376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4876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403848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29000" y="32004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32004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85600" y="335268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coop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53240" y="33526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de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50292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de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87640" y="5105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2760" y="4191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3120" y="5029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88000" y="4191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4760" y="468936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2880" y="2743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0720" y="41911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coop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Price of Anarch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6633"/>
                </a:solidFill>
                <a:latin typeface="Comic Sans MS"/>
              </a:rPr>
              <a:t>The worst ratio between the social value of a Nash equilibrium and social value of the global optimal soluti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6633"/>
                </a:solidFill>
                <a:latin typeface="Comic Sans MS"/>
              </a:rPr>
              <a:t>An example of social objective: the sum of the payoffs of play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6633"/>
                </a:solidFill>
                <a:latin typeface="Comic Sans MS"/>
              </a:rPr>
              <a:t>Example: In BM-LM Game, the price of anarchy for pure NE is 8/10. POA for mixed NE is 6.5/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6633"/>
                </a:solidFill>
                <a:latin typeface="Comic Sans MS"/>
              </a:rPr>
              <a:t>Example: In Prisoner’s Dilemma, the price of anarchy is 2/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Load Balancing Gam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players/</a:t>
            </a:r>
            <a:r>
              <a:rPr b="0" lang="en-US" sz="2600" spc="-1" strike="noStrike">
                <a:solidFill>
                  <a:srgbClr val="afbf39"/>
                </a:solidFill>
                <a:latin typeface="Comic Sans MS"/>
              </a:rPr>
              <a:t>job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, each with weight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w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trategies/</a:t>
            </a:r>
            <a:r>
              <a:rPr b="0" lang="en-US" sz="2600" spc="-1" strike="noStrike">
                <a:solidFill>
                  <a:srgbClr val="afbf39"/>
                </a:solidFill>
                <a:latin typeface="Comic Sans MS"/>
              </a:rPr>
              <a:t>mach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utcome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: assignment </a:t>
            </a:r>
            <a:r>
              <a:rPr b="0" lang="en-US" sz="2600" spc="-1" strike="noStrike">
                <a:solidFill>
                  <a:srgbClr val="afbf39"/>
                </a:solidFill>
                <a:latin typeface="Comic Sans MS"/>
              </a:rPr>
              <a:t>job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→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afbf39"/>
                </a:solidFill>
                <a:latin typeface="Comic Sans MS"/>
              </a:rPr>
              <a:t>mach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J( j 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: jobs on machine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L( j 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l-GR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Σ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i in J( j )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 w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 : load of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R( j )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=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f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 j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( L( j ) 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: response time of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f</a:t>
            </a:r>
            <a:r>
              <a:rPr b="0" lang="en-US" sz="22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 j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monotone,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≥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e.g.,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f</a:t>
            </a:r>
            <a:r>
              <a:rPr b="0" lang="en-US" sz="22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 j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(L)=L / s</a:t>
            </a:r>
            <a:r>
              <a:rPr b="0" lang="en-US" sz="22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 j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s</a:t>
            </a:r>
            <a:r>
              <a:rPr b="0" lang="en-US" sz="22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 j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is the speed of machine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bf39"/>
                </a:solidFill>
                <a:latin typeface="Comic Sans MS"/>
                <a:ea typeface="Arial"/>
              </a:rPr>
              <a:t>N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: no job wants to switch, i.e., for any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 in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J( j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f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 j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( L( j ) ) ≤ f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 k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( L( k ) + w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 j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)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for all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 k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≠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681600" y="2819520"/>
            <a:ext cx="2403360" cy="1521360"/>
            <a:chOff x="6681600" y="2819520"/>
            <a:chExt cx="2403360" cy="1521360"/>
          </a:xfrm>
        </p:grpSpPr>
        <p:sp>
          <p:nvSpPr>
            <p:cNvPr id="185" name=""/>
            <p:cNvSpPr/>
            <p:nvPr/>
          </p:nvSpPr>
          <p:spPr>
            <a:xfrm>
              <a:off x="6818040" y="3390120"/>
              <a:ext cx="788040" cy="475200"/>
            </a:xfrm>
            <a:prstGeom prst="rect">
              <a:avLst/>
            </a:prstGeom>
            <a:solidFill>
              <a:srgbClr val="3b812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18040" y="3071880"/>
              <a:ext cx="788040" cy="3265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96920" y="2819520"/>
              <a:ext cx="788040" cy="4161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6920" y="3235680"/>
              <a:ext cx="788040" cy="629280"/>
            </a:xfrm>
            <a:prstGeom prst="rect">
              <a:avLst/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81600" y="3900240"/>
              <a:ext cx="852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996600"/>
                  </a:solidFill>
                  <a:latin typeface="Comic Sans MS"/>
                </a:rPr>
                <a:t>m</a:t>
              </a:r>
              <a:r>
                <a:rPr b="0" lang="en-US" sz="2000" spc="-1" strike="noStrike" baseline="-25000">
                  <a:solidFill>
                    <a:srgbClr val="9966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284680" y="3900240"/>
              <a:ext cx="782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996600"/>
                  </a:solidFill>
                  <a:latin typeface="Comic Sans MS"/>
                </a:rPr>
                <a:t>m</a:t>
              </a:r>
              <a:r>
                <a:rPr b="0" lang="en-US" sz="2000" spc="-1" strike="noStrike" baseline="-25000">
                  <a:solidFill>
                    <a:srgbClr val="9966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Load Balancing Games</a:t>
            </a:r>
            <a:r>
              <a:rPr b="0" lang="en-US" sz="1200" spc="-1" strike="noStrike">
                <a:solidFill>
                  <a:srgbClr val="006633"/>
                </a:solidFill>
                <a:latin typeface="Comic Sans MS"/>
              </a:rPr>
              <a:t>(parts of slides from E. Elkind, warwick)</a:t>
            </a:r>
            <a:endParaRPr b="0" lang="en-US" sz="1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players/</a:t>
            </a:r>
            <a:r>
              <a:rPr b="0" lang="en-US" sz="2600" spc="-1" strike="noStrike">
                <a:solidFill>
                  <a:srgbClr val="afbf39"/>
                </a:solidFill>
                <a:latin typeface="Comic Sans MS"/>
              </a:rPr>
              <a:t>job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, each with weight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w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trategies/</a:t>
            </a:r>
            <a:r>
              <a:rPr b="0" lang="en-US" sz="2600" spc="-1" strike="noStrike">
                <a:solidFill>
                  <a:srgbClr val="afbf39"/>
                </a:solidFill>
                <a:latin typeface="Comic Sans MS"/>
              </a:rPr>
              <a:t>mach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utcome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: assignment </a:t>
            </a:r>
            <a:r>
              <a:rPr b="0" lang="en-US" sz="2600" spc="-1" strike="noStrike">
                <a:solidFill>
                  <a:srgbClr val="afbf39"/>
                </a:solidFill>
                <a:latin typeface="Comic Sans MS"/>
              </a:rPr>
              <a:t>job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→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afbf39"/>
                </a:solidFill>
                <a:latin typeface="Comic Sans MS"/>
              </a:rPr>
              <a:t>mach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J( j 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: jobs on machine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L( j 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l-GR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Σ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i in J( j )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 w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 : load of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R( j )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=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f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 j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( L( j ) 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: response time of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f</a:t>
            </a:r>
            <a:r>
              <a:rPr b="0" lang="en-US" sz="22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 j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monotone,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≥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e.g.,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f</a:t>
            </a:r>
            <a:r>
              <a:rPr b="0" lang="en-US" sz="22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 j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(L)=L / s</a:t>
            </a:r>
            <a:r>
              <a:rPr b="0" lang="en-US" sz="22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 j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s</a:t>
            </a:r>
            <a:r>
              <a:rPr b="0" lang="en-US" sz="22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 j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is the speed of machine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bf39"/>
                </a:solidFill>
                <a:latin typeface="Comic Sans MS"/>
                <a:ea typeface="Arial"/>
              </a:rPr>
              <a:t>N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: no job wants to switch, i.e., for any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 in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J( j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f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 j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( L( j ) ) ≤ f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 k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( L( k ) + w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 j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)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for all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 k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≠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omic Sans MS"/>
              </a:rPr>
              <a:t>Social Objectiv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: worst response time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max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</a:rPr>
              <a:t>j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R(j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681600" y="2819520"/>
            <a:ext cx="2403360" cy="1521360"/>
            <a:chOff x="6681600" y="2819520"/>
            <a:chExt cx="2403360" cy="1521360"/>
          </a:xfrm>
        </p:grpSpPr>
        <p:sp>
          <p:nvSpPr>
            <p:cNvPr id="194" name=""/>
            <p:cNvSpPr/>
            <p:nvPr/>
          </p:nvSpPr>
          <p:spPr>
            <a:xfrm>
              <a:off x="6818040" y="3390120"/>
              <a:ext cx="788040" cy="475200"/>
            </a:xfrm>
            <a:prstGeom prst="rect">
              <a:avLst/>
            </a:prstGeom>
            <a:solidFill>
              <a:srgbClr val="3b812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18040" y="3071880"/>
              <a:ext cx="788040" cy="3265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96920" y="2819520"/>
              <a:ext cx="788040" cy="4161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96920" y="3235680"/>
              <a:ext cx="788040" cy="629280"/>
            </a:xfrm>
            <a:prstGeom prst="rect">
              <a:avLst/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81600" y="3900240"/>
              <a:ext cx="852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996600"/>
                  </a:solidFill>
                  <a:latin typeface="Comic Sans MS"/>
                </a:rPr>
                <a:t>m</a:t>
              </a:r>
              <a:r>
                <a:rPr b="0" lang="en-US" sz="2000" spc="-1" strike="noStrike" baseline="-25000">
                  <a:solidFill>
                    <a:srgbClr val="9966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284680" y="3900240"/>
              <a:ext cx="782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996600"/>
                  </a:solidFill>
                  <a:latin typeface="Comic Sans MS"/>
                </a:rPr>
                <a:t>m</a:t>
              </a:r>
              <a:r>
                <a:rPr b="0" lang="en-US" sz="2000" spc="-1" strike="noStrike" baseline="-25000">
                  <a:solidFill>
                    <a:srgbClr val="9966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Load Balancing Gam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Theorem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: if all response times are nonegative increasing functions of the load, pure </a:t>
            </a:r>
            <a:r>
              <a:rPr b="0" lang="en-US" sz="3000" spc="-1" strike="noStrike">
                <a:solidFill>
                  <a:srgbClr val="afbf39"/>
                </a:solidFill>
                <a:latin typeface="Comic Sans MS"/>
              </a:rPr>
              <a:t>NE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exis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roof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art with any assignment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rder machines by their response ti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llow selfish improvement; reor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ach assignment is lexicographically better than the previous o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6124680"/>
            <a:ext cx="914400" cy="266760"/>
          </a:xfrm>
          <a:prstGeom prst="rect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5649840"/>
            <a:ext cx="914400" cy="474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71640" y="5400720"/>
            <a:ext cx="914400" cy="60480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71640" y="5977080"/>
            <a:ext cx="914400" cy="414360"/>
          </a:xfrm>
          <a:prstGeom prst="rect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78240" y="5780160"/>
            <a:ext cx="914400" cy="611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5175360"/>
            <a:ext cx="914400" cy="47448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19040" y="5218200"/>
            <a:ext cx="20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 migrate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59280" y="6124680"/>
            <a:ext cx="914400" cy="266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13120" y="5364000"/>
            <a:ext cx="2457360" cy="649440"/>
          </a:xfrm>
          <a:custGeom>
            <a:avLst/>
            <a:gdLst/>
            <a:ahLst/>
            <a:rect l="l" t="t" r="r" b="b"/>
            <a:pathLst>
              <a:path w="1548" h="409">
                <a:moveTo>
                  <a:pt x="0" y="97"/>
                </a:moveTo>
                <a:cubicBezTo>
                  <a:pt x="188" y="84"/>
                  <a:pt x="889" y="0"/>
                  <a:pt x="1130" y="17"/>
                </a:cubicBezTo>
                <a:cubicBezTo>
                  <a:pt x="1371" y="34"/>
                  <a:pt x="1377" y="134"/>
                  <a:pt x="1447" y="199"/>
                </a:cubicBezTo>
                <a:cubicBezTo>
                  <a:pt x="1517" y="264"/>
                  <a:pt x="1544" y="330"/>
                  <a:pt x="1548" y="409"/>
                </a:cubicBezTo>
              </a:path>
            </a:pathLst>
          </a:custGeom>
          <a:noFill/>
          <a:ln w="76320">
            <a:solidFill>
              <a:srgbClr val="9966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Load Balancing Games: PO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cial Objective: worst response time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max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</a:rPr>
              <a:t>j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R(j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Theorem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: if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f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</a:rPr>
              <a:t>j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(L)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2600" spc="-1" strike="noStrike">
                <a:solidFill>
                  <a:srgbClr val="afbf39"/>
                </a:solidFill>
                <a:latin typeface="Comic Sans MS"/>
              </a:rPr>
              <a:t>response tim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2600" spc="-1" strike="noStrike">
                <a:solidFill>
                  <a:srgbClr val="afbf39"/>
                </a:solidFill>
                <a:latin typeface="Comic Sans MS"/>
              </a:rPr>
              <a:t>loa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, 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Worst Pure Nas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Opt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≤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Proof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6600"/>
                </a:solidFill>
                <a:latin typeface="Comic Sans M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: arbitrary pure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</a:rPr>
              <a:t>Nash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</a:rPr>
              <a:t>M’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</a:rPr>
              <a:t>Op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: worst machine in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M,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 i.e.,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C( M 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=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R</a:t>
            </a:r>
            <a:r>
              <a:rPr b="0" lang="en-US" sz="22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M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( j )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: worst machine in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M’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, i.e.,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C( M’ 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=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R</a:t>
            </a:r>
            <a:r>
              <a:rPr b="0" lang="en-US" sz="22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M’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( k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there is an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s.t.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R</a:t>
            </a:r>
            <a:r>
              <a:rPr b="0" lang="en-US" sz="22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M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( l 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≤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R</a:t>
            </a:r>
            <a:r>
              <a:rPr b="0" lang="en-US" sz="22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M’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( k 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(averaging argumen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6600"/>
                </a:solidFill>
                <a:latin typeface="Comic Sans MS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</a:rPr>
              <a:t>max w</a:t>
            </a:r>
            <a:r>
              <a:rPr b="0" lang="en-US" sz="2200" spc="-1" strike="noStrike" baseline="-25000">
                <a:solidFill>
                  <a:srgbClr val="996600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;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R</a:t>
            </a:r>
            <a:r>
              <a:rPr b="0" lang="en-US" sz="22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M’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( k 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≥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R</a:t>
            </a:r>
            <a:r>
              <a:rPr b="0" lang="en-US" sz="22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M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( j ) - R</a:t>
            </a:r>
            <a:r>
              <a:rPr b="0" lang="en-US" sz="22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M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( l 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≥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2R</a:t>
            </a:r>
            <a:r>
              <a:rPr b="0" lang="en-US" sz="22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M’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( k ) - R</a:t>
            </a:r>
            <a:r>
              <a:rPr b="0" lang="en-US" sz="22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M’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( k 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≥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     =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in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, there is a job that wants to switch from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to </a:t>
            </a:r>
            <a:r>
              <a:rPr b="0" lang="en-US" sz="2200" spc="-1" strike="noStrike">
                <a:solidFill>
                  <a:srgbClr val="996600"/>
                </a:solidFill>
                <a:latin typeface="Comic Sans MS"/>
                <a:ea typeface="Arial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94640" y="2590920"/>
            <a:ext cx="2367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C(M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≥ 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2 * C(M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9966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( j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≥  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2 * R</a:t>
            </a:r>
            <a:r>
              <a:rPr b="0" lang="en-US" sz="2000" spc="-1" strike="noStrike" baseline="-25000">
                <a:solidFill>
                  <a:srgbClr val="996600"/>
                </a:solidFill>
                <a:latin typeface="Arial"/>
              </a:rPr>
              <a:t>M’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( k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07160" y="2666880"/>
            <a:ext cx="150840" cy="763560"/>
          </a:xfrm>
          <a:custGeom>
            <a:avLst/>
            <a:gdLst>
              <a:gd name="textAreaLeft" fmla="*/ 0 w 150840"/>
              <a:gd name="textAreaRight" fmla="*/ 54360 w 150840"/>
              <a:gd name="textAreaTop" fmla="*/ 19800 h 763560"/>
              <a:gd name="textAreaBottom" fmla="*/ 74376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277920"/>
            <a:ext cx="8534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Comic Sans MS"/>
              </a:rPr>
              <a:t>Price of Anarchy for Load Balancing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Comic Sans MS"/>
              </a:rPr>
              <a:t>POA for Mixed Nash Equilib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Comic Sans MS"/>
              </a:rPr>
              <a:t>P||C</a:t>
            </a:r>
            <a:r>
              <a:rPr b="0" lang="en-US" sz="30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 max </a:t>
            </a:r>
            <a:r>
              <a:rPr b="0" lang="en-US" sz="3000" spc="-1" strike="noStrike">
                <a:solidFill>
                  <a:srgbClr val="3b812f"/>
                </a:solidFill>
                <a:latin typeface="Comic Sans MS"/>
              </a:rPr>
              <a:t>: for</a:t>
            </a:r>
            <a:r>
              <a:rPr b="0" lang="en-US" sz="3000" spc="-1" strike="noStrike">
                <a:solidFill>
                  <a:srgbClr val="996600"/>
                </a:solidFill>
                <a:latin typeface="Comic Sans MS"/>
              </a:rPr>
              <a:t> f</a:t>
            </a:r>
            <a:r>
              <a:rPr b="0" lang="en-US" sz="3000" spc="-1" strike="noStrike" baseline="-25000">
                <a:solidFill>
                  <a:srgbClr val="996600"/>
                </a:solidFill>
                <a:latin typeface="Comic Sans MS"/>
              </a:rPr>
              <a:t>j</a:t>
            </a:r>
            <a:r>
              <a:rPr b="0" lang="en-US" sz="3000" spc="-1" strike="noStrike">
                <a:solidFill>
                  <a:srgbClr val="996600"/>
                </a:solidFill>
                <a:latin typeface="Comic Sans MS"/>
              </a:rPr>
              <a:t>(L)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000" spc="-1" strike="noStrike">
                <a:solidFill>
                  <a:srgbClr val="996600"/>
                </a:solidFill>
                <a:latin typeface="Comic Sans MS"/>
              </a:rPr>
              <a:t>L</a:t>
            </a:r>
            <a:r>
              <a:rPr b="0" lang="en-US" sz="3000" spc="-1" strike="noStrike">
                <a:solidFill>
                  <a:srgbClr val="3b812f"/>
                </a:solidFill>
                <a:latin typeface="Comic Sans MS"/>
              </a:rPr>
              <a:t>, POA is 2-2/m+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Comic Sans MS"/>
              </a:rPr>
              <a:t>Q||C</a:t>
            </a:r>
            <a:r>
              <a:rPr b="0" lang="en-US" sz="30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 max</a:t>
            </a:r>
            <a:r>
              <a:rPr b="0" lang="en-US" sz="3000" spc="-1" strike="noStrike">
                <a:solidFill>
                  <a:srgbClr val="3b812f"/>
                </a:solidFill>
                <a:latin typeface="Comic Sans MS"/>
              </a:rPr>
              <a:t> : for</a:t>
            </a:r>
            <a:r>
              <a:rPr b="0" lang="en-US" sz="3000" spc="-1" strike="noStrike">
                <a:solidFill>
                  <a:srgbClr val="9966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996600"/>
                </a:solidFill>
                <a:latin typeface="Comic Sans MS"/>
                <a:ea typeface="Arial"/>
              </a:rPr>
              <a:t>f</a:t>
            </a:r>
            <a:r>
              <a:rPr b="0" lang="en-US" sz="30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 j </a:t>
            </a:r>
            <a:r>
              <a:rPr b="0" lang="en-US" sz="3000" spc="-1" strike="noStrike">
                <a:solidFill>
                  <a:srgbClr val="996600"/>
                </a:solidFill>
                <a:latin typeface="Comic Sans MS"/>
                <a:ea typeface="Arial"/>
              </a:rPr>
              <a:t>(L)=L / s</a:t>
            </a:r>
            <a:r>
              <a:rPr b="0" lang="en-US" sz="30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 j</a:t>
            </a:r>
            <a:r>
              <a:rPr b="0" lang="en-US" sz="3000" spc="-1" strike="noStrike">
                <a:solidFill>
                  <a:srgbClr val="3b812f"/>
                </a:solidFill>
                <a:latin typeface="Comic Sans MS"/>
              </a:rPr>
              <a:t>, POA is  O(logm/loglogm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996600"/>
                </a:solidFill>
                <a:latin typeface="Comic Sans MS"/>
              </a:rPr>
              <a:t>R||C</a:t>
            </a:r>
            <a:r>
              <a:rPr b="0" lang="en-US" sz="3000" spc="-1" strike="noStrike" baseline="-25000">
                <a:solidFill>
                  <a:srgbClr val="996600"/>
                </a:solidFill>
                <a:latin typeface="Comic Sans MS"/>
                <a:ea typeface="Arial"/>
              </a:rPr>
              <a:t> max </a:t>
            </a:r>
            <a:r>
              <a:rPr b="0" lang="en-US" sz="3000" spc="-1" strike="noStrike">
                <a:solidFill>
                  <a:srgbClr val="3b812f"/>
                </a:solidFill>
                <a:latin typeface="Comic Sans MS"/>
              </a:rPr>
              <a:t>: for</a:t>
            </a:r>
            <a:r>
              <a:rPr b="0" lang="en-US" sz="3000" spc="-1" strike="noStrike">
                <a:solidFill>
                  <a:srgbClr val="996600"/>
                </a:solidFill>
                <a:latin typeface="Comic Sans MS"/>
              </a:rPr>
              <a:t> f</a:t>
            </a:r>
            <a:r>
              <a:rPr b="0" lang="en-US" sz="3000" spc="-1" strike="noStrike" baseline="-25000">
                <a:solidFill>
                  <a:srgbClr val="996600"/>
                </a:solidFill>
                <a:latin typeface="Comic Sans MS"/>
              </a:rPr>
              <a:t>j</a:t>
            </a:r>
            <a:r>
              <a:rPr b="0" lang="en-US" sz="3000" spc="-1" strike="noStrike">
                <a:solidFill>
                  <a:srgbClr val="996600"/>
                </a:solidFill>
                <a:latin typeface="Comic Sans MS"/>
              </a:rPr>
              <a:t>(L)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000" spc="-1" strike="noStrike">
                <a:solidFill>
                  <a:srgbClr val="996600"/>
                </a:solidFill>
                <a:latin typeface="Comic Sans MS"/>
              </a:rPr>
              <a:t>L </a:t>
            </a:r>
            <a:r>
              <a:rPr b="0" lang="en-US" sz="3000" spc="-1" strike="noStrike">
                <a:solidFill>
                  <a:srgbClr val="3b812f"/>
                </a:solidFill>
                <a:latin typeface="Comic Sans MS"/>
              </a:rPr>
              <a:t>and each job can be assigned to a subset of machines, POA is O(logm/loglogm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Comic Sans MS"/>
              </a:rPr>
              <a:t>Will give some proofs in the lecture on coordination mechanis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277920"/>
            <a:ext cx="8534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Comic Sans MS"/>
              </a:rPr>
              <a:t>We Know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Comic Sans MS"/>
              </a:rPr>
              <a:t>Normal Form Ga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Comic Sans MS"/>
              </a:rPr>
              <a:t>Pure and Mixed Nash Equilib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Comic Sans MS"/>
              </a:rPr>
              <a:t>Best-Response Dynamics, State 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Comic Sans MS"/>
              </a:rPr>
              <a:t>Potential Ga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Comic Sans MS"/>
              </a:rPr>
              <a:t>Price of Anarch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Comic Sans MS"/>
              </a:rPr>
              <a:t>Load Balancing Ga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Algorithms for Large Network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Comic Sans MS"/>
              </a:rPr>
              <a:t>TraceRoute Sampl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Comic Sans MS"/>
              </a:rPr>
              <a:t>Where do networks come from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Comic Sans MS"/>
              </a:rPr>
              <a:t>Network For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Comic Sans MS"/>
              </a:rPr>
              <a:t>Link Analysis and Rank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Comic Sans MS"/>
              </a:rPr>
              <a:t>What Can Link Structure Tell Us About Conte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Comic Sans MS"/>
              </a:rPr>
              <a:t>Hub/Authority and Page-Rank Algoriht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Comic Sans MS"/>
              </a:rPr>
              <a:t>Clustering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Comic Sans MS"/>
              </a:rPr>
              <a:t>Inferring Communities from Link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6633"/>
                </a:solidFill>
                <a:latin typeface="Comic Sans MS"/>
              </a:rPr>
              <a:t>Local Partitioning Based on Random W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Comic Sans MS"/>
              </a:rPr>
              <a:t>Spectral Cluste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Comic Sans MS"/>
              </a:rPr>
              <a:t>Balanced Partitioning.</a:t>
            </a:r>
            <a:r>
              <a:rPr b="0" lang="en-US" sz="2400" spc="-1" strike="noStrike">
                <a:solidFill>
                  <a:srgbClr val="0066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Comic Sans MS"/>
              </a:rPr>
              <a:t>Diffusion and Contagion in Networks Spread of Influence in Social Network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Comic Sans MS"/>
              </a:rPr>
              <a:t>Rank Aggregation   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Comic Sans MS"/>
              </a:rPr>
              <a:t>Recent Algorithmic Achievements</a:t>
            </a:r>
            <a:r>
              <a:rPr b="0" lang="en-US" sz="1600" spc="-1" strike="noStrike">
                <a:solidFill>
                  <a:srgbClr val="006633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277920"/>
            <a:ext cx="8534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Comic Sans MS"/>
              </a:rPr>
              <a:t>We didn’t talk abou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Comic Sans MS"/>
              </a:rPr>
              <a:t>Other Equilibrium Concepts: Subgame Perfect Equilibria, Correlated Equilibria, Cooperative Equilib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Comic Sans MS"/>
              </a:rPr>
              <a:t>Price of S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Next Lecture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Comic Sans MS"/>
              </a:rPr>
              <a:t>Congestion Ga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Rosenthal’s Theorem: Congestion games are potential Gam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Comic Sans MS"/>
              </a:rPr>
              <a:t>Market Sharing Ga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Comic Sans MS"/>
              </a:rPr>
              <a:t>Submodular Ga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Vetta’s Theorem: Price of anarchy is ½ for these gam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Comic Sans MS"/>
              </a:rPr>
              <a:t>Selfish Routing Ga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Logistic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Comic Sans MS"/>
              </a:rPr>
              <a:t>Course Web Page: </a:t>
            </a:r>
            <a:r>
              <a:rPr b="0" lang="en-US" sz="2000" spc="-1" strike="noStrike" u="sng">
                <a:solidFill>
                  <a:srgbClr val="996600"/>
                </a:solidFill>
                <a:uFillTx/>
                <a:latin typeface="Comic Sans MS"/>
                <a:hlinkClick r:id="rId1"/>
              </a:rPr>
              <a:t>http://www.cs.washington.edu/education/courses/cse599m/07sp/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Comic Sans MS"/>
              </a:rPr>
              <a:t>Course Wor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Scribe One Top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One Problem Set due Mid-M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One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Comic Sans MS"/>
              </a:rPr>
              <a:t>Contact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{Abie,Mirrokni}@Microsoft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Comic Sans MS"/>
              </a:rPr>
              <a:t>Why do we study game theory?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396252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Selfish Ag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Comic Sans MS"/>
              </a:rPr>
              <a:t>Many networking systems consist of self-interested or selfish agent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Comic Sans MS"/>
              </a:rPr>
              <a:t>Selfish agents optimize their own objective func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00"/>
                </a:solidFill>
                <a:latin typeface="Comic Sans MS"/>
              </a:rPr>
              <a:t>Goal of Mechanism Design</a:t>
            </a:r>
            <a:r>
              <a:rPr b="0" lang="en-US" sz="3400" spc="-1" strike="noStrike">
                <a:solidFill>
                  <a:srgbClr val="006633"/>
                </a:solidFill>
                <a:latin typeface="Comic Sans MS"/>
              </a:rPr>
              <a:t>: encourage selfish agents to act sociall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Design rewarding rules such that when agents optimize their own objective, a </a:t>
            </a:r>
            <a:r>
              <a:rPr b="0" lang="en-US" sz="3000" spc="-1" strike="noStrike">
                <a:solidFill>
                  <a:srgbClr val="996600"/>
                </a:solidFill>
                <a:latin typeface="Comic Sans MS"/>
              </a:rPr>
              <a:t>social objective</a:t>
            </a: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 is m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Self-interested Ag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Comic Sans MS"/>
              </a:rPr>
              <a:t>How do we study these system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Comic Sans MS"/>
              </a:rPr>
              <a:t>Model the networking system as a game, an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Comic Sans MS"/>
              </a:rPr>
              <a:t>Analyze </a:t>
            </a:r>
            <a:r>
              <a:rPr b="0" lang="en-US" sz="3400" spc="-1" strike="noStrike">
                <a:solidFill>
                  <a:srgbClr val="996600"/>
                </a:solidFill>
                <a:latin typeface="Comic Sans MS"/>
              </a:rPr>
              <a:t>equilibrium</a:t>
            </a:r>
            <a:r>
              <a:rPr b="0" lang="en-US" sz="3400" spc="-1" strike="noStrike">
                <a:solidFill>
                  <a:srgbClr val="006633"/>
                </a:solidFill>
                <a:latin typeface="Comic Sans MS"/>
              </a:rPr>
              <a:t> point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Comic Sans MS"/>
              </a:rPr>
              <a:t>Compare the social value of equilbirim points to global optimu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Algorithmic Game The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Comic Sans MS"/>
              </a:rPr>
              <a:t>Important Factor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Comic Sans MS"/>
              </a:rPr>
              <a:t>Existence</a:t>
            </a: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 of equilibria as as subject of stud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Comic Sans MS"/>
              </a:rPr>
              <a:t>Performance</a:t>
            </a: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 of the output (Approximation Factor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Comic Sans MS"/>
              </a:rPr>
              <a:t>Convergence</a:t>
            </a: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 (Running time) </a:t>
            </a:r>
            <a:r>
              <a:rPr b="0" lang="en-US" sz="3000" spc="-1" strike="noStrike">
                <a:solidFill>
                  <a:srgbClr val="006633"/>
                </a:solidFill>
                <a:latin typeface="Wingdings"/>
                <a:ea typeface="Wingdings"/>
              </a:rPr>
              <a:t></a:t>
            </a: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 Computer Sc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Econom</a:t>
            </a: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ics of Network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Comic Sans MS"/>
              </a:rPr>
              <a:t>Lack of coordination in networks    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33"/>
                </a:solidFill>
                <a:latin typeface="Comic Sans MS"/>
              </a:rPr>
              <a:t>Equilibrium Concepts: Strategic Games and Nash equilibr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Comic Sans MS"/>
              </a:rPr>
              <a:t>Price of Anarch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33"/>
                </a:solidFill>
                <a:latin typeface="Comic Sans MS"/>
              </a:rPr>
              <a:t>Load Balancing Gam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33"/>
                </a:solidFill>
                <a:latin typeface="Comic Sans MS"/>
              </a:rPr>
              <a:t>Selfish Routing Games and Congestion Gam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33"/>
                </a:solidFill>
                <a:latin typeface="Comic Sans MS"/>
              </a:rPr>
              <a:t>Distributed Caching and Market Gam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33"/>
                </a:solidFill>
                <a:latin typeface="Comic Sans MS"/>
              </a:rPr>
              <a:t>Efficiency Loss in Bandwidth Allocation Game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Comic Sans MS"/>
              </a:rPr>
              <a:t>Coordination Mechanis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33"/>
                </a:solidFill>
                <a:latin typeface="Comic Sans MS"/>
              </a:rPr>
              <a:t>Local Algorithmic Choices Influence the Price of Anarch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Comic Sans MS"/>
              </a:rPr>
              <a:t>Market Equilibria and Power Assignment in Wireless Network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33"/>
                </a:solidFill>
                <a:latin typeface="Comic Sans MS"/>
              </a:rPr>
              <a:t>Algorithms for Market Equilibria</a:t>
            </a:r>
            <a:r>
              <a:rPr b="0" lang="en-US" sz="1900" spc="-1" strike="noStrike" u="sng">
                <a:solidFill>
                  <a:srgbClr val="006633"/>
                </a:solidFill>
                <a:uFillTx/>
                <a:latin typeface="Comic Sans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33"/>
                </a:solidFill>
                <a:latin typeface="Comic Sans MS"/>
              </a:rPr>
              <a:t>Power Assignment for Distributed Load Balancing in Wireless Networks. 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Comic Sans MS"/>
              </a:rPr>
              <a:t>Convergence and Sink Equilibri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33"/>
                </a:solidFill>
                <a:latin typeface="Comic Sans MS"/>
              </a:rPr>
              <a:t>Best-Response dynamics in Potential game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33"/>
                </a:solidFill>
                <a:latin typeface="Comic Sans MS"/>
              </a:rPr>
              <a:t>Sink Equilibria : Outcome of the Best-response Dynamic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33"/>
                </a:solidFill>
                <a:latin typeface="Comic Sans MS"/>
              </a:rPr>
              <a:t>Best response Dynamics in Stable Matching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0:35:18Z</dcterms:created>
  <dc:creator>Nicole Immorlica</dc:creator>
  <dc:description/>
  <cp:keywords/>
  <dc:language>en-US</dc:language>
  <cp:lastModifiedBy>mirrokni</cp:lastModifiedBy>
  <dcterms:modified xsi:type="dcterms:W3CDTF">2007-03-28T18:47:21Z</dcterms:modified>
  <cp:revision>106</cp:revision>
  <dc:subject/>
  <dc:title>Two Results in Ad Au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191033</vt:lpwstr>
  </property>
</Properties>
</file>