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EF6-1E41-480E-B74A-F8CF5E61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339-1323-40AD-A7B2-77E29969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CC7-7D97-44C1-94F9-A2016D9F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B50-446E-4898-9A15-DD5A196E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472-7E41-44C1-B313-A0142FCC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844-18A0-4C87-A808-0952C0D1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B91-4E9E-4F1D-B42E-DF79EF00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9AD-07A4-4131-9DFA-42023172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F18-5DB6-4912-9D8C-03864D79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FFC-B9CD-49E0-B3F2-2FF10E5F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FF7-24A9-40FA-87C7-7AFB6A05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BAB-0986-44F5-A318-7F784DDF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E68D-96E4-48B4-8CB5-1824198D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676520"/>
            <a:ext cx="685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ctur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59092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sequential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lement in G is a valuation to global vari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lement in L is a valuation to local variables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instruction address for the frame at the top of the sta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instruction address for the other fra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216440" y="1798560"/>
            <a:ext cx="257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 a = 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id main(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:    a =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2:    flip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3: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id flip(bool x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4:    a = !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5: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31440" y="53388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F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72840" y="480528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F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, L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2440" y="4272120"/>
            <a:ext cx="24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F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, L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L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8200" y="373860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, L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L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78600" y="3143160"/>
            <a:ext cx="15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, L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253368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F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, L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16320" y="179856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 p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cha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1346760" y="2057400"/>
            <a:ext cx="6395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pushdown system 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state g, does there exist a st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* such that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(g, l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ïve algorith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406320" y="1722600"/>
            <a:ext cx="2283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to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30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32680" y="3932280"/>
            <a:ext cx="39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    (g, l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’, 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(g’, ls’) to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451800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unbounded so algorithm won’t termin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solu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ary-based (a.k.a. interprocedural dataflow analysi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a-ba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blem with the naïve algorith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38360" y="1952640"/>
            <a:ext cx="4035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(g, l, h, m)     (step ed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h, nm)    (call ed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h)         (pop ed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41320" y="434340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orithm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4181400" y="4343400"/>
            <a:ext cx="1952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+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 r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278080" y="3048120"/>
            <a:ext cx="43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(g, l, h, m)     (h, m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h’, m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(g, l, h’, m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733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l r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251080" y="3048120"/>
            <a:ext cx="4635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(g, l, h, m)      (h, m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h’, n’m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h’, n’m’)       E(h’, n’, h’, n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3657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urn r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292840" y="3048120"/>
            <a:ext cx="4176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(g, l, h, m)      (h, m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h’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h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36576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 r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2647080" y="2695680"/>
            <a:ext cx="3821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h, nm)    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, n, h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(g, l, h’,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36920" y="33307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914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259092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905120"/>
            <a:ext cx="7696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Specifications: logic vs. automata, linear vs. branching, safety vs. l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 Graph algorithms for model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ic algorithms for model chec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ushdow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70720" y="1036800"/>
            <a:ext cx="173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 g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0: inc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: g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2: inc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4: g = g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36720" y="2286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(0, L0, 0, L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736720" y="228600"/>
            <a:ext cx="4389480" cy="1559520"/>
            <a:chOff x="2736720" y="228600"/>
            <a:chExt cx="4389480" cy="1559520"/>
          </a:xfrm>
        </p:grpSpPr>
        <p:sp>
          <p:nvSpPr>
            <p:cNvPr id="166" name=""/>
            <p:cNvSpPr/>
            <p:nvPr/>
          </p:nvSpPr>
          <p:spPr>
            <a:xfrm>
              <a:off x="4911840" y="806400"/>
              <a:ext cx="221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0, L0, 0, L4</a:t>
              </a:r>
              <a:r>
                <a:rPr b="0" lang="el-GR" sz="2000" spc="-1" strike="noStrike">
                  <a:solidFill>
                    <a:srgbClr val="000000"/>
                  </a:solidFill>
                  <a:latin typeface="Comic Sans MS"/>
                </a:rPr>
                <a:t>·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36720" y="138924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(0, L4, 0, L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95680" y="228600"/>
              <a:ext cx="1219320" cy="53352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48"/>
                  </a:moveTo>
                  <a:cubicBezTo>
                    <a:pt x="152" y="24"/>
                    <a:pt x="304" y="0"/>
                    <a:pt x="432" y="48"/>
                  </a:cubicBezTo>
                  <a:cubicBezTo>
                    <a:pt x="560" y="96"/>
                    <a:pt x="664" y="216"/>
                    <a:pt x="768" y="3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685800"/>
              <a:ext cx="1800" cy="762120"/>
            </a:xfrm>
            <a:custGeom>
              <a:avLst/>
              <a:gdLst/>
              <a:ahLst/>
              <a:rect l="l" t="t" r="r" b="b"/>
              <a:pathLst>
                <a:path w="1" h="480">
                  <a:moveTo>
                    <a:pt x="0" y="0"/>
                  </a:moveTo>
                  <a:cubicBezTo>
                    <a:pt x="0" y="200"/>
                    <a:pt x="0" y="400"/>
                    <a:pt x="0" y="4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15840" y="1752480"/>
            <a:ext cx="1730520" cy="797400"/>
            <a:chOff x="2715840" y="1752480"/>
            <a:chExt cx="1730520" cy="797400"/>
          </a:xfrm>
        </p:grpSpPr>
        <p:sp>
          <p:nvSpPr>
            <p:cNvPr id="171" name=""/>
            <p:cNvSpPr/>
            <p:nvPr/>
          </p:nvSpPr>
          <p:spPr>
            <a:xfrm>
              <a:off x="2715840" y="215100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(0, L4, 1, L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1280" y="1752480"/>
              <a:ext cx="1800" cy="457200"/>
            </a:xfrm>
            <a:custGeom>
              <a:avLst/>
              <a:gdLst/>
              <a:ahLst/>
              <a:rect l="l" t="t" r="r" b="b"/>
              <a:pathLst>
                <a:path w="1" h="288">
                  <a:moveTo>
                    <a:pt x="0" y="0"/>
                  </a:moveTo>
                  <a:cubicBezTo>
                    <a:pt x="0" y="120"/>
                    <a:pt x="0" y="240"/>
                    <a:pt x="0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95680" y="2247840"/>
            <a:ext cx="4366440" cy="968760"/>
            <a:chOff x="4495680" y="2247840"/>
            <a:chExt cx="4366440" cy="968760"/>
          </a:xfrm>
        </p:grpSpPr>
        <p:sp>
          <p:nvSpPr>
            <p:cNvPr id="174" name=""/>
            <p:cNvSpPr/>
            <p:nvPr/>
          </p:nvSpPr>
          <p:spPr>
            <a:xfrm>
              <a:off x="7469640" y="2635200"/>
              <a:ext cx="139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0, L4, 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5680" y="2247840"/>
              <a:ext cx="3581640" cy="343080"/>
            </a:xfrm>
            <a:custGeom>
              <a:avLst/>
              <a:gdLst/>
              <a:ahLst/>
              <a:rect l="l" t="t" r="r" b="b"/>
              <a:pathLst>
                <a:path w="2256" h="216">
                  <a:moveTo>
                    <a:pt x="0" y="72"/>
                  </a:moveTo>
                  <a:cubicBezTo>
                    <a:pt x="436" y="36"/>
                    <a:pt x="872" y="0"/>
                    <a:pt x="1248" y="24"/>
                  </a:cubicBezTo>
                  <a:cubicBezTo>
                    <a:pt x="1624" y="48"/>
                    <a:pt x="1940" y="132"/>
                    <a:pt x="2256" y="2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95320" y="1219320"/>
            <a:ext cx="5229360" cy="2364120"/>
            <a:chOff x="2695320" y="1219320"/>
            <a:chExt cx="5229360" cy="2364120"/>
          </a:xfrm>
        </p:grpSpPr>
        <p:sp>
          <p:nvSpPr>
            <p:cNvPr id="177" name=""/>
            <p:cNvSpPr/>
            <p:nvPr/>
          </p:nvSpPr>
          <p:spPr>
            <a:xfrm>
              <a:off x="2695320" y="318456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(0, L0, 1, L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280" y="1219320"/>
              <a:ext cx="2210040" cy="1981080"/>
            </a:xfrm>
            <a:custGeom>
              <a:avLst/>
              <a:gdLst/>
              <a:ahLst/>
              <a:rect l="l" t="t" r="r" b="b"/>
              <a:pathLst>
                <a:path w="1392" h="1248">
                  <a:moveTo>
                    <a:pt x="1392" y="0"/>
                  </a:moveTo>
                  <a:cubicBezTo>
                    <a:pt x="1196" y="328"/>
                    <a:pt x="1000" y="656"/>
                    <a:pt x="768" y="864"/>
                  </a:cubicBezTo>
                  <a:cubicBezTo>
                    <a:pt x="536" y="1072"/>
                    <a:pt x="268" y="1160"/>
                    <a:pt x="0" y="12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3048120"/>
              <a:ext cx="3504960" cy="304560"/>
            </a:xfrm>
            <a:custGeom>
              <a:avLst/>
              <a:gdLst/>
              <a:ahLst/>
              <a:rect l="l" t="t" r="r" b="b"/>
              <a:pathLst>
                <a:path w="2208" h="192">
                  <a:moveTo>
                    <a:pt x="2208" y="0"/>
                  </a:moveTo>
                  <a:cubicBezTo>
                    <a:pt x="2208" y="0"/>
                    <a:pt x="1104" y="96"/>
                    <a:pt x="0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736720" y="3581280"/>
            <a:ext cx="1730520" cy="989640"/>
            <a:chOff x="2736720" y="3581280"/>
            <a:chExt cx="1730520" cy="989640"/>
          </a:xfrm>
        </p:grpSpPr>
        <p:sp>
          <p:nvSpPr>
            <p:cNvPr id="181" name=""/>
            <p:cNvSpPr/>
            <p:nvPr/>
          </p:nvSpPr>
          <p:spPr>
            <a:xfrm>
              <a:off x="2736720" y="417204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(0, L0, 0, L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3581280"/>
              <a:ext cx="1800" cy="609840"/>
            </a:xfrm>
            <a:custGeom>
              <a:avLst/>
              <a:gdLst/>
              <a:ahLst/>
              <a:rect l="l" t="t" r="r" b="b"/>
              <a:pathLst>
                <a:path w="1" h="384">
                  <a:moveTo>
                    <a:pt x="0" y="0"/>
                  </a:moveTo>
                  <a:cubicBezTo>
                    <a:pt x="0" y="160"/>
                    <a:pt x="0" y="320"/>
                    <a:pt x="0" y="3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286000" y="1676520"/>
            <a:ext cx="4860720" cy="3597480"/>
            <a:chOff x="2286000" y="1676520"/>
            <a:chExt cx="4860720" cy="3597480"/>
          </a:xfrm>
        </p:grpSpPr>
        <p:sp>
          <p:nvSpPr>
            <p:cNvPr id="184" name=""/>
            <p:cNvSpPr/>
            <p:nvPr/>
          </p:nvSpPr>
          <p:spPr>
            <a:xfrm>
              <a:off x="4932360" y="4692600"/>
              <a:ext cx="221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0, L0, 0, L4</a:t>
              </a:r>
              <a:r>
                <a:rPr b="0" lang="el-GR" sz="2000" spc="-1" strike="noStrike">
                  <a:solidFill>
                    <a:srgbClr val="000000"/>
                  </a:solidFill>
                  <a:latin typeface="Comic Sans MS"/>
                </a:rPr>
                <a:t>·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95680" y="4356000"/>
              <a:ext cx="1524240" cy="444600"/>
            </a:xfrm>
            <a:custGeom>
              <a:avLst/>
              <a:gdLst/>
              <a:ahLst/>
              <a:rect l="l" t="t" r="r" b="b"/>
              <a:pathLst>
                <a:path w="960" h="280">
                  <a:moveTo>
                    <a:pt x="0" y="40"/>
                  </a:moveTo>
                  <a:cubicBezTo>
                    <a:pt x="232" y="20"/>
                    <a:pt x="464" y="0"/>
                    <a:pt x="624" y="40"/>
                  </a:cubicBezTo>
                  <a:cubicBezTo>
                    <a:pt x="784" y="80"/>
                    <a:pt x="872" y="180"/>
                    <a:pt x="960" y="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6000" y="1676520"/>
              <a:ext cx="380880" cy="2590560"/>
            </a:xfrm>
            <a:custGeom>
              <a:avLst/>
              <a:gdLst/>
              <a:ahLst/>
              <a:rect l="l" t="t" r="r" b="b"/>
              <a:pathLst>
                <a:path w="240" h="1632">
                  <a:moveTo>
                    <a:pt x="240" y="1632"/>
                  </a:moveTo>
                  <a:cubicBezTo>
                    <a:pt x="120" y="1288"/>
                    <a:pt x="0" y="944"/>
                    <a:pt x="0" y="672"/>
                  </a:cubicBezTo>
                  <a:cubicBezTo>
                    <a:pt x="0" y="400"/>
                    <a:pt x="120" y="200"/>
                    <a:pt x="24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715840" y="3124080"/>
            <a:ext cx="5132880" cy="2437200"/>
            <a:chOff x="2715840" y="3124080"/>
            <a:chExt cx="5132880" cy="2437200"/>
          </a:xfrm>
        </p:grpSpPr>
        <p:sp>
          <p:nvSpPr>
            <p:cNvPr id="188" name=""/>
            <p:cNvSpPr/>
            <p:nvPr/>
          </p:nvSpPr>
          <p:spPr>
            <a:xfrm>
              <a:off x="2715840" y="516240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(0, L0, 1, L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280" y="3124080"/>
              <a:ext cx="4267440" cy="2057400"/>
            </a:xfrm>
            <a:custGeom>
              <a:avLst/>
              <a:gdLst/>
              <a:ahLst/>
              <a:rect l="l" t="t" r="r" b="b"/>
              <a:pathLst>
                <a:path w="2688" h="1296">
                  <a:moveTo>
                    <a:pt x="2688" y="0"/>
                  </a:moveTo>
                  <a:cubicBezTo>
                    <a:pt x="2688" y="0"/>
                    <a:pt x="1344" y="648"/>
                    <a:pt x="0" y="129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19720" y="5105520"/>
              <a:ext cx="1600200" cy="355320"/>
            </a:xfrm>
            <a:custGeom>
              <a:avLst/>
              <a:gdLst/>
              <a:ahLst/>
              <a:rect l="l" t="t" r="r" b="b"/>
              <a:pathLst>
                <a:path w="1008" h="224">
                  <a:moveTo>
                    <a:pt x="1008" y="0"/>
                  </a:moveTo>
                  <a:cubicBezTo>
                    <a:pt x="852" y="80"/>
                    <a:pt x="696" y="160"/>
                    <a:pt x="528" y="192"/>
                  </a:cubicBezTo>
                  <a:cubicBezTo>
                    <a:pt x="360" y="224"/>
                    <a:pt x="180" y="208"/>
                    <a:pt x="0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581280" y="5562720"/>
            <a:ext cx="5280840" cy="777960"/>
            <a:chOff x="3581280" y="5562720"/>
            <a:chExt cx="5280840" cy="777960"/>
          </a:xfrm>
        </p:grpSpPr>
        <p:sp>
          <p:nvSpPr>
            <p:cNvPr id="192" name=""/>
            <p:cNvSpPr/>
            <p:nvPr/>
          </p:nvSpPr>
          <p:spPr>
            <a:xfrm>
              <a:off x="7469640" y="5759280"/>
              <a:ext cx="139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0, L0, 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81280" y="5562720"/>
              <a:ext cx="3810240" cy="520560"/>
            </a:xfrm>
            <a:custGeom>
              <a:avLst/>
              <a:gdLst/>
              <a:ahLst/>
              <a:rect l="l" t="t" r="r" b="b"/>
              <a:pathLst>
                <a:path w="2400" h="328">
                  <a:moveTo>
                    <a:pt x="0" y="0"/>
                  </a:moveTo>
                  <a:cubicBezTo>
                    <a:pt x="232" y="124"/>
                    <a:pt x="464" y="248"/>
                    <a:pt x="864" y="288"/>
                  </a:cubicBezTo>
                  <a:cubicBezTo>
                    <a:pt x="1264" y="328"/>
                    <a:pt x="1832" y="284"/>
                    <a:pt x="2400" y="2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280" y="593640"/>
            <a:ext cx="2055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g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0: if 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1: foo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2: fo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3: assert(g &g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o(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5: if (r 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6: foo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7: g = g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60240" y="11736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(0, L0, 0, L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467800" y="914400"/>
            <a:ext cx="4907160" cy="1038240"/>
            <a:chOff x="2467800" y="914400"/>
            <a:chExt cx="4907160" cy="1038240"/>
          </a:xfrm>
        </p:grpSpPr>
        <p:sp>
          <p:nvSpPr>
            <p:cNvPr id="197" name=""/>
            <p:cNvSpPr/>
            <p:nvPr/>
          </p:nvSpPr>
          <p:spPr>
            <a:xfrm>
              <a:off x="5021280" y="1432080"/>
              <a:ext cx="23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0, L0, 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l-GR" sz="1800" spc="-1" strike="noStrike">
                  <a:solidFill>
                    <a:srgbClr val="000000"/>
                  </a:solidFill>
                  <a:latin typeface="Comic Sans MS"/>
                </a:rPr>
                <a:t>·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67800" y="1432080"/>
              <a:ext cx="22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(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0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, 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0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1240" y="1143000"/>
              <a:ext cx="1440" cy="3049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80"/>
                    <a:pt x="0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914400"/>
              <a:ext cx="1981440" cy="533520"/>
            </a:xfrm>
            <a:custGeom>
              <a:avLst/>
              <a:gdLst/>
              <a:ahLst/>
              <a:rect l="l" t="t" r="r" b="b"/>
              <a:pathLst>
                <a:path w="1248" h="336">
                  <a:moveTo>
                    <a:pt x="0" y="48"/>
                  </a:moveTo>
                  <a:cubicBezTo>
                    <a:pt x="376" y="24"/>
                    <a:pt x="752" y="0"/>
                    <a:pt x="960" y="48"/>
                  </a:cubicBezTo>
                  <a:cubicBezTo>
                    <a:pt x="1168" y="96"/>
                    <a:pt x="1208" y="216"/>
                    <a:pt x="1248" y="3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467800" y="1828800"/>
            <a:ext cx="2260080" cy="596880"/>
            <a:chOff x="2467800" y="1828800"/>
            <a:chExt cx="2260080" cy="596880"/>
          </a:xfrm>
        </p:grpSpPr>
        <p:sp>
          <p:nvSpPr>
            <p:cNvPr id="202" name=""/>
            <p:cNvSpPr/>
            <p:nvPr/>
          </p:nvSpPr>
          <p:spPr>
            <a:xfrm>
              <a:off x="2467800" y="2057400"/>
              <a:ext cx="22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(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0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, 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6,0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1240" y="1828800"/>
              <a:ext cx="1440" cy="3049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80"/>
                    <a:pt x="0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273400" y="304920"/>
            <a:ext cx="1757520" cy="3035160"/>
            <a:chOff x="2273400" y="304920"/>
            <a:chExt cx="1757520" cy="3035160"/>
          </a:xfrm>
        </p:grpSpPr>
        <p:sp>
          <p:nvSpPr>
            <p:cNvPr id="205" name=""/>
            <p:cNvSpPr/>
            <p:nvPr/>
          </p:nvSpPr>
          <p:spPr>
            <a:xfrm>
              <a:off x="2441880" y="776160"/>
              <a:ext cx="157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(0, L0, 0, L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60240" y="2971800"/>
              <a:ext cx="157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(0, L0, 0, L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51240" y="457200"/>
              <a:ext cx="1440" cy="380880"/>
            </a:xfrm>
            <a:custGeom>
              <a:avLst/>
              <a:gdLst/>
              <a:ahLst/>
              <a:rect l="l" t="t" r="r" b="b"/>
              <a:pathLst>
                <a:path w="1" h="240">
                  <a:moveTo>
                    <a:pt x="0" y="0"/>
                  </a:moveTo>
                  <a:cubicBezTo>
                    <a:pt x="0" y="100"/>
                    <a:pt x="0" y="200"/>
                    <a:pt x="0" y="2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73400" y="304920"/>
              <a:ext cx="241200" cy="2743200"/>
            </a:xfrm>
            <a:custGeom>
              <a:avLst/>
              <a:gdLst/>
              <a:ahLst/>
              <a:rect l="l" t="t" r="r" b="b"/>
              <a:pathLst>
                <a:path w="152" h="1728">
                  <a:moveTo>
                    <a:pt x="104" y="0"/>
                  </a:moveTo>
                  <a:cubicBezTo>
                    <a:pt x="52" y="384"/>
                    <a:pt x="0" y="768"/>
                    <a:pt x="8" y="1056"/>
                  </a:cubicBezTo>
                  <a:cubicBezTo>
                    <a:pt x="16" y="1344"/>
                    <a:pt x="84" y="1536"/>
                    <a:pt x="152" y="172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431440" y="3149640"/>
            <a:ext cx="4934520" cy="876240"/>
            <a:chOff x="2431440" y="3149640"/>
            <a:chExt cx="4934520" cy="876240"/>
          </a:xfrm>
        </p:grpSpPr>
        <p:sp>
          <p:nvSpPr>
            <p:cNvPr id="210" name=""/>
            <p:cNvSpPr/>
            <p:nvPr/>
          </p:nvSpPr>
          <p:spPr>
            <a:xfrm>
              <a:off x="5003280" y="3505320"/>
              <a:ext cx="23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0, L0, 0,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1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l-GR" sz="1800" spc="-1" strike="noStrike">
                  <a:solidFill>
                    <a:srgbClr val="000000"/>
                  </a:solidFill>
                  <a:latin typeface="Comic Sans MS"/>
                </a:rPr>
                <a:t>·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1440" y="3505320"/>
              <a:ext cx="22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(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, 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240" y="3276720"/>
              <a:ext cx="1440" cy="3045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4800" y="3149640"/>
              <a:ext cx="1981080" cy="355680"/>
            </a:xfrm>
            <a:custGeom>
              <a:avLst/>
              <a:gdLst/>
              <a:ahLst/>
              <a:rect l="l" t="t" r="r" b="b"/>
              <a:pathLst>
                <a:path w="1248" h="224">
                  <a:moveTo>
                    <a:pt x="0" y="32"/>
                  </a:moveTo>
                  <a:cubicBezTo>
                    <a:pt x="328" y="16"/>
                    <a:pt x="656" y="0"/>
                    <a:pt x="864" y="32"/>
                  </a:cubicBezTo>
                  <a:cubicBezTo>
                    <a:pt x="1072" y="64"/>
                    <a:pt x="1184" y="192"/>
                    <a:pt x="1248" y="2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431440" y="3886200"/>
            <a:ext cx="2260080" cy="596880"/>
            <a:chOff x="2431440" y="3886200"/>
            <a:chExt cx="2260080" cy="596880"/>
          </a:xfrm>
        </p:grpSpPr>
        <p:sp>
          <p:nvSpPr>
            <p:cNvPr id="215" name=""/>
            <p:cNvSpPr/>
            <p:nvPr/>
          </p:nvSpPr>
          <p:spPr>
            <a:xfrm>
              <a:off x="2431440" y="4114800"/>
              <a:ext cx="22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(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, 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7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1240" y="3886200"/>
              <a:ext cx="1440" cy="3049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32"/>
                    <a:pt x="0" y="64"/>
                    <a:pt x="0" y="96"/>
                  </a:cubicBezTo>
                  <a:cubicBezTo>
                    <a:pt x="0" y="128"/>
                    <a:pt x="0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3080" y="4441680"/>
            <a:ext cx="2260080" cy="650880"/>
            <a:chOff x="2413080" y="4441680"/>
            <a:chExt cx="2260080" cy="650880"/>
          </a:xfrm>
        </p:grpSpPr>
        <p:sp>
          <p:nvSpPr>
            <p:cNvPr id="218" name=""/>
            <p:cNvSpPr/>
            <p:nvPr/>
          </p:nvSpPr>
          <p:spPr>
            <a:xfrm>
              <a:off x="2413080" y="4724280"/>
              <a:ext cx="22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(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, 1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8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51240" y="4441680"/>
              <a:ext cx="1440" cy="3049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32"/>
                    <a:pt x="0" y="64"/>
                    <a:pt x="0" y="96"/>
                  </a:cubicBezTo>
                  <a:cubicBezTo>
                    <a:pt x="0" y="128"/>
                    <a:pt x="0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648320" y="4826160"/>
            <a:ext cx="4382280" cy="875880"/>
            <a:chOff x="4648320" y="4826160"/>
            <a:chExt cx="4382280" cy="875880"/>
          </a:xfrm>
        </p:grpSpPr>
        <p:sp>
          <p:nvSpPr>
            <p:cNvPr id="221" name=""/>
            <p:cNvSpPr/>
            <p:nvPr/>
          </p:nvSpPr>
          <p:spPr>
            <a:xfrm>
              <a:off x="7421760" y="5181480"/>
              <a:ext cx="160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, 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48320" y="4826160"/>
              <a:ext cx="3504960" cy="355320"/>
            </a:xfrm>
            <a:custGeom>
              <a:avLst/>
              <a:gdLst/>
              <a:ahLst/>
              <a:rect l="l" t="t" r="r" b="b"/>
              <a:pathLst>
                <a:path w="2208" h="224">
                  <a:moveTo>
                    <a:pt x="0" y="32"/>
                  </a:moveTo>
                  <a:cubicBezTo>
                    <a:pt x="536" y="16"/>
                    <a:pt x="1072" y="0"/>
                    <a:pt x="1440" y="32"/>
                  </a:cubicBezTo>
                  <a:cubicBezTo>
                    <a:pt x="1808" y="64"/>
                    <a:pt x="2008" y="144"/>
                    <a:pt x="2208" y="2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441880" y="3863880"/>
            <a:ext cx="4949640" cy="1990800"/>
            <a:chOff x="2441880" y="3863880"/>
            <a:chExt cx="4949640" cy="1990800"/>
          </a:xfrm>
        </p:grpSpPr>
        <p:sp>
          <p:nvSpPr>
            <p:cNvPr id="224" name=""/>
            <p:cNvSpPr/>
            <p:nvPr/>
          </p:nvSpPr>
          <p:spPr>
            <a:xfrm>
              <a:off x="2441880" y="5486400"/>
              <a:ext cx="157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(0, L0, 1, L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86200" y="38638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1248" y="0"/>
                  </a:moveTo>
                  <a:cubicBezTo>
                    <a:pt x="1088" y="272"/>
                    <a:pt x="928" y="544"/>
                    <a:pt x="720" y="720"/>
                  </a:cubicBezTo>
                  <a:cubicBezTo>
                    <a:pt x="512" y="896"/>
                    <a:pt x="256" y="976"/>
                    <a:pt x="0" y="10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38480" y="5410080"/>
              <a:ext cx="3353040" cy="304920"/>
            </a:xfrm>
            <a:custGeom>
              <a:avLst/>
              <a:gdLst/>
              <a:ahLst/>
              <a:rect l="l" t="t" r="r" b="b"/>
              <a:pathLst>
                <a:path w="2112" h="192">
                  <a:moveTo>
                    <a:pt x="2112" y="0"/>
                  </a:moveTo>
                  <a:cubicBezTo>
                    <a:pt x="2112" y="0"/>
                    <a:pt x="1056" y="96"/>
                    <a:pt x="0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441880" y="5791320"/>
            <a:ext cx="1570680" cy="534960"/>
            <a:chOff x="2441880" y="5791320"/>
            <a:chExt cx="1570680" cy="534960"/>
          </a:xfrm>
        </p:grpSpPr>
        <p:sp>
          <p:nvSpPr>
            <p:cNvPr id="228" name=""/>
            <p:cNvSpPr/>
            <p:nvPr/>
          </p:nvSpPr>
          <p:spPr>
            <a:xfrm>
              <a:off x="2441880" y="5958000"/>
              <a:ext cx="157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(0, L0, 1, L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51240" y="5791320"/>
              <a:ext cx="1440" cy="3045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32"/>
                    <a:pt x="0" y="64"/>
                    <a:pt x="0" y="96"/>
                  </a:cubicBezTo>
                  <a:cubicBezTo>
                    <a:pt x="0" y="128"/>
                    <a:pt x="0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6146640"/>
            <a:ext cx="4662000" cy="698400"/>
            <a:chOff x="4038480" y="6146640"/>
            <a:chExt cx="4662000" cy="698400"/>
          </a:xfrm>
        </p:grpSpPr>
        <p:sp>
          <p:nvSpPr>
            <p:cNvPr id="231" name=""/>
            <p:cNvSpPr/>
            <p:nvPr/>
          </p:nvSpPr>
          <p:spPr>
            <a:xfrm>
              <a:off x="7436160" y="63244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0, L0, 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38480" y="6146640"/>
              <a:ext cx="3581640" cy="177840"/>
            </a:xfrm>
            <a:custGeom>
              <a:avLst/>
              <a:gdLst/>
              <a:ahLst/>
              <a:rect l="l" t="t" r="r" b="b"/>
              <a:pathLst>
                <a:path w="2256" h="112">
                  <a:moveTo>
                    <a:pt x="0" y="16"/>
                  </a:moveTo>
                  <a:cubicBezTo>
                    <a:pt x="532" y="8"/>
                    <a:pt x="1064" y="0"/>
                    <a:pt x="1440" y="16"/>
                  </a:cubicBezTo>
                  <a:cubicBezTo>
                    <a:pt x="1816" y="32"/>
                    <a:pt x="2036" y="72"/>
                    <a:pt x="2256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962520" y="1752480"/>
            <a:ext cx="4109760" cy="1282680"/>
            <a:chOff x="3962520" y="1752480"/>
            <a:chExt cx="4109760" cy="1282680"/>
          </a:xfrm>
        </p:grpSpPr>
        <p:sp>
          <p:nvSpPr>
            <p:cNvPr id="234" name=""/>
            <p:cNvSpPr/>
            <p:nvPr/>
          </p:nvSpPr>
          <p:spPr>
            <a:xfrm>
              <a:off x="5028840" y="2514600"/>
              <a:ext cx="304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0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, 0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5,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l-GR" sz="1800" spc="-1" strike="noStrike">
                  <a:solidFill>
                    <a:srgbClr val="000000"/>
                  </a:solidFill>
                  <a:latin typeface="Comic Sans MS"/>
                </a:rPr>
                <a:t>·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8,0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0600" y="2235240"/>
              <a:ext cx="1600200" cy="355680"/>
            </a:xfrm>
            <a:custGeom>
              <a:avLst/>
              <a:gdLst/>
              <a:ahLst/>
              <a:rect l="l" t="t" r="r" b="b"/>
              <a:pathLst>
                <a:path w="1008" h="224">
                  <a:moveTo>
                    <a:pt x="0" y="32"/>
                  </a:moveTo>
                  <a:cubicBezTo>
                    <a:pt x="276" y="16"/>
                    <a:pt x="552" y="0"/>
                    <a:pt x="720" y="32"/>
                  </a:cubicBezTo>
                  <a:cubicBezTo>
                    <a:pt x="888" y="64"/>
                    <a:pt x="948" y="144"/>
                    <a:pt x="1008" y="2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62520" y="1752480"/>
              <a:ext cx="1440" cy="381240"/>
            </a:xfrm>
            <a:custGeom>
              <a:avLst/>
              <a:gdLst/>
              <a:ahLst/>
              <a:rect l="l" t="t" r="r" b="b"/>
              <a:pathLst>
                <a:path w="1" h="240">
                  <a:moveTo>
                    <a:pt x="0" y="240"/>
                  </a:moveTo>
                  <a:cubicBezTo>
                    <a:pt x="0" y="140"/>
                    <a:pt x="0" y="4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cha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338840" y="2057400"/>
            <a:ext cx="6395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pushdown system 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state g, does there exist a stack 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(g, l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86440" y="373392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gorithm I: Summar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85600" y="4923000"/>
            <a:ext cx="54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if E(g’, l’, g, l) for some g’, l’, and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,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orithm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968040" y="1736640"/>
            <a:ext cx="2283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to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330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48720" y="1738440"/>
            <a:ext cx="39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    (g, l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’, 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(g’, ls’) to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54320" y="23320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28600" y="39020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Key i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se a finite automaton to symbolically represen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1455120" y="1874880"/>
            <a:ext cx="590652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 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tion automaton (Q, L, T, G, 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) is the set of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 is the alp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is the transition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 is the set of initia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is the set of fina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2743200" y="685800"/>
            <a:ext cx="3505320" cy="2620800"/>
            <a:chOff x="2743200" y="685800"/>
            <a:chExt cx="3505320" cy="2620800"/>
          </a:xfrm>
        </p:grpSpPr>
        <p:sp>
          <p:nvSpPr>
            <p:cNvPr id="250" name=""/>
            <p:cNvSpPr/>
            <p:nvPr/>
          </p:nvSpPr>
          <p:spPr>
            <a:xfrm>
              <a:off x="2743200" y="1401840"/>
              <a:ext cx="60984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91120" y="14018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39040" y="14018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3040" y="17064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00600" y="17064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57760" y="1109520"/>
              <a:ext cx="1244520" cy="444600"/>
            </a:xfrm>
            <a:custGeom>
              <a:avLst/>
              <a:gdLst/>
              <a:ahLst/>
              <a:rect l="l" t="t" r="r" b="b"/>
              <a:pathLst>
                <a:path w="784" h="280">
                  <a:moveTo>
                    <a:pt x="224" y="280"/>
                  </a:moveTo>
                  <a:cubicBezTo>
                    <a:pt x="112" y="180"/>
                    <a:pt x="0" y="80"/>
                    <a:pt x="80" y="40"/>
                  </a:cubicBezTo>
                  <a:cubicBezTo>
                    <a:pt x="160" y="0"/>
                    <a:pt x="624" y="0"/>
                    <a:pt x="704" y="40"/>
                  </a:cubicBezTo>
                  <a:cubicBezTo>
                    <a:pt x="784" y="80"/>
                    <a:pt x="672" y="180"/>
                    <a:pt x="560" y="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68840" y="14446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1480" y="1444680"/>
              <a:ext cx="42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63960" y="1434960"/>
              <a:ext cx="42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93440" y="1295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93640" y="127152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44760" y="68580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3200" y="2697120"/>
              <a:ext cx="60984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75320" y="273996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353040" y="1858680"/>
              <a:ext cx="22860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76640" y="205740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85000" y="358128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s the set of configurations: { (h, m), (g, l m* l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69160" y="4206960"/>
            <a:ext cx="60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C of configurations is regular if it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ble by an automa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0960" y="5257800"/>
            <a:ext cx="792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orem (Buchi) : The set of configurations reach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rom a regular set is also 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3320" y="533520"/>
            <a:ext cx="28659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G = {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 = {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838080"/>
            <a:ext cx="76176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15200" y="838080"/>
            <a:ext cx="762120" cy="7621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2142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21880" y="92556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27720" y="72864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59560" y="968400"/>
            <a:ext cx="42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733320" y="533520"/>
            <a:ext cx="28659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G = {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 = {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838080"/>
            <a:ext cx="76176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838080"/>
            <a:ext cx="762120" cy="7621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12142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2040" y="92556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27720" y="72864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9560" y="968400"/>
            <a:ext cx="42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25909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36200" y="26780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44197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52040" y="45068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33320" y="533520"/>
            <a:ext cx="28659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G = {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 = {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838080"/>
            <a:ext cx="76176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838080"/>
            <a:ext cx="762120" cy="7621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12142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52040" y="92556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27720" y="72864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81520" y="968400"/>
            <a:ext cx="42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25909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36200" y="26780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44197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52040" y="45068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15200" y="25909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89720" y="26780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29718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13320" y="2514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315200" y="44197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21400" y="45068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48006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29160" y="43434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33320" y="533520"/>
            <a:ext cx="28659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G = {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 = {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05520" y="838080"/>
            <a:ext cx="76176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838080"/>
            <a:ext cx="762120" cy="7621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12142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2040" y="92556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27720" y="72864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81520" y="968400"/>
            <a:ext cx="42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25909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36200" y="26780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44197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52040" y="45068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15200" y="25909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389720" y="26780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29718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696080" y="16002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700760" y="18288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13320" y="2514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44197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21400" y="45068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48006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29160" y="43434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Finite to Inifinite-State Syste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far, algorithms for systems with finite state sp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s of infinite-st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Contr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cur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nbounded numeric variables, lis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stems with real-time cl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aramet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bitrary number of participating proce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33320" y="533520"/>
            <a:ext cx="28659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G = {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 = {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05520" y="838080"/>
            <a:ext cx="76176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838080"/>
            <a:ext cx="762120" cy="7621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867280" y="12142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52040" y="92556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27720" y="72864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81520" y="968400"/>
            <a:ext cx="42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05520" y="25909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36200" y="26780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44197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52040" y="45068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15200" y="25909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89720" y="26780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29718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7696080" y="16002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700760" y="18288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13320" y="2514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44197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21400" y="45068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48006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696080" y="33526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29160" y="43434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56480" y="3657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733320" y="533520"/>
            <a:ext cx="28659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G = {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 = {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838080"/>
            <a:ext cx="76176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15200" y="838080"/>
            <a:ext cx="762120" cy="7621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12142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52040" y="92556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27720" y="72864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1520" y="968400"/>
            <a:ext cx="42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5909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36200" y="26780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44197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2040" y="45068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15200" y="25909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89720" y="26780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29718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696080" y="16002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00760" y="18288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13320" y="2514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4197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21400" y="45068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48006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696080" y="33526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29160" y="43434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56480" y="3657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67080" y="1219320"/>
            <a:ext cx="3124440" cy="3352680"/>
          </a:xfrm>
          <a:custGeom>
            <a:avLst/>
            <a:gdLst/>
            <a:ahLst/>
            <a:rect l="l" t="t" r="r" b="b"/>
            <a:pathLst>
              <a:path w="1968" h="2112">
                <a:moveTo>
                  <a:pt x="528" y="0"/>
                </a:moveTo>
                <a:cubicBezTo>
                  <a:pt x="264" y="424"/>
                  <a:pt x="0" y="848"/>
                  <a:pt x="240" y="1200"/>
                </a:cubicBezTo>
                <a:cubicBezTo>
                  <a:pt x="480" y="1552"/>
                  <a:pt x="1224" y="1832"/>
                  <a:pt x="1968" y="211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198108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733320" y="533520"/>
            <a:ext cx="28659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G = {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 = {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05520" y="838080"/>
            <a:ext cx="76176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15200" y="838080"/>
            <a:ext cx="762120" cy="7621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12142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52040" y="92556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327720" y="72864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81520" y="968400"/>
            <a:ext cx="42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25909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36200" y="26780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05520" y="44197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2040" y="45068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15200" y="25909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89720" y="26780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29718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7696080" y="16002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700760" y="18288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13320" y="2514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15200" y="44197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421400" y="45068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67280" y="48006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696080" y="33526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329160" y="43434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56480" y="3657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67080" y="1219320"/>
            <a:ext cx="3124440" cy="3352680"/>
          </a:xfrm>
          <a:custGeom>
            <a:avLst/>
            <a:gdLst/>
            <a:ahLst/>
            <a:rect l="l" t="t" r="r" b="b"/>
            <a:pathLst>
              <a:path w="1968" h="2112">
                <a:moveTo>
                  <a:pt x="528" y="0"/>
                </a:moveTo>
                <a:cubicBezTo>
                  <a:pt x="264" y="424"/>
                  <a:pt x="0" y="848"/>
                  <a:pt x="240" y="1200"/>
                </a:cubicBezTo>
                <a:cubicBezTo>
                  <a:pt x="480" y="1552"/>
                  <a:pt x="1224" y="1832"/>
                  <a:pt x="1968" y="211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98108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25880" y="1219320"/>
            <a:ext cx="3441600" cy="4673520"/>
          </a:xfrm>
          <a:custGeom>
            <a:avLst/>
            <a:gdLst/>
            <a:ahLst/>
            <a:rect l="l" t="t" r="r" b="b"/>
            <a:pathLst>
              <a:path w="2168" h="2944">
                <a:moveTo>
                  <a:pt x="680" y="0"/>
                </a:moveTo>
                <a:cubicBezTo>
                  <a:pt x="340" y="232"/>
                  <a:pt x="0" y="464"/>
                  <a:pt x="8" y="912"/>
                </a:cubicBezTo>
                <a:cubicBezTo>
                  <a:pt x="16" y="1360"/>
                  <a:pt x="368" y="2432"/>
                  <a:pt x="728" y="2688"/>
                </a:cubicBezTo>
                <a:cubicBezTo>
                  <a:pt x="1088" y="2944"/>
                  <a:pt x="1628" y="2696"/>
                  <a:pt x="2168" y="24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06040" y="40086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733320" y="533520"/>
            <a:ext cx="28659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G = {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 = {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05520" y="838080"/>
            <a:ext cx="76176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5200" y="838080"/>
            <a:ext cx="762120" cy="7621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12142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52040" y="92556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7720" y="72864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481520" y="968400"/>
            <a:ext cx="42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05520" y="25909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36200" y="26780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05520" y="44197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52040" y="45068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315200" y="25909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389720" y="26780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29718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696080" y="16002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700760" y="18288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13320" y="2514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15200" y="44197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421400" y="45068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48006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696080" y="33526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29160" y="43434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56480" y="3657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67080" y="1219320"/>
            <a:ext cx="3124440" cy="3352680"/>
          </a:xfrm>
          <a:custGeom>
            <a:avLst/>
            <a:gdLst/>
            <a:ahLst/>
            <a:rect l="l" t="t" r="r" b="b"/>
            <a:pathLst>
              <a:path w="1968" h="2112">
                <a:moveTo>
                  <a:pt x="528" y="0"/>
                </a:moveTo>
                <a:cubicBezTo>
                  <a:pt x="264" y="424"/>
                  <a:pt x="0" y="848"/>
                  <a:pt x="240" y="1200"/>
                </a:cubicBezTo>
                <a:cubicBezTo>
                  <a:pt x="480" y="1552"/>
                  <a:pt x="1224" y="1832"/>
                  <a:pt x="1968" y="211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0" y="198108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25880" y="1219320"/>
            <a:ext cx="3441600" cy="4673520"/>
          </a:xfrm>
          <a:custGeom>
            <a:avLst/>
            <a:gdLst/>
            <a:ahLst/>
            <a:rect l="l" t="t" r="r" b="b"/>
            <a:pathLst>
              <a:path w="2168" h="2944">
                <a:moveTo>
                  <a:pt x="680" y="0"/>
                </a:moveTo>
                <a:cubicBezTo>
                  <a:pt x="340" y="232"/>
                  <a:pt x="0" y="464"/>
                  <a:pt x="8" y="912"/>
                </a:cubicBezTo>
                <a:cubicBezTo>
                  <a:pt x="16" y="1360"/>
                  <a:pt x="368" y="2432"/>
                  <a:pt x="728" y="2688"/>
                </a:cubicBezTo>
                <a:cubicBezTo>
                  <a:pt x="1088" y="2944"/>
                  <a:pt x="1628" y="2696"/>
                  <a:pt x="2168" y="24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06040" y="40086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772400" y="22860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0" y="672"/>
                </a:moveTo>
                <a:cubicBezTo>
                  <a:pt x="140" y="768"/>
                  <a:pt x="280" y="864"/>
                  <a:pt x="336" y="768"/>
                </a:cubicBezTo>
                <a:cubicBezTo>
                  <a:pt x="392" y="672"/>
                  <a:pt x="392" y="192"/>
                  <a:pt x="336" y="96"/>
                </a:cubicBezTo>
                <a:cubicBezTo>
                  <a:pt x="280" y="0"/>
                  <a:pt x="140" y="96"/>
                  <a:pt x="0" y="1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310600" y="27432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733320" y="533520"/>
            <a:ext cx="28659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G = {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 = {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838080"/>
            <a:ext cx="76176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838080"/>
            <a:ext cx="762120" cy="7621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867280" y="12142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52040" y="92556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27720" y="72864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81520" y="968400"/>
            <a:ext cx="42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05520" y="25909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36200" y="26780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105520" y="4419720"/>
            <a:ext cx="76176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52040" y="450684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15200" y="25909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389720" y="26780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29718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696080" y="16002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760" y="18288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313320" y="2514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4419720"/>
            <a:ext cx="762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21400" y="4506840"/>
            <a:ext cx="5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48006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7696080" y="33526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29160" y="43434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56480" y="36576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67080" y="1219320"/>
            <a:ext cx="3124440" cy="3352680"/>
          </a:xfrm>
          <a:custGeom>
            <a:avLst/>
            <a:gdLst/>
            <a:ahLst/>
            <a:rect l="l" t="t" r="r" b="b"/>
            <a:pathLst>
              <a:path w="1968" h="2112">
                <a:moveTo>
                  <a:pt x="528" y="0"/>
                </a:moveTo>
                <a:cubicBezTo>
                  <a:pt x="264" y="424"/>
                  <a:pt x="0" y="848"/>
                  <a:pt x="240" y="1200"/>
                </a:cubicBezTo>
                <a:cubicBezTo>
                  <a:pt x="480" y="1552"/>
                  <a:pt x="1224" y="1832"/>
                  <a:pt x="1968" y="211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198108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25880" y="1219320"/>
            <a:ext cx="3441600" cy="4673520"/>
          </a:xfrm>
          <a:custGeom>
            <a:avLst/>
            <a:gdLst/>
            <a:ahLst/>
            <a:rect l="l" t="t" r="r" b="b"/>
            <a:pathLst>
              <a:path w="2168" h="2944">
                <a:moveTo>
                  <a:pt x="680" y="0"/>
                </a:moveTo>
                <a:cubicBezTo>
                  <a:pt x="340" y="232"/>
                  <a:pt x="0" y="464"/>
                  <a:pt x="8" y="912"/>
                </a:cubicBezTo>
                <a:cubicBezTo>
                  <a:pt x="16" y="1360"/>
                  <a:pt x="368" y="2432"/>
                  <a:pt x="728" y="2688"/>
                </a:cubicBezTo>
                <a:cubicBezTo>
                  <a:pt x="1088" y="2944"/>
                  <a:pt x="1628" y="2696"/>
                  <a:pt x="2168" y="24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06040" y="40086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772400" y="22860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0" y="672"/>
                </a:moveTo>
                <a:cubicBezTo>
                  <a:pt x="140" y="768"/>
                  <a:pt x="280" y="864"/>
                  <a:pt x="336" y="768"/>
                </a:cubicBezTo>
                <a:cubicBezTo>
                  <a:pt x="392" y="672"/>
                  <a:pt x="392" y="192"/>
                  <a:pt x="336" y="96"/>
                </a:cubicBezTo>
                <a:cubicBezTo>
                  <a:pt x="280" y="0"/>
                  <a:pt x="140" y="96"/>
                  <a:pt x="0" y="1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310600" y="2743200"/>
            <a:ext cx="3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045080" y="5715000"/>
            <a:ext cx="63802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Finite to Inifinite-State Syste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far, algorithms for systems with finite state sp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s of infinite-st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Contr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cur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nbounded numeric variables, lis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stems with real-time cl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aramet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bitrary number of participating proce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cidability vs. Expressiven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bounded stat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decid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the unbounded system able to encode a Turing machin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gle-counter machines? 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-counter machines? 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gle-stack machines? 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-stack machines? 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Finite to Inifinite-State Syste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far, algorithms for systems with finite state sp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s of infinite-st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Control: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recur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nbounded numeric variables, lis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stems with real-time cl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aramet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bitrary number of participating proce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icit representation infea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c representation is the k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the transition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the reachable st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shdown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2157840" y="1676520"/>
            <a:ext cx="5351760" cy="30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, 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  : finite set of contro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, 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  : finite set of stack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initial contro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itial stack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et of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51600" y="609480"/>
            <a:ext cx="39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kinds of trans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h, m)        (st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h, m n)     (c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, l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h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     (retu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4680" y="974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458200" y="974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164440" y="1268280"/>
            <a:ext cx="76320" cy="381240"/>
            <a:chOff x="8164440" y="1268280"/>
            <a:chExt cx="76320" cy="381240"/>
          </a:xfrm>
        </p:grpSpPr>
        <p:sp>
          <p:nvSpPr>
            <p:cNvPr id="62" name=""/>
            <p:cNvSpPr/>
            <p:nvPr/>
          </p:nvSpPr>
          <p:spPr>
            <a:xfrm>
              <a:off x="8164440" y="1268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64440" y="1420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64440" y="1573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078160" y="6094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2600" y="57636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4680" y="609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41680" y="6094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956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219320" y="3570120"/>
            <a:ext cx="75960" cy="381240"/>
            <a:chOff x="1219320" y="3570120"/>
            <a:chExt cx="75960" cy="381240"/>
          </a:xfrm>
        </p:grpSpPr>
        <p:sp>
          <p:nvSpPr>
            <p:cNvPr id="72" name=""/>
            <p:cNvSpPr/>
            <p:nvPr/>
          </p:nvSpPr>
          <p:spPr>
            <a:xfrm>
              <a:off x="1219320" y="3570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19320" y="3722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19320" y="38750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7120" y="285768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9560" y="291132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96200" y="2911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06400" y="30942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79760" y="3260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2920" y="3260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19520" y="3554280"/>
            <a:ext cx="75960" cy="381240"/>
            <a:chOff x="2819520" y="3554280"/>
            <a:chExt cx="75960" cy="381240"/>
          </a:xfrm>
        </p:grpSpPr>
        <p:sp>
          <p:nvSpPr>
            <p:cNvPr id="82" name=""/>
            <p:cNvSpPr/>
            <p:nvPr/>
          </p:nvSpPr>
          <p:spPr>
            <a:xfrm>
              <a:off x="2819520" y="35542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19520" y="3706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9520" y="385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053800" y="2874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9760" y="28954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9760" y="285120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3168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3168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97560" y="3462480"/>
            <a:ext cx="76320" cy="380520"/>
            <a:chOff x="5497560" y="3462480"/>
            <a:chExt cx="76320" cy="380520"/>
          </a:xfrm>
        </p:grpSpPr>
        <p:sp>
          <p:nvSpPr>
            <p:cNvPr id="91" name=""/>
            <p:cNvSpPr/>
            <p:nvPr/>
          </p:nvSpPr>
          <p:spPr>
            <a:xfrm>
              <a:off x="5497560" y="34624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7560" y="361476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7560" y="3767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725360" y="274968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2803680"/>
            <a:ext cx="533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74440" y="28036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84640" y="29862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31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1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97760" y="3446640"/>
            <a:ext cx="76320" cy="380520"/>
            <a:chOff x="7097760" y="3446640"/>
            <a:chExt cx="76320" cy="380520"/>
          </a:xfrm>
        </p:grpSpPr>
        <p:sp>
          <p:nvSpPr>
            <p:cNvPr id="101" name=""/>
            <p:cNvSpPr/>
            <p:nvPr/>
          </p:nvSpPr>
          <p:spPr>
            <a:xfrm>
              <a:off x="7097760" y="34466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97760" y="359892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97760" y="37512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33204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2787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58080" y="27432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2406600"/>
            <a:ext cx="533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236232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073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5073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668760" y="5367240"/>
            <a:ext cx="76320" cy="381240"/>
            <a:chOff x="3668760" y="5367240"/>
            <a:chExt cx="76320" cy="381240"/>
          </a:xfrm>
        </p:grpSpPr>
        <p:sp>
          <p:nvSpPr>
            <p:cNvPr id="112" name=""/>
            <p:cNvSpPr/>
            <p:nvPr/>
          </p:nvSpPr>
          <p:spPr>
            <a:xfrm>
              <a:off x="3668760" y="5367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68760" y="551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68760" y="56721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896560" y="465444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470844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45640" y="470844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55840" y="489096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4800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800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268960" y="5094360"/>
            <a:ext cx="76320" cy="380520"/>
            <a:chOff x="5268960" y="5094360"/>
            <a:chExt cx="76320" cy="380520"/>
          </a:xfrm>
        </p:grpSpPr>
        <p:sp>
          <p:nvSpPr>
            <p:cNvPr id="122" name=""/>
            <p:cNvSpPr/>
            <p:nvPr/>
          </p:nvSpPr>
          <p:spPr>
            <a:xfrm>
              <a:off x="5268960" y="50943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68960" y="524664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68960" y="5398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3240" y="4672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0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21:13:13Z</dcterms:created>
  <dc:creator>qadeer</dc:creator>
  <dc:description/>
  <dc:language>en-US</dc:language>
  <cp:lastModifiedBy>qadeer</cp:lastModifiedBy>
  <dcterms:modified xsi:type="dcterms:W3CDTF">2006-04-21T18:41:20Z</dcterms:modified>
  <cp:revision>337</cp:revision>
  <dc:subject/>
  <dc:title>Slide 1</dc:title>
</cp:coreProperties>
</file>