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088-4D4B-479C-B9B1-0EC0535B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FC4-49D2-4DF1-971E-00B50D0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1C-8F44-41EC-8412-667B343D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43D-27C5-4FE3-8DE6-B1247DC1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47C-9E0D-44E6-89E1-68EAA65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27A-CFDA-4CCE-B4BE-5CDEC49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438-3CD8-48E9-B88C-BD053C53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C35-DD07-4694-89B2-EFE8E1A1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05F-E52C-4ED0-B77E-524370DE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2E0-3B2C-467F-B474-D029C79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E08-310F-434E-B156-AAA2845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EFC-D464-452D-8A3F-B503B92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AA60-0B00-4FA1-85CC-B5D92214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6765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4382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FO (Vals, Ops) admits quantifier elimination, then the propositional theor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O (Vals, Op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adequate symbol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re/post operation is a quantifier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1371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Boolea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5146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system variables X are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region: quantifier-free boolean formula ov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pre, post: boolean quantifier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952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 P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371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Presburg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51460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system variables X ar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the transition relation Trans(X,X’) is defined using on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region: quantifier-free formula of (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pre, post: quantifier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1371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terative language for writing              symbolic model-check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12408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only data type i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xpressions: pre, pos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\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=, &lt; &gt;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ssignment, sequencing, while-do, 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1523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Reacha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: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:= &lt;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:=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:= pre(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137160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cursive language for writing              symbolic model-checki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u-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38098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 of the Mu-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2438280"/>
            <a:ext cx="434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|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53341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867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...  region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838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s of the Mu-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676520"/>
            <a:ext cx="807732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a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&lt;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&gt;a&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pr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pre(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 [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maps each region variable to a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193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onal Semantics of the Mu-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666880"/>
            <a:ext cx="838188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S’ :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repeat S := S’; S’ :=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until S’=S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retur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 S’ := Q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repeat S := S’; S’ :=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until S’=S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retur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12193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otational Semantics of the Mu-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438280"/>
            <a:ext cx="685800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smallest region S such th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=  largest region S such th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800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regions are unique because all operators on region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) are monoton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914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90512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Specifications: logic vs. automata, linear vs. branching, 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Graph algorithms for 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mbolic algorithms for model chec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91440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a     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 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=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)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R)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re(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v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ternation adds expres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omega-regular languages in alternation dept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 checking complexity:  O( 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m+n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ormulas of alternation depth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st common implementation (SMV, Mocha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BDDs to represent boolean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838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Decis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362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153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anonical data structure for representing quantifier-free boolean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quivalence checking in consta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n practice, model checkers spend more than 90% of their time in “pre-image” or “post-image”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most synonymous with “symbolic” model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AT solvers superior i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del checking, which requires no termination (i.e., equivalence)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002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666880"/>
            <a:ext cx="769644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order k boolean variable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binary tree of height k+1, each leaf labeled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eaf of path “left, right, right, ...” gives value of boolean formula i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58240" y="838080"/>
            <a:ext cx="1787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72480" y="838080"/>
            <a:ext cx="212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42667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tex represents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green (dashed) line for 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red (solid) line for 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ction value determined by leaf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ong each path, variables occur in the variabl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ong each path, a variable occurs exact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30760" y="1636560"/>
            <a:ext cx="4381200" cy="207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63520" y="1522440"/>
            <a:ext cx="13240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066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duced Ordered) Binary Decis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7467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isomorphic subtrees (this gives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nodes with identical left and right suc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redundan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57200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boolean formula and variable order, the result is u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choice of variable order may make an exponential differenc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27040" y="1495440"/>
            <a:ext cx="3892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Comic Sans MS"/>
              </a:rPr>
              <a:t>Merge equivalen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92600" y="1988640"/>
            <a:ext cx="455400" cy="1046160"/>
            <a:chOff x="2892600" y="1988640"/>
            <a:chExt cx="455400" cy="1046160"/>
          </a:xfrm>
        </p:grpSpPr>
        <p:sp>
          <p:nvSpPr>
            <p:cNvPr id="110" name=""/>
            <p:cNvSpPr/>
            <p:nvPr/>
          </p:nvSpPr>
          <p:spPr>
            <a:xfrm flipV="1">
              <a:off x="3120840" y="1988640"/>
              <a:ext cx="1440" cy="83268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05200" y="2593800"/>
              <a:ext cx="442440" cy="441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2600" y="2581200"/>
              <a:ext cx="455400" cy="453600"/>
            </a:xfrm>
            <a:prstGeom prst="rect">
              <a:avLst/>
            </a:prstGeom>
            <a:noFill/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1160" y="2732400"/>
              <a:ext cx="26496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8040" y="270684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1988640"/>
            <a:ext cx="456840" cy="1046160"/>
            <a:chOff x="3564000" y="1988640"/>
            <a:chExt cx="456840" cy="1046160"/>
          </a:xfrm>
        </p:grpSpPr>
        <p:sp>
          <p:nvSpPr>
            <p:cNvPr id="116" name=""/>
            <p:cNvSpPr/>
            <p:nvPr/>
          </p:nvSpPr>
          <p:spPr>
            <a:xfrm flipV="1">
              <a:off x="3791520" y="1988640"/>
              <a:ext cx="1800" cy="83268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6600" y="2593800"/>
              <a:ext cx="444240" cy="441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64000" y="2581200"/>
              <a:ext cx="456840" cy="453600"/>
            </a:xfrm>
            <a:prstGeom prst="rect">
              <a:avLst/>
            </a:prstGeom>
            <a:noFill/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1120" y="2732400"/>
              <a:ext cx="26748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9080" y="270684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6720" y="3630600"/>
            <a:ext cx="438156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4883040" y="3630600"/>
            <a:ext cx="3176280" cy="2079360"/>
            <a:chOff x="4883040" y="3630600"/>
            <a:chExt cx="3176280" cy="20793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5968800" y="3630600"/>
              <a:ext cx="209052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883040" y="4351320"/>
              <a:ext cx="839160" cy="457920"/>
            </a:xfrm>
            <a:custGeom>
              <a:avLst/>
              <a:gdLst>
                <a:gd name="textAreaLeft" fmla="*/ 131040 w 839160"/>
                <a:gd name="textAreaRight" fmla="*/ 734400 w 839160"/>
                <a:gd name="textAreaTop" fmla="*/ 114480 h 457920"/>
                <a:gd name="textAreaBottom" fmla="*/ 343440 h 4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9880" y="2014200"/>
            <a:ext cx="1953360" cy="1020240"/>
            <a:chOff x="4349880" y="2014200"/>
            <a:chExt cx="1953360" cy="1020240"/>
          </a:xfrm>
        </p:grpSpPr>
        <p:grpSp>
          <p:nvGrpSpPr>
            <p:cNvPr id="126" name=""/>
            <p:cNvGrpSpPr/>
            <p:nvPr/>
          </p:nvGrpSpPr>
          <p:grpSpPr>
            <a:xfrm>
              <a:off x="5417640" y="2014200"/>
              <a:ext cx="885600" cy="1020240"/>
              <a:chOff x="5417640" y="2014200"/>
              <a:chExt cx="885600" cy="1020240"/>
            </a:xfrm>
          </p:grpSpPr>
          <p:sp>
            <p:nvSpPr>
              <p:cNvPr id="127" name=""/>
              <p:cNvSpPr/>
              <p:nvPr/>
            </p:nvSpPr>
            <p:spPr>
              <a:xfrm flipH="1" flipV="1">
                <a:off x="5417640" y="2014560"/>
                <a:ext cx="470520" cy="79416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859720" y="2014200"/>
                <a:ext cx="443520" cy="80676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51640" y="2593440"/>
                <a:ext cx="443880" cy="441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38680" y="2580840"/>
                <a:ext cx="456480" cy="453600"/>
              </a:xfrm>
              <a:prstGeom prst="rect">
                <a:avLst/>
              </a:prstGeom>
              <a:noFill/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27960" y="2732040"/>
                <a:ext cx="267120" cy="18936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75560" y="27064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349880" y="2213280"/>
              <a:ext cx="839160" cy="458280"/>
            </a:xfrm>
            <a:custGeom>
              <a:avLst/>
              <a:gdLst>
                <a:gd name="textAreaLeft" fmla="*/ 131040 w 839160"/>
                <a:gd name="textAreaRight" fmla="*/ 734400 w 839160"/>
                <a:gd name="textAreaTop" fmla="*/ 114480 h 458280"/>
                <a:gd name="textAreaBottom" fmla="*/ 343800 h 4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duction rul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220760" y="2136600"/>
            <a:ext cx="1388880" cy="1530000"/>
            <a:chOff x="1220760" y="2136600"/>
            <a:chExt cx="1388880" cy="1530000"/>
          </a:xfrm>
        </p:grpSpPr>
        <p:grpSp>
          <p:nvGrpSpPr>
            <p:cNvPr id="136" name=""/>
            <p:cNvGrpSpPr/>
            <p:nvPr/>
          </p:nvGrpSpPr>
          <p:grpSpPr>
            <a:xfrm>
              <a:off x="1511640" y="2565720"/>
              <a:ext cx="811440" cy="670680"/>
              <a:chOff x="1511640" y="2565720"/>
              <a:chExt cx="811440" cy="670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183400" y="256572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72" y="0"/>
                    </a:moveTo>
                    <a:lnTo>
                      <a:pt x="0" y="64"/>
                    </a:lnTo>
                    <a:lnTo>
                      <a:pt x="16" y="80"/>
                    </a:lnTo>
                    <a:lnTo>
                      <a:pt x="88" y="1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1120" y="2705400"/>
                <a:ext cx="139680" cy="112680"/>
              </a:xfrm>
              <a:custGeom>
                <a:avLst/>
                <a:gdLst/>
                <a:ahLst/>
                <a:rect l="l" t="t" r="r" b="b"/>
                <a:pathLst>
                  <a:path w="88" h="71">
                    <a:moveTo>
                      <a:pt x="72" y="0"/>
                    </a:moveTo>
                    <a:lnTo>
                      <a:pt x="0" y="55"/>
                    </a:lnTo>
                    <a:lnTo>
                      <a:pt x="16" y="71"/>
                    </a:lnTo>
                    <a:lnTo>
                      <a:pt x="88" y="1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67320" y="2831400"/>
                <a:ext cx="150480" cy="114120"/>
              </a:xfrm>
              <a:custGeom>
                <a:avLst/>
                <a:gdLst/>
                <a:ahLst/>
                <a:rect l="l" t="t" r="r" b="b"/>
                <a:pathLst>
                  <a:path w="95" h="72">
                    <a:moveTo>
                      <a:pt x="80" y="0"/>
                    </a:moveTo>
                    <a:lnTo>
                      <a:pt x="0" y="56"/>
                    </a:lnTo>
                    <a:lnTo>
                      <a:pt x="16" y="72"/>
                    </a:lnTo>
                    <a:lnTo>
                      <a:pt x="95" y="1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14680" y="2958120"/>
                <a:ext cx="139680" cy="113040"/>
              </a:xfrm>
              <a:custGeom>
                <a:avLst/>
                <a:gdLst/>
                <a:ahLst/>
                <a:rect l="l" t="t" r="r" b="b"/>
                <a:pathLst>
                  <a:path w="88" h="71">
                    <a:moveTo>
                      <a:pt x="72" y="0"/>
                    </a:moveTo>
                    <a:lnTo>
                      <a:pt x="0" y="55"/>
                    </a:lnTo>
                    <a:lnTo>
                      <a:pt x="16" y="71"/>
                    </a:lnTo>
                    <a:lnTo>
                      <a:pt x="88" y="1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62400" y="308412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72" y="0"/>
                    </a:moveTo>
                    <a:lnTo>
                      <a:pt x="0" y="64"/>
                    </a:lnTo>
                    <a:lnTo>
                      <a:pt x="16" y="80"/>
                    </a:lnTo>
                    <a:lnTo>
                      <a:pt x="88" y="1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11640" y="321120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8" y="0"/>
                    </a:moveTo>
                    <a:lnTo>
                      <a:pt x="0" y="0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511640" y="2567520"/>
              <a:ext cx="811800" cy="664560"/>
            </a:xfrm>
            <a:prstGeom prst="line">
              <a:avLst/>
            </a:prstGeom>
            <a:ln w="50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524240" y="2655000"/>
              <a:ext cx="1440" cy="492480"/>
              <a:chOff x="1524240" y="2655000"/>
              <a:chExt cx="1440" cy="492480"/>
            </a:xfrm>
          </p:grpSpPr>
          <p:sp>
            <p:nvSpPr>
              <p:cNvPr id="145" name=""/>
              <p:cNvSpPr/>
              <p:nvPr/>
            </p:nvSpPr>
            <p:spPr>
              <a:xfrm>
                <a:off x="1524240" y="2655000"/>
                <a:ext cx="1440" cy="13824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24240" y="2856600"/>
                <a:ext cx="1440" cy="13968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24240" y="3058560"/>
                <a:ext cx="1440" cy="8892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220760" y="3211920"/>
              <a:ext cx="315720" cy="454320"/>
              <a:chOff x="1220760" y="3211920"/>
              <a:chExt cx="315720" cy="4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1423800" y="3211920"/>
                <a:ext cx="112680" cy="15084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55" y="0"/>
                    </a:moveTo>
                    <a:lnTo>
                      <a:pt x="0" y="79"/>
                    </a:lnTo>
                    <a:lnTo>
                      <a:pt x="16" y="95"/>
                    </a:lnTo>
                    <a:lnTo>
                      <a:pt x="71" y="1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22280" y="3387960"/>
                <a:ext cx="101520" cy="15228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48" y="0"/>
                    </a:moveTo>
                    <a:lnTo>
                      <a:pt x="0" y="80"/>
                    </a:lnTo>
                    <a:lnTo>
                      <a:pt x="16" y="96"/>
                    </a:lnTo>
                    <a:lnTo>
                      <a:pt x="64" y="1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20760" y="355356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56" h="71">
                    <a:moveTo>
                      <a:pt x="40" y="0"/>
                    </a:moveTo>
                    <a:lnTo>
                      <a:pt x="0" y="55"/>
                    </a:lnTo>
                    <a:lnTo>
                      <a:pt x="16" y="71"/>
                    </a:lnTo>
                    <a:lnTo>
                      <a:pt x="56" y="1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516320" y="3211920"/>
              <a:ext cx="306720" cy="454680"/>
            </a:xfrm>
            <a:prstGeom prst="line">
              <a:avLst/>
            </a:prstGeom>
            <a:ln w="50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09680" y="3009960"/>
              <a:ext cx="443160" cy="44172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5800" y="3016080"/>
              <a:ext cx="430560" cy="42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5640" y="3147840"/>
              <a:ext cx="26532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12720" y="31240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4240" y="2136600"/>
              <a:ext cx="1440" cy="45468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9680" y="2363760"/>
              <a:ext cx="443160" cy="44208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15800" y="2370240"/>
              <a:ext cx="430560" cy="42912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85640" y="2503800"/>
              <a:ext cx="26532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18840" y="247860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0840" y="2565720"/>
              <a:ext cx="1440" cy="531360"/>
            </a:xfrm>
            <a:prstGeom prst="line">
              <a:avLst/>
            </a:prstGeom>
            <a:ln w="381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018160" y="3211920"/>
              <a:ext cx="304920" cy="454320"/>
              <a:chOff x="2018160" y="3211920"/>
              <a:chExt cx="304920" cy="454320"/>
            </a:xfrm>
          </p:grpSpPr>
          <p:sp>
            <p:nvSpPr>
              <p:cNvPr id="164" name=""/>
              <p:cNvSpPr/>
              <p:nvPr/>
            </p:nvSpPr>
            <p:spPr>
              <a:xfrm>
                <a:off x="2221560" y="3211920"/>
                <a:ext cx="101520" cy="1508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8" y="0"/>
                    </a:moveTo>
                    <a:lnTo>
                      <a:pt x="0" y="79"/>
                    </a:lnTo>
                    <a:lnTo>
                      <a:pt x="16" y="95"/>
                    </a:lnTo>
                    <a:lnTo>
                      <a:pt x="64" y="1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07080" y="3387960"/>
                <a:ext cx="114480" cy="152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6" y="0"/>
                    </a:moveTo>
                    <a:lnTo>
                      <a:pt x="0" y="80"/>
                    </a:lnTo>
                    <a:lnTo>
                      <a:pt x="16" y="96"/>
                    </a:lnTo>
                    <a:lnTo>
                      <a:pt x="72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18160" y="355356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56" h="71">
                    <a:moveTo>
                      <a:pt x="40" y="0"/>
                    </a:moveTo>
                    <a:lnTo>
                      <a:pt x="0" y="55"/>
                    </a:lnTo>
                    <a:lnTo>
                      <a:pt x="16" y="71"/>
                    </a:lnTo>
                    <a:lnTo>
                      <a:pt x="56" y="1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301120" y="3211920"/>
              <a:ext cx="308520" cy="454680"/>
            </a:xfrm>
            <a:prstGeom prst="line">
              <a:avLst/>
            </a:prstGeom>
            <a:ln w="50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94840" y="3009960"/>
              <a:ext cx="443160" cy="44172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01320" y="3016080"/>
              <a:ext cx="430560" cy="42948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3760" y="3147840"/>
              <a:ext cx="24120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97520" y="3124080"/>
              <a:ext cx="90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10840" y="2136600"/>
              <a:ext cx="1440" cy="45468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94840" y="2363760"/>
              <a:ext cx="443160" cy="44208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01320" y="2370240"/>
              <a:ext cx="430560" cy="42912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1160" y="2503800"/>
              <a:ext cx="266760" cy="189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05440" y="247860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7040" y="1571760"/>
            <a:ext cx="3816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Comic Sans MS"/>
              </a:rPr>
              <a:t>Merge isomorphic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5600" y="4025880"/>
            <a:ext cx="2089080" cy="20779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197240" y="4013280"/>
            <a:ext cx="2766600" cy="2076120"/>
            <a:chOff x="4197240" y="4013280"/>
            <a:chExt cx="2766600" cy="20761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5830920" y="4013280"/>
              <a:ext cx="1132920" cy="20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197240" y="4809600"/>
              <a:ext cx="838800" cy="457560"/>
            </a:xfrm>
            <a:custGeom>
              <a:avLst/>
              <a:gdLst>
                <a:gd name="textAreaLeft" fmla="*/ 131040 w 838800"/>
                <a:gd name="textAreaRight" fmla="*/ 734040 w 838800"/>
                <a:gd name="textAreaTop" fmla="*/ 114480 h 457560"/>
                <a:gd name="textAreaBottom" fmla="*/ 343440 h 4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76480" y="2136600"/>
            <a:ext cx="2532960" cy="1529640"/>
            <a:chOff x="2976480" y="2136600"/>
            <a:chExt cx="2532960" cy="1529640"/>
          </a:xfrm>
        </p:grpSpPr>
        <p:sp>
          <p:nvSpPr>
            <p:cNvPr id="183" name=""/>
            <p:cNvSpPr/>
            <p:nvPr/>
          </p:nvSpPr>
          <p:spPr>
            <a:xfrm>
              <a:off x="2976480" y="2670840"/>
              <a:ext cx="838800" cy="457920"/>
            </a:xfrm>
            <a:custGeom>
              <a:avLst/>
              <a:gdLst>
                <a:gd name="textAreaLeft" fmla="*/ 131040 w 838800"/>
                <a:gd name="textAreaRight" fmla="*/ 734040 w 838800"/>
                <a:gd name="textAreaTop" fmla="*/ 114480 h 457920"/>
                <a:gd name="textAreaBottom" fmla="*/ 343440 h 4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20920" y="2136600"/>
              <a:ext cx="1388520" cy="1529640"/>
              <a:chOff x="4120920" y="2136600"/>
              <a:chExt cx="1388520" cy="152964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4425120" y="2136600"/>
                <a:ext cx="785160" cy="457920"/>
              </a:xfrm>
              <a:prstGeom prst="line">
                <a:avLst/>
              </a:prstGeom>
              <a:ln w="381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411440" y="2565720"/>
                <a:ext cx="811440" cy="670680"/>
                <a:chOff x="4411440" y="2565720"/>
                <a:chExt cx="811440" cy="67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083200" y="2565720"/>
                  <a:ext cx="139680" cy="127080"/>
                </a:xfrm>
                <a:custGeom>
                  <a:avLst/>
                  <a:gdLst/>
                  <a:ahLst/>
                  <a:rect l="l" t="t" r="r" b="b"/>
                  <a:pathLst>
                    <a:path w="88" h="80">
                      <a:moveTo>
                        <a:pt x="72" y="0"/>
                      </a:moveTo>
                      <a:lnTo>
                        <a:pt x="0" y="64"/>
                      </a:lnTo>
                      <a:lnTo>
                        <a:pt x="16" y="80"/>
                      </a:lnTo>
                      <a:lnTo>
                        <a:pt x="88" y="1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30920" y="2705400"/>
                  <a:ext cx="139680" cy="11268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72" y="0"/>
                      </a:moveTo>
                      <a:lnTo>
                        <a:pt x="0" y="55"/>
                      </a:lnTo>
                      <a:lnTo>
                        <a:pt x="16" y="71"/>
                      </a:lnTo>
                      <a:lnTo>
                        <a:pt x="88" y="1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7120" y="2831400"/>
                  <a:ext cx="15048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80" y="0"/>
                      </a:moveTo>
                      <a:lnTo>
                        <a:pt x="0" y="56"/>
                      </a:lnTo>
                      <a:lnTo>
                        <a:pt x="16" y="72"/>
                      </a:lnTo>
                      <a:lnTo>
                        <a:pt x="95" y="1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14480" y="2958120"/>
                  <a:ext cx="139680" cy="11304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72" y="0"/>
                      </a:moveTo>
                      <a:lnTo>
                        <a:pt x="0" y="55"/>
                      </a:lnTo>
                      <a:lnTo>
                        <a:pt x="16" y="71"/>
                      </a:lnTo>
                      <a:lnTo>
                        <a:pt x="88" y="1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62200" y="3084120"/>
                  <a:ext cx="139680" cy="127080"/>
                </a:xfrm>
                <a:custGeom>
                  <a:avLst/>
                  <a:gdLst/>
                  <a:ahLst/>
                  <a:rect l="l" t="t" r="r" b="b"/>
                  <a:pathLst>
                    <a:path w="88" h="80">
                      <a:moveTo>
                        <a:pt x="72" y="0"/>
                      </a:moveTo>
                      <a:lnTo>
                        <a:pt x="0" y="64"/>
                      </a:lnTo>
                      <a:lnTo>
                        <a:pt x="16" y="80"/>
                      </a:lnTo>
                      <a:lnTo>
                        <a:pt x="88" y="1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11440" y="321120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4411440" y="2567520"/>
                <a:ext cx="811800" cy="664560"/>
              </a:xfrm>
              <a:prstGeom prst="line">
                <a:avLst/>
              </a:prstGeom>
              <a:ln w="50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424040" y="2654640"/>
                <a:ext cx="1440" cy="492480"/>
                <a:chOff x="4424040" y="2654640"/>
                <a:chExt cx="1440" cy="492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24040" y="2654640"/>
                  <a:ext cx="1440" cy="138240"/>
                </a:xfrm>
                <a:prstGeom prst="line">
                  <a:avLst/>
                </a:prstGeom>
                <a:ln w="38160">
                  <a:solidFill>
                    <a:srgbClr val="008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424040" y="2856240"/>
                  <a:ext cx="1440" cy="139680"/>
                </a:xfrm>
                <a:prstGeom prst="line">
                  <a:avLst/>
                </a:prstGeom>
                <a:ln w="38160">
                  <a:solidFill>
                    <a:srgbClr val="008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24040" y="3058200"/>
                  <a:ext cx="1440" cy="88920"/>
                </a:xfrm>
                <a:prstGeom prst="line">
                  <a:avLst/>
                </a:prstGeom>
                <a:ln w="38160">
                  <a:solidFill>
                    <a:srgbClr val="008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120920" y="3211560"/>
                <a:ext cx="315720" cy="454320"/>
                <a:chOff x="4120920" y="3211560"/>
                <a:chExt cx="315720" cy="454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323960" y="3211560"/>
                  <a:ext cx="112680" cy="150840"/>
                </a:xfrm>
                <a:custGeom>
                  <a:avLst/>
                  <a:gdLst/>
                  <a:ahLst/>
                  <a:rect l="l" t="t" r="r" b="b"/>
                  <a:pathLst>
                    <a:path w="71" h="95">
                      <a:moveTo>
                        <a:pt x="55" y="0"/>
                      </a:moveTo>
                      <a:lnTo>
                        <a:pt x="0" y="79"/>
                      </a:lnTo>
                      <a:lnTo>
                        <a:pt x="16" y="95"/>
                      </a:lnTo>
                      <a:lnTo>
                        <a:pt x="71" y="16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222440" y="3387600"/>
                  <a:ext cx="101520" cy="152280"/>
                </a:xfrm>
                <a:custGeom>
                  <a:avLst/>
                  <a:gdLst/>
                  <a:ahLst/>
                  <a:rect l="l" t="t" r="r" b="b"/>
                  <a:pathLst>
                    <a:path w="64" h="96">
                      <a:moveTo>
                        <a:pt x="48" y="0"/>
                      </a:moveTo>
                      <a:lnTo>
                        <a:pt x="0" y="80"/>
                      </a:lnTo>
                      <a:lnTo>
                        <a:pt x="16" y="96"/>
                      </a:lnTo>
                      <a:lnTo>
                        <a:pt x="64" y="1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20920" y="3553200"/>
                  <a:ext cx="88920" cy="112680"/>
                </a:xfrm>
                <a:custGeom>
                  <a:avLst/>
                  <a:gdLst/>
                  <a:ahLst/>
                  <a:rect l="l" t="t" r="r" b="b"/>
                  <a:pathLst>
                    <a:path w="56" h="71">
                      <a:moveTo>
                        <a:pt x="40" y="0"/>
                      </a:moveTo>
                      <a:lnTo>
                        <a:pt x="0" y="55"/>
                      </a:lnTo>
                      <a:lnTo>
                        <a:pt x="16" y="71"/>
                      </a:lnTo>
                      <a:lnTo>
                        <a:pt x="56" y="15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416120" y="3211560"/>
                <a:ext cx="306360" cy="454680"/>
              </a:xfrm>
              <a:prstGeom prst="line">
                <a:avLst/>
              </a:prstGeom>
              <a:ln w="50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09840" y="3009600"/>
                <a:ext cx="443160" cy="442080"/>
              </a:xfrm>
              <a:prstGeom prst="ellipse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15960" y="3015720"/>
                <a:ext cx="430560" cy="429480"/>
              </a:xfrm>
              <a:prstGeom prst="ellipse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85800" y="3147840"/>
                <a:ext cx="26532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12160" y="31240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24040" y="2136600"/>
                <a:ext cx="1440" cy="454680"/>
              </a:xfrm>
              <a:prstGeom prst="line">
                <a:avLst/>
              </a:prstGeom>
              <a:ln w="381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2363760"/>
                <a:ext cx="443160" cy="442080"/>
              </a:xfrm>
              <a:prstGeom prst="ellipse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15960" y="2370240"/>
                <a:ext cx="430560" cy="429480"/>
              </a:xfrm>
              <a:prstGeom prst="ellipse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85800" y="2503440"/>
                <a:ext cx="26532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8640" y="2478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11000" y="2565720"/>
                <a:ext cx="1440" cy="531000"/>
              </a:xfrm>
              <a:prstGeom prst="line">
                <a:avLst/>
              </a:prstGeom>
              <a:ln w="381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4918320" y="3211560"/>
                <a:ext cx="304920" cy="454320"/>
                <a:chOff x="4918320" y="3211560"/>
                <a:chExt cx="304920" cy="454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121720" y="3211560"/>
                  <a:ext cx="101520" cy="150840"/>
                </a:xfrm>
                <a:custGeom>
                  <a:avLst/>
                  <a:gdLst/>
                  <a:ahLst/>
                  <a:rect l="l" t="t" r="r" b="b"/>
                  <a:pathLst>
                    <a:path w="64" h="95">
                      <a:moveTo>
                        <a:pt x="48" y="0"/>
                      </a:moveTo>
                      <a:lnTo>
                        <a:pt x="0" y="79"/>
                      </a:lnTo>
                      <a:lnTo>
                        <a:pt x="16" y="95"/>
                      </a:lnTo>
                      <a:lnTo>
                        <a:pt x="64" y="1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007240" y="3387600"/>
                  <a:ext cx="114480" cy="152280"/>
                </a:xfrm>
                <a:custGeom>
                  <a:avLst/>
                  <a:gdLst/>
                  <a:ahLst/>
                  <a:rect l="l" t="t" r="r" b="b"/>
                  <a:pathLst>
                    <a:path w="72" h="96">
                      <a:moveTo>
                        <a:pt x="56" y="0"/>
                      </a:moveTo>
                      <a:lnTo>
                        <a:pt x="0" y="80"/>
                      </a:lnTo>
                      <a:lnTo>
                        <a:pt x="16" y="96"/>
                      </a:lnTo>
                      <a:lnTo>
                        <a:pt x="72" y="1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18320" y="3553200"/>
                  <a:ext cx="88920" cy="112680"/>
                </a:xfrm>
                <a:custGeom>
                  <a:avLst/>
                  <a:gdLst/>
                  <a:ahLst/>
                  <a:rect l="l" t="t" r="r" b="b"/>
                  <a:pathLst>
                    <a:path w="56" h="71">
                      <a:moveTo>
                        <a:pt x="40" y="0"/>
                      </a:moveTo>
                      <a:lnTo>
                        <a:pt x="0" y="55"/>
                      </a:lnTo>
                      <a:lnTo>
                        <a:pt x="16" y="71"/>
                      </a:lnTo>
                      <a:lnTo>
                        <a:pt x="56" y="15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5201280" y="3211560"/>
                <a:ext cx="308160" cy="454680"/>
              </a:xfrm>
              <a:prstGeom prst="line">
                <a:avLst/>
              </a:prstGeom>
              <a:ln w="50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94640" y="3009600"/>
                <a:ext cx="443160" cy="442080"/>
              </a:xfrm>
              <a:prstGeom prst="ellipse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01120" y="3015720"/>
                <a:ext cx="430560" cy="429480"/>
              </a:xfrm>
              <a:prstGeom prst="ellipse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83560" y="3147840"/>
                <a:ext cx="24120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97320" y="3124080"/>
                <a:ext cx="90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94640" y="2363760"/>
                <a:ext cx="443160" cy="442080"/>
              </a:xfrm>
              <a:prstGeom prst="ellipse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01120" y="2370240"/>
                <a:ext cx="430560" cy="429480"/>
              </a:xfrm>
              <a:prstGeom prst="ellipse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70960" y="2503440"/>
                <a:ext cx="266760" cy="18900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5600" y="2478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5799240" y="2136600"/>
            <a:ext cx="2684880" cy="1529280"/>
            <a:chOff x="5799240" y="2136600"/>
            <a:chExt cx="2684880" cy="1529280"/>
          </a:xfrm>
        </p:grpSpPr>
        <p:grpSp>
          <p:nvGrpSpPr>
            <p:cNvPr id="227" name=""/>
            <p:cNvGrpSpPr/>
            <p:nvPr/>
          </p:nvGrpSpPr>
          <p:grpSpPr>
            <a:xfrm>
              <a:off x="7095960" y="2136600"/>
              <a:ext cx="1388160" cy="1529280"/>
              <a:chOff x="7095960" y="2136600"/>
              <a:chExt cx="1388160" cy="15292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7095960" y="2136600"/>
                <a:ext cx="1388160" cy="1529280"/>
                <a:chOff x="7095960" y="2136600"/>
                <a:chExt cx="1388160" cy="1529280"/>
              </a:xfrm>
            </p:grpSpPr>
            <p:sp>
              <p:nvSpPr>
                <p:cNvPr id="229" name=""/>
                <p:cNvSpPr/>
                <p:nvPr/>
              </p:nvSpPr>
              <p:spPr>
                <a:xfrm flipH="1">
                  <a:off x="7400520" y="2136600"/>
                  <a:ext cx="784440" cy="457920"/>
                </a:xfrm>
                <a:prstGeom prst="line">
                  <a:avLst/>
                </a:prstGeom>
                <a:ln w="381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86480" y="2567160"/>
                  <a:ext cx="811440" cy="664560"/>
                </a:xfrm>
                <a:prstGeom prst="line">
                  <a:avLst/>
                </a:prstGeom>
                <a:ln w="50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7399080" y="2654640"/>
                  <a:ext cx="1440" cy="492480"/>
                  <a:chOff x="7399080" y="2654640"/>
                  <a:chExt cx="1440" cy="49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399080" y="2654640"/>
                    <a:ext cx="1440" cy="138240"/>
                  </a:xfrm>
                  <a:prstGeom prst="line">
                    <a:avLst/>
                  </a:prstGeom>
                  <a:ln w="38160">
                    <a:solidFill>
                      <a:srgbClr val="008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399080" y="2856240"/>
                    <a:ext cx="1440" cy="139680"/>
                  </a:xfrm>
                  <a:prstGeom prst="line">
                    <a:avLst/>
                  </a:prstGeom>
                  <a:ln w="38160">
                    <a:solidFill>
                      <a:srgbClr val="008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399080" y="3058200"/>
                    <a:ext cx="1440" cy="88920"/>
                  </a:xfrm>
                  <a:prstGeom prst="line">
                    <a:avLst/>
                  </a:prstGeom>
                  <a:ln w="38160">
                    <a:solidFill>
                      <a:srgbClr val="008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095960" y="3211200"/>
                  <a:ext cx="315720" cy="454320"/>
                  <a:chOff x="7095960" y="3211200"/>
                  <a:chExt cx="315720" cy="4543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299000" y="3211200"/>
                    <a:ext cx="1126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95">
                        <a:moveTo>
                          <a:pt x="55" y="0"/>
                        </a:moveTo>
                        <a:lnTo>
                          <a:pt x="0" y="79"/>
                        </a:lnTo>
                        <a:lnTo>
                          <a:pt x="16" y="95"/>
                        </a:lnTo>
                        <a:lnTo>
                          <a:pt x="71" y="16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197480" y="3387240"/>
                    <a:ext cx="101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96">
                        <a:moveTo>
                          <a:pt x="48" y="0"/>
                        </a:moveTo>
                        <a:lnTo>
                          <a:pt x="0" y="80"/>
                        </a:lnTo>
                        <a:lnTo>
                          <a:pt x="16" y="96"/>
                        </a:lnTo>
                        <a:lnTo>
                          <a:pt x="64" y="1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95960" y="3552840"/>
                    <a:ext cx="889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1">
                        <a:moveTo>
                          <a:pt x="40" y="0"/>
                        </a:moveTo>
                        <a:lnTo>
                          <a:pt x="0" y="55"/>
                        </a:lnTo>
                        <a:lnTo>
                          <a:pt x="16" y="71"/>
                        </a:lnTo>
                        <a:lnTo>
                          <a:pt x="56" y="15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7391160" y="3211200"/>
                  <a:ext cx="306360" cy="454680"/>
                </a:xfrm>
                <a:prstGeom prst="line">
                  <a:avLst/>
                </a:prstGeom>
                <a:ln w="50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84880" y="3009240"/>
                  <a:ext cx="442800" cy="442080"/>
                </a:xfrm>
                <a:prstGeom prst="ellipse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91360" y="3015720"/>
                  <a:ext cx="430200" cy="429120"/>
                </a:xfrm>
                <a:prstGeom prst="ellipse">
                  <a:avLst/>
                </a:prstGeom>
                <a:noFill/>
                <a:ln w="381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261200" y="3147480"/>
                  <a:ext cx="264960" cy="189000"/>
                </a:xfrm>
                <a:prstGeom prst="rect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87560" y="3123720"/>
                  <a:ext cx="997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1" i="1" lang="en-US" sz="1400" spc="-1" strike="noStrike">
                      <a:solidFill>
                        <a:srgbClr val="00279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9080" y="2136600"/>
                  <a:ext cx="1800" cy="454680"/>
                </a:xfrm>
                <a:prstGeom prst="line">
                  <a:avLst/>
                </a:prstGeom>
                <a:ln w="381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84880" y="2363760"/>
                  <a:ext cx="442800" cy="442080"/>
                </a:xfrm>
                <a:prstGeom prst="ellipse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1360" y="2370240"/>
                  <a:ext cx="430200" cy="429120"/>
                </a:xfrm>
                <a:prstGeom prst="ellipse">
                  <a:avLst/>
                </a:prstGeom>
                <a:noFill/>
                <a:ln w="381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261200" y="2503440"/>
                  <a:ext cx="264960" cy="189000"/>
                </a:xfrm>
                <a:prstGeom prst="rect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3680" y="2478240"/>
                  <a:ext cx="997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1" i="1" lang="en-US" sz="1400" spc="-1" strike="noStrike">
                      <a:solidFill>
                        <a:srgbClr val="00279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893360" y="3211200"/>
                  <a:ext cx="304200" cy="454320"/>
                  <a:chOff x="7893360" y="3211200"/>
                  <a:chExt cx="304200" cy="4543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8096400" y="3211200"/>
                    <a:ext cx="1011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95">
                        <a:moveTo>
                          <a:pt x="48" y="0"/>
                        </a:moveTo>
                        <a:lnTo>
                          <a:pt x="0" y="79"/>
                        </a:lnTo>
                        <a:lnTo>
                          <a:pt x="16" y="95"/>
                        </a:lnTo>
                        <a:lnTo>
                          <a:pt x="64" y="1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981920" y="3387240"/>
                    <a:ext cx="1141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96">
                        <a:moveTo>
                          <a:pt x="56" y="0"/>
                        </a:moveTo>
                        <a:lnTo>
                          <a:pt x="0" y="80"/>
                        </a:lnTo>
                        <a:lnTo>
                          <a:pt x="16" y="96"/>
                        </a:lnTo>
                        <a:lnTo>
                          <a:pt x="72" y="1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893360" y="3552840"/>
                    <a:ext cx="885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1">
                        <a:moveTo>
                          <a:pt x="40" y="0"/>
                        </a:moveTo>
                        <a:lnTo>
                          <a:pt x="0" y="55"/>
                        </a:lnTo>
                        <a:lnTo>
                          <a:pt x="16" y="71"/>
                        </a:lnTo>
                        <a:lnTo>
                          <a:pt x="56" y="15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80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8176320" y="3211200"/>
                  <a:ext cx="307800" cy="454680"/>
                </a:xfrm>
                <a:prstGeom prst="line">
                  <a:avLst/>
                </a:prstGeom>
                <a:ln w="50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969320" y="3009240"/>
                  <a:ext cx="443160" cy="442080"/>
                </a:xfrm>
                <a:prstGeom prst="ellipse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75800" y="3015720"/>
                  <a:ext cx="430200" cy="429120"/>
                </a:xfrm>
                <a:prstGeom prst="ellipse">
                  <a:avLst/>
                </a:prstGeom>
                <a:noFill/>
                <a:ln w="381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58600" y="3147480"/>
                  <a:ext cx="241560" cy="189000"/>
                </a:xfrm>
                <a:prstGeom prst="rect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72360" y="3123720"/>
                  <a:ext cx="907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1" i="1" lang="en-US" sz="1400" spc="-1" strike="noStrike">
                      <a:solidFill>
                        <a:srgbClr val="00279f"/>
                      </a:solidFill>
                      <a:latin typeface="Arial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69680" y="2363760"/>
                <a:ext cx="443160" cy="441720"/>
                <a:chOff x="7969680" y="2363760"/>
                <a:chExt cx="443160" cy="441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969680" y="2363760"/>
                  <a:ext cx="443160" cy="441720"/>
                </a:xfrm>
                <a:prstGeom prst="ellipse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76160" y="2370240"/>
                  <a:ext cx="430200" cy="429120"/>
                </a:xfrm>
                <a:prstGeom prst="ellipse">
                  <a:avLst/>
                </a:prstGeom>
                <a:noFill/>
                <a:ln w="381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46000" y="2503440"/>
                  <a:ext cx="266760" cy="189000"/>
                </a:xfrm>
                <a:prstGeom prst="rect">
                  <a:avLst/>
                </a:prstGeom>
                <a:solidFill>
                  <a:srgbClr val="c0f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180280" y="2478240"/>
                  <a:ext cx="997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1" i="1" lang="en-US" sz="1400" spc="-1" strike="noStrike">
                      <a:solidFill>
                        <a:srgbClr val="00279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3" name=""/>
            <p:cNvSpPr/>
            <p:nvPr/>
          </p:nvSpPr>
          <p:spPr>
            <a:xfrm>
              <a:off x="5799240" y="2670840"/>
              <a:ext cx="838800" cy="457920"/>
            </a:xfrm>
            <a:custGeom>
              <a:avLst/>
              <a:gdLst>
                <a:gd name="textAreaLeft" fmla="*/ 131040 w 838800"/>
                <a:gd name="textAreaRight" fmla="*/ 734040 w 838800"/>
                <a:gd name="textAreaTop" fmla="*/ 114480 h 457920"/>
                <a:gd name="textAreaBottom" fmla="*/ 343440 h 4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935840" y="2367000"/>
            <a:ext cx="533520" cy="457200"/>
            <a:chOff x="7935840" y="2367000"/>
            <a:chExt cx="533520" cy="457200"/>
          </a:xfrm>
        </p:grpSpPr>
        <p:sp>
          <p:nvSpPr>
            <p:cNvPr id="265" name=""/>
            <p:cNvSpPr/>
            <p:nvPr/>
          </p:nvSpPr>
          <p:spPr>
            <a:xfrm>
              <a:off x="7935840" y="2367000"/>
              <a:ext cx="5335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935840" y="2367000"/>
              <a:ext cx="5335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duction rul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014560" y="4013280"/>
            <a:ext cx="1133280" cy="2076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27040" y="1521000"/>
            <a:ext cx="4197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Comic Sans MS"/>
              </a:rPr>
              <a:t>Eliminate redundan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22400" y="2104920"/>
            <a:ext cx="604800" cy="1528560"/>
            <a:chOff x="2822400" y="2104920"/>
            <a:chExt cx="604800" cy="1528560"/>
          </a:xfrm>
        </p:grpSpPr>
        <p:grpSp>
          <p:nvGrpSpPr>
            <p:cNvPr id="271" name=""/>
            <p:cNvGrpSpPr/>
            <p:nvPr/>
          </p:nvGrpSpPr>
          <p:grpSpPr>
            <a:xfrm>
              <a:off x="3049920" y="2547000"/>
              <a:ext cx="1800" cy="492480"/>
              <a:chOff x="3049920" y="2547000"/>
              <a:chExt cx="1800" cy="492480"/>
            </a:xfrm>
          </p:grpSpPr>
          <p:sp>
            <p:nvSpPr>
              <p:cNvPr id="272" name=""/>
              <p:cNvSpPr/>
              <p:nvPr/>
            </p:nvSpPr>
            <p:spPr>
              <a:xfrm>
                <a:off x="3049920" y="2547000"/>
                <a:ext cx="1800" cy="13824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920" y="2748600"/>
                <a:ext cx="1800" cy="13824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49920" y="2950560"/>
                <a:ext cx="1800" cy="88920"/>
              </a:xfrm>
              <a:prstGeom prst="line">
                <a:avLst/>
              </a:prstGeom>
              <a:ln w="3816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202920" y="2534400"/>
              <a:ext cx="1440" cy="531360"/>
            </a:xfrm>
            <a:prstGeom prst="line">
              <a:avLst/>
            </a:prstGeom>
            <a:ln w="381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822400" y="3178800"/>
              <a:ext cx="316440" cy="454320"/>
              <a:chOff x="2822400" y="3178800"/>
              <a:chExt cx="316440" cy="454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024360" y="3178800"/>
                <a:ext cx="114480" cy="150840"/>
              </a:xfrm>
              <a:custGeom>
                <a:avLst/>
                <a:gdLst/>
                <a:ahLst/>
                <a:rect l="l" t="t" r="r" b="b"/>
                <a:pathLst>
                  <a:path w="72" h="95">
                    <a:moveTo>
                      <a:pt x="56" y="0"/>
                    </a:moveTo>
                    <a:lnTo>
                      <a:pt x="0" y="80"/>
                    </a:lnTo>
                    <a:lnTo>
                      <a:pt x="16" y="95"/>
                    </a:lnTo>
                    <a:lnTo>
                      <a:pt x="72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23920" y="3355200"/>
                <a:ext cx="100080" cy="152280"/>
              </a:xfrm>
              <a:custGeom>
                <a:avLst/>
                <a:gdLst/>
                <a:ahLst/>
                <a:rect l="l" t="t" r="r" b="b"/>
                <a:pathLst>
                  <a:path w="63" h="96">
                    <a:moveTo>
                      <a:pt x="47" y="0"/>
                    </a:moveTo>
                    <a:lnTo>
                      <a:pt x="0" y="80"/>
                    </a:lnTo>
                    <a:lnTo>
                      <a:pt x="16" y="96"/>
                    </a:lnTo>
                    <a:lnTo>
                      <a:pt x="63" y="1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22400" y="352044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56" h="71">
                    <a:moveTo>
                      <a:pt x="40" y="0"/>
                    </a:moveTo>
                    <a:lnTo>
                      <a:pt x="0" y="55"/>
                    </a:lnTo>
                    <a:lnTo>
                      <a:pt x="16" y="71"/>
                    </a:lnTo>
                    <a:lnTo>
                      <a:pt x="56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116880" y="3178800"/>
              <a:ext cx="307440" cy="454680"/>
            </a:xfrm>
            <a:prstGeom prst="line">
              <a:avLst/>
            </a:prstGeom>
            <a:ln w="50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1320" y="2976840"/>
              <a:ext cx="442800" cy="44208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440" y="2983320"/>
              <a:ext cx="430200" cy="42912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2920" y="3091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25640" y="2104920"/>
              <a:ext cx="307440" cy="45504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119760" y="2104920"/>
              <a:ext cx="307440" cy="45504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1320" y="2332440"/>
              <a:ext cx="442800" cy="442080"/>
            </a:xfrm>
            <a:prstGeom prst="ellipse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17440" y="2338920"/>
              <a:ext cx="430200" cy="429120"/>
            </a:xfrm>
            <a:prstGeom prst="ellipse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19400" y="2447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4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197240" y="2104920"/>
            <a:ext cx="2191680" cy="1528200"/>
            <a:chOff x="4197240" y="2104920"/>
            <a:chExt cx="2191680" cy="1528200"/>
          </a:xfrm>
        </p:grpSpPr>
        <p:grpSp>
          <p:nvGrpSpPr>
            <p:cNvPr id="290" name=""/>
            <p:cNvGrpSpPr/>
            <p:nvPr/>
          </p:nvGrpSpPr>
          <p:grpSpPr>
            <a:xfrm>
              <a:off x="5799600" y="2104920"/>
              <a:ext cx="589320" cy="1528200"/>
              <a:chOff x="5799600" y="2104920"/>
              <a:chExt cx="589320" cy="1528200"/>
            </a:xfrm>
          </p:grpSpPr>
          <p:sp>
            <p:nvSpPr>
              <p:cNvPr id="291" name=""/>
              <p:cNvSpPr/>
              <p:nvPr/>
            </p:nvSpPr>
            <p:spPr>
              <a:xfrm>
                <a:off x="5807520" y="2104920"/>
                <a:ext cx="297360" cy="1099080"/>
              </a:xfrm>
              <a:prstGeom prst="line">
                <a:avLst/>
              </a:prstGeom>
              <a:ln w="381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101640" y="2104920"/>
                <a:ext cx="284400" cy="1099080"/>
              </a:xfrm>
              <a:prstGeom prst="line">
                <a:avLst/>
              </a:prstGeom>
              <a:ln w="381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799600" y="3178440"/>
                <a:ext cx="316080" cy="454320"/>
                <a:chOff x="5799600" y="3178440"/>
                <a:chExt cx="316080" cy="454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001200" y="3178440"/>
                  <a:ext cx="114480" cy="150840"/>
                </a:xfrm>
                <a:custGeom>
                  <a:avLst/>
                  <a:gdLst/>
                  <a:ahLst/>
                  <a:rect l="l" t="t" r="r" b="b"/>
                  <a:pathLst>
                    <a:path w="72" h="95">
                      <a:moveTo>
                        <a:pt x="56" y="0"/>
                      </a:moveTo>
                      <a:lnTo>
                        <a:pt x="0" y="80"/>
                      </a:lnTo>
                      <a:lnTo>
                        <a:pt x="16" y="95"/>
                      </a:lnTo>
                      <a:lnTo>
                        <a:pt x="72" y="1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88520" y="3354840"/>
                  <a:ext cx="112680" cy="152280"/>
                </a:xfrm>
                <a:custGeom>
                  <a:avLst/>
                  <a:gdLst/>
                  <a:ahLst/>
                  <a:rect l="l" t="t" r="r" b="b"/>
                  <a:pathLst>
                    <a:path w="71" h="96">
                      <a:moveTo>
                        <a:pt x="55" y="0"/>
                      </a:moveTo>
                      <a:lnTo>
                        <a:pt x="0" y="80"/>
                      </a:lnTo>
                      <a:lnTo>
                        <a:pt x="16" y="96"/>
                      </a:lnTo>
                      <a:lnTo>
                        <a:pt x="71" y="16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99600" y="3520080"/>
                  <a:ext cx="88920" cy="112680"/>
                </a:xfrm>
                <a:custGeom>
                  <a:avLst/>
                  <a:gdLst/>
                  <a:ahLst/>
                  <a:rect l="l" t="t" r="r" b="b"/>
                  <a:pathLst>
                    <a:path w="56" h="71">
                      <a:moveTo>
                        <a:pt x="40" y="0"/>
                      </a:moveTo>
                      <a:lnTo>
                        <a:pt x="0" y="55"/>
                      </a:lnTo>
                      <a:lnTo>
                        <a:pt x="16" y="71"/>
                      </a:lnTo>
                      <a:lnTo>
                        <a:pt x="56" y="1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80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6095520" y="3178440"/>
                <a:ext cx="293400" cy="454680"/>
              </a:xfrm>
              <a:prstGeom prst="line">
                <a:avLst/>
              </a:prstGeom>
              <a:ln w="50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88520" y="2976480"/>
                <a:ext cx="441720" cy="442080"/>
              </a:xfrm>
              <a:prstGeom prst="ellipse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95000" y="2982960"/>
                <a:ext cx="429120" cy="429120"/>
              </a:xfrm>
              <a:prstGeom prst="ellipse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89760" y="309132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i="1" lang="en-US" sz="1400" spc="-1" strike="noStrike">
                    <a:solidFill>
                      <a:srgbClr val="00279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197240" y="2594880"/>
              <a:ext cx="839160" cy="457920"/>
            </a:xfrm>
            <a:custGeom>
              <a:avLst/>
              <a:gdLst>
                <a:gd name="textAreaLeft" fmla="*/ 131040 w 839160"/>
                <a:gd name="textAreaRight" fmla="*/ 734400 w 839160"/>
                <a:gd name="textAreaTop" fmla="*/ 114480 h 457920"/>
                <a:gd name="textAreaBottom" fmla="*/ 343440 h 4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121280" y="4013280"/>
            <a:ext cx="2766600" cy="2076120"/>
            <a:chOff x="4121280" y="4013280"/>
            <a:chExt cx="2766600" cy="207612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5754960" y="4013280"/>
              <a:ext cx="1132920" cy="20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121280" y="4962240"/>
              <a:ext cx="838800" cy="457560"/>
            </a:xfrm>
            <a:custGeom>
              <a:avLst/>
              <a:gdLst>
                <a:gd name="textAreaLeft" fmla="*/ 131040 w 838800"/>
                <a:gd name="textAreaRight" fmla="*/ 734040 w 838800"/>
                <a:gd name="textAreaTop" fmla="*/ 114480 h 457560"/>
                <a:gd name="textAreaBottom" fmla="*/ 343440 h 4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duction rul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573200" y="304920"/>
            <a:ext cx="2006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Comic Sans MS"/>
              </a:rPr>
              <a:t>Initi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70320" y="304920"/>
            <a:ext cx="2454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Comic Sans MS"/>
              </a:rPr>
              <a:t>Reduce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6840" y="3234960"/>
            <a:ext cx="8458200" cy="3089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onical representation of Boole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given variable ordering, two functions equivalent if and only if their graphs are isomorph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in linea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135840" y="747720"/>
            <a:ext cx="1133280" cy="2077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49360" y="760320"/>
            <a:ext cx="4381560" cy="2079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380360" y="914400"/>
            <a:ext cx="142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685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1981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0481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ystem model: state-transi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0481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ystem property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-safety v. weak v. strong fairness -logic v. spec v. monitor automata -linear v.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05320" y="2590920"/>
            <a:ext cx="22860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334120" y="2590920"/>
            <a:ext cx="30456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81120" y="1444680"/>
            <a:ext cx="3868560" cy="1321920"/>
            <a:chOff x="681120" y="1444680"/>
            <a:chExt cx="3868560" cy="1321920"/>
          </a:xfrm>
        </p:grpSpPr>
        <p:sp>
          <p:nvSpPr>
            <p:cNvPr id="313" name=""/>
            <p:cNvSpPr/>
            <p:nvPr/>
          </p:nvSpPr>
          <p:spPr>
            <a:xfrm>
              <a:off x="681120" y="1444680"/>
              <a:ext cx="183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omic Sans MS"/>
                </a:rPr>
                <a:t>Const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0720" y="2003760"/>
              <a:ext cx="3288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ique unsatisfiable 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44880" y="2449080"/>
              <a:ext cx="19965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ique tau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820800" y="2396160"/>
              <a:ext cx="368640" cy="3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820800" y="1914840"/>
              <a:ext cx="368640" cy="37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4813200" y="1444680"/>
            <a:ext cx="2837520" cy="1450440"/>
            <a:chOff x="4813200" y="1444680"/>
            <a:chExt cx="2837520" cy="1450440"/>
          </a:xfrm>
        </p:grpSpPr>
        <p:sp>
          <p:nvSpPr>
            <p:cNvPr id="319" name=""/>
            <p:cNvSpPr/>
            <p:nvPr/>
          </p:nvSpPr>
          <p:spPr>
            <a:xfrm>
              <a:off x="4954320" y="1444680"/>
              <a:ext cx="1677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omic Sans MS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7280" y="2156400"/>
              <a:ext cx="1603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eat 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s 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4813200" y="1965600"/>
              <a:ext cx="1133640" cy="92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954680" y="3124080"/>
            <a:ext cx="3396240" cy="3106440"/>
            <a:chOff x="4954680" y="3124080"/>
            <a:chExt cx="3396240" cy="3106440"/>
          </a:xfrm>
        </p:grpSpPr>
        <p:sp>
          <p:nvSpPr>
            <p:cNvPr id="323" name=""/>
            <p:cNvSpPr/>
            <p:nvPr/>
          </p:nvSpPr>
          <p:spPr>
            <a:xfrm>
              <a:off x="4954680" y="3124080"/>
              <a:ext cx="19058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omic Sans MS"/>
                </a:rPr>
                <a:t>Odd p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21120" y="4217760"/>
              <a:ext cx="1729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4"/>
            <a:stretch/>
          </p:blipFill>
          <p:spPr>
            <a:xfrm>
              <a:off x="4991400" y="3567240"/>
              <a:ext cx="1133280" cy="266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"/>
          <p:cNvGrpSpPr/>
          <p:nvPr/>
        </p:nvGrpSpPr>
        <p:grpSpPr>
          <a:xfrm>
            <a:off x="604800" y="3124080"/>
            <a:ext cx="4130280" cy="3106440"/>
            <a:chOff x="604800" y="3124080"/>
            <a:chExt cx="4130280" cy="3106440"/>
          </a:xfrm>
        </p:grpSpPr>
        <p:sp>
          <p:nvSpPr>
            <p:cNvPr id="327" name=""/>
            <p:cNvSpPr/>
            <p:nvPr/>
          </p:nvSpPr>
          <p:spPr>
            <a:xfrm>
              <a:off x="680760" y="3124080"/>
              <a:ext cx="28990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omic Sans MS"/>
                </a:rPr>
                <a:t>Typical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604800" y="3567240"/>
              <a:ext cx="1323720" cy="26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661400" y="3646800"/>
              <a:ext cx="307368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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x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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x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)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x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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 vertex label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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dependent 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SzPct val="80000"/>
                <a:buFont typeface="Wingdings" charset="2"/>
                <a:buChar char="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ny subgraphs sha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230840" y="1687680"/>
            <a:ext cx="2238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87160" y="1687680"/>
            <a:ext cx="2016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52520" y="2127240"/>
            <a:ext cx="1712880" cy="4182480"/>
            <a:chOff x="1352520" y="2127240"/>
            <a:chExt cx="1712880" cy="4182480"/>
          </a:xfrm>
        </p:grpSpPr>
        <p:sp>
          <p:nvSpPr>
            <p:cNvPr id="334" name=""/>
            <p:cNvSpPr/>
            <p:nvPr/>
          </p:nvSpPr>
          <p:spPr>
            <a:xfrm>
              <a:off x="1427040" y="6025320"/>
              <a:ext cx="1638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ear grow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1352520" y="2127240"/>
              <a:ext cx="1706400" cy="381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4456080" y="2127240"/>
            <a:ext cx="3425400" cy="4182480"/>
            <a:chOff x="4456080" y="2127240"/>
            <a:chExt cx="3425400" cy="4182480"/>
          </a:xfrm>
        </p:grpSpPr>
        <p:sp>
          <p:nvSpPr>
            <p:cNvPr id="337" name=""/>
            <p:cNvSpPr/>
            <p:nvPr/>
          </p:nvSpPr>
          <p:spPr>
            <a:xfrm>
              <a:off x="5079600" y="6025320"/>
              <a:ext cx="2232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onential grow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4456080" y="2127240"/>
              <a:ext cx="3425400" cy="38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 of variable or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42560" y="1189080"/>
            <a:ext cx="370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t-serial computer ana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9440" y="3276720"/>
            <a:ext cx="7759800" cy="2712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inputs in sequence; produce 0 or 1 as function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information about previous inputs to correctly deduce function value from remaining in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 to BD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 requires K bits of memory at step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DD has ~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anches crossing level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711520" y="1722600"/>
            <a:ext cx="37335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150920" y="3289320"/>
            <a:ext cx="2575440" cy="522360"/>
            <a:chOff x="1150920" y="3289320"/>
            <a:chExt cx="2575440" cy="522360"/>
          </a:xfrm>
        </p:grpSpPr>
        <p:sp>
          <p:nvSpPr>
            <p:cNvPr id="345" name=""/>
            <p:cNvSpPr/>
            <p:nvPr/>
          </p:nvSpPr>
          <p:spPr>
            <a:xfrm>
              <a:off x="1150920" y="3811680"/>
              <a:ext cx="249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4880" y="3289320"/>
              <a:ext cx="681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406760" y="3289320"/>
            <a:ext cx="4068720" cy="522360"/>
            <a:chOff x="4406760" y="3289320"/>
            <a:chExt cx="4068720" cy="522360"/>
          </a:xfrm>
        </p:grpSpPr>
        <p:sp>
          <p:nvSpPr>
            <p:cNvPr id="348" name=""/>
            <p:cNvSpPr/>
            <p:nvPr/>
          </p:nvSpPr>
          <p:spPr>
            <a:xfrm flipH="1">
              <a:off x="4406760" y="3811680"/>
              <a:ext cx="40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4920" y="3289320"/>
              <a:ext cx="6951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</a:rPr>
                <a:t>K 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=</a:t>
              </a: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</a:rPr>
                <a:t>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352520" y="2203560"/>
            <a:ext cx="1706760" cy="3811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456080" y="2203560"/>
            <a:ext cx="3425760" cy="3811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842560" y="762120"/>
            <a:ext cx="370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30840" y="1687680"/>
            <a:ext cx="2238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87160" y="1687680"/>
            <a:ext cx="2016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ynamic variable reor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ented by Richard Rudell, Synop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iodically attempt to improve ordering for all BD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garbage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each variable through ordering to find its bes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proved very success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6486480" y="2172240"/>
            <a:ext cx="380880" cy="538920"/>
            <a:chOff x="6486480" y="2172240"/>
            <a:chExt cx="380880" cy="538920"/>
          </a:xfrm>
        </p:grpSpPr>
        <p:sp>
          <p:nvSpPr>
            <p:cNvPr id="358" name=""/>
            <p:cNvSpPr/>
            <p:nvPr/>
          </p:nvSpPr>
          <p:spPr>
            <a:xfrm>
              <a:off x="6486480" y="21747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6480" y="2708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60280" y="2172240"/>
              <a:ext cx="15480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86480" y="2935800"/>
            <a:ext cx="380880" cy="538920"/>
            <a:chOff x="6486480" y="2935800"/>
            <a:chExt cx="380880" cy="538920"/>
          </a:xfrm>
        </p:grpSpPr>
        <p:sp>
          <p:nvSpPr>
            <p:cNvPr id="362" name=""/>
            <p:cNvSpPr/>
            <p:nvPr/>
          </p:nvSpPr>
          <p:spPr>
            <a:xfrm>
              <a:off x="6486480" y="293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86480" y="3471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60280" y="2935800"/>
              <a:ext cx="15480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wer bound for multiplication (Bryant 199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02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er multipl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it input word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it output wor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dle bit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) of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onential BDD for all possible variable ord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70640" y="2095560"/>
            <a:ext cx="909360" cy="1449360"/>
          </a:xfrm>
          <a:prstGeom prst="rect">
            <a:avLst/>
          </a:prstGeom>
          <a:solidFill>
            <a:srgbClr val="fcfeb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189400" y="2169000"/>
            <a:ext cx="381240" cy="538920"/>
            <a:chOff x="5189400" y="2169000"/>
            <a:chExt cx="381240" cy="538920"/>
          </a:xfrm>
        </p:grpSpPr>
        <p:sp>
          <p:nvSpPr>
            <p:cNvPr id="369" name=""/>
            <p:cNvSpPr/>
            <p:nvPr/>
          </p:nvSpPr>
          <p:spPr>
            <a:xfrm>
              <a:off x="5189400" y="21715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9400" y="27050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63920" y="2169000"/>
              <a:ext cx="15480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9400" y="2935800"/>
            <a:ext cx="381240" cy="538920"/>
            <a:chOff x="5189400" y="2935800"/>
            <a:chExt cx="381240" cy="538920"/>
          </a:xfrm>
        </p:grpSpPr>
        <p:sp>
          <p:nvSpPr>
            <p:cNvPr id="373" name=""/>
            <p:cNvSpPr/>
            <p:nvPr/>
          </p:nvSpPr>
          <p:spPr>
            <a:xfrm>
              <a:off x="5189400" y="29383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9400" y="3471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63920" y="2935800"/>
              <a:ext cx="15480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807080" y="3300840"/>
            <a:ext cx="43632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7080" y="2765880"/>
            <a:ext cx="5000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7080" y="2537280"/>
            <a:ext cx="43632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7080" y="2003040"/>
            <a:ext cx="5000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67360" y="3300840"/>
            <a:ext cx="4352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67360" y="2765880"/>
            <a:ext cx="4986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67360" y="2537280"/>
            <a:ext cx="4352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67360" y="2003040"/>
            <a:ext cx="4986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970440"/>
            <a:ext cx="4495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u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624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,563,945 BDD nodes to represent all outputs of 16-bit 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624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ws 2.86x per bit of wor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172280" y="2781360"/>
            <a:ext cx="687600" cy="154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9360" y="2172960"/>
            <a:ext cx="11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ra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DD operation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2360" y="262080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4120" y="364968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0240" y="364968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79240" y="26971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727440" y="315432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65520" y="315432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32440" y="21636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96360" y="3382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34040" y="3382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9800" y="2133720"/>
            <a:ext cx="16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.var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.false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.true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31840" y="200808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DD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3440" y="4619520"/>
            <a:ext cx="77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BDD manager maintains a directed acyclic grap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DD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te(x,a,b) returns a node with variable x, left child 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right child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66720" y="1523880"/>
            <a:ext cx="79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false)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true) retur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b = true) retur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b) retur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.var &lt; b.v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a.var, and(a.false,b), and(a.true,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b.var &lt; a.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b.var, and(a,b.false), and(a,b.tru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a.var = b.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a.var, and(a.false,b.false), and(a.true,b.tru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74600" y="71604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(a,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5720" y="563868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O(|a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b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860280" y="4064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81840" y="1722600"/>
            <a:ext cx="58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true)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false) retur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a.var, not(a.false), not(a.tru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71880" y="38862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O(|a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928600" y="482760"/>
            <a:ext cx="29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factor(a,x,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6880" y="1722600"/>
            <a:ext cx="576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x &lt; a.var) retur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x &gt; a.v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a.var, cofactor(a.false,x,b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factor(a.true,x,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x = a.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a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a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43360" y="5638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O(|a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2743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Algorithms = Grap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37200" y="2209680"/>
            <a:ext cx="82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ons returning B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(a,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t(and(not(a),not(b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s(a,x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(cofactor(a,x,false), cofactor(a,x,tru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all(a,x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(cofactor(a,x,false), cofactor(a,x,tru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0800" y="4008600"/>
            <a:ext cx="50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ons returning bool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(a,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(not(a),b) =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(a,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 =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185640" y="37800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e(a,x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8240" y="1341360"/>
            <a:ext cx="567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is independent o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x and y are adjacent in variabl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37280" y="3246480"/>
            <a:ext cx="592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= 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= false) retur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.var &gt; x) retur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.var &lt; 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ite(a.var, substitute(a.false,x,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titute(a.true,x,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.var = x) return ite(y,a.false,a.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mbolic reachability analysis with BD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15520" y="1295280"/>
            <a:ext cx="5420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ctor of state variables: 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 predicate: I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: T(X,X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 predicate: E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9000" y="3429000"/>
            <a:ext cx="495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) = I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(X) = R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’) = exists(and(S(X),T(X,X’)),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) = substitute(R(X’),X’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) = or(R(X),S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while (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320" y="2895480"/>
            <a:ext cx="87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variant: For each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nd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’ are adjacent in variabl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1066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8600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labeled graph  (Q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, [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each node access and edge access has uni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  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Q| = n  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= m  ... 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and s.c.c.s:   O(m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838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aph-Algorithmic View is Probl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438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05120"/>
            <a:ext cx="8001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The graph is given implicitly (by a program) not explicitly (e.g., by adjacency lis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Building an explicit graph representation is exponential, but usually unnecessary (“on-the-fly” algorithm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The explicit graph representation may be so big, that the “unit-cost model” is not real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 class of algorithms, called “symbolic algorithms”, do not operate on nodes and edges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c Model-Check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133720"/>
            <a:ext cx="80010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 “symbolic theory”, that is, an abstract data type call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following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, pos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 :  reg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\ :  reg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= :  reg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&gt;,  &gt; &lt; :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 : 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838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ded Meaning of Symbolic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64767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\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=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a&gt;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[q] = a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a&lt;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[q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(R)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(R)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(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 (R)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 (R) = {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|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)(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7621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state of a system is given by variables of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the transitions of the system can be described by operation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Vals, then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-order the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Vals, Op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adequate symbol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971800"/>
            <a:ext cx="8686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ula of FO (Vals, O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\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=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(R(X))     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’)( Trans(X,X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(X’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 (R(X))   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’)( Trans(X,X’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(X’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 (R(X))    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”)( R(X”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ans(X”,X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 (R(X))   =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”)( Trans(X”,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(X’’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6:51:23Z</dcterms:created>
  <dc:creator>tah</dc:creator>
  <dc:description/>
  <dc:language>en-US</dc:language>
  <cp:lastModifiedBy>qadeer</cp:lastModifiedBy>
  <dcterms:modified xsi:type="dcterms:W3CDTF">2006-04-19T03:54:15Z</dcterms:modified>
  <cp:revision>156</cp:revision>
  <dc:subject/>
  <dc:title>PowerPoint Presentation</dc:title>
</cp:coreProperties>
</file>