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3FD2-1C6E-45A1-8DD9-35A94A315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689B-35FE-43E3-A58F-9DAE5398C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1C53-D2FB-41D2-A43B-88636BC3E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8492-4440-4510-86D5-4777ED158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6281-8F83-4807-B09F-3357B908A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DA3C-CDBA-4500-8321-53EA35397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5E1F-6F5B-4469-99C5-7EE603AA7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1200-2BD7-4D95-BC55-F8A8C53C9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B894-085D-4D9F-BC52-38BECE7CD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03E1-2F73-49FC-92AE-A47B880C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2AA7-2FE7-4293-B86E-46A5984F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8A31-3EB4-4DEF-B26A-35BDA6BD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7F943-587D-4F4B-9239-F356D3F40A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1676520"/>
            <a:ext cx="6858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odel Check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ecture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81080" y="259092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143000" y="274320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-Checking Algorithms = Grap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80880" y="457200"/>
            <a:ext cx="853452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afety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solve: finite monitors (</a:t>
            </a: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mptin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algorithm: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eachability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line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iven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solve: Buchi monitors  (</a:t>
            </a: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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mptin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algorithm: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rongly connected componen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line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80920" y="4389480"/>
            <a:ext cx="767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will talk about STL and CTL model checking l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80880" y="1143000"/>
            <a:ext cx="8382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om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pecification automat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o monitor automa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terminizatio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exponential) + complementation (eas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2971800"/>
            <a:ext cx="8686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om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T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o monitor automa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lementation (easy) +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tableau constructio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exponent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676520" y="76212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1828800"/>
            <a:ext cx="5486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ch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rongly connected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bleau co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371600" y="9907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ite Empt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2362320"/>
            <a:ext cx="861048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n:  finite automaton (S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808080"/>
                </a:solidFill>
                <a:latin typeface="Comic Sans MS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re a path from a state in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o a state in FA ?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523880" y="19810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x a set A of atomic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676520" y="14479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-transition graph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2743200"/>
            <a:ext cx="8229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t of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ition 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 ]: Q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serva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286000" y="8380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nitor automaton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74880" y="1752480"/>
            <a:ext cx="7467480" cy="36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ite set of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t of initi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ition 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t of fin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L(A)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re the formulas of PL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:=  a |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|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for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625400" y="749160"/>
            <a:ext cx="566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K,q)  |=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M        iff      L(K,q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L(M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4280" y="1298520"/>
            <a:ext cx="800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construct another monitor automaton M’ such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(M’) =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(K,q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L(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286000"/>
            <a:ext cx="8305560" cy="42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’ = {(q,s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 | [q] |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s)}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ite set of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{q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’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t of initi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q,s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q’,s’)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ition 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f  q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’ and 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Q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t of fin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S’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L(A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beling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q,s) = conjunction of atomic observations in [q] and   negated atomic observations not in [q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58360" y="152280"/>
            <a:ext cx="415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nguages over finite tr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5486040" y="533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5880" y="533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71600" y="9907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ite Empt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2362320"/>
            <a:ext cx="861048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n:  monitor automaton (S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808080"/>
                </a:solidFill>
                <a:latin typeface="Comic Sans MS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re a path from a state in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o a state in E ?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43434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lution:  depth-first or breadth-first sear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0" y="8380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ecification Autom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43000" y="19051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ntax, given a set A of atomic observ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2895480"/>
            <a:ext cx="7467480" cy="36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ite set of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t of initi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ition 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L(A)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re the formulas of PL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:=   a  |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|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506680" y="1832040"/>
            <a:ext cx="4514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fs(s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(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) then report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 s to dfs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each successor t of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(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fsTable) then dfs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371600" y="9907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chi Empt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2057400"/>
            <a:ext cx="8381880" cy="18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n:  Buchi automaton (S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808080"/>
                </a:solidFill>
                <a:latin typeface="Comic Sans MS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re an infinite path from a state in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ha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visits some state in BA infinitely often ?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286000" y="8380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nitor Buchi automaton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74880" y="1752480"/>
            <a:ext cx="7467480" cy="36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ite set of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t of initi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ition 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ceptance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L(A)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re the formulas of PL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:=  a |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|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for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701720" y="762120"/>
            <a:ext cx="566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K,q)  |=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M        iff      L(K,q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L(M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27120" y="131112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construct another monitor Buchi automaton M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L(M’) =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(K,q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L(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2286000"/>
            <a:ext cx="8305920" cy="42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’ = {(q,s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 | [q] |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s)}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ite set of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{q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’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t of initi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q,s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q’,s’)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ition 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f  q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’ and 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Q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A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ceptance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S’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L(A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beling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q,s) = conjunction of atomic observations in [q] and   negated atomic observations not in [q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147200" y="152280"/>
            <a:ext cx="442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nguages over infinite tr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5486040" y="533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533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71600" y="9907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chi Empt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2057400"/>
            <a:ext cx="8381880" cy="18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n:  Buchi automaton (S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808080"/>
                </a:solidFill>
                <a:latin typeface="Comic Sans MS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re an infinite path from a state in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ha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visits some state in BA infinitely often ?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4267080"/>
            <a:ext cx="883908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lution: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 Compute SCC graph by depth-first sear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 Mark SCC C as fair iff  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A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 Check if some fair SCC is reachable from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828800" y="106668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lex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228600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umber of stat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umber of transition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28800" y="4038480"/>
            <a:ext cx="5105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chability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(n+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C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(n+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chi empti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wo algorithms for SCC comput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ward and backward DF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ward HI-LO algorith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oring SCCs requires lot of memo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ested DF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ecks Buchi emptiness without explicitly computing SCC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976040" y="723960"/>
            <a:ext cx="557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fs(s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 s to dfs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each successor t of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(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fsTable) then dfs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(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A) then { seed := s; ndfs(s)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dfs(s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 s to ndfs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each successor t of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(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dfsTable) then ndfs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se if (t = seed) then report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371600" y="9907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lti-Buchi Empt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2057400"/>
            <a:ext cx="8381880" cy="18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n:  Multi-Buchi automaton (S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808080"/>
                </a:solidFill>
                <a:latin typeface="Comic Sans MS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…, B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re an infinite path from a state in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ha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finitely often visits some state in B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or all i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 ?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4267080"/>
            <a:ext cx="8839080" cy="20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lution: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 Compute SCC graph by depth-first sear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 Mark SCC C as fair iff  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or all i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such that 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 Check if some fair SCC is reachable from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295280" y="11430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bleau Co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2514600"/>
            <a:ext cx="838188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n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TL formula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: Multi-Buchi automaton 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such that  L(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= L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95280" y="51814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Fischer &amp; Ladner 1975; Manna &amp; Wolper 198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86200" y="42670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nitors subformulas of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4876920" y="3580920"/>
            <a:ext cx="0" cy="6858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0" y="8380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ecification Omega Autom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198108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ntax as for finite automata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in addition the following acceptance condi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3809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35812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chi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023840" y="4572000"/>
            <a:ext cx="71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::= a |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|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|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| </a:t>
            </a: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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|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U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|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71440" y="2209680"/>
            <a:ext cx="500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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U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U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egation normal for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600200" y="129528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23880" y="68580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scher-Ladner Closure of a Form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1600200"/>
            <a:ext cx="84582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b (a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 a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b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 a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b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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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b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b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b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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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b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b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b (</a:t>
            </a: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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 </a:t>
            </a: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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b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b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b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b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b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b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b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933640" y="56386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| Sub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|  =  O(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|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447920" y="228600"/>
            <a:ext cx="6476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b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 i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onsis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1219320"/>
            <a:ext cx="739116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for all atomic propositions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  iff  a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if 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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b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 the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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  iff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  and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if 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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b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 the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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  iff  either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 or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if 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b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 the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  iff  either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or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  and  </a:t>
            </a:r>
            <a:r>
              <a:rPr b="0" lang="en-US" sz="2400" spc="-1" strike="noStrike">
                <a:solidFill>
                  <a:srgbClr val="3333cc"/>
                </a:solidFill>
                <a:latin typeface="Wingdings 2"/>
                <a:ea typeface="Wingdings 2"/>
              </a:rPr>
              <a:t>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if 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b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 the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W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  iff  either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or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  and  </a:t>
            </a:r>
            <a:r>
              <a:rPr b="0" lang="en-US" sz="2400" spc="-1" strike="noStrike">
                <a:solidFill>
                  <a:srgbClr val="3333cc"/>
                </a:solidFill>
                <a:latin typeface="Wingdings 2"/>
                <a:ea typeface="Wingdings 2"/>
              </a:rPr>
              <a:t>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W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600200" y="129528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00200" y="13716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scher-Ladner Closure of a Form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2438280"/>
            <a:ext cx="8458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b (</a:t>
            </a: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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b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b (</a:t>
            </a: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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b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447920" y="1523880"/>
            <a:ext cx="64767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b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 i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onsis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52480" y="289548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if  (</a:t>
            </a: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b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 the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Wingdings 2"/>
                <a:ea typeface="Wingdings 2"/>
              </a:rPr>
              <a:t>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  iff  either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 or </a:t>
            </a:r>
            <a:r>
              <a:rPr b="0" lang="en-US" sz="2400" spc="-1" strike="noStrike">
                <a:solidFill>
                  <a:srgbClr val="3333cc"/>
                </a:solidFill>
                <a:latin typeface="Wingdings 2"/>
                <a:ea typeface="Wingdings 2"/>
              </a:rPr>
              <a:t>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if  (</a:t>
            </a: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b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 the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Wingdings 2"/>
                <a:ea typeface="Wingdings 2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  iff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 and </a:t>
            </a:r>
            <a:r>
              <a:rPr b="0" lang="en-US" sz="2400" spc="-1" strike="noStrike">
                <a:solidFill>
                  <a:srgbClr val="3333cc"/>
                </a:solidFill>
                <a:latin typeface="Wingdings 2"/>
                <a:ea typeface="Wingdings 2"/>
              </a:rPr>
              <a:t>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523880" y="447840"/>
            <a:ext cx="579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bleau 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(S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B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…,B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1066680"/>
            <a:ext cx="7162560" cy="57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  ..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t of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nsist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bsets of  Sub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f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   iff  for all (</a:t>
            </a: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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b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,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f (</a:t>
            </a:r>
            <a:r>
              <a:rPr b="0" lang="en-US" sz="2400" spc="-1" strike="noStrike">
                <a:solidFill>
                  <a:srgbClr val="3333cc"/>
                </a:solidFill>
                <a:latin typeface="Wingdings 2"/>
                <a:ea typeface="Wingdings 2"/>
              </a:rPr>
              <a:t>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  then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s) ...  conjunction of atomic observations in 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and negated atomic observations not in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is an acceptance condi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for each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b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given by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{ s |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  or  (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for each (</a:t>
            </a: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b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given by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{ s |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  or  (</a:t>
            </a:r>
            <a:r>
              <a:rPr b="0" lang="en-US" sz="2400" spc="-1" strike="noStrike">
                <a:solidFill>
                  <a:srgbClr val="3333cc"/>
                </a:solidFill>
                <a:latin typeface="Wingdings 2"/>
                <a:ea typeface="Wingdings 2"/>
              </a:rPr>
              <a:t>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743200" y="2133720"/>
            <a:ext cx="3733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ze of 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 O(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|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23880" y="36576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TL model checking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SPACE-comp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90720" y="1066680"/>
            <a:ext cx="716256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nguage L(M) of specification omega-automat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 = (S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BA )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43000" y="2743200"/>
            <a:ext cx="6858000" cy="34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finite trace 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..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L(M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exists an infinite run 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...  of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...  satisfies 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for all  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0,  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|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295280" y="1066680"/>
            <a:ext cx="685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  Inf(s) = { p | p =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for infinitely many i }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2133720"/>
            <a:ext cx="8534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infinite run  s  satisfies the acceptance condition 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f(s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828800" y="3429000"/>
            <a:ext cx="5486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K,q)  |=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M        iff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(K,q)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L(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1447920"/>
            <a:ext cx="7620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near semantics of specification omega automa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mega-language contai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48006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finite tr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91320" y="3962520"/>
            <a:ext cx="0" cy="76176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553080" y="3962520"/>
            <a:ext cx="76320" cy="7617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600200" y="838080"/>
            <a:ext cx="6248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ponse specification automato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)   assuming  (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) =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00400" y="25146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05520" y="25146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40384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05520" y="40384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2743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8148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81480" y="4191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76720" y="4267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3124080"/>
            <a:ext cx="121932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3885840" y="3276360"/>
            <a:ext cx="1219320" cy="99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14800" y="28954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62720" y="33526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4114800" y="44956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3657600" y="33523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43200" y="44197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743200" y="28954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91320" y="2171880"/>
            <a:ext cx="622080" cy="749160"/>
          </a:xfrm>
          <a:custGeom>
            <a:avLst/>
            <a:gdLst/>
            <a:ahLst/>
            <a:rect l="l" t="t" r="r" b="b"/>
            <a:pathLst>
              <a:path w="392" h="472">
                <a:moveTo>
                  <a:pt x="0" y="264"/>
                </a:moveTo>
                <a:cubicBezTo>
                  <a:pt x="16" y="132"/>
                  <a:pt x="32" y="0"/>
                  <a:pt x="96" y="24"/>
                </a:cubicBezTo>
                <a:cubicBezTo>
                  <a:pt x="160" y="48"/>
                  <a:pt x="376" y="344"/>
                  <a:pt x="384" y="408"/>
                </a:cubicBezTo>
                <a:cubicBezTo>
                  <a:pt x="392" y="472"/>
                  <a:pt x="268" y="440"/>
                  <a:pt x="144" y="4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162240" y="4800600"/>
            <a:ext cx="1117800" cy="444600"/>
          </a:xfrm>
          <a:custGeom>
            <a:avLst/>
            <a:gdLst/>
            <a:ahLst/>
            <a:rect l="l" t="t" r="r" b="b"/>
            <a:pathLst>
              <a:path w="704" h="280">
                <a:moveTo>
                  <a:pt x="408" y="0"/>
                </a:moveTo>
                <a:cubicBezTo>
                  <a:pt x="556" y="100"/>
                  <a:pt x="704" y="200"/>
                  <a:pt x="648" y="240"/>
                </a:cubicBezTo>
                <a:cubicBezTo>
                  <a:pt x="592" y="280"/>
                  <a:pt x="144" y="272"/>
                  <a:pt x="72" y="240"/>
                </a:cubicBezTo>
                <a:cubicBezTo>
                  <a:pt x="0" y="208"/>
                  <a:pt x="108" y="128"/>
                  <a:pt x="216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95480" y="21337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67280" y="31240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91320" y="46483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95480" y="36576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5638680"/>
            <a:ext cx="4952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chi condition  {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600200" y="838080"/>
            <a:ext cx="6248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ponse monitor automato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)   assuming  (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) =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304812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38480" y="31240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91120" y="3276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19920" y="32767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8120" y="350532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00200" y="35053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8459000">
            <a:off x="6006960" y="2527200"/>
            <a:ext cx="622080" cy="749160"/>
          </a:xfrm>
          <a:custGeom>
            <a:avLst/>
            <a:gdLst/>
            <a:ahLst/>
            <a:rect l="l" t="t" r="r" b="b"/>
            <a:pathLst>
              <a:path w="392" h="472">
                <a:moveTo>
                  <a:pt x="0" y="264"/>
                </a:moveTo>
                <a:cubicBezTo>
                  <a:pt x="16" y="132"/>
                  <a:pt x="32" y="0"/>
                  <a:pt x="96" y="24"/>
                </a:cubicBezTo>
                <a:cubicBezTo>
                  <a:pt x="160" y="48"/>
                  <a:pt x="376" y="344"/>
                  <a:pt x="384" y="408"/>
                </a:cubicBezTo>
                <a:cubicBezTo>
                  <a:pt x="392" y="472"/>
                  <a:pt x="268" y="440"/>
                  <a:pt x="144" y="4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724280" y="38098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553080" y="38098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81080" y="4952880"/>
            <a:ext cx="4953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chi condition  {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43600" y="31240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952880" y="350532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9520" y="37339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09680" y="3276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8459000">
            <a:off x="2273040" y="2450520"/>
            <a:ext cx="622440" cy="749520"/>
          </a:xfrm>
          <a:custGeom>
            <a:avLst/>
            <a:gdLst/>
            <a:ahLst/>
            <a:rect l="l" t="t" r="r" b="b"/>
            <a:pathLst>
              <a:path w="392" h="472">
                <a:moveTo>
                  <a:pt x="0" y="264"/>
                </a:moveTo>
                <a:cubicBezTo>
                  <a:pt x="16" y="132"/>
                  <a:pt x="32" y="0"/>
                  <a:pt x="96" y="24"/>
                </a:cubicBezTo>
                <a:cubicBezTo>
                  <a:pt x="160" y="48"/>
                  <a:pt x="376" y="344"/>
                  <a:pt x="384" y="408"/>
                </a:cubicBezTo>
                <a:cubicBezTo>
                  <a:pt x="392" y="472"/>
                  <a:pt x="268" y="440"/>
                  <a:pt x="144" y="4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19720" y="25909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066680" y="9144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81080" y="259092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1905120"/>
            <a:ext cx="76960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  Specifications: logic vs. automata, linear vs. branching, safety vs. liv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Graph algorithms for model che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mbolic algorithms for model check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ushdown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8T06:51:23Z</dcterms:created>
  <dc:creator>tah</dc:creator>
  <dc:description/>
  <dc:language>en-US</dc:language>
  <cp:lastModifiedBy>qadeer</cp:lastModifiedBy>
  <dcterms:modified xsi:type="dcterms:W3CDTF">2006-04-20T17:45:03Z</dcterms:modified>
  <cp:revision>195</cp:revision>
  <dc:subject/>
  <dc:title>PowerPoint Presentation</dc:title>
</cp:coreProperties>
</file>