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352-B75E-4D9D-849B-7C878694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731-B02F-4E0C-BF13-991CC632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73E-A4D3-4027-8953-F8423472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644-CB7C-422F-8D97-33B646CF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1ED-DF74-4C71-926F-121076B9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5B9-29D2-4F57-A4C8-FE17346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A05-2E06-46E5-81A0-05394E12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39A-A068-4E0B-93C9-39B10CB7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F27-324F-4068-B64D-53EEC98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318-E82B-4684-AE39-DB7822CB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812-CD07-4CC9-A049-695A026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2EE-C162-41FB-9970-585B564E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C0D-348F-488E-A747-862157EDA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67652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ctu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0920" y="1295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ary of mod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U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all of the above 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W 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U   W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371600"/>
            <a:ext cx="86104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ri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a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pc1=in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c2=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ing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W b W c W d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c1=req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c2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) W (pc2=in) W (pc2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) W (pc1=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a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b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pc1=req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pc1=i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0" y="1447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ed mod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04812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ly often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always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14600" y="2895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did fairness g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106668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in CTL, fairness can be expressed in LT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there is no need for fairness in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819520"/>
            <a:ext cx="6933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 (Buchi) fairn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enabled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aken 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enabled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ta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(Streett) fairn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nabled )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(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ake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8108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vation freedom, cor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2720" y="2971800"/>
            <a:ext cx="4449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pc2=in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(pc2=out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pc1=req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pc1=i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0968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cannot express fai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7432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952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9528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5181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43280" y="5410080"/>
            <a:ext cx="1206360" cy="444600"/>
          </a:xfrm>
          <a:custGeom>
            <a:avLst/>
            <a:gdLst/>
            <a:ahLst/>
            <a:rect l="l" t="t" r="r" b="b"/>
            <a:pathLst>
              <a:path w="760" h="280">
                <a:moveTo>
                  <a:pt x="264" y="0"/>
                </a:moveTo>
                <a:cubicBezTo>
                  <a:pt x="132" y="100"/>
                  <a:pt x="0" y="200"/>
                  <a:pt x="72" y="240"/>
                </a:cubicBezTo>
                <a:cubicBezTo>
                  <a:pt x="144" y="280"/>
                  <a:pt x="632" y="280"/>
                  <a:pt x="696" y="240"/>
                </a:cubicBezTo>
                <a:cubicBezTo>
                  <a:pt x="760" y="200"/>
                  <a:pt x="608" y="100"/>
                  <a:pt x="4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4952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1814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410080"/>
            <a:ext cx="1206360" cy="444600"/>
          </a:xfrm>
          <a:custGeom>
            <a:avLst/>
            <a:gdLst/>
            <a:ahLst/>
            <a:rect l="l" t="t" r="r" b="b"/>
            <a:pathLst>
              <a:path w="760" h="280">
                <a:moveTo>
                  <a:pt x="264" y="0"/>
                </a:moveTo>
                <a:cubicBezTo>
                  <a:pt x="132" y="100"/>
                  <a:pt x="0" y="200"/>
                  <a:pt x="72" y="240"/>
                </a:cubicBezTo>
                <a:cubicBezTo>
                  <a:pt x="144" y="280"/>
                  <a:pt x="632" y="280"/>
                  <a:pt x="696" y="240"/>
                </a:cubicBezTo>
                <a:cubicBezTo>
                  <a:pt x="760" y="200"/>
                  <a:pt x="608" y="100"/>
                  <a:pt x="4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45720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1295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 cannot express 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666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a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267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,  LTL  and  CTL  are incompa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re are branching logics that can express fairness, e.g., 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TL + LTL, but they lose the computational attractiveness of CTL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312408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afety (finite runs) vs. liveness (infinite ru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inear time (traces) vs. branching time (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gic (declarative) vs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omat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pe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property:   2x2x2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905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, given a set A of atomic observ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74674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initi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(A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the formulas of PL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  a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990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important decisions when choosing syste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90512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omata vs.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anching vs. linear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vs.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029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three decisions are orthogonal, and they lead to substantially different model-checking problem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9051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371600"/>
            <a:ext cx="64008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 L(M) of specification automa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276720"/>
            <a:ext cx="76964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trace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infinite run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,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3429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iff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447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semantics of specification autom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nguage 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464832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transi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6483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5410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automa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05120" y="39621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437920" y="39621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580920" y="39625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3962520"/>
            <a:ext cx="1143000" cy="20574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858000" y="3962160"/>
            <a:ext cx="457200" cy="2057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1905120"/>
            <a:ext cx="76964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 trace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finite run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,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7600" y="838080"/>
            <a:ext cx="671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=  set of finite traces of K starting at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) defin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95240" y="3808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fi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fi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6480" y="3200400"/>
            <a:ext cx="81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 requires three f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 is deadlock-f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K has a transition fro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is finite-branch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transitions from a state in M is b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onig’s le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inite-branching infinite tree has an infinit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95240" y="163044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fi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fi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120" y="4038480"/>
            <a:ext cx="79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verify 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, check finitary trace-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5120" y="1371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riance specification automa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743200"/>
            <a:ext cx="2667240" cy="2209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886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870280"/>
            <a:ext cx="711000" cy="2044800"/>
          </a:xfrm>
          <a:custGeom>
            <a:avLst/>
            <a:gdLst/>
            <a:ahLst/>
            <a:rect l="l" t="t" r="r" b="b"/>
            <a:pathLst>
              <a:path w="448" h="1288">
                <a:moveTo>
                  <a:pt x="0" y="496"/>
                </a:moveTo>
                <a:cubicBezTo>
                  <a:pt x="160" y="248"/>
                  <a:pt x="320" y="0"/>
                  <a:pt x="384" y="112"/>
                </a:cubicBezTo>
                <a:cubicBezTo>
                  <a:pt x="448" y="224"/>
                  <a:pt x="448" y="1048"/>
                  <a:pt x="384" y="1168"/>
                </a:cubicBezTo>
                <a:cubicBezTo>
                  <a:pt x="320" y="1288"/>
                  <a:pt x="160" y="1060"/>
                  <a:pt x="0" y="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3352680"/>
            <a:ext cx="312408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c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c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143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-bounded overtaking specification automa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124080"/>
            <a:ext cx="129564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43828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12408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95288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502920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657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43200" y="312372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312408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1320" y="4191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6200" y="55627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438280" y="419112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1=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590920"/>
            <a:ext cx="1600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1=req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3276720"/>
            <a:ext cx="16002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1=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2=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4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1=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733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358128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09520" y="3962520"/>
            <a:ext cx="2210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03240" y="2857680"/>
            <a:ext cx="876600" cy="266400"/>
          </a:xfrm>
          <a:custGeom>
            <a:avLst/>
            <a:gdLst/>
            <a:ahLst/>
            <a:rect l="l" t="t" r="r" b="b"/>
            <a:pathLst>
              <a:path w="552" h="168">
                <a:moveTo>
                  <a:pt x="112" y="168"/>
                </a:moveTo>
                <a:cubicBezTo>
                  <a:pt x="56" y="108"/>
                  <a:pt x="0" y="48"/>
                  <a:pt x="64" y="24"/>
                </a:cubicBezTo>
                <a:cubicBezTo>
                  <a:pt x="128" y="0"/>
                  <a:pt x="440" y="0"/>
                  <a:pt x="496" y="24"/>
                </a:cubicBezTo>
                <a:cubicBezTo>
                  <a:pt x="552" y="48"/>
                  <a:pt x="476" y="108"/>
                  <a:pt x="400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133720"/>
            <a:ext cx="685800" cy="533160"/>
          </a:xfrm>
          <a:custGeom>
            <a:avLst/>
            <a:gdLst/>
            <a:ahLst/>
            <a:rect l="l" t="t" r="r" b="b"/>
            <a:pathLst>
              <a:path w="368" h="256">
                <a:moveTo>
                  <a:pt x="8" y="112"/>
                </a:moveTo>
                <a:cubicBezTo>
                  <a:pt x="4" y="56"/>
                  <a:pt x="0" y="0"/>
                  <a:pt x="56" y="16"/>
                </a:cubicBezTo>
                <a:cubicBezTo>
                  <a:pt x="112" y="32"/>
                  <a:pt x="320" y="168"/>
                  <a:pt x="344" y="208"/>
                </a:cubicBezTo>
                <a:cubicBezTo>
                  <a:pt x="368" y="248"/>
                  <a:pt x="284" y="252"/>
                  <a:pt x="200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3400" y="5778360"/>
            <a:ext cx="558720" cy="648000"/>
          </a:xfrm>
          <a:custGeom>
            <a:avLst/>
            <a:gdLst/>
            <a:ahLst/>
            <a:rect l="l" t="t" r="r" b="b"/>
            <a:pathLst>
              <a:path w="352" h="408">
                <a:moveTo>
                  <a:pt x="344" y="152"/>
                </a:moveTo>
                <a:cubicBezTo>
                  <a:pt x="348" y="280"/>
                  <a:pt x="352" y="408"/>
                  <a:pt x="296" y="392"/>
                </a:cubicBezTo>
                <a:cubicBezTo>
                  <a:pt x="240" y="376"/>
                  <a:pt x="16" y="112"/>
                  <a:pt x="8" y="56"/>
                </a:cubicBezTo>
                <a:cubicBezTo>
                  <a:pt x="0" y="0"/>
                  <a:pt x="124" y="28"/>
                  <a:pt x="24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943600" y="5791320"/>
            <a:ext cx="558720" cy="647640"/>
          </a:xfrm>
          <a:custGeom>
            <a:avLst/>
            <a:gdLst/>
            <a:ahLst/>
            <a:rect l="l" t="t" r="r" b="b"/>
            <a:pathLst>
              <a:path w="352" h="408">
                <a:moveTo>
                  <a:pt x="344" y="152"/>
                </a:moveTo>
                <a:cubicBezTo>
                  <a:pt x="348" y="280"/>
                  <a:pt x="352" y="408"/>
                  <a:pt x="296" y="392"/>
                </a:cubicBezTo>
                <a:cubicBezTo>
                  <a:pt x="240" y="376"/>
                  <a:pt x="16" y="112"/>
                  <a:pt x="8" y="56"/>
                </a:cubicBezTo>
                <a:cubicBezTo>
                  <a:pt x="0" y="0"/>
                  <a:pt x="124" y="28"/>
                  <a:pt x="24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95480"/>
            <a:ext cx="685800" cy="533520"/>
          </a:xfrm>
          <a:custGeom>
            <a:avLst/>
            <a:gdLst/>
            <a:ahLst/>
            <a:rect l="l" t="t" r="r" b="b"/>
            <a:pathLst>
              <a:path w="368" h="256">
                <a:moveTo>
                  <a:pt x="8" y="112"/>
                </a:moveTo>
                <a:cubicBezTo>
                  <a:pt x="4" y="56"/>
                  <a:pt x="0" y="0"/>
                  <a:pt x="56" y="16"/>
                </a:cubicBezTo>
                <a:cubicBezTo>
                  <a:pt x="112" y="32"/>
                  <a:pt x="320" y="168"/>
                  <a:pt x="344" y="208"/>
                </a:cubicBezTo>
                <a:cubicBezTo>
                  <a:pt x="368" y="248"/>
                  <a:pt x="284" y="252"/>
                  <a:pt x="200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5334120"/>
            <a:ext cx="16002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1=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838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a are more expressive than logic, because temporal logic cannot cou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4572000"/>
            <a:ext cx="5410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cannot be expressed in LT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ow about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a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3352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85840" y="3581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7560" y="190512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A = { 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600200" y="2209680"/>
            <a:ext cx="609480" cy="609840"/>
            <a:chOff x="1600200" y="2209680"/>
            <a:chExt cx="609480" cy="609840"/>
          </a:xfrm>
        </p:grpSpPr>
        <p:sp>
          <p:nvSpPr>
            <p:cNvPr id="155" name=""/>
            <p:cNvSpPr/>
            <p:nvPr/>
          </p:nvSpPr>
          <p:spPr>
            <a:xfrm>
              <a:off x="1600200" y="22096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305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66880" y="2209680"/>
            <a:ext cx="609840" cy="609840"/>
            <a:chOff x="2666880" y="2209680"/>
            <a:chExt cx="609840" cy="609840"/>
          </a:xfrm>
        </p:grpSpPr>
        <p:sp>
          <p:nvSpPr>
            <p:cNvPr id="158" name=""/>
            <p:cNvSpPr/>
            <p:nvPr/>
          </p:nvSpPr>
          <p:spPr>
            <a:xfrm>
              <a:off x="2666880" y="22096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979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733920" y="2209680"/>
            <a:ext cx="609480" cy="609480"/>
            <a:chOff x="3733920" y="2209680"/>
            <a:chExt cx="609480" cy="609480"/>
          </a:xfrm>
        </p:grpSpPr>
        <p:sp>
          <p:nvSpPr>
            <p:cNvPr id="161" name=""/>
            <p:cNvSpPr/>
            <p:nvPr/>
          </p:nvSpPr>
          <p:spPr>
            <a:xfrm>
              <a:off x="3733920" y="22096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42560" y="22856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600" y="2209680"/>
            <a:ext cx="609480" cy="609840"/>
            <a:chOff x="4800600" y="2209680"/>
            <a:chExt cx="609480" cy="609840"/>
          </a:xfrm>
        </p:grpSpPr>
        <p:sp>
          <p:nvSpPr>
            <p:cNvPr id="164" name=""/>
            <p:cNvSpPr/>
            <p:nvPr/>
          </p:nvSpPr>
          <p:spPr>
            <a:xfrm>
              <a:off x="4800600" y="22096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09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867280" y="2209680"/>
            <a:ext cx="609840" cy="609840"/>
            <a:chOff x="5867280" y="2209680"/>
            <a:chExt cx="609840" cy="609840"/>
          </a:xfrm>
        </p:grpSpPr>
        <p:sp>
          <p:nvSpPr>
            <p:cNvPr id="167" name=""/>
            <p:cNvSpPr/>
            <p:nvPr/>
          </p:nvSpPr>
          <p:spPr>
            <a:xfrm>
              <a:off x="5867280" y="22096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83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096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2476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2476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2476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00200" y="3848040"/>
            <a:ext cx="609480" cy="609840"/>
            <a:chOff x="1600200" y="3848040"/>
            <a:chExt cx="609480" cy="609840"/>
          </a:xfrm>
        </p:grpSpPr>
        <p:sp>
          <p:nvSpPr>
            <p:cNvPr id="178" name=""/>
            <p:cNvSpPr/>
            <p:nvPr/>
          </p:nvSpPr>
          <p:spPr>
            <a:xfrm>
              <a:off x="1600200" y="38480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3052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66880" y="3848040"/>
            <a:ext cx="609840" cy="609840"/>
            <a:chOff x="2666880" y="3848040"/>
            <a:chExt cx="609840" cy="609840"/>
          </a:xfrm>
        </p:grpSpPr>
        <p:sp>
          <p:nvSpPr>
            <p:cNvPr id="181" name=""/>
            <p:cNvSpPr/>
            <p:nvPr/>
          </p:nvSpPr>
          <p:spPr>
            <a:xfrm>
              <a:off x="2666880" y="38480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9792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00600" y="3848040"/>
            <a:ext cx="609480" cy="609480"/>
            <a:chOff x="4800600" y="3848040"/>
            <a:chExt cx="609480" cy="609480"/>
          </a:xfrm>
        </p:grpSpPr>
        <p:sp>
          <p:nvSpPr>
            <p:cNvPr id="184" name=""/>
            <p:cNvSpPr/>
            <p:nvPr/>
          </p:nvSpPr>
          <p:spPr>
            <a:xfrm>
              <a:off x="4800600" y="384804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9240" y="39240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733920" y="3848040"/>
            <a:ext cx="609480" cy="609840"/>
            <a:chOff x="3733920" y="3848040"/>
            <a:chExt cx="609480" cy="609840"/>
          </a:xfrm>
        </p:grpSpPr>
        <p:sp>
          <p:nvSpPr>
            <p:cNvPr id="187" name=""/>
            <p:cNvSpPr/>
            <p:nvPr/>
          </p:nvSpPr>
          <p:spPr>
            <a:xfrm>
              <a:off x="3733920" y="38480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6424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867280" y="3848040"/>
            <a:ext cx="609840" cy="609840"/>
            <a:chOff x="5867280" y="3848040"/>
            <a:chExt cx="609840" cy="609840"/>
          </a:xfrm>
        </p:grpSpPr>
        <p:sp>
          <p:nvSpPr>
            <p:cNvPr id="190" name=""/>
            <p:cNvSpPr/>
            <p:nvPr/>
          </p:nvSpPr>
          <p:spPr>
            <a:xfrm>
              <a:off x="5867280" y="38480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9832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209680" y="416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3520" y="2209680"/>
            <a:ext cx="609480" cy="609840"/>
            <a:chOff x="533520" y="2209680"/>
            <a:chExt cx="609480" cy="609840"/>
          </a:xfrm>
        </p:grpSpPr>
        <p:sp>
          <p:nvSpPr>
            <p:cNvPr id="201" name=""/>
            <p:cNvSpPr/>
            <p:nvPr/>
          </p:nvSpPr>
          <p:spPr>
            <a:xfrm>
              <a:off x="533520" y="22096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384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430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33520" y="3863880"/>
            <a:ext cx="609480" cy="609840"/>
            <a:chOff x="533520" y="3863880"/>
            <a:chExt cx="609480" cy="609840"/>
          </a:xfrm>
        </p:grpSpPr>
        <p:sp>
          <p:nvSpPr>
            <p:cNvPr id="205" name=""/>
            <p:cNvSpPr/>
            <p:nvPr/>
          </p:nvSpPr>
          <p:spPr>
            <a:xfrm>
              <a:off x="533520" y="38638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3840" y="39099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143000" y="416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752480" y="2438280"/>
            <a:ext cx="609840" cy="609840"/>
            <a:chOff x="1752480" y="2438280"/>
            <a:chExt cx="609840" cy="609840"/>
          </a:xfrm>
        </p:grpSpPr>
        <p:sp>
          <p:nvSpPr>
            <p:cNvPr id="209" name=""/>
            <p:cNvSpPr/>
            <p:nvPr/>
          </p:nvSpPr>
          <p:spPr>
            <a:xfrm>
              <a:off x="1752480" y="24382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8352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819520" y="2438280"/>
            <a:ext cx="609480" cy="609840"/>
            <a:chOff x="2819520" y="2438280"/>
            <a:chExt cx="609480" cy="609840"/>
          </a:xfrm>
        </p:grpSpPr>
        <p:sp>
          <p:nvSpPr>
            <p:cNvPr id="212" name=""/>
            <p:cNvSpPr/>
            <p:nvPr/>
          </p:nvSpPr>
          <p:spPr>
            <a:xfrm>
              <a:off x="281952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4984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86200" y="2438280"/>
            <a:ext cx="609480" cy="609480"/>
            <a:chOff x="3886200" y="2438280"/>
            <a:chExt cx="609480" cy="609480"/>
          </a:xfrm>
        </p:grpSpPr>
        <p:sp>
          <p:nvSpPr>
            <p:cNvPr id="215" name=""/>
            <p:cNvSpPr/>
            <p:nvPr/>
          </p:nvSpPr>
          <p:spPr>
            <a:xfrm>
              <a:off x="3886200" y="24382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94840" y="25142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952880" y="2438280"/>
            <a:ext cx="609840" cy="609840"/>
            <a:chOff x="4952880" y="2438280"/>
            <a:chExt cx="609840" cy="609840"/>
          </a:xfrm>
        </p:grpSpPr>
        <p:sp>
          <p:nvSpPr>
            <p:cNvPr id="218" name=""/>
            <p:cNvSpPr/>
            <p:nvPr/>
          </p:nvSpPr>
          <p:spPr>
            <a:xfrm>
              <a:off x="4952880" y="24382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392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019920" y="2438280"/>
            <a:ext cx="609480" cy="609840"/>
            <a:chOff x="6019920" y="2438280"/>
            <a:chExt cx="609480" cy="609840"/>
          </a:xfrm>
        </p:grpSpPr>
        <p:sp>
          <p:nvSpPr>
            <p:cNvPr id="221" name=""/>
            <p:cNvSpPr/>
            <p:nvPr/>
          </p:nvSpPr>
          <p:spPr>
            <a:xfrm>
              <a:off x="601992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5024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3623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2705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2705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2705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52480" y="4076640"/>
            <a:ext cx="609840" cy="609840"/>
            <a:chOff x="1752480" y="4076640"/>
            <a:chExt cx="609840" cy="609840"/>
          </a:xfrm>
        </p:grpSpPr>
        <p:sp>
          <p:nvSpPr>
            <p:cNvPr id="232" name=""/>
            <p:cNvSpPr/>
            <p:nvPr/>
          </p:nvSpPr>
          <p:spPr>
            <a:xfrm>
              <a:off x="1752480" y="40766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352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19520" y="4076640"/>
            <a:ext cx="609480" cy="609840"/>
            <a:chOff x="2819520" y="4076640"/>
            <a:chExt cx="609480" cy="609840"/>
          </a:xfrm>
        </p:grpSpPr>
        <p:sp>
          <p:nvSpPr>
            <p:cNvPr id="235" name=""/>
            <p:cNvSpPr/>
            <p:nvPr/>
          </p:nvSpPr>
          <p:spPr>
            <a:xfrm>
              <a:off x="2819520" y="40766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984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076640"/>
            <a:ext cx="609480" cy="609480"/>
            <a:chOff x="4952880" y="4076640"/>
            <a:chExt cx="609480" cy="609480"/>
          </a:xfrm>
        </p:grpSpPr>
        <p:sp>
          <p:nvSpPr>
            <p:cNvPr id="238" name=""/>
            <p:cNvSpPr/>
            <p:nvPr/>
          </p:nvSpPr>
          <p:spPr>
            <a:xfrm>
              <a:off x="4952880" y="407664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61520" y="41526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86200" y="4076640"/>
            <a:ext cx="609480" cy="609840"/>
            <a:chOff x="3886200" y="4076640"/>
            <a:chExt cx="609480" cy="609840"/>
          </a:xfrm>
        </p:grpSpPr>
        <p:sp>
          <p:nvSpPr>
            <p:cNvPr id="241" name=""/>
            <p:cNvSpPr/>
            <p:nvPr/>
          </p:nvSpPr>
          <p:spPr>
            <a:xfrm>
              <a:off x="3886200" y="40766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1652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19920" y="4076640"/>
            <a:ext cx="609480" cy="609840"/>
            <a:chOff x="6019920" y="4076640"/>
            <a:chExt cx="609480" cy="609840"/>
          </a:xfrm>
        </p:grpSpPr>
        <p:sp>
          <p:nvSpPr>
            <p:cNvPr id="244" name=""/>
            <p:cNvSpPr/>
            <p:nvPr/>
          </p:nvSpPr>
          <p:spPr>
            <a:xfrm>
              <a:off x="6019920" y="40766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5024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36232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246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609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609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990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8380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733560" y="1219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838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838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29600" y="3962520"/>
            <a:ext cx="457200" cy="380880"/>
            <a:chOff x="8229600" y="3962520"/>
            <a:chExt cx="457200" cy="380880"/>
          </a:xfrm>
        </p:grpSpPr>
        <p:sp>
          <p:nvSpPr>
            <p:cNvPr id="262" name=""/>
            <p:cNvSpPr/>
            <p:nvPr/>
          </p:nvSpPr>
          <p:spPr>
            <a:xfrm>
              <a:off x="8229600" y="396252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229600" y="396252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153280" y="2286000"/>
            <a:ext cx="533160" cy="457200"/>
            <a:chOff x="8153280" y="2286000"/>
            <a:chExt cx="533160" cy="457200"/>
          </a:xfrm>
        </p:grpSpPr>
        <p:sp>
          <p:nvSpPr>
            <p:cNvPr id="265" name=""/>
            <p:cNvSpPr/>
            <p:nvPr/>
          </p:nvSpPr>
          <p:spPr>
            <a:xfrm>
              <a:off x="8153280" y="2590920"/>
              <a:ext cx="1522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305560" y="2286000"/>
              <a:ext cx="38088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85800" y="2460600"/>
            <a:ext cx="609480" cy="609480"/>
            <a:chOff x="685800" y="2460600"/>
            <a:chExt cx="609480" cy="609480"/>
          </a:xfrm>
        </p:grpSpPr>
        <p:sp>
          <p:nvSpPr>
            <p:cNvPr id="268" name=""/>
            <p:cNvSpPr/>
            <p:nvPr/>
          </p:nvSpPr>
          <p:spPr>
            <a:xfrm>
              <a:off x="685800" y="24606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6120" y="25063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295280" y="27655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5800" y="4114800"/>
            <a:ext cx="609480" cy="609480"/>
            <a:chOff x="685800" y="4114800"/>
            <a:chExt cx="609480" cy="609480"/>
          </a:xfrm>
        </p:grpSpPr>
        <p:sp>
          <p:nvSpPr>
            <p:cNvPr id="272" name=""/>
            <p:cNvSpPr/>
            <p:nvPr/>
          </p:nvSpPr>
          <p:spPr>
            <a:xfrm>
              <a:off x="685800" y="41148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6120" y="41605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295280" y="4419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5280" y="2666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ly universal properties are of interes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not omit the path quantifi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600200" y="2438280"/>
            <a:ext cx="609480" cy="609840"/>
            <a:chOff x="1600200" y="2438280"/>
            <a:chExt cx="609480" cy="609840"/>
          </a:xfrm>
        </p:grpSpPr>
        <p:sp>
          <p:nvSpPr>
            <p:cNvPr id="276" name=""/>
            <p:cNvSpPr/>
            <p:nvPr/>
          </p:nvSpPr>
          <p:spPr>
            <a:xfrm>
              <a:off x="160020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3052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666880" y="2438280"/>
            <a:ext cx="609840" cy="609840"/>
            <a:chOff x="2666880" y="2438280"/>
            <a:chExt cx="609840" cy="609840"/>
          </a:xfrm>
        </p:grpSpPr>
        <p:sp>
          <p:nvSpPr>
            <p:cNvPr id="279" name=""/>
            <p:cNvSpPr/>
            <p:nvPr/>
          </p:nvSpPr>
          <p:spPr>
            <a:xfrm>
              <a:off x="2666880" y="24382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9792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733920" y="2438280"/>
            <a:ext cx="609480" cy="609480"/>
            <a:chOff x="3733920" y="2438280"/>
            <a:chExt cx="609480" cy="609480"/>
          </a:xfrm>
        </p:grpSpPr>
        <p:sp>
          <p:nvSpPr>
            <p:cNvPr id="282" name=""/>
            <p:cNvSpPr/>
            <p:nvPr/>
          </p:nvSpPr>
          <p:spPr>
            <a:xfrm>
              <a:off x="3733920" y="24382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42560" y="25142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800600" y="2438280"/>
            <a:ext cx="609480" cy="609840"/>
            <a:chOff x="4800600" y="2438280"/>
            <a:chExt cx="609480" cy="609840"/>
          </a:xfrm>
        </p:grpSpPr>
        <p:sp>
          <p:nvSpPr>
            <p:cNvPr id="285" name=""/>
            <p:cNvSpPr/>
            <p:nvPr/>
          </p:nvSpPr>
          <p:spPr>
            <a:xfrm>
              <a:off x="480060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3092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867280" y="2438280"/>
            <a:ext cx="609840" cy="609840"/>
            <a:chOff x="5867280" y="2438280"/>
            <a:chExt cx="609840" cy="609840"/>
          </a:xfrm>
        </p:grpSpPr>
        <p:sp>
          <p:nvSpPr>
            <p:cNvPr id="288" name=""/>
            <p:cNvSpPr/>
            <p:nvPr/>
          </p:nvSpPr>
          <p:spPr>
            <a:xfrm>
              <a:off x="5867280" y="24382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832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209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86600" y="2705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2705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72400" y="2705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00200" y="4076640"/>
            <a:ext cx="609480" cy="609840"/>
            <a:chOff x="1600200" y="4076640"/>
            <a:chExt cx="609480" cy="609840"/>
          </a:xfrm>
        </p:grpSpPr>
        <p:sp>
          <p:nvSpPr>
            <p:cNvPr id="299" name=""/>
            <p:cNvSpPr/>
            <p:nvPr/>
          </p:nvSpPr>
          <p:spPr>
            <a:xfrm>
              <a:off x="1600200" y="40766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3052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666880" y="4076640"/>
            <a:ext cx="609840" cy="609840"/>
            <a:chOff x="2666880" y="4076640"/>
            <a:chExt cx="609840" cy="609840"/>
          </a:xfrm>
        </p:grpSpPr>
        <p:sp>
          <p:nvSpPr>
            <p:cNvPr id="302" name=""/>
            <p:cNvSpPr/>
            <p:nvPr/>
          </p:nvSpPr>
          <p:spPr>
            <a:xfrm>
              <a:off x="2666880" y="40766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792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800600" y="4076640"/>
            <a:ext cx="609480" cy="609480"/>
            <a:chOff x="4800600" y="4076640"/>
            <a:chExt cx="609480" cy="609480"/>
          </a:xfrm>
        </p:grpSpPr>
        <p:sp>
          <p:nvSpPr>
            <p:cNvPr id="305" name=""/>
            <p:cNvSpPr/>
            <p:nvPr/>
          </p:nvSpPr>
          <p:spPr>
            <a:xfrm>
              <a:off x="4800600" y="407664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9240" y="41526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733920" y="4076640"/>
            <a:ext cx="609480" cy="609840"/>
            <a:chOff x="3733920" y="4076640"/>
            <a:chExt cx="609480" cy="609840"/>
          </a:xfrm>
        </p:grpSpPr>
        <p:sp>
          <p:nvSpPr>
            <p:cNvPr id="308" name=""/>
            <p:cNvSpPr/>
            <p:nvPr/>
          </p:nvSpPr>
          <p:spPr>
            <a:xfrm>
              <a:off x="3733920" y="40766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6424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867280" y="4076640"/>
            <a:ext cx="609840" cy="609840"/>
            <a:chOff x="5867280" y="4076640"/>
            <a:chExt cx="609840" cy="609840"/>
          </a:xfrm>
        </p:grpSpPr>
        <p:sp>
          <p:nvSpPr>
            <p:cNvPr id="311" name=""/>
            <p:cNvSpPr/>
            <p:nvPr/>
          </p:nvSpPr>
          <p:spPr>
            <a:xfrm>
              <a:off x="5867280" y="40766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98320" y="4122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3400" y="914400"/>
            <a:ext cx="24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(a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8229600" y="2286000"/>
            <a:ext cx="457200" cy="380880"/>
            <a:chOff x="8229600" y="2286000"/>
            <a:chExt cx="457200" cy="380880"/>
          </a:xfrm>
        </p:grpSpPr>
        <p:sp>
          <p:nvSpPr>
            <p:cNvPr id="323" name=""/>
            <p:cNvSpPr/>
            <p:nvPr/>
          </p:nvSpPr>
          <p:spPr>
            <a:xfrm>
              <a:off x="8229600" y="22860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229600" y="228600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229600" y="3809880"/>
            <a:ext cx="457200" cy="380880"/>
            <a:chOff x="8229600" y="3809880"/>
            <a:chExt cx="457200" cy="380880"/>
          </a:xfrm>
        </p:grpSpPr>
        <p:sp>
          <p:nvSpPr>
            <p:cNvPr id="326" name=""/>
            <p:cNvSpPr/>
            <p:nvPr/>
          </p:nvSpPr>
          <p:spPr>
            <a:xfrm>
              <a:off x="8229600" y="380988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229600" y="3809880"/>
              <a:ext cx="4572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33520" y="2438280"/>
            <a:ext cx="609480" cy="609840"/>
            <a:chOff x="533520" y="2438280"/>
            <a:chExt cx="609480" cy="609840"/>
          </a:xfrm>
        </p:grpSpPr>
        <p:sp>
          <p:nvSpPr>
            <p:cNvPr id="329" name=""/>
            <p:cNvSpPr/>
            <p:nvPr/>
          </p:nvSpPr>
          <p:spPr>
            <a:xfrm>
              <a:off x="53352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3840" y="2484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33520" y="4092480"/>
            <a:ext cx="609480" cy="609840"/>
            <a:chOff x="533520" y="4092480"/>
            <a:chExt cx="609480" cy="609840"/>
          </a:xfrm>
        </p:grpSpPr>
        <p:sp>
          <p:nvSpPr>
            <p:cNvPr id="333" name=""/>
            <p:cNvSpPr/>
            <p:nvPr/>
          </p:nvSpPr>
          <p:spPr>
            <a:xfrm>
              <a:off x="533520" y="40924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3840" y="41385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43000" y="439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600200" y="2209680"/>
            <a:ext cx="609480" cy="609840"/>
            <a:chOff x="1600200" y="2209680"/>
            <a:chExt cx="609480" cy="609840"/>
          </a:xfrm>
        </p:grpSpPr>
        <p:sp>
          <p:nvSpPr>
            <p:cNvPr id="337" name=""/>
            <p:cNvSpPr/>
            <p:nvPr/>
          </p:nvSpPr>
          <p:spPr>
            <a:xfrm>
              <a:off x="1600200" y="22096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305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666880" y="2209680"/>
            <a:ext cx="609840" cy="609840"/>
            <a:chOff x="2666880" y="2209680"/>
            <a:chExt cx="609840" cy="609840"/>
          </a:xfrm>
        </p:grpSpPr>
        <p:sp>
          <p:nvSpPr>
            <p:cNvPr id="340" name=""/>
            <p:cNvSpPr/>
            <p:nvPr/>
          </p:nvSpPr>
          <p:spPr>
            <a:xfrm>
              <a:off x="2666880" y="22096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979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733920" y="2209680"/>
            <a:ext cx="609480" cy="609480"/>
            <a:chOff x="3733920" y="2209680"/>
            <a:chExt cx="609480" cy="609480"/>
          </a:xfrm>
        </p:grpSpPr>
        <p:sp>
          <p:nvSpPr>
            <p:cNvPr id="343" name=""/>
            <p:cNvSpPr/>
            <p:nvPr/>
          </p:nvSpPr>
          <p:spPr>
            <a:xfrm>
              <a:off x="3733920" y="22096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42560" y="22856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800600" y="2209680"/>
            <a:ext cx="609480" cy="609840"/>
            <a:chOff x="4800600" y="2209680"/>
            <a:chExt cx="609480" cy="609840"/>
          </a:xfrm>
        </p:grpSpPr>
        <p:sp>
          <p:nvSpPr>
            <p:cNvPr id="346" name=""/>
            <p:cNvSpPr/>
            <p:nvPr/>
          </p:nvSpPr>
          <p:spPr>
            <a:xfrm>
              <a:off x="4800600" y="22096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309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867280" y="2209680"/>
            <a:ext cx="609840" cy="609840"/>
            <a:chOff x="5867280" y="2209680"/>
            <a:chExt cx="609840" cy="609840"/>
          </a:xfrm>
        </p:grpSpPr>
        <p:sp>
          <p:nvSpPr>
            <p:cNvPr id="349" name=""/>
            <p:cNvSpPr/>
            <p:nvPr/>
          </p:nvSpPr>
          <p:spPr>
            <a:xfrm>
              <a:off x="5867280" y="22096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9832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096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00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2476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2476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2476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600200" y="3848040"/>
            <a:ext cx="609480" cy="609840"/>
            <a:chOff x="1600200" y="3848040"/>
            <a:chExt cx="609480" cy="609840"/>
          </a:xfrm>
        </p:grpSpPr>
        <p:sp>
          <p:nvSpPr>
            <p:cNvPr id="360" name=""/>
            <p:cNvSpPr/>
            <p:nvPr/>
          </p:nvSpPr>
          <p:spPr>
            <a:xfrm>
              <a:off x="1600200" y="38480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052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666880" y="3848040"/>
            <a:ext cx="609840" cy="609840"/>
            <a:chOff x="2666880" y="3848040"/>
            <a:chExt cx="609840" cy="609840"/>
          </a:xfrm>
        </p:grpSpPr>
        <p:sp>
          <p:nvSpPr>
            <p:cNvPr id="363" name=""/>
            <p:cNvSpPr/>
            <p:nvPr/>
          </p:nvSpPr>
          <p:spPr>
            <a:xfrm>
              <a:off x="2666880" y="38480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92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800600" y="3848040"/>
            <a:ext cx="609480" cy="609480"/>
            <a:chOff x="4800600" y="3848040"/>
            <a:chExt cx="609480" cy="609480"/>
          </a:xfrm>
        </p:grpSpPr>
        <p:sp>
          <p:nvSpPr>
            <p:cNvPr id="366" name=""/>
            <p:cNvSpPr/>
            <p:nvPr/>
          </p:nvSpPr>
          <p:spPr>
            <a:xfrm>
              <a:off x="4800600" y="384804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09240" y="39240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733920" y="3848040"/>
            <a:ext cx="609480" cy="609840"/>
            <a:chOff x="3733920" y="3848040"/>
            <a:chExt cx="609480" cy="609840"/>
          </a:xfrm>
        </p:grpSpPr>
        <p:sp>
          <p:nvSpPr>
            <p:cNvPr id="369" name=""/>
            <p:cNvSpPr/>
            <p:nvPr/>
          </p:nvSpPr>
          <p:spPr>
            <a:xfrm>
              <a:off x="3733920" y="384804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6424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867280" y="3848040"/>
            <a:ext cx="609840" cy="609840"/>
            <a:chOff x="5867280" y="3848040"/>
            <a:chExt cx="609840" cy="609840"/>
          </a:xfrm>
        </p:grpSpPr>
        <p:sp>
          <p:nvSpPr>
            <p:cNvPr id="372" name=""/>
            <p:cNvSpPr/>
            <p:nvPr/>
          </p:nvSpPr>
          <p:spPr>
            <a:xfrm>
              <a:off x="5867280" y="38480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98320" y="3894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209680" y="416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4152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724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33520" y="2209680"/>
            <a:ext cx="609480" cy="609840"/>
            <a:chOff x="533520" y="2209680"/>
            <a:chExt cx="609480" cy="609840"/>
          </a:xfrm>
        </p:grpSpPr>
        <p:sp>
          <p:nvSpPr>
            <p:cNvPr id="383" name=""/>
            <p:cNvSpPr/>
            <p:nvPr/>
          </p:nvSpPr>
          <p:spPr>
            <a:xfrm>
              <a:off x="533520" y="22096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3840" y="2255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1430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3520" y="3863880"/>
            <a:ext cx="609480" cy="609840"/>
            <a:chOff x="533520" y="3863880"/>
            <a:chExt cx="609480" cy="609840"/>
          </a:xfrm>
        </p:grpSpPr>
        <p:sp>
          <p:nvSpPr>
            <p:cNvPr id="387" name=""/>
            <p:cNvSpPr/>
            <p:nvPr/>
          </p:nvSpPr>
          <p:spPr>
            <a:xfrm>
              <a:off x="533520" y="38638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3840" y="39099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43000" y="416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1600" y="579600"/>
            <a:ext cx="77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fact, no LTL formula with at most two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distinguish between the two tr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88920" y="49230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o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19320" y="1600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ing language containment between finite automata is PSPACE-comple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34290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84080" y="2922480"/>
            <a:ext cx="472824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omplement( L(M) )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54100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volves determinization (subset constr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114440" y="4571640"/>
            <a:ext cx="22860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219320" y="213372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u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utom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u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a sufficien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438280" y="1219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2286000"/>
            <a:ext cx="815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s specification automat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pt also set 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of erro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 L(M)  s.t. runs must end in erro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iff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(M)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905120" y="1371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riance monitor automa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2743200"/>
            <a:ext cx="2666880" cy="2209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3886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2876400" y="4286160"/>
            <a:ext cx="711360" cy="2044800"/>
          </a:xfrm>
          <a:custGeom>
            <a:avLst/>
            <a:gdLst/>
            <a:ahLst/>
            <a:rect l="l" t="t" r="r" b="b"/>
            <a:pathLst>
              <a:path w="448" h="1288">
                <a:moveTo>
                  <a:pt x="0" y="496"/>
                </a:moveTo>
                <a:cubicBezTo>
                  <a:pt x="160" y="248"/>
                  <a:pt x="320" y="0"/>
                  <a:pt x="384" y="112"/>
                </a:cubicBezTo>
                <a:cubicBezTo>
                  <a:pt x="448" y="224"/>
                  <a:pt x="448" y="1048"/>
                  <a:pt x="384" y="1168"/>
                </a:cubicBezTo>
                <a:cubicBezTo>
                  <a:pt x="320" y="1288"/>
                  <a:pt x="160" y="1060"/>
                  <a:pt x="0" y="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3352680"/>
            <a:ext cx="312444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c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c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2743200"/>
            <a:ext cx="266724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352680"/>
            <a:ext cx="312408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c1 =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c2 =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219320" y="1143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-bounded overtaking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utoma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3124080"/>
            <a:ext cx="129564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33920" y="243828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312408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495288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5029200"/>
            <a:ext cx="1295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3657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743200" y="312372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12408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91320" y="4191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886200" y="55627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2438280" y="419112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3505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1=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2514600"/>
            <a:ext cx="16002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1=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91320" y="3276720"/>
            <a:ext cx="16002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1=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2=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092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1=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3733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580920" y="358128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09520" y="3962520"/>
            <a:ext cx="2210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03240" y="2857680"/>
            <a:ext cx="876600" cy="266400"/>
          </a:xfrm>
          <a:custGeom>
            <a:avLst/>
            <a:gdLst/>
            <a:ahLst/>
            <a:rect l="l" t="t" r="r" b="b"/>
            <a:pathLst>
              <a:path w="552" h="168">
                <a:moveTo>
                  <a:pt x="112" y="168"/>
                </a:moveTo>
                <a:cubicBezTo>
                  <a:pt x="56" y="108"/>
                  <a:pt x="0" y="48"/>
                  <a:pt x="64" y="24"/>
                </a:cubicBezTo>
                <a:cubicBezTo>
                  <a:pt x="128" y="0"/>
                  <a:pt x="440" y="0"/>
                  <a:pt x="496" y="24"/>
                </a:cubicBezTo>
                <a:cubicBezTo>
                  <a:pt x="552" y="48"/>
                  <a:pt x="476" y="108"/>
                  <a:pt x="400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2133720"/>
            <a:ext cx="685800" cy="533160"/>
          </a:xfrm>
          <a:custGeom>
            <a:avLst/>
            <a:gdLst/>
            <a:ahLst/>
            <a:rect l="l" t="t" r="r" b="b"/>
            <a:pathLst>
              <a:path w="368" h="256">
                <a:moveTo>
                  <a:pt x="8" y="112"/>
                </a:moveTo>
                <a:cubicBezTo>
                  <a:pt x="4" y="56"/>
                  <a:pt x="0" y="0"/>
                  <a:pt x="56" y="16"/>
                </a:cubicBezTo>
                <a:cubicBezTo>
                  <a:pt x="112" y="32"/>
                  <a:pt x="320" y="168"/>
                  <a:pt x="344" y="208"/>
                </a:cubicBezTo>
                <a:cubicBezTo>
                  <a:pt x="368" y="248"/>
                  <a:pt x="284" y="252"/>
                  <a:pt x="200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73400" y="5778360"/>
            <a:ext cx="558720" cy="648000"/>
          </a:xfrm>
          <a:custGeom>
            <a:avLst/>
            <a:gdLst/>
            <a:ahLst/>
            <a:rect l="l" t="t" r="r" b="b"/>
            <a:pathLst>
              <a:path w="352" h="408">
                <a:moveTo>
                  <a:pt x="344" y="152"/>
                </a:moveTo>
                <a:cubicBezTo>
                  <a:pt x="348" y="280"/>
                  <a:pt x="352" y="408"/>
                  <a:pt x="296" y="392"/>
                </a:cubicBezTo>
                <a:cubicBezTo>
                  <a:pt x="240" y="376"/>
                  <a:pt x="16" y="112"/>
                  <a:pt x="8" y="56"/>
                </a:cubicBezTo>
                <a:cubicBezTo>
                  <a:pt x="0" y="0"/>
                  <a:pt x="124" y="28"/>
                  <a:pt x="24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943600" y="5791320"/>
            <a:ext cx="558720" cy="647640"/>
          </a:xfrm>
          <a:custGeom>
            <a:avLst/>
            <a:gdLst/>
            <a:ahLst/>
            <a:rect l="l" t="t" r="r" b="b"/>
            <a:pathLst>
              <a:path w="352" h="408">
                <a:moveTo>
                  <a:pt x="344" y="152"/>
                </a:moveTo>
                <a:cubicBezTo>
                  <a:pt x="348" y="280"/>
                  <a:pt x="352" y="408"/>
                  <a:pt x="296" y="392"/>
                </a:cubicBezTo>
                <a:cubicBezTo>
                  <a:pt x="240" y="376"/>
                  <a:pt x="16" y="112"/>
                  <a:pt x="8" y="56"/>
                </a:cubicBezTo>
                <a:cubicBezTo>
                  <a:pt x="0" y="0"/>
                  <a:pt x="124" y="28"/>
                  <a:pt x="24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0" y="2895480"/>
            <a:ext cx="685800" cy="533520"/>
          </a:xfrm>
          <a:custGeom>
            <a:avLst/>
            <a:gdLst/>
            <a:ahLst/>
            <a:rect l="l" t="t" r="r" b="b"/>
            <a:pathLst>
              <a:path w="368" h="256">
                <a:moveTo>
                  <a:pt x="8" y="112"/>
                </a:moveTo>
                <a:cubicBezTo>
                  <a:pt x="4" y="56"/>
                  <a:pt x="0" y="0"/>
                  <a:pt x="56" y="16"/>
                </a:cubicBezTo>
                <a:cubicBezTo>
                  <a:pt x="112" y="32"/>
                  <a:pt x="320" y="168"/>
                  <a:pt x="344" y="208"/>
                </a:cubicBezTo>
                <a:cubicBezTo>
                  <a:pt x="368" y="248"/>
                  <a:pt x="284" y="252"/>
                  <a:pt x="200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24280" y="5181480"/>
            <a:ext cx="16002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1=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38880" y="4952880"/>
            <a:ext cx="12956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5105520"/>
            <a:ext cx="16002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c1=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c2=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7220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0880" y="1066680"/>
            <a:ext cx="8763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automat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 automa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                               complemen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escribe correct tra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escribe error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check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nguage contain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check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mptin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near):    (exponentia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reachability of error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95480" y="228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895480" y="2438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43400" y="5486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ll safety verification is reachability check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715000" y="464832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219320" y="213372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u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utom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us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sufficien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90720" y="297180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re exists a simulation relation  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.t. (q,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for some initial state 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12193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semantics of specification autom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 of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781680" y="3276720"/>
            <a:ext cx="45720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315200" y="4495680"/>
            <a:ext cx="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1600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 (Linear Temporal Log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7432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afety &amp; l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inea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800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Pnueli 1977;  Lichtenstein &amp; Pnueli 198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3880" y="13716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1828800"/>
            <a:ext cx="5943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is a simulat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q,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q] 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 q’  s.t. 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’ 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exists  s’  s.t. 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  and  (q’,s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Milner 197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943600" y="1523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57800" y="4648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81680" y="4648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430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66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28800" y="3048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28800" y="1447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866920" y="228600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2860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2286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15000" y="380988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238880" y="380988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828440" y="3886200"/>
            <a:ext cx="3049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4600" y="388620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4800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94120" y="586728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10666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=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05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7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43600" y="1523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4648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4648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0572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3048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447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866920" y="228600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29400" y="22860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2286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15000" y="380988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38880" y="380988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828440" y="3886200"/>
            <a:ext cx="3049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388620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0080" y="4800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94120" y="586728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00800" y="10666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128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=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57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2952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886200" y="12952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295280" y="19051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32640" y="2057400"/>
            <a:ext cx="680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language contains (K,q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simulates (K,q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tic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5268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3048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609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volves only traces (hence linear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10666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volves states (hence branching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438280" y="480060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243828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, simulation is usually the “right” no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f there is language containment, but not simulation,  this is usually accidental, not by desig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066680" y="12193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semantics of specification automata, alternative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ce-tree 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3429000"/>
            <a:ext cx="579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iff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38680" y="5715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 trac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3962520"/>
            <a:ext cx="914400" cy="16761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6858000" y="3962520"/>
            <a:ext cx="380880" cy="1676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828800" y="2209680"/>
            <a:ext cx="5410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afety &amp; liveness (infinite run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ecification vs. monitor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inear (language containment) vs.        branching (simulation)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90720" y="4724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iscuss only the linear specification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3880" y="10666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ega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mega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19810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 as for finite automat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in addition an acceptance cond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809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38280" y="3581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990720" y="1066680"/>
            <a:ext cx="71625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 L(M) of specification omega-automa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(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A 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2743200"/>
            <a:ext cx="685800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trace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M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n infinite run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 satisfies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for all 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,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295280" y="106668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Inf(s) = { p | p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or infinitely many i 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213372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finite run  s  satisfies the acceptance condition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74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::=   a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|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828800" y="34290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        iff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(K,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L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14479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semantics of specification omega autom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mega-language 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006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1320" y="3962520"/>
            <a:ext cx="0" cy="7617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553080" y="3962520"/>
            <a:ext cx="7632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00200" y="8380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specification automat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  assuming 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0040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552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552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81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814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267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14800" y="3124080"/>
            <a:ext cx="1219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3885840" y="327636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62720" y="33526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114800" y="4495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657600" y="33523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432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91320" y="2171880"/>
            <a:ext cx="62208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62240" y="4800600"/>
            <a:ext cx="1117800" cy="444600"/>
          </a:xfrm>
          <a:custGeom>
            <a:avLst/>
            <a:gdLst/>
            <a:ahLst/>
            <a:rect l="l" t="t" r="r" b="b"/>
            <a:pathLst>
              <a:path w="704" h="280">
                <a:moveTo>
                  <a:pt x="408" y="0"/>
                </a:moveTo>
                <a:cubicBezTo>
                  <a:pt x="556" y="100"/>
                  <a:pt x="704" y="200"/>
                  <a:pt x="648" y="240"/>
                </a:cubicBezTo>
                <a:cubicBezTo>
                  <a:pt x="592" y="280"/>
                  <a:pt x="144" y="272"/>
                  <a:pt x="72" y="240"/>
                </a:cubicBezTo>
                <a:cubicBezTo>
                  <a:pt x="0" y="208"/>
                  <a:pt x="108" y="128"/>
                  <a:pt x="216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2133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913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33720" y="56386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condition  {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600200" y="8380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monitor automat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  assuming 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3048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3124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99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8120" y="3505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00200" y="3505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8459000">
            <a:off x="6006960" y="2527200"/>
            <a:ext cx="62208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2428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55308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81080" y="495288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condition  {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43600" y="3124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52880" y="3505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19520" y="3733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8459000">
            <a:off x="2273040" y="2450520"/>
            <a:ext cx="622440" cy="74952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895480" y="3048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048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86400" y="2705040"/>
            <a:ext cx="622440" cy="74952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90920" y="3733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62720" y="36576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5029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condition  {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5320" y="2590920"/>
            <a:ext cx="62208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2438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809880" y="3581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2438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05320" y="1219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895480" y="262908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262908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2857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2857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30099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2286000"/>
            <a:ext cx="62244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90920" y="33148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62720" y="323856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55627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hi condition  {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2171880"/>
            <a:ext cx="62208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81480" y="201924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09880" y="31622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76720" y="201924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05320" y="914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3886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81280" y="4572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34290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648320" y="3429000"/>
            <a:ext cx="3808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572000" y="4342680"/>
            <a:ext cx="622440" cy="749160"/>
          </a:xfrm>
          <a:custGeom>
            <a:avLst/>
            <a:gdLst/>
            <a:ahLst/>
            <a:rect l="l" t="t" r="r" b="b"/>
            <a:pathLst>
              <a:path w="392" h="472">
                <a:moveTo>
                  <a:pt x="0" y="264"/>
                </a:moveTo>
                <a:cubicBezTo>
                  <a:pt x="16" y="132"/>
                  <a:pt x="32" y="0"/>
                  <a:pt x="96" y="24"/>
                </a:cubicBezTo>
                <a:cubicBezTo>
                  <a:pt x="160" y="48"/>
                  <a:pt x="376" y="344"/>
                  <a:pt x="384" y="408"/>
                </a:cubicBezTo>
                <a:cubicBezTo>
                  <a:pt x="392" y="472"/>
                  <a:pt x="268" y="440"/>
                  <a:pt x="144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0948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ega automata are strictly more expressive than LT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327672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ega-automa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ega-regula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:   counter-free omega-regula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6209000">
            <a:off x="4100760" y="374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048120" y="1219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12193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1447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885840" y="1828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528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71600" y="2743200"/>
            <a:ext cx="7010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) (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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) ( p(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) (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(t+2)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) (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(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; tru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4267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 trace  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(sequence of observ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39625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iff     for all 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K,q),  t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,q) |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iff     exists 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(K,q),  t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44792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 o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adlock-f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-transition graph K at state q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K,q)  =  set of infinite traces of K starting at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12680" y="14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990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L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057400"/>
            <a:ext cx="838224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 |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  t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  t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  not  t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 |=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 |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s 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 s.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for all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 &lt; n,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2.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.. |=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259092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 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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=  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Wingdings 2"/>
                <a:ea typeface="Wingdings 2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waiting-for (weak-unt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1219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mod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6:51:23Z</dcterms:created>
  <dc:creator>tah</dc:creator>
  <dc:description/>
  <dc:language>en-US</dc:language>
  <cp:lastModifiedBy>qadeer</cp:lastModifiedBy>
  <dcterms:modified xsi:type="dcterms:W3CDTF">2006-04-13T01:43:32Z</dcterms:modified>
  <cp:revision>102</cp:revision>
  <dc:subject/>
  <dc:title>PowerPoint Presentation</dc:title>
</cp:coreProperties>
</file>