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369F-24F1-4C37-B214-456D8576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2EA-8607-4341-82C6-71626B0E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EB7A-37E5-4225-BDA6-F375B4D7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561-1BD0-4024-8A80-9F79F8CD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5547-BD10-4A84-9FA7-04CBDECA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190F-54DC-4290-8EEC-72356628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AE7F-C9D9-45E3-9B0B-693FE91C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8BE-D9A7-49B6-AF76-758B821A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737D-54B0-4732-883A-02A75A8C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7C2-A75C-43A2-92DD-64896F49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8CD-D460-4EC0-BC17-54FE2A99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DCA-90DA-4F24-BA53-B0A38513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C7AA-14E3-4149-B79B-C43DC9238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1676520"/>
            <a:ext cx="6858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ctur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259092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7400" y="17524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304812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control logic of hardware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communication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evice dri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28800" y="9907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digmatic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tual-exclusion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048120"/>
            <a:ext cx="4114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ou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x1 := 1; last :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req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await  x2 = 0  or  last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i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x1 :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 lo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3048120"/>
            <a:ext cx="39621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ou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x2 := 1; last :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req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await  x1 = 0  or  last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i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x2 :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 lo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5943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1447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-checkin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27432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|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ystem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38098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ystem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5181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atisfaction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572000" y="3352320"/>
            <a:ext cx="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505320" y="3352320"/>
            <a:ext cx="228600" cy="3812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5333760" y="3352320"/>
            <a:ext cx="228600" cy="381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90720" y="1447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-checkin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27432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|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ystem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38098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ystem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5181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atisfaction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572000" y="3352320"/>
            <a:ext cx="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505320" y="3352320"/>
            <a:ext cx="228600" cy="3812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333760" y="3352320"/>
            <a:ext cx="228600" cy="381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657600"/>
            <a:ext cx="2362320" cy="7621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14479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ortant decisions when choosing a system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2590920"/>
            <a:ext cx="61722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tate-based vs. event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interleaving vs. true concur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ynchronous vs. asynchronous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52480" y="1295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ular combinations of choices y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2590920"/>
            <a:ext cx="342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O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tive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0200" y="17524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362320"/>
            <a:ext cx="7543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le the choice of system model is important for ease of modeling in a given situ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only thing that is important for model checking is that the system model can be translated into some form of state-transition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62520" y="1676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36576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36576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505320" y="2514600"/>
            <a:ext cx="76176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590920"/>
            <a:ext cx="83844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4952520" y="2437920"/>
            <a:ext cx="8384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44800" y="3556080"/>
            <a:ext cx="622080" cy="1117440"/>
          </a:xfrm>
          <a:custGeom>
            <a:avLst/>
            <a:gdLst/>
            <a:ahLst/>
            <a:rect l="l" t="t" r="r" b="b"/>
            <a:pathLst>
              <a:path w="392" h="704">
                <a:moveTo>
                  <a:pt x="392" y="448"/>
                </a:moveTo>
                <a:cubicBezTo>
                  <a:pt x="252" y="576"/>
                  <a:pt x="112" y="704"/>
                  <a:pt x="56" y="640"/>
                </a:cubicBezTo>
                <a:cubicBezTo>
                  <a:pt x="0" y="576"/>
                  <a:pt x="0" y="128"/>
                  <a:pt x="56" y="64"/>
                </a:cubicBezTo>
                <a:cubicBezTo>
                  <a:pt x="112" y="0"/>
                  <a:pt x="252" y="128"/>
                  <a:pt x="392" y="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3886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13716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4419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4419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76520" y="1447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-transi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2743200"/>
            <a:ext cx="82296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et of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et of atomic observ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a,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    transition relation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]: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bservation function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 = 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5943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 of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057040" y="4876560"/>
            <a:ext cx="15228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7621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tual-exclusion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209680"/>
            <a:ext cx="4114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ou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x1 := 1; last :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req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await  x2 = 0  or  last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i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x1 :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 lo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2209680"/>
            <a:ext cx="39621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ou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x2 := 1; last :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req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await  x1 = 0  or  last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i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x2 :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 lo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6680" y="914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259092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1905120"/>
            <a:ext cx="7696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 Specifications: logic vs. automata, linear vs. branching, safety vs. l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 Graph algorithms for model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mbolic algorithms for model chec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shdow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62520" y="914400"/>
            <a:ext cx="121896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o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3200400"/>
            <a:ext cx="121932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r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2057400"/>
            <a:ext cx="121932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o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1981080"/>
            <a:ext cx="1219320" cy="609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r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4191120"/>
            <a:ext cx="121932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r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3124080"/>
            <a:ext cx="1219320" cy="609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o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886200" y="15238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819520" y="26668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886200" y="37339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365760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2920" y="25909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26668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257080" y="3124080"/>
            <a:ext cx="622440" cy="762120"/>
          </a:xfrm>
          <a:custGeom>
            <a:avLst/>
            <a:gdLst/>
            <a:ahLst/>
            <a:rect l="l" t="t" r="r" b="b"/>
            <a:pathLst>
              <a:path w="392" h="704">
                <a:moveTo>
                  <a:pt x="392" y="448"/>
                </a:moveTo>
                <a:cubicBezTo>
                  <a:pt x="252" y="576"/>
                  <a:pt x="112" y="704"/>
                  <a:pt x="56" y="640"/>
                </a:cubicBezTo>
                <a:cubicBezTo>
                  <a:pt x="0" y="576"/>
                  <a:pt x="0" y="128"/>
                  <a:pt x="56" y="64"/>
                </a:cubicBezTo>
                <a:cubicBezTo>
                  <a:pt x="112" y="0"/>
                  <a:pt x="252" y="128"/>
                  <a:pt x="392" y="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3" idx="2"/>
            <a:endCxn id="128" idx="2"/>
          </p:cNvCxnSpPr>
          <p:nvPr/>
        </p:nvCxnSpPr>
        <p:spPr>
          <a:xfrm flipH="1" rot="10800000">
            <a:off x="1808640" y="1218600"/>
            <a:ext cx="2134440" cy="2210400"/>
          </a:xfrm>
          <a:prstGeom prst="curvedConnector5">
            <a:avLst>
              <a:gd name="adj1" fmla="val -9817"/>
              <a:gd name="adj2" fmla="val 49991"/>
              <a:gd name="adj3" fmla="val -9817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2" name=""/>
          <p:cNvSpPr/>
          <p:nvPr/>
        </p:nvSpPr>
        <p:spPr>
          <a:xfrm flipH="1">
            <a:off x="2743200" y="480060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480060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248520" y="25909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1447920"/>
            <a:ext cx="16002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4038480"/>
            <a:ext cx="1447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c1: {o,r,i} pc2: {o,r,i} x1: {0,1} x2: {0,1} last: {1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5791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= 72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676520" y="1371600"/>
            <a:ext cx="632448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translation from a system description to a state-transition graph usually involves an exponential blow-up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 n boolean variable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called the “state-explosion probl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 state-transition graphs don’t hand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60020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recursion (need pushdown mode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process cre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4876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ill talk about some of these issues in a later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2680" y="3170160"/>
            <a:ext cx="78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-transition graphs are not necessarily finite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0720" y="1447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-checkin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27432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|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ystem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38098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ystem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5181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atisfaction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572000" y="3352320"/>
            <a:ext cx="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505320" y="3352320"/>
            <a:ext cx="228600" cy="3812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334120" y="3352680"/>
            <a:ext cx="30456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3657600"/>
            <a:ext cx="2819160" cy="83808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280" y="9144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important decisions when choosing system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1905120"/>
            <a:ext cx="693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utomata vs.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ranching vs. linear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 vs. l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9144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important decisions when choosing system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1905120"/>
            <a:ext cx="693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utomata vs.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ranching vs. linear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 vs. l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50292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three decisions are orthogonal, and they lead to substantially different model-checking problem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2280" y="9144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important decisions when choosing system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1905120"/>
            <a:ext cx="693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utomata vs.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ranching vs. linear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 vs. l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50292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three decisions are orthogonal, and they lead to substantially different model-checking problem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828800" y="1371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 vs. l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281952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:    something “bad” will never 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veness:  something “good” will happ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(but we don’t know wh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71600" y="12193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 vs. liveness for sequential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3124080"/>
            <a:ext cx="7010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:    the program will never produce a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wrong result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“partial correctnes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veness:  the program will produce a result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“terminati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371600" y="12193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 vs. liveness for sequential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124080"/>
            <a:ext cx="7010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:    the program will never produce a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wrong result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“partial correctnes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veness:  the program will produce a result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“terminati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2362320"/>
            <a:ext cx="56390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odel check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rrowly interpre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 procedures for checking if   a given Kripke structure is a model for a given formula of a modal log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10666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 vs. liveness for state-transition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213372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t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ose properties whose violation alway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has a finite witne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“if something bad happens on an infinite run,   then it happens already on some finite prefix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4267080"/>
            <a:ext cx="746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iven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ose properties whose violation never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has a finite witnes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(“no matter what happens along a finite run, something good could still happen late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962520" y="83808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281952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281952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505320" y="1676520"/>
            <a:ext cx="76176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1752480"/>
            <a:ext cx="8384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4952520" y="1599840"/>
            <a:ext cx="8384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44800" y="2717640"/>
            <a:ext cx="622080" cy="1117800"/>
          </a:xfrm>
          <a:custGeom>
            <a:avLst/>
            <a:gdLst/>
            <a:ahLst/>
            <a:rect l="l" t="t" r="r" b="b"/>
            <a:pathLst>
              <a:path w="392" h="704">
                <a:moveTo>
                  <a:pt x="392" y="448"/>
                </a:moveTo>
                <a:cubicBezTo>
                  <a:pt x="252" y="576"/>
                  <a:pt x="112" y="704"/>
                  <a:pt x="56" y="640"/>
                </a:cubicBezTo>
                <a:cubicBezTo>
                  <a:pt x="0" y="576"/>
                  <a:pt x="0" y="128"/>
                  <a:pt x="56" y="64"/>
                </a:cubicBezTo>
                <a:cubicBezTo>
                  <a:pt x="112" y="0"/>
                  <a:pt x="252" y="128"/>
                  <a:pt x="392" y="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533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3581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3581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4952880"/>
            <a:ext cx="73152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:   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ac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b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a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b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a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,b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,b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19320" y="14479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-transition graph  S = ( Q, A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[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2743200"/>
            <a:ext cx="6172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 ru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Runs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inite runs:         infRuns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ite traces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Traces(S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finite traces:      infTraces(S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2514600"/>
            <a:ext cx="6095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:   the properties that can b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checked on fin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veness:   the properties that cannot b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checked on fin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447920" y="2514600"/>
            <a:ext cx="64767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:   the properties that can b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checked on fin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veness:   the properties that cannot b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checked on fin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they need to be checked on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infR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48320" y="9907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is is much eas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409720" y="1447920"/>
            <a:ext cx="381240" cy="10666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828800" y="1447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 Mutual ex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25909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cannot happen that both processes are in their critical sections simultaneou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828800" y="1447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 Mutual ex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25909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cannot happen that both processes are in their critical sections simultaneou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4343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828800" y="1447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 Bounded over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25909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ever process P1 wants to enter the critical section, then process P2 gets to enter at most once before process P1 gets to e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828800" y="1447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 Bounded over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25909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ever process P1 wants to enter the critical section, then process P2 gets to enter at most once before process P1 gets to e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4343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828800" y="1447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 Starvation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25909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ever process P1 wants to enter the critical section, provided process P2 never stays in the critical section forever, P1 gets to enter eventu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00200" y="12193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is this of interest to 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209680"/>
            <a:ext cx="723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ause the dynamics of a discrete system can be captured by a Kripke struc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ause some dynamic properties of a discrete system can be stated in modal logi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457200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 checking = System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828800" y="1447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 Starvation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25909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ever process P1 wants to enter the critical section, provided process P2 never stays in the critical section forever, P1 gets to enter eventu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4343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962520" y="83808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281952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10080" y="281952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505320" y="1676520"/>
            <a:ext cx="76176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1752480"/>
            <a:ext cx="8384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4952520" y="1599840"/>
            <a:ext cx="8384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44800" y="2717640"/>
            <a:ext cx="622080" cy="1117800"/>
          </a:xfrm>
          <a:custGeom>
            <a:avLst/>
            <a:gdLst/>
            <a:ahLst/>
            <a:rect l="l" t="t" r="r" b="b"/>
            <a:pathLst>
              <a:path w="392" h="704">
                <a:moveTo>
                  <a:pt x="392" y="448"/>
                </a:moveTo>
                <a:cubicBezTo>
                  <a:pt x="252" y="576"/>
                  <a:pt x="112" y="704"/>
                  <a:pt x="56" y="640"/>
                </a:cubicBezTo>
                <a:cubicBezTo>
                  <a:pt x="0" y="576"/>
                  <a:pt x="0" y="128"/>
                  <a:pt x="56" y="64"/>
                </a:cubicBezTo>
                <a:cubicBezTo>
                  <a:pt x="112" y="0"/>
                  <a:pt x="252" y="128"/>
                  <a:pt x="392" y="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6708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533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48520" y="3581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3581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5029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Runs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fin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962520" y="83808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81952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281952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505320" y="1676520"/>
            <a:ext cx="76176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24280" y="1752480"/>
            <a:ext cx="8384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4952520" y="1599840"/>
            <a:ext cx="8384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44800" y="2717640"/>
            <a:ext cx="622080" cy="1117800"/>
          </a:xfrm>
          <a:custGeom>
            <a:avLst/>
            <a:gdLst/>
            <a:ahLst/>
            <a:rect l="l" t="t" r="r" b="b"/>
            <a:pathLst>
              <a:path w="392" h="704">
                <a:moveTo>
                  <a:pt x="392" y="448"/>
                </a:moveTo>
                <a:cubicBezTo>
                  <a:pt x="252" y="576"/>
                  <a:pt x="112" y="704"/>
                  <a:pt x="56" y="640"/>
                </a:cubicBezTo>
                <a:cubicBezTo>
                  <a:pt x="0" y="576"/>
                  <a:pt x="0" y="128"/>
                  <a:pt x="56" y="64"/>
                </a:cubicBezTo>
                <a:cubicBezTo>
                  <a:pt x="112" y="0"/>
                  <a:pt x="252" y="128"/>
                  <a:pt x="392" y="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6708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9548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533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520" y="3581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3581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33720" y="5029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Runs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fin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81280" y="56386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closure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63244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ite bran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057400" y="27432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state-transition graphs,             all properties are safety properti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828800" y="1447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 Starvation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909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ever process P1 wants to enter the critical section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vided process P2 never stays in the critical section forev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P1 gets to enter eventu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4343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62520" y="83808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281952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10080" y="281952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505320" y="1676520"/>
            <a:ext cx="76176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24280" y="1752480"/>
            <a:ext cx="8384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4952520" y="1599840"/>
            <a:ext cx="8384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44800" y="2717640"/>
            <a:ext cx="622080" cy="1117800"/>
          </a:xfrm>
          <a:custGeom>
            <a:avLst/>
            <a:gdLst/>
            <a:ahLst/>
            <a:rect l="l" t="t" r="r" b="b"/>
            <a:pathLst>
              <a:path w="392" h="704">
                <a:moveTo>
                  <a:pt x="392" y="448"/>
                </a:moveTo>
                <a:cubicBezTo>
                  <a:pt x="252" y="576"/>
                  <a:pt x="112" y="704"/>
                  <a:pt x="56" y="640"/>
                </a:cubicBezTo>
                <a:cubicBezTo>
                  <a:pt x="0" y="576"/>
                  <a:pt x="0" y="128"/>
                  <a:pt x="56" y="64"/>
                </a:cubicBezTo>
                <a:cubicBezTo>
                  <a:pt x="112" y="0"/>
                  <a:pt x="252" y="128"/>
                  <a:pt x="392" y="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533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3581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3581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33920" y="1981080"/>
            <a:ext cx="457200" cy="45720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71600" y="487692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irness constra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green transition cannot be ignored for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962520" y="83808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66880" y="281952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10080" y="281952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505320" y="1676520"/>
            <a:ext cx="76176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24280" y="1752480"/>
            <a:ext cx="8384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952520" y="1599840"/>
            <a:ext cx="8384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44800" y="2717640"/>
            <a:ext cx="622080" cy="1117800"/>
          </a:xfrm>
          <a:custGeom>
            <a:avLst/>
            <a:gdLst/>
            <a:ahLst/>
            <a:rect l="l" t="t" r="r" b="b"/>
            <a:pathLst>
              <a:path w="392" h="704">
                <a:moveTo>
                  <a:pt x="392" y="448"/>
                </a:moveTo>
                <a:cubicBezTo>
                  <a:pt x="252" y="576"/>
                  <a:pt x="112" y="704"/>
                  <a:pt x="56" y="640"/>
                </a:cubicBezTo>
                <a:cubicBezTo>
                  <a:pt x="0" y="576"/>
                  <a:pt x="0" y="128"/>
                  <a:pt x="56" y="64"/>
                </a:cubicBezTo>
                <a:cubicBezTo>
                  <a:pt x="112" y="0"/>
                  <a:pt x="252" y="128"/>
                  <a:pt x="392" y="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6708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9548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81280" y="533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48520" y="3581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581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876920"/>
            <a:ext cx="8001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out fairness:   infRuns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fairness:        infRuns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33920" y="1981080"/>
            <a:ext cx="457200" cy="45720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76520" y="1219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important types of fai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6680" y="2590920"/>
            <a:ext cx="7391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  Weak (Buchi) fairnes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pecified set of transitions cannot b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abled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ev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out being ta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 Strong (Streett) fairn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pecified set of transitions cannot b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abled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finitely oft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out being ta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962520" y="83808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281952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10080" y="281952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505320" y="1676520"/>
            <a:ext cx="76176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24280" y="1752480"/>
            <a:ext cx="8384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952520" y="1599840"/>
            <a:ext cx="8384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44800" y="2717640"/>
            <a:ext cx="622080" cy="1117800"/>
          </a:xfrm>
          <a:custGeom>
            <a:avLst/>
            <a:gdLst/>
            <a:ahLst/>
            <a:rect l="l" t="t" r="r" b="b"/>
            <a:pathLst>
              <a:path w="392" h="704">
                <a:moveTo>
                  <a:pt x="392" y="448"/>
                </a:moveTo>
                <a:cubicBezTo>
                  <a:pt x="252" y="576"/>
                  <a:pt x="112" y="704"/>
                  <a:pt x="56" y="640"/>
                </a:cubicBezTo>
                <a:cubicBezTo>
                  <a:pt x="0" y="576"/>
                  <a:pt x="0" y="128"/>
                  <a:pt x="56" y="64"/>
                </a:cubicBezTo>
                <a:cubicBezTo>
                  <a:pt x="112" y="0"/>
                  <a:pt x="252" y="128"/>
                  <a:pt x="392" y="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6708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81280" y="533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485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33920" y="1981080"/>
            <a:ext cx="457200" cy="45720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5029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rong fai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962520" y="83808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2819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95680" y="17524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40080" y="2717640"/>
            <a:ext cx="622440" cy="1117800"/>
          </a:xfrm>
          <a:custGeom>
            <a:avLst/>
            <a:gdLst/>
            <a:ahLst/>
            <a:rect l="l" t="t" r="r" b="b"/>
            <a:pathLst>
              <a:path w="392" h="704">
                <a:moveTo>
                  <a:pt x="392" y="448"/>
                </a:moveTo>
                <a:cubicBezTo>
                  <a:pt x="252" y="576"/>
                  <a:pt x="112" y="704"/>
                  <a:pt x="56" y="640"/>
                </a:cubicBezTo>
                <a:cubicBezTo>
                  <a:pt x="0" y="576"/>
                  <a:pt x="0" y="128"/>
                  <a:pt x="56" y="64"/>
                </a:cubicBezTo>
                <a:cubicBezTo>
                  <a:pt x="112" y="0"/>
                  <a:pt x="252" y="128"/>
                  <a:pt x="392" y="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6708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911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769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1981080"/>
            <a:ext cx="457200" cy="45720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90920" y="5029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eak fai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352680" y="685800"/>
            <a:ext cx="622440" cy="1117440"/>
          </a:xfrm>
          <a:custGeom>
            <a:avLst/>
            <a:gdLst/>
            <a:ahLst/>
            <a:rect l="l" t="t" r="r" b="b"/>
            <a:pathLst>
              <a:path w="392" h="704">
                <a:moveTo>
                  <a:pt x="392" y="448"/>
                </a:moveTo>
                <a:cubicBezTo>
                  <a:pt x="252" y="576"/>
                  <a:pt x="112" y="704"/>
                  <a:pt x="56" y="640"/>
                </a:cubicBezTo>
                <a:cubicBezTo>
                  <a:pt x="0" y="576"/>
                  <a:pt x="0" y="128"/>
                  <a:pt x="56" y="64"/>
                </a:cubicBezTo>
                <a:cubicBezTo>
                  <a:pt x="112" y="0"/>
                  <a:pt x="252" y="128"/>
                  <a:pt x="392" y="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2209680"/>
            <a:ext cx="6019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odel check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enerously interpre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gorithms, rather than proof calculi, for system verification which operate on a system model (semantics), rather than a system description (synta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9480" y="1447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r state-transition graph  S = ( Q, A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[], WF, S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19320" y="28954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828800" y="2895480"/>
            <a:ext cx="6095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F     set of weakly fa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F       set of strongly fa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each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subset o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43000" y="12952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ak fairness comes from modeling concur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05120" y="251460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loop x:=0 end lo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251460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oop x:=1 end lo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670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9520" y="3809880"/>
            <a:ext cx="121896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029200" y="3809880"/>
            <a:ext cx="121932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09680" y="3733920"/>
            <a:ext cx="622440" cy="1117440"/>
          </a:xfrm>
          <a:custGeom>
            <a:avLst/>
            <a:gdLst/>
            <a:ahLst/>
            <a:rect l="l" t="t" r="r" b="b"/>
            <a:pathLst>
              <a:path w="392" h="704">
                <a:moveTo>
                  <a:pt x="392" y="448"/>
                </a:moveTo>
                <a:cubicBezTo>
                  <a:pt x="252" y="576"/>
                  <a:pt x="112" y="704"/>
                  <a:pt x="56" y="640"/>
                </a:cubicBezTo>
                <a:cubicBezTo>
                  <a:pt x="0" y="576"/>
                  <a:pt x="0" y="128"/>
                  <a:pt x="56" y="64"/>
                </a:cubicBezTo>
                <a:cubicBezTo>
                  <a:pt x="112" y="0"/>
                  <a:pt x="252" y="128"/>
                  <a:pt x="392" y="256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248520" y="3733920"/>
            <a:ext cx="622080" cy="1117440"/>
          </a:xfrm>
          <a:custGeom>
            <a:avLst/>
            <a:gdLst/>
            <a:ahLst/>
            <a:rect l="l" t="t" r="r" b="b"/>
            <a:pathLst>
              <a:path w="392" h="704">
                <a:moveTo>
                  <a:pt x="392" y="448"/>
                </a:moveTo>
                <a:cubicBezTo>
                  <a:pt x="252" y="576"/>
                  <a:pt x="112" y="704"/>
                  <a:pt x="56" y="640"/>
                </a:cubicBezTo>
                <a:cubicBezTo>
                  <a:pt x="0" y="576"/>
                  <a:pt x="0" y="128"/>
                  <a:pt x="56" y="64"/>
                </a:cubicBezTo>
                <a:cubicBezTo>
                  <a:pt x="112" y="0"/>
                  <a:pt x="252" y="128"/>
                  <a:pt x="392" y="2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41911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038480" y="4419720"/>
            <a:ext cx="9907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00400" y="525780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Weakly fair ac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eakly fair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143000" y="6094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ong fairness comes from modeling 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4419720"/>
            <a:ext cx="121896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05320" y="5715000"/>
            <a:ext cx="281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Strongly fair ac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trongly fair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00400" y="152388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 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x:=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|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x:=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end lo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48120" y="4495680"/>
            <a:ext cx="83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c=n x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410080" y="4419720"/>
            <a:ext cx="121932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38680" y="4572000"/>
            <a:ext cx="83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c=n x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819520" y="2971800"/>
            <a:ext cx="121896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8120" y="3048120"/>
            <a:ext cx="83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c=m x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10080" y="2971800"/>
            <a:ext cx="121932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38680" y="3124080"/>
            <a:ext cx="83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c=m x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3962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48520" y="3962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505320" y="3962520"/>
            <a:ext cx="0" cy="4572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867280" y="3962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3962160" y="3733920"/>
            <a:ext cx="1600200" cy="8380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962520" y="3809520"/>
            <a:ext cx="160020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600200" y="1600200"/>
            <a:ext cx="6400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ak fairness is sufficient for asynchronous model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(“no process waits forever if it can move”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ong fairness is necessary for modeling resource conten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rong fairness makes model checking more difficult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80880" y="2743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rness changes only infRuns, not fin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rness can be ignored for checking safety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905120" y="2362320"/>
            <a:ext cx="5638680" cy="8254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 vast majority of properties to be verified are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00200" y="3733920"/>
            <a:ext cx="6629400" cy="15570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hile nobody will ever observe the violation of a true liveness property, fairness is a useful abstraction that turns complicated safety into simple live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143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re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52280" y="9907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important decisions when choosing system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2305080"/>
            <a:ext cx="693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utomata vs.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ranching vs. linear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 vs. l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2120" y="50292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three decisions are orthogonal, and they lead to substantially different model-checking problem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57200" y="1447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r state-transition graph  S = ( Q, A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[], WF, SF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23880" y="2743200"/>
            <a:ext cx="6172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 ru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Runs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inite runs:         infRuns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ite traces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Traces(S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finite traces:      infTraces(S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447920" y="2514600"/>
            <a:ext cx="6858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inear time:   the properties that can b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checked on infT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nching time:   the properties that cannot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be checked on infT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1371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nching vs. linea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133720" y="762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7920" y="3886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3886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4792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9548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3886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29400" y="3886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23623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91320" y="762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057400" y="152388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19520" y="152388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48520" y="1600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05120" y="30481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29000" y="30481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791320" y="3200400"/>
            <a:ext cx="30456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477120" y="3200400"/>
            <a:ext cx="3808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6232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199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765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199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765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100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004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94120" y="5867280"/>
            <a:ext cx="38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2120" y="541008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me trac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axb, axc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Different runs     {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,  {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609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533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733920" y="2133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0" y="2133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629400" y="2209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9880" y="3809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467480" y="3809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43600" y="3809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0" y="3809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266688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many different model-checking 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different (classes of) system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different (classes of) system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133720" y="762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47920" y="3886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71800" y="3886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9548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05520" y="3886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29400" y="3886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91320" y="23623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762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057400" y="152388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19520" y="152388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248520" y="1600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05120" y="30481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30481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5791320" y="3200400"/>
            <a:ext cx="30456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3200400"/>
            <a:ext cx="3808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36232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199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765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199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765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100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004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71800" y="609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53080" y="533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2133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2133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629400" y="2209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09880" y="3809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467480" y="3809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43600" y="3809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0" y="3809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9160" y="5202360"/>
            <a:ext cx="84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ar-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ll traces, a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ust happen immediately followed b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143000" y="914400"/>
            <a:ext cx="457200" cy="380880"/>
            <a:chOff x="1143000" y="914400"/>
            <a:chExt cx="457200" cy="380880"/>
          </a:xfrm>
        </p:grpSpPr>
        <p:sp>
          <p:nvSpPr>
            <p:cNvPr id="425" name=""/>
            <p:cNvSpPr/>
            <p:nvPr/>
          </p:nvSpPr>
          <p:spPr>
            <a:xfrm>
              <a:off x="1143000" y="914400"/>
              <a:ext cx="4572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1143000" y="914400"/>
              <a:ext cx="4572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7315200" y="914400"/>
            <a:ext cx="457200" cy="380880"/>
            <a:chOff x="7315200" y="914400"/>
            <a:chExt cx="457200" cy="380880"/>
          </a:xfrm>
        </p:grpSpPr>
        <p:sp>
          <p:nvSpPr>
            <p:cNvPr id="428" name=""/>
            <p:cNvSpPr/>
            <p:nvPr/>
          </p:nvSpPr>
          <p:spPr>
            <a:xfrm>
              <a:off x="7315200" y="914400"/>
              <a:ext cx="4572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315200" y="914400"/>
              <a:ext cx="4572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133720" y="762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47920" y="3886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71800" y="3886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05520" y="3886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3886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91320" y="23623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762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2057400" y="152388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19520" y="152388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248520" y="1600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05120" y="30481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429000" y="30481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791320" y="3200400"/>
            <a:ext cx="30456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77120" y="3200400"/>
            <a:ext cx="3808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36232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199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6765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199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765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004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71800" y="609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553080" y="533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33920" y="2133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86000" y="2133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29400" y="2209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09880" y="3809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467480" y="3809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3809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86000" y="3809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680" y="5202360"/>
            <a:ext cx="904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ar-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ll traces, a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ust happen immediately followed b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162920" y="1104840"/>
            <a:ext cx="533160" cy="457200"/>
            <a:chOff x="7162920" y="1104840"/>
            <a:chExt cx="533160" cy="457200"/>
          </a:xfrm>
        </p:grpSpPr>
        <p:sp>
          <p:nvSpPr>
            <p:cNvPr id="466" name=""/>
            <p:cNvSpPr/>
            <p:nvPr/>
          </p:nvSpPr>
          <p:spPr>
            <a:xfrm>
              <a:off x="7162920" y="1409760"/>
              <a:ext cx="15228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7315200" y="1104840"/>
              <a:ext cx="38088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066680" y="1104840"/>
            <a:ext cx="533160" cy="457200"/>
            <a:chOff x="1066680" y="1104840"/>
            <a:chExt cx="533160" cy="457200"/>
          </a:xfrm>
        </p:grpSpPr>
        <p:sp>
          <p:nvSpPr>
            <p:cNvPr id="469" name=""/>
            <p:cNvSpPr/>
            <p:nvPr/>
          </p:nvSpPr>
          <p:spPr>
            <a:xfrm>
              <a:off x="1066680" y="1409760"/>
              <a:ext cx="15228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1218960" y="1104840"/>
              <a:ext cx="38088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133720" y="762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3886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3886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9548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05520" y="3886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29400" y="3886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91320" y="23623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791320" y="762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2057400" y="152388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152388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48520" y="1600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05120" y="30481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30481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5791320" y="3200400"/>
            <a:ext cx="30456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77120" y="3200400"/>
            <a:ext cx="3808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6232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199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765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199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6765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100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004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994120" y="5867280"/>
            <a:ext cx="38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71800" y="609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553080" y="533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3920" y="2133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0" y="2133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629400" y="2209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09880" y="3809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67480" y="3809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3809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86000" y="3809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023840" y="5202360"/>
            <a:ext cx="705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nching-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ust happen immediately following wh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y happen and 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y 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143000" y="914400"/>
            <a:ext cx="457200" cy="380880"/>
            <a:chOff x="1143000" y="914400"/>
            <a:chExt cx="457200" cy="380880"/>
          </a:xfrm>
        </p:grpSpPr>
        <p:sp>
          <p:nvSpPr>
            <p:cNvPr id="508" name=""/>
            <p:cNvSpPr/>
            <p:nvPr/>
          </p:nvSpPr>
          <p:spPr>
            <a:xfrm>
              <a:off x="1143000" y="914400"/>
              <a:ext cx="4572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143000" y="914400"/>
              <a:ext cx="4572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7162920" y="1066680"/>
            <a:ext cx="533160" cy="457200"/>
            <a:chOff x="7162920" y="1066680"/>
            <a:chExt cx="533160" cy="457200"/>
          </a:xfrm>
        </p:grpSpPr>
        <p:sp>
          <p:nvSpPr>
            <p:cNvPr id="511" name=""/>
            <p:cNvSpPr/>
            <p:nvPr/>
          </p:nvSpPr>
          <p:spPr>
            <a:xfrm>
              <a:off x="7162920" y="1371600"/>
              <a:ext cx="15228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7315200" y="1066680"/>
              <a:ext cx="38088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133720" y="12193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447920" y="43434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971800" y="43434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447920" y="26668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95480" y="26668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43434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629400" y="43434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791320" y="28195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91320" y="12193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057400" y="198108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819520" y="198108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248520" y="20574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905120" y="35053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429000" y="35053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5791320" y="3657600"/>
            <a:ext cx="30456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77120" y="3657600"/>
            <a:ext cx="3808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6232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12408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67652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19920" y="14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7652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41008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0040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994120" y="5867280"/>
            <a:ext cx="38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14400" y="5791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me trac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ifferent run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different trace tre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152280" y="9907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important decisions when choosing system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371600" y="1905120"/>
            <a:ext cx="693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utomata vs.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ranching vs. linear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 vs. l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62120" y="50292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three decisions are orthogonal, and they lead to substantially different model-checking problem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262160" y="18828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685800" y="266688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n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venes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TL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666880" y="3124080"/>
            <a:ext cx="5791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00400" y="1143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g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1752480" y="16765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L (Safe Temporal Log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514600" y="32767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safety (only finite r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bran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828800" y="10666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ng a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66680" y="2438280"/>
            <a:ext cx="6172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ax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re the formul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Seman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re the mod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es model M satisfy formul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238880" y="4648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|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447920" y="121932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" y="1066680"/>
            <a:ext cx="8686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sitional log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boolean variable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a,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&amp;  boolean operators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model = truth-value assignment for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sitional modal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e.g., temporal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ogic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 ...  &amp;  modal operator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model = set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e.g., temporally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lated prop.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447920" y="121932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" y="1066680"/>
            <a:ext cx="8686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sitional log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boolean variable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a,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&amp;  boolean operators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model = truth-value assignment for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sitional modal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e.g., temporal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ogic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 ...  &amp;  modal operator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model = set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e.g., temporally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lated prop.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81680" y="5105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7848720" y="480024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8080" y="5867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-transition graph (“Kripke structur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676520" y="4800240"/>
            <a:ext cx="0" cy="1066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33920" y="304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ic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191120" y="762120"/>
            <a:ext cx="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1447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pecific model-checking problem is defin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27432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|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3809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mplementation” (system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380988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pecification” (system proper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51814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atisfies”, “implements”, “refines” (satisfaction re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572000" y="3352320"/>
            <a:ext cx="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505320" y="3352320"/>
            <a:ext cx="228600" cy="3812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5333760" y="3352320"/>
            <a:ext cx="228600" cy="381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057400" y="1219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L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2743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::=   a  |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|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|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|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" y="48769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olean variable (atomic observ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9548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olean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486400" y="5105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al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2057400" y="3200040"/>
            <a:ext cx="6094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657240" y="327636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4419720" y="327636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5866920" y="3276720"/>
            <a:ext cx="7621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010280" y="3276720"/>
            <a:ext cx="1526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2286000" y="1447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05320" y="2971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K, q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95280" y="4952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-transition graph (Kripke structur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4114800" y="35053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257800" y="4952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of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 flipV="1">
            <a:off x="5105160" y="350532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1012680" y="144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95280" y="990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L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4920" y="2057400"/>
            <a:ext cx="868680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,q)  |=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q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,q)  |=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iff    (K,q) |=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and  (K,q) |=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,q)  |=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iff    not  (K,q) |=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,q)  |=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iff    exists  q’  s.t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’  and  (K,q’) |=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,q)  |=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ff    exists q = q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1.  for all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 &lt; n,  (K,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|=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2.  (K,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|=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990720" y="1676520"/>
            <a:ext cx="7467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E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exists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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forall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E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ists u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E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ists event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A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all al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Symbol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( (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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 (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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forall waiting-f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(forall weak-unt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9092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d mod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90512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3520" y="1905120"/>
            <a:ext cx="86104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Derive the semantics of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K,q) |=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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W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f  for all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… s.t. q =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…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ither for all 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,  (K,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|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exists 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 s.t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all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 &lt; n,  (K,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|=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K,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|=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                             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Derive the semantics of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( (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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 (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)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K,q) |=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( (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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U (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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))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f  ??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339720" y="60948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K,q) |=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66520" y="1447920"/>
            <a:ext cx="77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executions starting from q,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satisfied at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fore a (the first) violation of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13080" y="2514600"/>
            <a:ext cx="8105040" cy="41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K,q) |=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                                                   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K,q) |=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( (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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 (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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))                                      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(exists q = q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...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for all 0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i &lt; n. (K,q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) |=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and  (K,q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) |=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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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)   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or all q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= q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...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xists 0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i &lt; n. (K,q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) |=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or  (K,q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) |=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           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or all q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= q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...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xists 0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i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n. (K,q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) |=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or  (K,q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) |=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                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or all q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= q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...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(K,q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) |=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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exists 0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i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n. (K,q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) |=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600200" y="1295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ortant safety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320" y="2666880"/>
            <a:ext cx="7162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aria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cing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 b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 c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 (b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 (c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 d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219320" y="1295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ortant safety properties:  mute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4920" y="2666880"/>
            <a:ext cx="883908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ariance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pc1=in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c2=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cing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3333cc"/>
                </a:solidFill>
                <a:latin typeface="Wingdings 2"/>
                <a:ea typeface="Wingdings 2"/>
              </a:rPr>
              <a:t>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( pc1=req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pc2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W (pc2=in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W (pc2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)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W (pc1=in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1600200" y="1295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nching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2819520"/>
            <a:ext cx="8077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adlock freedom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il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(a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pc1=req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pc1=i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828800" y="1600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L (Computation Tree Log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276720" y="27432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afety &amp; l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branch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00200" y="45720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Clarke &amp; Emerson; Queille &amp; Sifakis 198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43000" y="1447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pecific model-checking problem is defin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27432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|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3809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mplementation” (system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380988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pecification” (system proper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51814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atisfies”, “implements”, “refines” (satisfaction re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572000" y="3352320"/>
            <a:ext cx="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505320" y="3352320"/>
            <a:ext cx="228600" cy="3812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5333760" y="3352320"/>
            <a:ext cx="228600" cy="381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819520"/>
            <a:ext cx="2210040" cy="45972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ore deta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2819520"/>
            <a:ext cx="23623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re 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2057400" y="1219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L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5800" y="2743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::=   a  |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|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|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|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|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0" y="1447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505320" y="2971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K, q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33520" y="49528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i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-transition 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4114800" y="35053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257800" y="4952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of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5105160" y="350532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012680" y="144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95280" y="14479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L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2514600"/>
            <a:ext cx="914400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,q)  |=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iff    exist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...  s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q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..  is a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finite fair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for all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,  (K,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|=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990720" y="228600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E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exists al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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forall event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Symbol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(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Symbol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(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90920" y="914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d mod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600200" y="1295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ortant liveness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0200" y="2666880"/>
            <a:ext cx="693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(a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pc1=req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pc1=i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14479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racteristics of system models which favor model checking over other verification techni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28954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2743200"/>
            <a:ext cx="5257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ngoing input/output behavi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(not: single input, single resu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(not: single control fl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 intens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(not: lots of data manipu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7T14:46:04Z</dcterms:created>
  <dc:creator>tah</dc:creator>
  <dc:description/>
  <dc:language>en-US</dc:language>
  <cp:lastModifiedBy>qadeer</cp:lastModifiedBy>
  <dcterms:modified xsi:type="dcterms:W3CDTF">2006-04-02T06:42:41Z</dcterms:modified>
  <cp:revision>80</cp:revision>
  <dc:subject/>
  <dc:title>PowerPoint Presentation</dc:title>
</cp:coreProperties>
</file>