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47E3-4518-4B0C-9129-391E44D86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e typically use natural languages and they are v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students’ research interests? Depending on how many students there are, I could do it in class or later in em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EEC-AFB8-46A0-A4C0-9D991D50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48F-D9AE-46A6-A88B-70579AD8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C4A2-7782-487E-963B-35202E4C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0524-E203-454C-8C55-FE0BAC5D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16B-7FAF-4A73-B910-045FE282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EE6-542F-46EC-B3E4-D553094B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54CD-7B5E-4D81-A923-6F8C7D47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13F0-D6E6-4EB2-A438-6C88FFF9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8921-ABE3-41BF-8C41-5BD2B4EA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E149-2ACB-443E-B1DB-D83980BF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CFC-1AC5-4371-9A9A-EA19803C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836-AECA-4FF6-880E-AE4C61B5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6C06-DDA9-411B-8AAB-87E5A5CD7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SE 599F: Formal Verification of Computer System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276120" y="0"/>
            <a:ext cx="10094760" cy="7053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261680" y="519912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liable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tellectual challeng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vil enginee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dges don’t f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chanical enginee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s are reli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61048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tellectual challeng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vil enginee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dges don’t f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chanical enginee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s are reli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y is software hard?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human el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tting a consistent and complete set of requirements is difficul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rements often chan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an beings use software in ways never imagined by the design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y is software hard?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thematical el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ge set of behavi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ternal due to in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al due to concurr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if the requirements are unchanging, complete and formally specified, it is infeasible to check all the behavi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ubble Sor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1141200" y="1523880"/>
            <a:ext cx="29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bbleSort(int[] a, int 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i=0; i&lt;n-1; i++) 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j=0; j&lt;n-1-i; j++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a[j+1] &lt; a[j]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p = a[j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[j] = a[j+1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[j+1] = t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2080" y="5170320"/>
            <a:ext cx="80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for a small program, enumeration of the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ll possible behaviors is impossi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30360" y="1636560"/>
            <a:ext cx="194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^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^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29280" y="2222640"/>
            <a:ext cx="7667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r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gram   =    assert x | x++ | x-- 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;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 if x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s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 while x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imple programming languag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648360" y="4495680"/>
            <a:ext cx="76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ertion checking for this language is undecida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Holy grail of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lgorithmic verification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undn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algorithm reports no failure, then the program does not f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leten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algorithm reports a failure, then the program does f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gorithm termin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833040" y="5967360"/>
            <a:ext cx="74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t is impossible to achieve the holy grail in gener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urse information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ructor: Shaz Qade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fice: 454 Allen Cen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ctures: CSE 303, Wed-Fri, 12pm-1:20p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fice hours:  Wed-Fri, by appoint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b page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www.cs.washington.edu/education/courses/599f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ethod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xiomatic verif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model of the program in a framework that is decid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ite state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shdown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ual model cre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omated model verif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xiomatic verification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am verification similar to validity checking in a mathematical log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xio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s of infer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ammer attempts to find a proof using the axioms and the rules of infer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ual proof discov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omated proof check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cently…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bination of model checking and axiomatic verif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erated abstration and refin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 is this course about?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chniques for improving reliability of computer syst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ble to both software and hardw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us on softw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omated techniques for verification of partial specific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is course is not about…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amming languages and type syst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ftware engineering methodolog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ynamic analys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ftware tes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erequisit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language theo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mentary mathematical log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, none of that matters if you really want to understand the materi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oal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rn about the fundamental ide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stand the current research probl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vel resear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794880" y="4340160"/>
            <a:ext cx="766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best advances come from a comb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f techniques from different research are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rad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mewo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out examples and theoretical probl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prototype verification tools to verify simple examp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ssion and review of research artic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ject (in groups of 1-2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ependent resear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rvey of a research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 verification tool to verify a realistic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y should we care?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ST (National Institute of Standards and Technology) rep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ftware bugs cost $60 billion annua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 profile incidents of systems fail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ac-25 radiation overdoses, 1985-8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ntium FDIV bug, 199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rtheast blackout, 200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ir traffic control, LA airport, 200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tellectual challeng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vil enginee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dges don’t f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8:54:54Z</dcterms:created>
  <dc:creator>qadeer</dc:creator>
  <dc:description/>
  <dc:language>en-US</dc:language>
  <cp:lastModifiedBy>qadeer</cp:lastModifiedBy>
  <dcterms:modified xsi:type="dcterms:W3CDTF">2006-03-29T03:42:14Z</dcterms:modified>
  <cp:revision>201</cp:revision>
  <dc:subject/>
  <dc:title>CSE 599F: Formal Verification of Computer Systems</dc:title>
</cp:coreProperties>
</file>