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0EE1-70E3-42FF-8FDE-EC5E6410E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45BE-975F-47A3-A2FD-CDE9D552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7E73-3987-46DC-8C26-300F818EB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C68B-E116-4FD1-978A-95D43AF2A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8521-2D0A-43BD-B028-43763546C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1CF3-7B30-4C6F-BC38-3D7BF209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B111-FBE3-41AE-B979-3361ECD8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0EB3-2399-40ED-A7FE-B29EB565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D3DF-E5CE-413E-96DD-7EC70104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0E31-8024-4932-89AF-53912CD7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E7E3-D6A4-4555-A0EB-86AE9886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9E4D-D4DC-4ECE-B60C-FC366031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BA02-E154-4039-AE4C-7D7E42E5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C87C-9B57-48D2-8670-4BF1541F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96B7-E038-4E9F-BEF1-C7E63294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AC7C-ABB4-4F19-9CFB-86F3D11CE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1C43-D072-4BAA-94FF-39D5469B0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505A-CDDF-432A-8105-D2FD8E4C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E31E-B21B-4E74-B5FB-DFF81D67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A40B-4864-4E73-956E-793D583E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9E7B-CC4C-438D-8B9C-C3588A92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003B-A410-4BFD-9E86-A1E7BE8A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40BA-C793-4F23-9EC3-76F64B61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EE21-D15E-4DB1-874B-91A5A7CA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yriad Web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yriad We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yriad We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yriad We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yriad Web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yriad Web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yriad Web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yriad Web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yriad We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80A5-6F6B-4217-B494-93285D3E328A}" type="slidenum">
              <a:rPr b="0" lang="en-US" sz="14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yriad Web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yriad Web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yriad Web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yriad Web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yriad Web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yriad We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131C-3DE4-4551-86BB-F9582BE9584F}" type="slidenum">
              <a:rPr b="0" lang="en-US" sz="14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Myriad Web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Myriad Web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Myriad Web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Myriad Web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yriad We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yriad We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68440" y="2467080"/>
            <a:ext cx="55148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yriad Web"/>
              </a:rPr>
              <a:t>Building a program verifier</a:t>
            </a:r>
            <a:endParaRPr b="1" lang="en-US" sz="44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0948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K. Rustan M. Leino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Microsoft Research, Redmond, WA</a:t>
            </a:r>
            <a:endParaRPr b="0" lang="en-US" sz="24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54864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May 2006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est lecture, Shaz Qadeer’s cse599f, Formal Verification of Computer System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Washingt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ttle, 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yriad Web"/>
              </a:rPr>
              <a:t>Example translation:  partial expressions</a:t>
            </a:r>
            <a:endParaRPr b="1" lang="en-US" sz="36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Myriad Web"/>
              </a:rPr>
              <a:t>Tr[[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 x =  a / b ;  </a:t>
            </a:r>
            <a:r>
              <a:rPr b="0" lang="en-US" sz="3200" spc="-1" strike="noStrike">
                <a:solidFill>
                  <a:srgbClr val="009900"/>
                </a:solidFill>
                <a:latin typeface="Myriad Web"/>
              </a:rPr>
              <a:t>]]  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  =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Myriad Web"/>
              </a:rPr>
              <a:t>assert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 b ≠ 0 ;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x := a / b</a:t>
            </a: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Myriad Web"/>
              </a:rPr>
              <a:t>Tr[[ 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x =  (T) y ;  </a:t>
            </a:r>
            <a:r>
              <a:rPr b="0" lang="en-US" sz="3200" spc="-1" strike="noStrike">
                <a:solidFill>
                  <a:srgbClr val="009900"/>
                </a:solidFill>
                <a:latin typeface="Myriad Web"/>
              </a:rPr>
              <a:t>]]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     =                  // type ca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Myriad Web"/>
              </a:rPr>
              <a:t>assert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 y = </a:t>
            </a:r>
            <a:r>
              <a:rPr b="0" lang="en-US" sz="3200" spc="-1" strike="noStrike">
                <a:solidFill>
                  <a:srgbClr val="3333cc"/>
                </a:solidFill>
                <a:latin typeface="Myriad Web"/>
              </a:rPr>
              <a:t>null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 typeof(y) &lt;: T 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x := y</a:t>
            </a: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yriad Web"/>
              </a:rPr>
              <a:t>Example translation:  fields of objects</a:t>
            </a:r>
            <a:endParaRPr b="1" lang="en-US" sz="36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Myriad Web"/>
              </a:rPr>
              <a:t>Tr[[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 x =  o.f;  </a:t>
            </a:r>
            <a:r>
              <a:rPr b="0" lang="en-US" sz="3200" spc="-1" strike="noStrike">
                <a:solidFill>
                  <a:srgbClr val="009900"/>
                </a:solidFill>
                <a:latin typeface="Myriad Web"/>
              </a:rPr>
              <a:t>]]  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  =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Myriad Web"/>
              </a:rPr>
              <a:t>assert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 o ≠ </a:t>
            </a:r>
            <a:r>
              <a:rPr b="0" lang="en-US" sz="3200" spc="-1" strike="noStrike">
                <a:solidFill>
                  <a:srgbClr val="3333cc"/>
                </a:solidFill>
                <a:latin typeface="Myriad Web"/>
              </a:rPr>
              <a:t>null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 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x := Heap[ o, f ]</a:t>
            </a: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Myriad Web"/>
              </a:rPr>
              <a:t>Tr[[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 o.f =  x; </a:t>
            </a:r>
            <a:r>
              <a:rPr b="0" lang="en-US" sz="3200" spc="-1" strike="noStrike">
                <a:solidFill>
                  <a:srgbClr val="009900"/>
                </a:solidFill>
                <a:latin typeface="Myriad Web"/>
              </a:rPr>
              <a:t>]]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     =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Myriad Web"/>
              </a:rPr>
              <a:t>assert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 o ≠ </a:t>
            </a:r>
            <a:r>
              <a:rPr b="0" lang="en-US" sz="3200" spc="-1" strike="noStrike">
                <a:solidFill>
                  <a:srgbClr val="3333cc"/>
                </a:solidFill>
                <a:latin typeface="Myriad Web"/>
              </a:rPr>
              <a:t>null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 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Heap[ o, f ] := x</a:t>
            </a: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124" name=""/>
          <p:cNvSpPr/>
          <p:nvPr/>
        </p:nvSpPr>
        <p:spPr>
          <a:xfrm>
            <a:off x="4114800" y="2743200"/>
            <a:ext cx="4419720" cy="144792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x := Select(Heap, (o,f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495680"/>
            <a:ext cx="4876920" cy="144792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Heap := Update(Heap, (o,f),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114800" y="4451040"/>
            <a:ext cx="457200" cy="228600"/>
          </a:xfrm>
          <a:prstGeom prst="line">
            <a:avLst/>
          </a:prstGeom>
          <a:ln w="19080">
            <a:solidFill>
              <a:srgbClr val="ff9966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4114800" y="2895120"/>
            <a:ext cx="457200" cy="228600"/>
          </a:xfrm>
          <a:prstGeom prst="line">
            <a:avLst/>
          </a:prstGeom>
          <a:ln w="19080">
            <a:solidFill>
              <a:srgbClr val="ff9966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yriad Web"/>
              </a:rPr>
              <a:t>Example translation:  OO things</a:t>
            </a: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Myriad Web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C : Object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Myriad Web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x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C() { … }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Myriad Web"/>
              </a:rPr>
              <a:t>virtual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Myriad Web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M(</a:t>
            </a:r>
            <a:r>
              <a:rPr b="0" lang="en-US" sz="2800" spc="-1" strike="noStrike">
                <a:solidFill>
                  <a:srgbClr val="3333cc"/>
                </a:solidFill>
                <a:latin typeface="Myriad Web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n) { … } </a:t>
            </a: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Myriad Web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Myriad Web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Main()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C c =  </a:t>
            </a:r>
            <a:r>
              <a:rPr b="0" lang="en-US" sz="2800" spc="-1" strike="noStrike">
                <a:solidFill>
                  <a:srgbClr val="3333cc"/>
                </a:solidFill>
                <a:latin typeface="Myriad Web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C(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c.x =  12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Myriad Web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y =  c.M(5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yriad Web"/>
              </a:rPr>
              <a:t>BoogiePL translation of OO things (0)</a:t>
            </a:r>
            <a:endParaRPr b="1" lang="en-US" sz="36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00"/>
                </a:solidFill>
                <a:latin typeface="Lucida Sans Typewriter"/>
              </a:rPr>
              <a:t>// types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 Typewriter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Object: </a:t>
            </a:r>
            <a:r>
              <a:rPr b="0" lang="en-US" sz="2000" spc="-1" strike="noStrike">
                <a:solidFill>
                  <a:srgbClr val="009900"/>
                </a:solidFill>
                <a:latin typeface="Lucida Sans Typewriter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 Typewriter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C: </a:t>
            </a:r>
            <a:r>
              <a:rPr b="0" lang="en-US" sz="2000" spc="-1" strike="noStrike">
                <a:solidFill>
                  <a:srgbClr val="009900"/>
                </a:solidFill>
                <a:latin typeface="Lucida Sans Typewriter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 Typewriter"/>
              </a:rPr>
              <a:t>axiom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C &lt;: Object;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 Typewriter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typeof(o: </a:t>
            </a:r>
            <a:r>
              <a:rPr b="0" lang="en-US" sz="2000" spc="-1" strike="noStrike">
                <a:solidFill>
                  <a:srgbClr val="009900"/>
                </a:solidFill>
                <a:latin typeface="Lucida Sans Typewriter"/>
              </a:rPr>
              <a:t>ref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) </a:t>
            </a:r>
            <a:r>
              <a:rPr b="0" lang="en-US" sz="2000" spc="-1" strike="noStrike">
                <a:solidFill>
                  <a:srgbClr val="3333cc"/>
                </a:solidFill>
                <a:latin typeface="Lucida Sans Typewriter"/>
              </a:rPr>
              <a:t>returns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(t: </a:t>
            </a:r>
            <a:r>
              <a:rPr b="0" lang="en-US" sz="2000" spc="-1" strike="noStrike">
                <a:solidFill>
                  <a:srgbClr val="009900"/>
                </a:solidFill>
                <a:latin typeface="Lucida Sans Typewriter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00"/>
                </a:solidFill>
                <a:latin typeface="Lucida Sans Typewriter"/>
              </a:rPr>
              <a:t>// fields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 Typewriter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C.x: </a:t>
            </a:r>
            <a:r>
              <a:rPr b="0" lang="en-US" sz="2000" spc="-1" strike="noStrike">
                <a:solidFill>
                  <a:srgbClr val="009900"/>
                </a:solidFill>
                <a:latin typeface="Lucida Sans Typewriter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 Typewriter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allocated: </a:t>
            </a:r>
            <a:r>
              <a:rPr b="0" lang="en-US" sz="2000" spc="-1" strike="noStrike">
                <a:solidFill>
                  <a:srgbClr val="009900"/>
                </a:solidFill>
                <a:latin typeface="Lucida Sans Typewriter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00"/>
                </a:solidFill>
                <a:latin typeface="Lucida Sans Typewriter"/>
              </a:rPr>
              <a:t>// the heap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 Typewriter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Heap: [</a:t>
            </a:r>
            <a:r>
              <a:rPr b="0" lang="en-US" sz="2000" spc="-1" strike="noStrike">
                <a:solidFill>
                  <a:srgbClr val="009900"/>
                </a:solidFill>
                <a:latin typeface="Lucida Sans Typewriter"/>
              </a:rPr>
              <a:t>ref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,</a:t>
            </a:r>
            <a:r>
              <a:rPr b="0" lang="en-US" sz="2000" spc="-1" strike="noStrike">
                <a:solidFill>
                  <a:srgbClr val="009900"/>
                </a:solidFill>
                <a:latin typeface="Lucida Sans Typewriter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]</a:t>
            </a:r>
            <a:r>
              <a:rPr b="0" lang="en-US" sz="2000" spc="-1" strike="noStrike">
                <a:solidFill>
                  <a:srgbClr val="009900"/>
                </a:solidFill>
                <a:latin typeface="Lucida Sans Typewriter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yriad Web"/>
              </a:rPr>
              <a:t>BoogiePL translation of OO things (1)</a:t>
            </a:r>
            <a:endParaRPr b="1" lang="en-US" sz="36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00"/>
                </a:solidFill>
                <a:latin typeface="Lucida Sans Typewriter"/>
              </a:rPr>
              <a:t>// method declarations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 Typewriter"/>
              </a:rPr>
              <a:t>procedure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C..ctor(this: </a:t>
            </a:r>
            <a:r>
              <a:rPr b="0" lang="en-US" sz="2000" spc="-1" strike="noStrike">
                <a:solidFill>
                  <a:srgbClr val="009900"/>
                </a:solidFill>
                <a:latin typeface="Lucida Sans Typewriter"/>
              </a:rPr>
              <a:t>ref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Lucida Sans Typewriter"/>
              </a:rPr>
              <a:t>requires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this != </a:t>
            </a:r>
            <a:r>
              <a:rPr b="0" lang="en-US" sz="2000" spc="-1" strike="noStrike">
                <a:solidFill>
                  <a:srgbClr val="3333cc"/>
                </a:solidFill>
                <a:latin typeface="Lucida Sans Typewriter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&amp;&amp; typeof(this) &lt;: C;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Lucida Sans Typewriter"/>
              </a:rPr>
              <a:t>modifies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Heap;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 Typewriter"/>
              </a:rPr>
              <a:t>procedure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C.M(this: </a:t>
            </a:r>
            <a:r>
              <a:rPr b="0" lang="en-US" sz="2000" spc="-1" strike="noStrike">
                <a:solidFill>
                  <a:srgbClr val="009900"/>
                </a:solidFill>
                <a:latin typeface="Lucida Sans Typewriter"/>
              </a:rPr>
              <a:t>ref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, n: </a:t>
            </a:r>
            <a:r>
              <a:rPr b="0" lang="en-US" sz="2000" spc="-1" strike="noStrike">
                <a:solidFill>
                  <a:srgbClr val="009900"/>
                </a:solidFill>
                <a:latin typeface="Lucida Sans Typewriter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) </a:t>
            </a:r>
            <a:r>
              <a:rPr b="0" lang="en-US" sz="2000" spc="-1" strike="noStrike">
                <a:solidFill>
                  <a:srgbClr val="3333cc"/>
                </a:solidFill>
                <a:latin typeface="Lucida Sans Typewriter"/>
              </a:rPr>
              <a:t>returns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(result: </a:t>
            </a:r>
            <a:r>
              <a:rPr b="0" lang="en-US" sz="2000" spc="-1" strike="noStrike">
                <a:solidFill>
                  <a:srgbClr val="009900"/>
                </a:solidFill>
                <a:latin typeface="Lucida Sans Typewriter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Lucida Sans Typewriter"/>
              </a:rPr>
              <a:t>requires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this != </a:t>
            </a:r>
            <a:r>
              <a:rPr b="0" lang="en-US" sz="2000" spc="-1" strike="noStrike">
                <a:solidFill>
                  <a:srgbClr val="3333cc"/>
                </a:solidFill>
                <a:latin typeface="Lucida Sans Typewriter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&amp;&amp; typeof(this) &lt;: C;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Lucida Sans Typewriter"/>
              </a:rPr>
              <a:t>modifies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Heap;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 Typewriter"/>
              </a:rPr>
              <a:t>procedure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C.Main();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Lucida Sans Typewriter"/>
              </a:rPr>
              <a:t>modifies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Heap;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yriad Web"/>
              </a:rPr>
              <a:t>BoogiePL translation of OO things (2)</a:t>
            </a:r>
            <a:endParaRPr b="1" lang="en-US" sz="36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Lucida Sans Typewriter"/>
              </a:rPr>
              <a:t>// method implementations</a:t>
            </a:r>
            <a:endParaRPr b="0" lang="en-US" sz="1600" spc="-1" strike="noStrike">
              <a:solidFill>
                <a:srgbClr val="000000"/>
              </a:solidFill>
              <a:latin typeface="Myriad Web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Lucida Sans Typewriter"/>
              </a:rPr>
              <a:t>implementation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 C.Main()</a:t>
            </a:r>
            <a:endParaRPr b="0" lang="en-US" sz="1600" spc="-1" strike="noStrike">
              <a:solidFill>
                <a:srgbClr val="000000"/>
              </a:solidFill>
              <a:latin typeface="Myriad Web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Myriad Web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Lucida Sans Typewriter"/>
              </a:rPr>
              <a:t>var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 c: </a:t>
            </a:r>
            <a:r>
              <a:rPr b="0" lang="en-US" sz="1600" spc="-1" strike="noStrike">
                <a:solidFill>
                  <a:srgbClr val="009900"/>
                </a:solidFill>
                <a:latin typeface="Lucida Sans Typewriter"/>
              </a:rPr>
              <a:t>ref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, y: </a:t>
            </a:r>
            <a:r>
              <a:rPr b="0" lang="en-US" sz="1600" spc="-1" strike="noStrike">
                <a:solidFill>
                  <a:srgbClr val="009900"/>
                </a:solidFill>
                <a:latin typeface="Lucida Sans Typewriter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Myriad Web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yriad Web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start:</a:t>
            </a:r>
            <a:endParaRPr b="0" lang="en-US" sz="1600" spc="-1" strike="noStrike">
              <a:solidFill>
                <a:srgbClr val="000000"/>
              </a:solidFill>
              <a:latin typeface="Myriad Web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    </a:t>
            </a:r>
            <a:r>
              <a:rPr b="0" lang="en-US" sz="1600" spc="-1" strike="noStrike">
                <a:solidFill>
                  <a:srgbClr val="996600"/>
                </a:solidFill>
                <a:latin typeface="Lucida Sans Typewriter"/>
              </a:rPr>
              <a:t>// C c = new C();</a:t>
            </a:r>
            <a:endParaRPr b="0" lang="en-US" sz="1600" spc="-1" strike="noStrike">
              <a:solidFill>
                <a:srgbClr val="000000"/>
              </a:solidFill>
              <a:latin typeface="Myriad Web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    </a:t>
            </a:r>
            <a:r>
              <a:rPr b="0" lang="en-US" sz="1600" spc="-1" strike="noStrike">
                <a:solidFill>
                  <a:srgbClr val="3333cc"/>
                </a:solidFill>
                <a:latin typeface="Lucida Sans Typewriter"/>
              </a:rPr>
              <a:t>havoc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 c;</a:t>
            </a:r>
            <a:endParaRPr b="0" lang="en-US" sz="1600" spc="-1" strike="noStrike">
              <a:solidFill>
                <a:srgbClr val="000000"/>
              </a:solidFill>
              <a:latin typeface="Myriad Web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    </a:t>
            </a:r>
            <a:r>
              <a:rPr b="0" lang="en-US" sz="1600" spc="-1" strike="noStrike">
                <a:solidFill>
                  <a:srgbClr val="3333cc"/>
                </a:solidFill>
                <a:latin typeface="Lucida Sans Typewriter"/>
              </a:rPr>
              <a:t>assume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 c != </a:t>
            </a:r>
            <a:r>
              <a:rPr b="0" lang="en-US" sz="1600" spc="-1" strike="noStrike">
                <a:solidFill>
                  <a:srgbClr val="3333cc"/>
                </a:solidFill>
                <a:latin typeface="Lucida Sans Typewriter"/>
              </a:rPr>
              <a:t>null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Myriad Web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    </a:t>
            </a:r>
            <a:r>
              <a:rPr b="0" lang="en-US" sz="1600" spc="-1" strike="noStrike">
                <a:solidFill>
                  <a:srgbClr val="3333cc"/>
                </a:solidFill>
                <a:latin typeface="Lucida Sans Typewriter"/>
              </a:rPr>
              <a:t>assume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 Heap[c, allocated] == 0;</a:t>
            </a:r>
            <a:endParaRPr b="0" lang="en-US" sz="1600" spc="-1" strike="noStrike">
              <a:solidFill>
                <a:srgbClr val="000000"/>
              </a:solidFill>
              <a:latin typeface="Myriad Web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    </a:t>
            </a:r>
            <a:r>
              <a:rPr b="0" lang="en-US" sz="1600" spc="-1" strike="noStrike">
                <a:solidFill>
                  <a:srgbClr val="3333cc"/>
                </a:solidFill>
                <a:latin typeface="Lucida Sans Typewriter"/>
              </a:rPr>
              <a:t>assume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 typeof(c) == C;</a:t>
            </a:r>
            <a:endParaRPr b="0" lang="en-US" sz="1600" spc="-1" strike="noStrike">
              <a:solidFill>
                <a:srgbClr val="000000"/>
              </a:solidFill>
              <a:latin typeface="Myriad Web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Heap[c, allocated] := 1;</a:t>
            </a:r>
            <a:endParaRPr b="0" lang="en-US" sz="1600" spc="-1" strike="noStrike">
              <a:solidFill>
                <a:srgbClr val="000000"/>
              </a:solidFill>
              <a:latin typeface="Myriad Web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    </a:t>
            </a:r>
            <a:r>
              <a:rPr b="0" lang="en-US" sz="1600" spc="-1" strike="noStrike">
                <a:solidFill>
                  <a:srgbClr val="3333cc"/>
                </a:solidFill>
                <a:latin typeface="Lucida Sans Typewriter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 C..ctor(c);</a:t>
            </a:r>
            <a:endParaRPr b="0" lang="en-US" sz="1600" spc="-1" strike="noStrike">
              <a:solidFill>
                <a:srgbClr val="000000"/>
              </a:solidFill>
              <a:latin typeface="Myriad Web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yriad Web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Lucida Sans Typewriter"/>
              </a:rPr>
              <a:t>    </a:t>
            </a:r>
            <a:r>
              <a:rPr b="0" lang="en-US" sz="1600" spc="-1" strike="noStrike">
                <a:solidFill>
                  <a:srgbClr val="996600"/>
                </a:solidFill>
                <a:latin typeface="Lucida Sans Typewriter"/>
              </a:rPr>
              <a:t>// c.x = 12;</a:t>
            </a:r>
            <a:endParaRPr b="0" lang="en-US" sz="1600" spc="-1" strike="noStrike">
              <a:solidFill>
                <a:srgbClr val="000000"/>
              </a:solidFill>
              <a:latin typeface="Myriad Web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    </a:t>
            </a:r>
            <a:r>
              <a:rPr b="0" lang="en-US" sz="1600" spc="-1" strike="noStrike">
                <a:solidFill>
                  <a:srgbClr val="3333cc"/>
                </a:solidFill>
                <a:latin typeface="Lucida Sans Typewriter"/>
              </a:rPr>
              <a:t>assert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 c != </a:t>
            </a:r>
            <a:r>
              <a:rPr b="0" lang="en-US" sz="1600" spc="-1" strike="noStrike">
                <a:solidFill>
                  <a:srgbClr val="3333cc"/>
                </a:solidFill>
                <a:latin typeface="Lucida Sans Typewriter"/>
              </a:rPr>
              <a:t>null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Myriad Web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Heap[c, C.x] := 12;</a:t>
            </a:r>
            <a:endParaRPr b="0" lang="en-US" sz="1600" spc="-1" strike="noStrike">
              <a:solidFill>
                <a:srgbClr val="000000"/>
              </a:solidFill>
              <a:latin typeface="Myriad Web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yriad Web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Lucida Sans Typewriter"/>
              </a:rPr>
              <a:t>    </a:t>
            </a:r>
            <a:r>
              <a:rPr b="0" lang="en-US" sz="1600" spc="-1" strike="noStrike">
                <a:solidFill>
                  <a:srgbClr val="996600"/>
                </a:solidFill>
                <a:latin typeface="Lucida Sans Typewriter"/>
              </a:rPr>
              <a:t>// int y = c.M(5);</a:t>
            </a:r>
            <a:endParaRPr b="0" lang="en-US" sz="1600" spc="-1" strike="noStrike">
              <a:solidFill>
                <a:srgbClr val="000000"/>
              </a:solidFill>
              <a:latin typeface="Myriad Web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    </a:t>
            </a:r>
            <a:r>
              <a:rPr b="0" lang="en-US" sz="1600" spc="-1" strike="noStrike">
                <a:solidFill>
                  <a:srgbClr val="3333cc"/>
                </a:solidFill>
                <a:latin typeface="Lucida Sans Typewriter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 y := C.M(c, 5);</a:t>
            </a:r>
            <a:endParaRPr b="0" lang="en-US" sz="1600" spc="-1" strike="noStrike">
              <a:solidFill>
                <a:srgbClr val="000000"/>
              </a:solidFill>
              <a:latin typeface="Myriad Web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yriad Web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    </a:t>
            </a:r>
            <a:r>
              <a:rPr b="0" lang="en-US" sz="1600" spc="-1" strike="noStrike">
                <a:solidFill>
                  <a:srgbClr val="3333cc"/>
                </a:solidFill>
                <a:latin typeface="Lucida Sans Typewriter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Myriad Web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Myriad Web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yriad W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yriad Web"/>
              </a:rPr>
              <a:t>Verification-condition generation</a:t>
            </a: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0.  passive features:  </a:t>
            </a:r>
            <a:r>
              <a:rPr b="0" lang="en-US" sz="3200" spc="-1" strike="noStrike">
                <a:solidFill>
                  <a:srgbClr val="3333cc"/>
                </a:solidFill>
                <a:latin typeface="Myriad Web"/>
              </a:rPr>
              <a:t>assert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Myriad Web"/>
              </a:rPr>
              <a:t>assume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, ;</a:t>
            </a: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1.  control flow:  </a:t>
            </a:r>
            <a:r>
              <a:rPr b="0" lang="en-US" sz="3200" spc="-1" strike="noStrike">
                <a:solidFill>
                  <a:srgbClr val="3333cc"/>
                </a:solidFill>
                <a:latin typeface="Myriad Web"/>
              </a:rPr>
              <a:t>goto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 (no loops)</a:t>
            </a: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2.  state changes:  :=, </a:t>
            </a:r>
            <a:r>
              <a:rPr b="0" lang="en-US" sz="3200" spc="-1" strike="noStrike">
                <a:solidFill>
                  <a:srgbClr val="3333cc"/>
                </a:solidFill>
                <a:latin typeface="Myriad Web"/>
              </a:rPr>
              <a:t>havoc</a:t>
            </a: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3.  loops</a:t>
            </a: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yriad Web"/>
              </a:rPr>
              <a:t>Weakest preconditions</a:t>
            </a: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Myriad Web"/>
              </a:rPr>
              <a:t>weakest precondition 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of a statement S with respect to a predicate Q on the post-state of S, denoted </a:t>
            </a:r>
            <a:r>
              <a:rPr b="0" lang="en-US" sz="3200" spc="-1" strike="noStrike">
                <a:solidFill>
                  <a:srgbClr val="009900"/>
                </a:solidFill>
                <a:latin typeface="Myriad Web"/>
              </a:rPr>
              <a:t>wp(S,Q)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, is the set of pre-states from which execution:</a:t>
            </a: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does not go wrong, and</a:t>
            </a: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if it terminates, terminates in Q</a:t>
            </a: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yriad Web"/>
              </a:rPr>
              <a:t>VC generation:  passive features</a:t>
            </a: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Myriad Web"/>
              </a:rPr>
              <a:t>wp(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Myriad Web"/>
              </a:rPr>
              <a:t>assert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 E</a:t>
            </a:r>
            <a:r>
              <a:rPr b="0" lang="en-US" sz="3200" spc="-1" strike="noStrike">
                <a:solidFill>
                  <a:srgbClr val="009900"/>
                </a:solidFill>
                <a:latin typeface="Myriad Web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 Q </a:t>
            </a:r>
            <a:r>
              <a:rPr b="0" lang="en-US" sz="3200" spc="-1" strike="noStrike">
                <a:solidFill>
                  <a:srgbClr val="009900"/>
                </a:solidFill>
                <a:latin typeface="Myriad Web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  =</a:t>
            </a: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 Q</a:t>
            </a: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Myriad Web"/>
              </a:rPr>
              <a:t>wp(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Myriad Web"/>
              </a:rPr>
              <a:t>assume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 E</a:t>
            </a:r>
            <a:r>
              <a:rPr b="0" lang="en-US" sz="3200" spc="-1" strike="noStrike">
                <a:solidFill>
                  <a:srgbClr val="009900"/>
                </a:solidFill>
                <a:latin typeface="Myriad Web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 Q </a:t>
            </a:r>
            <a:r>
              <a:rPr b="0" lang="en-US" sz="3200" spc="-1" strike="noStrike">
                <a:solidFill>
                  <a:srgbClr val="009900"/>
                </a:solidFill>
                <a:latin typeface="Myriad Web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  =</a:t>
            </a: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 Q 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Myriad Web"/>
              </a:rPr>
              <a:t>wp(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 S; T</a:t>
            </a:r>
            <a:r>
              <a:rPr b="0" lang="en-US" sz="3200" spc="-1" strike="noStrike">
                <a:solidFill>
                  <a:srgbClr val="009900"/>
                </a:solidFill>
                <a:latin typeface="Myriad Web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  Q </a:t>
            </a:r>
            <a:r>
              <a:rPr b="0" lang="en-US" sz="3200" spc="-1" strike="noStrike">
                <a:solidFill>
                  <a:srgbClr val="009900"/>
                </a:solidFill>
                <a:latin typeface="Myriad Web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  =</a:t>
            </a: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Myriad Web"/>
              </a:rPr>
              <a:t>	</a:t>
            </a:r>
            <a:r>
              <a:rPr b="0" lang="en-US" sz="3200" spc="-1" strike="noStrike">
                <a:solidFill>
                  <a:srgbClr val="009900"/>
                </a:solidFill>
                <a:latin typeface="Myriad Web"/>
              </a:rPr>
              <a:t>	</a:t>
            </a:r>
            <a:r>
              <a:rPr b="0" lang="en-US" sz="3200" spc="-1" strike="noStrike">
                <a:solidFill>
                  <a:srgbClr val="009900"/>
                </a:solidFill>
                <a:latin typeface="Myriad Web"/>
              </a:rPr>
              <a:t>wp(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 S</a:t>
            </a:r>
            <a:r>
              <a:rPr b="0" lang="en-US" sz="3200" spc="-1" strike="noStrike">
                <a:solidFill>
                  <a:srgbClr val="009900"/>
                </a:solidFill>
                <a:latin typeface="Myriad Web"/>
              </a:rPr>
              <a:t>,  wp(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 T</a:t>
            </a:r>
            <a:r>
              <a:rPr b="0" lang="en-US" sz="3200" spc="-1" strike="noStrike">
                <a:solidFill>
                  <a:srgbClr val="009900"/>
                </a:solidFill>
                <a:latin typeface="Myriad Web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 Q </a:t>
            </a:r>
            <a:r>
              <a:rPr b="0" lang="en-US" sz="3200" spc="-1" strike="noStrike">
                <a:solidFill>
                  <a:srgbClr val="009900"/>
                </a:solidFill>
                <a:latin typeface="Myriad Web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yriad Web"/>
              </a:rPr>
              <a:t>VC generation:  acyclic control flow</a:t>
            </a: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For each block A, introduce a variable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Myriad Web"/>
              </a:rPr>
              <a:t>ok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with the meaning: 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Myriad Web"/>
              </a:rPr>
              <a:t>ok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is true iff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every program execution starting in the current state from block A does not go wrong</a:t>
            </a: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The verification condition for the program:</a:t>
            </a: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A:  S; </a:t>
            </a:r>
            <a:r>
              <a:rPr b="0" lang="en-US" sz="2400" spc="-1" strike="noStrike">
                <a:solidFill>
                  <a:srgbClr val="3333cc"/>
                </a:solidFill>
                <a:latin typeface="Myriad Web"/>
              </a:rPr>
              <a:t>goto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 B </a:t>
            </a:r>
            <a:r>
              <a:rPr b="0" lang="en-US" sz="2400" spc="-1" strike="noStrike">
                <a:solidFill>
                  <a:srgbClr val="3333cc"/>
                </a:solidFill>
                <a:latin typeface="Myriad Web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Myriad Web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Myriad Web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is:</a:t>
            </a: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(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Myriad Web"/>
              </a:rPr>
              <a:t>ok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Myriad Web"/>
              </a:rPr>
              <a:t>wp(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 S</a:t>
            </a:r>
            <a:r>
              <a:rPr b="0" lang="en-US" sz="2400" spc="-1" strike="noStrike">
                <a:solidFill>
                  <a:srgbClr val="009900"/>
                </a:solidFill>
                <a:latin typeface="Myriad Web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Myriad Web"/>
              </a:rPr>
              <a:t>ok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Myriad Web"/>
              </a:rPr>
              <a:t>ok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Myriad Web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 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Myriad Web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Myriad Web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Myriad Web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Myriad Web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Myriad W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yriad Web"/>
              </a:rPr>
              <a:t>Spec# research goals</a:t>
            </a: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Web"/>
              </a:rPr>
              <a:t>Build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the best such system we can build today</a:t>
            </a: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Web"/>
              </a:rPr>
              <a:t>Experiment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with the system to get a feel for what it is like to use</a:t>
            </a: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Web"/>
              </a:rPr>
              <a:t>Advance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the state of the art</a:t>
            </a: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yriad Web"/>
              </a:rPr>
              <a:t>VC generation:  state changes</a:t>
            </a: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yriad Web"/>
              <a:buChar char="•"/>
              <a:tabLst>
                <a:tab algn="l" pos="1036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Replace definitions and uses of variables by definitions and uses of different </a:t>
            </a:r>
            <a:r>
              <a:rPr b="0" i="1" lang="en-US" sz="3200" spc="-1" strike="noStrike">
                <a:solidFill>
                  <a:srgbClr val="000000"/>
                </a:solidFill>
                <a:latin typeface="Myriad Web"/>
              </a:rPr>
              <a:t>incarnations 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of the variabl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1036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Myriad Web"/>
              </a:rPr>
              <a:t>{x</a:t>
            </a:r>
            <a:r>
              <a:rPr b="0" lang="en-US" sz="32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9900"/>
                </a:solidFill>
                <a:latin typeface="Myriad Web"/>
              </a:rPr>
              <a:t>x0, y</a:t>
            </a:r>
            <a:r>
              <a:rPr b="0" lang="en-US" sz="32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9900"/>
                </a:solidFill>
                <a:latin typeface="Myriad Web"/>
              </a:rPr>
              <a:t>y0} 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 x := E(x,y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x1 := E(x0,y0)  </a:t>
            </a:r>
            <a:r>
              <a:rPr b="0" lang="en-US" sz="3200" spc="-1" strike="noStrike">
                <a:solidFill>
                  <a:srgbClr val="009900"/>
                </a:solidFill>
                <a:latin typeface="Myriad Web"/>
              </a:rPr>
              <a:t>{x</a:t>
            </a:r>
            <a:r>
              <a:rPr b="0" lang="en-US" sz="32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9900"/>
                </a:solidFill>
                <a:latin typeface="Myriad Web"/>
              </a:rPr>
              <a:t>x1, y</a:t>
            </a:r>
            <a:r>
              <a:rPr b="0" lang="en-US" sz="32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9900"/>
                </a:solidFill>
                <a:latin typeface="Myriad Web"/>
              </a:rPr>
              <a:t>y0}</a:t>
            </a: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1036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Myriad Web"/>
              </a:rPr>
              <a:t>{x</a:t>
            </a:r>
            <a:r>
              <a:rPr b="0" lang="en-US" sz="32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9900"/>
                </a:solidFill>
                <a:latin typeface="Myriad Web"/>
              </a:rPr>
              <a:t>x0, y</a:t>
            </a:r>
            <a:r>
              <a:rPr b="0" lang="en-US" sz="32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9900"/>
                </a:solidFill>
                <a:latin typeface="Myriad Web"/>
              </a:rPr>
              <a:t>y0}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  </a:t>
            </a:r>
            <a:r>
              <a:rPr b="0" lang="en-US" sz="3200" spc="-1" strike="noStrike">
                <a:solidFill>
                  <a:srgbClr val="3333cc"/>
                </a:solidFill>
                <a:latin typeface="Myriad Web"/>
              </a:rPr>
              <a:t>havoc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 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Myriad Web"/>
              </a:rPr>
              <a:t>skip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  </a:t>
            </a:r>
            <a:r>
              <a:rPr b="0" lang="en-US" sz="3200" spc="-1" strike="noStrike">
                <a:solidFill>
                  <a:srgbClr val="009900"/>
                </a:solidFill>
                <a:latin typeface="Myriad Web"/>
              </a:rPr>
              <a:t>{x</a:t>
            </a:r>
            <a:r>
              <a:rPr b="0" lang="en-US" sz="32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9900"/>
                </a:solidFill>
                <a:latin typeface="Myriad Web"/>
              </a:rPr>
              <a:t>x1, y</a:t>
            </a:r>
            <a:r>
              <a:rPr b="0" lang="en-US" sz="32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9900"/>
                </a:solidFill>
                <a:latin typeface="Myriad Web"/>
              </a:rPr>
              <a:t>y0}</a:t>
            </a: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146" name=""/>
          <p:cNvSpPr/>
          <p:nvPr/>
        </p:nvSpPr>
        <p:spPr>
          <a:xfrm>
            <a:off x="700200" y="4357800"/>
            <a:ext cx="725400" cy="172800"/>
          </a:xfrm>
          <a:custGeom>
            <a:avLst/>
            <a:gdLst/>
            <a:ahLst/>
            <a:rect l="l" t="t" r="r" b="b"/>
            <a:pathLst>
              <a:path w="2013" h="480">
                <a:moveTo>
                  <a:pt x="1311" y="12571"/>
                </a:moveTo>
                <a:cubicBezTo>
                  <a:pt x="1354" y="12509"/>
                  <a:pt x="1387" y="12445"/>
                  <a:pt x="1438" y="12388"/>
                </a:cubicBezTo>
                <a:cubicBezTo>
                  <a:pt x="1482" y="12339"/>
                  <a:pt x="1532" y="12279"/>
                  <a:pt x="1598" y="12328"/>
                </a:cubicBezTo>
                <a:cubicBezTo>
                  <a:pt x="1651" y="12367"/>
                  <a:pt x="1676" y="12445"/>
                  <a:pt x="1720" y="12494"/>
                </a:cubicBezTo>
                <a:cubicBezTo>
                  <a:pt x="1772" y="12446"/>
                  <a:pt x="1818" y="12383"/>
                  <a:pt x="1877" y="12344"/>
                </a:cubicBezTo>
                <a:cubicBezTo>
                  <a:pt x="1891" y="12337"/>
                  <a:pt x="1905" y="12330"/>
                  <a:pt x="1919" y="12323"/>
                </a:cubicBezTo>
                <a:cubicBezTo>
                  <a:pt x="1955" y="12381"/>
                  <a:pt x="1994" y="12420"/>
                  <a:pt x="2053" y="12457"/>
                </a:cubicBezTo>
                <a:cubicBezTo>
                  <a:pt x="2123" y="12500"/>
                  <a:pt x="2166" y="12427"/>
                  <a:pt x="2215" y="12377"/>
                </a:cubicBezTo>
                <a:cubicBezTo>
                  <a:pt x="2272" y="12319"/>
                  <a:pt x="2308" y="12265"/>
                  <a:pt x="2385" y="12321"/>
                </a:cubicBezTo>
                <a:cubicBezTo>
                  <a:pt x="2431" y="12355"/>
                  <a:pt x="2472" y="12438"/>
                  <a:pt x="2540" y="12432"/>
                </a:cubicBezTo>
                <a:cubicBezTo>
                  <a:pt x="2597" y="12427"/>
                  <a:pt x="2646" y="12380"/>
                  <a:pt x="2695" y="12356"/>
                </a:cubicBezTo>
                <a:cubicBezTo>
                  <a:pt x="2780" y="12314"/>
                  <a:pt x="2796" y="12371"/>
                  <a:pt x="2863" y="12412"/>
                </a:cubicBezTo>
                <a:cubicBezTo>
                  <a:pt x="2914" y="12443"/>
                  <a:pt x="2971" y="12426"/>
                  <a:pt x="3016" y="12391"/>
                </a:cubicBezTo>
                <a:cubicBezTo>
                  <a:pt x="3092" y="12331"/>
                  <a:pt x="3044" y="12313"/>
                  <a:pt x="3150" y="12351"/>
                </a:cubicBezTo>
                <a:cubicBezTo>
                  <a:pt x="3193" y="12366"/>
                  <a:pt x="3236" y="12373"/>
                  <a:pt x="3281" y="12382"/>
                </a:cubicBezTo>
              </a:path>
              <a:path w="2013" h="480">
                <a:moveTo>
                  <a:pt x="2912" y="12106"/>
                </a:moveTo>
                <a:cubicBezTo>
                  <a:pt x="2982" y="12140"/>
                  <a:pt x="3024" y="12175"/>
                  <a:pt x="3083" y="12226"/>
                </a:cubicBezTo>
                <a:cubicBezTo>
                  <a:pt x="3135" y="12272"/>
                  <a:pt x="3193" y="12291"/>
                  <a:pt x="3261" y="12300"/>
                </a:cubicBezTo>
                <a:cubicBezTo>
                  <a:pt x="3358" y="12313"/>
                  <a:pt x="3308" y="12364"/>
                  <a:pt x="3261" y="12414"/>
                </a:cubicBezTo>
                <a:cubicBezTo>
                  <a:pt x="3207" y="12471"/>
                  <a:pt x="3137" y="12506"/>
                  <a:pt x="3076" y="12554"/>
                </a:cubicBezTo>
                <a:cubicBezTo>
                  <a:pt x="3043" y="12584"/>
                  <a:pt x="3031" y="12596"/>
                  <a:pt x="3039" y="12545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2160" y="5433840"/>
            <a:ext cx="725760" cy="173160"/>
          </a:xfrm>
          <a:custGeom>
            <a:avLst/>
            <a:gdLst/>
            <a:ahLst/>
            <a:rect l="l" t="t" r="r" b="b"/>
            <a:pathLst>
              <a:path w="2013" h="480">
                <a:moveTo>
                  <a:pt x="1311" y="12571"/>
                </a:moveTo>
                <a:cubicBezTo>
                  <a:pt x="1354" y="12509"/>
                  <a:pt x="1387" y="12445"/>
                  <a:pt x="1438" y="12388"/>
                </a:cubicBezTo>
                <a:cubicBezTo>
                  <a:pt x="1482" y="12339"/>
                  <a:pt x="1532" y="12279"/>
                  <a:pt x="1598" y="12328"/>
                </a:cubicBezTo>
                <a:cubicBezTo>
                  <a:pt x="1651" y="12367"/>
                  <a:pt x="1676" y="12445"/>
                  <a:pt x="1720" y="12494"/>
                </a:cubicBezTo>
                <a:cubicBezTo>
                  <a:pt x="1772" y="12446"/>
                  <a:pt x="1818" y="12383"/>
                  <a:pt x="1877" y="12344"/>
                </a:cubicBezTo>
                <a:cubicBezTo>
                  <a:pt x="1891" y="12337"/>
                  <a:pt x="1905" y="12330"/>
                  <a:pt x="1919" y="12323"/>
                </a:cubicBezTo>
                <a:cubicBezTo>
                  <a:pt x="1955" y="12381"/>
                  <a:pt x="1994" y="12420"/>
                  <a:pt x="2053" y="12457"/>
                </a:cubicBezTo>
                <a:cubicBezTo>
                  <a:pt x="2123" y="12500"/>
                  <a:pt x="2166" y="12427"/>
                  <a:pt x="2215" y="12377"/>
                </a:cubicBezTo>
                <a:cubicBezTo>
                  <a:pt x="2272" y="12319"/>
                  <a:pt x="2308" y="12265"/>
                  <a:pt x="2385" y="12321"/>
                </a:cubicBezTo>
                <a:cubicBezTo>
                  <a:pt x="2431" y="12355"/>
                  <a:pt x="2472" y="12438"/>
                  <a:pt x="2540" y="12432"/>
                </a:cubicBezTo>
                <a:cubicBezTo>
                  <a:pt x="2597" y="12427"/>
                  <a:pt x="2646" y="12380"/>
                  <a:pt x="2695" y="12356"/>
                </a:cubicBezTo>
                <a:cubicBezTo>
                  <a:pt x="2780" y="12314"/>
                  <a:pt x="2796" y="12371"/>
                  <a:pt x="2863" y="12412"/>
                </a:cubicBezTo>
                <a:cubicBezTo>
                  <a:pt x="2914" y="12443"/>
                  <a:pt x="2971" y="12426"/>
                  <a:pt x="3016" y="12391"/>
                </a:cubicBezTo>
                <a:cubicBezTo>
                  <a:pt x="3092" y="12331"/>
                  <a:pt x="3044" y="12313"/>
                  <a:pt x="3150" y="12351"/>
                </a:cubicBezTo>
                <a:cubicBezTo>
                  <a:pt x="3193" y="12366"/>
                  <a:pt x="3236" y="12373"/>
                  <a:pt x="3281" y="12382"/>
                </a:cubicBezTo>
              </a:path>
              <a:path w="2013" h="480">
                <a:moveTo>
                  <a:pt x="2912" y="12106"/>
                </a:moveTo>
                <a:cubicBezTo>
                  <a:pt x="2982" y="12140"/>
                  <a:pt x="3024" y="12175"/>
                  <a:pt x="3083" y="12226"/>
                </a:cubicBezTo>
                <a:cubicBezTo>
                  <a:pt x="3135" y="12272"/>
                  <a:pt x="3193" y="12291"/>
                  <a:pt x="3261" y="12300"/>
                </a:cubicBezTo>
                <a:cubicBezTo>
                  <a:pt x="3358" y="12313"/>
                  <a:pt x="3308" y="12364"/>
                  <a:pt x="3261" y="12414"/>
                </a:cubicBezTo>
                <a:cubicBezTo>
                  <a:pt x="3207" y="12471"/>
                  <a:pt x="3137" y="12506"/>
                  <a:pt x="3076" y="12554"/>
                </a:cubicBezTo>
                <a:cubicBezTo>
                  <a:pt x="3043" y="12584"/>
                  <a:pt x="3031" y="12596"/>
                  <a:pt x="3039" y="12545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yriad Web"/>
              </a:rPr>
              <a:t>VC generation:  state changes (cont.)</a:t>
            </a:r>
            <a:endParaRPr b="1" lang="en-US" sz="36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74880"/>
                <a:tab algn="l" pos="3825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Give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Myriad Web"/>
              </a:rPr>
              <a:t>{x</a:t>
            </a:r>
            <a:r>
              <a:rPr b="0" lang="en-US" sz="28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9900"/>
                </a:solidFill>
                <a:latin typeface="Myriad Web"/>
              </a:rPr>
              <a:t>x0 ,y</a:t>
            </a:r>
            <a:r>
              <a:rPr b="0" lang="en-US" sz="28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9900"/>
                </a:solidFill>
                <a:latin typeface="Myriad Web"/>
              </a:rPr>
              <a:t>y0}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S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S’ </a:t>
            </a:r>
            <a:r>
              <a:rPr b="0" lang="en-US" sz="2800" spc="-1" strike="noStrike">
                <a:solidFill>
                  <a:srgbClr val="009900"/>
                </a:solidFill>
                <a:latin typeface="Myriad Web"/>
              </a:rPr>
              <a:t>{x</a:t>
            </a:r>
            <a:r>
              <a:rPr b="0" lang="en-US" sz="28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9900"/>
                </a:solidFill>
                <a:latin typeface="Myriad Web"/>
              </a:rPr>
              <a:t>x1, y</a:t>
            </a:r>
            <a:r>
              <a:rPr b="0" lang="en-US" sz="28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9900"/>
                </a:solidFill>
                <a:latin typeface="Myriad Web"/>
              </a:rPr>
              <a:t>y0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Myriad Web"/>
              </a:rPr>
              <a:t>{x</a:t>
            </a:r>
            <a:r>
              <a:rPr b="0" lang="en-US" sz="28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9900"/>
                </a:solidFill>
                <a:latin typeface="Myriad Web"/>
              </a:rPr>
              <a:t>x0, y</a:t>
            </a:r>
            <a:r>
              <a:rPr b="0" lang="en-US" sz="28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9900"/>
                </a:solidFill>
                <a:latin typeface="Myriad Web"/>
              </a:rPr>
              <a:t>y0} 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T’ </a:t>
            </a:r>
            <a:r>
              <a:rPr b="0" lang="en-US" sz="2800" spc="-1" strike="noStrike">
                <a:solidFill>
                  <a:srgbClr val="009900"/>
                </a:solidFill>
                <a:latin typeface="Myriad Web"/>
              </a:rPr>
              <a:t>{x</a:t>
            </a:r>
            <a:r>
              <a:rPr b="0" lang="en-US" sz="28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9900"/>
                </a:solidFill>
                <a:latin typeface="Myriad Web"/>
              </a:rPr>
              <a:t>x2, y</a:t>
            </a:r>
            <a:r>
              <a:rPr b="0" lang="en-US" sz="28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9900"/>
                </a:solidFill>
                <a:latin typeface="Myriad Web"/>
              </a:rPr>
              <a:t>y0}</a:t>
            </a: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74880"/>
                <a:tab algn="l" pos="3825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then we have:</a:t>
            </a: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74880"/>
                <a:tab algn="l" pos="3825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Myriad Web"/>
              </a:rPr>
              <a:t>{x</a:t>
            </a:r>
            <a:r>
              <a:rPr b="0" lang="en-US" sz="28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9900"/>
                </a:solidFill>
                <a:latin typeface="Myriad Web"/>
              </a:rPr>
              <a:t>x0, y</a:t>
            </a:r>
            <a:r>
              <a:rPr b="0" lang="en-US" sz="28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9900"/>
                </a:solidFill>
                <a:latin typeface="Myriad Web"/>
              </a:rPr>
              <a:t>y0}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Myriad Web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E(x,y) </a:t>
            </a:r>
            <a:r>
              <a:rPr b="0" lang="en-US" sz="2800" spc="-1" strike="noStrike">
                <a:solidFill>
                  <a:srgbClr val="3333cc"/>
                </a:solidFill>
                <a:latin typeface="Myriad Web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S </a:t>
            </a:r>
            <a:r>
              <a:rPr b="0" lang="en-US" sz="2800" spc="-1" strike="noStrike">
                <a:solidFill>
                  <a:srgbClr val="3333cc"/>
                </a:solidFill>
                <a:latin typeface="Myriad Web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T </a:t>
            </a:r>
            <a:r>
              <a:rPr b="0" lang="en-US" sz="2800" spc="-1" strike="noStrike">
                <a:solidFill>
                  <a:srgbClr val="3333cc"/>
                </a:solidFill>
                <a:latin typeface="Myriad Web"/>
              </a:rPr>
              <a:t>e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Myriad Web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E(x0,y0) </a:t>
            </a:r>
            <a:r>
              <a:rPr b="0" lang="en-US" sz="2800" spc="-1" strike="noStrike">
                <a:solidFill>
                  <a:srgbClr val="3333cc"/>
                </a:solidFill>
                <a:latin typeface="Myriad Web"/>
              </a:rPr>
              <a:t>the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S’ ;  x3 := x1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Myriad Web"/>
              </a:rPr>
              <a:t>el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T’ ;  x3 := x2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Myriad Web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74880"/>
                <a:tab algn="l" pos="3825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Myriad Web"/>
              </a:rPr>
              <a:t>{x</a:t>
            </a:r>
            <a:r>
              <a:rPr b="0" lang="en-US" sz="28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9900"/>
                </a:solidFill>
                <a:latin typeface="Myriad Web"/>
              </a:rPr>
              <a:t>x3, y</a:t>
            </a:r>
            <a:r>
              <a:rPr b="0" lang="en-US" sz="28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9900"/>
                </a:solidFill>
                <a:latin typeface="Myriad Web"/>
              </a:rPr>
              <a:t>y0}</a:t>
            </a: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74880"/>
                <a:tab algn="l" pos="3825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2057400"/>
            <a:ext cx="725400" cy="173160"/>
          </a:xfrm>
          <a:custGeom>
            <a:avLst/>
            <a:gdLst/>
            <a:ahLst/>
            <a:rect l="l" t="t" r="r" b="b"/>
            <a:pathLst>
              <a:path w="2013" h="480">
                <a:moveTo>
                  <a:pt x="1311" y="12571"/>
                </a:moveTo>
                <a:cubicBezTo>
                  <a:pt x="1354" y="12509"/>
                  <a:pt x="1387" y="12445"/>
                  <a:pt x="1438" y="12388"/>
                </a:cubicBezTo>
                <a:cubicBezTo>
                  <a:pt x="1482" y="12339"/>
                  <a:pt x="1532" y="12279"/>
                  <a:pt x="1598" y="12328"/>
                </a:cubicBezTo>
                <a:cubicBezTo>
                  <a:pt x="1651" y="12367"/>
                  <a:pt x="1676" y="12445"/>
                  <a:pt x="1720" y="12494"/>
                </a:cubicBezTo>
                <a:cubicBezTo>
                  <a:pt x="1772" y="12446"/>
                  <a:pt x="1818" y="12383"/>
                  <a:pt x="1877" y="12344"/>
                </a:cubicBezTo>
                <a:cubicBezTo>
                  <a:pt x="1891" y="12337"/>
                  <a:pt x="1905" y="12330"/>
                  <a:pt x="1919" y="12323"/>
                </a:cubicBezTo>
                <a:cubicBezTo>
                  <a:pt x="1955" y="12381"/>
                  <a:pt x="1994" y="12420"/>
                  <a:pt x="2053" y="12457"/>
                </a:cubicBezTo>
                <a:cubicBezTo>
                  <a:pt x="2123" y="12500"/>
                  <a:pt x="2166" y="12427"/>
                  <a:pt x="2215" y="12377"/>
                </a:cubicBezTo>
                <a:cubicBezTo>
                  <a:pt x="2272" y="12319"/>
                  <a:pt x="2308" y="12265"/>
                  <a:pt x="2385" y="12321"/>
                </a:cubicBezTo>
                <a:cubicBezTo>
                  <a:pt x="2431" y="12355"/>
                  <a:pt x="2472" y="12438"/>
                  <a:pt x="2540" y="12432"/>
                </a:cubicBezTo>
                <a:cubicBezTo>
                  <a:pt x="2597" y="12427"/>
                  <a:pt x="2646" y="12380"/>
                  <a:pt x="2695" y="12356"/>
                </a:cubicBezTo>
                <a:cubicBezTo>
                  <a:pt x="2780" y="12314"/>
                  <a:pt x="2796" y="12371"/>
                  <a:pt x="2863" y="12412"/>
                </a:cubicBezTo>
                <a:cubicBezTo>
                  <a:pt x="2914" y="12443"/>
                  <a:pt x="2971" y="12426"/>
                  <a:pt x="3016" y="12391"/>
                </a:cubicBezTo>
                <a:cubicBezTo>
                  <a:pt x="3092" y="12331"/>
                  <a:pt x="3044" y="12313"/>
                  <a:pt x="3150" y="12351"/>
                </a:cubicBezTo>
                <a:cubicBezTo>
                  <a:pt x="3193" y="12366"/>
                  <a:pt x="3236" y="12373"/>
                  <a:pt x="3281" y="12382"/>
                </a:cubicBezTo>
              </a:path>
              <a:path w="2013" h="480">
                <a:moveTo>
                  <a:pt x="2912" y="12106"/>
                </a:moveTo>
                <a:cubicBezTo>
                  <a:pt x="2982" y="12140"/>
                  <a:pt x="3024" y="12175"/>
                  <a:pt x="3083" y="12226"/>
                </a:cubicBezTo>
                <a:cubicBezTo>
                  <a:pt x="3135" y="12272"/>
                  <a:pt x="3193" y="12291"/>
                  <a:pt x="3261" y="12300"/>
                </a:cubicBezTo>
                <a:cubicBezTo>
                  <a:pt x="3358" y="12313"/>
                  <a:pt x="3308" y="12364"/>
                  <a:pt x="3261" y="12414"/>
                </a:cubicBezTo>
                <a:cubicBezTo>
                  <a:pt x="3207" y="12471"/>
                  <a:pt x="3137" y="12506"/>
                  <a:pt x="3076" y="12554"/>
                </a:cubicBezTo>
                <a:cubicBezTo>
                  <a:pt x="3043" y="12584"/>
                  <a:pt x="3031" y="12596"/>
                  <a:pt x="3039" y="12545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2362320"/>
            <a:ext cx="725400" cy="172800"/>
          </a:xfrm>
          <a:custGeom>
            <a:avLst/>
            <a:gdLst/>
            <a:ahLst/>
            <a:rect l="l" t="t" r="r" b="b"/>
            <a:pathLst>
              <a:path w="2013" h="480">
                <a:moveTo>
                  <a:pt x="1311" y="12571"/>
                </a:moveTo>
                <a:cubicBezTo>
                  <a:pt x="1354" y="12509"/>
                  <a:pt x="1387" y="12445"/>
                  <a:pt x="1438" y="12388"/>
                </a:cubicBezTo>
                <a:cubicBezTo>
                  <a:pt x="1482" y="12339"/>
                  <a:pt x="1532" y="12279"/>
                  <a:pt x="1598" y="12328"/>
                </a:cubicBezTo>
                <a:cubicBezTo>
                  <a:pt x="1651" y="12367"/>
                  <a:pt x="1676" y="12445"/>
                  <a:pt x="1720" y="12494"/>
                </a:cubicBezTo>
                <a:cubicBezTo>
                  <a:pt x="1772" y="12446"/>
                  <a:pt x="1818" y="12383"/>
                  <a:pt x="1877" y="12344"/>
                </a:cubicBezTo>
                <a:cubicBezTo>
                  <a:pt x="1891" y="12337"/>
                  <a:pt x="1905" y="12330"/>
                  <a:pt x="1919" y="12323"/>
                </a:cubicBezTo>
                <a:cubicBezTo>
                  <a:pt x="1955" y="12381"/>
                  <a:pt x="1994" y="12420"/>
                  <a:pt x="2053" y="12457"/>
                </a:cubicBezTo>
                <a:cubicBezTo>
                  <a:pt x="2123" y="12500"/>
                  <a:pt x="2166" y="12427"/>
                  <a:pt x="2215" y="12377"/>
                </a:cubicBezTo>
                <a:cubicBezTo>
                  <a:pt x="2272" y="12319"/>
                  <a:pt x="2308" y="12265"/>
                  <a:pt x="2385" y="12321"/>
                </a:cubicBezTo>
                <a:cubicBezTo>
                  <a:pt x="2431" y="12355"/>
                  <a:pt x="2472" y="12438"/>
                  <a:pt x="2540" y="12432"/>
                </a:cubicBezTo>
                <a:cubicBezTo>
                  <a:pt x="2597" y="12427"/>
                  <a:pt x="2646" y="12380"/>
                  <a:pt x="2695" y="12356"/>
                </a:cubicBezTo>
                <a:cubicBezTo>
                  <a:pt x="2780" y="12314"/>
                  <a:pt x="2796" y="12371"/>
                  <a:pt x="2863" y="12412"/>
                </a:cubicBezTo>
                <a:cubicBezTo>
                  <a:pt x="2914" y="12443"/>
                  <a:pt x="2971" y="12426"/>
                  <a:pt x="3016" y="12391"/>
                </a:cubicBezTo>
                <a:cubicBezTo>
                  <a:pt x="3092" y="12331"/>
                  <a:pt x="3044" y="12313"/>
                  <a:pt x="3150" y="12351"/>
                </a:cubicBezTo>
                <a:cubicBezTo>
                  <a:pt x="3193" y="12366"/>
                  <a:pt x="3236" y="12373"/>
                  <a:pt x="3281" y="12382"/>
                </a:cubicBezTo>
              </a:path>
              <a:path w="2013" h="480">
                <a:moveTo>
                  <a:pt x="2912" y="12106"/>
                </a:moveTo>
                <a:cubicBezTo>
                  <a:pt x="2982" y="12140"/>
                  <a:pt x="3024" y="12175"/>
                  <a:pt x="3083" y="12226"/>
                </a:cubicBezTo>
                <a:cubicBezTo>
                  <a:pt x="3135" y="12272"/>
                  <a:pt x="3193" y="12291"/>
                  <a:pt x="3261" y="12300"/>
                </a:cubicBezTo>
                <a:cubicBezTo>
                  <a:pt x="3358" y="12313"/>
                  <a:pt x="3308" y="12364"/>
                  <a:pt x="3261" y="12414"/>
                </a:cubicBezTo>
                <a:cubicBezTo>
                  <a:pt x="3207" y="12471"/>
                  <a:pt x="3137" y="12506"/>
                  <a:pt x="3076" y="12554"/>
                </a:cubicBezTo>
                <a:cubicBezTo>
                  <a:pt x="3043" y="12584"/>
                  <a:pt x="3031" y="12596"/>
                  <a:pt x="3039" y="12545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3560760"/>
            <a:ext cx="725400" cy="173160"/>
          </a:xfrm>
          <a:custGeom>
            <a:avLst/>
            <a:gdLst/>
            <a:ahLst/>
            <a:rect l="l" t="t" r="r" b="b"/>
            <a:pathLst>
              <a:path w="2013" h="480">
                <a:moveTo>
                  <a:pt x="1311" y="12571"/>
                </a:moveTo>
                <a:cubicBezTo>
                  <a:pt x="1354" y="12509"/>
                  <a:pt x="1387" y="12445"/>
                  <a:pt x="1438" y="12388"/>
                </a:cubicBezTo>
                <a:cubicBezTo>
                  <a:pt x="1482" y="12339"/>
                  <a:pt x="1532" y="12279"/>
                  <a:pt x="1598" y="12328"/>
                </a:cubicBezTo>
                <a:cubicBezTo>
                  <a:pt x="1651" y="12367"/>
                  <a:pt x="1676" y="12445"/>
                  <a:pt x="1720" y="12494"/>
                </a:cubicBezTo>
                <a:cubicBezTo>
                  <a:pt x="1772" y="12446"/>
                  <a:pt x="1818" y="12383"/>
                  <a:pt x="1877" y="12344"/>
                </a:cubicBezTo>
                <a:cubicBezTo>
                  <a:pt x="1891" y="12337"/>
                  <a:pt x="1905" y="12330"/>
                  <a:pt x="1919" y="12323"/>
                </a:cubicBezTo>
                <a:cubicBezTo>
                  <a:pt x="1955" y="12381"/>
                  <a:pt x="1994" y="12420"/>
                  <a:pt x="2053" y="12457"/>
                </a:cubicBezTo>
                <a:cubicBezTo>
                  <a:pt x="2123" y="12500"/>
                  <a:pt x="2166" y="12427"/>
                  <a:pt x="2215" y="12377"/>
                </a:cubicBezTo>
                <a:cubicBezTo>
                  <a:pt x="2272" y="12319"/>
                  <a:pt x="2308" y="12265"/>
                  <a:pt x="2385" y="12321"/>
                </a:cubicBezTo>
                <a:cubicBezTo>
                  <a:pt x="2431" y="12355"/>
                  <a:pt x="2472" y="12438"/>
                  <a:pt x="2540" y="12432"/>
                </a:cubicBezTo>
                <a:cubicBezTo>
                  <a:pt x="2597" y="12427"/>
                  <a:pt x="2646" y="12380"/>
                  <a:pt x="2695" y="12356"/>
                </a:cubicBezTo>
                <a:cubicBezTo>
                  <a:pt x="2780" y="12314"/>
                  <a:pt x="2796" y="12371"/>
                  <a:pt x="2863" y="12412"/>
                </a:cubicBezTo>
                <a:cubicBezTo>
                  <a:pt x="2914" y="12443"/>
                  <a:pt x="2971" y="12426"/>
                  <a:pt x="3016" y="12391"/>
                </a:cubicBezTo>
                <a:cubicBezTo>
                  <a:pt x="3092" y="12331"/>
                  <a:pt x="3044" y="12313"/>
                  <a:pt x="3150" y="12351"/>
                </a:cubicBezTo>
                <a:cubicBezTo>
                  <a:pt x="3193" y="12366"/>
                  <a:pt x="3236" y="12373"/>
                  <a:pt x="3281" y="12382"/>
                </a:cubicBezTo>
              </a:path>
              <a:path w="2013" h="480">
                <a:moveTo>
                  <a:pt x="2912" y="12106"/>
                </a:moveTo>
                <a:cubicBezTo>
                  <a:pt x="2982" y="12140"/>
                  <a:pt x="3024" y="12175"/>
                  <a:pt x="3083" y="12226"/>
                </a:cubicBezTo>
                <a:cubicBezTo>
                  <a:pt x="3135" y="12272"/>
                  <a:pt x="3193" y="12291"/>
                  <a:pt x="3261" y="12300"/>
                </a:cubicBezTo>
                <a:cubicBezTo>
                  <a:pt x="3358" y="12313"/>
                  <a:pt x="3308" y="12364"/>
                  <a:pt x="3261" y="12414"/>
                </a:cubicBezTo>
                <a:cubicBezTo>
                  <a:pt x="3207" y="12471"/>
                  <a:pt x="3137" y="12506"/>
                  <a:pt x="3076" y="12554"/>
                </a:cubicBezTo>
                <a:cubicBezTo>
                  <a:pt x="3043" y="12584"/>
                  <a:pt x="3031" y="12596"/>
                  <a:pt x="3039" y="12545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yriad Web"/>
              </a:rPr>
              <a:t>VC generation:  state changes (cont.)</a:t>
            </a:r>
            <a:endParaRPr b="1" lang="en-US" sz="36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Replace every assignm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x := 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Myriad Web"/>
              </a:rPr>
              <a:t>assume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 x = E</a:t>
            </a: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yriad Web"/>
              </a:rPr>
              <a:t>VC generation:  loops</a:t>
            </a: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156" name=""/>
          <p:cNvSpPr/>
          <p:nvPr/>
        </p:nvSpPr>
        <p:spPr>
          <a:xfrm>
            <a:off x="3898800" y="2693880"/>
            <a:ext cx="457200" cy="855720"/>
          </a:xfrm>
          <a:custGeom>
            <a:avLst/>
            <a:gdLst/>
            <a:ahLst/>
            <a:rect l="l" t="t" r="r" b="b"/>
            <a:pathLst>
              <a:path w="1267" h="2376">
                <a:moveTo>
                  <a:pt x="11505" y="7514"/>
                </a:moveTo>
                <a:cubicBezTo>
                  <a:pt x="11473" y="7573"/>
                  <a:pt x="11483" y="7581"/>
                  <a:pt x="11481" y="7648"/>
                </a:cubicBezTo>
                <a:cubicBezTo>
                  <a:pt x="11476" y="7862"/>
                  <a:pt x="11466" y="8075"/>
                  <a:pt x="11450" y="8288"/>
                </a:cubicBezTo>
                <a:cubicBezTo>
                  <a:pt x="11442" y="8401"/>
                  <a:pt x="11436" y="8514"/>
                  <a:pt x="11433" y="8627"/>
                </a:cubicBezTo>
                <a:cubicBezTo>
                  <a:pt x="11429" y="8793"/>
                  <a:pt x="11423" y="8959"/>
                  <a:pt x="11414" y="9125"/>
                </a:cubicBezTo>
                <a:cubicBezTo>
                  <a:pt x="11401" y="9360"/>
                  <a:pt x="11360" y="9590"/>
                  <a:pt x="11318" y="9821"/>
                </a:cubicBezTo>
                <a:cubicBezTo>
                  <a:pt x="11315" y="9833"/>
                  <a:pt x="11313" y="9846"/>
                  <a:pt x="11310" y="9858"/>
                </a:cubicBezTo>
                <a:cubicBezTo>
                  <a:pt x="11304" y="9794"/>
                  <a:pt x="11306" y="9735"/>
                  <a:pt x="11310" y="9671"/>
                </a:cubicBezTo>
              </a:path>
              <a:path w="1267" h="2376">
                <a:moveTo>
                  <a:pt x="10867" y="8873"/>
                </a:moveTo>
                <a:cubicBezTo>
                  <a:pt x="10820" y="8905"/>
                  <a:pt x="10855" y="8946"/>
                  <a:pt x="10891" y="9008"/>
                </a:cubicBezTo>
                <a:cubicBezTo>
                  <a:pt x="10938" y="9090"/>
                  <a:pt x="11006" y="9164"/>
                  <a:pt x="11069" y="9234"/>
                </a:cubicBezTo>
                <a:cubicBezTo>
                  <a:pt x="11157" y="9330"/>
                  <a:pt x="11261" y="9411"/>
                  <a:pt x="11346" y="9509"/>
                </a:cubicBezTo>
                <a:cubicBezTo>
                  <a:pt x="11393" y="9563"/>
                  <a:pt x="11441" y="9621"/>
                  <a:pt x="11484" y="9679"/>
                </a:cubicBezTo>
                <a:cubicBezTo>
                  <a:pt x="11518" y="9727"/>
                  <a:pt x="11525" y="9738"/>
                  <a:pt x="11547" y="9766"/>
                </a:cubicBezTo>
                <a:cubicBezTo>
                  <a:pt x="11613" y="9648"/>
                  <a:pt x="11661" y="9522"/>
                  <a:pt x="11735" y="9408"/>
                </a:cubicBezTo>
                <a:cubicBezTo>
                  <a:pt x="11791" y="9321"/>
                  <a:pt x="11843" y="9234"/>
                  <a:pt x="11894" y="9144"/>
                </a:cubicBezTo>
                <a:cubicBezTo>
                  <a:pt x="11924" y="9090"/>
                  <a:pt x="11952" y="9008"/>
                  <a:pt x="11992" y="8962"/>
                </a:cubicBezTo>
                <a:cubicBezTo>
                  <a:pt x="12040" y="8918"/>
                  <a:pt x="12054" y="8904"/>
                  <a:pt x="12098" y="8896"/>
                </a:cubicBezTo>
              </a:path>
            </a:pathLst>
          </a:custGeom>
          <a:noFill/>
          <a:ln cap="rnd"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40440" y="3152880"/>
            <a:ext cx="361800" cy="177840"/>
          </a:xfrm>
          <a:custGeom>
            <a:avLst/>
            <a:gdLst/>
            <a:ahLst/>
            <a:rect l="l" t="t" r="r" b="b"/>
            <a:pathLst>
              <a:path w="1009" h="494">
                <a:moveTo>
                  <a:pt x="14312" y="8795"/>
                </a:moveTo>
                <a:cubicBezTo>
                  <a:pt x="14300" y="8783"/>
                  <a:pt x="14289" y="8770"/>
                  <a:pt x="14277" y="8758"/>
                </a:cubicBezTo>
                <a:cubicBezTo>
                  <a:pt x="14287" y="8835"/>
                  <a:pt x="14310" y="8907"/>
                  <a:pt x="14328" y="8982"/>
                </a:cubicBezTo>
                <a:cubicBezTo>
                  <a:pt x="14340" y="9033"/>
                  <a:pt x="14354" y="9085"/>
                  <a:pt x="14373" y="9134"/>
                </a:cubicBezTo>
                <a:cubicBezTo>
                  <a:pt x="14392" y="9184"/>
                  <a:pt x="14409" y="9242"/>
                  <a:pt x="14465" y="9251"/>
                </a:cubicBezTo>
                <a:cubicBezTo>
                  <a:pt x="14511" y="9259"/>
                  <a:pt x="14563" y="9250"/>
                  <a:pt x="14607" y="9237"/>
                </a:cubicBezTo>
                <a:cubicBezTo>
                  <a:pt x="14705" y="9208"/>
                  <a:pt x="14792" y="9154"/>
                  <a:pt x="14882" y="9106"/>
                </a:cubicBezTo>
                <a:cubicBezTo>
                  <a:pt x="14978" y="9055"/>
                  <a:pt x="15257" y="8972"/>
                  <a:pt x="15284" y="8876"/>
                </a:cubicBezTo>
              </a:path>
            </a:pathLst>
          </a:custGeom>
          <a:noFill/>
          <a:ln cap="rnd"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90840" y="2768760"/>
            <a:ext cx="5786280" cy="3435120"/>
          </a:xfrm>
          <a:custGeom>
            <a:avLst/>
            <a:gdLst/>
            <a:ahLst/>
            <a:rect l="l" t="t" r="r" b="b"/>
            <a:pathLst>
              <a:path w="16074" h="9542">
                <a:moveTo>
                  <a:pt x="8062" y="9732"/>
                </a:moveTo>
                <a:cubicBezTo>
                  <a:pt x="8079" y="9786"/>
                  <a:pt x="8082" y="9763"/>
                  <a:pt x="8098" y="9818"/>
                </a:cubicBezTo>
                <a:cubicBezTo>
                  <a:pt x="8179" y="10100"/>
                  <a:pt x="8225" y="10362"/>
                  <a:pt x="8247" y="10653"/>
                </a:cubicBezTo>
                <a:cubicBezTo>
                  <a:pt x="8276" y="11041"/>
                  <a:pt x="8330" y="11441"/>
                  <a:pt x="8299" y="11830"/>
                </a:cubicBezTo>
                <a:cubicBezTo>
                  <a:pt x="8277" y="12104"/>
                  <a:pt x="8033" y="12932"/>
                  <a:pt x="8266" y="13136"/>
                </a:cubicBezTo>
                <a:cubicBezTo>
                  <a:pt x="8406" y="13258"/>
                  <a:pt x="8767" y="13212"/>
                  <a:pt x="8937" y="13220"/>
                </a:cubicBezTo>
                <a:cubicBezTo>
                  <a:pt x="9774" y="13258"/>
                  <a:pt x="10605" y="13243"/>
                  <a:pt x="11442" y="13243"/>
                </a:cubicBezTo>
                <a:cubicBezTo>
                  <a:pt x="12233" y="13243"/>
                  <a:pt x="13023" y="13253"/>
                  <a:pt x="13814" y="13253"/>
                </a:cubicBezTo>
                <a:cubicBezTo>
                  <a:pt x="14221" y="13253"/>
                  <a:pt x="14608" y="13314"/>
                  <a:pt x="15011" y="13343"/>
                </a:cubicBezTo>
                <a:cubicBezTo>
                  <a:pt x="15167" y="13354"/>
                  <a:pt x="15472" y="13423"/>
                  <a:pt x="15617" y="13340"/>
                </a:cubicBezTo>
                <a:cubicBezTo>
                  <a:pt x="15767" y="13254"/>
                  <a:pt x="15777" y="13112"/>
                  <a:pt x="15827" y="12961"/>
                </a:cubicBezTo>
                <a:cubicBezTo>
                  <a:pt x="15994" y="12458"/>
                  <a:pt x="16115" y="11834"/>
                  <a:pt x="16080" y="11305"/>
                </a:cubicBezTo>
                <a:cubicBezTo>
                  <a:pt x="16047" y="10794"/>
                  <a:pt x="16134" y="10242"/>
                  <a:pt x="16088" y="9748"/>
                </a:cubicBezTo>
                <a:cubicBezTo>
                  <a:pt x="16072" y="9579"/>
                  <a:pt x="16041" y="9536"/>
                  <a:pt x="15883" y="9463"/>
                </a:cubicBezTo>
                <a:cubicBezTo>
                  <a:pt x="15651" y="9355"/>
                  <a:pt x="15196" y="9483"/>
                  <a:pt x="14958" y="9503"/>
                </a:cubicBezTo>
                <a:cubicBezTo>
                  <a:pt x="14377" y="9551"/>
                  <a:pt x="13794" y="9565"/>
                  <a:pt x="13214" y="9614"/>
                </a:cubicBezTo>
                <a:cubicBezTo>
                  <a:pt x="12735" y="9654"/>
                  <a:pt x="12271" y="9678"/>
                  <a:pt x="11791" y="9685"/>
                </a:cubicBezTo>
                <a:cubicBezTo>
                  <a:pt x="11116" y="9695"/>
                  <a:pt x="10443" y="9714"/>
                  <a:pt x="9768" y="9730"/>
                </a:cubicBezTo>
                <a:cubicBezTo>
                  <a:pt x="9416" y="9738"/>
                  <a:pt x="9068" y="9664"/>
                  <a:pt x="8717" y="9660"/>
                </a:cubicBezTo>
                <a:cubicBezTo>
                  <a:pt x="8589" y="9658"/>
                  <a:pt x="8258" y="9676"/>
                  <a:pt x="8255" y="9737"/>
                </a:cubicBezTo>
                <a:cubicBezTo>
                  <a:pt x="8253" y="9773"/>
                  <a:pt x="8340" y="9705"/>
                  <a:pt x="8364" y="9732"/>
                </a:cubicBezTo>
              </a:path>
              <a:path w="16074" h="9542">
                <a:moveTo>
                  <a:pt x="10529" y="13260"/>
                </a:moveTo>
                <a:cubicBezTo>
                  <a:pt x="10520" y="13317"/>
                  <a:pt x="10509" y="13375"/>
                  <a:pt x="10504" y="13442"/>
                </a:cubicBezTo>
                <a:cubicBezTo>
                  <a:pt x="10491" y="13607"/>
                  <a:pt x="10454" y="13714"/>
                  <a:pt x="10333" y="13835"/>
                </a:cubicBezTo>
                <a:cubicBezTo>
                  <a:pt x="10066" y="14103"/>
                  <a:pt x="9678" y="14318"/>
                  <a:pt x="9382" y="14561"/>
                </a:cubicBezTo>
                <a:cubicBezTo>
                  <a:pt x="9159" y="14744"/>
                  <a:pt x="8917" y="14903"/>
                  <a:pt x="8692" y="15083"/>
                </a:cubicBezTo>
                <a:cubicBezTo>
                  <a:pt x="8585" y="15169"/>
                  <a:pt x="8482" y="15259"/>
                  <a:pt x="8372" y="15341"/>
                </a:cubicBezTo>
                <a:cubicBezTo>
                  <a:pt x="8153" y="15505"/>
                  <a:pt x="7904" y="15617"/>
                  <a:pt x="7699" y="15803"/>
                </a:cubicBezTo>
                <a:cubicBezTo>
                  <a:pt x="7538" y="15949"/>
                  <a:pt x="7377" y="16096"/>
                  <a:pt x="7217" y="16241"/>
                </a:cubicBezTo>
                <a:cubicBezTo>
                  <a:pt x="7177" y="16277"/>
                  <a:pt x="7145" y="16326"/>
                  <a:pt x="7106" y="16365"/>
                </a:cubicBezTo>
                <a:cubicBezTo>
                  <a:pt x="7046" y="16425"/>
                  <a:pt x="6980" y="16483"/>
                  <a:pt x="6918" y="16544"/>
                </a:cubicBezTo>
                <a:cubicBezTo>
                  <a:pt x="6921" y="16500"/>
                  <a:pt x="6924" y="16483"/>
                  <a:pt x="6943" y="16457"/>
                </a:cubicBezTo>
              </a:path>
              <a:path w="16074" h="9542">
                <a:moveTo>
                  <a:pt x="20793" y="17156"/>
                </a:moveTo>
                <a:cubicBezTo>
                  <a:pt x="20854" y="17167"/>
                  <a:pt x="20946" y="17224"/>
                  <a:pt x="21056" y="17229"/>
                </a:cubicBezTo>
                <a:cubicBezTo>
                  <a:pt x="21372" y="17244"/>
                  <a:pt x="21853" y="17180"/>
                  <a:pt x="22118" y="16989"/>
                </a:cubicBezTo>
                <a:cubicBezTo>
                  <a:pt x="22417" y="16773"/>
                  <a:pt x="22605" y="16289"/>
                  <a:pt x="22701" y="15953"/>
                </a:cubicBezTo>
                <a:cubicBezTo>
                  <a:pt x="22871" y="15360"/>
                  <a:pt x="22959" y="14776"/>
                  <a:pt x="22980" y="14161"/>
                </a:cubicBezTo>
                <a:cubicBezTo>
                  <a:pt x="23013" y="13193"/>
                  <a:pt x="22895" y="12234"/>
                  <a:pt x="22619" y="11305"/>
                </a:cubicBezTo>
                <a:cubicBezTo>
                  <a:pt x="22451" y="10741"/>
                  <a:pt x="22233" y="10296"/>
                  <a:pt x="21883" y="9825"/>
                </a:cubicBezTo>
                <a:cubicBezTo>
                  <a:pt x="21580" y="9416"/>
                  <a:pt x="21257" y="9104"/>
                  <a:pt x="20862" y="8786"/>
                </a:cubicBezTo>
                <a:cubicBezTo>
                  <a:pt x="20545" y="8531"/>
                  <a:pt x="20249" y="8329"/>
                  <a:pt x="19862" y="8191"/>
                </a:cubicBezTo>
                <a:cubicBezTo>
                  <a:pt x="19284" y="7985"/>
                  <a:pt x="18633" y="7759"/>
                  <a:pt x="18020" y="7701"/>
                </a:cubicBezTo>
                <a:cubicBezTo>
                  <a:pt x="17316" y="7634"/>
                  <a:pt x="16700" y="7921"/>
                  <a:pt x="16042" y="8120"/>
                </a:cubicBezTo>
                <a:cubicBezTo>
                  <a:pt x="15644" y="8240"/>
                  <a:pt x="15179" y="8382"/>
                  <a:pt x="14870" y="8675"/>
                </a:cubicBezTo>
                <a:cubicBezTo>
                  <a:pt x="14664" y="8871"/>
                  <a:pt x="14564" y="9140"/>
                  <a:pt x="14396" y="9354"/>
                </a:cubicBezTo>
                <a:cubicBezTo>
                  <a:pt x="14371" y="9386"/>
                  <a:pt x="14338" y="9436"/>
                  <a:pt x="14326" y="9450"/>
                </a:cubicBezTo>
                <a:cubicBezTo>
                  <a:pt x="14327" y="9431"/>
                  <a:pt x="14329" y="9412"/>
                  <a:pt x="14330" y="9393"/>
                </a:cubicBezTo>
              </a:path>
            </a:pathLst>
          </a:custGeom>
          <a:noFill/>
          <a:ln cap="rnd"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67080" y="5754600"/>
            <a:ext cx="272880" cy="249480"/>
          </a:xfrm>
          <a:custGeom>
            <a:avLst/>
            <a:gdLst/>
            <a:ahLst/>
            <a:rect l="l" t="t" r="r" b="b"/>
            <a:pathLst>
              <a:path w="755" h="692">
                <a:moveTo>
                  <a:pt x="6876" y="15984"/>
                </a:moveTo>
                <a:cubicBezTo>
                  <a:pt x="6855" y="16056"/>
                  <a:pt x="6855" y="16102"/>
                  <a:pt x="6857" y="16177"/>
                </a:cubicBezTo>
                <a:cubicBezTo>
                  <a:pt x="6860" y="16276"/>
                  <a:pt x="6872" y="16373"/>
                  <a:pt x="6879" y="16471"/>
                </a:cubicBezTo>
                <a:cubicBezTo>
                  <a:pt x="6884" y="16539"/>
                  <a:pt x="6887" y="16607"/>
                  <a:pt x="6890" y="16675"/>
                </a:cubicBezTo>
                <a:cubicBezTo>
                  <a:pt x="6957" y="16650"/>
                  <a:pt x="7016" y="16609"/>
                  <a:pt x="7080" y="16574"/>
                </a:cubicBezTo>
                <a:cubicBezTo>
                  <a:pt x="7191" y="16514"/>
                  <a:pt x="7304" y="16463"/>
                  <a:pt x="7411" y="16396"/>
                </a:cubicBezTo>
                <a:cubicBezTo>
                  <a:pt x="7471" y="16358"/>
                  <a:pt x="7519" y="16308"/>
                  <a:pt x="7575" y="16269"/>
                </a:cubicBezTo>
                <a:cubicBezTo>
                  <a:pt x="7586" y="16264"/>
                  <a:pt x="7597" y="16260"/>
                  <a:pt x="7608" y="16255"/>
                </a:cubicBezTo>
              </a:path>
            </a:pathLst>
          </a:custGeom>
          <a:noFill/>
          <a:ln cap="rnd"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35640" y="4765680"/>
            <a:ext cx="2925720" cy="1932120"/>
          </a:xfrm>
          <a:custGeom>
            <a:avLst/>
            <a:gdLst/>
            <a:ahLst/>
            <a:rect l="l" t="t" r="r" b="b"/>
            <a:pathLst>
              <a:path w="8126" h="5364">
                <a:moveTo>
                  <a:pt x="12717" y="13239"/>
                </a:moveTo>
                <a:cubicBezTo>
                  <a:pt x="12719" y="13291"/>
                  <a:pt x="12713" y="13328"/>
                  <a:pt x="12740" y="13391"/>
                </a:cubicBezTo>
                <a:cubicBezTo>
                  <a:pt x="12802" y="13536"/>
                  <a:pt x="12883" y="13675"/>
                  <a:pt x="12969" y="13807"/>
                </a:cubicBezTo>
                <a:cubicBezTo>
                  <a:pt x="13056" y="13941"/>
                  <a:pt x="13153" y="14062"/>
                  <a:pt x="13249" y="14189"/>
                </a:cubicBezTo>
                <a:cubicBezTo>
                  <a:pt x="13343" y="14314"/>
                  <a:pt x="13414" y="14441"/>
                  <a:pt x="13483" y="14579"/>
                </a:cubicBezTo>
                <a:cubicBezTo>
                  <a:pt x="13558" y="14728"/>
                  <a:pt x="13656" y="14868"/>
                  <a:pt x="13752" y="15003"/>
                </a:cubicBezTo>
                <a:cubicBezTo>
                  <a:pt x="13791" y="15058"/>
                  <a:pt x="13827" y="15111"/>
                  <a:pt x="13875" y="15159"/>
                </a:cubicBezTo>
                <a:cubicBezTo>
                  <a:pt x="13953" y="15238"/>
                  <a:pt x="13991" y="15267"/>
                  <a:pt x="13995" y="15203"/>
                </a:cubicBezTo>
              </a:path>
              <a:path w="8126" h="5364">
                <a:moveTo>
                  <a:pt x="13167" y="14954"/>
                </a:moveTo>
                <a:cubicBezTo>
                  <a:pt x="13236" y="14954"/>
                  <a:pt x="13276" y="14975"/>
                  <a:pt x="13340" y="15007"/>
                </a:cubicBezTo>
                <a:cubicBezTo>
                  <a:pt x="13410" y="15042"/>
                  <a:pt x="13481" y="15076"/>
                  <a:pt x="13553" y="15108"/>
                </a:cubicBezTo>
                <a:cubicBezTo>
                  <a:pt x="13616" y="15136"/>
                  <a:pt x="13677" y="15166"/>
                  <a:pt x="13740" y="15193"/>
                </a:cubicBezTo>
                <a:cubicBezTo>
                  <a:pt x="13807" y="15221"/>
                  <a:pt x="13887" y="15260"/>
                  <a:pt x="13962" y="15245"/>
                </a:cubicBezTo>
                <a:cubicBezTo>
                  <a:pt x="14028" y="15232"/>
                  <a:pt x="14056" y="15165"/>
                  <a:pt x="14076" y="15109"/>
                </a:cubicBezTo>
                <a:cubicBezTo>
                  <a:pt x="14095" y="15055"/>
                  <a:pt x="14104" y="14993"/>
                  <a:pt x="14116" y="14937"/>
                </a:cubicBezTo>
                <a:cubicBezTo>
                  <a:pt x="14131" y="14868"/>
                  <a:pt x="14147" y="14799"/>
                  <a:pt x="14165" y="14731"/>
                </a:cubicBezTo>
                <a:cubicBezTo>
                  <a:pt x="14183" y="14665"/>
                  <a:pt x="14203" y="14601"/>
                  <a:pt x="14221" y="14535"/>
                </a:cubicBezTo>
              </a:path>
              <a:path w="8126" h="5364">
                <a:moveTo>
                  <a:pt x="12818" y="15369"/>
                </a:moveTo>
                <a:cubicBezTo>
                  <a:pt x="12883" y="15358"/>
                  <a:pt x="12960" y="15340"/>
                  <a:pt x="13036" y="15330"/>
                </a:cubicBezTo>
                <a:cubicBezTo>
                  <a:pt x="13327" y="15294"/>
                  <a:pt x="13567" y="15338"/>
                  <a:pt x="13853" y="15341"/>
                </a:cubicBezTo>
                <a:cubicBezTo>
                  <a:pt x="14103" y="15343"/>
                  <a:pt x="14349" y="15291"/>
                  <a:pt x="14597" y="15263"/>
                </a:cubicBezTo>
                <a:cubicBezTo>
                  <a:pt x="14971" y="15221"/>
                  <a:pt x="15346" y="15239"/>
                  <a:pt x="15721" y="15192"/>
                </a:cubicBezTo>
                <a:cubicBezTo>
                  <a:pt x="16707" y="15068"/>
                  <a:pt x="17689" y="14938"/>
                  <a:pt x="18672" y="14789"/>
                </a:cubicBezTo>
                <a:cubicBezTo>
                  <a:pt x="19044" y="14733"/>
                  <a:pt x="20343" y="14392"/>
                  <a:pt x="20675" y="14647"/>
                </a:cubicBezTo>
                <a:cubicBezTo>
                  <a:pt x="20753" y="14707"/>
                  <a:pt x="20704" y="14810"/>
                  <a:pt x="20708" y="14896"/>
                </a:cubicBezTo>
                <a:cubicBezTo>
                  <a:pt x="20723" y="15190"/>
                  <a:pt x="20679" y="15496"/>
                  <a:pt x="20661" y="15789"/>
                </a:cubicBezTo>
                <a:cubicBezTo>
                  <a:pt x="20627" y="16327"/>
                  <a:pt x="20606" y="16884"/>
                  <a:pt x="20681" y="17419"/>
                </a:cubicBezTo>
                <a:cubicBezTo>
                  <a:pt x="20710" y="17625"/>
                  <a:pt x="20813" y="18123"/>
                  <a:pt x="20628" y="18231"/>
                </a:cubicBezTo>
                <a:cubicBezTo>
                  <a:pt x="20319" y="18411"/>
                  <a:pt x="19203" y="18326"/>
                  <a:pt x="18824" y="18359"/>
                </a:cubicBezTo>
                <a:cubicBezTo>
                  <a:pt x="18081" y="18424"/>
                  <a:pt x="17332" y="18424"/>
                  <a:pt x="16589" y="18497"/>
                </a:cubicBezTo>
                <a:cubicBezTo>
                  <a:pt x="16060" y="18549"/>
                  <a:pt x="15526" y="18596"/>
                  <a:pt x="14994" y="18600"/>
                </a:cubicBezTo>
                <a:cubicBezTo>
                  <a:pt x="14280" y="18605"/>
                  <a:pt x="13566" y="18605"/>
                  <a:pt x="12853" y="18580"/>
                </a:cubicBezTo>
                <a:cubicBezTo>
                  <a:pt x="12797" y="18578"/>
                  <a:pt x="12740" y="18574"/>
                  <a:pt x="12684" y="18572"/>
                </a:cubicBezTo>
                <a:cubicBezTo>
                  <a:pt x="12681" y="18265"/>
                  <a:pt x="12594" y="17949"/>
                  <a:pt x="12600" y="17649"/>
                </a:cubicBezTo>
                <a:cubicBezTo>
                  <a:pt x="12604" y="17463"/>
                  <a:pt x="12655" y="17280"/>
                  <a:pt x="12677" y="17094"/>
                </a:cubicBezTo>
                <a:cubicBezTo>
                  <a:pt x="12728" y="16655"/>
                  <a:pt x="12766" y="15610"/>
                  <a:pt x="13016" y="15242"/>
                </a:cubicBezTo>
                <a:cubicBezTo>
                  <a:pt x="13051" y="15190"/>
                  <a:pt x="13115" y="15227"/>
                  <a:pt x="13140" y="15193"/>
                </a:cubicBezTo>
              </a:path>
            </a:pathLst>
          </a:custGeom>
          <a:noFill/>
          <a:ln cap="rnd"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33640" y="1395360"/>
            <a:ext cx="2625840" cy="1417680"/>
          </a:xfrm>
          <a:custGeom>
            <a:avLst/>
            <a:gdLst/>
            <a:ahLst/>
            <a:rect l="l" t="t" r="r" b="b"/>
            <a:pathLst>
              <a:path w="7296" h="3937">
                <a:moveTo>
                  <a:pt x="8229" y="4334"/>
                </a:moveTo>
                <a:cubicBezTo>
                  <a:pt x="8244" y="4526"/>
                  <a:pt x="8270" y="4726"/>
                  <a:pt x="8288" y="4923"/>
                </a:cubicBezTo>
                <a:cubicBezTo>
                  <a:pt x="8308" y="5149"/>
                  <a:pt x="8311" y="5368"/>
                  <a:pt x="8299" y="5594"/>
                </a:cubicBezTo>
                <a:cubicBezTo>
                  <a:pt x="8281" y="5919"/>
                  <a:pt x="8245" y="6235"/>
                  <a:pt x="8211" y="6557"/>
                </a:cubicBezTo>
                <a:cubicBezTo>
                  <a:pt x="8180" y="6857"/>
                  <a:pt x="8149" y="7145"/>
                  <a:pt x="8160" y="7447"/>
                </a:cubicBezTo>
                <a:cubicBezTo>
                  <a:pt x="8164" y="7552"/>
                  <a:pt x="8143" y="7723"/>
                  <a:pt x="8239" y="7779"/>
                </a:cubicBezTo>
                <a:cubicBezTo>
                  <a:pt x="8449" y="7901"/>
                  <a:pt x="9104" y="7815"/>
                  <a:pt x="9337" y="7813"/>
                </a:cubicBezTo>
                <a:cubicBezTo>
                  <a:pt x="10365" y="7803"/>
                  <a:pt x="11394" y="7599"/>
                  <a:pt x="12423" y="7550"/>
                </a:cubicBezTo>
                <a:cubicBezTo>
                  <a:pt x="12986" y="7523"/>
                  <a:pt x="13552" y="7497"/>
                  <a:pt x="14115" y="7478"/>
                </a:cubicBezTo>
                <a:cubicBezTo>
                  <a:pt x="14531" y="7464"/>
                  <a:pt x="14950" y="7473"/>
                  <a:pt x="15366" y="7475"/>
                </a:cubicBezTo>
                <a:cubicBezTo>
                  <a:pt x="15360" y="7372"/>
                  <a:pt x="15346" y="7250"/>
                  <a:pt x="15344" y="7139"/>
                </a:cubicBezTo>
                <a:cubicBezTo>
                  <a:pt x="15337" y="6717"/>
                  <a:pt x="15343" y="6290"/>
                  <a:pt x="15346" y="5868"/>
                </a:cubicBezTo>
                <a:cubicBezTo>
                  <a:pt x="15350" y="5383"/>
                  <a:pt x="15353" y="4896"/>
                  <a:pt x="15407" y="4414"/>
                </a:cubicBezTo>
                <a:cubicBezTo>
                  <a:pt x="15428" y="4228"/>
                  <a:pt x="15513" y="4001"/>
                  <a:pt x="15301" y="3894"/>
                </a:cubicBezTo>
                <a:cubicBezTo>
                  <a:pt x="15125" y="3805"/>
                  <a:pt x="14771" y="3920"/>
                  <a:pt x="14586" y="3933"/>
                </a:cubicBezTo>
                <a:cubicBezTo>
                  <a:pt x="13189" y="4034"/>
                  <a:pt x="11808" y="4190"/>
                  <a:pt x="10406" y="4221"/>
                </a:cubicBezTo>
                <a:cubicBezTo>
                  <a:pt x="10038" y="4229"/>
                  <a:pt x="9682" y="4198"/>
                  <a:pt x="9316" y="4179"/>
                </a:cubicBezTo>
                <a:cubicBezTo>
                  <a:pt x="9053" y="4165"/>
                  <a:pt x="8782" y="4161"/>
                  <a:pt x="8520" y="4171"/>
                </a:cubicBezTo>
                <a:cubicBezTo>
                  <a:pt x="8415" y="4175"/>
                  <a:pt x="8394" y="4182"/>
                  <a:pt x="8341" y="4215"/>
                </a:cubicBezTo>
                <a:cubicBezTo>
                  <a:pt x="8355" y="4221"/>
                  <a:pt x="8370" y="4227"/>
                  <a:pt x="8384" y="4233"/>
                </a:cubicBezTo>
              </a:path>
            </a:pathLst>
          </a:custGeom>
          <a:noFill/>
          <a:ln cap="rnd"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358128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loop he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00400" y="57150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loop b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39625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Myriad Web"/>
              </a:rPr>
              <a:t>assert</a:t>
            </a:r>
            <a:r>
              <a:rPr b="0" lang="en-US" sz="2200" spc="-1" strike="noStrike">
                <a:solidFill>
                  <a:srgbClr val="000000"/>
                </a:solidFill>
                <a:latin typeface="Myriad Web"/>
              </a:rPr>
              <a:t> LoopInv( x )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5592600"/>
            <a:ext cx="259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Myriad Web"/>
              </a:rPr>
              <a:t>assume</a:t>
            </a:r>
            <a:r>
              <a:rPr b="0" lang="en-US" sz="2200" spc="-1" strike="noStrike">
                <a:solidFill>
                  <a:srgbClr val="000000"/>
                </a:solidFill>
                <a:latin typeface="Myriad Web"/>
              </a:rPr>
              <a:t> Guard( x ) 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Myriad Web"/>
              </a:rPr>
              <a:t>x :=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47800" y="6067440"/>
            <a:ext cx="2349360" cy="747720"/>
          </a:xfrm>
          <a:custGeom>
            <a:avLst/>
            <a:gdLst/>
            <a:ahLst/>
            <a:rect l="l" t="t" r="r" b="b"/>
            <a:pathLst>
              <a:path w="6527" h="2079">
                <a:moveTo>
                  <a:pt x="2956" y="16896"/>
                </a:moveTo>
                <a:cubicBezTo>
                  <a:pt x="3035" y="16920"/>
                  <a:pt x="3075" y="16939"/>
                  <a:pt x="3159" y="16949"/>
                </a:cubicBezTo>
                <a:cubicBezTo>
                  <a:pt x="3330" y="16970"/>
                  <a:pt x="3495" y="16990"/>
                  <a:pt x="3668" y="16989"/>
                </a:cubicBezTo>
                <a:cubicBezTo>
                  <a:pt x="4031" y="16987"/>
                  <a:pt x="4398" y="16957"/>
                  <a:pt x="4761" y="16992"/>
                </a:cubicBezTo>
                <a:cubicBezTo>
                  <a:pt x="5382" y="17051"/>
                  <a:pt x="5969" y="17122"/>
                  <a:pt x="6594" y="17049"/>
                </a:cubicBezTo>
                <a:cubicBezTo>
                  <a:pt x="6824" y="17022"/>
                  <a:pt x="7046" y="16976"/>
                  <a:pt x="7273" y="16938"/>
                </a:cubicBezTo>
                <a:cubicBezTo>
                  <a:pt x="7530" y="16895"/>
                  <a:pt x="7779" y="16898"/>
                  <a:pt x="8037" y="16885"/>
                </a:cubicBezTo>
                <a:cubicBezTo>
                  <a:pt x="8277" y="16873"/>
                  <a:pt x="8647" y="16761"/>
                  <a:pt x="8811" y="16983"/>
                </a:cubicBezTo>
                <a:cubicBezTo>
                  <a:pt x="8914" y="17123"/>
                  <a:pt x="8867" y="17310"/>
                  <a:pt x="8871" y="17472"/>
                </a:cubicBezTo>
                <a:cubicBezTo>
                  <a:pt x="8877" y="17753"/>
                  <a:pt x="8916" y="18043"/>
                  <a:pt x="8822" y="18312"/>
                </a:cubicBezTo>
                <a:cubicBezTo>
                  <a:pt x="8796" y="18388"/>
                  <a:pt x="8773" y="18476"/>
                  <a:pt x="8747" y="18547"/>
                </a:cubicBezTo>
                <a:cubicBezTo>
                  <a:pt x="8720" y="18620"/>
                  <a:pt x="8740" y="18627"/>
                  <a:pt x="8683" y="18695"/>
                </a:cubicBezTo>
                <a:cubicBezTo>
                  <a:pt x="8578" y="18820"/>
                  <a:pt x="8493" y="18811"/>
                  <a:pt x="8351" y="18827"/>
                </a:cubicBezTo>
                <a:cubicBezTo>
                  <a:pt x="7934" y="18873"/>
                  <a:pt x="7534" y="18951"/>
                  <a:pt x="7113" y="18908"/>
                </a:cubicBezTo>
                <a:cubicBezTo>
                  <a:pt x="6837" y="18880"/>
                  <a:pt x="6628" y="18809"/>
                  <a:pt x="6372" y="18720"/>
                </a:cubicBezTo>
                <a:cubicBezTo>
                  <a:pt x="6090" y="18622"/>
                  <a:pt x="5771" y="18588"/>
                  <a:pt x="5474" y="18561"/>
                </a:cubicBezTo>
                <a:cubicBezTo>
                  <a:pt x="4923" y="18511"/>
                  <a:pt x="4371" y="18558"/>
                  <a:pt x="3819" y="18494"/>
                </a:cubicBezTo>
                <a:cubicBezTo>
                  <a:pt x="3506" y="18458"/>
                  <a:pt x="3141" y="18476"/>
                  <a:pt x="2840" y="18376"/>
                </a:cubicBezTo>
                <a:cubicBezTo>
                  <a:pt x="2744" y="18344"/>
                  <a:pt x="2436" y="18259"/>
                  <a:pt x="2381" y="18186"/>
                </a:cubicBezTo>
                <a:cubicBezTo>
                  <a:pt x="2318" y="18103"/>
                  <a:pt x="2386" y="17978"/>
                  <a:pt x="2412" y="17892"/>
                </a:cubicBezTo>
                <a:cubicBezTo>
                  <a:pt x="2489" y="17640"/>
                  <a:pt x="2627" y="17399"/>
                  <a:pt x="2745" y="17165"/>
                </a:cubicBezTo>
                <a:cubicBezTo>
                  <a:pt x="2769" y="17117"/>
                  <a:pt x="2789" y="17052"/>
                  <a:pt x="2826" y="17011"/>
                </a:cubicBezTo>
                <a:cubicBezTo>
                  <a:pt x="2893" y="16936"/>
                  <a:pt x="2959" y="16951"/>
                  <a:pt x="3016" y="16921"/>
                </a:cubicBezTo>
                <a:cubicBezTo>
                  <a:pt x="3060" y="16912"/>
                  <a:pt x="3077" y="16905"/>
                  <a:pt x="3097" y="16877"/>
                </a:cubicBezTo>
              </a:path>
            </a:pathLst>
          </a:custGeom>
          <a:noFill/>
          <a:ln cap="rnd"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620244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Myriad Web"/>
              </a:rPr>
              <a:t>assume</a:t>
            </a:r>
            <a:r>
              <a:rPr b="0" lang="en-US" sz="2200" spc="-1" strike="noStrike">
                <a:solidFill>
                  <a:srgbClr val="000000"/>
                </a:solidFill>
                <a:latin typeface="Myriad Web"/>
              </a:rPr>
              <a:t> ¬Guard( x )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57150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after loo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yriad Web"/>
              </a:rPr>
              <a:t>VC generation:  loops</a:t>
            </a: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170" name=""/>
          <p:cNvSpPr/>
          <p:nvPr/>
        </p:nvSpPr>
        <p:spPr>
          <a:xfrm>
            <a:off x="3898800" y="2693880"/>
            <a:ext cx="457200" cy="855720"/>
          </a:xfrm>
          <a:custGeom>
            <a:avLst/>
            <a:gdLst/>
            <a:ahLst/>
            <a:rect l="l" t="t" r="r" b="b"/>
            <a:pathLst>
              <a:path w="1267" h="2376">
                <a:moveTo>
                  <a:pt x="11505" y="7514"/>
                </a:moveTo>
                <a:cubicBezTo>
                  <a:pt x="11473" y="7573"/>
                  <a:pt x="11483" y="7581"/>
                  <a:pt x="11481" y="7648"/>
                </a:cubicBezTo>
                <a:cubicBezTo>
                  <a:pt x="11476" y="7862"/>
                  <a:pt x="11466" y="8075"/>
                  <a:pt x="11450" y="8288"/>
                </a:cubicBezTo>
                <a:cubicBezTo>
                  <a:pt x="11442" y="8401"/>
                  <a:pt x="11436" y="8514"/>
                  <a:pt x="11433" y="8627"/>
                </a:cubicBezTo>
                <a:cubicBezTo>
                  <a:pt x="11429" y="8793"/>
                  <a:pt x="11423" y="8959"/>
                  <a:pt x="11414" y="9125"/>
                </a:cubicBezTo>
                <a:cubicBezTo>
                  <a:pt x="11401" y="9360"/>
                  <a:pt x="11360" y="9590"/>
                  <a:pt x="11318" y="9821"/>
                </a:cubicBezTo>
                <a:cubicBezTo>
                  <a:pt x="11315" y="9833"/>
                  <a:pt x="11313" y="9846"/>
                  <a:pt x="11310" y="9858"/>
                </a:cubicBezTo>
                <a:cubicBezTo>
                  <a:pt x="11304" y="9794"/>
                  <a:pt x="11306" y="9735"/>
                  <a:pt x="11310" y="9671"/>
                </a:cubicBezTo>
              </a:path>
              <a:path w="1267" h="2376">
                <a:moveTo>
                  <a:pt x="10867" y="8873"/>
                </a:moveTo>
                <a:cubicBezTo>
                  <a:pt x="10820" y="8905"/>
                  <a:pt x="10855" y="8946"/>
                  <a:pt x="10891" y="9008"/>
                </a:cubicBezTo>
                <a:cubicBezTo>
                  <a:pt x="10938" y="9090"/>
                  <a:pt x="11006" y="9164"/>
                  <a:pt x="11069" y="9234"/>
                </a:cubicBezTo>
                <a:cubicBezTo>
                  <a:pt x="11157" y="9330"/>
                  <a:pt x="11261" y="9411"/>
                  <a:pt x="11346" y="9509"/>
                </a:cubicBezTo>
                <a:cubicBezTo>
                  <a:pt x="11393" y="9563"/>
                  <a:pt x="11441" y="9621"/>
                  <a:pt x="11484" y="9679"/>
                </a:cubicBezTo>
                <a:cubicBezTo>
                  <a:pt x="11518" y="9727"/>
                  <a:pt x="11525" y="9738"/>
                  <a:pt x="11547" y="9766"/>
                </a:cubicBezTo>
                <a:cubicBezTo>
                  <a:pt x="11613" y="9648"/>
                  <a:pt x="11661" y="9522"/>
                  <a:pt x="11735" y="9408"/>
                </a:cubicBezTo>
                <a:cubicBezTo>
                  <a:pt x="11791" y="9321"/>
                  <a:pt x="11843" y="9234"/>
                  <a:pt x="11894" y="9144"/>
                </a:cubicBezTo>
                <a:cubicBezTo>
                  <a:pt x="11924" y="9090"/>
                  <a:pt x="11952" y="9008"/>
                  <a:pt x="11992" y="8962"/>
                </a:cubicBezTo>
                <a:cubicBezTo>
                  <a:pt x="12040" y="8918"/>
                  <a:pt x="12054" y="8904"/>
                  <a:pt x="12098" y="8896"/>
                </a:cubicBezTo>
              </a:path>
            </a:pathLst>
          </a:custGeom>
          <a:noFill/>
          <a:ln cap="rnd"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0440" y="3152880"/>
            <a:ext cx="361800" cy="177840"/>
          </a:xfrm>
          <a:custGeom>
            <a:avLst/>
            <a:gdLst/>
            <a:ahLst/>
            <a:rect l="l" t="t" r="r" b="b"/>
            <a:pathLst>
              <a:path w="1009" h="494">
                <a:moveTo>
                  <a:pt x="14312" y="8795"/>
                </a:moveTo>
                <a:cubicBezTo>
                  <a:pt x="14300" y="8783"/>
                  <a:pt x="14289" y="8770"/>
                  <a:pt x="14277" y="8758"/>
                </a:cubicBezTo>
                <a:cubicBezTo>
                  <a:pt x="14287" y="8835"/>
                  <a:pt x="14310" y="8907"/>
                  <a:pt x="14328" y="8982"/>
                </a:cubicBezTo>
                <a:cubicBezTo>
                  <a:pt x="14340" y="9033"/>
                  <a:pt x="14354" y="9085"/>
                  <a:pt x="14373" y="9134"/>
                </a:cubicBezTo>
                <a:cubicBezTo>
                  <a:pt x="14392" y="9184"/>
                  <a:pt x="14409" y="9242"/>
                  <a:pt x="14465" y="9251"/>
                </a:cubicBezTo>
                <a:cubicBezTo>
                  <a:pt x="14511" y="9259"/>
                  <a:pt x="14563" y="9250"/>
                  <a:pt x="14607" y="9237"/>
                </a:cubicBezTo>
                <a:cubicBezTo>
                  <a:pt x="14705" y="9208"/>
                  <a:pt x="14792" y="9154"/>
                  <a:pt x="14882" y="9106"/>
                </a:cubicBezTo>
                <a:cubicBezTo>
                  <a:pt x="14978" y="9055"/>
                  <a:pt x="15257" y="8972"/>
                  <a:pt x="15284" y="8876"/>
                </a:cubicBezTo>
              </a:path>
            </a:pathLst>
          </a:custGeom>
          <a:noFill/>
          <a:ln cap="rnd"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90840" y="2768760"/>
            <a:ext cx="5786280" cy="3435120"/>
          </a:xfrm>
          <a:custGeom>
            <a:avLst/>
            <a:gdLst/>
            <a:ahLst/>
            <a:rect l="l" t="t" r="r" b="b"/>
            <a:pathLst>
              <a:path w="16074" h="9542">
                <a:moveTo>
                  <a:pt x="8062" y="9732"/>
                </a:moveTo>
                <a:cubicBezTo>
                  <a:pt x="8079" y="9786"/>
                  <a:pt x="8082" y="9763"/>
                  <a:pt x="8098" y="9818"/>
                </a:cubicBezTo>
                <a:cubicBezTo>
                  <a:pt x="8179" y="10100"/>
                  <a:pt x="8225" y="10362"/>
                  <a:pt x="8247" y="10653"/>
                </a:cubicBezTo>
                <a:cubicBezTo>
                  <a:pt x="8276" y="11041"/>
                  <a:pt x="8330" y="11441"/>
                  <a:pt x="8299" y="11830"/>
                </a:cubicBezTo>
                <a:cubicBezTo>
                  <a:pt x="8277" y="12104"/>
                  <a:pt x="8033" y="12932"/>
                  <a:pt x="8266" y="13136"/>
                </a:cubicBezTo>
                <a:cubicBezTo>
                  <a:pt x="8406" y="13258"/>
                  <a:pt x="8767" y="13212"/>
                  <a:pt x="8937" y="13220"/>
                </a:cubicBezTo>
                <a:cubicBezTo>
                  <a:pt x="9774" y="13258"/>
                  <a:pt x="10605" y="13243"/>
                  <a:pt x="11442" y="13243"/>
                </a:cubicBezTo>
                <a:cubicBezTo>
                  <a:pt x="12233" y="13243"/>
                  <a:pt x="13023" y="13253"/>
                  <a:pt x="13814" y="13253"/>
                </a:cubicBezTo>
                <a:cubicBezTo>
                  <a:pt x="14221" y="13253"/>
                  <a:pt x="14608" y="13314"/>
                  <a:pt x="15011" y="13343"/>
                </a:cubicBezTo>
                <a:cubicBezTo>
                  <a:pt x="15167" y="13354"/>
                  <a:pt x="15472" y="13423"/>
                  <a:pt x="15617" y="13340"/>
                </a:cubicBezTo>
                <a:cubicBezTo>
                  <a:pt x="15767" y="13254"/>
                  <a:pt x="15777" y="13112"/>
                  <a:pt x="15827" y="12961"/>
                </a:cubicBezTo>
                <a:cubicBezTo>
                  <a:pt x="15994" y="12458"/>
                  <a:pt x="16115" y="11834"/>
                  <a:pt x="16080" y="11305"/>
                </a:cubicBezTo>
                <a:cubicBezTo>
                  <a:pt x="16047" y="10794"/>
                  <a:pt x="16134" y="10242"/>
                  <a:pt x="16088" y="9748"/>
                </a:cubicBezTo>
                <a:cubicBezTo>
                  <a:pt x="16072" y="9579"/>
                  <a:pt x="16041" y="9536"/>
                  <a:pt x="15883" y="9463"/>
                </a:cubicBezTo>
                <a:cubicBezTo>
                  <a:pt x="15651" y="9355"/>
                  <a:pt x="15196" y="9483"/>
                  <a:pt x="14958" y="9503"/>
                </a:cubicBezTo>
                <a:cubicBezTo>
                  <a:pt x="14377" y="9551"/>
                  <a:pt x="13794" y="9565"/>
                  <a:pt x="13214" y="9614"/>
                </a:cubicBezTo>
                <a:cubicBezTo>
                  <a:pt x="12735" y="9654"/>
                  <a:pt x="12271" y="9678"/>
                  <a:pt x="11791" y="9685"/>
                </a:cubicBezTo>
                <a:cubicBezTo>
                  <a:pt x="11116" y="9695"/>
                  <a:pt x="10443" y="9714"/>
                  <a:pt x="9768" y="9730"/>
                </a:cubicBezTo>
                <a:cubicBezTo>
                  <a:pt x="9416" y="9738"/>
                  <a:pt x="9068" y="9664"/>
                  <a:pt x="8717" y="9660"/>
                </a:cubicBezTo>
                <a:cubicBezTo>
                  <a:pt x="8589" y="9658"/>
                  <a:pt x="8258" y="9676"/>
                  <a:pt x="8255" y="9737"/>
                </a:cubicBezTo>
                <a:cubicBezTo>
                  <a:pt x="8253" y="9773"/>
                  <a:pt x="8340" y="9705"/>
                  <a:pt x="8364" y="9732"/>
                </a:cubicBezTo>
              </a:path>
              <a:path w="16074" h="9542">
                <a:moveTo>
                  <a:pt x="10529" y="13260"/>
                </a:moveTo>
                <a:cubicBezTo>
                  <a:pt x="10520" y="13317"/>
                  <a:pt x="10509" y="13375"/>
                  <a:pt x="10504" y="13442"/>
                </a:cubicBezTo>
                <a:cubicBezTo>
                  <a:pt x="10491" y="13607"/>
                  <a:pt x="10454" y="13714"/>
                  <a:pt x="10333" y="13835"/>
                </a:cubicBezTo>
                <a:cubicBezTo>
                  <a:pt x="10066" y="14103"/>
                  <a:pt x="9678" y="14318"/>
                  <a:pt x="9382" y="14561"/>
                </a:cubicBezTo>
                <a:cubicBezTo>
                  <a:pt x="9159" y="14744"/>
                  <a:pt x="8917" y="14903"/>
                  <a:pt x="8692" y="15083"/>
                </a:cubicBezTo>
                <a:cubicBezTo>
                  <a:pt x="8585" y="15169"/>
                  <a:pt x="8482" y="15259"/>
                  <a:pt x="8372" y="15341"/>
                </a:cubicBezTo>
                <a:cubicBezTo>
                  <a:pt x="8153" y="15505"/>
                  <a:pt x="7904" y="15617"/>
                  <a:pt x="7699" y="15803"/>
                </a:cubicBezTo>
                <a:cubicBezTo>
                  <a:pt x="7538" y="15949"/>
                  <a:pt x="7377" y="16096"/>
                  <a:pt x="7217" y="16241"/>
                </a:cubicBezTo>
                <a:cubicBezTo>
                  <a:pt x="7177" y="16277"/>
                  <a:pt x="7145" y="16326"/>
                  <a:pt x="7106" y="16365"/>
                </a:cubicBezTo>
                <a:cubicBezTo>
                  <a:pt x="7046" y="16425"/>
                  <a:pt x="6980" y="16483"/>
                  <a:pt x="6918" y="16544"/>
                </a:cubicBezTo>
                <a:cubicBezTo>
                  <a:pt x="6921" y="16500"/>
                  <a:pt x="6924" y="16483"/>
                  <a:pt x="6943" y="16457"/>
                </a:cubicBezTo>
              </a:path>
              <a:path w="16074" h="9542">
                <a:moveTo>
                  <a:pt x="20793" y="17156"/>
                </a:moveTo>
                <a:cubicBezTo>
                  <a:pt x="20854" y="17167"/>
                  <a:pt x="20946" y="17224"/>
                  <a:pt x="21056" y="17229"/>
                </a:cubicBezTo>
                <a:cubicBezTo>
                  <a:pt x="21372" y="17244"/>
                  <a:pt x="21853" y="17180"/>
                  <a:pt x="22118" y="16989"/>
                </a:cubicBezTo>
                <a:cubicBezTo>
                  <a:pt x="22417" y="16773"/>
                  <a:pt x="22605" y="16289"/>
                  <a:pt x="22701" y="15953"/>
                </a:cubicBezTo>
                <a:cubicBezTo>
                  <a:pt x="22871" y="15360"/>
                  <a:pt x="22959" y="14776"/>
                  <a:pt x="22980" y="14161"/>
                </a:cubicBezTo>
                <a:cubicBezTo>
                  <a:pt x="23013" y="13193"/>
                  <a:pt x="22895" y="12234"/>
                  <a:pt x="22619" y="11305"/>
                </a:cubicBezTo>
                <a:cubicBezTo>
                  <a:pt x="22451" y="10741"/>
                  <a:pt x="22233" y="10296"/>
                  <a:pt x="21883" y="9825"/>
                </a:cubicBezTo>
                <a:cubicBezTo>
                  <a:pt x="21580" y="9416"/>
                  <a:pt x="21257" y="9104"/>
                  <a:pt x="20862" y="8786"/>
                </a:cubicBezTo>
                <a:cubicBezTo>
                  <a:pt x="20545" y="8531"/>
                  <a:pt x="20249" y="8329"/>
                  <a:pt x="19862" y="8191"/>
                </a:cubicBezTo>
                <a:cubicBezTo>
                  <a:pt x="19284" y="7985"/>
                  <a:pt x="18633" y="7759"/>
                  <a:pt x="18020" y="7701"/>
                </a:cubicBezTo>
                <a:cubicBezTo>
                  <a:pt x="17316" y="7634"/>
                  <a:pt x="16700" y="7921"/>
                  <a:pt x="16042" y="8120"/>
                </a:cubicBezTo>
                <a:cubicBezTo>
                  <a:pt x="15644" y="8240"/>
                  <a:pt x="15179" y="8382"/>
                  <a:pt x="14870" y="8675"/>
                </a:cubicBezTo>
                <a:cubicBezTo>
                  <a:pt x="14664" y="8871"/>
                  <a:pt x="14564" y="9140"/>
                  <a:pt x="14396" y="9354"/>
                </a:cubicBezTo>
                <a:cubicBezTo>
                  <a:pt x="14371" y="9386"/>
                  <a:pt x="14338" y="9436"/>
                  <a:pt x="14326" y="9450"/>
                </a:cubicBezTo>
                <a:cubicBezTo>
                  <a:pt x="14327" y="9431"/>
                  <a:pt x="14329" y="9412"/>
                  <a:pt x="14330" y="9393"/>
                </a:cubicBezTo>
              </a:path>
            </a:pathLst>
          </a:custGeom>
          <a:noFill/>
          <a:ln cap="rnd"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67080" y="5754600"/>
            <a:ext cx="272880" cy="249480"/>
          </a:xfrm>
          <a:custGeom>
            <a:avLst/>
            <a:gdLst/>
            <a:ahLst/>
            <a:rect l="l" t="t" r="r" b="b"/>
            <a:pathLst>
              <a:path w="755" h="692">
                <a:moveTo>
                  <a:pt x="6876" y="15984"/>
                </a:moveTo>
                <a:cubicBezTo>
                  <a:pt x="6855" y="16056"/>
                  <a:pt x="6855" y="16102"/>
                  <a:pt x="6857" y="16177"/>
                </a:cubicBezTo>
                <a:cubicBezTo>
                  <a:pt x="6860" y="16276"/>
                  <a:pt x="6872" y="16373"/>
                  <a:pt x="6879" y="16471"/>
                </a:cubicBezTo>
                <a:cubicBezTo>
                  <a:pt x="6884" y="16539"/>
                  <a:pt x="6887" y="16607"/>
                  <a:pt x="6890" y="16675"/>
                </a:cubicBezTo>
                <a:cubicBezTo>
                  <a:pt x="6957" y="16650"/>
                  <a:pt x="7016" y="16609"/>
                  <a:pt x="7080" y="16574"/>
                </a:cubicBezTo>
                <a:cubicBezTo>
                  <a:pt x="7191" y="16514"/>
                  <a:pt x="7304" y="16463"/>
                  <a:pt x="7411" y="16396"/>
                </a:cubicBezTo>
                <a:cubicBezTo>
                  <a:pt x="7471" y="16358"/>
                  <a:pt x="7519" y="16308"/>
                  <a:pt x="7575" y="16269"/>
                </a:cubicBezTo>
                <a:cubicBezTo>
                  <a:pt x="7586" y="16264"/>
                  <a:pt x="7597" y="16260"/>
                  <a:pt x="7608" y="16255"/>
                </a:cubicBezTo>
              </a:path>
            </a:pathLst>
          </a:custGeom>
          <a:noFill/>
          <a:ln cap="rnd"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35640" y="4765680"/>
            <a:ext cx="2925720" cy="1932120"/>
          </a:xfrm>
          <a:custGeom>
            <a:avLst/>
            <a:gdLst/>
            <a:ahLst/>
            <a:rect l="l" t="t" r="r" b="b"/>
            <a:pathLst>
              <a:path w="8126" h="5364">
                <a:moveTo>
                  <a:pt x="12717" y="13239"/>
                </a:moveTo>
                <a:cubicBezTo>
                  <a:pt x="12719" y="13291"/>
                  <a:pt x="12713" y="13328"/>
                  <a:pt x="12740" y="13391"/>
                </a:cubicBezTo>
                <a:cubicBezTo>
                  <a:pt x="12802" y="13536"/>
                  <a:pt x="12883" y="13675"/>
                  <a:pt x="12969" y="13807"/>
                </a:cubicBezTo>
                <a:cubicBezTo>
                  <a:pt x="13056" y="13941"/>
                  <a:pt x="13153" y="14062"/>
                  <a:pt x="13249" y="14189"/>
                </a:cubicBezTo>
                <a:cubicBezTo>
                  <a:pt x="13343" y="14314"/>
                  <a:pt x="13414" y="14441"/>
                  <a:pt x="13483" y="14579"/>
                </a:cubicBezTo>
                <a:cubicBezTo>
                  <a:pt x="13558" y="14728"/>
                  <a:pt x="13656" y="14868"/>
                  <a:pt x="13752" y="15003"/>
                </a:cubicBezTo>
                <a:cubicBezTo>
                  <a:pt x="13791" y="15058"/>
                  <a:pt x="13827" y="15111"/>
                  <a:pt x="13875" y="15159"/>
                </a:cubicBezTo>
                <a:cubicBezTo>
                  <a:pt x="13953" y="15238"/>
                  <a:pt x="13991" y="15267"/>
                  <a:pt x="13995" y="15203"/>
                </a:cubicBezTo>
              </a:path>
              <a:path w="8126" h="5364">
                <a:moveTo>
                  <a:pt x="13167" y="14954"/>
                </a:moveTo>
                <a:cubicBezTo>
                  <a:pt x="13236" y="14954"/>
                  <a:pt x="13276" y="14975"/>
                  <a:pt x="13340" y="15007"/>
                </a:cubicBezTo>
                <a:cubicBezTo>
                  <a:pt x="13410" y="15042"/>
                  <a:pt x="13481" y="15076"/>
                  <a:pt x="13553" y="15108"/>
                </a:cubicBezTo>
                <a:cubicBezTo>
                  <a:pt x="13616" y="15136"/>
                  <a:pt x="13677" y="15166"/>
                  <a:pt x="13740" y="15193"/>
                </a:cubicBezTo>
                <a:cubicBezTo>
                  <a:pt x="13807" y="15221"/>
                  <a:pt x="13887" y="15260"/>
                  <a:pt x="13962" y="15245"/>
                </a:cubicBezTo>
                <a:cubicBezTo>
                  <a:pt x="14028" y="15232"/>
                  <a:pt x="14056" y="15165"/>
                  <a:pt x="14076" y="15109"/>
                </a:cubicBezTo>
                <a:cubicBezTo>
                  <a:pt x="14095" y="15055"/>
                  <a:pt x="14104" y="14993"/>
                  <a:pt x="14116" y="14937"/>
                </a:cubicBezTo>
                <a:cubicBezTo>
                  <a:pt x="14131" y="14868"/>
                  <a:pt x="14147" y="14799"/>
                  <a:pt x="14165" y="14731"/>
                </a:cubicBezTo>
                <a:cubicBezTo>
                  <a:pt x="14183" y="14665"/>
                  <a:pt x="14203" y="14601"/>
                  <a:pt x="14221" y="14535"/>
                </a:cubicBezTo>
              </a:path>
              <a:path w="8126" h="5364">
                <a:moveTo>
                  <a:pt x="12818" y="15369"/>
                </a:moveTo>
                <a:cubicBezTo>
                  <a:pt x="12883" y="15358"/>
                  <a:pt x="12960" y="15340"/>
                  <a:pt x="13036" y="15330"/>
                </a:cubicBezTo>
                <a:cubicBezTo>
                  <a:pt x="13327" y="15294"/>
                  <a:pt x="13567" y="15338"/>
                  <a:pt x="13853" y="15341"/>
                </a:cubicBezTo>
                <a:cubicBezTo>
                  <a:pt x="14103" y="15343"/>
                  <a:pt x="14349" y="15291"/>
                  <a:pt x="14597" y="15263"/>
                </a:cubicBezTo>
                <a:cubicBezTo>
                  <a:pt x="14971" y="15221"/>
                  <a:pt x="15346" y="15239"/>
                  <a:pt x="15721" y="15192"/>
                </a:cubicBezTo>
                <a:cubicBezTo>
                  <a:pt x="16707" y="15068"/>
                  <a:pt x="17689" y="14938"/>
                  <a:pt x="18672" y="14789"/>
                </a:cubicBezTo>
                <a:cubicBezTo>
                  <a:pt x="19044" y="14733"/>
                  <a:pt x="20343" y="14392"/>
                  <a:pt x="20675" y="14647"/>
                </a:cubicBezTo>
                <a:cubicBezTo>
                  <a:pt x="20753" y="14707"/>
                  <a:pt x="20704" y="14810"/>
                  <a:pt x="20708" y="14896"/>
                </a:cubicBezTo>
                <a:cubicBezTo>
                  <a:pt x="20723" y="15190"/>
                  <a:pt x="20679" y="15496"/>
                  <a:pt x="20661" y="15789"/>
                </a:cubicBezTo>
                <a:cubicBezTo>
                  <a:pt x="20627" y="16327"/>
                  <a:pt x="20606" y="16884"/>
                  <a:pt x="20681" y="17419"/>
                </a:cubicBezTo>
                <a:cubicBezTo>
                  <a:pt x="20710" y="17625"/>
                  <a:pt x="20813" y="18123"/>
                  <a:pt x="20628" y="18231"/>
                </a:cubicBezTo>
                <a:cubicBezTo>
                  <a:pt x="20319" y="18411"/>
                  <a:pt x="19203" y="18326"/>
                  <a:pt x="18824" y="18359"/>
                </a:cubicBezTo>
                <a:cubicBezTo>
                  <a:pt x="18081" y="18424"/>
                  <a:pt x="17332" y="18424"/>
                  <a:pt x="16589" y="18497"/>
                </a:cubicBezTo>
                <a:cubicBezTo>
                  <a:pt x="16060" y="18549"/>
                  <a:pt x="15526" y="18596"/>
                  <a:pt x="14994" y="18600"/>
                </a:cubicBezTo>
                <a:cubicBezTo>
                  <a:pt x="14280" y="18605"/>
                  <a:pt x="13566" y="18605"/>
                  <a:pt x="12853" y="18580"/>
                </a:cubicBezTo>
                <a:cubicBezTo>
                  <a:pt x="12797" y="18578"/>
                  <a:pt x="12740" y="18574"/>
                  <a:pt x="12684" y="18572"/>
                </a:cubicBezTo>
                <a:cubicBezTo>
                  <a:pt x="12681" y="18265"/>
                  <a:pt x="12594" y="17949"/>
                  <a:pt x="12600" y="17649"/>
                </a:cubicBezTo>
                <a:cubicBezTo>
                  <a:pt x="12604" y="17463"/>
                  <a:pt x="12655" y="17280"/>
                  <a:pt x="12677" y="17094"/>
                </a:cubicBezTo>
                <a:cubicBezTo>
                  <a:pt x="12728" y="16655"/>
                  <a:pt x="12766" y="15610"/>
                  <a:pt x="13016" y="15242"/>
                </a:cubicBezTo>
                <a:cubicBezTo>
                  <a:pt x="13051" y="15190"/>
                  <a:pt x="13115" y="15227"/>
                  <a:pt x="13140" y="15193"/>
                </a:cubicBezTo>
              </a:path>
            </a:pathLst>
          </a:custGeom>
          <a:noFill/>
          <a:ln cap="rnd"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33640" y="1395360"/>
            <a:ext cx="2625840" cy="1417680"/>
          </a:xfrm>
          <a:custGeom>
            <a:avLst/>
            <a:gdLst/>
            <a:ahLst/>
            <a:rect l="l" t="t" r="r" b="b"/>
            <a:pathLst>
              <a:path w="7296" h="3937">
                <a:moveTo>
                  <a:pt x="8229" y="4334"/>
                </a:moveTo>
                <a:cubicBezTo>
                  <a:pt x="8244" y="4526"/>
                  <a:pt x="8270" y="4726"/>
                  <a:pt x="8288" y="4923"/>
                </a:cubicBezTo>
                <a:cubicBezTo>
                  <a:pt x="8308" y="5149"/>
                  <a:pt x="8311" y="5368"/>
                  <a:pt x="8299" y="5594"/>
                </a:cubicBezTo>
                <a:cubicBezTo>
                  <a:pt x="8281" y="5919"/>
                  <a:pt x="8245" y="6235"/>
                  <a:pt x="8211" y="6557"/>
                </a:cubicBezTo>
                <a:cubicBezTo>
                  <a:pt x="8180" y="6857"/>
                  <a:pt x="8149" y="7145"/>
                  <a:pt x="8160" y="7447"/>
                </a:cubicBezTo>
                <a:cubicBezTo>
                  <a:pt x="8164" y="7552"/>
                  <a:pt x="8143" y="7723"/>
                  <a:pt x="8239" y="7779"/>
                </a:cubicBezTo>
                <a:cubicBezTo>
                  <a:pt x="8449" y="7901"/>
                  <a:pt x="9104" y="7815"/>
                  <a:pt x="9337" y="7813"/>
                </a:cubicBezTo>
                <a:cubicBezTo>
                  <a:pt x="10365" y="7803"/>
                  <a:pt x="11394" y="7599"/>
                  <a:pt x="12423" y="7550"/>
                </a:cubicBezTo>
                <a:cubicBezTo>
                  <a:pt x="12986" y="7523"/>
                  <a:pt x="13552" y="7497"/>
                  <a:pt x="14115" y="7478"/>
                </a:cubicBezTo>
                <a:cubicBezTo>
                  <a:pt x="14531" y="7464"/>
                  <a:pt x="14950" y="7473"/>
                  <a:pt x="15366" y="7475"/>
                </a:cubicBezTo>
                <a:cubicBezTo>
                  <a:pt x="15360" y="7372"/>
                  <a:pt x="15346" y="7250"/>
                  <a:pt x="15344" y="7139"/>
                </a:cubicBezTo>
                <a:cubicBezTo>
                  <a:pt x="15337" y="6717"/>
                  <a:pt x="15343" y="6290"/>
                  <a:pt x="15346" y="5868"/>
                </a:cubicBezTo>
                <a:cubicBezTo>
                  <a:pt x="15350" y="5383"/>
                  <a:pt x="15353" y="4896"/>
                  <a:pt x="15407" y="4414"/>
                </a:cubicBezTo>
                <a:cubicBezTo>
                  <a:pt x="15428" y="4228"/>
                  <a:pt x="15513" y="4001"/>
                  <a:pt x="15301" y="3894"/>
                </a:cubicBezTo>
                <a:cubicBezTo>
                  <a:pt x="15125" y="3805"/>
                  <a:pt x="14771" y="3920"/>
                  <a:pt x="14586" y="3933"/>
                </a:cubicBezTo>
                <a:cubicBezTo>
                  <a:pt x="13189" y="4034"/>
                  <a:pt x="11808" y="4190"/>
                  <a:pt x="10406" y="4221"/>
                </a:cubicBezTo>
                <a:cubicBezTo>
                  <a:pt x="10038" y="4229"/>
                  <a:pt x="9682" y="4198"/>
                  <a:pt x="9316" y="4179"/>
                </a:cubicBezTo>
                <a:cubicBezTo>
                  <a:pt x="9053" y="4165"/>
                  <a:pt x="8782" y="4161"/>
                  <a:pt x="8520" y="4171"/>
                </a:cubicBezTo>
                <a:cubicBezTo>
                  <a:pt x="8415" y="4175"/>
                  <a:pt x="8394" y="4182"/>
                  <a:pt x="8341" y="4215"/>
                </a:cubicBezTo>
                <a:cubicBezTo>
                  <a:pt x="8355" y="4221"/>
                  <a:pt x="8370" y="4227"/>
                  <a:pt x="8384" y="4233"/>
                </a:cubicBezTo>
              </a:path>
            </a:pathLst>
          </a:custGeom>
          <a:noFill/>
          <a:ln cap="rnd"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358128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loop he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0400" y="57150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loop b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3962520"/>
            <a:ext cx="2667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Myriad Web"/>
              </a:rPr>
              <a:t>assert</a:t>
            </a:r>
            <a:r>
              <a:rPr b="0" lang="en-US" sz="2200" spc="-1" strike="noStrike">
                <a:solidFill>
                  <a:srgbClr val="000000"/>
                </a:solidFill>
                <a:latin typeface="Myriad Web"/>
              </a:rPr>
              <a:t> LoopInv( x ) ;</a:t>
            </a:r>
            <a:br>
              <a:rPr sz="2200"/>
            </a:br>
            <a:r>
              <a:rPr b="0" lang="en-US" sz="2200" spc="-1" strike="noStrike">
                <a:solidFill>
                  <a:srgbClr val="3333cc"/>
                </a:solidFill>
                <a:latin typeface="Myriad Web"/>
              </a:rPr>
              <a:t>assume</a:t>
            </a:r>
            <a:r>
              <a:rPr b="0" lang="en-US" sz="2200" spc="-1" strike="noStrike">
                <a:solidFill>
                  <a:srgbClr val="000000"/>
                </a:solidFill>
                <a:latin typeface="Myriad Web"/>
              </a:rPr>
              <a:t> LoopInv( x 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5592600"/>
            <a:ext cx="259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Myriad Web"/>
              </a:rPr>
              <a:t>assume</a:t>
            </a:r>
            <a:r>
              <a:rPr b="0" lang="en-US" sz="2200" spc="-1" strike="noStrike">
                <a:solidFill>
                  <a:srgbClr val="000000"/>
                </a:solidFill>
                <a:latin typeface="Myriad Web"/>
              </a:rPr>
              <a:t> Guard( x ) 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Myriad Web"/>
              </a:rPr>
              <a:t>x :=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47800" y="6067440"/>
            <a:ext cx="2349360" cy="747720"/>
          </a:xfrm>
          <a:custGeom>
            <a:avLst/>
            <a:gdLst/>
            <a:ahLst/>
            <a:rect l="l" t="t" r="r" b="b"/>
            <a:pathLst>
              <a:path w="6527" h="2079">
                <a:moveTo>
                  <a:pt x="2956" y="16896"/>
                </a:moveTo>
                <a:cubicBezTo>
                  <a:pt x="3035" y="16920"/>
                  <a:pt x="3075" y="16939"/>
                  <a:pt x="3159" y="16949"/>
                </a:cubicBezTo>
                <a:cubicBezTo>
                  <a:pt x="3330" y="16970"/>
                  <a:pt x="3495" y="16990"/>
                  <a:pt x="3668" y="16989"/>
                </a:cubicBezTo>
                <a:cubicBezTo>
                  <a:pt x="4031" y="16987"/>
                  <a:pt x="4398" y="16957"/>
                  <a:pt x="4761" y="16992"/>
                </a:cubicBezTo>
                <a:cubicBezTo>
                  <a:pt x="5382" y="17051"/>
                  <a:pt x="5969" y="17122"/>
                  <a:pt x="6594" y="17049"/>
                </a:cubicBezTo>
                <a:cubicBezTo>
                  <a:pt x="6824" y="17022"/>
                  <a:pt x="7046" y="16976"/>
                  <a:pt x="7273" y="16938"/>
                </a:cubicBezTo>
                <a:cubicBezTo>
                  <a:pt x="7530" y="16895"/>
                  <a:pt x="7779" y="16898"/>
                  <a:pt x="8037" y="16885"/>
                </a:cubicBezTo>
                <a:cubicBezTo>
                  <a:pt x="8277" y="16873"/>
                  <a:pt x="8647" y="16761"/>
                  <a:pt x="8811" y="16983"/>
                </a:cubicBezTo>
                <a:cubicBezTo>
                  <a:pt x="8914" y="17123"/>
                  <a:pt x="8867" y="17310"/>
                  <a:pt x="8871" y="17472"/>
                </a:cubicBezTo>
                <a:cubicBezTo>
                  <a:pt x="8877" y="17753"/>
                  <a:pt x="8916" y="18043"/>
                  <a:pt x="8822" y="18312"/>
                </a:cubicBezTo>
                <a:cubicBezTo>
                  <a:pt x="8796" y="18388"/>
                  <a:pt x="8773" y="18476"/>
                  <a:pt x="8747" y="18547"/>
                </a:cubicBezTo>
                <a:cubicBezTo>
                  <a:pt x="8720" y="18620"/>
                  <a:pt x="8740" y="18627"/>
                  <a:pt x="8683" y="18695"/>
                </a:cubicBezTo>
                <a:cubicBezTo>
                  <a:pt x="8578" y="18820"/>
                  <a:pt x="8493" y="18811"/>
                  <a:pt x="8351" y="18827"/>
                </a:cubicBezTo>
                <a:cubicBezTo>
                  <a:pt x="7934" y="18873"/>
                  <a:pt x="7534" y="18951"/>
                  <a:pt x="7113" y="18908"/>
                </a:cubicBezTo>
                <a:cubicBezTo>
                  <a:pt x="6837" y="18880"/>
                  <a:pt x="6628" y="18809"/>
                  <a:pt x="6372" y="18720"/>
                </a:cubicBezTo>
                <a:cubicBezTo>
                  <a:pt x="6090" y="18622"/>
                  <a:pt x="5771" y="18588"/>
                  <a:pt x="5474" y="18561"/>
                </a:cubicBezTo>
                <a:cubicBezTo>
                  <a:pt x="4923" y="18511"/>
                  <a:pt x="4371" y="18558"/>
                  <a:pt x="3819" y="18494"/>
                </a:cubicBezTo>
                <a:cubicBezTo>
                  <a:pt x="3506" y="18458"/>
                  <a:pt x="3141" y="18476"/>
                  <a:pt x="2840" y="18376"/>
                </a:cubicBezTo>
                <a:cubicBezTo>
                  <a:pt x="2744" y="18344"/>
                  <a:pt x="2436" y="18259"/>
                  <a:pt x="2381" y="18186"/>
                </a:cubicBezTo>
                <a:cubicBezTo>
                  <a:pt x="2318" y="18103"/>
                  <a:pt x="2386" y="17978"/>
                  <a:pt x="2412" y="17892"/>
                </a:cubicBezTo>
                <a:cubicBezTo>
                  <a:pt x="2489" y="17640"/>
                  <a:pt x="2627" y="17399"/>
                  <a:pt x="2745" y="17165"/>
                </a:cubicBezTo>
                <a:cubicBezTo>
                  <a:pt x="2769" y="17117"/>
                  <a:pt x="2789" y="17052"/>
                  <a:pt x="2826" y="17011"/>
                </a:cubicBezTo>
                <a:cubicBezTo>
                  <a:pt x="2893" y="16936"/>
                  <a:pt x="2959" y="16951"/>
                  <a:pt x="3016" y="16921"/>
                </a:cubicBezTo>
                <a:cubicBezTo>
                  <a:pt x="3060" y="16912"/>
                  <a:pt x="3077" y="16905"/>
                  <a:pt x="3097" y="16877"/>
                </a:cubicBezTo>
              </a:path>
            </a:pathLst>
          </a:custGeom>
          <a:noFill/>
          <a:ln cap="rnd"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620244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Myriad Web"/>
              </a:rPr>
              <a:t>assume</a:t>
            </a:r>
            <a:r>
              <a:rPr b="0" lang="en-US" sz="2200" spc="-1" strike="noStrike">
                <a:solidFill>
                  <a:srgbClr val="000000"/>
                </a:solidFill>
                <a:latin typeface="Myriad Web"/>
              </a:rPr>
              <a:t> ¬Guard( x )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57150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after loo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1676520"/>
            <a:ext cx="3200400" cy="1295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Myriad Web"/>
              </a:rPr>
              <a:t>assert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 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=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Myriad Web"/>
              </a:rPr>
              <a:t>assert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 P ; </a:t>
            </a:r>
            <a:r>
              <a:rPr b="0" lang="en-US" sz="2400" spc="-1" strike="noStrike">
                <a:solidFill>
                  <a:srgbClr val="3333cc"/>
                </a:solidFill>
                <a:latin typeface="Myriad Web"/>
              </a:rPr>
              <a:t>assume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4495680"/>
            <a:ext cx="2216160" cy="54000"/>
          </a:xfrm>
          <a:custGeom>
            <a:avLst/>
            <a:gdLst/>
            <a:ahLst/>
            <a:rect l="l" t="t" r="r" b="b"/>
            <a:pathLst>
              <a:path w="6156" h="148">
                <a:moveTo>
                  <a:pt x="17975" y="12748"/>
                </a:moveTo>
                <a:cubicBezTo>
                  <a:pt x="18014" y="12745"/>
                  <a:pt x="18060" y="12747"/>
                  <a:pt x="18110" y="12737"/>
                </a:cubicBezTo>
                <a:cubicBezTo>
                  <a:pt x="18258" y="12708"/>
                  <a:pt x="18406" y="12701"/>
                  <a:pt x="18554" y="12677"/>
                </a:cubicBezTo>
                <a:cubicBezTo>
                  <a:pt x="18609" y="12668"/>
                  <a:pt x="18662" y="12650"/>
                  <a:pt x="18717" y="12646"/>
                </a:cubicBezTo>
                <a:cubicBezTo>
                  <a:pt x="18881" y="12635"/>
                  <a:pt x="19053" y="12664"/>
                  <a:pt x="19218" y="12667"/>
                </a:cubicBezTo>
                <a:cubicBezTo>
                  <a:pt x="19559" y="12673"/>
                  <a:pt x="19896" y="12718"/>
                  <a:pt x="20238" y="12716"/>
                </a:cubicBezTo>
                <a:cubicBezTo>
                  <a:pt x="20633" y="12713"/>
                  <a:pt x="21022" y="12682"/>
                  <a:pt x="21416" y="12660"/>
                </a:cubicBezTo>
                <a:cubicBezTo>
                  <a:pt x="21750" y="12641"/>
                  <a:pt x="22089" y="12675"/>
                  <a:pt x="22424" y="12681"/>
                </a:cubicBezTo>
                <a:cubicBezTo>
                  <a:pt x="22775" y="12688"/>
                  <a:pt x="23136" y="12663"/>
                  <a:pt x="23487" y="12635"/>
                </a:cubicBezTo>
                <a:cubicBezTo>
                  <a:pt x="23659" y="12621"/>
                  <a:pt x="23861" y="12591"/>
                  <a:pt x="24027" y="12642"/>
                </a:cubicBezTo>
                <a:cubicBezTo>
                  <a:pt x="24062" y="12653"/>
                  <a:pt x="24096" y="12675"/>
                  <a:pt x="24130" y="1268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yriad Web"/>
              </a:rPr>
              <a:t>VC generation:  loops</a:t>
            </a: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186" name=""/>
          <p:cNvSpPr/>
          <p:nvPr/>
        </p:nvSpPr>
        <p:spPr>
          <a:xfrm>
            <a:off x="3898800" y="2693880"/>
            <a:ext cx="457200" cy="855720"/>
          </a:xfrm>
          <a:custGeom>
            <a:avLst/>
            <a:gdLst/>
            <a:ahLst/>
            <a:rect l="l" t="t" r="r" b="b"/>
            <a:pathLst>
              <a:path w="1267" h="2376">
                <a:moveTo>
                  <a:pt x="11505" y="7514"/>
                </a:moveTo>
                <a:cubicBezTo>
                  <a:pt x="11473" y="7573"/>
                  <a:pt x="11483" y="7581"/>
                  <a:pt x="11481" y="7648"/>
                </a:cubicBezTo>
                <a:cubicBezTo>
                  <a:pt x="11476" y="7862"/>
                  <a:pt x="11466" y="8075"/>
                  <a:pt x="11450" y="8288"/>
                </a:cubicBezTo>
                <a:cubicBezTo>
                  <a:pt x="11442" y="8401"/>
                  <a:pt x="11436" y="8514"/>
                  <a:pt x="11433" y="8627"/>
                </a:cubicBezTo>
                <a:cubicBezTo>
                  <a:pt x="11429" y="8793"/>
                  <a:pt x="11423" y="8959"/>
                  <a:pt x="11414" y="9125"/>
                </a:cubicBezTo>
                <a:cubicBezTo>
                  <a:pt x="11401" y="9360"/>
                  <a:pt x="11360" y="9590"/>
                  <a:pt x="11318" y="9821"/>
                </a:cubicBezTo>
                <a:cubicBezTo>
                  <a:pt x="11315" y="9833"/>
                  <a:pt x="11313" y="9846"/>
                  <a:pt x="11310" y="9858"/>
                </a:cubicBezTo>
                <a:cubicBezTo>
                  <a:pt x="11304" y="9794"/>
                  <a:pt x="11306" y="9735"/>
                  <a:pt x="11310" y="9671"/>
                </a:cubicBezTo>
              </a:path>
              <a:path w="1267" h="2376">
                <a:moveTo>
                  <a:pt x="10867" y="8873"/>
                </a:moveTo>
                <a:cubicBezTo>
                  <a:pt x="10820" y="8905"/>
                  <a:pt x="10855" y="8946"/>
                  <a:pt x="10891" y="9008"/>
                </a:cubicBezTo>
                <a:cubicBezTo>
                  <a:pt x="10938" y="9090"/>
                  <a:pt x="11006" y="9164"/>
                  <a:pt x="11069" y="9234"/>
                </a:cubicBezTo>
                <a:cubicBezTo>
                  <a:pt x="11157" y="9330"/>
                  <a:pt x="11261" y="9411"/>
                  <a:pt x="11346" y="9509"/>
                </a:cubicBezTo>
                <a:cubicBezTo>
                  <a:pt x="11393" y="9563"/>
                  <a:pt x="11441" y="9621"/>
                  <a:pt x="11484" y="9679"/>
                </a:cubicBezTo>
                <a:cubicBezTo>
                  <a:pt x="11518" y="9727"/>
                  <a:pt x="11525" y="9738"/>
                  <a:pt x="11547" y="9766"/>
                </a:cubicBezTo>
                <a:cubicBezTo>
                  <a:pt x="11613" y="9648"/>
                  <a:pt x="11661" y="9522"/>
                  <a:pt x="11735" y="9408"/>
                </a:cubicBezTo>
                <a:cubicBezTo>
                  <a:pt x="11791" y="9321"/>
                  <a:pt x="11843" y="9234"/>
                  <a:pt x="11894" y="9144"/>
                </a:cubicBezTo>
                <a:cubicBezTo>
                  <a:pt x="11924" y="9090"/>
                  <a:pt x="11952" y="9008"/>
                  <a:pt x="11992" y="8962"/>
                </a:cubicBezTo>
                <a:cubicBezTo>
                  <a:pt x="12040" y="8918"/>
                  <a:pt x="12054" y="8904"/>
                  <a:pt x="12098" y="8896"/>
                </a:cubicBezTo>
              </a:path>
            </a:pathLst>
          </a:custGeom>
          <a:noFill/>
          <a:ln cap="rnd"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40440" y="3152880"/>
            <a:ext cx="361800" cy="177840"/>
          </a:xfrm>
          <a:custGeom>
            <a:avLst/>
            <a:gdLst/>
            <a:ahLst/>
            <a:rect l="l" t="t" r="r" b="b"/>
            <a:pathLst>
              <a:path w="1009" h="494">
                <a:moveTo>
                  <a:pt x="14312" y="8795"/>
                </a:moveTo>
                <a:cubicBezTo>
                  <a:pt x="14300" y="8783"/>
                  <a:pt x="14289" y="8770"/>
                  <a:pt x="14277" y="8758"/>
                </a:cubicBezTo>
                <a:cubicBezTo>
                  <a:pt x="14287" y="8835"/>
                  <a:pt x="14310" y="8907"/>
                  <a:pt x="14328" y="8982"/>
                </a:cubicBezTo>
                <a:cubicBezTo>
                  <a:pt x="14340" y="9033"/>
                  <a:pt x="14354" y="9085"/>
                  <a:pt x="14373" y="9134"/>
                </a:cubicBezTo>
                <a:cubicBezTo>
                  <a:pt x="14392" y="9184"/>
                  <a:pt x="14409" y="9242"/>
                  <a:pt x="14465" y="9251"/>
                </a:cubicBezTo>
                <a:cubicBezTo>
                  <a:pt x="14511" y="9259"/>
                  <a:pt x="14563" y="9250"/>
                  <a:pt x="14607" y="9237"/>
                </a:cubicBezTo>
                <a:cubicBezTo>
                  <a:pt x="14705" y="9208"/>
                  <a:pt x="14792" y="9154"/>
                  <a:pt x="14882" y="9106"/>
                </a:cubicBezTo>
                <a:cubicBezTo>
                  <a:pt x="14978" y="9055"/>
                  <a:pt x="15257" y="8972"/>
                  <a:pt x="15284" y="8876"/>
                </a:cubicBezTo>
              </a:path>
            </a:pathLst>
          </a:custGeom>
          <a:noFill/>
          <a:ln cap="rnd"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90840" y="2768760"/>
            <a:ext cx="5786280" cy="3435120"/>
          </a:xfrm>
          <a:custGeom>
            <a:avLst/>
            <a:gdLst/>
            <a:ahLst/>
            <a:rect l="l" t="t" r="r" b="b"/>
            <a:pathLst>
              <a:path w="16074" h="9542">
                <a:moveTo>
                  <a:pt x="8062" y="9732"/>
                </a:moveTo>
                <a:cubicBezTo>
                  <a:pt x="8079" y="9786"/>
                  <a:pt x="8082" y="9763"/>
                  <a:pt x="8098" y="9818"/>
                </a:cubicBezTo>
                <a:cubicBezTo>
                  <a:pt x="8179" y="10100"/>
                  <a:pt x="8225" y="10362"/>
                  <a:pt x="8247" y="10653"/>
                </a:cubicBezTo>
                <a:cubicBezTo>
                  <a:pt x="8276" y="11041"/>
                  <a:pt x="8330" y="11441"/>
                  <a:pt x="8299" y="11830"/>
                </a:cubicBezTo>
                <a:cubicBezTo>
                  <a:pt x="8277" y="12104"/>
                  <a:pt x="8033" y="12932"/>
                  <a:pt x="8266" y="13136"/>
                </a:cubicBezTo>
                <a:cubicBezTo>
                  <a:pt x="8406" y="13258"/>
                  <a:pt x="8767" y="13212"/>
                  <a:pt x="8937" y="13220"/>
                </a:cubicBezTo>
                <a:cubicBezTo>
                  <a:pt x="9774" y="13258"/>
                  <a:pt x="10605" y="13243"/>
                  <a:pt x="11442" y="13243"/>
                </a:cubicBezTo>
                <a:cubicBezTo>
                  <a:pt x="12233" y="13243"/>
                  <a:pt x="13023" y="13253"/>
                  <a:pt x="13814" y="13253"/>
                </a:cubicBezTo>
                <a:cubicBezTo>
                  <a:pt x="14221" y="13253"/>
                  <a:pt x="14608" y="13314"/>
                  <a:pt x="15011" y="13343"/>
                </a:cubicBezTo>
                <a:cubicBezTo>
                  <a:pt x="15167" y="13354"/>
                  <a:pt x="15472" y="13423"/>
                  <a:pt x="15617" y="13340"/>
                </a:cubicBezTo>
                <a:cubicBezTo>
                  <a:pt x="15767" y="13254"/>
                  <a:pt x="15777" y="13112"/>
                  <a:pt x="15827" y="12961"/>
                </a:cubicBezTo>
                <a:cubicBezTo>
                  <a:pt x="15994" y="12458"/>
                  <a:pt x="16115" y="11834"/>
                  <a:pt x="16080" y="11305"/>
                </a:cubicBezTo>
                <a:cubicBezTo>
                  <a:pt x="16047" y="10794"/>
                  <a:pt x="16134" y="10242"/>
                  <a:pt x="16088" y="9748"/>
                </a:cubicBezTo>
                <a:cubicBezTo>
                  <a:pt x="16072" y="9579"/>
                  <a:pt x="16041" y="9536"/>
                  <a:pt x="15883" y="9463"/>
                </a:cubicBezTo>
                <a:cubicBezTo>
                  <a:pt x="15651" y="9355"/>
                  <a:pt x="15196" y="9483"/>
                  <a:pt x="14958" y="9503"/>
                </a:cubicBezTo>
                <a:cubicBezTo>
                  <a:pt x="14377" y="9551"/>
                  <a:pt x="13794" y="9565"/>
                  <a:pt x="13214" y="9614"/>
                </a:cubicBezTo>
                <a:cubicBezTo>
                  <a:pt x="12735" y="9654"/>
                  <a:pt x="12271" y="9678"/>
                  <a:pt x="11791" y="9685"/>
                </a:cubicBezTo>
                <a:cubicBezTo>
                  <a:pt x="11116" y="9695"/>
                  <a:pt x="10443" y="9714"/>
                  <a:pt x="9768" y="9730"/>
                </a:cubicBezTo>
                <a:cubicBezTo>
                  <a:pt x="9416" y="9738"/>
                  <a:pt x="9068" y="9664"/>
                  <a:pt x="8717" y="9660"/>
                </a:cubicBezTo>
                <a:cubicBezTo>
                  <a:pt x="8589" y="9658"/>
                  <a:pt x="8258" y="9676"/>
                  <a:pt x="8255" y="9737"/>
                </a:cubicBezTo>
                <a:cubicBezTo>
                  <a:pt x="8253" y="9773"/>
                  <a:pt x="8340" y="9705"/>
                  <a:pt x="8364" y="9732"/>
                </a:cubicBezTo>
              </a:path>
              <a:path w="16074" h="9542">
                <a:moveTo>
                  <a:pt x="10529" y="13260"/>
                </a:moveTo>
                <a:cubicBezTo>
                  <a:pt x="10520" y="13317"/>
                  <a:pt x="10509" y="13375"/>
                  <a:pt x="10504" y="13442"/>
                </a:cubicBezTo>
                <a:cubicBezTo>
                  <a:pt x="10491" y="13607"/>
                  <a:pt x="10454" y="13714"/>
                  <a:pt x="10333" y="13835"/>
                </a:cubicBezTo>
                <a:cubicBezTo>
                  <a:pt x="10066" y="14103"/>
                  <a:pt x="9678" y="14318"/>
                  <a:pt x="9382" y="14561"/>
                </a:cubicBezTo>
                <a:cubicBezTo>
                  <a:pt x="9159" y="14744"/>
                  <a:pt x="8917" y="14903"/>
                  <a:pt x="8692" y="15083"/>
                </a:cubicBezTo>
                <a:cubicBezTo>
                  <a:pt x="8585" y="15169"/>
                  <a:pt x="8482" y="15259"/>
                  <a:pt x="8372" y="15341"/>
                </a:cubicBezTo>
                <a:cubicBezTo>
                  <a:pt x="8153" y="15505"/>
                  <a:pt x="7904" y="15617"/>
                  <a:pt x="7699" y="15803"/>
                </a:cubicBezTo>
                <a:cubicBezTo>
                  <a:pt x="7538" y="15949"/>
                  <a:pt x="7377" y="16096"/>
                  <a:pt x="7217" y="16241"/>
                </a:cubicBezTo>
                <a:cubicBezTo>
                  <a:pt x="7177" y="16277"/>
                  <a:pt x="7145" y="16326"/>
                  <a:pt x="7106" y="16365"/>
                </a:cubicBezTo>
                <a:cubicBezTo>
                  <a:pt x="7046" y="16425"/>
                  <a:pt x="6980" y="16483"/>
                  <a:pt x="6918" y="16544"/>
                </a:cubicBezTo>
                <a:cubicBezTo>
                  <a:pt x="6921" y="16500"/>
                  <a:pt x="6924" y="16483"/>
                  <a:pt x="6943" y="16457"/>
                </a:cubicBezTo>
              </a:path>
              <a:path w="16074" h="9542">
                <a:moveTo>
                  <a:pt x="20793" y="17156"/>
                </a:moveTo>
                <a:cubicBezTo>
                  <a:pt x="20854" y="17167"/>
                  <a:pt x="20946" y="17224"/>
                  <a:pt x="21056" y="17229"/>
                </a:cubicBezTo>
                <a:cubicBezTo>
                  <a:pt x="21372" y="17244"/>
                  <a:pt x="21853" y="17180"/>
                  <a:pt x="22118" y="16989"/>
                </a:cubicBezTo>
                <a:cubicBezTo>
                  <a:pt x="22417" y="16773"/>
                  <a:pt x="22605" y="16289"/>
                  <a:pt x="22701" y="15953"/>
                </a:cubicBezTo>
                <a:cubicBezTo>
                  <a:pt x="22871" y="15360"/>
                  <a:pt x="22959" y="14776"/>
                  <a:pt x="22980" y="14161"/>
                </a:cubicBezTo>
                <a:cubicBezTo>
                  <a:pt x="23013" y="13193"/>
                  <a:pt x="22895" y="12234"/>
                  <a:pt x="22619" y="11305"/>
                </a:cubicBezTo>
                <a:cubicBezTo>
                  <a:pt x="22451" y="10741"/>
                  <a:pt x="22233" y="10296"/>
                  <a:pt x="21883" y="9825"/>
                </a:cubicBezTo>
                <a:cubicBezTo>
                  <a:pt x="21580" y="9416"/>
                  <a:pt x="21257" y="9104"/>
                  <a:pt x="20862" y="8786"/>
                </a:cubicBezTo>
                <a:cubicBezTo>
                  <a:pt x="20545" y="8531"/>
                  <a:pt x="20249" y="8329"/>
                  <a:pt x="19862" y="8191"/>
                </a:cubicBezTo>
                <a:cubicBezTo>
                  <a:pt x="19284" y="7985"/>
                  <a:pt x="18633" y="7759"/>
                  <a:pt x="18020" y="7701"/>
                </a:cubicBezTo>
                <a:cubicBezTo>
                  <a:pt x="17316" y="7634"/>
                  <a:pt x="16700" y="7921"/>
                  <a:pt x="16042" y="8120"/>
                </a:cubicBezTo>
                <a:cubicBezTo>
                  <a:pt x="15644" y="8240"/>
                  <a:pt x="15179" y="8382"/>
                  <a:pt x="14870" y="8675"/>
                </a:cubicBezTo>
                <a:cubicBezTo>
                  <a:pt x="14664" y="8871"/>
                  <a:pt x="14564" y="9140"/>
                  <a:pt x="14396" y="9354"/>
                </a:cubicBezTo>
                <a:cubicBezTo>
                  <a:pt x="14371" y="9386"/>
                  <a:pt x="14338" y="9436"/>
                  <a:pt x="14326" y="9450"/>
                </a:cubicBezTo>
                <a:cubicBezTo>
                  <a:pt x="14327" y="9431"/>
                  <a:pt x="14329" y="9412"/>
                  <a:pt x="14330" y="9393"/>
                </a:cubicBezTo>
              </a:path>
            </a:pathLst>
          </a:custGeom>
          <a:noFill/>
          <a:ln cap="rnd"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67080" y="5754600"/>
            <a:ext cx="272880" cy="249480"/>
          </a:xfrm>
          <a:custGeom>
            <a:avLst/>
            <a:gdLst/>
            <a:ahLst/>
            <a:rect l="l" t="t" r="r" b="b"/>
            <a:pathLst>
              <a:path w="755" h="692">
                <a:moveTo>
                  <a:pt x="6876" y="15984"/>
                </a:moveTo>
                <a:cubicBezTo>
                  <a:pt x="6855" y="16056"/>
                  <a:pt x="6855" y="16102"/>
                  <a:pt x="6857" y="16177"/>
                </a:cubicBezTo>
                <a:cubicBezTo>
                  <a:pt x="6860" y="16276"/>
                  <a:pt x="6872" y="16373"/>
                  <a:pt x="6879" y="16471"/>
                </a:cubicBezTo>
                <a:cubicBezTo>
                  <a:pt x="6884" y="16539"/>
                  <a:pt x="6887" y="16607"/>
                  <a:pt x="6890" y="16675"/>
                </a:cubicBezTo>
                <a:cubicBezTo>
                  <a:pt x="6957" y="16650"/>
                  <a:pt x="7016" y="16609"/>
                  <a:pt x="7080" y="16574"/>
                </a:cubicBezTo>
                <a:cubicBezTo>
                  <a:pt x="7191" y="16514"/>
                  <a:pt x="7304" y="16463"/>
                  <a:pt x="7411" y="16396"/>
                </a:cubicBezTo>
                <a:cubicBezTo>
                  <a:pt x="7471" y="16358"/>
                  <a:pt x="7519" y="16308"/>
                  <a:pt x="7575" y="16269"/>
                </a:cubicBezTo>
                <a:cubicBezTo>
                  <a:pt x="7586" y="16264"/>
                  <a:pt x="7597" y="16260"/>
                  <a:pt x="7608" y="16255"/>
                </a:cubicBezTo>
              </a:path>
            </a:pathLst>
          </a:custGeom>
          <a:noFill/>
          <a:ln cap="rnd"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35640" y="4765680"/>
            <a:ext cx="2925720" cy="1932120"/>
          </a:xfrm>
          <a:custGeom>
            <a:avLst/>
            <a:gdLst/>
            <a:ahLst/>
            <a:rect l="l" t="t" r="r" b="b"/>
            <a:pathLst>
              <a:path w="8126" h="5364">
                <a:moveTo>
                  <a:pt x="12717" y="13239"/>
                </a:moveTo>
                <a:cubicBezTo>
                  <a:pt x="12719" y="13291"/>
                  <a:pt x="12713" y="13328"/>
                  <a:pt x="12740" y="13391"/>
                </a:cubicBezTo>
                <a:cubicBezTo>
                  <a:pt x="12802" y="13536"/>
                  <a:pt x="12883" y="13675"/>
                  <a:pt x="12969" y="13807"/>
                </a:cubicBezTo>
                <a:cubicBezTo>
                  <a:pt x="13056" y="13941"/>
                  <a:pt x="13153" y="14062"/>
                  <a:pt x="13249" y="14189"/>
                </a:cubicBezTo>
                <a:cubicBezTo>
                  <a:pt x="13343" y="14314"/>
                  <a:pt x="13414" y="14441"/>
                  <a:pt x="13483" y="14579"/>
                </a:cubicBezTo>
                <a:cubicBezTo>
                  <a:pt x="13558" y="14728"/>
                  <a:pt x="13656" y="14868"/>
                  <a:pt x="13752" y="15003"/>
                </a:cubicBezTo>
                <a:cubicBezTo>
                  <a:pt x="13791" y="15058"/>
                  <a:pt x="13827" y="15111"/>
                  <a:pt x="13875" y="15159"/>
                </a:cubicBezTo>
                <a:cubicBezTo>
                  <a:pt x="13953" y="15238"/>
                  <a:pt x="13991" y="15267"/>
                  <a:pt x="13995" y="15203"/>
                </a:cubicBezTo>
              </a:path>
              <a:path w="8126" h="5364">
                <a:moveTo>
                  <a:pt x="13167" y="14954"/>
                </a:moveTo>
                <a:cubicBezTo>
                  <a:pt x="13236" y="14954"/>
                  <a:pt x="13276" y="14975"/>
                  <a:pt x="13340" y="15007"/>
                </a:cubicBezTo>
                <a:cubicBezTo>
                  <a:pt x="13410" y="15042"/>
                  <a:pt x="13481" y="15076"/>
                  <a:pt x="13553" y="15108"/>
                </a:cubicBezTo>
                <a:cubicBezTo>
                  <a:pt x="13616" y="15136"/>
                  <a:pt x="13677" y="15166"/>
                  <a:pt x="13740" y="15193"/>
                </a:cubicBezTo>
                <a:cubicBezTo>
                  <a:pt x="13807" y="15221"/>
                  <a:pt x="13887" y="15260"/>
                  <a:pt x="13962" y="15245"/>
                </a:cubicBezTo>
                <a:cubicBezTo>
                  <a:pt x="14028" y="15232"/>
                  <a:pt x="14056" y="15165"/>
                  <a:pt x="14076" y="15109"/>
                </a:cubicBezTo>
                <a:cubicBezTo>
                  <a:pt x="14095" y="15055"/>
                  <a:pt x="14104" y="14993"/>
                  <a:pt x="14116" y="14937"/>
                </a:cubicBezTo>
                <a:cubicBezTo>
                  <a:pt x="14131" y="14868"/>
                  <a:pt x="14147" y="14799"/>
                  <a:pt x="14165" y="14731"/>
                </a:cubicBezTo>
                <a:cubicBezTo>
                  <a:pt x="14183" y="14665"/>
                  <a:pt x="14203" y="14601"/>
                  <a:pt x="14221" y="14535"/>
                </a:cubicBezTo>
              </a:path>
              <a:path w="8126" h="5364">
                <a:moveTo>
                  <a:pt x="12818" y="15369"/>
                </a:moveTo>
                <a:cubicBezTo>
                  <a:pt x="12883" y="15358"/>
                  <a:pt x="12960" y="15340"/>
                  <a:pt x="13036" y="15330"/>
                </a:cubicBezTo>
                <a:cubicBezTo>
                  <a:pt x="13327" y="15294"/>
                  <a:pt x="13567" y="15338"/>
                  <a:pt x="13853" y="15341"/>
                </a:cubicBezTo>
                <a:cubicBezTo>
                  <a:pt x="14103" y="15343"/>
                  <a:pt x="14349" y="15291"/>
                  <a:pt x="14597" y="15263"/>
                </a:cubicBezTo>
                <a:cubicBezTo>
                  <a:pt x="14971" y="15221"/>
                  <a:pt x="15346" y="15239"/>
                  <a:pt x="15721" y="15192"/>
                </a:cubicBezTo>
                <a:cubicBezTo>
                  <a:pt x="16707" y="15068"/>
                  <a:pt x="17689" y="14938"/>
                  <a:pt x="18672" y="14789"/>
                </a:cubicBezTo>
                <a:cubicBezTo>
                  <a:pt x="19044" y="14733"/>
                  <a:pt x="20343" y="14392"/>
                  <a:pt x="20675" y="14647"/>
                </a:cubicBezTo>
                <a:cubicBezTo>
                  <a:pt x="20753" y="14707"/>
                  <a:pt x="20704" y="14810"/>
                  <a:pt x="20708" y="14896"/>
                </a:cubicBezTo>
                <a:cubicBezTo>
                  <a:pt x="20723" y="15190"/>
                  <a:pt x="20679" y="15496"/>
                  <a:pt x="20661" y="15789"/>
                </a:cubicBezTo>
                <a:cubicBezTo>
                  <a:pt x="20627" y="16327"/>
                  <a:pt x="20606" y="16884"/>
                  <a:pt x="20681" y="17419"/>
                </a:cubicBezTo>
                <a:cubicBezTo>
                  <a:pt x="20710" y="17625"/>
                  <a:pt x="20813" y="18123"/>
                  <a:pt x="20628" y="18231"/>
                </a:cubicBezTo>
                <a:cubicBezTo>
                  <a:pt x="20319" y="18411"/>
                  <a:pt x="19203" y="18326"/>
                  <a:pt x="18824" y="18359"/>
                </a:cubicBezTo>
                <a:cubicBezTo>
                  <a:pt x="18081" y="18424"/>
                  <a:pt x="17332" y="18424"/>
                  <a:pt x="16589" y="18497"/>
                </a:cubicBezTo>
                <a:cubicBezTo>
                  <a:pt x="16060" y="18549"/>
                  <a:pt x="15526" y="18596"/>
                  <a:pt x="14994" y="18600"/>
                </a:cubicBezTo>
                <a:cubicBezTo>
                  <a:pt x="14280" y="18605"/>
                  <a:pt x="13566" y="18605"/>
                  <a:pt x="12853" y="18580"/>
                </a:cubicBezTo>
                <a:cubicBezTo>
                  <a:pt x="12797" y="18578"/>
                  <a:pt x="12740" y="18574"/>
                  <a:pt x="12684" y="18572"/>
                </a:cubicBezTo>
                <a:cubicBezTo>
                  <a:pt x="12681" y="18265"/>
                  <a:pt x="12594" y="17949"/>
                  <a:pt x="12600" y="17649"/>
                </a:cubicBezTo>
                <a:cubicBezTo>
                  <a:pt x="12604" y="17463"/>
                  <a:pt x="12655" y="17280"/>
                  <a:pt x="12677" y="17094"/>
                </a:cubicBezTo>
                <a:cubicBezTo>
                  <a:pt x="12728" y="16655"/>
                  <a:pt x="12766" y="15610"/>
                  <a:pt x="13016" y="15242"/>
                </a:cubicBezTo>
                <a:cubicBezTo>
                  <a:pt x="13051" y="15190"/>
                  <a:pt x="13115" y="15227"/>
                  <a:pt x="13140" y="15193"/>
                </a:cubicBezTo>
              </a:path>
            </a:pathLst>
          </a:custGeom>
          <a:noFill/>
          <a:ln cap="rnd"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33640" y="1395360"/>
            <a:ext cx="2625840" cy="1417680"/>
          </a:xfrm>
          <a:custGeom>
            <a:avLst/>
            <a:gdLst/>
            <a:ahLst/>
            <a:rect l="l" t="t" r="r" b="b"/>
            <a:pathLst>
              <a:path w="7296" h="3937">
                <a:moveTo>
                  <a:pt x="8229" y="4334"/>
                </a:moveTo>
                <a:cubicBezTo>
                  <a:pt x="8244" y="4526"/>
                  <a:pt x="8270" y="4726"/>
                  <a:pt x="8288" y="4923"/>
                </a:cubicBezTo>
                <a:cubicBezTo>
                  <a:pt x="8308" y="5149"/>
                  <a:pt x="8311" y="5368"/>
                  <a:pt x="8299" y="5594"/>
                </a:cubicBezTo>
                <a:cubicBezTo>
                  <a:pt x="8281" y="5919"/>
                  <a:pt x="8245" y="6235"/>
                  <a:pt x="8211" y="6557"/>
                </a:cubicBezTo>
                <a:cubicBezTo>
                  <a:pt x="8180" y="6857"/>
                  <a:pt x="8149" y="7145"/>
                  <a:pt x="8160" y="7447"/>
                </a:cubicBezTo>
                <a:cubicBezTo>
                  <a:pt x="8164" y="7552"/>
                  <a:pt x="8143" y="7723"/>
                  <a:pt x="8239" y="7779"/>
                </a:cubicBezTo>
                <a:cubicBezTo>
                  <a:pt x="8449" y="7901"/>
                  <a:pt x="9104" y="7815"/>
                  <a:pt x="9337" y="7813"/>
                </a:cubicBezTo>
                <a:cubicBezTo>
                  <a:pt x="10365" y="7803"/>
                  <a:pt x="11394" y="7599"/>
                  <a:pt x="12423" y="7550"/>
                </a:cubicBezTo>
                <a:cubicBezTo>
                  <a:pt x="12986" y="7523"/>
                  <a:pt x="13552" y="7497"/>
                  <a:pt x="14115" y="7478"/>
                </a:cubicBezTo>
                <a:cubicBezTo>
                  <a:pt x="14531" y="7464"/>
                  <a:pt x="14950" y="7473"/>
                  <a:pt x="15366" y="7475"/>
                </a:cubicBezTo>
                <a:cubicBezTo>
                  <a:pt x="15360" y="7372"/>
                  <a:pt x="15346" y="7250"/>
                  <a:pt x="15344" y="7139"/>
                </a:cubicBezTo>
                <a:cubicBezTo>
                  <a:pt x="15337" y="6717"/>
                  <a:pt x="15343" y="6290"/>
                  <a:pt x="15346" y="5868"/>
                </a:cubicBezTo>
                <a:cubicBezTo>
                  <a:pt x="15350" y="5383"/>
                  <a:pt x="15353" y="4896"/>
                  <a:pt x="15407" y="4414"/>
                </a:cubicBezTo>
                <a:cubicBezTo>
                  <a:pt x="15428" y="4228"/>
                  <a:pt x="15513" y="4001"/>
                  <a:pt x="15301" y="3894"/>
                </a:cubicBezTo>
                <a:cubicBezTo>
                  <a:pt x="15125" y="3805"/>
                  <a:pt x="14771" y="3920"/>
                  <a:pt x="14586" y="3933"/>
                </a:cubicBezTo>
                <a:cubicBezTo>
                  <a:pt x="13189" y="4034"/>
                  <a:pt x="11808" y="4190"/>
                  <a:pt x="10406" y="4221"/>
                </a:cubicBezTo>
                <a:cubicBezTo>
                  <a:pt x="10038" y="4229"/>
                  <a:pt x="9682" y="4198"/>
                  <a:pt x="9316" y="4179"/>
                </a:cubicBezTo>
                <a:cubicBezTo>
                  <a:pt x="9053" y="4165"/>
                  <a:pt x="8782" y="4161"/>
                  <a:pt x="8520" y="4171"/>
                </a:cubicBezTo>
                <a:cubicBezTo>
                  <a:pt x="8415" y="4175"/>
                  <a:pt x="8394" y="4182"/>
                  <a:pt x="8341" y="4215"/>
                </a:cubicBezTo>
                <a:cubicBezTo>
                  <a:pt x="8355" y="4221"/>
                  <a:pt x="8370" y="4227"/>
                  <a:pt x="8384" y="4233"/>
                </a:cubicBezTo>
              </a:path>
            </a:pathLst>
          </a:custGeom>
          <a:noFill/>
          <a:ln cap="rnd"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358128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loop he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57150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loop b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3962520"/>
            <a:ext cx="2667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Myriad Web"/>
              </a:rPr>
              <a:t>assert</a:t>
            </a:r>
            <a:r>
              <a:rPr b="0" lang="en-US" sz="2200" spc="-1" strike="noStrike">
                <a:solidFill>
                  <a:srgbClr val="000000"/>
                </a:solidFill>
                <a:latin typeface="Myriad Web"/>
              </a:rPr>
              <a:t> LoopInv( x ) ;</a:t>
            </a:r>
            <a:br>
              <a:rPr sz="2200"/>
            </a:br>
            <a:r>
              <a:rPr b="0" lang="en-US" sz="2200" spc="-1" strike="noStrike">
                <a:solidFill>
                  <a:srgbClr val="3333cc"/>
                </a:solidFill>
                <a:latin typeface="Myriad Web"/>
              </a:rPr>
              <a:t>assume</a:t>
            </a:r>
            <a:r>
              <a:rPr b="0" lang="en-US" sz="2200" spc="-1" strike="noStrike">
                <a:solidFill>
                  <a:srgbClr val="000000"/>
                </a:solidFill>
                <a:latin typeface="Myriad Web"/>
              </a:rPr>
              <a:t> LoopInv( x 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5592600"/>
            <a:ext cx="259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Myriad Web"/>
              </a:rPr>
              <a:t>assume</a:t>
            </a:r>
            <a:r>
              <a:rPr b="0" lang="en-US" sz="2200" spc="-1" strike="noStrike">
                <a:solidFill>
                  <a:srgbClr val="000000"/>
                </a:solidFill>
                <a:latin typeface="Myriad Web"/>
              </a:rPr>
              <a:t> Guard( x ) 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Myriad Web"/>
              </a:rPr>
              <a:t>x :=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47800" y="6067440"/>
            <a:ext cx="2349360" cy="747720"/>
          </a:xfrm>
          <a:custGeom>
            <a:avLst/>
            <a:gdLst/>
            <a:ahLst/>
            <a:rect l="l" t="t" r="r" b="b"/>
            <a:pathLst>
              <a:path w="6527" h="2079">
                <a:moveTo>
                  <a:pt x="2956" y="16896"/>
                </a:moveTo>
                <a:cubicBezTo>
                  <a:pt x="3035" y="16920"/>
                  <a:pt x="3075" y="16939"/>
                  <a:pt x="3159" y="16949"/>
                </a:cubicBezTo>
                <a:cubicBezTo>
                  <a:pt x="3330" y="16970"/>
                  <a:pt x="3495" y="16990"/>
                  <a:pt x="3668" y="16989"/>
                </a:cubicBezTo>
                <a:cubicBezTo>
                  <a:pt x="4031" y="16987"/>
                  <a:pt x="4398" y="16957"/>
                  <a:pt x="4761" y="16992"/>
                </a:cubicBezTo>
                <a:cubicBezTo>
                  <a:pt x="5382" y="17051"/>
                  <a:pt x="5969" y="17122"/>
                  <a:pt x="6594" y="17049"/>
                </a:cubicBezTo>
                <a:cubicBezTo>
                  <a:pt x="6824" y="17022"/>
                  <a:pt x="7046" y="16976"/>
                  <a:pt x="7273" y="16938"/>
                </a:cubicBezTo>
                <a:cubicBezTo>
                  <a:pt x="7530" y="16895"/>
                  <a:pt x="7779" y="16898"/>
                  <a:pt x="8037" y="16885"/>
                </a:cubicBezTo>
                <a:cubicBezTo>
                  <a:pt x="8277" y="16873"/>
                  <a:pt x="8647" y="16761"/>
                  <a:pt x="8811" y="16983"/>
                </a:cubicBezTo>
                <a:cubicBezTo>
                  <a:pt x="8914" y="17123"/>
                  <a:pt x="8867" y="17310"/>
                  <a:pt x="8871" y="17472"/>
                </a:cubicBezTo>
                <a:cubicBezTo>
                  <a:pt x="8877" y="17753"/>
                  <a:pt x="8916" y="18043"/>
                  <a:pt x="8822" y="18312"/>
                </a:cubicBezTo>
                <a:cubicBezTo>
                  <a:pt x="8796" y="18388"/>
                  <a:pt x="8773" y="18476"/>
                  <a:pt x="8747" y="18547"/>
                </a:cubicBezTo>
                <a:cubicBezTo>
                  <a:pt x="8720" y="18620"/>
                  <a:pt x="8740" y="18627"/>
                  <a:pt x="8683" y="18695"/>
                </a:cubicBezTo>
                <a:cubicBezTo>
                  <a:pt x="8578" y="18820"/>
                  <a:pt x="8493" y="18811"/>
                  <a:pt x="8351" y="18827"/>
                </a:cubicBezTo>
                <a:cubicBezTo>
                  <a:pt x="7934" y="18873"/>
                  <a:pt x="7534" y="18951"/>
                  <a:pt x="7113" y="18908"/>
                </a:cubicBezTo>
                <a:cubicBezTo>
                  <a:pt x="6837" y="18880"/>
                  <a:pt x="6628" y="18809"/>
                  <a:pt x="6372" y="18720"/>
                </a:cubicBezTo>
                <a:cubicBezTo>
                  <a:pt x="6090" y="18622"/>
                  <a:pt x="5771" y="18588"/>
                  <a:pt x="5474" y="18561"/>
                </a:cubicBezTo>
                <a:cubicBezTo>
                  <a:pt x="4923" y="18511"/>
                  <a:pt x="4371" y="18558"/>
                  <a:pt x="3819" y="18494"/>
                </a:cubicBezTo>
                <a:cubicBezTo>
                  <a:pt x="3506" y="18458"/>
                  <a:pt x="3141" y="18476"/>
                  <a:pt x="2840" y="18376"/>
                </a:cubicBezTo>
                <a:cubicBezTo>
                  <a:pt x="2744" y="18344"/>
                  <a:pt x="2436" y="18259"/>
                  <a:pt x="2381" y="18186"/>
                </a:cubicBezTo>
                <a:cubicBezTo>
                  <a:pt x="2318" y="18103"/>
                  <a:pt x="2386" y="17978"/>
                  <a:pt x="2412" y="17892"/>
                </a:cubicBezTo>
                <a:cubicBezTo>
                  <a:pt x="2489" y="17640"/>
                  <a:pt x="2627" y="17399"/>
                  <a:pt x="2745" y="17165"/>
                </a:cubicBezTo>
                <a:cubicBezTo>
                  <a:pt x="2769" y="17117"/>
                  <a:pt x="2789" y="17052"/>
                  <a:pt x="2826" y="17011"/>
                </a:cubicBezTo>
                <a:cubicBezTo>
                  <a:pt x="2893" y="16936"/>
                  <a:pt x="2959" y="16951"/>
                  <a:pt x="3016" y="16921"/>
                </a:cubicBezTo>
                <a:cubicBezTo>
                  <a:pt x="3060" y="16912"/>
                  <a:pt x="3077" y="16905"/>
                  <a:pt x="3097" y="16877"/>
                </a:cubicBezTo>
              </a:path>
            </a:pathLst>
          </a:custGeom>
          <a:noFill/>
          <a:ln cap="rnd"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620244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Myriad Web"/>
              </a:rPr>
              <a:t>assume</a:t>
            </a:r>
            <a:r>
              <a:rPr b="0" lang="en-US" sz="2200" spc="-1" strike="noStrike">
                <a:solidFill>
                  <a:srgbClr val="000000"/>
                </a:solidFill>
                <a:latin typeface="Myriad Web"/>
              </a:rPr>
              <a:t> ¬Guard( x )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57150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after loo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8120" y="21636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Myriad Web"/>
              </a:rPr>
              <a:t>assert</a:t>
            </a:r>
            <a:r>
              <a:rPr b="0" lang="en-US" sz="2200" spc="-1" strike="noStrike">
                <a:solidFill>
                  <a:srgbClr val="000000"/>
                </a:solidFill>
                <a:latin typeface="Myriad Web"/>
              </a:rPr>
              <a:t> LoopInv( x )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24280" y="620244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Myriad Web"/>
              </a:rPr>
              <a:t>assert</a:t>
            </a:r>
            <a:r>
              <a:rPr b="0" lang="en-US" sz="2200" spc="-1" strike="noStrike">
                <a:solidFill>
                  <a:srgbClr val="000000"/>
                </a:solidFill>
                <a:latin typeface="Myriad Web"/>
              </a:rPr>
              <a:t> LoopInv( x )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6400800"/>
            <a:ext cx="2208240" cy="60480"/>
          </a:xfrm>
          <a:custGeom>
            <a:avLst/>
            <a:gdLst/>
            <a:ahLst/>
            <a:rect l="l" t="t" r="r" b="b"/>
            <a:pathLst>
              <a:path w="6133" h="170">
                <a:moveTo>
                  <a:pt x="19442" y="13066"/>
                </a:moveTo>
                <a:cubicBezTo>
                  <a:pt x="19490" y="13067"/>
                  <a:pt x="19539" y="13068"/>
                  <a:pt x="19589" y="13067"/>
                </a:cubicBezTo>
                <a:cubicBezTo>
                  <a:pt x="19876" y="13059"/>
                  <a:pt x="20162" y="13059"/>
                  <a:pt x="20449" y="13069"/>
                </a:cubicBezTo>
                <a:cubicBezTo>
                  <a:pt x="20755" y="13080"/>
                  <a:pt x="21060" y="13089"/>
                  <a:pt x="21366" y="13091"/>
                </a:cubicBezTo>
                <a:cubicBezTo>
                  <a:pt x="21776" y="13094"/>
                  <a:pt x="22180" y="13080"/>
                  <a:pt x="22589" y="13047"/>
                </a:cubicBezTo>
                <a:cubicBezTo>
                  <a:pt x="23058" y="13010"/>
                  <a:pt x="23530" y="12967"/>
                  <a:pt x="23999" y="12938"/>
                </a:cubicBezTo>
                <a:cubicBezTo>
                  <a:pt x="24441" y="12911"/>
                  <a:pt x="24880" y="12928"/>
                  <a:pt x="25321" y="12957"/>
                </a:cubicBezTo>
                <a:cubicBezTo>
                  <a:pt x="25406" y="12963"/>
                  <a:pt x="25490" y="12967"/>
                  <a:pt x="25574" y="1297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2362320"/>
            <a:ext cx="2219400" cy="41040"/>
          </a:xfrm>
          <a:custGeom>
            <a:avLst/>
            <a:gdLst/>
            <a:ahLst/>
            <a:rect l="l" t="t" r="r" b="b"/>
            <a:pathLst>
              <a:path w="6162" h="113">
                <a:moveTo>
                  <a:pt x="19452" y="10613"/>
                </a:moveTo>
                <a:cubicBezTo>
                  <a:pt x="19513" y="10606"/>
                  <a:pt x="19575" y="10602"/>
                  <a:pt x="19637" y="10594"/>
                </a:cubicBezTo>
                <a:cubicBezTo>
                  <a:pt x="19824" y="10569"/>
                  <a:pt x="20006" y="10537"/>
                  <a:pt x="20195" y="10530"/>
                </a:cubicBezTo>
                <a:cubicBezTo>
                  <a:pt x="20946" y="10501"/>
                  <a:pt x="21714" y="10495"/>
                  <a:pt x="22466" y="10507"/>
                </a:cubicBezTo>
                <a:cubicBezTo>
                  <a:pt x="22875" y="10514"/>
                  <a:pt x="23281" y="10529"/>
                  <a:pt x="23688" y="10565"/>
                </a:cubicBezTo>
                <a:cubicBezTo>
                  <a:pt x="24065" y="10599"/>
                  <a:pt x="24448" y="10611"/>
                  <a:pt x="24826" y="10616"/>
                </a:cubicBezTo>
                <a:cubicBezTo>
                  <a:pt x="25084" y="10619"/>
                  <a:pt x="25421" y="10627"/>
                  <a:pt x="25605" y="1053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4038480"/>
            <a:ext cx="1833840" cy="301680"/>
          </a:xfrm>
          <a:custGeom>
            <a:avLst/>
            <a:gdLst/>
            <a:ahLst/>
            <a:rect l="l" t="t" r="r" b="b"/>
            <a:pathLst>
              <a:path w="5094" h="841">
                <a:moveTo>
                  <a:pt x="19867" y="6264"/>
                </a:moveTo>
                <a:cubicBezTo>
                  <a:pt x="19914" y="6259"/>
                  <a:pt x="19956" y="6231"/>
                  <a:pt x="20017" y="6238"/>
                </a:cubicBezTo>
                <a:cubicBezTo>
                  <a:pt x="20090" y="6247"/>
                  <a:pt x="20153" y="6281"/>
                  <a:pt x="20222" y="6310"/>
                </a:cubicBezTo>
                <a:cubicBezTo>
                  <a:pt x="20309" y="6346"/>
                  <a:pt x="20381" y="6365"/>
                  <a:pt x="20474" y="6380"/>
                </a:cubicBezTo>
                <a:cubicBezTo>
                  <a:pt x="20787" y="6431"/>
                  <a:pt x="21101" y="6477"/>
                  <a:pt x="21416" y="6518"/>
                </a:cubicBezTo>
                <a:cubicBezTo>
                  <a:pt x="21751" y="6561"/>
                  <a:pt x="22086" y="6605"/>
                  <a:pt x="22423" y="6638"/>
                </a:cubicBezTo>
                <a:cubicBezTo>
                  <a:pt x="22893" y="6685"/>
                  <a:pt x="23372" y="6744"/>
                  <a:pt x="23827" y="6874"/>
                </a:cubicBezTo>
                <a:cubicBezTo>
                  <a:pt x="24189" y="6978"/>
                  <a:pt x="24585" y="7054"/>
                  <a:pt x="24960" y="7078"/>
                </a:cubicBezTo>
                <a:cubicBezTo>
                  <a:pt x="24949" y="7074"/>
                  <a:pt x="24938" y="7070"/>
                  <a:pt x="24927" y="7066"/>
                </a:cubicBezTo>
              </a:path>
            </a:pathLst>
          </a:custGeom>
          <a:noFill/>
          <a:ln cap="rnd"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352680" y="4038480"/>
            <a:ext cx="1770120" cy="374760"/>
          </a:xfrm>
          <a:custGeom>
            <a:avLst/>
            <a:gdLst/>
            <a:ahLst/>
            <a:rect l="l" t="t" r="r" b="b"/>
            <a:pathLst>
              <a:path w="4917" h="1038">
                <a:moveTo>
                  <a:pt x="19925" y="7002"/>
                </a:moveTo>
                <a:cubicBezTo>
                  <a:pt x="19993" y="7013"/>
                  <a:pt x="20017" y="7031"/>
                  <a:pt x="20093" y="7021"/>
                </a:cubicBezTo>
                <a:cubicBezTo>
                  <a:pt x="20581" y="6957"/>
                  <a:pt x="21067" y="6750"/>
                  <a:pt x="21543" y="6629"/>
                </a:cubicBezTo>
                <a:cubicBezTo>
                  <a:pt x="21973" y="6520"/>
                  <a:pt x="22411" y="6416"/>
                  <a:pt x="22846" y="6331"/>
                </a:cubicBezTo>
                <a:cubicBezTo>
                  <a:pt x="23117" y="6278"/>
                  <a:pt x="23389" y="6228"/>
                  <a:pt x="23662" y="6194"/>
                </a:cubicBezTo>
                <a:cubicBezTo>
                  <a:pt x="23940" y="6160"/>
                  <a:pt x="24214" y="6099"/>
                  <a:pt x="24490" y="6048"/>
                </a:cubicBezTo>
                <a:cubicBezTo>
                  <a:pt x="24620" y="6024"/>
                  <a:pt x="24670" y="6004"/>
                  <a:pt x="24802" y="6006"/>
                </a:cubicBezTo>
              </a:path>
            </a:pathLst>
          </a:custGeom>
          <a:noFill/>
          <a:ln cap="rnd"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733920" y="3657600"/>
            <a:ext cx="838080" cy="457200"/>
          </a:xfrm>
          <a:prstGeom prst="ellipse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5715000"/>
            <a:ext cx="838080" cy="457200"/>
          </a:xfrm>
          <a:prstGeom prst="ellipse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yriad Web"/>
              </a:rPr>
              <a:t>VC generation:  loops</a:t>
            </a: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208" name=""/>
          <p:cNvSpPr/>
          <p:nvPr/>
        </p:nvSpPr>
        <p:spPr>
          <a:xfrm>
            <a:off x="3898800" y="2693880"/>
            <a:ext cx="457200" cy="855720"/>
          </a:xfrm>
          <a:custGeom>
            <a:avLst/>
            <a:gdLst/>
            <a:ahLst/>
            <a:rect l="l" t="t" r="r" b="b"/>
            <a:pathLst>
              <a:path w="1267" h="2376">
                <a:moveTo>
                  <a:pt x="11505" y="7514"/>
                </a:moveTo>
                <a:cubicBezTo>
                  <a:pt x="11473" y="7573"/>
                  <a:pt x="11483" y="7581"/>
                  <a:pt x="11481" y="7648"/>
                </a:cubicBezTo>
                <a:cubicBezTo>
                  <a:pt x="11476" y="7862"/>
                  <a:pt x="11466" y="8075"/>
                  <a:pt x="11450" y="8288"/>
                </a:cubicBezTo>
                <a:cubicBezTo>
                  <a:pt x="11442" y="8401"/>
                  <a:pt x="11436" y="8514"/>
                  <a:pt x="11433" y="8627"/>
                </a:cubicBezTo>
                <a:cubicBezTo>
                  <a:pt x="11429" y="8793"/>
                  <a:pt x="11423" y="8959"/>
                  <a:pt x="11414" y="9125"/>
                </a:cubicBezTo>
                <a:cubicBezTo>
                  <a:pt x="11401" y="9360"/>
                  <a:pt x="11360" y="9590"/>
                  <a:pt x="11318" y="9821"/>
                </a:cubicBezTo>
                <a:cubicBezTo>
                  <a:pt x="11315" y="9833"/>
                  <a:pt x="11313" y="9846"/>
                  <a:pt x="11310" y="9858"/>
                </a:cubicBezTo>
                <a:cubicBezTo>
                  <a:pt x="11304" y="9794"/>
                  <a:pt x="11306" y="9735"/>
                  <a:pt x="11310" y="9671"/>
                </a:cubicBezTo>
              </a:path>
              <a:path w="1267" h="2376">
                <a:moveTo>
                  <a:pt x="10867" y="8873"/>
                </a:moveTo>
                <a:cubicBezTo>
                  <a:pt x="10820" y="8905"/>
                  <a:pt x="10855" y="8946"/>
                  <a:pt x="10891" y="9008"/>
                </a:cubicBezTo>
                <a:cubicBezTo>
                  <a:pt x="10938" y="9090"/>
                  <a:pt x="11006" y="9164"/>
                  <a:pt x="11069" y="9234"/>
                </a:cubicBezTo>
                <a:cubicBezTo>
                  <a:pt x="11157" y="9330"/>
                  <a:pt x="11261" y="9411"/>
                  <a:pt x="11346" y="9509"/>
                </a:cubicBezTo>
                <a:cubicBezTo>
                  <a:pt x="11393" y="9563"/>
                  <a:pt x="11441" y="9621"/>
                  <a:pt x="11484" y="9679"/>
                </a:cubicBezTo>
                <a:cubicBezTo>
                  <a:pt x="11518" y="9727"/>
                  <a:pt x="11525" y="9738"/>
                  <a:pt x="11547" y="9766"/>
                </a:cubicBezTo>
                <a:cubicBezTo>
                  <a:pt x="11613" y="9648"/>
                  <a:pt x="11661" y="9522"/>
                  <a:pt x="11735" y="9408"/>
                </a:cubicBezTo>
                <a:cubicBezTo>
                  <a:pt x="11791" y="9321"/>
                  <a:pt x="11843" y="9234"/>
                  <a:pt x="11894" y="9144"/>
                </a:cubicBezTo>
                <a:cubicBezTo>
                  <a:pt x="11924" y="9090"/>
                  <a:pt x="11952" y="9008"/>
                  <a:pt x="11992" y="8962"/>
                </a:cubicBezTo>
                <a:cubicBezTo>
                  <a:pt x="12040" y="8918"/>
                  <a:pt x="12054" y="8904"/>
                  <a:pt x="12098" y="8896"/>
                </a:cubicBezTo>
              </a:path>
            </a:pathLst>
          </a:custGeom>
          <a:noFill/>
          <a:ln cap="rnd"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40440" y="3152880"/>
            <a:ext cx="361800" cy="177840"/>
          </a:xfrm>
          <a:custGeom>
            <a:avLst/>
            <a:gdLst/>
            <a:ahLst/>
            <a:rect l="l" t="t" r="r" b="b"/>
            <a:pathLst>
              <a:path w="1009" h="494">
                <a:moveTo>
                  <a:pt x="14312" y="8795"/>
                </a:moveTo>
                <a:cubicBezTo>
                  <a:pt x="14300" y="8783"/>
                  <a:pt x="14289" y="8770"/>
                  <a:pt x="14277" y="8758"/>
                </a:cubicBezTo>
                <a:cubicBezTo>
                  <a:pt x="14287" y="8835"/>
                  <a:pt x="14310" y="8907"/>
                  <a:pt x="14328" y="8982"/>
                </a:cubicBezTo>
                <a:cubicBezTo>
                  <a:pt x="14340" y="9033"/>
                  <a:pt x="14354" y="9085"/>
                  <a:pt x="14373" y="9134"/>
                </a:cubicBezTo>
                <a:cubicBezTo>
                  <a:pt x="14392" y="9184"/>
                  <a:pt x="14409" y="9242"/>
                  <a:pt x="14465" y="9251"/>
                </a:cubicBezTo>
                <a:cubicBezTo>
                  <a:pt x="14511" y="9259"/>
                  <a:pt x="14563" y="9250"/>
                  <a:pt x="14607" y="9237"/>
                </a:cubicBezTo>
                <a:cubicBezTo>
                  <a:pt x="14705" y="9208"/>
                  <a:pt x="14792" y="9154"/>
                  <a:pt x="14882" y="9106"/>
                </a:cubicBezTo>
                <a:cubicBezTo>
                  <a:pt x="14978" y="9055"/>
                  <a:pt x="15257" y="8972"/>
                  <a:pt x="15284" y="8876"/>
                </a:cubicBezTo>
              </a:path>
            </a:pathLst>
          </a:custGeom>
          <a:noFill/>
          <a:ln cap="rnd"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490840" y="2768760"/>
            <a:ext cx="5786280" cy="3435120"/>
          </a:xfrm>
          <a:custGeom>
            <a:avLst/>
            <a:gdLst/>
            <a:ahLst/>
            <a:rect l="l" t="t" r="r" b="b"/>
            <a:pathLst>
              <a:path w="16074" h="9542">
                <a:moveTo>
                  <a:pt x="8062" y="9732"/>
                </a:moveTo>
                <a:cubicBezTo>
                  <a:pt x="8079" y="9786"/>
                  <a:pt x="8082" y="9763"/>
                  <a:pt x="8098" y="9818"/>
                </a:cubicBezTo>
                <a:cubicBezTo>
                  <a:pt x="8179" y="10100"/>
                  <a:pt x="8225" y="10362"/>
                  <a:pt x="8247" y="10653"/>
                </a:cubicBezTo>
                <a:cubicBezTo>
                  <a:pt x="8276" y="11041"/>
                  <a:pt x="8330" y="11441"/>
                  <a:pt x="8299" y="11830"/>
                </a:cubicBezTo>
                <a:cubicBezTo>
                  <a:pt x="8277" y="12104"/>
                  <a:pt x="8033" y="12932"/>
                  <a:pt x="8266" y="13136"/>
                </a:cubicBezTo>
                <a:cubicBezTo>
                  <a:pt x="8406" y="13258"/>
                  <a:pt x="8767" y="13212"/>
                  <a:pt x="8937" y="13220"/>
                </a:cubicBezTo>
                <a:cubicBezTo>
                  <a:pt x="9774" y="13258"/>
                  <a:pt x="10605" y="13243"/>
                  <a:pt x="11442" y="13243"/>
                </a:cubicBezTo>
                <a:cubicBezTo>
                  <a:pt x="12233" y="13243"/>
                  <a:pt x="13023" y="13253"/>
                  <a:pt x="13814" y="13253"/>
                </a:cubicBezTo>
                <a:cubicBezTo>
                  <a:pt x="14221" y="13253"/>
                  <a:pt x="14608" y="13314"/>
                  <a:pt x="15011" y="13343"/>
                </a:cubicBezTo>
                <a:cubicBezTo>
                  <a:pt x="15167" y="13354"/>
                  <a:pt x="15472" y="13423"/>
                  <a:pt x="15617" y="13340"/>
                </a:cubicBezTo>
                <a:cubicBezTo>
                  <a:pt x="15767" y="13254"/>
                  <a:pt x="15777" y="13112"/>
                  <a:pt x="15827" y="12961"/>
                </a:cubicBezTo>
                <a:cubicBezTo>
                  <a:pt x="15994" y="12458"/>
                  <a:pt x="16115" y="11834"/>
                  <a:pt x="16080" y="11305"/>
                </a:cubicBezTo>
                <a:cubicBezTo>
                  <a:pt x="16047" y="10794"/>
                  <a:pt x="16134" y="10242"/>
                  <a:pt x="16088" y="9748"/>
                </a:cubicBezTo>
                <a:cubicBezTo>
                  <a:pt x="16072" y="9579"/>
                  <a:pt x="16041" y="9536"/>
                  <a:pt x="15883" y="9463"/>
                </a:cubicBezTo>
                <a:cubicBezTo>
                  <a:pt x="15651" y="9355"/>
                  <a:pt x="15196" y="9483"/>
                  <a:pt x="14958" y="9503"/>
                </a:cubicBezTo>
                <a:cubicBezTo>
                  <a:pt x="14377" y="9551"/>
                  <a:pt x="13794" y="9565"/>
                  <a:pt x="13214" y="9614"/>
                </a:cubicBezTo>
                <a:cubicBezTo>
                  <a:pt x="12735" y="9654"/>
                  <a:pt x="12271" y="9678"/>
                  <a:pt x="11791" y="9685"/>
                </a:cubicBezTo>
                <a:cubicBezTo>
                  <a:pt x="11116" y="9695"/>
                  <a:pt x="10443" y="9714"/>
                  <a:pt x="9768" y="9730"/>
                </a:cubicBezTo>
                <a:cubicBezTo>
                  <a:pt x="9416" y="9738"/>
                  <a:pt x="9068" y="9664"/>
                  <a:pt x="8717" y="9660"/>
                </a:cubicBezTo>
                <a:cubicBezTo>
                  <a:pt x="8589" y="9658"/>
                  <a:pt x="8258" y="9676"/>
                  <a:pt x="8255" y="9737"/>
                </a:cubicBezTo>
                <a:cubicBezTo>
                  <a:pt x="8253" y="9773"/>
                  <a:pt x="8340" y="9705"/>
                  <a:pt x="8364" y="9732"/>
                </a:cubicBezTo>
              </a:path>
              <a:path w="16074" h="9542">
                <a:moveTo>
                  <a:pt x="10529" y="13260"/>
                </a:moveTo>
                <a:cubicBezTo>
                  <a:pt x="10520" y="13317"/>
                  <a:pt x="10509" y="13375"/>
                  <a:pt x="10504" y="13442"/>
                </a:cubicBezTo>
                <a:cubicBezTo>
                  <a:pt x="10491" y="13607"/>
                  <a:pt x="10454" y="13714"/>
                  <a:pt x="10333" y="13835"/>
                </a:cubicBezTo>
                <a:cubicBezTo>
                  <a:pt x="10066" y="14103"/>
                  <a:pt x="9678" y="14318"/>
                  <a:pt x="9382" y="14561"/>
                </a:cubicBezTo>
                <a:cubicBezTo>
                  <a:pt x="9159" y="14744"/>
                  <a:pt x="8917" y="14903"/>
                  <a:pt x="8692" y="15083"/>
                </a:cubicBezTo>
                <a:cubicBezTo>
                  <a:pt x="8585" y="15169"/>
                  <a:pt x="8482" y="15259"/>
                  <a:pt x="8372" y="15341"/>
                </a:cubicBezTo>
                <a:cubicBezTo>
                  <a:pt x="8153" y="15505"/>
                  <a:pt x="7904" y="15617"/>
                  <a:pt x="7699" y="15803"/>
                </a:cubicBezTo>
                <a:cubicBezTo>
                  <a:pt x="7538" y="15949"/>
                  <a:pt x="7377" y="16096"/>
                  <a:pt x="7217" y="16241"/>
                </a:cubicBezTo>
                <a:cubicBezTo>
                  <a:pt x="7177" y="16277"/>
                  <a:pt x="7145" y="16326"/>
                  <a:pt x="7106" y="16365"/>
                </a:cubicBezTo>
                <a:cubicBezTo>
                  <a:pt x="7046" y="16425"/>
                  <a:pt x="6980" y="16483"/>
                  <a:pt x="6918" y="16544"/>
                </a:cubicBezTo>
                <a:cubicBezTo>
                  <a:pt x="6921" y="16500"/>
                  <a:pt x="6924" y="16483"/>
                  <a:pt x="6943" y="16457"/>
                </a:cubicBezTo>
              </a:path>
              <a:path w="16074" h="9542">
                <a:moveTo>
                  <a:pt x="20793" y="17156"/>
                </a:moveTo>
                <a:cubicBezTo>
                  <a:pt x="20854" y="17167"/>
                  <a:pt x="20946" y="17224"/>
                  <a:pt x="21056" y="17229"/>
                </a:cubicBezTo>
                <a:cubicBezTo>
                  <a:pt x="21372" y="17244"/>
                  <a:pt x="21853" y="17180"/>
                  <a:pt x="22118" y="16989"/>
                </a:cubicBezTo>
                <a:cubicBezTo>
                  <a:pt x="22417" y="16773"/>
                  <a:pt x="22605" y="16289"/>
                  <a:pt x="22701" y="15953"/>
                </a:cubicBezTo>
                <a:cubicBezTo>
                  <a:pt x="22871" y="15360"/>
                  <a:pt x="22959" y="14776"/>
                  <a:pt x="22980" y="14161"/>
                </a:cubicBezTo>
                <a:cubicBezTo>
                  <a:pt x="23013" y="13193"/>
                  <a:pt x="22895" y="12234"/>
                  <a:pt x="22619" y="11305"/>
                </a:cubicBezTo>
                <a:cubicBezTo>
                  <a:pt x="22451" y="10741"/>
                  <a:pt x="22233" y="10296"/>
                  <a:pt x="21883" y="9825"/>
                </a:cubicBezTo>
                <a:cubicBezTo>
                  <a:pt x="21580" y="9416"/>
                  <a:pt x="21257" y="9104"/>
                  <a:pt x="20862" y="8786"/>
                </a:cubicBezTo>
                <a:cubicBezTo>
                  <a:pt x="20545" y="8531"/>
                  <a:pt x="20249" y="8329"/>
                  <a:pt x="19862" y="8191"/>
                </a:cubicBezTo>
                <a:cubicBezTo>
                  <a:pt x="19284" y="7985"/>
                  <a:pt x="18633" y="7759"/>
                  <a:pt x="18020" y="7701"/>
                </a:cubicBezTo>
                <a:cubicBezTo>
                  <a:pt x="17316" y="7634"/>
                  <a:pt x="16700" y="7921"/>
                  <a:pt x="16042" y="8120"/>
                </a:cubicBezTo>
                <a:cubicBezTo>
                  <a:pt x="15644" y="8240"/>
                  <a:pt x="15179" y="8382"/>
                  <a:pt x="14870" y="8675"/>
                </a:cubicBezTo>
                <a:cubicBezTo>
                  <a:pt x="14664" y="8871"/>
                  <a:pt x="14564" y="9140"/>
                  <a:pt x="14396" y="9354"/>
                </a:cubicBezTo>
                <a:cubicBezTo>
                  <a:pt x="14371" y="9386"/>
                  <a:pt x="14338" y="9436"/>
                  <a:pt x="14326" y="9450"/>
                </a:cubicBezTo>
                <a:cubicBezTo>
                  <a:pt x="14327" y="9431"/>
                  <a:pt x="14329" y="9412"/>
                  <a:pt x="14330" y="9393"/>
                </a:cubicBezTo>
              </a:path>
            </a:pathLst>
          </a:custGeom>
          <a:noFill/>
          <a:ln cap="rnd"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67080" y="5754600"/>
            <a:ext cx="272880" cy="249480"/>
          </a:xfrm>
          <a:custGeom>
            <a:avLst/>
            <a:gdLst/>
            <a:ahLst/>
            <a:rect l="l" t="t" r="r" b="b"/>
            <a:pathLst>
              <a:path w="755" h="692">
                <a:moveTo>
                  <a:pt x="6876" y="15984"/>
                </a:moveTo>
                <a:cubicBezTo>
                  <a:pt x="6855" y="16056"/>
                  <a:pt x="6855" y="16102"/>
                  <a:pt x="6857" y="16177"/>
                </a:cubicBezTo>
                <a:cubicBezTo>
                  <a:pt x="6860" y="16276"/>
                  <a:pt x="6872" y="16373"/>
                  <a:pt x="6879" y="16471"/>
                </a:cubicBezTo>
                <a:cubicBezTo>
                  <a:pt x="6884" y="16539"/>
                  <a:pt x="6887" y="16607"/>
                  <a:pt x="6890" y="16675"/>
                </a:cubicBezTo>
                <a:cubicBezTo>
                  <a:pt x="6957" y="16650"/>
                  <a:pt x="7016" y="16609"/>
                  <a:pt x="7080" y="16574"/>
                </a:cubicBezTo>
                <a:cubicBezTo>
                  <a:pt x="7191" y="16514"/>
                  <a:pt x="7304" y="16463"/>
                  <a:pt x="7411" y="16396"/>
                </a:cubicBezTo>
                <a:cubicBezTo>
                  <a:pt x="7471" y="16358"/>
                  <a:pt x="7519" y="16308"/>
                  <a:pt x="7575" y="16269"/>
                </a:cubicBezTo>
                <a:cubicBezTo>
                  <a:pt x="7586" y="16264"/>
                  <a:pt x="7597" y="16260"/>
                  <a:pt x="7608" y="16255"/>
                </a:cubicBezTo>
              </a:path>
            </a:pathLst>
          </a:custGeom>
          <a:noFill/>
          <a:ln cap="rnd"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35640" y="4765680"/>
            <a:ext cx="2925720" cy="1932120"/>
          </a:xfrm>
          <a:custGeom>
            <a:avLst/>
            <a:gdLst/>
            <a:ahLst/>
            <a:rect l="l" t="t" r="r" b="b"/>
            <a:pathLst>
              <a:path w="8126" h="5364">
                <a:moveTo>
                  <a:pt x="12717" y="13239"/>
                </a:moveTo>
                <a:cubicBezTo>
                  <a:pt x="12719" y="13291"/>
                  <a:pt x="12713" y="13328"/>
                  <a:pt x="12740" y="13391"/>
                </a:cubicBezTo>
                <a:cubicBezTo>
                  <a:pt x="12802" y="13536"/>
                  <a:pt x="12883" y="13675"/>
                  <a:pt x="12969" y="13807"/>
                </a:cubicBezTo>
                <a:cubicBezTo>
                  <a:pt x="13056" y="13941"/>
                  <a:pt x="13153" y="14062"/>
                  <a:pt x="13249" y="14189"/>
                </a:cubicBezTo>
                <a:cubicBezTo>
                  <a:pt x="13343" y="14314"/>
                  <a:pt x="13414" y="14441"/>
                  <a:pt x="13483" y="14579"/>
                </a:cubicBezTo>
                <a:cubicBezTo>
                  <a:pt x="13558" y="14728"/>
                  <a:pt x="13656" y="14868"/>
                  <a:pt x="13752" y="15003"/>
                </a:cubicBezTo>
                <a:cubicBezTo>
                  <a:pt x="13791" y="15058"/>
                  <a:pt x="13827" y="15111"/>
                  <a:pt x="13875" y="15159"/>
                </a:cubicBezTo>
                <a:cubicBezTo>
                  <a:pt x="13953" y="15238"/>
                  <a:pt x="13991" y="15267"/>
                  <a:pt x="13995" y="15203"/>
                </a:cubicBezTo>
              </a:path>
              <a:path w="8126" h="5364">
                <a:moveTo>
                  <a:pt x="13167" y="14954"/>
                </a:moveTo>
                <a:cubicBezTo>
                  <a:pt x="13236" y="14954"/>
                  <a:pt x="13276" y="14975"/>
                  <a:pt x="13340" y="15007"/>
                </a:cubicBezTo>
                <a:cubicBezTo>
                  <a:pt x="13410" y="15042"/>
                  <a:pt x="13481" y="15076"/>
                  <a:pt x="13553" y="15108"/>
                </a:cubicBezTo>
                <a:cubicBezTo>
                  <a:pt x="13616" y="15136"/>
                  <a:pt x="13677" y="15166"/>
                  <a:pt x="13740" y="15193"/>
                </a:cubicBezTo>
                <a:cubicBezTo>
                  <a:pt x="13807" y="15221"/>
                  <a:pt x="13887" y="15260"/>
                  <a:pt x="13962" y="15245"/>
                </a:cubicBezTo>
                <a:cubicBezTo>
                  <a:pt x="14028" y="15232"/>
                  <a:pt x="14056" y="15165"/>
                  <a:pt x="14076" y="15109"/>
                </a:cubicBezTo>
                <a:cubicBezTo>
                  <a:pt x="14095" y="15055"/>
                  <a:pt x="14104" y="14993"/>
                  <a:pt x="14116" y="14937"/>
                </a:cubicBezTo>
                <a:cubicBezTo>
                  <a:pt x="14131" y="14868"/>
                  <a:pt x="14147" y="14799"/>
                  <a:pt x="14165" y="14731"/>
                </a:cubicBezTo>
                <a:cubicBezTo>
                  <a:pt x="14183" y="14665"/>
                  <a:pt x="14203" y="14601"/>
                  <a:pt x="14221" y="14535"/>
                </a:cubicBezTo>
              </a:path>
              <a:path w="8126" h="5364">
                <a:moveTo>
                  <a:pt x="12818" y="15369"/>
                </a:moveTo>
                <a:cubicBezTo>
                  <a:pt x="12883" y="15358"/>
                  <a:pt x="12960" y="15340"/>
                  <a:pt x="13036" y="15330"/>
                </a:cubicBezTo>
                <a:cubicBezTo>
                  <a:pt x="13327" y="15294"/>
                  <a:pt x="13567" y="15338"/>
                  <a:pt x="13853" y="15341"/>
                </a:cubicBezTo>
                <a:cubicBezTo>
                  <a:pt x="14103" y="15343"/>
                  <a:pt x="14349" y="15291"/>
                  <a:pt x="14597" y="15263"/>
                </a:cubicBezTo>
                <a:cubicBezTo>
                  <a:pt x="14971" y="15221"/>
                  <a:pt x="15346" y="15239"/>
                  <a:pt x="15721" y="15192"/>
                </a:cubicBezTo>
                <a:cubicBezTo>
                  <a:pt x="16707" y="15068"/>
                  <a:pt x="17689" y="14938"/>
                  <a:pt x="18672" y="14789"/>
                </a:cubicBezTo>
                <a:cubicBezTo>
                  <a:pt x="19044" y="14733"/>
                  <a:pt x="20343" y="14392"/>
                  <a:pt x="20675" y="14647"/>
                </a:cubicBezTo>
                <a:cubicBezTo>
                  <a:pt x="20753" y="14707"/>
                  <a:pt x="20704" y="14810"/>
                  <a:pt x="20708" y="14896"/>
                </a:cubicBezTo>
                <a:cubicBezTo>
                  <a:pt x="20723" y="15190"/>
                  <a:pt x="20679" y="15496"/>
                  <a:pt x="20661" y="15789"/>
                </a:cubicBezTo>
                <a:cubicBezTo>
                  <a:pt x="20627" y="16327"/>
                  <a:pt x="20606" y="16884"/>
                  <a:pt x="20681" y="17419"/>
                </a:cubicBezTo>
                <a:cubicBezTo>
                  <a:pt x="20710" y="17625"/>
                  <a:pt x="20813" y="18123"/>
                  <a:pt x="20628" y="18231"/>
                </a:cubicBezTo>
                <a:cubicBezTo>
                  <a:pt x="20319" y="18411"/>
                  <a:pt x="19203" y="18326"/>
                  <a:pt x="18824" y="18359"/>
                </a:cubicBezTo>
                <a:cubicBezTo>
                  <a:pt x="18081" y="18424"/>
                  <a:pt x="17332" y="18424"/>
                  <a:pt x="16589" y="18497"/>
                </a:cubicBezTo>
                <a:cubicBezTo>
                  <a:pt x="16060" y="18549"/>
                  <a:pt x="15526" y="18596"/>
                  <a:pt x="14994" y="18600"/>
                </a:cubicBezTo>
                <a:cubicBezTo>
                  <a:pt x="14280" y="18605"/>
                  <a:pt x="13566" y="18605"/>
                  <a:pt x="12853" y="18580"/>
                </a:cubicBezTo>
                <a:cubicBezTo>
                  <a:pt x="12797" y="18578"/>
                  <a:pt x="12740" y="18574"/>
                  <a:pt x="12684" y="18572"/>
                </a:cubicBezTo>
                <a:cubicBezTo>
                  <a:pt x="12681" y="18265"/>
                  <a:pt x="12594" y="17949"/>
                  <a:pt x="12600" y="17649"/>
                </a:cubicBezTo>
                <a:cubicBezTo>
                  <a:pt x="12604" y="17463"/>
                  <a:pt x="12655" y="17280"/>
                  <a:pt x="12677" y="17094"/>
                </a:cubicBezTo>
                <a:cubicBezTo>
                  <a:pt x="12728" y="16655"/>
                  <a:pt x="12766" y="15610"/>
                  <a:pt x="13016" y="15242"/>
                </a:cubicBezTo>
                <a:cubicBezTo>
                  <a:pt x="13051" y="15190"/>
                  <a:pt x="13115" y="15227"/>
                  <a:pt x="13140" y="15193"/>
                </a:cubicBezTo>
              </a:path>
            </a:pathLst>
          </a:custGeom>
          <a:noFill/>
          <a:ln cap="rnd"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33640" y="1395360"/>
            <a:ext cx="2625840" cy="1417680"/>
          </a:xfrm>
          <a:custGeom>
            <a:avLst/>
            <a:gdLst/>
            <a:ahLst/>
            <a:rect l="l" t="t" r="r" b="b"/>
            <a:pathLst>
              <a:path w="7296" h="3937">
                <a:moveTo>
                  <a:pt x="8229" y="4334"/>
                </a:moveTo>
                <a:cubicBezTo>
                  <a:pt x="8244" y="4526"/>
                  <a:pt x="8270" y="4726"/>
                  <a:pt x="8288" y="4923"/>
                </a:cubicBezTo>
                <a:cubicBezTo>
                  <a:pt x="8308" y="5149"/>
                  <a:pt x="8311" y="5368"/>
                  <a:pt x="8299" y="5594"/>
                </a:cubicBezTo>
                <a:cubicBezTo>
                  <a:pt x="8281" y="5919"/>
                  <a:pt x="8245" y="6235"/>
                  <a:pt x="8211" y="6557"/>
                </a:cubicBezTo>
                <a:cubicBezTo>
                  <a:pt x="8180" y="6857"/>
                  <a:pt x="8149" y="7145"/>
                  <a:pt x="8160" y="7447"/>
                </a:cubicBezTo>
                <a:cubicBezTo>
                  <a:pt x="8164" y="7552"/>
                  <a:pt x="8143" y="7723"/>
                  <a:pt x="8239" y="7779"/>
                </a:cubicBezTo>
                <a:cubicBezTo>
                  <a:pt x="8449" y="7901"/>
                  <a:pt x="9104" y="7815"/>
                  <a:pt x="9337" y="7813"/>
                </a:cubicBezTo>
                <a:cubicBezTo>
                  <a:pt x="10365" y="7803"/>
                  <a:pt x="11394" y="7599"/>
                  <a:pt x="12423" y="7550"/>
                </a:cubicBezTo>
                <a:cubicBezTo>
                  <a:pt x="12986" y="7523"/>
                  <a:pt x="13552" y="7497"/>
                  <a:pt x="14115" y="7478"/>
                </a:cubicBezTo>
                <a:cubicBezTo>
                  <a:pt x="14531" y="7464"/>
                  <a:pt x="14950" y="7473"/>
                  <a:pt x="15366" y="7475"/>
                </a:cubicBezTo>
                <a:cubicBezTo>
                  <a:pt x="15360" y="7372"/>
                  <a:pt x="15346" y="7250"/>
                  <a:pt x="15344" y="7139"/>
                </a:cubicBezTo>
                <a:cubicBezTo>
                  <a:pt x="15337" y="6717"/>
                  <a:pt x="15343" y="6290"/>
                  <a:pt x="15346" y="5868"/>
                </a:cubicBezTo>
                <a:cubicBezTo>
                  <a:pt x="15350" y="5383"/>
                  <a:pt x="15353" y="4896"/>
                  <a:pt x="15407" y="4414"/>
                </a:cubicBezTo>
                <a:cubicBezTo>
                  <a:pt x="15428" y="4228"/>
                  <a:pt x="15513" y="4001"/>
                  <a:pt x="15301" y="3894"/>
                </a:cubicBezTo>
                <a:cubicBezTo>
                  <a:pt x="15125" y="3805"/>
                  <a:pt x="14771" y="3920"/>
                  <a:pt x="14586" y="3933"/>
                </a:cubicBezTo>
                <a:cubicBezTo>
                  <a:pt x="13189" y="4034"/>
                  <a:pt x="11808" y="4190"/>
                  <a:pt x="10406" y="4221"/>
                </a:cubicBezTo>
                <a:cubicBezTo>
                  <a:pt x="10038" y="4229"/>
                  <a:pt x="9682" y="4198"/>
                  <a:pt x="9316" y="4179"/>
                </a:cubicBezTo>
                <a:cubicBezTo>
                  <a:pt x="9053" y="4165"/>
                  <a:pt x="8782" y="4161"/>
                  <a:pt x="8520" y="4171"/>
                </a:cubicBezTo>
                <a:cubicBezTo>
                  <a:pt x="8415" y="4175"/>
                  <a:pt x="8394" y="4182"/>
                  <a:pt x="8341" y="4215"/>
                </a:cubicBezTo>
                <a:cubicBezTo>
                  <a:pt x="8355" y="4221"/>
                  <a:pt x="8370" y="4227"/>
                  <a:pt x="8384" y="4233"/>
                </a:cubicBezTo>
              </a:path>
            </a:pathLst>
          </a:custGeom>
          <a:noFill/>
          <a:ln cap="rnd"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358128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loop he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0400" y="57150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loop b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403848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Myriad Web"/>
              </a:rPr>
              <a:t>assume</a:t>
            </a:r>
            <a:r>
              <a:rPr b="0" lang="en-US" sz="2200" spc="-1" strike="noStrike">
                <a:solidFill>
                  <a:srgbClr val="000000"/>
                </a:solidFill>
                <a:latin typeface="Myriad Web"/>
              </a:rPr>
              <a:t> LoopInv( x 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48320" y="5410080"/>
            <a:ext cx="259056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Myriad Web"/>
              </a:rPr>
              <a:t>assume</a:t>
            </a:r>
            <a:r>
              <a:rPr b="0" lang="en-US" sz="2200" spc="-1" strike="noStrike">
                <a:solidFill>
                  <a:srgbClr val="000000"/>
                </a:solidFill>
                <a:latin typeface="Myriad Web"/>
              </a:rPr>
              <a:t> Guard( x ) 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Myriad Web"/>
              </a:rPr>
              <a:t>x := …</a:t>
            </a:r>
            <a:br>
              <a:rPr sz="2200"/>
            </a:br>
            <a:r>
              <a:rPr b="0" lang="en-US" sz="2200" spc="-1" strike="noStrike">
                <a:solidFill>
                  <a:srgbClr val="3333cc"/>
                </a:solidFill>
                <a:latin typeface="Myriad Web"/>
              </a:rPr>
              <a:t>assert</a:t>
            </a:r>
            <a:r>
              <a:rPr b="0" lang="en-US" sz="2200" spc="-1" strike="noStrike">
                <a:solidFill>
                  <a:srgbClr val="000000"/>
                </a:solidFill>
                <a:latin typeface="Myriad Web"/>
              </a:rPr>
              <a:t> LoopInv( x 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47800" y="6067440"/>
            <a:ext cx="2349360" cy="747720"/>
          </a:xfrm>
          <a:custGeom>
            <a:avLst/>
            <a:gdLst/>
            <a:ahLst/>
            <a:rect l="l" t="t" r="r" b="b"/>
            <a:pathLst>
              <a:path w="6527" h="2079">
                <a:moveTo>
                  <a:pt x="2956" y="16896"/>
                </a:moveTo>
                <a:cubicBezTo>
                  <a:pt x="3035" y="16920"/>
                  <a:pt x="3075" y="16939"/>
                  <a:pt x="3159" y="16949"/>
                </a:cubicBezTo>
                <a:cubicBezTo>
                  <a:pt x="3330" y="16970"/>
                  <a:pt x="3495" y="16990"/>
                  <a:pt x="3668" y="16989"/>
                </a:cubicBezTo>
                <a:cubicBezTo>
                  <a:pt x="4031" y="16987"/>
                  <a:pt x="4398" y="16957"/>
                  <a:pt x="4761" y="16992"/>
                </a:cubicBezTo>
                <a:cubicBezTo>
                  <a:pt x="5382" y="17051"/>
                  <a:pt x="5969" y="17122"/>
                  <a:pt x="6594" y="17049"/>
                </a:cubicBezTo>
                <a:cubicBezTo>
                  <a:pt x="6824" y="17022"/>
                  <a:pt x="7046" y="16976"/>
                  <a:pt x="7273" y="16938"/>
                </a:cubicBezTo>
                <a:cubicBezTo>
                  <a:pt x="7530" y="16895"/>
                  <a:pt x="7779" y="16898"/>
                  <a:pt x="8037" y="16885"/>
                </a:cubicBezTo>
                <a:cubicBezTo>
                  <a:pt x="8277" y="16873"/>
                  <a:pt x="8647" y="16761"/>
                  <a:pt x="8811" y="16983"/>
                </a:cubicBezTo>
                <a:cubicBezTo>
                  <a:pt x="8914" y="17123"/>
                  <a:pt x="8867" y="17310"/>
                  <a:pt x="8871" y="17472"/>
                </a:cubicBezTo>
                <a:cubicBezTo>
                  <a:pt x="8877" y="17753"/>
                  <a:pt x="8916" y="18043"/>
                  <a:pt x="8822" y="18312"/>
                </a:cubicBezTo>
                <a:cubicBezTo>
                  <a:pt x="8796" y="18388"/>
                  <a:pt x="8773" y="18476"/>
                  <a:pt x="8747" y="18547"/>
                </a:cubicBezTo>
                <a:cubicBezTo>
                  <a:pt x="8720" y="18620"/>
                  <a:pt x="8740" y="18627"/>
                  <a:pt x="8683" y="18695"/>
                </a:cubicBezTo>
                <a:cubicBezTo>
                  <a:pt x="8578" y="18820"/>
                  <a:pt x="8493" y="18811"/>
                  <a:pt x="8351" y="18827"/>
                </a:cubicBezTo>
                <a:cubicBezTo>
                  <a:pt x="7934" y="18873"/>
                  <a:pt x="7534" y="18951"/>
                  <a:pt x="7113" y="18908"/>
                </a:cubicBezTo>
                <a:cubicBezTo>
                  <a:pt x="6837" y="18880"/>
                  <a:pt x="6628" y="18809"/>
                  <a:pt x="6372" y="18720"/>
                </a:cubicBezTo>
                <a:cubicBezTo>
                  <a:pt x="6090" y="18622"/>
                  <a:pt x="5771" y="18588"/>
                  <a:pt x="5474" y="18561"/>
                </a:cubicBezTo>
                <a:cubicBezTo>
                  <a:pt x="4923" y="18511"/>
                  <a:pt x="4371" y="18558"/>
                  <a:pt x="3819" y="18494"/>
                </a:cubicBezTo>
                <a:cubicBezTo>
                  <a:pt x="3506" y="18458"/>
                  <a:pt x="3141" y="18476"/>
                  <a:pt x="2840" y="18376"/>
                </a:cubicBezTo>
                <a:cubicBezTo>
                  <a:pt x="2744" y="18344"/>
                  <a:pt x="2436" y="18259"/>
                  <a:pt x="2381" y="18186"/>
                </a:cubicBezTo>
                <a:cubicBezTo>
                  <a:pt x="2318" y="18103"/>
                  <a:pt x="2386" y="17978"/>
                  <a:pt x="2412" y="17892"/>
                </a:cubicBezTo>
                <a:cubicBezTo>
                  <a:pt x="2489" y="17640"/>
                  <a:pt x="2627" y="17399"/>
                  <a:pt x="2745" y="17165"/>
                </a:cubicBezTo>
                <a:cubicBezTo>
                  <a:pt x="2769" y="17117"/>
                  <a:pt x="2789" y="17052"/>
                  <a:pt x="2826" y="17011"/>
                </a:cubicBezTo>
                <a:cubicBezTo>
                  <a:pt x="2893" y="16936"/>
                  <a:pt x="2959" y="16951"/>
                  <a:pt x="3016" y="16921"/>
                </a:cubicBezTo>
                <a:cubicBezTo>
                  <a:pt x="3060" y="16912"/>
                  <a:pt x="3077" y="16905"/>
                  <a:pt x="3097" y="16877"/>
                </a:cubicBezTo>
              </a:path>
            </a:pathLst>
          </a:custGeom>
          <a:noFill/>
          <a:ln cap="rnd"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6202440"/>
            <a:ext cx="289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Myriad Web"/>
              </a:rPr>
              <a:t>assume</a:t>
            </a:r>
            <a:r>
              <a:rPr b="0" lang="en-US" sz="2200" spc="-1" strike="noStrike">
                <a:solidFill>
                  <a:srgbClr val="000000"/>
                </a:solidFill>
                <a:latin typeface="Myriad Web"/>
              </a:rPr>
              <a:t> ¬Guard( x )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57150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after loo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8120" y="21636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Myriad Web"/>
              </a:rPr>
              <a:t>assert</a:t>
            </a:r>
            <a:r>
              <a:rPr b="0" lang="en-US" sz="2200" spc="-1" strike="noStrike">
                <a:solidFill>
                  <a:srgbClr val="000000"/>
                </a:solidFill>
                <a:latin typeface="Myriad Web"/>
              </a:rPr>
              <a:t> LoopInv( x )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3657600"/>
            <a:ext cx="2667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Myriad Web"/>
              </a:rPr>
              <a:t>havoc</a:t>
            </a:r>
            <a:r>
              <a:rPr b="0" lang="en-US" sz="2200" spc="-1" strike="noStrike">
                <a:solidFill>
                  <a:srgbClr val="000000"/>
                </a:solidFill>
                <a:latin typeface="Myriad Web"/>
              </a:rPr>
              <a:t> x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146400" y="3846600"/>
            <a:ext cx="1386000" cy="54000"/>
          </a:xfrm>
          <a:custGeom>
            <a:avLst/>
            <a:gdLst/>
            <a:ahLst/>
            <a:rect l="l" t="t" r="r" b="b"/>
            <a:pathLst>
              <a:path w="3848" h="150">
                <a:moveTo>
                  <a:pt x="8741" y="10683"/>
                </a:moveTo>
                <a:cubicBezTo>
                  <a:pt x="8872" y="10683"/>
                  <a:pt x="8993" y="10705"/>
                  <a:pt x="9114" y="10720"/>
                </a:cubicBezTo>
                <a:cubicBezTo>
                  <a:pt x="9751" y="10799"/>
                  <a:pt x="10421" y="10686"/>
                  <a:pt x="11056" y="10758"/>
                </a:cubicBezTo>
                <a:cubicBezTo>
                  <a:pt x="11213" y="10776"/>
                  <a:pt x="11351" y="10809"/>
                  <a:pt x="11505" y="10832"/>
                </a:cubicBezTo>
                <a:cubicBezTo>
                  <a:pt x="11847" y="10882"/>
                  <a:pt x="12243" y="10832"/>
                  <a:pt x="12588" y="10832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42200" y="3294000"/>
            <a:ext cx="1332000" cy="808200"/>
          </a:xfrm>
          <a:custGeom>
            <a:avLst/>
            <a:gdLst/>
            <a:ahLst/>
            <a:rect l="l" t="t" r="r" b="b"/>
            <a:pathLst>
              <a:path w="3699" h="2243">
                <a:moveTo>
                  <a:pt x="22860" y="9151"/>
                </a:moveTo>
                <a:cubicBezTo>
                  <a:pt x="22750" y="9218"/>
                  <a:pt x="22704" y="9277"/>
                  <a:pt x="22599" y="9376"/>
                </a:cubicBezTo>
                <a:cubicBezTo>
                  <a:pt x="22465" y="9502"/>
                  <a:pt x="22355" y="9682"/>
                  <a:pt x="22225" y="9786"/>
                </a:cubicBezTo>
                <a:cubicBezTo>
                  <a:pt x="22086" y="9898"/>
                  <a:pt x="21955" y="10003"/>
                  <a:pt x="21814" y="10123"/>
                </a:cubicBezTo>
                <a:cubicBezTo>
                  <a:pt x="21719" y="10204"/>
                  <a:pt x="21679" y="10341"/>
                  <a:pt x="21590" y="10421"/>
                </a:cubicBezTo>
                <a:cubicBezTo>
                  <a:pt x="21500" y="10502"/>
                  <a:pt x="21445" y="10549"/>
                  <a:pt x="21366" y="10646"/>
                </a:cubicBezTo>
                <a:cubicBezTo>
                  <a:pt x="21303" y="10724"/>
                  <a:pt x="21253" y="10766"/>
                  <a:pt x="21179" y="10832"/>
                </a:cubicBezTo>
                <a:cubicBezTo>
                  <a:pt x="21097" y="10905"/>
                  <a:pt x="21093" y="10892"/>
                  <a:pt x="21067" y="10982"/>
                </a:cubicBezTo>
                <a:cubicBezTo>
                  <a:pt x="20947" y="11021"/>
                  <a:pt x="21037" y="11016"/>
                  <a:pt x="20918" y="11056"/>
                </a:cubicBezTo>
                <a:cubicBezTo>
                  <a:pt x="20890" y="11154"/>
                  <a:pt x="20848" y="11167"/>
                  <a:pt x="20768" y="11243"/>
                </a:cubicBezTo>
                <a:cubicBezTo>
                  <a:pt x="20738" y="11271"/>
                  <a:pt x="20682" y="11332"/>
                  <a:pt x="20656" y="11355"/>
                </a:cubicBezTo>
                <a:cubicBezTo>
                  <a:pt x="20622" y="11386"/>
                  <a:pt x="20607" y="11388"/>
                  <a:pt x="20544" y="11393"/>
                </a:cubicBezTo>
                <a:cubicBezTo>
                  <a:pt x="20532" y="11393"/>
                  <a:pt x="20519" y="11393"/>
                  <a:pt x="20507" y="11393"/>
                </a:cubicBezTo>
              </a:path>
              <a:path w="3699" h="2243">
                <a:moveTo>
                  <a:pt x="20395" y="9488"/>
                </a:moveTo>
                <a:cubicBezTo>
                  <a:pt x="20424" y="9473"/>
                  <a:pt x="20455" y="9415"/>
                  <a:pt x="20544" y="9450"/>
                </a:cubicBezTo>
                <a:cubicBezTo>
                  <a:pt x="20780" y="9543"/>
                  <a:pt x="21019" y="9681"/>
                  <a:pt x="21254" y="9786"/>
                </a:cubicBezTo>
                <a:cubicBezTo>
                  <a:pt x="21620" y="9949"/>
                  <a:pt x="21986" y="10068"/>
                  <a:pt x="22374" y="10160"/>
                </a:cubicBezTo>
                <a:cubicBezTo>
                  <a:pt x="22518" y="10194"/>
                  <a:pt x="22692" y="10247"/>
                  <a:pt x="22823" y="10272"/>
                </a:cubicBezTo>
                <a:cubicBezTo>
                  <a:pt x="22934" y="10293"/>
                  <a:pt x="22971" y="10315"/>
                  <a:pt x="23084" y="10347"/>
                </a:cubicBezTo>
                <a:cubicBezTo>
                  <a:pt x="23190" y="10377"/>
                  <a:pt x="23269" y="10429"/>
                  <a:pt x="23383" y="10459"/>
                </a:cubicBezTo>
                <a:cubicBezTo>
                  <a:pt x="23487" y="10486"/>
                  <a:pt x="23512" y="10524"/>
                  <a:pt x="23607" y="10534"/>
                </a:cubicBezTo>
                <a:cubicBezTo>
                  <a:pt x="23738" y="10547"/>
                  <a:pt x="23869" y="10554"/>
                  <a:pt x="23981" y="10608"/>
                </a:cubicBezTo>
                <a:cubicBezTo>
                  <a:pt x="24026" y="10630"/>
                  <a:pt x="24074" y="10706"/>
                  <a:pt x="24093" y="10720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04920" y="4495680"/>
            <a:ext cx="2438280" cy="76212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loop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590920" y="3962520"/>
            <a:ext cx="1447560" cy="914400"/>
          </a:xfrm>
          <a:prstGeom prst="line">
            <a:avLst/>
          </a:prstGeom>
          <a:ln w="28440">
            <a:solidFill>
              <a:srgbClr val="fbdf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90920" y="5105520"/>
            <a:ext cx="2209680" cy="838080"/>
          </a:xfrm>
          <a:prstGeom prst="line">
            <a:avLst/>
          </a:prstGeom>
          <a:ln w="28440">
            <a:solidFill>
              <a:srgbClr val="fbdf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yriad Web"/>
              </a:rPr>
              <a:t>VC generation:  loops</a:t>
            </a: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229" name=""/>
          <p:cNvSpPr/>
          <p:nvPr/>
        </p:nvSpPr>
        <p:spPr>
          <a:xfrm>
            <a:off x="3898800" y="2693880"/>
            <a:ext cx="457200" cy="855720"/>
          </a:xfrm>
          <a:custGeom>
            <a:avLst/>
            <a:gdLst/>
            <a:ahLst/>
            <a:rect l="l" t="t" r="r" b="b"/>
            <a:pathLst>
              <a:path w="1267" h="2376">
                <a:moveTo>
                  <a:pt x="11505" y="7514"/>
                </a:moveTo>
                <a:cubicBezTo>
                  <a:pt x="11473" y="7573"/>
                  <a:pt x="11483" y="7581"/>
                  <a:pt x="11481" y="7648"/>
                </a:cubicBezTo>
                <a:cubicBezTo>
                  <a:pt x="11476" y="7862"/>
                  <a:pt x="11466" y="8075"/>
                  <a:pt x="11450" y="8288"/>
                </a:cubicBezTo>
                <a:cubicBezTo>
                  <a:pt x="11442" y="8401"/>
                  <a:pt x="11436" y="8514"/>
                  <a:pt x="11433" y="8627"/>
                </a:cubicBezTo>
                <a:cubicBezTo>
                  <a:pt x="11429" y="8793"/>
                  <a:pt x="11423" y="8959"/>
                  <a:pt x="11414" y="9125"/>
                </a:cubicBezTo>
                <a:cubicBezTo>
                  <a:pt x="11401" y="9360"/>
                  <a:pt x="11360" y="9590"/>
                  <a:pt x="11318" y="9821"/>
                </a:cubicBezTo>
                <a:cubicBezTo>
                  <a:pt x="11315" y="9833"/>
                  <a:pt x="11313" y="9846"/>
                  <a:pt x="11310" y="9858"/>
                </a:cubicBezTo>
                <a:cubicBezTo>
                  <a:pt x="11304" y="9794"/>
                  <a:pt x="11306" y="9735"/>
                  <a:pt x="11310" y="9671"/>
                </a:cubicBezTo>
              </a:path>
              <a:path w="1267" h="2376">
                <a:moveTo>
                  <a:pt x="10867" y="8873"/>
                </a:moveTo>
                <a:cubicBezTo>
                  <a:pt x="10820" y="8905"/>
                  <a:pt x="10855" y="8946"/>
                  <a:pt x="10891" y="9008"/>
                </a:cubicBezTo>
                <a:cubicBezTo>
                  <a:pt x="10938" y="9090"/>
                  <a:pt x="11006" y="9164"/>
                  <a:pt x="11069" y="9234"/>
                </a:cubicBezTo>
                <a:cubicBezTo>
                  <a:pt x="11157" y="9330"/>
                  <a:pt x="11261" y="9411"/>
                  <a:pt x="11346" y="9509"/>
                </a:cubicBezTo>
                <a:cubicBezTo>
                  <a:pt x="11393" y="9563"/>
                  <a:pt x="11441" y="9621"/>
                  <a:pt x="11484" y="9679"/>
                </a:cubicBezTo>
                <a:cubicBezTo>
                  <a:pt x="11518" y="9727"/>
                  <a:pt x="11525" y="9738"/>
                  <a:pt x="11547" y="9766"/>
                </a:cubicBezTo>
                <a:cubicBezTo>
                  <a:pt x="11613" y="9648"/>
                  <a:pt x="11661" y="9522"/>
                  <a:pt x="11735" y="9408"/>
                </a:cubicBezTo>
                <a:cubicBezTo>
                  <a:pt x="11791" y="9321"/>
                  <a:pt x="11843" y="9234"/>
                  <a:pt x="11894" y="9144"/>
                </a:cubicBezTo>
                <a:cubicBezTo>
                  <a:pt x="11924" y="9090"/>
                  <a:pt x="11952" y="9008"/>
                  <a:pt x="11992" y="8962"/>
                </a:cubicBezTo>
                <a:cubicBezTo>
                  <a:pt x="12040" y="8918"/>
                  <a:pt x="12054" y="8904"/>
                  <a:pt x="12098" y="8896"/>
                </a:cubicBezTo>
              </a:path>
            </a:pathLst>
          </a:custGeom>
          <a:noFill/>
          <a:ln cap="rnd"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140440" y="3152880"/>
            <a:ext cx="361800" cy="177840"/>
          </a:xfrm>
          <a:custGeom>
            <a:avLst/>
            <a:gdLst/>
            <a:ahLst/>
            <a:rect l="l" t="t" r="r" b="b"/>
            <a:pathLst>
              <a:path w="1009" h="494">
                <a:moveTo>
                  <a:pt x="14312" y="8795"/>
                </a:moveTo>
                <a:cubicBezTo>
                  <a:pt x="14300" y="8783"/>
                  <a:pt x="14289" y="8770"/>
                  <a:pt x="14277" y="8758"/>
                </a:cubicBezTo>
                <a:cubicBezTo>
                  <a:pt x="14287" y="8835"/>
                  <a:pt x="14310" y="8907"/>
                  <a:pt x="14328" y="8982"/>
                </a:cubicBezTo>
                <a:cubicBezTo>
                  <a:pt x="14340" y="9033"/>
                  <a:pt x="14354" y="9085"/>
                  <a:pt x="14373" y="9134"/>
                </a:cubicBezTo>
                <a:cubicBezTo>
                  <a:pt x="14392" y="9184"/>
                  <a:pt x="14409" y="9242"/>
                  <a:pt x="14465" y="9251"/>
                </a:cubicBezTo>
                <a:cubicBezTo>
                  <a:pt x="14511" y="9259"/>
                  <a:pt x="14563" y="9250"/>
                  <a:pt x="14607" y="9237"/>
                </a:cubicBezTo>
                <a:cubicBezTo>
                  <a:pt x="14705" y="9208"/>
                  <a:pt x="14792" y="9154"/>
                  <a:pt x="14882" y="9106"/>
                </a:cubicBezTo>
                <a:cubicBezTo>
                  <a:pt x="14978" y="9055"/>
                  <a:pt x="15257" y="8972"/>
                  <a:pt x="15284" y="8876"/>
                </a:cubicBezTo>
              </a:path>
            </a:pathLst>
          </a:custGeom>
          <a:noFill/>
          <a:ln cap="rnd"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90840" y="2768760"/>
            <a:ext cx="5786280" cy="3435120"/>
          </a:xfrm>
          <a:custGeom>
            <a:avLst/>
            <a:gdLst/>
            <a:ahLst/>
            <a:rect l="l" t="t" r="r" b="b"/>
            <a:pathLst>
              <a:path w="16074" h="9542">
                <a:moveTo>
                  <a:pt x="8062" y="9732"/>
                </a:moveTo>
                <a:cubicBezTo>
                  <a:pt x="8079" y="9786"/>
                  <a:pt x="8082" y="9763"/>
                  <a:pt x="8098" y="9818"/>
                </a:cubicBezTo>
                <a:cubicBezTo>
                  <a:pt x="8179" y="10100"/>
                  <a:pt x="8225" y="10362"/>
                  <a:pt x="8247" y="10653"/>
                </a:cubicBezTo>
                <a:cubicBezTo>
                  <a:pt x="8276" y="11041"/>
                  <a:pt x="8330" y="11441"/>
                  <a:pt x="8299" y="11830"/>
                </a:cubicBezTo>
                <a:cubicBezTo>
                  <a:pt x="8277" y="12104"/>
                  <a:pt x="8033" y="12932"/>
                  <a:pt x="8266" y="13136"/>
                </a:cubicBezTo>
                <a:cubicBezTo>
                  <a:pt x="8406" y="13258"/>
                  <a:pt x="8767" y="13212"/>
                  <a:pt x="8937" y="13220"/>
                </a:cubicBezTo>
                <a:cubicBezTo>
                  <a:pt x="9774" y="13258"/>
                  <a:pt x="10605" y="13243"/>
                  <a:pt x="11442" y="13243"/>
                </a:cubicBezTo>
                <a:cubicBezTo>
                  <a:pt x="12233" y="13243"/>
                  <a:pt x="13023" y="13253"/>
                  <a:pt x="13814" y="13253"/>
                </a:cubicBezTo>
                <a:cubicBezTo>
                  <a:pt x="14221" y="13253"/>
                  <a:pt x="14608" y="13314"/>
                  <a:pt x="15011" y="13343"/>
                </a:cubicBezTo>
                <a:cubicBezTo>
                  <a:pt x="15167" y="13354"/>
                  <a:pt x="15472" y="13423"/>
                  <a:pt x="15617" y="13340"/>
                </a:cubicBezTo>
                <a:cubicBezTo>
                  <a:pt x="15767" y="13254"/>
                  <a:pt x="15777" y="13112"/>
                  <a:pt x="15827" y="12961"/>
                </a:cubicBezTo>
                <a:cubicBezTo>
                  <a:pt x="15994" y="12458"/>
                  <a:pt x="16115" y="11834"/>
                  <a:pt x="16080" y="11305"/>
                </a:cubicBezTo>
                <a:cubicBezTo>
                  <a:pt x="16047" y="10794"/>
                  <a:pt x="16134" y="10242"/>
                  <a:pt x="16088" y="9748"/>
                </a:cubicBezTo>
                <a:cubicBezTo>
                  <a:pt x="16072" y="9579"/>
                  <a:pt x="16041" y="9536"/>
                  <a:pt x="15883" y="9463"/>
                </a:cubicBezTo>
                <a:cubicBezTo>
                  <a:pt x="15651" y="9355"/>
                  <a:pt x="15196" y="9483"/>
                  <a:pt x="14958" y="9503"/>
                </a:cubicBezTo>
                <a:cubicBezTo>
                  <a:pt x="14377" y="9551"/>
                  <a:pt x="13794" y="9565"/>
                  <a:pt x="13214" y="9614"/>
                </a:cubicBezTo>
                <a:cubicBezTo>
                  <a:pt x="12735" y="9654"/>
                  <a:pt x="12271" y="9678"/>
                  <a:pt x="11791" y="9685"/>
                </a:cubicBezTo>
                <a:cubicBezTo>
                  <a:pt x="11116" y="9695"/>
                  <a:pt x="10443" y="9714"/>
                  <a:pt x="9768" y="9730"/>
                </a:cubicBezTo>
                <a:cubicBezTo>
                  <a:pt x="9416" y="9738"/>
                  <a:pt x="9068" y="9664"/>
                  <a:pt x="8717" y="9660"/>
                </a:cubicBezTo>
                <a:cubicBezTo>
                  <a:pt x="8589" y="9658"/>
                  <a:pt x="8258" y="9676"/>
                  <a:pt x="8255" y="9737"/>
                </a:cubicBezTo>
                <a:cubicBezTo>
                  <a:pt x="8253" y="9773"/>
                  <a:pt x="8340" y="9705"/>
                  <a:pt x="8364" y="9732"/>
                </a:cubicBezTo>
              </a:path>
              <a:path w="16074" h="9542">
                <a:moveTo>
                  <a:pt x="10529" y="13260"/>
                </a:moveTo>
                <a:cubicBezTo>
                  <a:pt x="10520" y="13317"/>
                  <a:pt x="10509" y="13375"/>
                  <a:pt x="10504" y="13442"/>
                </a:cubicBezTo>
                <a:cubicBezTo>
                  <a:pt x="10491" y="13607"/>
                  <a:pt x="10454" y="13714"/>
                  <a:pt x="10333" y="13835"/>
                </a:cubicBezTo>
                <a:cubicBezTo>
                  <a:pt x="10066" y="14103"/>
                  <a:pt x="9678" y="14318"/>
                  <a:pt x="9382" y="14561"/>
                </a:cubicBezTo>
                <a:cubicBezTo>
                  <a:pt x="9159" y="14744"/>
                  <a:pt x="8917" y="14903"/>
                  <a:pt x="8692" y="15083"/>
                </a:cubicBezTo>
                <a:cubicBezTo>
                  <a:pt x="8585" y="15169"/>
                  <a:pt x="8482" y="15259"/>
                  <a:pt x="8372" y="15341"/>
                </a:cubicBezTo>
                <a:cubicBezTo>
                  <a:pt x="8153" y="15505"/>
                  <a:pt x="7904" y="15617"/>
                  <a:pt x="7699" y="15803"/>
                </a:cubicBezTo>
                <a:cubicBezTo>
                  <a:pt x="7538" y="15949"/>
                  <a:pt x="7377" y="16096"/>
                  <a:pt x="7217" y="16241"/>
                </a:cubicBezTo>
                <a:cubicBezTo>
                  <a:pt x="7177" y="16277"/>
                  <a:pt x="7145" y="16326"/>
                  <a:pt x="7106" y="16365"/>
                </a:cubicBezTo>
                <a:cubicBezTo>
                  <a:pt x="7046" y="16425"/>
                  <a:pt x="6980" y="16483"/>
                  <a:pt x="6918" y="16544"/>
                </a:cubicBezTo>
                <a:cubicBezTo>
                  <a:pt x="6921" y="16500"/>
                  <a:pt x="6924" y="16483"/>
                  <a:pt x="6943" y="16457"/>
                </a:cubicBezTo>
              </a:path>
              <a:path w="16074" h="9542">
                <a:moveTo>
                  <a:pt x="20793" y="17156"/>
                </a:moveTo>
                <a:cubicBezTo>
                  <a:pt x="20854" y="17167"/>
                  <a:pt x="20946" y="17224"/>
                  <a:pt x="21056" y="17229"/>
                </a:cubicBezTo>
                <a:cubicBezTo>
                  <a:pt x="21372" y="17244"/>
                  <a:pt x="21853" y="17180"/>
                  <a:pt x="22118" y="16989"/>
                </a:cubicBezTo>
                <a:cubicBezTo>
                  <a:pt x="22417" y="16773"/>
                  <a:pt x="22605" y="16289"/>
                  <a:pt x="22701" y="15953"/>
                </a:cubicBezTo>
                <a:cubicBezTo>
                  <a:pt x="22871" y="15360"/>
                  <a:pt x="22959" y="14776"/>
                  <a:pt x="22980" y="14161"/>
                </a:cubicBezTo>
                <a:cubicBezTo>
                  <a:pt x="23013" y="13193"/>
                  <a:pt x="22895" y="12234"/>
                  <a:pt x="22619" y="11305"/>
                </a:cubicBezTo>
                <a:cubicBezTo>
                  <a:pt x="22451" y="10741"/>
                  <a:pt x="22233" y="10296"/>
                  <a:pt x="21883" y="9825"/>
                </a:cubicBezTo>
                <a:cubicBezTo>
                  <a:pt x="21580" y="9416"/>
                  <a:pt x="21257" y="9104"/>
                  <a:pt x="20862" y="8786"/>
                </a:cubicBezTo>
                <a:cubicBezTo>
                  <a:pt x="20545" y="8531"/>
                  <a:pt x="20249" y="8329"/>
                  <a:pt x="19862" y="8191"/>
                </a:cubicBezTo>
                <a:cubicBezTo>
                  <a:pt x="19284" y="7985"/>
                  <a:pt x="18633" y="7759"/>
                  <a:pt x="18020" y="7701"/>
                </a:cubicBezTo>
                <a:cubicBezTo>
                  <a:pt x="17316" y="7634"/>
                  <a:pt x="16700" y="7921"/>
                  <a:pt x="16042" y="8120"/>
                </a:cubicBezTo>
                <a:cubicBezTo>
                  <a:pt x="15644" y="8240"/>
                  <a:pt x="15179" y="8382"/>
                  <a:pt x="14870" y="8675"/>
                </a:cubicBezTo>
                <a:cubicBezTo>
                  <a:pt x="14664" y="8871"/>
                  <a:pt x="14564" y="9140"/>
                  <a:pt x="14396" y="9354"/>
                </a:cubicBezTo>
                <a:cubicBezTo>
                  <a:pt x="14371" y="9386"/>
                  <a:pt x="14338" y="9436"/>
                  <a:pt x="14326" y="9450"/>
                </a:cubicBezTo>
                <a:cubicBezTo>
                  <a:pt x="14327" y="9431"/>
                  <a:pt x="14329" y="9412"/>
                  <a:pt x="14330" y="9393"/>
                </a:cubicBezTo>
              </a:path>
            </a:pathLst>
          </a:custGeom>
          <a:noFill/>
          <a:ln cap="rnd"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67080" y="5754600"/>
            <a:ext cx="272880" cy="249480"/>
          </a:xfrm>
          <a:custGeom>
            <a:avLst/>
            <a:gdLst/>
            <a:ahLst/>
            <a:rect l="l" t="t" r="r" b="b"/>
            <a:pathLst>
              <a:path w="755" h="692">
                <a:moveTo>
                  <a:pt x="6876" y="15984"/>
                </a:moveTo>
                <a:cubicBezTo>
                  <a:pt x="6855" y="16056"/>
                  <a:pt x="6855" y="16102"/>
                  <a:pt x="6857" y="16177"/>
                </a:cubicBezTo>
                <a:cubicBezTo>
                  <a:pt x="6860" y="16276"/>
                  <a:pt x="6872" y="16373"/>
                  <a:pt x="6879" y="16471"/>
                </a:cubicBezTo>
                <a:cubicBezTo>
                  <a:pt x="6884" y="16539"/>
                  <a:pt x="6887" y="16607"/>
                  <a:pt x="6890" y="16675"/>
                </a:cubicBezTo>
                <a:cubicBezTo>
                  <a:pt x="6957" y="16650"/>
                  <a:pt x="7016" y="16609"/>
                  <a:pt x="7080" y="16574"/>
                </a:cubicBezTo>
                <a:cubicBezTo>
                  <a:pt x="7191" y="16514"/>
                  <a:pt x="7304" y="16463"/>
                  <a:pt x="7411" y="16396"/>
                </a:cubicBezTo>
                <a:cubicBezTo>
                  <a:pt x="7471" y="16358"/>
                  <a:pt x="7519" y="16308"/>
                  <a:pt x="7575" y="16269"/>
                </a:cubicBezTo>
                <a:cubicBezTo>
                  <a:pt x="7586" y="16264"/>
                  <a:pt x="7597" y="16260"/>
                  <a:pt x="7608" y="16255"/>
                </a:cubicBezTo>
              </a:path>
            </a:pathLst>
          </a:custGeom>
          <a:noFill/>
          <a:ln cap="rnd"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35640" y="4765680"/>
            <a:ext cx="2925720" cy="1932120"/>
          </a:xfrm>
          <a:custGeom>
            <a:avLst/>
            <a:gdLst/>
            <a:ahLst/>
            <a:rect l="l" t="t" r="r" b="b"/>
            <a:pathLst>
              <a:path w="8126" h="5364">
                <a:moveTo>
                  <a:pt x="12717" y="13239"/>
                </a:moveTo>
                <a:cubicBezTo>
                  <a:pt x="12719" y="13291"/>
                  <a:pt x="12713" y="13328"/>
                  <a:pt x="12740" y="13391"/>
                </a:cubicBezTo>
                <a:cubicBezTo>
                  <a:pt x="12802" y="13536"/>
                  <a:pt x="12883" y="13675"/>
                  <a:pt x="12969" y="13807"/>
                </a:cubicBezTo>
                <a:cubicBezTo>
                  <a:pt x="13056" y="13941"/>
                  <a:pt x="13153" y="14062"/>
                  <a:pt x="13249" y="14189"/>
                </a:cubicBezTo>
                <a:cubicBezTo>
                  <a:pt x="13343" y="14314"/>
                  <a:pt x="13414" y="14441"/>
                  <a:pt x="13483" y="14579"/>
                </a:cubicBezTo>
                <a:cubicBezTo>
                  <a:pt x="13558" y="14728"/>
                  <a:pt x="13656" y="14868"/>
                  <a:pt x="13752" y="15003"/>
                </a:cubicBezTo>
                <a:cubicBezTo>
                  <a:pt x="13791" y="15058"/>
                  <a:pt x="13827" y="15111"/>
                  <a:pt x="13875" y="15159"/>
                </a:cubicBezTo>
                <a:cubicBezTo>
                  <a:pt x="13953" y="15238"/>
                  <a:pt x="13991" y="15267"/>
                  <a:pt x="13995" y="15203"/>
                </a:cubicBezTo>
              </a:path>
              <a:path w="8126" h="5364">
                <a:moveTo>
                  <a:pt x="13167" y="14954"/>
                </a:moveTo>
                <a:cubicBezTo>
                  <a:pt x="13236" y="14954"/>
                  <a:pt x="13276" y="14975"/>
                  <a:pt x="13340" y="15007"/>
                </a:cubicBezTo>
                <a:cubicBezTo>
                  <a:pt x="13410" y="15042"/>
                  <a:pt x="13481" y="15076"/>
                  <a:pt x="13553" y="15108"/>
                </a:cubicBezTo>
                <a:cubicBezTo>
                  <a:pt x="13616" y="15136"/>
                  <a:pt x="13677" y="15166"/>
                  <a:pt x="13740" y="15193"/>
                </a:cubicBezTo>
                <a:cubicBezTo>
                  <a:pt x="13807" y="15221"/>
                  <a:pt x="13887" y="15260"/>
                  <a:pt x="13962" y="15245"/>
                </a:cubicBezTo>
                <a:cubicBezTo>
                  <a:pt x="14028" y="15232"/>
                  <a:pt x="14056" y="15165"/>
                  <a:pt x="14076" y="15109"/>
                </a:cubicBezTo>
                <a:cubicBezTo>
                  <a:pt x="14095" y="15055"/>
                  <a:pt x="14104" y="14993"/>
                  <a:pt x="14116" y="14937"/>
                </a:cubicBezTo>
                <a:cubicBezTo>
                  <a:pt x="14131" y="14868"/>
                  <a:pt x="14147" y="14799"/>
                  <a:pt x="14165" y="14731"/>
                </a:cubicBezTo>
                <a:cubicBezTo>
                  <a:pt x="14183" y="14665"/>
                  <a:pt x="14203" y="14601"/>
                  <a:pt x="14221" y="14535"/>
                </a:cubicBezTo>
              </a:path>
              <a:path w="8126" h="5364">
                <a:moveTo>
                  <a:pt x="12818" y="15369"/>
                </a:moveTo>
                <a:cubicBezTo>
                  <a:pt x="12883" y="15358"/>
                  <a:pt x="12960" y="15340"/>
                  <a:pt x="13036" y="15330"/>
                </a:cubicBezTo>
                <a:cubicBezTo>
                  <a:pt x="13327" y="15294"/>
                  <a:pt x="13567" y="15338"/>
                  <a:pt x="13853" y="15341"/>
                </a:cubicBezTo>
                <a:cubicBezTo>
                  <a:pt x="14103" y="15343"/>
                  <a:pt x="14349" y="15291"/>
                  <a:pt x="14597" y="15263"/>
                </a:cubicBezTo>
                <a:cubicBezTo>
                  <a:pt x="14971" y="15221"/>
                  <a:pt x="15346" y="15239"/>
                  <a:pt x="15721" y="15192"/>
                </a:cubicBezTo>
                <a:cubicBezTo>
                  <a:pt x="16707" y="15068"/>
                  <a:pt x="17689" y="14938"/>
                  <a:pt x="18672" y="14789"/>
                </a:cubicBezTo>
                <a:cubicBezTo>
                  <a:pt x="19044" y="14733"/>
                  <a:pt x="20343" y="14392"/>
                  <a:pt x="20675" y="14647"/>
                </a:cubicBezTo>
                <a:cubicBezTo>
                  <a:pt x="20753" y="14707"/>
                  <a:pt x="20704" y="14810"/>
                  <a:pt x="20708" y="14896"/>
                </a:cubicBezTo>
                <a:cubicBezTo>
                  <a:pt x="20723" y="15190"/>
                  <a:pt x="20679" y="15496"/>
                  <a:pt x="20661" y="15789"/>
                </a:cubicBezTo>
                <a:cubicBezTo>
                  <a:pt x="20627" y="16327"/>
                  <a:pt x="20606" y="16884"/>
                  <a:pt x="20681" y="17419"/>
                </a:cubicBezTo>
                <a:cubicBezTo>
                  <a:pt x="20710" y="17625"/>
                  <a:pt x="20813" y="18123"/>
                  <a:pt x="20628" y="18231"/>
                </a:cubicBezTo>
                <a:cubicBezTo>
                  <a:pt x="20319" y="18411"/>
                  <a:pt x="19203" y="18326"/>
                  <a:pt x="18824" y="18359"/>
                </a:cubicBezTo>
                <a:cubicBezTo>
                  <a:pt x="18081" y="18424"/>
                  <a:pt x="17332" y="18424"/>
                  <a:pt x="16589" y="18497"/>
                </a:cubicBezTo>
                <a:cubicBezTo>
                  <a:pt x="16060" y="18549"/>
                  <a:pt x="15526" y="18596"/>
                  <a:pt x="14994" y="18600"/>
                </a:cubicBezTo>
                <a:cubicBezTo>
                  <a:pt x="14280" y="18605"/>
                  <a:pt x="13566" y="18605"/>
                  <a:pt x="12853" y="18580"/>
                </a:cubicBezTo>
                <a:cubicBezTo>
                  <a:pt x="12797" y="18578"/>
                  <a:pt x="12740" y="18574"/>
                  <a:pt x="12684" y="18572"/>
                </a:cubicBezTo>
                <a:cubicBezTo>
                  <a:pt x="12681" y="18265"/>
                  <a:pt x="12594" y="17949"/>
                  <a:pt x="12600" y="17649"/>
                </a:cubicBezTo>
                <a:cubicBezTo>
                  <a:pt x="12604" y="17463"/>
                  <a:pt x="12655" y="17280"/>
                  <a:pt x="12677" y="17094"/>
                </a:cubicBezTo>
                <a:cubicBezTo>
                  <a:pt x="12728" y="16655"/>
                  <a:pt x="12766" y="15610"/>
                  <a:pt x="13016" y="15242"/>
                </a:cubicBezTo>
                <a:cubicBezTo>
                  <a:pt x="13051" y="15190"/>
                  <a:pt x="13115" y="15227"/>
                  <a:pt x="13140" y="15193"/>
                </a:cubicBezTo>
              </a:path>
            </a:pathLst>
          </a:custGeom>
          <a:noFill/>
          <a:ln cap="rnd"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33640" y="1395360"/>
            <a:ext cx="2625840" cy="1417680"/>
          </a:xfrm>
          <a:custGeom>
            <a:avLst/>
            <a:gdLst/>
            <a:ahLst/>
            <a:rect l="l" t="t" r="r" b="b"/>
            <a:pathLst>
              <a:path w="7296" h="3937">
                <a:moveTo>
                  <a:pt x="8229" y="4334"/>
                </a:moveTo>
                <a:cubicBezTo>
                  <a:pt x="8244" y="4526"/>
                  <a:pt x="8270" y="4726"/>
                  <a:pt x="8288" y="4923"/>
                </a:cubicBezTo>
                <a:cubicBezTo>
                  <a:pt x="8308" y="5149"/>
                  <a:pt x="8311" y="5368"/>
                  <a:pt x="8299" y="5594"/>
                </a:cubicBezTo>
                <a:cubicBezTo>
                  <a:pt x="8281" y="5919"/>
                  <a:pt x="8245" y="6235"/>
                  <a:pt x="8211" y="6557"/>
                </a:cubicBezTo>
                <a:cubicBezTo>
                  <a:pt x="8180" y="6857"/>
                  <a:pt x="8149" y="7145"/>
                  <a:pt x="8160" y="7447"/>
                </a:cubicBezTo>
                <a:cubicBezTo>
                  <a:pt x="8164" y="7552"/>
                  <a:pt x="8143" y="7723"/>
                  <a:pt x="8239" y="7779"/>
                </a:cubicBezTo>
                <a:cubicBezTo>
                  <a:pt x="8449" y="7901"/>
                  <a:pt x="9104" y="7815"/>
                  <a:pt x="9337" y="7813"/>
                </a:cubicBezTo>
                <a:cubicBezTo>
                  <a:pt x="10365" y="7803"/>
                  <a:pt x="11394" y="7599"/>
                  <a:pt x="12423" y="7550"/>
                </a:cubicBezTo>
                <a:cubicBezTo>
                  <a:pt x="12986" y="7523"/>
                  <a:pt x="13552" y="7497"/>
                  <a:pt x="14115" y="7478"/>
                </a:cubicBezTo>
                <a:cubicBezTo>
                  <a:pt x="14531" y="7464"/>
                  <a:pt x="14950" y="7473"/>
                  <a:pt x="15366" y="7475"/>
                </a:cubicBezTo>
                <a:cubicBezTo>
                  <a:pt x="15360" y="7372"/>
                  <a:pt x="15346" y="7250"/>
                  <a:pt x="15344" y="7139"/>
                </a:cubicBezTo>
                <a:cubicBezTo>
                  <a:pt x="15337" y="6717"/>
                  <a:pt x="15343" y="6290"/>
                  <a:pt x="15346" y="5868"/>
                </a:cubicBezTo>
                <a:cubicBezTo>
                  <a:pt x="15350" y="5383"/>
                  <a:pt x="15353" y="4896"/>
                  <a:pt x="15407" y="4414"/>
                </a:cubicBezTo>
                <a:cubicBezTo>
                  <a:pt x="15428" y="4228"/>
                  <a:pt x="15513" y="4001"/>
                  <a:pt x="15301" y="3894"/>
                </a:cubicBezTo>
                <a:cubicBezTo>
                  <a:pt x="15125" y="3805"/>
                  <a:pt x="14771" y="3920"/>
                  <a:pt x="14586" y="3933"/>
                </a:cubicBezTo>
                <a:cubicBezTo>
                  <a:pt x="13189" y="4034"/>
                  <a:pt x="11808" y="4190"/>
                  <a:pt x="10406" y="4221"/>
                </a:cubicBezTo>
                <a:cubicBezTo>
                  <a:pt x="10038" y="4229"/>
                  <a:pt x="9682" y="4198"/>
                  <a:pt x="9316" y="4179"/>
                </a:cubicBezTo>
                <a:cubicBezTo>
                  <a:pt x="9053" y="4165"/>
                  <a:pt x="8782" y="4161"/>
                  <a:pt x="8520" y="4171"/>
                </a:cubicBezTo>
                <a:cubicBezTo>
                  <a:pt x="8415" y="4175"/>
                  <a:pt x="8394" y="4182"/>
                  <a:pt x="8341" y="4215"/>
                </a:cubicBezTo>
                <a:cubicBezTo>
                  <a:pt x="8355" y="4221"/>
                  <a:pt x="8370" y="4227"/>
                  <a:pt x="8384" y="4233"/>
                </a:cubicBezTo>
              </a:path>
            </a:pathLst>
          </a:custGeom>
          <a:noFill/>
          <a:ln cap="rnd"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371600" y="358128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loop he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00400" y="57150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loop b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124080" y="403848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Myriad Web"/>
              </a:rPr>
              <a:t>assume</a:t>
            </a:r>
            <a:r>
              <a:rPr b="0" lang="en-US" sz="2200" spc="-1" strike="noStrike">
                <a:solidFill>
                  <a:srgbClr val="000000"/>
                </a:solidFill>
                <a:latin typeface="Myriad Web"/>
              </a:rPr>
              <a:t> LoopInv( x 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8320" y="5410080"/>
            <a:ext cx="259056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Myriad Web"/>
              </a:rPr>
              <a:t>assume</a:t>
            </a:r>
            <a:r>
              <a:rPr b="0" lang="en-US" sz="2200" spc="-1" strike="noStrike">
                <a:solidFill>
                  <a:srgbClr val="000000"/>
                </a:solidFill>
                <a:latin typeface="Myriad Web"/>
              </a:rPr>
              <a:t> Guard( x ) 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Myriad Web"/>
              </a:rPr>
              <a:t>x := …</a:t>
            </a:r>
            <a:br>
              <a:rPr sz="2200"/>
            </a:br>
            <a:r>
              <a:rPr b="0" lang="en-US" sz="2200" spc="-1" strike="noStrike">
                <a:solidFill>
                  <a:srgbClr val="3333cc"/>
                </a:solidFill>
                <a:latin typeface="Myriad Web"/>
              </a:rPr>
              <a:t>assert</a:t>
            </a:r>
            <a:r>
              <a:rPr b="0" lang="en-US" sz="2200" spc="-1" strike="noStrike">
                <a:solidFill>
                  <a:srgbClr val="000000"/>
                </a:solidFill>
                <a:latin typeface="Myriad Web"/>
              </a:rPr>
              <a:t> LoopInv( x );</a:t>
            </a:r>
            <a:br>
              <a:rPr sz="2200"/>
            </a:br>
            <a:r>
              <a:rPr b="0" lang="en-US" sz="2200" spc="-1" strike="noStrike">
                <a:solidFill>
                  <a:srgbClr val="3333cc"/>
                </a:solidFill>
                <a:latin typeface="Myriad Web"/>
              </a:rPr>
              <a:t>assume</a:t>
            </a:r>
            <a:r>
              <a:rPr b="0" lang="en-US" sz="22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Myriad Web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Myriad Web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47800" y="6067440"/>
            <a:ext cx="2349360" cy="747720"/>
          </a:xfrm>
          <a:custGeom>
            <a:avLst/>
            <a:gdLst/>
            <a:ahLst/>
            <a:rect l="l" t="t" r="r" b="b"/>
            <a:pathLst>
              <a:path w="6527" h="2079">
                <a:moveTo>
                  <a:pt x="2956" y="16896"/>
                </a:moveTo>
                <a:cubicBezTo>
                  <a:pt x="3035" y="16920"/>
                  <a:pt x="3075" y="16939"/>
                  <a:pt x="3159" y="16949"/>
                </a:cubicBezTo>
                <a:cubicBezTo>
                  <a:pt x="3330" y="16970"/>
                  <a:pt x="3495" y="16990"/>
                  <a:pt x="3668" y="16989"/>
                </a:cubicBezTo>
                <a:cubicBezTo>
                  <a:pt x="4031" y="16987"/>
                  <a:pt x="4398" y="16957"/>
                  <a:pt x="4761" y="16992"/>
                </a:cubicBezTo>
                <a:cubicBezTo>
                  <a:pt x="5382" y="17051"/>
                  <a:pt x="5969" y="17122"/>
                  <a:pt x="6594" y="17049"/>
                </a:cubicBezTo>
                <a:cubicBezTo>
                  <a:pt x="6824" y="17022"/>
                  <a:pt x="7046" y="16976"/>
                  <a:pt x="7273" y="16938"/>
                </a:cubicBezTo>
                <a:cubicBezTo>
                  <a:pt x="7530" y="16895"/>
                  <a:pt x="7779" y="16898"/>
                  <a:pt x="8037" y="16885"/>
                </a:cubicBezTo>
                <a:cubicBezTo>
                  <a:pt x="8277" y="16873"/>
                  <a:pt x="8647" y="16761"/>
                  <a:pt x="8811" y="16983"/>
                </a:cubicBezTo>
                <a:cubicBezTo>
                  <a:pt x="8914" y="17123"/>
                  <a:pt x="8867" y="17310"/>
                  <a:pt x="8871" y="17472"/>
                </a:cubicBezTo>
                <a:cubicBezTo>
                  <a:pt x="8877" y="17753"/>
                  <a:pt x="8916" y="18043"/>
                  <a:pt x="8822" y="18312"/>
                </a:cubicBezTo>
                <a:cubicBezTo>
                  <a:pt x="8796" y="18388"/>
                  <a:pt x="8773" y="18476"/>
                  <a:pt x="8747" y="18547"/>
                </a:cubicBezTo>
                <a:cubicBezTo>
                  <a:pt x="8720" y="18620"/>
                  <a:pt x="8740" y="18627"/>
                  <a:pt x="8683" y="18695"/>
                </a:cubicBezTo>
                <a:cubicBezTo>
                  <a:pt x="8578" y="18820"/>
                  <a:pt x="8493" y="18811"/>
                  <a:pt x="8351" y="18827"/>
                </a:cubicBezTo>
                <a:cubicBezTo>
                  <a:pt x="7934" y="18873"/>
                  <a:pt x="7534" y="18951"/>
                  <a:pt x="7113" y="18908"/>
                </a:cubicBezTo>
                <a:cubicBezTo>
                  <a:pt x="6837" y="18880"/>
                  <a:pt x="6628" y="18809"/>
                  <a:pt x="6372" y="18720"/>
                </a:cubicBezTo>
                <a:cubicBezTo>
                  <a:pt x="6090" y="18622"/>
                  <a:pt x="5771" y="18588"/>
                  <a:pt x="5474" y="18561"/>
                </a:cubicBezTo>
                <a:cubicBezTo>
                  <a:pt x="4923" y="18511"/>
                  <a:pt x="4371" y="18558"/>
                  <a:pt x="3819" y="18494"/>
                </a:cubicBezTo>
                <a:cubicBezTo>
                  <a:pt x="3506" y="18458"/>
                  <a:pt x="3141" y="18476"/>
                  <a:pt x="2840" y="18376"/>
                </a:cubicBezTo>
                <a:cubicBezTo>
                  <a:pt x="2744" y="18344"/>
                  <a:pt x="2436" y="18259"/>
                  <a:pt x="2381" y="18186"/>
                </a:cubicBezTo>
                <a:cubicBezTo>
                  <a:pt x="2318" y="18103"/>
                  <a:pt x="2386" y="17978"/>
                  <a:pt x="2412" y="17892"/>
                </a:cubicBezTo>
                <a:cubicBezTo>
                  <a:pt x="2489" y="17640"/>
                  <a:pt x="2627" y="17399"/>
                  <a:pt x="2745" y="17165"/>
                </a:cubicBezTo>
                <a:cubicBezTo>
                  <a:pt x="2769" y="17117"/>
                  <a:pt x="2789" y="17052"/>
                  <a:pt x="2826" y="17011"/>
                </a:cubicBezTo>
                <a:cubicBezTo>
                  <a:pt x="2893" y="16936"/>
                  <a:pt x="2959" y="16951"/>
                  <a:pt x="3016" y="16921"/>
                </a:cubicBezTo>
                <a:cubicBezTo>
                  <a:pt x="3060" y="16912"/>
                  <a:pt x="3077" y="16905"/>
                  <a:pt x="3097" y="16877"/>
                </a:cubicBezTo>
              </a:path>
            </a:pathLst>
          </a:custGeom>
          <a:noFill/>
          <a:ln cap="rnd"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6202440"/>
            <a:ext cx="3048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Myriad Web"/>
              </a:rPr>
              <a:t>assume</a:t>
            </a:r>
            <a:r>
              <a:rPr b="0" lang="en-US" sz="2200" spc="-1" strike="noStrike">
                <a:solidFill>
                  <a:srgbClr val="000000"/>
                </a:solidFill>
                <a:latin typeface="Myriad Web"/>
              </a:rPr>
              <a:t> ¬Guard( x )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57150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after loo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21636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Myriad Web"/>
              </a:rPr>
              <a:t>assert</a:t>
            </a:r>
            <a:r>
              <a:rPr b="0" lang="en-US" sz="2200" spc="-1" strike="noStrike">
                <a:solidFill>
                  <a:srgbClr val="000000"/>
                </a:solidFill>
                <a:latin typeface="Myriad Web"/>
              </a:rPr>
              <a:t> LoopInv( x )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3657600"/>
            <a:ext cx="2667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Myriad Web"/>
              </a:rPr>
              <a:t>havoc</a:t>
            </a:r>
            <a:r>
              <a:rPr b="0" lang="en-US" sz="2200" spc="-1" strike="noStrike">
                <a:solidFill>
                  <a:srgbClr val="000000"/>
                </a:solidFill>
                <a:latin typeface="Myriad Web"/>
              </a:rPr>
              <a:t> x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342200" y="3294000"/>
            <a:ext cx="1332000" cy="808200"/>
          </a:xfrm>
          <a:custGeom>
            <a:avLst/>
            <a:gdLst/>
            <a:ahLst/>
            <a:rect l="l" t="t" r="r" b="b"/>
            <a:pathLst>
              <a:path w="3699" h="2243">
                <a:moveTo>
                  <a:pt x="22860" y="9151"/>
                </a:moveTo>
                <a:cubicBezTo>
                  <a:pt x="22750" y="9218"/>
                  <a:pt x="22704" y="9277"/>
                  <a:pt x="22599" y="9376"/>
                </a:cubicBezTo>
                <a:cubicBezTo>
                  <a:pt x="22465" y="9502"/>
                  <a:pt x="22355" y="9682"/>
                  <a:pt x="22225" y="9786"/>
                </a:cubicBezTo>
                <a:cubicBezTo>
                  <a:pt x="22086" y="9898"/>
                  <a:pt x="21955" y="10003"/>
                  <a:pt x="21814" y="10123"/>
                </a:cubicBezTo>
                <a:cubicBezTo>
                  <a:pt x="21719" y="10204"/>
                  <a:pt x="21679" y="10341"/>
                  <a:pt x="21590" y="10421"/>
                </a:cubicBezTo>
                <a:cubicBezTo>
                  <a:pt x="21500" y="10502"/>
                  <a:pt x="21445" y="10549"/>
                  <a:pt x="21366" y="10646"/>
                </a:cubicBezTo>
                <a:cubicBezTo>
                  <a:pt x="21303" y="10724"/>
                  <a:pt x="21253" y="10766"/>
                  <a:pt x="21179" y="10832"/>
                </a:cubicBezTo>
                <a:cubicBezTo>
                  <a:pt x="21097" y="10905"/>
                  <a:pt x="21093" y="10892"/>
                  <a:pt x="21067" y="10982"/>
                </a:cubicBezTo>
                <a:cubicBezTo>
                  <a:pt x="20947" y="11021"/>
                  <a:pt x="21037" y="11016"/>
                  <a:pt x="20918" y="11056"/>
                </a:cubicBezTo>
                <a:cubicBezTo>
                  <a:pt x="20890" y="11154"/>
                  <a:pt x="20848" y="11167"/>
                  <a:pt x="20768" y="11243"/>
                </a:cubicBezTo>
                <a:cubicBezTo>
                  <a:pt x="20738" y="11271"/>
                  <a:pt x="20682" y="11332"/>
                  <a:pt x="20656" y="11355"/>
                </a:cubicBezTo>
                <a:cubicBezTo>
                  <a:pt x="20622" y="11386"/>
                  <a:pt x="20607" y="11388"/>
                  <a:pt x="20544" y="11393"/>
                </a:cubicBezTo>
                <a:cubicBezTo>
                  <a:pt x="20532" y="11393"/>
                  <a:pt x="20519" y="11393"/>
                  <a:pt x="20507" y="11393"/>
                </a:cubicBezTo>
              </a:path>
              <a:path w="3699" h="2243">
                <a:moveTo>
                  <a:pt x="20395" y="9488"/>
                </a:moveTo>
                <a:cubicBezTo>
                  <a:pt x="20424" y="9473"/>
                  <a:pt x="20455" y="9415"/>
                  <a:pt x="20544" y="9450"/>
                </a:cubicBezTo>
                <a:cubicBezTo>
                  <a:pt x="20780" y="9543"/>
                  <a:pt x="21019" y="9681"/>
                  <a:pt x="21254" y="9786"/>
                </a:cubicBezTo>
                <a:cubicBezTo>
                  <a:pt x="21620" y="9949"/>
                  <a:pt x="21986" y="10068"/>
                  <a:pt x="22374" y="10160"/>
                </a:cubicBezTo>
                <a:cubicBezTo>
                  <a:pt x="22518" y="10194"/>
                  <a:pt x="22692" y="10247"/>
                  <a:pt x="22823" y="10272"/>
                </a:cubicBezTo>
                <a:cubicBezTo>
                  <a:pt x="22934" y="10293"/>
                  <a:pt x="22971" y="10315"/>
                  <a:pt x="23084" y="10347"/>
                </a:cubicBezTo>
                <a:cubicBezTo>
                  <a:pt x="23190" y="10377"/>
                  <a:pt x="23269" y="10429"/>
                  <a:pt x="23383" y="10459"/>
                </a:cubicBezTo>
                <a:cubicBezTo>
                  <a:pt x="23487" y="10486"/>
                  <a:pt x="23512" y="10524"/>
                  <a:pt x="23607" y="10534"/>
                </a:cubicBezTo>
                <a:cubicBezTo>
                  <a:pt x="23738" y="10547"/>
                  <a:pt x="23869" y="10554"/>
                  <a:pt x="23981" y="10608"/>
                </a:cubicBezTo>
                <a:cubicBezTo>
                  <a:pt x="24026" y="10630"/>
                  <a:pt x="24074" y="10706"/>
                  <a:pt x="24093" y="10720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92600" y="6467400"/>
            <a:ext cx="1722600" cy="27000"/>
          </a:xfrm>
          <a:custGeom>
            <a:avLst/>
            <a:gdLst/>
            <a:ahLst/>
            <a:rect l="l" t="t" r="r" b="b"/>
            <a:pathLst>
              <a:path w="4782" h="75">
                <a:moveTo>
                  <a:pt x="13036" y="17967"/>
                </a:moveTo>
                <a:cubicBezTo>
                  <a:pt x="13092" y="17974"/>
                  <a:pt x="13144" y="17997"/>
                  <a:pt x="13186" y="18004"/>
                </a:cubicBezTo>
                <a:cubicBezTo>
                  <a:pt x="13273" y="18018"/>
                  <a:pt x="13364" y="18027"/>
                  <a:pt x="13447" y="18041"/>
                </a:cubicBezTo>
                <a:cubicBezTo>
                  <a:pt x="13992" y="18131"/>
                  <a:pt x="14776" y="18093"/>
                  <a:pt x="15315" y="18004"/>
                </a:cubicBezTo>
                <a:cubicBezTo>
                  <a:pt x="16108" y="17873"/>
                  <a:pt x="17007" y="18004"/>
                  <a:pt x="17817" y="1800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yriad Web"/>
              </a:rPr>
              <a:t>Programming methodology</a:t>
            </a: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247" name=""/>
          <p:cNvSpPr/>
          <p:nvPr/>
        </p:nvSpPr>
        <p:spPr>
          <a:xfrm>
            <a:off x="1600200" y="2438280"/>
            <a:ext cx="69343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light-weight rules f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simpler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yriad Web"/>
              </a:rPr>
              <a:t>Object invariants</a:t>
            </a: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23520" y="1294920"/>
            <a:ext cx="7162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Myriad Web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C  {</a:t>
            </a: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Myriad Web"/>
              </a:rPr>
              <a:t>private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Myriad Web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x;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Myriad Web"/>
              </a:rPr>
              <a:t>private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Myriad Web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y;</a:t>
            </a: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Myriad Web"/>
              </a:rPr>
              <a:t>invariant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x &lt; y;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Myriad Web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Myriad Web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M(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Myriad Web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t := 100 / (y – x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x := x + 1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P(t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y := y + 1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250" name=""/>
          <p:cNvSpPr/>
          <p:nvPr/>
        </p:nvSpPr>
        <p:spPr>
          <a:xfrm>
            <a:off x="1860480" y="2668680"/>
            <a:ext cx="2444760" cy="74520"/>
          </a:xfrm>
          <a:custGeom>
            <a:avLst/>
            <a:gdLst/>
            <a:ahLst/>
            <a:rect l="l" t="t" r="r" b="b"/>
            <a:pathLst>
              <a:path w="5855" h="49">
                <a:moveTo>
                  <a:pt x="5273" y="7581"/>
                </a:moveTo>
                <a:cubicBezTo>
                  <a:pt x="5343" y="7581"/>
                  <a:pt x="5419" y="7570"/>
                  <a:pt x="5496" y="7567"/>
                </a:cubicBezTo>
                <a:cubicBezTo>
                  <a:pt x="5741" y="7557"/>
                  <a:pt x="5989" y="7562"/>
                  <a:pt x="6235" y="7562"/>
                </a:cubicBezTo>
                <a:cubicBezTo>
                  <a:pt x="6592" y="7562"/>
                  <a:pt x="6947" y="7586"/>
                  <a:pt x="7304" y="7580"/>
                </a:cubicBezTo>
                <a:cubicBezTo>
                  <a:pt x="7612" y="7575"/>
                  <a:pt x="7917" y="7603"/>
                  <a:pt x="8225" y="7603"/>
                </a:cubicBezTo>
                <a:cubicBezTo>
                  <a:pt x="8651" y="7603"/>
                  <a:pt x="9076" y="7566"/>
                  <a:pt x="9502" y="7576"/>
                </a:cubicBezTo>
                <a:cubicBezTo>
                  <a:pt x="9823" y="7584"/>
                  <a:pt x="10142" y="7545"/>
                  <a:pt x="10463" y="7567"/>
                </a:cubicBezTo>
                <a:cubicBezTo>
                  <a:pt x="10563" y="7574"/>
                  <a:pt x="10662" y="7583"/>
                  <a:pt x="10762" y="7590"/>
                </a:cubicBezTo>
                <a:cubicBezTo>
                  <a:pt x="10898" y="7599"/>
                  <a:pt x="11014" y="7592"/>
                  <a:pt x="11127" y="755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yriad Web"/>
              </a:rPr>
              <a:t>Spec# demo:  Chunker</a:t>
            </a: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85800" y="1011240"/>
            <a:ext cx="754380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yriad Web"/>
              </a:rPr>
              <a:t>When do object invariants hold?</a:t>
            </a: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23520" y="1294920"/>
            <a:ext cx="7162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Myriad Web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 C  {</a:t>
            </a:r>
            <a:endParaRPr b="0" lang="en-US" sz="24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Myriad Web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Myriad Web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 x;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Myriad Web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Myriad Web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 y;</a:t>
            </a:r>
            <a:endParaRPr b="0" lang="en-US" sz="24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Myriad Web"/>
              </a:rPr>
              <a:t>invariant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 x &lt; y;</a:t>
            </a:r>
            <a:endParaRPr b="0" lang="en-US" sz="24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Myriad Web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 C() {  x := 0;  y := 1;  }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Myriad Web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Myriad Web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 M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Myriad Web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 t := 100 / (y – x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x := x + 1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P(t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y := y + 1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1828800" y="5486400"/>
            <a:ext cx="4114800" cy="533520"/>
          </a:xfrm>
          <a:prstGeom prst="line">
            <a:avLst/>
          </a:prstGeom>
          <a:ln w="28440">
            <a:solidFill>
              <a:srgbClr val="fbdf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867280" y="2743200"/>
            <a:ext cx="2971800" cy="76212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riant assumed to hol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entry to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5791320"/>
            <a:ext cx="2971800" cy="68580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riant checked to hol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exit from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2209680" y="3429000"/>
            <a:ext cx="3810240" cy="380880"/>
          </a:xfrm>
          <a:prstGeom prst="line">
            <a:avLst/>
          </a:prstGeom>
          <a:ln w="28440">
            <a:solidFill>
              <a:srgbClr val="fbdf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5181120" y="1981080"/>
            <a:ext cx="762120" cy="1067040"/>
          </a:xfrm>
          <a:prstGeom prst="line">
            <a:avLst/>
          </a:prstGeom>
          <a:ln w="28440">
            <a:solidFill>
              <a:srgbClr val="fbdf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867280" y="1523880"/>
            <a:ext cx="2971800" cy="76212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riant checked to hol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end of 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867280" y="3581280"/>
            <a:ext cx="2971800" cy="762120"/>
          </a:xfrm>
          <a:prstGeom prst="rect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riant may b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orarily broke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5105520"/>
            <a:ext cx="2971800" cy="609480"/>
          </a:xfrm>
          <a:prstGeom prst="rect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riant is restore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809520" y="4114800"/>
            <a:ext cx="2210040" cy="38088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3809520" y="5181480"/>
            <a:ext cx="2210040" cy="7632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063600" y="4600440"/>
            <a:ext cx="2168280" cy="2160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419720"/>
            <a:ext cx="3200400" cy="6094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f P calls back into 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975200" y="1035000"/>
            <a:ext cx="2949480" cy="331920"/>
          </a:xfrm>
          <a:custGeom>
            <a:avLst/>
            <a:gdLst/>
            <a:ahLst/>
            <a:rect l="l" t="t" r="r" b="b"/>
            <a:pathLst>
              <a:path w="8193" h="920">
                <a:moveTo>
                  <a:pt x="13842" y="3018"/>
                </a:moveTo>
                <a:cubicBezTo>
                  <a:pt x="13808" y="3051"/>
                  <a:pt x="13878" y="3035"/>
                  <a:pt x="13913" y="3033"/>
                </a:cubicBezTo>
                <a:cubicBezTo>
                  <a:pt x="13995" y="3027"/>
                  <a:pt x="14075" y="3011"/>
                  <a:pt x="14155" y="2994"/>
                </a:cubicBezTo>
                <a:cubicBezTo>
                  <a:pt x="14326" y="2959"/>
                  <a:pt x="14495" y="2890"/>
                  <a:pt x="14669" y="2876"/>
                </a:cubicBezTo>
              </a:path>
              <a:path w="8193" h="920">
                <a:moveTo>
                  <a:pt x="14279" y="3025"/>
                </a:moveTo>
                <a:cubicBezTo>
                  <a:pt x="14287" y="3078"/>
                  <a:pt x="14269" y="3109"/>
                  <a:pt x="14262" y="3163"/>
                </a:cubicBezTo>
                <a:cubicBezTo>
                  <a:pt x="14241" y="3336"/>
                  <a:pt x="14281" y="3514"/>
                  <a:pt x="14361" y="3668"/>
                </a:cubicBezTo>
                <a:cubicBezTo>
                  <a:pt x="14379" y="3702"/>
                  <a:pt x="14395" y="3721"/>
                  <a:pt x="14422" y="3748"/>
                </a:cubicBezTo>
                <a:cubicBezTo>
                  <a:pt x="14443" y="3715"/>
                  <a:pt x="14446" y="3709"/>
                  <a:pt x="14453" y="3671"/>
                </a:cubicBezTo>
              </a:path>
              <a:path w="8193" h="920">
                <a:moveTo>
                  <a:pt x="14722" y="3520"/>
                </a:moveTo>
                <a:cubicBezTo>
                  <a:pt x="14761" y="3531"/>
                  <a:pt x="14792" y="3539"/>
                  <a:pt x="14832" y="3528"/>
                </a:cubicBezTo>
                <a:cubicBezTo>
                  <a:pt x="14884" y="3514"/>
                  <a:pt x="14945" y="3487"/>
                  <a:pt x="14983" y="3447"/>
                </a:cubicBezTo>
                <a:cubicBezTo>
                  <a:pt x="15029" y="3398"/>
                  <a:pt x="15051" y="3357"/>
                  <a:pt x="14988" y="3313"/>
                </a:cubicBezTo>
                <a:cubicBezTo>
                  <a:pt x="14950" y="3287"/>
                  <a:pt x="14897" y="3309"/>
                  <a:pt x="14861" y="3327"/>
                </a:cubicBezTo>
                <a:cubicBezTo>
                  <a:pt x="14813" y="3351"/>
                  <a:pt x="14769" y="3394"/>
                  <a:pt x="14746" y="3443"/>
                </a:cubicBezTo>
                <a:cubicBezTo>
                  <a:pt x="14716" y="3507"/>
                  <a:pt x="14700" y="3581"/>
                  <a:pt x="14719" y="3650"/>
                </a:cubicBezTo>
                <a:cubicBezTo>
                  <a:pt x="14731" y="3695"/>
                  <a:pt x="14761" y="3742"/>
                  <a:pt x="14802" y="3766"/>
                </a:cubicBezTo>
                <a:cubicBezTo>
                  <a:pt x="14848" y="3793"/>
                  <a:pt x="14917" y="3800"/>
                  <a:pt x="14969" y="3789"/>
                </a:cubicBezTo>
                <a:cubicBezTo>
                  <a:pt x="15027" y="3777"/>
                  <a:pt x="15072" y="3737"/>
                  <a:pt x="15115" y="3700"/>
                </a:cubicBezTo>
              </a:path>
              <a:path w="8193" h="920">
                <a:moveTo>
                  <a:pt x="15413" y="3373"/>
                </a:moveTo>
                <a:cubicBezTo>
                  <a:pt x="15379" y="3414"/>
                  <a:pt x="15344" y="3453"/>
                  <a:pt x="15316" y="3498"/>
                </a:cubicBezTo>
                <a:cubicBezTo>
                  <a:pt x="15286" y="3547"/>
                  <a:pt x="15254" y="3600"/>
                  <a:pt x="15231" y="3653"/>
                </a:cubicBezTo>
                <a:cubicBezTo>
                  <a:pt x="15219" y="3681"/>
                  <a:pt x="15211" y="3711"/>
                  <a:pt x="15198" y="3739"/>
                </a:cubicBezTo>
              </a:path>
              <a:path w="8193" h="920">
                <a:moveTo>
                  <a:pt x="15144" y="3389"/>
                </a:moveTo>
                <a:cubicBezTo>
                  <a:pt x="15160" y="3449"/>
                  <a:pt x="15197" y="3484"/>
                  <a:pt x="15240" y="3532"/>
                </a:cubicBezTo>
                <a:cubicBezTo>
                  <a:pt x="15284" y="3581"/>
                  <a:pt x="15325" y="3633"/>
                  <a:pt x="15370" y="3681"/>
                </a:cubicBezTo>
                <a:cubicBezTo>
                  <a:pt x="15401" y="3713"/>
                  <a:pt x="15416" y="3724"/>
                  <a:pt x="15456" y="3741"/>
                </a:cubicBezTo>
              </a:path>
              <a:path w="8193" h="920">
                <a:moveTo>
                  <a:pt x="15559" y="3197"/>
                </a:moveTo>
                <a:cubicBezTo>
                  <a:pt x="15561" y="3186"/>
                  <a:pt x="15563" y="3176"/>
                  <a:pt x="15565" y="3165"/>
                </a:cubicBezTo>
                <a:cubicBezTo>
                  <a:pt x="15575" y="3213"/>
                  <a:pt x="15574" y="3259"/>
                  <a:pt x="15576" y="3308"/>
                </a:cubicBezTo>
                <a:cubicBezTo>
                  <a:pt x="15580" y="3432"/>
                  <a:pt x="15571" y="3597"/>
                  <a:pt x="15641" y="3706"/>
                </a:cubicBezTo>
                <a:cubicBezTo>
                  <a:pt x="15669" y="3750"/>
                  <a:pt x="15717" y="3764"/>
                  <a:pt x="15767" y="3766"/>
                </a:cubicBezTo>
                <a:cubicBezTo>
                  <a:pt x="15802" y="3767"/>
                  <a:pt x="15873" y="3768"/>
                  <a:pt x="15886" y="3721"/>
                </a:cubicBezTo>
                <a:cubicBezTo>
                  <a:pt x="15884" y="3708"/>
                  <a:pt x="15881" y="3695"/>
                  <a:pt x="15879" y="3682"/>
                </a:cubicBezTo>
              </a:path>
              <a:path w="8193" h="920">
                <a:moveTo>
                  <a:pt x="15546" y="3591"/>
                </a:moveTo>
                <a:cubicBezTo>
                  <a:pt x="15561" y="3530"/>
                  <a:pt x="15601" y="3503"/>
                  <a:pt x="15667" y="3476"/>
                </a:cubicBezTo>
                <a:cubicBezTo>
                  <a:pt x="15730" y="3450"/>
                  <a:pt x="15801" y="3440"/>
                  <a:pt x="15867" y="3422"/>
                </a:cubicBezTo>
                <a:cubicBezTo>
                  <a:pt x="15906" y="3412"/>
                  <a:pt x="15944" y="3400"/>
                  <a:pt x="15982" y="3388"/>
                </a:cubicBezTo>
              </a:path>
              <a:path w="8193" h="920">
                <a:moveTo>
                  <a:pt x="15957" y="3053"/>
                </a:moveTo>
                <a:cubicBezTo>
                  <a:pt x="15968" y="3030"/>
                  <a:pt x="15971" y="3021"/>
                  <a:pt x="15975" y="3004"/>
                </a:cubicBezTo>
                <a:cubicBezTo>
                  <a:pt x="15964" y="3073"/>
                  <a:pt x="15969" y="3138"/>
                  <a:pt x="15980" y="3207"/>
                </a:cubicBezTo>
                <a:cubicBezTo>
                  <a:pt x="15995" y="3301"/>
                  <a:pt x="16023" y="3389"/>
                  <a:pt x="16051" y="3479"/>
                </a:cubicBezTo>
                <a:cubicBezTo>
                  <a:pt x="16073" y="3552"/>
                  <a:pt x="16103" y="3618"/>
                  <a:pt x="16136" y="3687"/>
                </a:cubicBezTo>
                <a:cubicBezTo>
                  <a:pt x="16150" y="3714"/>
                  <a:pt x="16153" y="3722"/>
                  <a:pt x="16163" y="3739"/>
                </a:cubicBezTo>
                <a:cubicBezTo>
                  <a:pt x="16160" y="3692"/>
                  <a:pt x="16149" y="3650"/>
                  <a:pt x="16137" y="3604"/>
                </a:cubicBezTo>
                <a:cubicBezTo>
                  <a:pt x="16125" y="3559"/>
                  <a:pt x="16113" y="3520"/>
                  <a:pt x="16129" y="3474"/>
                </a:cubicBezTo>
                <a:cubicBezTo>
                  <a:pt x="16153" y="3405"/>
                  <a:pt x="16230" y="3361"/>
                  <a:pt x="16302" y="3376"/>
                </a:cubicBezTo>
                <a:cubicBezTo>
                  <a:pt x="16347" y="3386"/>
                  <a:pt x="16378" y="3429"/>
                  <a:pt x="16392" y="3469"/>
                </a:cubicBezTo>
                <a:cubicBezTo>
                  <a:pt x="16422" y="3554"/>
                  <a:pt x="16406" y="3681"/>
                  <a:pt x="16338" y="3745"/>
                </a:cubicBezTo>
                <a:cubicBezTo>
                  <a:pt x="16305" y="3777"/>
                  <a:pt x="16255" y="3780"/>
                  <a:pt x="16213" y="3769"/>
                </a:cubicBezTo>
                <a:cubicBezTo>
                  <a:pt x="16168" y="3757"/>
                  <a:pt x="16114" y="3730"/>
                  <a:pt x="16147" y="3679"/>
                </a:cubicBezTo>
                <a:cubicBezTo>
                  <a:pt x="16173" y="3664"/>
                  <a:pt x="16185" y="3658"/>
                  <a:pt x="16205" y="3651"/>
                </a:cubicBezTo>
              </a:path>
              <a:path w="8193" h="920">
                <a:moveTo>
                  <a:pt x="16792" y="3474"/>
                </a:moveTo>
                <a:cubicBezTo>
                  <a:pt x="16782" y="3431"/>
                  <a:pt x="16764" y="3416"/>
                  <a:pt x="16715" y="3419"/>
                </a:cubicBezTo>
                <a:cubicBezTo>
                  <a:pt x="16659" y="3423"/>
                  <a:pt x="16598" y="3454"/>
                  <a:pt x="16566" y="3501"/>
                </a:cubicBezTo>
                <a:cubicBezTo>
                  <a:pt x="16538" y="3542"/>
                  <a:pt x="16539" y="3594"/>
                  <a:pt x="16564" y="3636"/>
                </a:cubicBezTo>
                <a:cubicBezTo>
                  <a:pt x="16594" y="3687"/>
                  <a:pt x="16658" y="3712"/>
                  <a:pt x="16714" y="3721"/>
                </a:cubicBezTo>
                <a:cubicBezTo>
                  <a:pt x="16774" y="3730"/>
                  <a:pt x="16844" y="3720"/>
                  <a:pt x="16895" y="3685"/>
                </a:cubicBezTo>
                <a:cubicBezTo>
                  <a:pt x="16938" y="3655"/>
                  <a:pt x="16946" y="3615"/>
                  <a:pt x="16923" y="3570"/>
                </a:cubicBezTo>
                <a:cubicBezTo>
                  <a:pt x="16900" y="3527"/>
                  <a:pt x="16855" y="3499"/>
                  <a:pt x="16813" y="3477"/>
                </a:cubicBezTo>
                <a:cubicBezTo>
                  <a:pt x="16786" y="3465"/>
                  <a:pt x="16778" y="3462"/>
                  <a:pt x="16761" y="3454"/>
                </a:cubicBezTo>
              </a:path>
              <a:path w="8193" h="920">
                <a:moveTo>
                  <a:pt x="17245" y="3464"/>
                </a:moveTo>
                <a:cubicBezTo>
                  <a:pt x="17268" y="3455"/>
                  <a:pt x="17276" y="3452"/>
                  <a:pt x="17289" y="3442"/>
                </a:cubicBezTo>
                <a:cubicBezTo>
                  <a:pt x="17243" y="3427"/>
                  <a:pt x="17210" y="3434"/>
                  <a:pt x="17164" y="3454"/>
                </a:cubicBezTo>
                <a:cubicBezTo>
                  <a:pt x="17101" y="3482"/>
                  <a:pt x="17027" y="3532"/>
                  <a:pt x="17020" y="3608"/>
                </a:cubicBezTo>
                <a:cubicBezTo>
                  <a:pt x="17014" y="3665"/>
                  <a:pt x="17058" y="3709"/>
                  <a:pt x="17106" y="3731"/>
                </a:cubicBezTo>
                <a:cubicBezTo>
                  <a:pt x="17169" y="3760"/>
                  <a:pt x="17250" y="3761"/>
                  <a:pt x="17316" y="3741"/>
                </a:cubicBezTo>
                <a:cubicBezTo>
                  <a:pt x="17371" y="3724"/>
                  <a:pt x="17428" y="3683"/>
                  <a:pt x="17431" y="3620"/>
                </a:cubicBezTo>
                <a:cubicBezTo>
                  <a:pt x="17434" y="3560"/>
                  <a:pt x="17379" y="3503"/>
                  <a:pt x="17336" y="3468"/>
                </a:cubicBezTo>
                <a:cubicBezTo>
                  <a:pt x="17294" y="3434"/>
                  <a:pt x="17244" y="3409"/>
                  <a:pt x="17196" y="3383"/>
                </a:cubicBezTo>
              </a:path>
              <a:path w="8193" h="920">
                <a:moveTo>
                  <a:pt x="17433" y="3209"/>
                </a:moveTo>
                <a:cubicBezTo>
                  <a:pt x="17435" y="3172"/>
                  <a:pt x="17435" y="3161"/>
                  <a:pt x="17440" y="3138"/>
                </a:cubicBezTo>
                <a:cubicBezTo>
                  <a:pt x="17477" y="3181"/>
                  <a:pt x="17484" y="3227"/>
                  <a:pt x="17493" y="3286"/>
                </a:cubicBezTo>
                <a:cubicBezTo>
                  <a:pt x="17505" y="3362"/>
                  <a:pt x="17506" y="3440"/>
                  <a:pt x="17520" y="3516"/>
                </a:cubicBezTo>
                <a:cubicBezTo>
                  <a:pt x="17530" y="3573"/>
                  <a:pt x="17545" y="3637"/>
                  <a:pt x="17569" y="3690"/>
                </a:cubicBezTo>
                <a:cubicBezTo>
                  <a:pt x="17603" y="3766"/>
                  <a:pt x="17629" y="3720"/>
                  <a:pt x="17652" y="3671"/>
                </a:cubicBezTo>
              </a:path>
              <a:path w="8193" h="920">
                <a:moveTo>
                  <a:pt x="17833" y="3375"/>
                </a:moveTo>
                <a:cubicBezTo>
                  <a:pt x="17843" y="3372"/>
                  <a:pt x="17852" y="3368"/>
                  <a:pt x="17862" y="3365"/>
                </a:cubicBezTo>
                <a:cubicBezTo>
                  <a:pt x="17812" y="3382"/>
                  <a:pt x="17779" y="3413"/>
                  <a:pt x="17737" y="3446"/>
                </a:cubicBezTo>
                <a:cubicBezTo>
                  <a:pt x="17692" y="3482"/>
                  <a:pt x="17646" y="3513"/>
                  <a:pt x="17605" y="3554"/>
                </a:cubicBezTo>
                <a:cubicBezTo>
                  <a:pt x="17568" y="3592"/>
                  <a:pt x="17517" y="3628"/>
                  <a:pt x="17591" y="3652"/>
                </a:cubicBezTo>
                <a:cubicBezTo>
                  <a:pt x="17632" y="3665"/>
                  <a:pt x="17691" y="3644"/>
                  <a:pt x="17734" y="3646"/>
                </a:cubicBezTo>
                <a:cubicBezTo>
                  <a:pt x="17774" y="3648"/>
                  <a:pt x="17816" y="3661"/>
                  <a:pt x="17854" y="3673"/>
                </a:cubicBezTo>
                <a:cubicBezTo>
                  <a:pt x="17901" y="3687"/>
                  <a:pt x="17943" y="3705"/>
                  <a:pt x="17992" y="3688"/>
                </a:cubicBezTo>
                <a:cubicBezTo>
                  <a:pt x="18024" y="3677"/>
                  <a:pt x="18042" y="3655"/>
                  <a:pt x="18063" y="3631"/>
                </a:cubicBezTo>
              </a:path>
              <a:path w="8193" h="920">
                <a:moveTo>
                  <a:pt x="18708" y="3455"/>
                </a:moveTo>
                <a:cubicBezTo>
                  <a:pt x="18666" y="3442"/>
                  <a:pt x="18625" y="3439"/>
                  <a:pt x="18580" y="3443"/>
                </a:cubicBezTo>
                <a:cubicBezTo>
                  <a:pt x="18530" y="3447"/>
                  <a:pt x="18476" y="3459"/>
                  <a:pt x="18435" y="3490"/>
                </a:cubicBezTo>
                <a:cubicBezTo>
                  <a:pt x="18384" y="3529"/>
                  <a:pt x="18383" y="3610"/>
                  <a:pt x="18425" y="3656"/>
                </a:cubicBezTo>
                <a:cubicBezTo>
                  <a:pt x="18458" y="3693"/>
                  <a:pt x="18518" y="3711"/>
                  <a:pt x="18567" y="3710"/>
                </a:cubicBezTo>
                <a:cubicBezTo>
                  <a:pt x="18634" y="3708"/>
                  <a:pt x="18704" y="3673"/>
                  <a:pt x="18738" y="3614"/>
                </a:cubicBezTo>
                <a:cubicBezTo>
                  <a:pt x="18762" y="3572"/>
                  <a:pt x="18762" y="3505"/>
                  <a:pt x="18729" y="3466"/>
                </a:cubicBezTo>
                <a:cubicBezTo>
                  <a:pt x="18720" y="3458"/>
                  <a:pt x="18711" y="3450"/>
                  <a:pt x="18702" y="3442"/>
                </a:cubicBezTo>
                <a:cubicBezTo>
                  <a:pt x="18678" y="3489"/>
                  <a:pt x="18689" y="3506"/>
                  <a:pt x="18721" y="3553"/>
                </a:cubicBezTo>
                <a:cubicBezTo>
                  <a:pt x="18753" y="3600"/>
                  <a:pt x="18795" y="3637"/>
                  <a:pt x="18839" y="3672"/>
                </a:cubicBezTo>
                <a:cubicBezTo>
                  <a:pt x="18871" y="3697"/>
                  <a:pt x="18882" y="3698"/>
                  <a:pt x="18921" y="3703"/>
                </a:cubicBezTo>
              </a:path>
              <a:path w="8193" h="920">
                <a:moveTo>
                  <a:pt x="18960" y="3464"/>
                </a:moveTo>
                <a:cubicBezTo>
                  <a:pt x="18980" y="3441"/>
                  <a:pt x="18987" y="3433"/>
                  <a:pt x="19008" y="3427"/>
                </a:cubicBezTo>
                <a:cubicBezTo>
                  <a:pt x="19014" y="3496"/>
                  <a:pt x="19018" y="3565"/>
                  <a:pt x="19044" y="3630"/>
                </a:cubicBezTo>
                <a:cubicBezTo>
                  <a:pt x="19060" y="3670"/>
                  <a:pt x="19090" y="3733"/>
                  <a:pt x="19134" y="3750"/>
                </a:cubicBezTo>
                <a:cubicBezTo>
                  <a:pt x="19143" y="3749"/>
                  <a:pt x="19153" y="3749"/>
                  <a:pt x="19162" y="3748"/>
                </a:cubicBezTo>
                <a:cubicBezTo>
                  <a:pt x="19188" y="3689"/>
                  <a:pt x="19188" y="3638"/>
                  <a:pt x="19194" y="3574"/>
                </a:cubicBezTo>
                <a:cubicBezTo>
                  <a:pt x="19198" y="3530"/>
                  <a:pt x="19202" y="3494"/>
                  <a:pt x="19219" y="3454"/>
                </a:cubicBezTo>
                <a:cubicBezTo>
                  <a:pt x="19267" y="3460"/>
                  <a:pt x="19296" y="3481"/>
                  <a:pt x="19333" y="3515"/>
                </a:cubicBezTo>
                <a:cubicBezTo>
                  <a:pt x="19391" y="3570"/>
                  <a:pt x="19435" y="3637"/>
                  <a:pt x="19479" y="3703"/>
                </a:cubicBezTo>
                <a:cubicBezTo>
                  <a:pt x="19495" y="3729"/>
                  <a:pt x="19501" y="3739"/>
                  <a:pt x="19517" y="3753"/>
                </a:cubicBezTo>
              </a:path>
              <a:path w="8193" h="920">
                <a:moveTo>
                  <a:pt x="19803" y="3458"/>
                </a:moveTo>
                <a:cubicBezTo>
                  <a:pt x="19837" y="3423"/>
                  <a:pt x="19775" y="3436"/>
                  <a:pt x="19740" y="3441"/>
                </a:cubicBezTo>
                <a:cubicBezTo>
                  <a:pt x="19685" y="3449"/>
                  <a:pt x="19641" y="3469"/>
                  <a:pt x="19595" y="3498"/>
                </a:cubicBezTo>
                <a:cubicBezTo>
                  <a:pt x="19613" y="3550"/>
                  <a:pt x="19652" y="3565"/>
                  <a:pt x="19704" y="3592"/>
                </a:cubicBezTo>
                <a:cubicBezTo>
                  <a:pt x="19761" y="3621"/>
                  <a:pt x="19826" y="3646"/>
                  <a:pt x="19879" y="3683"/>
                </a:cubicBezTo>
                <a:cubicBezTo>
                  <a:pt x="19907" y="3709"/>
                  <a:pt x="19917" y="3720"/>
                  <a:pt x="19922" y="3748"/>
                </a:cubicBezTo>
                <a:cubicBezTo>
                  <a:pt x="19870" y="3782"/>
                  <a:pt x="19830" y="3798"/>
                  <a:pt x="19765" y="3795"/>
                </a:cubicBezTo>
                <a:cubicBezTo>
                  <a:pt x="19720" y="3793"/>
                  <a:pt x="19665" y="3778"/>
                  <a:pt x="19687" y="3721"/>
                </a:cubicBezTo>
                <a:cubicBezTo>
                  <a:pt x="19701" y="3683"/>
                  <a:pt x="19747" y="3659"/>
                  <a:pt x="19777" y="3636"/>
                </a:cubicBezTo>
              </a:path>
              <a:path w="8193" h="920">
                <a:moveTo>
                  <a:pt x="20084" y="3445"/>
                </a:moveTo>
                <a:cubicBezTo>
                  <a:pt x="20089" y="3494"/>
                  <a:pt x="20102" y="3534"/>
                  <a:pt x="20130" y="3576"/>
                </a:cubicBezTo>
                <a:cubicBezTo>
                  <a:pt x="20161" y="3623"/>
                  <a:pt x="20201" y="3664"/>
                  <a:pt x="20243" y="3701"/>
                </a:cubicBezTo>
                <a:cubicBezTo>
                  <a:pt x="20273" y="3727"/>
                  <a:pt x="20286" y="3733"/>
                  <a:pt x="20323" y="3743"/>
                </a:cubicBezTo>
                <a:cubicBezTo>
                  <a:pt x="20341" y="3706"/>
                  <a:pt x="20344" y="3683"/>
                  <a:pt x="20344" y="3641"/>
                </a:cubicBezTo>
                <a:cubicBezTo>
                  <a:pt x="20344" y="3613"/>
                  <a:pt x="20344" y="3584"/>
                  <a:pt x="20344" y="3556"/>
                </a:cubicBezTo>
                <a:cubicBezTo>
                  <a:pt x="20387" y="3575"/>
                  <a:pt x="20422" y="3604"/>
                  <a:pt x="20462" y="3630"/>
                </a:cubicBezTo>
                <a:cubicBezTo>
                  <a:pt x="20493" y="3650"/>
                  <a:pt x="20553" y="3694"/>
                  <a:pt x="20590" y="3698"/>
                </a:cubicBezTo>
                <a:cubicBezTo>
                  <a:pt x="20597" y="3695"/>
                  <a:pt x="20605" y="3693"/>
                  <a:pt x="20612" y="3690"/>
                </a:cubicBezTo>
                <a:cubicBezTo>
                  <a:pt x="20619" y="3640"/>
                  <a:pt x="20614" y="3599"/>
                  <a:pt x="20610" y="3548"/>
                </a:cubicBezTo>
                <a:cubicBezTo>
                  <a:pt x="20606" y="3503"/>
                  <a:pt x="20602" y="3454"/>
                  <a:pt x="20606" y="3409"/>
                </a:cubicBezTo>
                <a:cubicBezTo>
                  <a:pt x="20607" y="3401"/>
                  <a:pt x="20609" y="3394"/>
                  <a:pt x="20610" y="3386"/>
                </a:cubicBezTo>
              </a:path>
              <a:path w="8193" h="920">
                <a:moveTo>
                  <a:pt x="20834" y="3571"/>
                </a:moveTo>
                <a:cubicBezTo>
                  <a:pt x="20882" y="3564"/>
                  <a:pt x="20924" y="3565"/>
                  <a:pt x="20970" y="3544"/>
                </a:cubicBezTo>
                <a:cubicBezTo>
                  <a:pt x="21025" y="3519"/>
                  <a:pt x="21057" y="3477"/>
                  <a:pt x="21000" y="3433"/>
                </a:cubicBezTo>
                <a:cubicBezTo>
                  <a:pt x="20969" y="3409"/>
                  <a:pt x="20909" y="3421"/>
                  <a:pt x="20877" y="3433"/>
                </a:cubicBezTo>
                <a:cubicBezTo>
                  <a:pt x="20828" y="3452"/>
                  <a:pt x="20794" y="3490"/>
                  <a:pt x="20786" y="3543"/>
                </a:cubicBezTo>
                <a:cubicBezTo>
                  <a:pt x="20777" y="3598"/>
                  <a:pt x="20801" y="3652"/>
                  <a:pt x="20835" y="3693"/>
                </a:cubicBezTo>
                <a:cubicBezTo>
                  <a:pt x="20874" y="3741"/>
                  <a:pt x="20944" y="3786"/>
                  <a:pt x="21010" y="3780"/>
                </a:cubicBezTo>
                <a:cubicBezTo>
                  <a:pt x="21063" y="3775"/>
                  <a:pt x="21114" y="3741"/>
                  <a:pt x="21149" y="3704"/>
                </a:cubicBezTo>
                <a:cubicBezTo>
                  <a:pt x="21158" y="3693"/>
                  <a:pt x="21166" y="3683"/>
                  <a:pt x="21175" y="3672"/>
                </a:cubicBezTo>
              </a:path>
              <a:path w="8193" h="920">
                <a:moveTo>
                  <a:pt x="21242" y="3488"/>
                </a:moveTo>
                <a:cubicBezTo>
                  <a:pt x="21287" y="3495"/>
                  <a:pt x="21282" y="3529"/>
                  <a:pt x="21295" y="3576"/>
                </a:cubicBezTo>
                <a:cubicBezTo>
                  <a:pt x="21304" y="3609"/>
                  <a:pt x="21309" y="3646"/>
                  <a:pt x="21321" y="3678"/>
                </a:cubicBezTo>
                <a:cubicBezTo>
                  <a:pt x="21325" y="3686"/>
                  <a:pt x="21329" y="3695"/>
                  <a:pt x="21333" y="3703"/>
                </a:cubicBezTo>
                <a:cubicBezTo>
                  <a:pt x="21344" y="3662"/>
                  <a:pt x="21340" y="3625"/>
                  <a:pt x="21340" y="3582"/>
                </a:cubicBezTo>
                <a:cubicBezTo>
                  <a:pt x="21339" y="3520"/>
                  <a:pt x="21336" y="3457"/>
                  <a:pt x="21367" y="3400"/>
                </a:cubicBezTo>
                <a:cubicBezTo>
                  <a:pt x="21391" y="3356"/>
                  <a:pt x="21422" y="3326"/>
                  <a:pt x="21473" y="3317"/>
                </a:cubicBezTo>
                <a:cubicBezTo>
                  <a:pt x="21532" y="3307"/>
                  <a:pt x="21566" y="3326"/>
                  <a:pt x="21609" y="3360"/>
                </a:cubicBezTo>
              </a:path>
              <a:path w="8193" h="920">
                <a:moveTo>
                  <a:pt x="21938" y="3444"/>
                </a:moveTo>
                <a:cubicBezTo>
                  <a:pt x="21876" y="3460"/>
                  <a:pt x="21886" y="3477"/>
                  <a:pt x="21922" y="3445"/>
                </a:cubicBezTo>
              </a:path>
              <a:path w="8193" h="920">
                <a:moveTo>
                  <a:pt x="21954" y="3663"/>
                </a:moveTo>
                <a:cubicBezTo>
                  <a:pt x="21970" y="3681"/>
                  <a:pt x="21934" y="3722"/>
                  <a:pt x="21985" y="3718"/>
                </a:cubicBezTo>
                <a:cubicBezTo>
                  <a:pt x="22049" y="3712"/>
                  <a:pt x="21982" y="3690"/>
                  <a:pt x="21967" y="3688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yriad Web"/>
              </a:rPr>
              <a:t>Object states</a:t>
            </a: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Mutable</a:t>
            </a: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Object invariant may not hold</a:t>
            </a: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Field updates allowed</a:t>
            </a: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Valid</a:t>
            </a: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Object invariant holds</a:t>
            </a: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Field updates not allowed</a:t>
            </a: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268" name=""/>
          <p:cNvSpPr/>
          <p:nvPr/>
        </p:nvSpPr>
        <p:spPr>
          <a:xfrm>
            <a:off x="847800" y="1747800"/>
            <a:ext cx="1568520" cy="228600"/>
          </a:xfrm>
          <a:custGeom>
            <a:avLst/>
            <a:gdLst/>
            <a:ahLst/>
            <a:rect l="l" t="t" r="r" b="b"/>
            <a:pathLst>
              <a:path w="4357" h="636">
                <a:moveTo>
                  <a:pt x="2371" y="5167"/>
                </a:moveTo>
                <a:cubicBezTo>
                  <a:pt x="2429" y="5147"/>
                  <a:pt x="2431" y="5147"/>
                  <a:pt x="2492" y="5143"/>
                </a:cubicBezTo>
                <a:cubicBezTo>
                  <a:pt x="2821" y="5124"/>
                  <a:pt x="3151" y="5110"/>
                  <a:pt x="3480" y="5093"/>
                </a:cubicBezTo>
                <a:cubicBezTo>
                  <a:pt x="3698" y="5082"/>
                  <a:pt x="3917" y="5073"/>
                  <a:pt x="4135" y="5058"/>
                </a:cubicBezTo>
                <a:cubicBezTo>
                  <a:pt x="4854" y="5009"/>
                  <a:pt x="5571" y="4875"/>
                  <a:pt x="6291" y="4853"/>
                </a:cubicBezTo>
                <a:cubicBezTo>
                  <a:pt x="6439" y="4848"/>
                  <a:pt x="6569" y="4861"/>
                  <a:pt x="6710" y="4900"/>
                </a:cubicBezTo>
                <a:cubicBezTo>
                  <a:pt x="6641" y="4904"/>
                  <a:pt x="6574" y="4908"/>
                  <a:pt x="6504" y="4909"/>
                </a:cubicBezTo>
                <a:cubicBezTo>
                  <a:pt x="5600" y="4922"/>
                  <a:pt x="4670" y="5026"/>
                  <a:pt x="3780" y="5177"/>
                </a:cubicBezTo>
                <a:cubicBezTo>
                  <a:pt x="3448" y="5234"/>
                  <a:pt x="3128" y="5314"/>
                  <a:pt x="2802" y="5388"/>
                </a:cubicBezTo>
                <a:cubicBezTo>
                  <a:pt x="2697" y="5412"/>
                  <a:pt x="2591" y="5436"/>
                  <a:pt x="2486" y="5461"/>
                </a:cubicBezTo>
                <a:cubicBezTo>
                  <a:pt x="2604" y="5481"/>
                  <a:pt x="2717" y="5488"/>
                  <a:pt x="2845" y="5485"/>
                </a:cubicBezTo>
                <a:cubicBezTo>
                  <a:pt x="3975" y="5461"/>
                  <a:pt x="5106" y="5283"/>
                  <a:pt x="6235" y="5297"/>
                </a:cubicBezTo>
                <a:cubicBezTo>
                  <a:pt x="6340" y="5298"/>
                  <a:pt x="6444" y="5307"/>
                  <a:pt x="6549" y="5312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84160" y="3371760"/>
            <a:ext cx="971640" cy="203400"/>
          </a:xfrm>
          <a:custGeom>
            <a:avLst/>
            <a:gdLst/>
            <a:ahLst/>
            <a:rect l="l" t="t" r="r" b="b"/>
            <a:pathLst>
              <a:path w="2699" h="566">
                <a:moveTo>
                  <a:pt x="2503" y="9443"/>
                </a:moveTo>
                <a:cubicBezTo>
                  <a:pt x="2371" y="9391"/>
                  <a:pt x="2558" y="9485"/>
                  <a:pt x="2625" y="9490"/>
                </a:cubicBezTo>
                <a:cubicBezTo>
                  <a:pt x="2976" y="9518"/>
                  <a:pt x="3346" y="9447"/>
                  <a:pt x="3695" y="9421"/>
                </a:cubicBezTo>
                <a:cubicBezTo>
                  <a:pt x="3944" y="9402"/>
                  <a:pt x="4193" y="9387"/>
                  <a:pt x="4443" y="9378"/>
                </a:cubicBezTo>
                <a:cubicBezTo>
                  <a:pt x="4624" y="9372"/>
                  <a:pt x="4806" y="9368"/>
                  <a:pt x="4987" y="9365"/>
                </a:cubicBezTo>
                <a:cubicBezTo>
                  <a:pt x="5060" y="9365"/>
                  <a:pt x="5080" y="9365"/>
                  <a:pt x="5126" y="9365"/>
                </a:cubicBezTo>
                <a:cubicBezTo>
                  <a:pt x="5010" y="9385"/>
                  <a:pt x="4894" y="9394"/>
                  <a:pt x="4777" y="9408"/>
                </a:cubicBezTo>
                <a:cubicBezTo>
                  <a:pt x="4297" y="9467"/>
                  <a:pt x="3816" y="9533"/>
                  <a:pt x="3344" y="9640"/>
                </a:cubicBezTo>
                <a:cubicBezTo>
                  <a:pt x="3124" y="9690"/>
                  <a:pt x="2800" y="9736"/>
                  <a:pt x="2611" y="9874"/>
                </a:cubicBezTo>
                <a:cubicBezTo>
                  <a:pt x="2603" y="9886"/>
                  <a:pt x="2594" y="9899"/>
                  <a:pt x="2586" y="9911"/>
                </a:cubicBezTo>
                <a:cubicBezTo>
                  <a:pt x="2670" y="9927"/>
                  <a:pt x="2735" y="9931"/>
                  <a:pt x="2822" y="9926"/>
                </a:cubicBezTo>
                <a:cubicBezTo>
                  <a:pt x="3424" y="9893"/>
                  <a:pt x="4027" y="9811"/>
                  <a:pt x="4631" y="9867"/>
                </a:cubicBezTo>
                <a:cubicBezTo>
                  <a:pt x="4749" y="9878"/>
                  <a:pt x="4870" y="9907"/>
                  <a:pt x="4989" y="9907"/>
                </a:cubicBezTo>
                <a:cubicBezTo>
                  <a:pt x="5054" y="9907"/>
                  <a:pt x="5095" y="9885"/>
                  <a:pt x="5154" y="9861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 flipH="1" flipV="1">
            <a:off x="2209320" y="5410080"/>
            <a:ext cx="3429000" cy="76320"/>
          </a:xfrm>
          <a:prstGeom prst="line">
            <a:avLst/>
          </a:prstGeom>
          <a:ln w="28440">
            <a:solidFill>
              <a:srgbClr val="fbdf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yriad Web"/>
              </a:rPr>
              <a:t>Valid vs. mutable objects</a:t>
            </a: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Myriad Web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 C {</a:t>
            </a:r>
            <a:endParaRPr b="0" lang="en-US" sz="24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Myriad Web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Myriad Web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 x;</a:t>
            </a:r>
            <a:endParaRPr b="0" lang="en-US" sz="24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Myriad Web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Myriad Web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 y;</a:t>
            </a:r>
            <a:endParaRPr b="0" lang="en-US" sz="24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Myriad Web"/>
              </a:rPr>
              <a:t>invariant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 x &lt; y;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Myriad Web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Myriad Web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 M()</a:t>
            </a:r>
            <a:endParaRPr b="0" lang="en-US" sz="24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Myriad Web"/>
              </a:rPr>
              <a:t>requires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Myriad Web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.inv = Valid;</a:t>
            </a:r>
            <a:endParaRPr b="0" lang="en-US" sz="24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Myriad Web"/>
              </a:rPr>
              <a:t>expose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Myriad Web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x := x + 1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P(…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y := y + 1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273" name=""/>
          <p:cNvSpPr/>
          <p:nvPr/>
        </p:nvSpPr>
        <p:spPr>
          <a:xfrm>
            <a:off x="5562720" y="1523880"/>
            <a:ext cx="2971800" cy="121932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 explici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invariant 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ithout reveal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the invariant 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4267080" y="2590920"/>
            <a:ext cx="1524240" cy="761760"/>
          </a:xfrm>
          <a:prstGeom prst="line">
            <a:avLst/>
          </a:prstGeom>
          <a:ln w="28440">
            <a:solidFill>
              <a:srgbClr val="fbdf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562720" y="3657600"/>
            <a:ext cx="2971800" cy="76212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inv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Valid to Mu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4190760" y="4114800"/>
            <a:ext cx="1523880" cy="152280"/>
          </a:xfrm>
          <a:prstGeom prst="line">
            <a:avLst/>
          </a:prstGeom>
          <a:ln w="28440">
            <a:solidFill>
              <a:srgbClr val="fbdf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562720" y="5334120"/>
            <a:ext cx="2971800" cy="91440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invarian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, change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inv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Mutable to 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62720" y="4495680"/>
            <a:ext cx="2971800" cy="76212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 updates allow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on Mutabl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3962520" y="4572000"/>
            <a:ext cx="1676160" cy="76320"/>
          </a:xfrm>
          <a:prstGeom prst="line">
            <a:avLst/>
          </a:prstGeom>
          <a:ln w="28440">
            <a:solidFill>
              <a:srgbClr val="fbdf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962520" y="4648320"/>
            <a:ext cx="1676160" cy="457200"/>
          </a:xfrm>
          <a:prstGeom prst="line">
            <a:avLst/>
          </a:prstGeom>
          <a:ln w="28440">
            <a:solidFill>
              <a:srgbClr val="fbdf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186000" y="3505320"/>
            <a:ext cx="2376720" cy="74520"/>
          </a:xfrm>
          <a:custGeom>
            <a:avLst/>
            <a:gdLst/>
            <a:ahLst/>
            <a:rect l="l" t="t" r="r" b="b"/>
            <a:pathLst>
              <a:path w="2687" h="82">
                <a:moveTo>
                  <a:pt x="9555" y="9887"/>
                </a:moveTo>
                <a:cubicBezTo>
                  <a:pt x="9604" y="9893"/>
                  <a:pt x="9654" y="9896"/>
                  <a:pt x="9705" y="9902"/>
                </a:cubicBezTo>
                <a:cubicBezTo>
                  <a:pt x="9775" y="9911"/>
                  <a:pt x="9844" y="9921"/>
                  <a:pt x="9915" y="9924"/>
                </a:cubicBezTo>
                <a:cubicBezTo>
                  <a:pt x="10154" y="9932"/>
                  <a:pt x="10394" y="9928"/>
                  <a:pt x="10633" y="9931"/>
                </a:cubicBezTo>
                <a:cubicBezTo>
                  <a:pt x="10814" y="9934"/>
                  <a:pt x="10994" y="9930"/>
                  <a:pt x="11174" y="9922"/>
                </a:cubicBezTo>
                <a:cubicBezTo>
                  <a:pt x="11485" y="9908"/>
                  <a:pt x="11795" y="9856"/>
                  <a:pt x="12106" y="9855"/>
                </a:cubicBezTo>
                <a:cubicBezTo>
                  <a:pt x="12150" y="9855"/>
                  <a:pt x="12292" y="9906"/>
                  <a:pt x="12196" y="9851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25520" y="4275000"/>
            <a:ext cx="1030320" cy="69840"/>
          </a:xfrm>
          <a:custGeom>
            <a:avLst/>
            <a:gdLst/>
            <a:ahLst/>
            <a:rect l="l" t="t" r="r" b="b"/>
            <a:pathLst>
              <a:path w="2862" h="192">
                <a:moveTo>
                  <a:pt x="6184" y="12042"/>
                </a:moveTo>
                <a:cubicBezTo>
                  <a:pt x="6264" y="12068"/>
                  <a:pt x="6342" y="12068"/>
                  <a:pt x="6426" y="12067"/>
                </a:cubicBezTo>
                <a:cubicBezTo>
                  <a:pt x="6673" y="12063"/>
                  <a:pt x="6921" y="12035"/>
                  <a:pt x="7168" y="12024"/>
                </a:cubicBezTo>
                <a:cubicBezTo>
                  <a:pt x="7350" y="12016"/>
                  <a:pt x="7531" y="12012"/>
                  <a:pt x="7713" y="12007"/>
                </a:cubicBezTo>
                <a:cubicBezTo>
                  <a:pt x="7841" y="12003"/>
                  <a:pt x="7968" y="11998"/>
                  <a:pt x="8096" y="11987"/>
                </a:cubicBezTo>
                <a:cubicBezTo>
                  <a:pt x="8230" y="11975"/>
                  <a:pt x="8363" y="11962"/>
                  <a:pt x="8497" y="11947"/>
                </a:cubicBezTo>
                <a:cubicBezTo>
                  <a:pt x="8636" y="11931"/>
                  <a:pt x="8879" y="11949"/>
                  <a:pt x="9008" y="11894"/>
                </a:cubicBezTo>
                <a:cubicBezTo>
                  <a:pt x="9046" y="11892"/>
                  <a:pt x="9057" y="11891"/>
                  <a:pt x="9008" y="1187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 flipH="1">
            <a:off x="3276720" y="2209680"/>
            <a:ext cx="2286000" cy="1143000"/>
          </a:xfrm>
          <a:prstGeom prst="line">
            <a:avLst/>
          </a:prstGeom>
          <a:ln w="28440">
            <a:solidFill>
              <a:srgbClr val="fbdf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yriad Web"/>
              </a:rPr>
              <a:t>Aggregate objects</a:t>
            </a: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19320" y="914040"/>
            <a:ext cx="71625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Myriad Web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 Set {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Hashtable h;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Myriad Web"/>
              </a:rPr>
              <a:t>invariant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 …;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Myriad Web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Myriad Web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 Add(Element e)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Myriad Web"/>
              </a:rPr>
              <a:t>requires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Myriad Web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.</a:t>
            </a:r>
            <a:r>
              <a:rPr b="0" lang="en-US" sz="2000" spc="-1" strike="noStrike">
                <a:solidFill>
                  <a:srgbClr val="cc3300"/>
                </a:solidFill>
                <a:latin typeface="Myriad Web"/>
              </a:rPr>
              <a:t>inv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 = Valid;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Myriad Web"/>
              </a:rPr>
              <a:t>expose 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Myriad Web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h.Add(e, e);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Myriad Web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 Hashtable {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Myriad Web"/>
              </a:rPr>
              <a:t>invariant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 …;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Myriad Web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Myriad Web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 Add(</a:t>
            </a:r>
            <a:r>
              <a:rPr b="0" lang="en-US" sz="2000" spc="-1" strike="noStrike">
                <a:solidFill>
                  <a:srgbClr val="3333cc"/>
                </a:solidFill>
                <a:latin typeface="Myriad Web"/>
              </a:rPr>
              <a:t>object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 key, </a:t>
            </a:r>
            <a:r>
              <a:rPr b="0" lang="en-US" sz="2000" spc="-1" strike="noStrike">
                <a:solidFill>
                  <a:srgbClr val="3333cc"/>
                </a:solidFill>
                <a:latin typeface="Myriad Web"/>
              </a:rPr>
              <a:t>object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 val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Myriad Web"/>
              </a:rPr>
              <a:t>requires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Myriad Web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.</a:t>
            </a:r>
            <a:r>
              <a:rPr b="0" lang="en-US" sz="2000" spc="-1" strike="noStrike">
                <a:solidFill>
                  <a:srgbClr val="cc3300"/>
                </a:solidFill>
                <a:latin typeface="Myriad Web"/>
              </a:rPr>
              <a:t>inv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 = Valid;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286" name=""/>
          <p:cNvSpPr/>
          <p:nvPr/>
        </p:nvSpPr>
        <p:spPr>
          <a:xfrm>
            <a:off x="5334120" y="1523880"/>
            <a:ext cx="2971800" cy="76212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we know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Valid 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225520" y="5684760"/>
            <a:ext cx="2210040" cy="74520"/>
          </a:xfrm>
          <a:custGeom>
            <a:avLst/>
            <a:gdLst/>
            <a:ahLst/>
            <a:rect l="l" t="t" r="r" b="b"/>
            <a:pathLst>
              <a:path w="5855" h="49">
                <a:moveTo>
                  <a:pt x="5273" y="7581"/>
                </a:moveTo>
                <a:cubicBezTo>
                  <a:pt x="5343" y="7581"/>
                  <a:pt x="5419" y="7570"/>
                  <a:pt x="5496" y="7567"/>
                </a:cubicBezTo>
                <a:cubicBezTo>
                  <a:pt x="5741" y="7557"/>
                  <a:pt x="5989" y="7562"/>
                  <a:pt x="6235" y="7562"/>
                </a:cubicBezTo>
                <a:cubicBezTo>
                  <a:pt x="6592" y="7562"/>
                  <a:pt x="6947" y="7586"/>
                  <a:pt x="7304" y="7580"/>
                </a:cubicBezTo>
                <a:cubicBezTo>
                  <a:pt x="7612" y="7575"/>
                  <a:pt x="7917" y="7603"/>
                  <a:pt x="8225" y="7603"/>
                </a:cubicBezTo>
                <a:cubicBezTo>
                  <a:pt x="8651" y="7603"/>
                  <a:pt x="9076" y="7566"/>
                  <a:pt x="9502" y="7576"/>
                </a:cubicBezTo>
                <a:cubicBezTo>
                  <a:pt x="9823" y="7584"/>
                  <a:pt x="10142" y="7545"/>
                  <a:pt x="10463" y="7567"/>
                </a:cubicBezTo>
                <a:cubicBezTo>
                  <a:pt x="10563" y="7574"/>
                  <a:pt x="10662" y="7583"/>
                  <a:pt x="10762" y="7590"/>
                </a:cubicBezTo>
                <a:cubicBezTo>
                  <a:pt x="10898" y="7599"/>
                  <a:pt x="11014" y="7592"/>
                  <a:pt x="11127" y="755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 flipH="1">
            <a:off x="3276720" y="2209680"/>
            <a:ext cx="2286000" cy="1143000"/>
          </a:xfrm>
          <a:prstGeom prst="line">
            <a:avLst/>
          </a:prstGeom>
          <a:ln w="28440">
            <a:solidFill>
              <a:srgbClr val="fbdf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yriad Web"/>
              </a:rPr>
              <a:t>Aggregate objects</a:t>
            </a: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19320" y="914040"/>
            <a:ext cx="71625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Myriad Web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 Set {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Hashtable h;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Myriad Web"/>
              </a:rPr>
              <a:t>invariant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 …;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Myriad Web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Myriad Web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 Add(Element e)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Myriad Web"/>
              </a:rPr>
              <a:t>requires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Myriad Web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.</a:t>
            </a:r>
            <a:r>
              <a:rPr b="0" lang="en-US" sz="2000" spc="-1" strike="noStrike">
                <a:solidFill>
                  <a:srgbClr val="cc3300"/>
                </a:solidFill>
                <a:latin typeface="Myriad Web"/>
              </a:rPr>
              <a:t>inv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 = Valid;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Myriad Web"/>
              </a:rPr>
              <a:t>expose 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Myriad Web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h.Add(e, e);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Myriad Web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 Hashtable Leak() { </a:t>
            </a:r>
            <a:r>
              <a:rPr b="0" lang="en-US" sz="2000" spc="-1" strike="noStrike">
                <a:solidFill>
                  <a:srgbClr val="3333cc"/>
                </a:solidFill>
                <a:latin typeface="Myriad Web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 h; }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Myriad Web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 Hashtable {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Myriad Web"/>
              </a:rPr>
              <a:t>invariant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 …;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Myriad Web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Myriad Web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 Add(</a:t>
            </a:r>
            <a:r>
              <a:rPr b="0" lang="en-US" sz="2000" spc="-1" strike="noStrike">
                <a:solidFill>
                  <a:srgbClr val="3333cc"/>
                </a:solidFill>
                <a:latin typeface="Myriad Web"/>
              </a:rPr>
              <a:t>object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 key, </a:t>
            </a:r>
            <a:r>
              <a:rPr b="0" lang="en-US" sz="2000" spc="-1" strike="noStrike">
                <a:solidFill>
                  <a:srgbClr val="3333cc"/>
                </a:solidFill>
                <a:latin typeface="Myriad Web"/>
              </a:rPr>
              <a:t>object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 val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Myriad Web"/>
              </a:rPr>
              <a:t>requires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Myriad Web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.</a:t>
            </a:r>
            <a:r>
              <a:rPr b="0" lang="en-US" sz="2000" spc="-1" strike="noStrike">
                <a:solidFill>
                  <a:srgbClr val="cc3300"/>
                </a:solidFill>
                <a:latin typeface="Myriad Web"/>
              </a:rPr>
              <a:t>inv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 = Valid;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291" name=""/>
          <p:cNvSpPr/>
          <p:nvPr/>
        </p:nvSpPr>
        <p:spPr>
          <a:xfrm>
            <a:off x="5334120" y="1523880"/>
            <a:ext cx="2971800" cy="76212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we know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Valid 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562720" y="2374920"/>
            <a:ext cx="3352680" cy="29800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Web"/>
              </a:rPr>
              <a:t>Perhaps it isn’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Myriad Web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Myriad Web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Myriad Web"/>
              </a:rPr>
              <a:t> Violation(Set 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Myriad Web"/>
              </a:rPr>
              <a:t>requires</a:t>
            </a:r>
            <a:r>
              <a:rPr b="0" lang="en-US" sz="1800" spc="-1" strike="noStrike">
                <a:solidFill>
                  <a:srgbClr val="000000"/>
                </a:solidFill>
                <a:latin typeface="Myriad Web"/>
              </a:rPr>
              <a:t> s.inv = Valid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yriad Web"/>
              </a:rPr>
              <a:t> 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yriad Web"/>
              </a:rPr>
              <a:t>Hashtable g := s.Leak(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Myriad Web"/>
              </a:rPr>
              <a:t>expose</a:t>
            </a:r>
            <a:r>
              <a:rPr b="0" lang="en-US" sz="1800" spc="-1" strike="noStrike">
                <a:solidFill>
                  <a:srgbClr val="000000"/>
                </a:solidFill>
                <a:latin typeface="Myriad Web"/>
              </a:rPr>
              <a:t> (g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yriad Web"/>
              </a:rPr>
              <a:t>g.x := …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yriad Web"/>
              </a:rPr>
              <a:t>s.Add(…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yriad Web"/>
              </a:rPr>
              <a:t>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yriad Web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523880" y="4222800"/>
            <a:ext cx="3889440" cy="82440"/>
          </a:xfrm>
          <a:custGeom>
            <a:avLst/>
            <a:gdLst/>
            <a:ahLst/>
            <a:rect l="l" t="t" r="r" b="b"/>
            <a:pathLst>
              <a:path w="10805" h="232">
                <a:moveTo>
                  <a:pt x="4440" y="11850"/>
                </a:moveTo>
                <a:cubicBezTo>
                  <a:pt x="4497" y="11851"/>
                  <a:pt x="4568" y="11854"/>
                  <a:pt x="4634" y="11855"/>
                </a:cubicBezTo>
                <a:cubicBezTo>
                  <a:pt x="5050" y="11859"/>
                  <a:pt x="5477" y="11831"/>
                  <a:pt x="5888" y="11770"/>
                </a:cubicBezTo>
                <a:cubicBezTo>
                  <a:pt x="6174" y="11727"/>
                  <a:pt x="6437" y="11693"/>
                  <a:pt x="6727" y="11709"/>
                </a:cubicBezTo>
                <a:cubicBezTo>
                  <a:pt x="7062" y="11728"/>
                  <a:pt x="7399" y="11720"/>
                  <a:pt x="7735" y="11730"/>
                </a:cubicBezTo>
                <a:cubicBezTo>
                  <a:pt x="8273" y="11746"/>
                  <a:pt x="8817" y="11710"/>
                  <a:pt x="9352" y="11760"/>
                </a:cubicBezTo>
                <a:cubicBezTo>
                  <a:pt x="9816" y="11804"/>
                  <a:pt x="10266" y="11785"/>
                  <a:pt x="10731" y="11795"/>
                </a:cubicBezTo>
                <a:cubicBezTo>
                  <a:pt x="11848" y="11820"/>
                  <a:pt x="13020" y="12000"/>
                  <a:pt x="14132" y="11915"/>
                </a:cubicBezTo>
                <a:cubicBezTo>
                  <a:pt x="14505" y="11887"/>
                  <a:pt x="14869" y="11831"/>
                  <a:pt x="15244" y="11823"/>
                </a:cubicBezTo>
              </a:path>
            </a:pathLst>
          </a:custGeom>
          <a:noFill/>
          <a:ln cap="sq" w="228600">
            <a:solidFill>
              <a:srgbClr val="ff9966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yriad Web"/>
              </a:rPr>
              <a:t>Object states</a:t>
            </a: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Mutable</a:t>
            </a: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Object invariant may not hold</a:t>
            </a:r>
            <a:endParaRPr b="0" lang="en-US" sz="2400" spc="-1" strike="noStrike">
              <a:solidFill>
                <a:srgbClr val="000000"/>
              </a:solidFill>
              <a:latin typeface="Myriad Web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Field updates allowed</a:t>
            </a:r>
            <a:endParaRPr b="0" lang="en-US" sz="24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Valid</a:t>
            </a: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Object invariant holds</a:t>
            </a:r>
            <a:endParaRPr b="0" lang="en-US" sz="2400" spc="-1" strike="noStrike">
              <a:solidFill>
                <a:srgbClr val="000000"/>
              </a:solidFill>
              <a:latin typeface="Myriad Web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Field updates not allowed</a:t>
            </a:r>
            <a:endParaRPr b="0" lang="en-US" sz="24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Committed</a:t>
            </a: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Valid and owned</a:t>
            </a:r>
            <a:endParaRPr b="0" lang="en-US" sz="2400" spc="-1" strike="noStrike">
              <a:solidFill>
                <a:srgbClr val="000000"/>
              </a:solidFill>
              <a:latin typeface="Myriad Web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Cannot be exposed—owner must be exposed first, which makes this object Valid</a:t>
            </a:r>
            <a:endParaRPr b="0" lang="en-US" sz="24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296" name=""/>
          <p:cNvSpPr/>
          <p:nvPr/>
        </p:nvSpPr>
        <p:spPr>
          <a:xfrm>
            <a:off x="855720" y="4262400"/>
            <a:ext cx="1801800" cy="169920"/>
          </a:xfrm>
          <a:custGeom>
            <a:avLst/>
            <a:gdLst/>
            <a:ahLst/>
            <a:rect l="l" t="t" r="r" b="b"/>
            <a:pathLst>
              <a:path w="5005" h="471">
                <a:moveTo>
                  <a:pt x="2375" y="12072"/>
                </a:moveTo>
                <a:cubicBezTo>
                  <a:pt x="2457" y="12068"/>
                  <a:pt x="2540" y="12068"/>
                  <a:pt x="2624" y="12069"/>
                </a:cubicBezTo>
                <a:cubicBezTo>
                  <a:pt x="3220" y="12077"/>
                  <a:pt x="3814" y="12005"/>
                  <a:pt x="4410" y="11994"/>
                </a:cubicBezTo>
                <a:cubicBezTo>
                  <a:pt x="5013" y="11983"/>
                  <a:pt x="5599" y="11942"/>
                  <a:pt x="6198" y="11877"/>
                </a:cubicBezTo>
                <a:cubicBezTo>
                  <a:pt x="6500" y="11844"/>
                  <a:pt x="6780" y="11823"/>
                  <a:pt x="7076" y="11898"/>
                </a:cubicBezTo>
                <a:cubicBezTo>
                  <a:pt x="7194" y="11928"/>
                  <a:pt x="7218" y="11998"/>
                  <a:pt x="7323" y="11937"/>
                </a:cubicBezTo>
                <a:cubicBezTo>
                  <a:pt x="6721" y="11907"/>
                  <a:pt x="6121" y="11978"/>
                  <a:pt x="5524" y="12052"/>
                </a:cubicBezTo>
                <a:cubicBezTo>
                  <a:pt x="4988" y="12119"/>
                  <a:pt x="4455" y="12206"/>
                  <a:pt x="3918" y="12264"/>
                </a:cubicBezTo>
                <a:cubicBezTo>
                  <a:pt x="3640" y="12294"/>
                  <a:pt x="3360" y="12313"/>
                  <a:pt x="3080" y="12310"/>
                </a:cubicBezTo>
                <a:cubicBezTo>
                  <a:pt x="3040" y="12310"/>
                  <a:pt x="3031" y="12310"/>
                  <a:pt x="3088" y="12308"/>
                </a:cubicBezTo>
                <a:cubicBezTo>
                  <a:pt x="3784" y="12308"/>
                  <a:pt x="4479" y="12296"/>
                  <a:pt x="5175" y="12290"/>
                </a:cubicBezTo>
                <a:cubicBezTo>
                  <a:pt x="5739" y="12285"/>
                  <a:pt x="6302" y="12276"/>
                  <a:pt x="6866" y="12271"/>
                </a:cubicBezTo>
                <a:cubicBezTo>
                  <a:pt x="6954" y="12270"/>
                  <a:pt x="7182" y="12295"/>
                  <a:pt x="7137" y="12269"/>
                </a:cubicBezTo>
                <a:cubicBezTo>
                  <a:pt x="7120" y="12265"/>
                  <a:pt x="7104" y="12262"/>
                  <a:pt x="7087" y="1225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yriad Web"/>
              </a:rPr>
              <a:t>Ownership</a:t>
            </a: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219320" y="914040"/>
            <a:ext cx="71625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Myriad Web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 Set {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Myriad Web"/>
              </a:rPr>
              <a:t>owned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 Hashtable h;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Myriad Web"/>
              </a:rPr>
              <a:t>invariant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 …;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Myriad Web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Myriad Web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 Add(Element e)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Myriad Web"/>
              </a:rPr>
              <a:t>requires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Myriad Web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.</a:t>
            </a:r>
            <a:r>
              <a:rPr b="0" lang="en-US" sz="2000" spc="-1" strike="noStrike">
                <a:solidFill>
                  <a:srgbClr val="cc3300"/>
                </a:solidFill>
                <a:latin typeface="Myriad Web"/>
              </a:rPr>
              <a:t>inv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 = Valid;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Myriad Web"/>
              </a:rPr>
              <a:t>expose 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Myriad Web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h.Add(e, e);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Myriad Web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 Hashtable {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Myriad Web"/>
              </a:rPr>
              <a:t>invariant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 …;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Myriad Web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Myriad Web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 Add(</a:t>
            </a:r>
            <a:r>
              <a:rPr b="0" lang="en-US" sz="2000" spc="-1" strike="noStrike">
                <a:solidFill>
                  <a:srgbClr val="3333cc"/>
                </a:solidFill>
                <a:latin typeface="Myriad Web"/>
              </a:rPr>
              <a:t>object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 key, </a:t>
            </a:r>
            <a:r>
              <a:rPr b="0" lang="en-US" sz="2000" spc="-1" strike="noStrike">
                <a:solidFill>
                  <a:srgbClr val="3333cc"/>
                </a:solidFill>
                <a:latin typeface="Myriad Web"/>
              </a:rPr>
              <a:t>object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 val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Myriad Web"/>
              </a:rPr>
              <a:t>requires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Myriad Web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.</a:t>
            </a:r>
            <a:r>
              <a:rPr b="0" lang="en-US" sz="2000" spc="-1" strike="noStrike">
                <a:solidFill>
                  <a:srgbClr val="cc3300"/>
                </a:solidFill>
                <a:latin typeface="Myriad Web"/>
              </a:rPr>
              <a:t>inv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 = Valid;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082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299" name=""/>
          <p:cNvSpPr/>
          <p:nvPr/>
        </p:nvSpPr>
        <p:spPr>
          <a:xfrm>
            <a:off x="1708200" y="1359000"/>
            <a:ext cx="815760" cy="122040"/>
          </a:xfrm>
          <a:custGeom>
            <a:avLst/>
            <a:gdLst/>
            <a:ahLst/>
            <a:rect l="l" t="t" r="r" b="b"/>
            <a:pathLst>
              <a:path w="2266" h="338">
                <a:moveTo>
                  <a:pt x="4480" y="3953"/>
                </a:moveTo>
                <a:cubicBezTo>
                  <a:pt x="4561" y="3923"/>
                  <a:pt x="4644" y="3898"/>
                  <a:pt x="4727" y="3873"/>
                </a:cubicBezTo>
                <a:cubicBezTo>
                  <a:pt x="4872" y="3829"/>
                  <a:pt x="5041" y="3773"/>
                  <a:pt x="5193" y="3768"/>
                </a:cubicBezTo>
                <a:cubicBezTo>
                  <a:pt x="5212" y="3768"/>
                  <a:pt x="5232" y="3768"/>
                  <a:pt x="5251" y="3768"/>
                </a:cubicBezTo>
                <a:cubicBezTo>
                  <a:pt x="5223" y="3830"/>
                  <a:pt x="5187" y="3893"/>
                  <a:pt x="5133" y="3962"/>
                </a:cubicBezTo>
                <a:cubicBezTo>
                  <a:pt x="5095" y="4011"/>
                  <a:pt x="5095" y="4043"/>
                  <a:pt x="5080" y="4089"/>
                </a:cubicBezTo>
                <a:cubicBezTo>
                  <a:pt x="5172" y="4106"/>
                  <a:pt x="5244" y="4102"/>
                  <a:pt x="5336" y="4082"/>
                </a:cubicBezTo>
                <a:cubicBezTo>
                  <a:pt x="5634" y="4016"/>
                  <a:pt x="5927" y="3923"/>
                  <a:pt x="6237" y="3948"/>
                </a:cubicBezTo>
                <a:cubicBezTo>
                  <a:pt x="6309" y="3954"/>
                  <a:pt x="6370" y="3962"/>
                  <a:pt x="6442" y="3949"/>
                </a:cubicBezTo>
                <a:cubicBezTo>
                  <a:pt x="6533" y="3933"/>
                  <a:pt x="6647" y="3923"/>
                  <a:pt x="6717" y="3861"/>
                </a:cubicBezTo>
                <a:cubicBezTo>
                  <a:pt x="6726" y="3849"/>
                  <a:pt x="6736" y="3838"/>
                  <a:pt x="6745" y="382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057400" y="3657240"/>
            <a:ext cx="3657600" cy="228600"/>
          </a:xfrm>
          <a:prstGeom prst="line">
            <a:avLst/>
          </a:prstGeom>
          <a:ln w="28440">
            <a:solidFill>
              <a:srgbClr val="fbdf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114800" y="838080"/>
            <a:ext cx="4724280" cy="83844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96720" indent="-39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ny s: Se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uniquely owns 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ity of s implies validity of 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638680" y="2286000"/>
            <a:ext cx="2971800" cy="91440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wnership of 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orari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nquishe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3733560" y="2971800"/>
            <a:ext cx="2057400" cy="152280"/>
          </a:xfrm>
          <a:prstGeom prst="line">
            <a:avLst/>
          </a:prstGeom>
          <a:ln w="28440">
            <a:solidFill>
              <a:srgbClr val="fbdf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638680" y="3581280"/>
            <a:ext cx="2971800" cy="76212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wnership of 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-obtaine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yriad Web"/>
              </a:rPr>
              <a:t>Object states:  a picture of the heap</a:t>
            </a: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306" name=""/>
          <p:cNvSpPr/>
          <p:nvPr/>
        </p:nvSpPr>
        <p:spPr>
          <a:xfrm>
            <a:off x="7086600" y="4527720"/>
            <a:ext cx="685800" cy="68580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86600" y="5289480"/>
            <a:ext cx="685800" cy="685800"/>
          </a:xfrm>
          <a:prstGeom prst="ellipse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86600" y="605160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772400" y="4680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Web"/>
              </a:rPr>
              <a:t>Mu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772400" y="5456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Web"/>
              </a:rPr>
              <a:t>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772400" y="6218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Web"/>
              </a:rPr>
              <a:t>Com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0" y="4114800"/>
            <a:ext cx="2286000" cy="2743200"/>
          </a:xfrm>
          <a:custGeom>
            <a:avLst/>
            <a:gdLst/>
            <a:ahLst/>
            <a:rect l="l" t="t" r="r" b="b"/>
            <a:pathLst>
              <a:path w="1440" h="1536">
                <a:moveTo>
                  <a:pt x="0" y="1536"/>
                </a:moveTo>
                <a:lnTo>
                  <a:pt x="0" y="0"/>
                </a:lnTo>
                <a:lnTo>
                  <a:pt x="14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9480" y="1447920"/>
            <a:ext cx="685800" cy="68580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600200" y="1371600"/>
            <a:ext cx="685800" cy="68580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666880" y="1600200"/>
            <a:ext cx="685800" cy="68580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2286000"/>
            <a:ext cx="685800" cy="68580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2362320"/>
            <a:ext cx="685800" cy="68580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952880" y="1371600"/>
            <a:ext cx="685800" cy="68580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715000" y="2209680"/>
            <a:ext cx="685800" cy="68580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848720" y="1447920"/>
            <a:ext cx="685800" cy="68580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3352680"/>
            <a:ext cx="685800" cy="685800"/>
          </a:xfrm>
          <a:prstGeom prst="ellipse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0" y="3352680"/>
            <a:ext cx="685800" cy="685800"/>
          </a:xfrm>
          <a:prstGeom prst="ellipse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09880" y="3124080"/>
            <a:ext cx="685800" cy="685800"/>
          </a:xfrm>
          <a:prstGeom prst="ellipse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562720" y="3429000"/>
            <a:ext cx="685800" cy="685800"/>
          </a:xfrm>
          <a:prstGeom prst="ellipse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Web"/>
              </a:rPr>
              <a:t>s: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1523880"/>
            <a:ext cx="685800" cy="685800"/>
          </a:xfrm>
          <a:prstGeom prst="ellipse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305920" y="2590920"/>
            <a:ext cx="685800" cy="685800"/>
          </a:xfrm>
          <a:prstGeom prst="ellipse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480060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472428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" y="586728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905120" y="571500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14600" y="434340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048120" y="525780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49568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114800" y="579132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029200" y="502920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Web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Myriad Web"/>
              </a:rPr>
              <a:t>Hash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19920" y="434340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0" y="274320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381880" y="335268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772400" y="4129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Web"/>
              </a:rPr>
              <a:t>ow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43120" y="3968640"/>
            <a:ext cx="1215720" cy="2030400"/>
          </a:xfrm>
          <a:custGeom>
            <a:avLst/>
            <a:gdLst/>
            <a:ahLst/>
            <a:rect l="l" t="t" r="r" b="b"/>
            <a:pathLst>
              <a:path w="3377" h="5638">
                <a:moveTo>
                  <a:pt x="2341" y="14981"/>
                </a:moveTo>
                <a:cubicBezTo>
                  <a:pt x="2404" y="15013"/>
                  <a:pt x="2443" y="15033"/>
                  <a:pt x="2519" y="15051"/>
                </a:cubicBezTo>
                <a:cubicBezTo>
                  <a:pt x="2721" y="15099"/>
                  <a:pt x="2912" y="15169"/>
                  <a:pt x="3094" y="15272"/>
                </a:cubicBezTo>
                <a:cubicBezTo>
                  <a:pt x="3247" y="15358"/>
                  <a:pt x="3399" y="15446"/>
                  <a:pt x="3549" y="15536"/>
                </a:cubicBezTo>
                <a:cubicBezTo>
                  <a:pt x="3827" y="15703"/>
                  <a:pt x="4089" y="15907"/>
                  <a:pt x="4387" y="16037"/>
                </a:cubicBezTo>
                <a:cubicBezTo>
                  <a:pt x="4549" y="16108"/>
                  <a:pt x="4715" y="16132"/>
                  <a:pt x="4881" y="16185"/>
                </a:cubicBezTo>
                <a:cubicBezTo>
                  <a:pt x="5049" y="16239"/>
                  <a:pt x="5196" y="16315"/>
                  <a:pt x="5352" y="16394"/>
                </a:cubicBezTo>
                <a:cubicBezTo>
                  <a:pt x="5429" y="16433"/>
                  <a:pt x="5622" y="16569"/>
                  <a:pt x="5703" y="16575"/>
                </a:cubicBezTo>
                <a:cubicBezTo>
                  <a:pt x="5695" y="16563"/>
                  <a:pt x="5688" y="16550"/>
                  <a:pt x="5680" y="16538"/>
                </a:cubicBezTo>
              </a:path>
              <a:path w="3377" h="5638">
                <a:moveTo>
                  <a:pt x="5507" y="16346"/>
                </a:moveTo>
                <a:cubicBezTo>
                  <a:pt x="5457" y="16314"/>
                  <a:pt x="5432" y="16301"/>
                  <a:pt x="5376" y="16286"/>
                </a:cubicBezTo>
                <a:cubicBezTo>
                  <a:pt x="5455" y="16324"/>
                  <a:pt x="5511" y="16373"/>
                  <a:pt x="5576" y="16432"/>
                </a:cubicBezTo>
                <a:cubicBezTo>
                  <a:pt x="5635" y="16486"/>
                  <a:pt x="5699" y="16526"/>
                  <a:pt x="5711" y="16598"/>
                </a:cubicBezTo>
                <a:cubicBezTo>
                  <a:pt x="5639" y="16613"/>
                  <a:pt x="5568" y="16624"/>
                  <a:pt x="5496" y="16633"/>
                </a:cubicBezTo>
                <a:cubicBezTo>
                  <a:pt x="5432" y="16641"/>
                  <a:pt x="5368" y="16647"/>
                  <a:pt x="5304" y="16655"/>
                </a:cubicBezTo>
                <a:cubicBezTo>
                  <a:pt x="5286" y="16657"/>
                  <a:pt x="5163" y="16668"/>
                  <a:pt x="5270" y="16660"/>
                </a:cubicBezTo>
              </a:path>
              <a:path w="3377" h="5638">
                <a:moveTo>
                  <a:pt x="2889" y="11026"/>
                </a:moveTo>
                <a:cubicBezTo>
                  <a:pt x="2922" y="11082"/>
                  <a:pt x="2956" y="11137"/>
                  <a:pt x="2992" y="11192"/>
                </a:cubicBezTo>
                <a:cubicBezTo>
                  <a:pt x="3035" y="11258"/>
                  <a:pt x="3069" y="11328"/>
                  <a:pt x="3113" y="11393"/>
                </a:cubicBezTo>
                <a:cubicBezTo>
                  <a:pt x="3215" y="11543"/>
                  <a:pt x="3357" y="11659"/>
                  <a:pt x="3482" y="11790"/>
                </a:cubicBezTo>
                <a:cubicBezTo>
                  <a:pt x="3603" y="11918"/>
                  <a:pt x="3669" y="12061"/>
                  <a:pt x="3727" y="12224"/>
                </a:cubicBezTo>
                <a:cubicBezTo>
                  <a:pt x="3752" y="12294"/>
                  <a:pt x="3776" y="12363"/>
                  <a:pt x="3803" y="12432"/>
                </a:cubicBezTo>
                <a:cubicBezTo>
                  <a:pt x="3839" y="12525"/>
                  <a:pt x="3874" y="12617"/>
                  <a:pt x="3912" y="12709"/>
                </a:cubicBezTo>
                <a:cubicBezTo>
                  <a:pt x="3944" y="12786"/>
                  <a:pt x="3981" y="12860"/>
                  <a:pt x="4013" y="12936"/>
                </a:cubicBezTo>
                <a:cubicBezTo>
                  <a:pt x="4046" y="13014"/>
                  <a:pt x="4070" y="13096"/>
                  <a:pt x="4098" y="13176"/>
                </a:cubicBezTo>
                <a:cubicBezTo>
                  <a:pt x="4122" y="13244"/>
                  <a:pt x="4156" y="13304"/>
                  <a:pt x="4184" y="13370"/>
                </a:cubicBezTo>
                <a:cubicBezTo>
                  <a:pt x="4205" y="13421"/>
                  <a:pt x="4212" y="13471"/>
                  <a:pt x="4223" y="13525"/>
                </a:cubicBezTo>
                <a:cubicBezTo>
                  <a:pt x="4216" y="13486"/>
                  <a:pt x="4213" y="13472"/>
                  <a:pt x="4210" y="13446"/>
                </a:cubicBezTo>
              </a:path>
              <a:path w="3377" h="5638">
                <a:moveTo>
                  <a:pt x="4434" y="13106"/>
                </a:moveTo>
                <a:cubicBezTo>
                  <a:pt x="4433" y="13167"/>
                  <a:pt x="4417" y="13223"/>
                  <a:pt x="4403" y="13284"/>
                </a:cubicBezTo>
                <a:cubicBezTo>
                  <a:pt x="4391" y="13338"/>
                  <a:pt x="4380" y="13392"/>
                  <a:pt x="4371" y="13446"/>
                </a:cubicBezTo>
                <a:cubicBezTo>
                  <a:pt x="4361" y="13504"/>
                  <a:pt x="4351" y="13562"/>
                  <a:pt x="4346" y="13621"/>
                </a:cubicBezTo>
                <a:cubicBezTo>
                  <a:pt x="4340" y="13687"/>
                  <a:pt x="4340" y="13754"/>
                  <a:pt x="4332" y="13820"/>
                </a:cubicBezTo>
                <a:cubicBezTo>
                  <a:pt x="4249" y="13801"/>
                  <a:pt x="4228" y="13769"/>
                  <a:pt x="4161" y="13718"/>
                </a:cubicBezTo>
                <a:cubicBezTo>
                  <a:pt x="4088" y="13663"/>
                  <a:pt x="4005" y="13631"/>
                  <a:pt x="3921" y="13598"/>
                </a:cubicBezTo>
                <a:cubicBezTo>
                  <a:pt x="3830" y="13562"/>
                  <a:pt x="3837" y="13533"/>
                  <a:pt x="3933" y="13543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12680" y="2082960"/>
            <a:ext cx="365400" cy="1385640"/>
          </a:xfrm>
          <a:custGeom>
            <a:avLst/>
            <a:gdLst/>
            <a:ahLst/>
            <a:rect l="l" t="t" r="r" b="b"/>
            <a:pathLst>
              <a:path w="1014" h="3851">
                <a:moveTo>
                  <a:pt x="3090" y="5784"/>
                </a:moveTo>
                <a:cubicBezTo>
                  <a:pt x="3107" y="5854"/>
                  <a:pt x="3123" y="5891"/>
                  <a:pt x="3164" y="5953"/>
                </a:cubicBezTo>
                <a:cubicBezTo>
                  <a:pt x="3215" y="6029"/>
                  <a:pt x="3249" y="6105"/>
                  <a:pt x="3291" y="6186"/>
                </a:cubicBezTo>
                <a:cubicBezTo>
                  <a:pt x="3332" y="6265"/>
                  <a:pt x="3385" y="6328"/>
                  <a:pt x="3443" y="6394"/>
                </a:cubicBezTo>
                <a:cubicBezTo>
                  <a:pt x="3533" y="6498"/>
                  <a:pt x="3590" y="6592"/>
                  <a:pt x="3637" y="6720"/>
                </a:cubicBezTo>
                <a:cubicBezTo>
                  <a:pt x="3661" y="6784"/>
                  <a:pt x="3701" y="6821"/>
                  <a:pt x="3746" y="6870"/>
                </a:cubicBezTo>
                <a:cubicBezTo>
                  <a:pt x="3769" y="6822"/>
                  <a:pt x="3776" y="6805"/>
                  <a:pt x="3750" y="6770"/>
                </a:cubicBezTo>
              </a:path>
              <a:path w="1014" h="3851">
                <a:moveTo>
                  <a:pt x="3341" y="6717"/>
                </a:moveTo>
                <a:cubicBezTo>
                  <a:pt x="3375" y="6782"/>
                  <a:pt x="3412" y="6832"/>
                  <a:pt x="3473" y="6874"/>
                </a:cubicBezTo>
                <a:cubicBezTo>
                  <a:pt x="3521" y="6907"/>
                  <a:pt x="3580" y="6934"/>
                  <a:pt x="3637" y="6950"/>
                </a:cubicBezTo>
                <a:cubicBezTo>
                  <a:pt x="3703" y="6969"/>
                  <a:pt x="3791" y="7000"/>
                  <a:pt x="3808" y="6913"/>
                </a:cubicBezTo>
                <a:cubicBezTo>
                  <a:pt x="3821" y="6846"/>
                  <a:pt x="3798" y="6761"/>
                  <a:pt x="3803" y="6690"/>
                </a:cubicBezTo>
                <a:cubicBezTo>
                  <a:pt x="3807" y="6633"/>
                  <a:pt x="3819" y="6576"/>
                  <a:pt x="3824" y="6519"/>
                </a:cubicBezTo>
                <a:cubicBezTo>
                  <a:pt x="3826" y="6476"/>
                  <a:pt x="3827" y="6461"/>
                  <a:pt x="3792" y="6500"/>
                </a:cubicBezTo>
              </a:path>
              <a:path w="1014" h="3851">
                <a:moveTo>
                  <a:pt x="3623" y="8289"/>
                </a:moveTo>
                <a:cubicBezTo>
                  <a:pt x="3635" y="8286"/>
                  <a:pt x="3646" y="8283"/>
                  <a:pt x="3658" y="8280"/>
                </a:cubicBezTo>
                <a:cubicBezTo>
                  <a:pt x="3594" y="8333"/>
                  <a:pt x="3558" y="8398"/>
                  <a:pt x="3512" y="8470"/>
                </a:cubicBezTo>
                <a:cubicBezTo>
                  <a:pt x="3477" y="8524"/>
                  <a:pt x="3443" y="8580"/>
                  <a:pt x="3411" y="8636"/>
                </a:cubicBezTo>
                <a:cubicBezTo>
                  <a:pt x="3352" y="8739"/>
                  <a:pt x="3313" y="8854"/>
                  <a:pt x="3247" y="8952"/>
                </a:cubicBezTo>
                <a:cubicBezTo>
                  <a:pt x="3204" y="9016"/>
                  <a:pt x="3160" y="9081"/>
                  <a:pt x="3122" y="9148"/>
                </a:cubicBezTo>
                <a:cubicBezTo>
                  <a:pt x="3082" y="9218"/>
                  <a:pt x="3077" y="9296"/>
                  <a:pt x="3030" y="9363"/>
                </a:cubicBezTo>
                <a:cubicBezTo>
                  <a:pt x="2988" y="9422"/>
                  <a:pt x="2944" y="9460"/>
                  <a:pt x="2919" y="9530"/>
                </a:cubicBezTo>
                <a:cubicBezTo>
                  <a:pt x="2904" y="9572"/>
                  <a:pt x="2912" y="9653"/>
                  <a:pt x="2895" y="9553"/>
                </a:cubicBezTo>
              </a:path>
              <a:path w="1014" h="3851">
                <a:moveTo>
                  <a:pt x="2813" y="9305"/>
                </a:moveTo>
                <a:cubicBezTo>
                  <a:pt x="2837" y="9359"/>
                  <a:pt x="2848" y="9407"/>
                  <a:pt x="2856" y="9467"/>
                </a:cubicBezTo>
                <a:cubicBezTo>
                  <a:pt x="2864" y="9523"/>
                  <a:pt x="2869" y="9578"/>
                  <a:pt x="2879" y="9634"/>
                </a:cubicBezTo>
                <a:cubicBezTo>
                  <a:pt x="2957" y="9621"/>
                  <a:pt x="2990" y="9579"/>
                  <a:pt x="3057" y="9537"/>
                </a:cubicBezTo>
                <a:cubicBezTo>
                  <a:pt x="3131" y="9491"/>
                  <a:pt x="3191" y="9467"/>
                  <a:pt x="3276" y="9463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46120" y="3979800"/>
            <a:ext cx="209520" cy="871560"/>
          </a:xfrm>
          <a:custGeom>
            <a:avLst/>
            <a:gdLst/>
            <a:ahLst/>
            <a:rect l="l" t="t" r="r" b="b"/>
            <a:pathLst>
              <a:path w="581" h="2423">
                <a:moveTo>
                  <a:pt x="1972" y="11054"/>
                </a:moveTo>
                <a:cubicBezTo>
                  <a:pt x="1972" y="11189"/>
                  <a:pt x="1972" y="11327"/>
                  <a:pt x="1963" y="11462"/>
                </a:cubicBezTo>
                <a:cubicBezTo>
                  <a:pt x="1952" y="11620"/>
                  <a:pt x="1933" y="11778"/>
                  <a:pt x="1921" y="11936"/>
                </a:cubicBezTo>
                <a:cubicBezTo>
                  <a:pt x="1902" y="12179"/>
                  <a:pt x="1908" y="12418"/>
                  <a:pt x="1838" y="12654"/>
                </a:cubicBezTo>
                <a:cubicBezTo>
                  <a:pt x="1821" y="12713"/>
                  <a:pt x="1802" y="12771"/>
                  <a:pt x="1782" y="12829"/>
                </a:cubicBezTo>
                <a:cubicBezTo>
                  <a:pt x="1742" y="12946"/>
                  <a:pt x="1731" y="13041"/>
                  <a:pt x="1720" y="13162"/>
                </a:cubicBezTo>
                <a:cubicBezTo>
                  <a:pt x="1717" y="13197"/>
                  <a:pt x="1695" y="13422"/>
                  <a:pt x="1697" y="13309"/>
                </a:cubicBezTo>
              </a:path>
              <a:path w="581" h="2423">
                <a:moveTo>
                  <a:pt x="1519" y="13144"/>
                </a:moveTo>
                <a:cubicBezTo>
                  <a:pt x="1561" y="13205"/>
                  <a:pt x="1581" y="13261"/>
                  <a:pt x="1609" y="13330"/>
                </a:cubicBezTo>
                <a:cubicBezTo>
                  <a:pt x="1632" y="13386"/>
                  <a:pt x="1659" y="13428"/>
                  <a:pt x="1695" y="13476"/>
                </a:cubicBezTo>
                <a:cubicBezTo>
                  <a:pt x="1764" y="13453"/>
                  <a:pt x="1800" y="13389"/>
                  <a:pt x="1854" y="13330"/>
                </a:cubicBezTo>
                <a:cubicBezTo>
                  <a:pt x="1911" y="13268"/>
                  <a:pt x="1983" y="13212"/>
                  <a:pt x="2037" y="13148"/>
                </a:cubicBezTo>
                <a:cubicBezTo>
                  <a:pt x="2069" y="13100"/>
                  <a:pt x="2079" y="13085"/>
                  <a:pt x="2099" y="13053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57360" y="5477040"/>
            <a:ext cx="187200" cy="487080"/>
          </a:xfrm>
          <a:custGeom>
            <a:avLst/>
            <a:gdLst/>
            <a:ahLst/>
            <a:rect l="l" t="t" r="r" b="b"/>
            <a:pathLst>
              <a:path w="521" h="1354">
                <a:moveTo>
                  <a:pt x="1826" y="15212"/>
                </a:moveTo>
                <a:cubicBezTo>
                  <a:pt x="1845" y="15274"/>
                  <a:pt x="1859" y="15339"/>
                  <a:pt x="1879" y="15401"/>
                </a:cubicBezTo>
                <a:cubicBezTo>
                  <a:pt x="1913" y="15509"/>
                  <a:pt x="1947" y="15612"/>
                  <a:pt x="1965" y="15725"/>
                </a:cubicBezTo>
                <a:cubicBezTo>
                  <a:pt x="1975" y="15787"/>
                  <a:pt x="1996" y="15844"/>
                  <a:pt x="2018" y="15903"/>
                </a:cubicBezTo>
                <a:cubicBezTo>
                  <a:pt x="2048" y="15984"/>
                  <a:pt x="2095" y="16061"/>
                  <a:pt x="2117" y="16143"/>
                </a:cubicBezTo>
                <a:cubicBezTo>
                  <a:pt x="2134" y="16208"/>
                  <a:pt x="2146" y="16274"/>
                  <a:pt x="2161" y="16339"/>
                </a:cubicBezTo>
                <a:cubicBezTo>
                  <a:pt x="2175" y="16400"/>
                  <a:pt x="2187" y="16459"/>
                  <a:pt x="2196" y="16521"/>
                </a:cubicBezTo>
                <a:cubicBezTo>
                  <a:pt x="2189" y="16485"/>
                  <a:pt x="2185" y="16471"/>
                  <a:pt x="2166" y="16452"/>
                </a:cubicBezTo>
              </a:path>
              <a:path w="521" h="1354">
                <a:moveTo>
                  <a:pt x="1900" y="16429"/>
                </a:moveTo>
                <a:cubicBezTo>
                  <a:pt x="1948" y="16482"/>
                  <a:pt x="1977" y="16534"/>
                  <a:pt x="2050" y="16556"/>
                </a:cubicBezTo>
                <a:cubicBezTo>
                  <a:pt x="2111" y="16574"/>
                  <a:pt x="2211" y="16582"/>
                  <a:pt x="2203" y="16496"/>
                </a:cubicBezTo>
                <a:cubicBezTo>
                  <a:pt x="2198" y="16483"/>
                  <a:pt x="2192" y="16470"/>
                  <a:pt x="2187" y="16457"/>
                </a:cubicBezTo>
              </a:path>
              <a:path w="521" h="1354">
                <a:moveTo>
                  <a:pt x="2346" y="16140"/>
                </a:moveTo>
                <a:cubicBezTo>
                  <a:pt x="2329" y="16206"/>
                  <a:pt x="2305" y="16271"/>
                  <a:pt x="2291" y="16337"/>
                </a:cubicBezTo>
                <a:cubicBezTo>
                  <a:pt x="2281" y="16383"/>
                  <a:pt x="2280" y="16427"/>
                  <a:pt x="2281" y="16473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327800" y="4284720"/>
            <a:ext cx="330480" cy="212760"/>
          </a:xfrm>
          <a:custGeom>
            <a:avLst/>
            <a:gdLst/>
            <a:ahLst/>
            <a:rect l="l" t="t" r="r" b="b"/>
            <a:pathLst>
              <a:path w="917" h="588">
                <a:moveTo>
                  <a:pt x="21271" y="11903"/>
                </a:moveTo>
                <a:cubicBezTo>
                  <a:pt x="21208" y="11934"/>
                  <a:pt x="21141" y="11947"/>
                  <a:pt x="21077" y="11979"/>
                </a:cubicBezTo>
                <a:cubicBezTo>
                  <a:pt x="21008" y="12014"/>
                  <a:pt x="20944" y="12065"/>
                  <a:pt x="20879" y="12106"/>
                </a:cubicBezTo>
                <a:cubicBezTo>
                  <a:pt x="20744" y="12192"/>
                  <a:pt x="20605" y="12282"/>
                  <a:pt x="20461" y="12351"/>
                </a:cubicBezTo>
                <a:cubicBezTo>
                  <a:pt x="20389" y="12386"/>
                  <a:pt x="20389" y="12386"/>
                  <a:pt x="20410" y="12319"/>
                </a:cubicBezTo>
              </a:path>
              <a:path w="917" h="588">
                <a:moveTo>
                  <a:pt x="20608" y="12134"/>
                </a:moveTo>
                <a:cubicBezTo>
                  <a:pt x="20613" y="12211"/>
                  <a:pt x="20561" y="12254"/>
                  <a:pt x="20507" y="12319"/>
                </a:cubicBezTo>
                <a:cubicBezTo>
                  <a:pt x="20458" y="12378"/>
                  <a:pt x="20408" y="12435"/>
                  <a:pt x="20355" y="12490"/>
                </a:cubicBezTo>
                <a:cubicBezTo>
                  <a:pt x="20429" y="12456"/>
                  <a:pt x="20491" y="12443"/>
                  <a:pt x="20574" y="12444"/>
                </a:cubicBezTo>
                <a:cubicBezTo>
                  <a:pt x="20645" y="12445"/>
                  <a:pt x="20650" y="12456"/>
                  <a:pt x="20710" y="12425"/>
                </a:cubicBezTo>
              </a:path>
              <a:path w="917" h="588">
                <a:moveTo>
                  <a:pt x="20376" y="12164"/>
                </a:moveTo>
                <a:cubicBezTo>
                  <a:pt x="20434" y="12139"/>
                  <a:pt x="20435" y="12138"/>
                  <a:pt x="20456" y="12079"/>
                </a:cubicBezTo>
                <a:cubicBezTo>
                  <a:pt x="20452" y="12153"/>
                  <a:pt x="20435" y="12216"/>
                  <a:pt x="20415" y="12287"/>
                </a:cubicBezTo>
                <a:cubicBezTo>
                  <a:pt x="20401" y="12336"/>
                  <a:pt x="20389" y="12385"/>
                  <a:pt x="20376" y="12434"/>
                </a:cubicBezTo>
                <a:cubicBezTo>
                  <a:pt x="20413" y="12374"/>
                  <a:pt x="20425" y="12323"/>
                  <a:pt x="20435" y="12252"/>
                </a:cubicBezTo>
                <a:cubicBezTo>
                  <a:pt x="20440" y="12212"/>
                  <a:pt x="20442" y="12172"/>
                  <a:pt x="20445" y="12132"/>
                </a:cubicBezTo>
                <a:cubicBezTo>
                  <a:pt x="20453" y="12191"/>
                  <a:pt x="20441" y="12230"/>
                  <a:pt x="20431" y="12289"/>
                </a:cubicBezTo>
                <a:cubicBezTo>
                  <a:pt x="20424" y="12331"/>
                  <a:pt x="20424" y="12368"/>
                  <a:pt x="20426" y="12409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664000" y="2247840"/>
            <a:ext cx="1352520" cy="1166760"/>
          </a:xfrm>
          <a:custGeom>
            <a:avLst/>
            <a:gdLst/>
            <a:ahLst/>
            <a:rect l="l" t="t" r="r" b="b"/>
            <a:pathLst>
              <a:path w="3758" h="3243">
                <a:moveTo>
                  <a:pt x="8463" y="6290"/>
                </a:moveTo>
                <a:cubicBezTo>
                  <a:pt x="8475" y="6283"/>
                  <a:pt x="8488" y="6276"/>
                  <a:pt x="8500" y="6269"/>
                </a:cubicBezTo>
                <a:cubicBezTo>
                  <a:pt x="8487" y="6331"/>
                  <a:pt x="8474" y="6394"/>
                  <a:pt x="8461" y="6456"/>
                </a:cubicBezTo>
                <a:cubicBezTo>
                  <a:pt x="8437" y="6570"/>
                  <a:pt x="8413" y="6683"/>
                  <a:pt x="8384" y="6796"/>
                </a:cubicBezTo>
                <a:cubicBezTo>
                  <a:pt x="8340" y="6967"/>
                  <a:pt x="8291" y="7136"/>
                  <a:pt x="8234" y="7302"/>
                </a:cubicBezTo>
                <a:cubicBezTo>
                  <a:pt x="8132" y="7598"/>
                  <a:pt x="8021" y="7892"/>
                  <a:pt x="7913" y="8186"/>
                </a:cubicBezTo>
                <a:cubicBezTo>
                  <a:pt x="7881" y="8273"/>
                  <a:pt x="7851" y="8361"/>
                  <a:pt x="7821" y="8449"/>
                </a:cubicBezTo>
                <a:cubicBezTo>
                  <a:pt x="7764" y="8617"/>
                  <a:pt x="7704" y="8783"/>
                  <a:pt x="7646" y="8950"/>
                </a:cubicBezTo>
                <a:cubicBezTo>
                  <a:pt x="7626" y="9008"/>
                  <a:pt x="7599" y="9069"/>
                  <a:pt x="7590" y="9130"/>
                </a:cubicBezTo>
                <a:cubicBezTo>
                  <a:pt x="7573" y="9246"/>
                  <a:pt x="7587" y="9362"/>
                  <a:pt x="7564" y="9479"/>
                </a:cubicBezTo>
                <a:cubicBezTo>
                  <a:pt x="7569" y="9437"/>
                  <a:pt x="7571" y="9424"/>
                  <a:pt x="7564" y="9396"/>
                </a:cubicBezTo>
              </a:path>
              <a:path w="3758" h="3243">
                <a:moveTo>
                  <a:pt x="7398" y="9301"/>
                </a:moveTo>
                <a:cubicBezTo>
                  <a:pt x="7457" y="9334"/>
                  <a:pt x="7458" y="9370"/>
                  <a:pt x="7479" y="9437"/>
                </a:cubicBezTo>
                <a:cubicBezTo>
                  <a:pt x="7515" y="9549"/>
                  <a:pt x="7543" y="9443"/>
                  <a:pt x="7585" y="9403"/>
                </a:cubicBezTo>
                <a:cubicBezTo>
                  <a:pt x="7639" y="9352"/>
                  <a:pt x="7722" y="9332"/>
                  <a:pt x="7772" y="9278"/>
                </a:cubicBezTo>
                <a:cubicBezTo>
                  <a:pt x="7777" y="9267"/>
                  <a:pt x="7783" y="9256"/>
                  <a:pt x="7788" y="9245"/>
                </a:cubicBezTo>
              </a:path>
              <a:path w="3758" h="3243">
                <a:moveTo>
                  <a:pt x="8733" y="6242"/>
                </a:moveTo>
                <a:cubicBezTo>
                  <a:pt x="8780" y="6298"/>
                  <a:pt x="8835" y="6346"/>
                  <a:pt x="8886" y="6401"/>
                </a:cubicBezTo>
                <a:cubicBezTo>
                  <a:pt x="8995" y="6518"/>
                  <a:pt x="9067" y="6660"/>
                  <a:pt x="9183" y="6773"/>
                </a:cubicBezTo>
                <a:cubicBezTo>
                  <a:pt x="9306" y="6893"/>
                  <a:pt x="9462" y="6968"/>
                  <a:pt x="9587" y="7084"/>
                </a:cubicBezTo>
                <a:cubicBezTo>
                  <a:pt x="9643" y="7135"/>
                  <a:pt x="9689" y="7195"/>
                  <a:pt x="9731" y="7258"/>
                </a:cubicBezTo>
                <a:cubicBezTo>
                  <a:pt x="9798" y="7358"/>
                  <a:pt x="9804" y="7475"/>
                  <a:pt x="9858" y="7571"/>
                </a:cubicBezTo>
                <a:cubicBezTo>
                  <a:pt x="9917" y="7676"/>
                  <a:pt x="9998" y="7762"/>
                  <a:pt x="10056" y="7870"/>
                </a:cubicBezTo>
                <a:cubicBezTo>
                  <a:pt x="10163" y="8068"/>
                  <a:pt x="10304" y="8172"/>
                  <a:pt x="10476" y="8306"/>
                </a:cubicBezTo>
                <a:cubicBezTo>
                  <a:pt x="10589" y="8394"/>
                  <a:pt x="10674" y="8521"/>
                  <a:pt x="10765" y="8631"/>
                </a:cubicBezTo>
                <a:cubicBezTo>
                  <a:pt x="10861" y="8746"/>
                  <a:pt x="10908" y="8847"/>
                  <a:pt x="10966" y="8978"/>
                </a:cubicBezTo>
                <a:cubicBezTo>
                  <a:pt x="10999" y="9052"/>
                  <a:pt x="11015" y="9068"/>
                  <a:pt x="11100" y="9100"/>
                </a:cubicBezTo>
                <a:cubicBezTo>
                  <a:pt x="11084" y="9089"/>
                  <a:pt x="11069" y="9077"/>
                  <a:pt x="11053" y="9066"/>
                </a:cubicBezTo>
              </a:path>
              <a:path w="3758" h="3243">
                <a:moveTo>
                  <a:pt x="10739" y="9056"/>
                </a:moveTo>
                <a:cubicBezTo>
                  <a:pt x="10791" y="9100"/>
                  <a:pt x="10845" y="9137"/>
                  <a:pt x="10911" y="9158"/>
                </a:cubicBezTo>
                <a:cubicBezTo>
                  <a:pt x="10956" y="9172"/>
                  <a:pt x="11071" y="9204"/>
                  <a:pt x="11114" y="9165"/>
                </a:cubicBezTo>
                <a:cubicBezTo>
                  <a:pt x="11160" y="9124"/>
                  <a:pt x="11140" y="9017"/>
                  <a:pt x="11142" y="8964"/>
                </a:cubicBezTo>
                <a:cubicBezTo>
                  <a:pt x="11144" y="8908"/>
                  <a:pt x="11159" y="8843"/>
                  <a:pt x="11155" y="8788"/>
                </a:cubicBezTo>
                <a:cubicBezTo>
                  <a:pt x="11151" y="8773"/>
                  <a:pt x="11148" y="8757"/>
                  <a:pt x="11144" y="8742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719440" y="3983040"/>
            <a:ext cx="162000" cy="447840"/>
          </a:xfrm>
          <a:custGeom>
            <a:avLst/>
            <a:gdLst/>
            <a:ahLst/>
            <a:rect l="l" t="t" r="r" b="b"/>
            <a:pathLst>
              <a:path w="451" h="1243">
                <a:moveTo>
                  <a:pt x="7553" y="11102"/>
                </a:moveTo>
                <a:cubicBezTo>
                  <a:pt x="7561" y="11089"/>
                  <a:pt x="7568" y="11076"/>
                  <a:pt x="7576" y="11063"/>
                </a:cubicBezTo>
                <a:cubicBezTo>
                  <a:pt x="7585" y="11177"/>
                  <a:pt x="7578" y="11293"/>
                  <a:pt x="7602" y="11404"/>
                </a:cubicBezTo>
                <a:cubicBezTo>
                  <a:pt x="7619" y="11485"/>
                  <a:pt x="7647" y="11566"/>
                  <a:pt x="7680" y="11642"/>
                </a:cubicBezTo>
                <a:cubicBezTo>
                  <a:pt x="7717" y="11725"/>
                  <a:pt x="7765" y="11801"/>
                  <a:pt x="7796" y="11887"/>
                </a:cubicBezTo>
                <a:cubicBezTo>
                  <a:pt x="7825" y="11968"/>
                  <a:pt x="7853" y="12048"/>
                  <a:pt x="7885" y="12128"/>
                </a:cubicBezTo>
                <a:cubicBezTo>
                  <a:pt x="7865" y="12084"/>
                  <a:pt x="7859" y="12070"/>
                  <a:pt x="7844" y="12042"/>
                </a:cubicBezTo>
              </a:path>
              <a:path w="451" h="1243">
                <a:moveTo>
                  <a:pt x="7618" y="12044"/>
                </a:moveTo>
                <a:cubicBezTo>
                  <a:pt x="7602" y="12127"/>
                  <a:pt x="7655" y="12128"/>
                  <a:pt x="7722" y="12190"/>
                </a:cubicBezTo>
                <a:cubicBezTo>
                  <a:pt x="7751" y="12217"/>
                  <a:pt x="7814" y="12344"/>
                  <a:pt x="7869" y="12293"/>
                </a:cubicBezTo>
                <a:cubicBezTo>
                  <a:pt x="7901" y="12263"/>
                  <a:pt x="7923" y="12139"/>
                  <a:pt x="7943" y="12097"/>
                </a:cubicBezTo>
                <a:cubicBezTo>
                  <a:pt x="7976" y="12028"/>
                  <a:pt x="8006" y="11982"/>
                  <a:pt x="7992" y="11908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218120" y="3790800"/>
            <a:ext cx="169560" cy="757440"/>
          </a:xfrm>
          <a:custGeom>
            <a:avLst/>
            <a:gdLst/>
            <a:ahLst/>
            <a:rect l="l" t="t" r="r" b="b"/>
            <a:pathLst>
              <a:path w="473" h="2107">
                <a:moveTo>
                  <a:pt x="11777" y="10529"/>
                </a:moveTo>
                <a:cubicBezTo>
                  <a:pt x="11764" y="10616"/>
                  <a:pt x="11769" y="10702"/>
                  <a:pt x="11777" y="10790"/>
                </a:cubicBezTo>
                <a:cubicBezTo>
                  <a:pt x="11787" y="10896"/>
                  <a:pt x="11795" y="11001"/>
                  <a:pt x="11806" y="11107"/>
                </a:cubicBezTo>
                <a:cubicBezTo>
                  <a:pt x="11830" y="11332"/>
                  <a:pt x="11868" y="11553"/>
                  <a:pt x="11897" y="11777"/>
                </a:cubicBezTo>
                <a:cubicBezTo>
                  <a:pt x="11906" y="11849"/>
                  <a:pt x="11909" y="11921"/>
                  <a:pt x="11913" y="11993"/>
                </a:cubicBezTo>
                <a:cubicBezTo>
                  <a:pt x="11919" y="12117"/>
                  <a:pt x="11914" y="12244"/>
                  <a:pt x="11929" y="12367"/>
                </a:cubicBezTo>
                <a:cubicBezTo>
                  <a:pt x="11935" y="12418"/>
                  <a:pt x="11954" y="12466"/>
                  <a:pt x="11956" y="12518"/>
                </a:cubicBezTo>
                <a:cubicBezTo>
                  <a:pt x="11957" y="12548"/>
                  <a:pt x="11972" y="12631"/>
                  <a:pt x="11942" y="12554"/>
                </a:cubicBezTo>
              </a:path>
              <a:path w="473" h="2107">
                <a:moveTo>
                  <a:pt x="11716" y="12462"/>
                </a:moveTo>
                <a:cubicBezTo>
                  <a:pt x="11770" y="12510"/>
                  <a:pt x="11825" y="12580"/>
                  <a:pt x="11885" y="12619"/>
                </a:cubicBezTo>
                <a:cubicBezTo>
                  <a:pt x="11961" y="12669"/>
                  <a:pt x="12008" y="12548"/>
                  <a:pt x="12035" y="12497"/>
                </a:cubicBezTo>
                <a:cubicBezTo>
                  <a:pt x="12068" y="12435"/>
                  <a:pt x="12086" y="12382"/>
                  <a:pt x="12130" y="12324"/>
                </a:cubicBezTo>
                <a:cubicBezTo>
                  <a:pt x="12164" y="12285"/>
                  <a:pt x="12174" y="12274"/>
                  <a:pt x="12188" y="12243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057480" y="4951440"/>
            <a:ext cx="285840" cy="430200"/>
          </a:xfrm>
          <a:custGeom>
            <a:avLst/>
            <a:gdLst/>
            <a:ahLst/>
            <a:rect l="l" t="t" r="r" b="b"/>
            <a:pathLst>
              <a:path w="791" h="1195">
                <a:moveTo>
                  <a:pt x="8495" y="13753"/>
                </a:moveTo>
                <a:cubicBezTo>
                  <a:pt x="8523" y="13823"/>
                  <a:pt x="8553" y="13890"/>
                  <a:pt x="8585" y="13958"/>
                </a:cubicBezTo>
                <a:cubicBezTo>
                  <a:pt x="8640" y="14075"/>
                  <a:pt x="8714" y="14181"/>
                  <a:pt x="8781" y="14291"/>
                </a:cubicBezTo>
                <a:cubicBezTo>
                  <a:pt x="8843" y="14393"/>
                  <a:pt x="8906" y="14492"/>
                  <a:pt x="8973" y="14591"/>
                </a:cubicBezTo>
                <a:cubicBezTo>
                  <a:pt x="9026" y="14669"/>
                  <a:pt x="9078" y="14750"/>
                  <a:pt x="9144" y="14818"/>
                </a:cubicBezTo>
                <a:cubicBezTo>
                  <a:pt x="9185" y="14861"/>
                  <a:pt x="9234" y="14892"/>
                  <a:pt x="9283" y="14924"/>
                </a:cubicBezTo>
                <a:cubicBezTo>
                  <a:pt x="9270" y="14863"/>
                  <a:pt x="9252" y="14854"/>
                  <a:pt x="9200" y="14810"/>
                </a:cubicBezTo>
              </a:path>
              <a:path w="791" h="1195">
                <a:moveTo>
                  <a:pt x="8832" y="14795"/>
                </a:moveTo>
                <a:cubicBezTo>
                  <a:pt x="8850" y="14855"/>
                  <a:pt x="8913" y="14879"/>
                  <a:pt x="8980" y="14910"/>
                </a:cubicBezTo>
                <a:cubicBezTo>
                  <a:pt x="9040" y="14938"/>
                  <a:pt x="9120" y="14972"/>
                  <a:pt x="9178" y="14922"/>
                </a:cubicBezTo>
                <a:cubicBezTo>
                  <a:pt x="9230" y="14877"/>
                  <a:pt x="9233" y="14788"/>
                  <a:pt x="9236" y="14725"/>
                </a:cubicBezTo>
                <a:cubicBezTo>
                  <a:pt x="9239" y="14665"/>
                  <a:pt x="9246" y="14609"/>
                  <a:pt x="9252" y="14550"/>
                </a:cubicBezTo>
                <a:cubicBezTo>
                  <a:pt x="9252" y="14535"/>
                  <a:pt x="9253" y="14519"/>
                  <a:pt x="9253" y="14504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330800" y="5137200"/>
            <a:ext cx="180720" cy="730080"/>
          </a:xfrm>
          <a:custGeom>
            <a:avLst/>
            <a:gdLst/>
            <a:ahLst/>
            <a:rect l="l" t="t" r="r" b="b"/>
            <a:pathLst>
              <a:path w="505" h="2030">
                <a:moveTo>
                  <a:pt x="12088" y="14303"/>
                </a:moveTo>
                <a:cubicBezTo>
                  <a:pt x="12097" y="14215"/>
                  <a:pt x="12090" y="14414"/>
                  <a:pt x="12090" y="14444"/>
                </a:cubicBezTo>
                <a:cubicBezTo>
                  <a:pt x="12091" y="14545"/>
                  <a:pt x="12098" y="14639"/>
                  <a:pt x="12113" y="14739"/>
                </a:cubicBezTo>
                <a:cubicBezTo>
                  <a:pt x="12129" y="14847"/>
                  <a:pt x="12155" y="14951"/>
                  <a:pt x="12181" y="15057"/>
                </a:cubicBezTo>
                <a:cubicBezTo>
                  <a:pt x="12205" y="15157"/>
                  <a:pt x="12223" y="15250"/>
                  <a:pt x="12229" y="15353"/>
                </a:cubicBezTo>
                <a:cubicBezTo>
                  <a:pt x="12244" y="15591"/>
                  <a:pt x="12157" y="15897"/>
                  <a:pt x="12217" y="16127"/>
                </a:cubicBezTo>
                <a:cubicBezTo>
                  <a:pt x="12222" y="16139"/>
                  <a:pt x="12226" y="16151"/>
                  <a:pt x="12231" y="16163"/>
                </a:cubicBezTo>
              </a:path>
              <a:path w="505" h="2030">
                <a:moveTo>
                  <a:pt x="12028" y="16004"/>
                </a:moveTo>
                <a:cubicBezTo>
                  <a:pt x="12078" y="16064"/>
                  <a:pt x="12087" y="16128"/>
                  <a:pt x="12130" y="16194"/>
                </a:cubicBezTo>
                <a:cubicBezTo>
                  <a:pt x="12179" y="16270"/>
                  <a:pt x="12219" y="16328"/>
                  <a:pt x="12289" y="16249"/>
                </a:cubicBezTo>
                <a:cubicBezTo>
                  <a:pt x="12352" y="16177"/>
                  <a:pt x="12419" y="16099"/>
                  <a:pt x="12480" y="16028"/>
                </a:cubicBezTo>
                <a:cubicBezTo>
                  <a:pt x="12509" y="15980"/>
                  <a:pt x="12518" y="15965"/>
                  <a:pt x="12532" y="15931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037200" y="4083120"/>
            <a:ext cx="255600" cy="392040"/>
          </a:xfrm>
          <a:custGeom>
            <a:avLst/>
            <a:gdLst/>
            <a:ahLst/>
            <a:rect l="l" t="t" r="r" b="b"/>
            <a:pathLst>
              <a:path w="713" h="1091">
                <a:moveTo>
                  <a:pt x="16789" y="11377"/>
                </a:moveTo>
                <a:cubicBezTo>
                  <a:pt x="16785" y="11365"/>
                  <a:pt x="16780" y="11354"/>
                  <a:pt x="16776" y="11342"/>
                </a:cubicBezTo>
                <a:cubicBezTo>
                  <a:pt x="16772" y="11426"/>
                  <a:pt x="16816" y="11492"/>
                  <a:pt x="16854" y="11569"/>
                </a:cubicBezTo>
                <a:cubicBezTo>
                  <a:pt x="16920" y="11704"/>
                  <a:pt x="16989" y="11837"/>
                  <a:pt x="17069" y="11964"/>
                </a:cubicBezTo>
                <a:cubicBezTo>
                  <a:pt x="17176" y="12136"/>
                  <a:pt x="17322" y="12281"/>
                  <a:pt x="17455" y="12432"/>
                </a:cubicBezTo>
                <a:cubicBezTo>
                  <a:pt x="17444" y="12383"/>
                  <a:pt x="17437" y="12364"/>
                  <a:pt x="17401" y="12345"/>
                </a:cubicBezTo>
              </a:path>
              <a:path w="713" h="1091">
                <a:moveTo>
                  <a:pt x="16969" y="12208"/>
                </a:moveTo>
                <a:cubicBezTo>
                  <a:pt x="17026" y="12238"/>
                  <a:pt x="17085" y="12245"/>
                  <a:pt x="17149" y="12266"/>
                </a:cubicBezTo>
                <a:cubicBezTo>
                  <a:pt x="17217" y="12289"/>
                  <a:pt x="17282" y="12317"/>
                  <a:pt x="17351" y="12337"/>
                </a:cubicBezTo>
                <a:cubicBezTo>
                  <a:pt x="17428" y="12359"/>
                  <a:pt x="17439" y="12279"/>
                  <a:pt x="17454" y="12218"/>
                </a:cubicBezTo>
                <a:cubicBezTo>
                  <a:pt x="17471" y="12151"/>
                  <a:pt x="17491" y="12066"/>
                  <a:pt x="17480" y="11996"/>
                </a:cubicBezTo>
                <a:cubicBezTo>
                  <a:pt x="17475" y="11984"/>
                  <a:pt x="17471" y="11971"/>
                  <a:pt x="17466" y="11959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23040" y="2863800"/>
            <a:ext cx="631800" cy="2259000"/>
          </a:xfrm>
          <a:custGeom>
            <a:avLst/>
            <a:gdLst/>
            <a:ahLst/>
            <a:rect l="l" t="t" r="r" b="b"/>
            <a:pathLst>
              <a:path w="1758" h="6272">
                <a:moveTo>
                  <a:pt x="16808" y="7957"/>
                </a:moveTo>
                <a:cubicBezTo>
                  <a:pt x="16820" y="8024"/>
                  <a:pt x="16808" y="8083"/>
                  <a:pt x="16794" y="8151"/>
                </a:cubicBezTo>
                <a:cubicBezTo>
                  <a:pt x="16783" y="8207"/>
                  <a:pt x="16770" y="8263"/>
                  <a:pt x="16757" y="8318"/>
                </a:cubicBezTo>
                <a:cubicBezTo>
                  <a:pt x="16741" y="8385"/>
                  <a:pt x="16727" y="8452"/>
                  <a:pt x="16716" y="8520"/>
                </a:cubicBezTo>
                <a:cubicBezTo>
                  <a:pt x="16701" y="8610"/>
                  <a:pt x="16665" y="8695"/>
                  <a:pt x="16642" y="8784"/>
                </a:cubicBezTo>
                <a:cubicBezTo>
                  <a:pt x="16613" y="8900"/>
                  <a:pt x="16591" y="9003"/>
                  <a:pt x="16591" y="9123"/>
                </a:cubicBezTo>
                <a:cubicBezTo>
                  <a:pt x="16591" y="9285"/>
                  <a:pt x="16583" y="9441"/>
                  <a:pt x="16565" y="9601"/>
                </a:cubicBezTo>
                <a:cubicBezTo>
                  <a:pt x="16559" y="9643"/>
                  <a:pt x="16557" y="9653"/>
                  <a:pt x="16563" y="9592"/>
                </a:cubicBezTo>
              </a:path>
              <a:path w="1758" h="6272">
                <a:moveTo>
                  <a:pt x="16392" y="9490"/>
                </a:moveTo>
                <a:cubicBezTo>
                  <a:pt x="16406" y="9549"/>
                  <a:pt x="16439" y="9612"/>
                  <a:pt x="16487" y="9656"/>
                </a:cubicBezTo>
                <a:cubicBezTo>
                  <a:pt x="16499" y="9663"/>
                  <a:pt x="16510" y="9671"/>
                  <a:pt x="16522" y="9678"/>
                </a:cubicBezTo>
                <a:cubicBezTo>
                  <a:pt x="16579" y="9613"/>
                  <a:pt x="16626" y="9538"/>
                  <a:pt x="16686" y="9476"/>
                </a:cubicBezTo>
                <a:cubicBezTo>
                  <a:pt x="16740" y="9429"/>
                  <a:pt x="16756" y="9414"/>
                  <a:pt x="16794" y="9387"/>
                </a:cubicBezTo>
              </a:path>
              <a:path w="1758" h="6272">
                <a:moveTo>
                  <a:pt x="16228" y="11252"/>
                </a:moveTo>
                <a:cubicBezTo>
                  <a:pt x="16230" y="11315"/>
                  <a:pt x="16224" y="11363"/>
                  <a:pt x="16205" y="11442"/>
                </a:cubicBezTo>
                <a:cubicBezTo>
                  <a:pt x="16172" y="11578"/>
                  <a:pt x="16129" y="11713"/>
                  <a:pt x="16080" y="11845"/>
                </a:cubicBezTo>
                <a:cubicBezTo>
                  <a:pt x="15961" y="12168"/>
                  <a:pt x="15837" y="12487"/>
                  <a:pt x="15734" y="12816"/>
                </a:cubicBezTo>
                <a:cubicBezTo>
                  <a:pt x="15671" y="13016"/>
                  <a:pt x="15574" y="13203"/>
                  <a:pt x="15494" y="13397"/>
                </a:cubicBezTo>
                <a:cubicBezTo>
                  <a:pt x="15445" y="13516"/>
                  <a:pt x="15408" y="13636"/>
                  <a:pt x="15365" y="13757"/>
                </a:cubicBezTo>
                <a:cubicBezTo>
                  <a:pt x="15321" y="13881"/>
                  <a:pt x="15234" y="14061"/>
                  <a:pt x="15219" y="14072"/>
                </a:cubicBezTo>
              </a:path>
              <a:path w="1758" h="6272">
                <a:moveTo>
                  <a:pt x="15081" y="13917"/>
                </a:moveTo>
                <a:cubicBezTo>
                  <a:pt x="15058" y="14001"/>
                  <a:pt x="15075" y="14029"/>
                  <a:pt x="15111" y="14108"/>
                </a:cubicBezTo>
                <a:cubicBezTo>
                  <a:pt x="15129" y="14148"/>
                  <a:pt x="15141" y="14186"/>
                  <a:pt x="15152" y="14228"/>
                </a:cubicBezTo>
                <a:cubicBezTo>
                  <a:pt x="15220" y="14182"/>
                  <a:pt x="15278" y="14125"/>
                  <a:pt x="15344" y="14076"/>
                </a:cubicBezTo>
                <a:cubicBezTo>
                  <a:pt x="15410" y="14028"/>
                  <a:pt x="15457" y="13977"/>
                  <a:pt x="15513" y="13917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164360" y="2144880"/>
            <a:ext cx="158760" cy="669600"/>
          </a:xfrm>
          <a:custGeom>
            <a:avLst/>
            <a:gdLst/>
            <a:ahLst/>
            <a:rect l="l" t="t" r="r" b="b"/>
            <a:pathLst>
              <a:path w="442" h="1860">
                <a:moveTo>
                  <a:pt x="20142" y="5957"/>
                </a:moveTo>
                <a:cubicBezTo>
                  <a:pt x="20191" y="6014"/>
                  <a:pt x="20163" y="6070"/>
                  <a:pt x="20154" y="6154"/>
                </a:cubicBezTo>
                <a:cubicBezTo>
                  <a:pt x="20139" y="6300"/>
                  <a:pt x="20133" y="6448"/>
                  <a:pt x="20128" y="6595"/>
                </a:cubicBezTo>
                <a:cubicBezTo>
                  <a:pt x="20124" y="6709"/>
                  <a:pt x="20121" y="6822"/>
                  <a:pt x="20121" y="6936"/>
                </a:cubicBezTo>
                <a:cubicBezTo>
                  <a:pt x="20120" y="7078"/>
                  <a:pt x="20138" y="7229"/>
                  <a:pt x="20121" y="7370"/>
                </a:cubicBezTo>
                <a:cubicBezTo>
                  <a:pt x="20110" y="7462"/>
                  <a:pt x="20067" y="7486"/>
                  <a:pt x="20013" y="7555"/>
                </a:cubicBezTo>
                <a:cubicBezTo>
                  <a:pt x="19973" y="7606"/>
                  <a:pt x="19976" y="7651"/>
                  <a:pt x="19976" y="7712"/>
                </a:cubicBezTo>
                <a:cubicBezTo>
                  <a:pt x="19976" y="7819"/>
                  <a:pt x="19989" y="7790"/>
                  <a:pt x="20001" y="7705"/>
                </a:cubicBezTo>
              </a:path>
              <a:path w="442" h="1860">
                <a:moveTo>
                  <a:pt x="19902" y="7555"/>
                </a:moveTo>
                <a:cubicBezTo>
                  <a:pt x="19917" y="7624"/>
                  <a:pt x="19938" y="7690"/>
                  <a:pt x="19958" y="7758"/>
                </a:cubicBezTo>
                <a:cubicBezTo>
                  <a:pt x="19994" y="7880"/>
                  <a:pt x="20074" y="7765"/>
                  <a:pt x="20124" y="7715"/>
                </a:cubicBezTo>
                <a:cubicBezTo>
                  <a:pt x="20177" y="7663"/>
                  <a:pt x="20234" y="7601"/>
                  <a:pt x="20278" y="7541"/>
                </a:cubicBezTo>
                <a:cubicBezTo>
                  <a:pt x="20315" y="7482"/>
                  <a:pt x="20326" y="7466"/>
                  <a:pt x="20343" y="7424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299440" y="2082960"/>
            <a:ext cx="333360" cy="552240"/>
          </a:xfrm>
          <a:custGeom>
            <a:avLst/>
            <a:gdLst/>
            <a:ahLst/>
            <a:rect l="l" t="t" r="r" b="b"/>
            <a:pathLst>
              <a:path w="925" h="1535">
                <a:moveTo>
                  <a:pt x="23054" y="5784"/>
                </a:moveTo>
                <a:cubicBezTo>
                  <a:pt x="23057" y="5848"/>
                  <a:pt x="23067" y="5903"/>
                  <a:pt x="23086" y="5964"/>
                </a:cubicBezTo>
                <a:cubicBezTo>
                  <a:pt x="23147" y="6165"/>
                  <a:pt x="23248" y="6371"/>
                  <a:pt x="23345" y="6556"/>
                </a:cubicBezTo>
                <a:cubicBezTo>
                  <a:pt x="23386" y="6635"/>
                  <a:pt x="23427" y="6719"/>
                  <a:pt x="23477" y="6793"/>
                </a:cubicBezTo>
                <a:cubicBezTo>
                  <a:pt x="23518" y="6854"/>
                  <a:pt x="23566" y="6917"/>
                  <a:pt x="23620" y="6967"/>
                </a:cubicBezTo>
                <a:cubicBezTo>
                  <a:pt x="23678" y="7020"/>
                  <a:pt x="23727" y="7079"/>
                  <a:pt x="23783" y="7135"/>
                </a:cubicBezTo>
                <a:cubicBezTo>
                  <a:pt x="23827" y="7178"/>
                  <a:pt x="23852" y="7232"/>
                  <a:pt x="23894" y="7276"/>
                </a:cubicBezTo>
                <a:cubicBezTo>
                  <a:pt x="23964" y="7349"/>
                  <a:pt x="23941" y="7309"/>
                  <a:pt x="23959" y="7273"/>
                </a:cubicBezTo>
              </a:path>
              <a:path w="925" h="1535">
                <a:moveTo>
                  <a:pt x="23446" y="7237"/>
                </a:moveTo>
                <a:cubicBezTo>
                  <a:pt x="23508" y="7273"/>
                  <a:pt x="23566" y="7290"/>
                  <a:pt x="23636" y="7306"/>
                </a:cubicBezTo>
                <a:cubicBezTo>
                  <a:pt x="23727" y="7326"/>
                  <a:pt x="23818" y="7322"/>
                  <a:pt x="23895" y="7262"/>
                </a:cubicBezTo>
                <a:cubicBezTo>
                  <a:pt x="23966" y="7207"/>
                  <a:pt x="23974" y="7150"/>
                  <a:pt x="23973" y="7068"/>
                </a:cubicBezTo>
                <a:cubicBezTo>
                  <a:pt x="23973" y="7031"/>
                  <a:pt x="23973" y="7018"/>
                  <a:pt x="23964" y="6994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597880" y="3259080"/>
            <a:ext cx="179280" cy="222480"/>
          </a:xfrm>
          <a:custGeom>
            <a:avLst/>
            <a:gdLst/>
            <a:ahLst/>
            <a:rect l="l" t="t" r="r" b="b"/>
            <a:pathLst>
              <a:path w="496" h="620">
                <a:moveTo>
                  <a:pt x="24102" y="9051"/>
                </a:moveTo>
                <a:cubicBezTo>
                  <a:pt x="24101" y="9126"/>
                  <a:pt x="24100" y="9200"/>
                  <a:pt x="24107" y="9275"/>
                </a:cubicBezTo>
                <a:cubicBezTo>
                  <a:pt x="24113" y="9339"/>
                  <a:pt x="24132" y="9401"/>
                  <a:pt x="24149" y="9463"/>
                </a:cubicBezTo>
                <a:cubicBezTo>
                  <a:pt x="24162" y="9512"/>
                  <a:pt x="24150" y="9633"/>
                  <a:pt x="24183" y="9544"/>
                </a:cubicBezTo>
              </a:path>
              <a:path w="496" h="620">
                <a:moveTo>
                  <a:pt x="23885" y="9500"/>
                </a:moveTo>
                <a:cubicBezTo>
                  <a:pt x="23918" y="9559"/>
                  <a:pt x="23975" y="9622"/>
                  <a:pt x="24038" y="9656"/>
                </a:cubicBezTo>
                <a:cubicBezTo>
                  <a:pt x="24119" y="9700"/>
                  <a:pt x="24157" y="9626"/>
                  <a:pt x="24211" y="9580"/>
                </a:cubicBezTo>
                <a:cubicBezTo>
                  <a:pt x="24277" y="9523"/>
                  <a:pt x="24333" y="9500"/>
                  <a:pt x="24380" y="9428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105520" y="594360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95880" y="533412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361200" y="4991040"/>
            <a:ext cx="155520" cy="416160"/>
          </a:xfrm>
          <a:custGeom>
            <a:avLst/>
            <a:gdLst/>
            <a:ahLst/>
            <a:rect l="l" t="t" r="r" b="b"/>
            <a:pathLst>
              <a:path w="433" h="1159">
                <a:moveTo>
                  <a:pt x="17935" y="13862"/>
                </a:moveTo>
                <a:cubicBezTo>
                  <a:pt x="17952" y="13927"/>
                  <a:pt x="17937" y="13966"/>
                  <a:pt x="17926" y="14035"/>
                </a:cubicBezTo>
                <a:cubicBezTo>
                  <a:pt x="17916" y="14099"/>
                  <a:pt x="17915" y="14164"/>
                  <a:pt x="17911" y="14228"/>
                </a:cubicBezTo>
                <a:cubicBezTo>
                  <a:pt x="17906" y="14314"/>
                  <a:pt x="17904" y="14399"/>
                  <a:pt x="17900" y="14485"/>
                </a:cubicBezTo>
                <a:cubicBezTo>
                  <a:pt x="17896" y="14562"/>
                  <a:pt x="17893" y="14639"/>
                  <a:pt x="17889" y="14716"/>
                </a:cubicBezTo>
                <a:cubicBezTo>
                  <a:pt x="17885" y="14791"/>
                  <a:pt x="17878" y="15017"/>
                  <a:pt x="17872" y="14942"/>
                </a:cubicBezTo>
                <a:cubicBezTo>
                  <a:pt x="17872" y="14928"/>
                  <a:pt x="17873" y="14915"/>
                  <a:pt x="17873" y="14901"/>
                </a:cubicBezTo>
              </a:path>
              <a:path w="433" h="1159">
                <a:moveTo>
                  <a:pt x="17669" y="14847"/>
                </a:moveTo>
                <a:cubicBezTo>
                  <a:pt x="17698" y="14897"/>
                  <a:pt x="17710" y="14991"/>
                  <a:pt x="17769" y="15018"/>
                </a:cubicBezTo>
                <a:cubicBezTo>
                  <a:pt x="17852" y="15056"/>
                  <a:pt x="17945" y="14927"/>
                  <a:pt x="17985" y="14878"/>
                </a:cubicBezTo>
                <a:cubicBezTo>
                  <a:pt x="18023" y="14832"/>
                  <a:pt x="18058" y="14784"/>
                  <a:pt x="18080" y="14728"/>
                </a:cubicBezTo>
                <a:cubicBezTo>
                  <a:pt x="18087" y="14708"/>
                  <a:pt x="18094" y="14688"/>
                  <a:pt x="18101" y="14668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283360" y="5661000"/>
            <a:ext cx="220680" cy="387360"/>
          </a:xfrm>
          <a:custGeom>
            <a:avLst/>
            <a:gdLst/>
            <a:ahLst/>
            <a:rect l="l" t="t" r="r" b="b"/>
            <a:pathLst>
              <a:path w="613" h="1075">
                <a:moveTo>
                  <a:pt x="14960" y="15737"/>
                </a:moveTo>
                <a:cubicBezTo>
                  <a:pt x="15034" y="15740"/>
                  <a:pt x="14984" y="15811"/>
                  <a:pt x="14979" y="15894"/>
                </a:cubicBezTo>
                <a:cubicBezTo>
                  <a:pt x="14974" y="15987"/>
                  <a:pt x="14977" y="16080"/>
                  <a:pt x="14982" y="16173"/>
                </a:cubicBezTo>
                <a:cubicBezTo>
                  <a:pt x="14987" y="16272"/>
                  <a:pt x="14999" y="16370"/>
                  <a:pt x="15012" y="16468"/>
                </a:cubicBezTo>
                <a:cubicBezTo>
                  <a:pt x="15021" y="16539"/>
                  <a:pt x="15032" y="16609"/>
                  <a:pt x="15048" y="16679"/>
                </a:cubicBezTo>
                <a:cubicBezTo>
                  <a:pt x="15080" y="16822"/>
                  <a:pt x="15046" y="16661"/>
                  <a:pt x="15039" y="16641"/>
                </a:cubicBezTo>
              </a:path>
              <a:path w="613" h="1075">
                <a:moveTo>
                  <a:pt x="14677" y="16506"/>
                </a:moveTo>
                <a:cubicBezTo>
                  <a:pt x="14752" y="16526"/>
                  <a:pt x="14791" y="16598"/>
                  <a:pt x="14836" y="16667"/>
                </a:cubicBezTo>
                <a:cubicBezTo>
                  <a:pt x="14866" y="16712"/>
                  <a:pt x="14909" y="16838"/>
                  <a:pt x="14981" y="16780"/>
                </a:cubicBezTo>
                <a:cubicBezTo>
                  <a:pt x="15041" y="16731"/>
                  <a:pt x="15084" y="16646"/>
                  <a:pt x="15125" y="16582"/>
                </a:cubicBezTo>
                <a:cubicBezTo>
                  <a:pt x="15174" y="16506"/>
                  <a:pt x="15232" y="16436"/>
                  <a:pt x="15266" y="16351"/>
                </a:cubicBezTo>
                <a:cubicBezTo>
                  <a:pt x="15274" y="16329"/>
                  <a:pt x="15281" y="16308"/>
                  <a:pt x="15289" y="16286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410080" y="4343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Web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01520" y="3038400"/>
            <a:ext cx="5100840" cy="336600"/>
          </a:xfrm>
          <a:custGeom>
            <a:avLst/>
            <a:gdLst/>
            <a:ahLst/>
            <a:rect l="l" t="t" r="r" b="b"/>
            <a:pathLst>
              <a:path w="14169" h="936">
                <a:moveTo>
                  <a:pt x="282" y="9278"/>
                </a:moveTo>
                <a:cubicBezTo>
                  <a:pt x="896" y="9204"/>
                  <a:pt x="1511" y="9139"/>
                  <a:pt x="2125" y="9061"/>
                </a:cubicBezTo>
                <a:cubicBezTo>
                  <a:pt x="2622" y="8998"/>
                  <a:pt x="3104" y="8918"/>
                  <a:pt x="3607" y="8948"/>
                </a:cubicBezTo>
                <a:cubicBezTo>
                  <a:pt x="4236" y="8986"/>
                  <a:pt x="4789" y="9043"/>
                  <a:pt x="5413" y="8918"/>
                </a:cubicBezTo>
                <a:cubicBezTo>
                  <a:pt x="6146" y="8771"/>
                  <a:pt x="6794" y="8632"/>
                  <a:pt x="7546" y="8703"/>
                </a:cubicBezTo>
                <a:cubicBezTo>
                  <a:pt x="8101" y="8756"/>
                  <a:pt x="8595" y="8588"/>
                  <a:pt x="9140" y="8537"/>
                </a:cubicBezTo>
                <a:cubicBezTo>
                  <a:pt x="9744" y="8480"/>
                  <a:pt x="10328" y="8443"/>
                  <a:pt x="10934" y="8475"/>
                </a:cubicBezTo>
                <a:cubicBezTo>
                  <a:pt x="11350" y="8497"/>
                  <a:pt x="11758" y="8479"/>
                  <a:pt x="12173" y="8527"/>
                </a:cubicBezTo>
                <a:cubicBezTo>
                  <a:pt x="12549" y="8571"/>
                  <a:pt x="12969" y="8621"/>
                  <a:pt x="13317" y="8775"/>
                </a:cubicBezTo>
                <a:cubicBezTo>
                  <a:pt x="13575" y="8889"/>
                  <a:pt x="13809" y="9063"/>
                  <a:pt x="14063" y="9190"/>
                </a:cubicBezTo>
                <a:cubicBezTo>
                  <a:pt x="14183" y="9250"/>
                  <a:pt x="14298" y="9319"/>
                  <a:pt x="14413" y="9372"/>
                </a:cubicBezTo>
                <a:cubicBezTo>
                  <a:pt x="14425" y="9373"/>
                  <a:pt x="14438" y="9374"/>
                  <a:pt x="14450" y="9375"/>
                </a:cubicBezTo>
              </a:path>
            </a:pathLst>
          </a:custGeom>
          <a:noFill/>
          <a:ln cap="rnd" w="19080">
            <a:solidFill>
              <a:srgbClr val="fbdf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11240" y="4098960"/>
            <a:ext cx="4733640" cy="239760"/>
          </a:xfrm>
          <a:custGeom>
            <a:avLst/>
            <a:gdLst/>
            <a:ahLst/>
            <a:rect l="l" t="t" r="r" b="b"/>
            <a:pathLst>
              <a:path w="13152" h="668">
                <a:moveTo>
                  <a:pt x="346" y="12005"/>
                </a:moveTo>
                <a:cubicBezTo>
                  <a:pt x="333" y="12015"/>
                  <a:pt x="320" y="12025"/>
                  <a:pt x="307" y="12035"/>
                </a:cubicBezTo>
                <a:cubicBezTo>
                  <a:pt x="535" y="12012"/>
                  <a:pt x="765" y="11990"/>
                  <a:pt x="1000" y="11986"/>
                </a:cubicBezTo>
                <a:cubicBezTo>
                  <a:pt x="1389" y="11980"/>
                  <a:pt x="1775" y="11932"/>
                  <a:pt x="2164" y="11912"/>
                </a:cubicBezTo>
                <a:cubicBezTo>
                  <a:pt x="3441" y="11846"/>
                  <a:pt x="4746" y="11936"/>
                  <a:pt x="6017" y="11799"/>
                </a:cubicBezTo>
                <a:cubicBezTo>
                  <a:pt x="6429" y="11755"/>
                  <a:pt x="6811" y="11698"/>
                  <a:pt x="7227" y="11693"/>
                </a:cubicBezTo>
                <a:cubicBezTo>
                  <a:pt x="8047" y="11684"/>
                  <a:pt x="8871" y="11617"/>
                  <a:pt x="9689" y="11555"/>
                </a:cubicBezTo>
                <a:cubicBezTo>
                  <a:pt x="10246" y="11513"/>
                  <a:pt x="10805" y="11405"/>
                  <a:pt x="11363" y="11386"/>
                </a:cubicBezTo>
                <a:cubicBezTo>
                  <a:pt x="11772" y="11372"/>
                  <a:pt x="12068" y="11517"/>
                  <a:pt x="12451" y="11617"/>
                </a:cubicBezTo>
                <a:cubicBezTo>
                  <a:pt x="12773" y="11701"/>
                  <a:pt x="13127" y="11662"/>
                  <a:pt x="13458" y="11663"/>
                </a:cubicBezTo>
              </a:path>
            </a:pathLst>
          </a:custGeom>
          <a:noFill/>
          <a:ln cap="rnd" w="19080">
            <a:solidFill>
              <a:srgbClr val="fbdf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467400" y="1254240"/>
            <a:ext cx="2646360" cy="1807920"/>
          </a:xfrm>
          <a:custGeom>
            <a:avLst/>
            <a:gdLst/>
            <a:ahLst/>
            <a:rect l="l" t="t" r="r" b="b"/>
            <a:pathLst>
              <a:path w="7349" h="5024">
                <a:moveTo>
                  <a:pt x="17967" y="8417"/>
                </a:moveTo>
                <a:cubicBezTo>
                  <a:pt x="17989" y="8461"/>
                  <a:pt x="17997" y="8474"/>
                  <a:pt x="17988" y="8507"/>
                </a:cubicBezTo>
                <a:cubicBezTo>
                  <a:pt x="18097" y="8161"/>
                  <a:pt x="18132" y="7813"/>
                  <a:pt x="18152" y="7449"/>
                </a:cubicBezTo>
                <a:cubicBezTo>
                  <a:pt x="18169" y="7139"/>
                  <a:pt x="18188" y="6920"/>
                  <a:pt x="18304" y="6630"/>
                </a:cubicBezTo>
                <a:cubicBezTo>
                  <a:pt x="18361" y="6488"/>
                  <a:pt x="18414" y="6345"/>
                  <a:pt x="18463" y="6202"/>
                </a:cubicBezTo>
                <a:cubicBezTo>
                  <a:pt x="18552" y="5944"/>
                  <a:pt x="18674" y="5705"/>
                  <a:pt x="18752" y="5442"/>
                </a:cubicBezTo>
                <a:cubicBezTo>
                  <a:pt x="18836" y="5158"/>
                  <a:pt x="18817" y="4879"/>
                  <a:pt x="18874" y="4597"/>
                </a:cubicBezTo>
                <a:cubicBezTo>
                  <a:pt x="18922" y="4360"/>
                  <a:pt x="19080" y="4040"/>
                  <a:pt x="19249" y="3866"/>
                </a:cubicBezTo>
                <a:cubicBezTo>
                  <a:pt x="19345" y="3768"/>
                  <a:pt x="19460" y="3742"/>
                  <a:pt x="19579" y="3687"/>
                </a:cubicBezTo>
                <a:cubicBezTo>
                  <a:pt x="19896" y="3541"/>
                  <a:pt x="20150" y="3447"/>
                  <a:pt x="20486" y="3549"/>
                </a:cubicBezTo>
                <a:cubicBezTo>
                  <a:pt x="20820" y="3651"/>
                  <a:pt x="21099" y="3878"/>
                  <a:pt x="21276" y="4173"/>
                </a:cubicBezTo>
                <a:cubicBezTo>
                  <a:pt x="21378" y="4343"/>
                  <a:pt x="21361" y="4491"/>
                  <a:pt x="21394" y="4678"/>
                </a:cubicBezTo>
                <a:cubicBezTo>
                  <a:pt x="21441" y="4944"/>
                  <a:pt x="21517" y="5226"/>
                  <a:pt x="21620" y="5475"/>
                </a:cubicBezTo>
                <a:cubicBezTo>
                  <a:pt x="21758" y="5807"/>
                  <a:pt x="21788" y="6245"/>
                  <a:pt x="21975" y="6544"/>
                </a:cubicBezTo>
                <a:cubicBezTo>
                  <a:pt x="22133" y="6796"/>
                  <a:pt x="22353" y="6873"/>
                  <a:pt x="22634" y="6858"/>
                </a:cubicBezTo>
                <a:cubicBezTo>
                  <a:pt x="23153" y="6829"/>
                  <a:pt x="23628" y="6597"/>
                  <a:pt x="24121" y="6459"/>
                </a:cubicBezTo>
                <a:cubicBezTo>
                  <a:pt x="24523" y="6346"/>
                  <a:pt x="24909" y="6297"/>
                  <a:pt x="25315" y="6354"/>
                </a:cubicBezTo>
              </a:path>
            </a:pathLst>
          </a:custGeom>
          <a:noFill/>
          <a:ln cap="rnd" w="19080">
            <a:solidFill>
              <a:srgbClr val="fbdf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516720" y="2556000"/>
            <a:ext cx="2598840" cy="1523880"/>
          </a:xfrm>
          <a:custGeom>
            <a:avLst/>
            <a:gdLst/>
            <a:ahLst/>
            <a:rect l="l" t="t" r="r" b="b"/>
            <a:pathLst>
              <a:path w="7221" h="4234">
                <a:moveTo>
                  <a:pt x="18101" y="11333"/>
                </a:moveTo>
                <a:cubicBezTo>
                  <a:pt x="18257" y="11160"/>
                  <a:pt x="18397" y="11020"/>
                  <a:pt x="18445" y="10783"/>
                </a:cubicBezTo>
                <a:cubicBezTo>
                  <a:pt x="18472" y="10652"/>
                  <a:pt x="18477" y="10511"/>
                  <a:pt x="18496" y="10377"/>
                </a:cubicBezTo>
                <a:cubicBezTo>
                  <a:pt x="18520" y="10207"/>
                  <a:pt x="18507" y="10043"/>
                  <a:pt x="18514" y="9872"/>
                </a:cubicBezTo>
                <a:cubicBezTo>
                  <a:pt x="18521" y="9690"/>
                  <a:pt x="18546" y="9507"/>
                  <a:pt x="18556" y="9324"/>
                </a:cubicBezTo>
                <a:cubicBezTo>
                  <a:pt x="18570" y="9059"/>
                  <a:pt x="18618" y="8824"/>
                  <a:pt x="18657" y="8565"/>
                </a:cubicBezTo>
                <a:cubicBezTo>
                  <a:pt x="18689" y="8351"/>
                  <a:pt x="18708" y="8158"/>
                  <a:pt x="18773" y="7950"/>
                </a:cubicBezTo>
                <a:cubicBezTo>
                  <a:pt x="18835" y="7753"/>
                  <a:pt x="18885" y="7611"/>
                  <a:pt x="19054" y="7477"/>
                </a:cubicBezTo>
                <a:cubicBezTo>
                  <a:pt x="19207" y="7356"/>
                  <a:pt x="19401" y="7261"/>
                  <a:pt x="19583" y="7190"/>
                </a:cubicBezTo>
                <a:cubicBezTo>
                  <a:pt x="19701" y="7144"/>
                  <a:pt x="19804" y="7140"/>
                  <a:pt x="19927" y="7123"/>
                </a:cubicBezTo>
                <a:cubicBezTo>
                  <a:pt x="20264" y="7077"/>
                  <a:pt x="20707" y="7069"/>
                  <a:pt x="21033" y="7158"/>
                </a:cubicBezTo>
                <a:cubicBezTo>
                  <a:pt x="21181" y="7198"/>
                  <a:pt x="21337" y="7282"/>
                  <a:pt x="21467" y="7362"/>
                </a:cubicBezTo>
                <a:cubicBezTo>
                  <a:pt x="21688" y="7498"/>
                  <a:pt x="21802" y="7661"/>
                  <a:pt x="21876" y="7900"/>
                </a:cubicBezTo>
                <a:cubicBezTo>
                  <a:pt x="21932" y="8081"/>
                  <a:pt x="21976" y="8231"/>
                  <a:pt x="22073" y="8398"/>
                </a:cubicBezTo>
                <a:cubicBezTo>
                  <a:pt x="22139" y="8510"/>
                  <a:pt x="22179" y="8640"/>
                  <a:pt x="22243" y="8745"/>
                </a:cubicBezTo>
                <a:cubicBezTo>
                  <a:pt x="22297" y="8832"/>
                  <a:pt x="22378" y="8943"/>
                  <a:pt x="22461" y="9005"/>
                </a:cubicBezTo>
                <a:cubicBezTo>
                  <a:pt x="22792" y="9252"/>
                  <a:pt x="23477" y="9125"/>
                  <a:pt x="23869" y="9148"/>
                </a:cubicBezTo>
                <a:cubicBezTo>
                  <a:pt x="24081" y="9161"/>
                  <a:pt x="24275" y="9148"/>
                  <a:pt x="24486" y="9135"/>
                </a:cubicBezTo>
                <a:cubicBezTo>
                  <a:pt x="24722" y="9120"/>
                  <a:pt x="25212" y="9099"/>
                  <a:pt x="25269" y="9086"/>
                </a:cubicBezTo>
              </a:path>
            </a:pathLst>
          </a:custGeom>
          <a:noFill/>
          <a:ln cap="rnd" w="19080">
            <a:solidFill>
              <a:srgbClr val="fbdf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807080" y="3056040"/>
            <a:ext cx="1758960" cy="1301760"/>
          </a:xfrm>
          <a:custGeom>
            <a:avLst/>
            <a:gdLst/>
            <a:ahLst/>
            <a:rect l="l" t="t" r="r" b="b"/>
            <a:pathLst>
              <a:path w="4884" h="3617">
                <a:moveTo>
                  <a:pt x="14455" y="9405"/>
                </a:moveTo>
                <a:cubicBezTo>
                  <a:pt x="14507" y="9467"/>
                  <a:pt x="14513" y="9486"/>
                  <a:pt x="14591" y="9523"/>
                </a:cubicBezTo>
                <a:cubicBezTo>
                  <a:pt x="14731" y="9589"/>
                  <a:pt x="14891" y="9585"/>
                  <a:pt x="15041" y="9585"/>
                </a:cubicBezTo>
                <a:cubicBezTo>
                  <a:pt x="15156" y="9585"/>
                  <a:pt x="15273" y="9579"/>
                  <a:pt x="15386" y="9562"/>
                </a:cubicBezTo>
                <a:cubicBezTo>
                  <a:pt x="15442" y="9553"/>
                  <a:pt x="15559" y="9550"/>
                  <a:pt x="15605" y="9521"/>
                </a:cubicBezTo>
                <a:cubicBezTo>
                  <a:pt x="15708" y="9457"/>
                  <a:pt x="15707" y="9410"/>
                  <a:pt x="15841" y="9403"/>
                </a:cubicBezTo>
                <a:cubicBezTo>
                  <a:pt x="16098" y="9389"/>
                  <a:pt x="16360" y="9388"/>
                  <a:pt x="16618" y="9382"/>
                </a:cubicBezTo>
                <a:cubicBezTo>
                  <a:pt x="16753" y="9379"/>
                  <a:pt x="16886" y="9378"/>
                  <a:pt x="17020" y="9363"/>
                </a:cubicBezTo>
                <a:cubicBezTo>
                  <a:pt x="17204" y="9343"/>
                  <a:pt x="17397" y="9342"/>
                  <a:pt x="17572" y="9276"/>
                </a:cubicBezTo>
                <a:cubicBezTo>
                  <a:pt x="17631" y="9254"/>
                  <a:pt x="17684" y="9234"/>
                  <a:pt x="17711" y="9174"/>
                </a:cubicBezTo>
                <a:cubicBezTo>
                  <a:pt x="17741" y="9106"/>
                  <a:pt x="17698" y="9047"/>
                  <a:pt x="17745" y="8982"/>
                </a:cubicBezTo>
                <a:cubicBezTo>
                  <a:pt x="17811" y="8891"/>
                  <a:pt x="17850" y="8862"/>
                  <a:pt x="17875" y="8745"/>
                </a:cubicBezTo>
                <a:cubicBezTo>
                  <a:pt x="17886" y="8695"/>
                  <a:pt x="17879" y="8630"/>
                  <a:pt x="17905" y="8585"/>
                </a:cubicBezTo>
                <a:cubicBezTo>
                  <a:pt x="17931" y="8540"/>
                  <a:pt x="17969" y="8523"/>
                  <a:pt x="18004" y="8488"/>
                </a:cubicBezTo>
              </a:path>
              <a:path w="4884" h="3617">
                <a:moveTo>
                  <a:pt x="13354" y="11705"/>
                </a:moveTo>
                <a:cubicBezTo>
                  <a:pt x="13374" y="11740"/>
                  <a:pt x="13381" y="11752"/>
                  <a:pt x="13411" y="11756"/>
                </a:cubicBezTo>
                <a:cubicBezTo>
                  <a:pt x="13458" y="11681"/>
                  <a:pt x="13404" y="11686"/>
                  <a:pt x="13501" y="11663"/>
                </a:cubicBezTo>
                <a:cubicBezTo>
                  <a:pt x="13666" y="11624"/>
                  <a:pt x="14171" y="11601"/>
                  <a:pt x="14300" y="11709"/>
                </a:cubicBezTo>
                <a:cubicBezTo>
                  <a:pt x="14361" y="11760"/>
                  <a:pt x="14364" y="11775"/>
                  <a:pt x="14441" y="11809"/>
                </a:cubicBezTo>
                <a:cubicBezTo>
                  <a:pt x="14497" y="11834"/>
                  <a:pt x="14550" y="11856"/>
                  <a:pt x="14603" y="11892"/>
                </a:cubicBezTo>
                <a:cubicBezTo>
                  <a:pt x="14657" y="11928"/>
                  <a:pt x="14701" y="11969"/>
                  <a:pt x="14762" y="11994"/>
                </a:cubicBezTo>
                <a:cubicBezTo>
                  <a:pt x="14875" y="12041"/>
                  <a:pt x="15014" y="12060"/>
                  <a:pt x="15134" y="12083"/>
                </a:cubicBezTo>
                <a:cubicBezTo>
                  <a:pt x="15344" y="12123"/>
                  <a:pt x="15565" y="12096"/>
                  <a:pt x="15774" y="12058"/>
                </a:cubicBezTo>
                <a:cubicBezTo>
                  <a:pt x="15914" y="12032"/>
                  <a:pt x="16052" y="11997"/>
                  <a:pt x="16191" y="11966"/>
                </a:cubicBezTo>
                <a:cubicBezTo>
                  <a:pt x="16459" y="11906"/>
                  <a:pt x="16727" y="11864"/>
                  <a:pt x="16997" y="11815"/>
                </a:cubicBezTo>
                <a:cubicBezTo>
                  <a:pt x="17238" y="11771"/>
                  <a:pt x="17450" y="11726"/>
                  <a:pt x="17678" y="11654"/>
                </a:cubicBezTo>
                <a:cubicBezTo>
                  <a:pt x="17747" y="11632"/>
                  <a:pt x="17799" y="11643"/>
                  <a:pt x="17870" y="11638"/>
                </a:cubicBezTo>
                <a:cubicBezTo>
                  <a:pt x="17929" y="11634"/>
                  <a:pt x="17979" y="11626"/>
                  <a:pt x="18030" y="11594"/>
                </a:cubicBezTo>
                <a:cubicBezTo>
                  <a:pt x="18086" y="11559"/>
                  <a:pt x="18099" y="11498"/>
                  <a:pt x="18135" y="11449"/>
                </a:cubicBezTo>
                <a:cubicBezTo>
                  <a:pt x="18174" y="11395"/>
                  <a:pt x="18203" y="11346"/>
                  <a:pt x="18237" y="11289"/>
                </a:cubicBezTo>
              </a:path>
            </a:pathLst>
          </a:custGeom>
          <a:noFill/>
          <a:ln cap="rnd" w="19080">
            <a:solidFill>
              <a:srgbClr val="fbdf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29718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Myriad Web"/>
              </a:rPr>
              <a:t>expose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 (s) {</a:t>
            </a:r>
            <a:r>
              <a:rPr b="0" lang="en-US" sz="2400" spc="-1" strike="noStrike">
                <a:solidFill>
                  <a:srgbClr val="969696"/>
                </a:solidFill>
                <a:latin typeface="Myriad Web"/>
              </a:rPr>
              <a:t> …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yriad Web"/>
              </a:rPr>
              <a:t>Object states:  a picture of the heap</a:t>
            </a: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367" name=""/>
          <p:cNvSpPr/>
          <p:nvPr/>
        </p:nvSpPr>
        <p:spPr>
          <a:xfrm>
            <a:off x="7086600" y="4527720"/>
            <a:ext cx="685800" cy="68580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086600" y="5289480"/>
            <a:ext cx="685800" cy="685800"/>
          </a:xfrm>
          <a:prstGeom prst="ellipse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086600" y="605160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772400" y="4680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Web"/>
              </a:rPr>
              <a:t>Mu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772400" y="5456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Web"/>
              </a:rPr>
              <a:t>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772400" y="6218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Web"/>
              </a:rPr>
              <a:t>Com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0" y="4114800"/>
            <a:ext cx="2286000" cy="2743200"/>
          </a:xfrm>
          <a:custGeom>
            <a:avLst/>
            <a:gdLst/>
            <a:ahLst/>
            <a:rect l="l" t="t" r="r" b="b"/>
            <a:pathLst>
              <a:path w="1440" h="1536">
                <a:moveTo>
                  <a:pt x="0" y="1536"/>
                </a:moveTo>
                <a:lnTo>
                  <a:pt x="0" y="0"/>
                </a:lnTo>
                <a:lnTo>
                  <a:pt x="14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09480" y="1447920"/>
            <a:ext cx="685800" cy="68580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600200" y="1371600"/>
            <a:ext cx="685800" cy="68580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666880" y="1600200"/>
            <a:ext cx="685800" cy="68580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2286000"/>
            <a:ext cx="685800" cy="68580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66680" y="2362320"/>
            <a:ext cx="685800" cy="68580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952880" y="1371600"/>
            <a:ext cx="685800" cy="68580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715000" y="2209680"/>
            <a:ext cx="685800" cy="68580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848720" y="1447920"/>
            <a:ext cx="685800" cy="68580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" y="3352680"/>
            <a:ext cx="685800" cy="685800"/>
          </a:xfrm>
          <a:prstGeom prst="ellipse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286000" y="3352680"/>
            <a:ext cx="685800" cy="685800"/>
          </a:xfrm>
          <a:prstGeom prst="ellipse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09880" y="3124080"/>
            <a:ext cx="685800" cy="685800"/>
          </a:xfrm>
          <a:prstGeom prst="ellipse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62720" y="3429000"/>
            <a:ext cx="685800" cy="68580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Web"/>
              </a:rPr>
              <a:t>s: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934320" y="1523880"/>
            <a:ext cx="685800" cy="685800"/>
          </a:xfrm>
          <a:prstGeom prst="ellipse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305920" y="2590920"/>
            <a:ext cx="685800" cy="685800"/>
          </a:xfrm>
          <a:prstGeom prst="ellipse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28600" y="480060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295280" y="472428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57200" y="586728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05120" y="571500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14600" y="434340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048120" y="525780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962520" y="449568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114800" y="579132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029200" y="5029200"/>
            <a:ext cx="685800" cy="685800"/>
          </a:xfrm>
          <a:prstGeom prst="ellipse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Web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Myriad Web"/>
              </a:rPr>
              <a:t>Hash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19920" y="4343400"/>
            <a:ext cx="685800" cy="685800"/>
          </a:xfrm>
          <a:prstGeom prst="ellipse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0" y="274320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381880" y="335268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772400" y="4129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Web"/>
              </a:rPr>
              <a:t>ow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43120" y="3968640"/>
            <a:ext cx="1215720" cy="2030400"/>
          </a:xfrm>
          <a:custGeom>
            <a:avLst/>
            <a:gdLst/>
            <a:ahLst/>
            <a:rect l="l" t="t" r="r" b="b"/>
            <a:pathLst>
              <a:path w="3377" h="5638">
                <a:moveTo>
                  <a:pt x="2341" y="14981"/>
                </a:moveTo>
                <a:cubicBezTo>
                  <a:pt x="2404" y="15013"/>
                  <a:pt x="2443" y="15033"/>
                  <a:pt x="2519" y="15051"/>
                </a:cubicBezTo>
                <a:cubicBezTo>
                  <a:pt x="2721" y="15099"/>
                  <a:pt x="2912" y="15169"/>
                  <a:pt x="3094" y="15272"/>
                </a:cubicBezTo>
                <a:cubicBezTo>
                  <a:pt x="3247" y="15358"/>
                  <a:pt x="3399" y="15446"/>
                  <a:pt x="3549" y="15536"/>
                </a:cubicBezTo>
                <a:cubicBezTo>
                  <a:pt x="3827" y="15703"/>
                  <a:pt x="4089" y="15907"/>
                  <a:pt x="4387" y="16037"/>
                </a:cubicBezTo>
                <a:cubicBezTo>
                  <a:pt x="4549" y="16108"/>
                  <a:pt x="4715" y="16132"/>
                  <a:pt x="4881" y="16185"/>
                </a:cubicBezTo>
                <a:cubicBezTo>
                  <a:pt x="5049" y="16239"/>
                  <a:pt x="5196" y="16315"/>
                  <a:pt x="5352" y="16394"/>
                </a:cubicBezTo>
                <a:cubicBezTo>
                  <a:pt x="5429" y="16433"/>
                  <a:pt x="5622" y="16569"/>
                  <a:pt x="5703" y="16575"/>
                </a:cubicBezTo>
                <a:cubicBezTo>
                  <a:pt x="5695" y="16563"/>
                  <a:pt x="5688" y="16550"/>
                  <a:pt x="5680" y="16538"/>
                </a:cubicBezTo>
              </a:path>
              <a:path w="3377" h="5638">
                <a:moveTo>
                  <a:pt x="5507" y="16346"/>
                </a:moveTo>
                <a:cubicBezTo>
                  <a:pt x="5457" y="16314"/>
                  <a:pt x="5432" y="16301"/>
                  <a:pt x="5376" y="16286"/>
                </a:cubicBezTo>
                <a:cubicBezTo>
                  <a:pt x="5455" y="16324"/>
                  <a:pt x="5511" y="16373"/>
                  <a:pt x="5576" y="16432"/>
                </a:cubicBezTo>
                <a:cubicBezTo>
                  <a:pt x="5635" y="16486"/>
                  <a:pt x="5699" y="16526"/>
                  <a:pt x="5711" y="16598"/>
                </a:cubicBezTo>
                <a:cubicBezTo>
                  <a:pt x="5639" y="16613"/>
                  <a:pt x="5568" y="16624"/>
                  <a:pt x="5496" y="16633"/>
                </a:cubicBezTo>
                <a:cubicBezTo>
                  <a:pt x="5432" y="16641"/>
                  <a:pt x="5368" y="16647"/>
                  <a:pt x="5304" y="16655"/>
                </a:cubicBezTo>
                <a:cubicBezTo>
                  <a:pt x="5286" y="16657"/>
                  <a:pt x="5163" y="16668"/>
                  <a:pt x="5270" y="16660"/>
                </a:cubicBezTo>
              </a:path>
              <a:path w="3377" h="5638">
                <a:moveTo>
                  <a:pt x="2889" y="11026"/>
                </a:moveTo>
                <a:cubicBezTo>
                  <a:pt x="2922" y="11082"/>
                  <a:pt x="2956" y="11137"/>
                  <a:pt x="2992" y="11192"/>
                </a:cubicBezTo>
                <a:cubicBezTo>
                  <a:pt x="3035" y="11258"/>
                  <a:pt x="3069" y="11328"/>
                  <a:pt x="3113" y="11393"/>
                </a:cubicBezTo>
                <a:cubicBezTo>
                  <a:pt x="3215" y="11543"/>
                  <a:pt x="3357" y="11659"/>
                  <a:pt x="3482" y="11790"/>
                </a:cubicBezTo>
                <a:cubicBezTo>
                  <a:pt x="3603" y="11918"/>
                  <a:pt x="3669" y="12061"/>
                  <a:pt x="3727" y="12224"/>
                </a:cubicBezTo>
                <a:cubicBezTo>
                  <a:pt x="3752" y="12294"/>
                  <a:pt x="3776" y="12363"/>
                  <a:pt x="3803" y="12432"/>
                </a:cubicBezTo>
                <a:cubicBezTo>
                  <a:pt x="3839" y="12525"/>
                  <a:pt x="3874" y="12617"/>
                  <a:pt x="3912" y="12709"/>
                </a:cubicBezTo>
                <a:cubicBezTo>
                  <a:pt x="3944" y="12786"/>
                  <a:pt x="3981" y="12860"/>
                  <a:pt x="4013" y="12936"/>
                </a:cubicBezTo>
                <a:cubicBezTo>
                  <a:pt x="4046" y="13014"/>
                  <a:pt x="4070" y="13096"/>
                  <a:pt x="4098" y="13176"/>
                </a:cubicBezTo>
                <a:cubicBezTo>
                  <a:pt x="4122" y="13244"/>
                  <a:pt x="4156" y="13304"/>
                  <a:pt x="4184" y="13370"/>
                </a:cubicBezTo>
                <a:cubicBezTo>
                  <a:pt x="4205" y="13421"/>
                  <a:pt x="4212" y="13471"/>
                  <a:pt x="4223" y="13525"/>
                </a:cubicBezTo>
                <a:cubicBezTo>
                  <a:pt x="4216" y="13486"/>
                  <a:pt x="4213" y="13472"/>
                  <a:pt x="4210" y="13446"/>
                </a:cubicBezTo>
              </a:path>
              <a:path w="3377" h="5638">
                <a:moveTo>
                  <a:pt x="4434" y="13106"/>
                </a:moveTo>
                <a:cubicBezTo>
                  <a:pt x="4433" y="13167"/>
                  <a:pt x="4417" y="13223"/>
                  <a:pt x="4403" y="13284"/>
                </a:cubicBezTo>
                <a:cubicBezTo>
                  <a:pt x="4391" y="13338"/>
                  <a:pt x="4380" y="13392"/>
                  <a:pt x="4371" y="13446"/>
                </a:cubicBezTo>
                <a:cubicBezTo>
                  <a:pt x="4361" y="13504"/>
                  <a:pt x="4351" y="13562"/>
                  <a:pt x="4346" y="13621"/>
                </a:cubicBezTo>
                <a:cubicBezTo>
                  <a:pt x="4340" y="13687"/>
                  <a:pt x="4340" y="13754"/>
                  <a:pt x="4332" y="13820"/>
                </a:cubicBezTo>
                <a:cubicBezTo>
                  <a:pt x="4249" y="13801"/>
                  <a:pt x="4228" y="13769"/>
                  <a:pt x="4161" y="13718"/>
                </a:cubicBezTo>
                <a:cubicBezTo>
                  <a:pt x="4088" y="13663"/>
                  <a:pt x="4005" y="13631"/>
                  <a:pt x="3921" y="13598"/>
                </a:cubicBezTo>
                <a:cubicBezTo>
                  <a:pt x="3830" y="13562"/>
                  <a:pt x="3837" y="13533"/>
                  <a:pt x="3933" y="13543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012680" y="2082960"/>
            <a:ext cx="365400" cy="1385640"/>
          </a:xfrm>
          <a:custGeom>
            <a:avLst/>
            <a:gdLst/>
            <a:ahLst/>
            <a:rect l="l" t="t" r="r" b="b"/>
            <a:pathLst>
              <a:path w="1014" h="3851">
                <a:moveTo>
                  <a:pt x="3090" y="5784"/>
                </a:moveTo>
                <a:cubicBezTo>
                  <a:pt x="3107" y="5854"/>
                  <a:pt x="3123" y="5891"/>
                  <a:pt x="3164" y="5953"/>
                </a:cubicBezTo>
                <a:cubicBezTo>
                  <a:pt x="3215" y="6029"/>
                  <a:pt x="3249" y="6105"/>
                  <a:pt x="3291" y="6186"/>
                </a:cubicBezTo>
                <a:cubicBezTo>
                  <a:pt x="3332" y="6265"/>
                  <a:pt x="3385" y="6328"/>
                  <a:pt x="3443" y="6394"/>
                </a:cubicBezTo>
                <a:cubicBezTo>
                  <a:pt x="3533" y="6498"/>
                  <a:pt x="3590" y="6592"/>
                  <a:pt x="3637" y="6720"/>
                </a:cubicBezTo>
                <a:cubicBezTo>
                  <a:pt x="3661" y="6784"/>
                  <a:pt x="3701" y="6821"/>
                  <a:pt x="3746" y="6870"/>
                </a:cubicBezTo>
                <a:cubicBezTo>
                  <a:pt x="3769" y="6822"/>
                  <a:pt x="3776" y="6805"/>
                  <a:pt x="3750" y="6770"/>
                </a:cubicBezTo>
              </a:path>
              <a:path w="1014" h="3851">
                <a:moveTo>
                  <a:pt x="3341" y="6717"/>
                </a:moveTo>
                <a:cubicBezTo>
                  <a:pt x="3375" y="6782"/>
                  <a:pt x="3412" y="6832"/>
                  <a:pt x="3473" y="6874"/>
                </a:cubicBezTo>
                <a:cubicBezTo>
                  <a:pt x="3521" y="6907"/>
                  <a:pt x="3580" y="6934"/>
                  <a:pt x="3637" y="6950"/>
                </a:cubicBezTo>
                <a:cubicBezTo>
                  <a:pt x="3703" y="6969"/>
                  <a:pt x="3791" y="7000"/>
                  <a:pt x="3808" y="6913"/>
                </a:cubicBezTo>
                <a:cubicBezTo>
                  <a:pt x="3821" y="6846"/>
                  <a:pt x="3798" y="6761"/>
                  <a:pt x="3803" y="6690"/>
                </a:cubicBezTo>
                <a:cubicBezTo>
                  <a:pt x="3807" y="6633"/>
                  <a:pt x="3819" y="6576"/>
                  <a:pt x="3824" y="6519"/>
                </a:cubicBezTo>
                <a:cubicBezTo>
                  <a:pt x="3826" y="6476"/>
                  <a:pt x="3827" y="6461"/>
                  <a:pt x="3792" y="6500"/>
                </a:cubicBezTo>
              </a:path>
              <a:path w="1014" h="3851">
                <a:moveTo>
                  <a:pt x="3623" y="8289"/>
                </a:moveTo>
                <a:cubicBezTo>
                  <a:pt x="3635" y="8286"/>
                  <a:pt x="3646" y="8283"/>
                  <a:pt x="3658" y="8280"/>
                </a:cubicBezTo>
                <a:cubicBezTo>
                  <a:pt x="3594" y="8333"/>
                  <a:pt x="3558" y="8398"/>
                  <a:pt x="3512" y="8470"/>
                </a:cubicBezTo>
                <a:cubicBezTo>
                  <a:pt x="3477" y="8524"/>
                  <a:pt x="3443" y="8580"/>
                  <a:pt x="3411" y="8636"/>
                </a:cubicBezTo>
                <a:cubicBezTo>
                  <a:pt x="3352" y="8739"/>
                  <a:pt x="3313" y="8854"/>
                  <a:pt x="3247" y="8952"/>
                </a:cubicBezTo>
                <a:cubicBezTo>
                  <a:pt x="3204" y="9016"/>
                  <a:pt x="3160" y="9081"/>
                  <a:pt x="3122" y="9148"/>
                </a:cubicBezTo>
                <a:cubicBezTo>
                  <a:pt x="3082" y="9218"/>
                  <a:pt x="3077" y="9296"/>
                  <a:pt x="3030" y="9363"/>
                </a:cubicBezTo>
                <a:cubicBezTo>
                  <a:pt x="2988" y="9422"/>
                  <a:pt x="2944" y="9460"/>
                  <a:pt x="2919" y="9530"/>
                </a:cubicBezTo>
                <a:cubicBezTo>
                  <a:pt x="2904" y="9572"/>
                  <a:pt x="2912" y="9653"/>
                  <a:pt x="2895" y="9553"/>
                </a:cubicBezTo>
              </a:path>
              <a:path w="1014" h="3851">
                <a:moveTo>
                  <a:pt x="2813" y="9305"/>
                </a:moveTo>
                <a:cubicBezTo>
                  <a:pt x="2837" y="9359"/>
                  <a:pt x="2848" y="9407"/>
                  <a:pt x="2856" y="9467"/>
                </a:cubicBezTo>
                <a:cubicBezTo>
                  <a:pt x="2864" y="9523"/>
                  <a:pt x="2869" y="9578"/>
                  <a:pt x="2879" y="9634"/>
                </a:cubicBezTo>
                <a:cubicBezTo>
                  <a:pt x="2957" y="9621"/>
                  <a:pt x="2990" y="9579"/>
                  <a:pt x="3057" y="9537"/>
                </a:cubicBezTo>
                <a:cubicBezTo>
                  <a:pt x="3131" y="9491"/>
                  <a:pt x="3191" y="9467"/>
                  <a:pt x="3276" y="9463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46120" y="3979800"/>
            <a:ext cx="209520" cy="871560"/>
          </a:xfrm>
          <a:custGeom>
            <a:avLst/>
            <a:gdLst/>
            <a:ahLst/>
            <a:rect l="l" t="t" r="r" b="b"/>
            <a:pathLst>
              <a:path w="581" h="2423">
                <a:moveTo>
                  <a:pt x="1972" y="11054"/>
                </a:moveTo>
                <a:cubicBezTo>
                  <a:pt x="1972" y="11189"/>
                  <a:pt x="1972" y="11327"/>
                  <a:pt x="1963" y="11462"/>
                </a:cubicBezTo>
                <a:cubicBezTo>
                  <a:pt x="1952" y="11620"/>
                  <a:pt x="1933" y="11778"/>
                  <a:pt x="1921" y="11936"/>
                </a:cubicBezTo>
                <a:cubicBezTo>
                  <a:pt x="1902" y="12179"/>
                  <a:pt x="1908" y="12418"/>
                  <a:pt x="1838" y="12654"/>
                </a:cubicBezTo>
                <a:cubicBezTo>
                  <a:pt x="1821" y="12713"/>
                  <a:pt x="1802" y="12771"/>
                  <a:pt x="1782" y="12829"/>
                </a:cubicBezTo>
                <a:cubicBezTo>
                  <a:pt x="1742" y="12946"/>
                  <a:pt x="1731" y="13041"/>
                  <a:pt x="1720" y="13162"/>
                </a:cubicBezTo>
                <a:cubicBezTo>
                  <a:pt x="1717" y="13197"/>
                  <a:pt x="1695" y="13422"/>
                  <a:pt x="1697" y="13309"/>
                </a:cubicBezTo>
              </a:path>
              <a:path w="581" h="2423">
                <a:moveTo>
                  <a:pt x="1519" y="13144"/>
                </a:moveTo>
                <a:cubicBezTo>
                  <a:pt x="1561" y="13205"/>
                  <a:pt x="1581" y="13261"/>
                  <a:pt x="1609" y="13330"/>
                </a:cubicBezTo>
                <a:cubicBezTo>
                  <a:pt x="1632" y="13386"/>
                  <a:pt x="1659" y="13428"/>
                  <a:pt x="1695" y="13476"/>
                </a:cubicBezTo>
                <a:cubicBezTo>
                  <a:pt x="1764" y="13453"/>
                  <a:pt x="1800" y="13389"/>
                  <a:pt x="1854" y="13330"/>
                </a:cubicBezTo>
                <a:cubicBezTo>
                  <a:pt x="1911" y="13268"/>
                  <a:pt x="1983" y="13212"/>
                  <a:pt x="2037" y="13148"/>
                </a:cubicBezTo>
                <a:cubicBezTo>
                  <a:pt x="2069" y="13100"/>
                  <a:pt x="2079" y="13085"/>
                  <a:pt x="2099" y="13053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57360" y="5477040"/>
            <a:ext cx="187200" cy="487080"/>
          </a:xfrm>
          <a:custGeom>
            <a:avLst/>
            <a:gdLst/>
            <a:ahLst/>
            <a:rect l="l" t="t" r="r" b="b"/>
            <a:pathLst>
              <a:path w="521" h="1354">
                <a:moveTo>
                  <a:pt x="1826" y="15212"/>
                </a:moveTo>
                <a:cubicBezTo>
                  <a:pt x="1845" y="15274"/>
                  <a:pt x="1859" y="15339"/>
                  <a:pt x="1879" y="15401"/>
                </a:cubicBezTo>
                <a:cubicBezTo>
                  <a:pt x="1913" y="15509"/>
                  <a:pt x="1947" y="15612"/>
                  <a:pt x="1965" y="15725"/>
                </a:cubicBezTo>
                <a:cubicBezTo>
                  <a:pt x="1975" y="15787"/>
                  <a:pt x="1996" y="15844"/>
                  <a:pt x="2018" y="15903"/>
                </a:cubicBezTo>
                <a:cubicBezTo>
                  <a:pt x="2048" y="15984"/>
                  <a:pt x="2095" y="16061"/>
                  <a:pt x="2117" y="16143"/>
                </a:cubicBezTo>
                <a:cubicBezTo>
                  <a:pt x="2134" y="16208"/>
                  <a:pt x="2146" y="16274"/>
                  <a:pt x="2161" y="16339"/>
                </a:cubicBezTo>
                <a:cubicBezTo>
                  <a:pt x="2175" y="16400"/>
                  <a:pt x="2187" y="16459"/>
                  <a:pt x="2196" y="16521"/>
                </a:cubicBezTo>
                <a:cubicBezTo>
                  <a:pt x="2189" y="16485"/>
                  <a:pt x="2185" y="16471"/>
                  <a:pt x="2166" y="16452"/>
                </a:cubicBezTo>
              </a:path>
              <a:path w="521" h="1354">
                <a:moveTo>
                  <a:pt x="1900" y="16429"/>
                </a:moveTo>
                <a:cubicBezTo>
                  <a:pt x="1948" y="16482"/>
                  <a:pt x="1977" y="16534"/>
                  <a:pt x="2050" y="16556"/>
                </a:cubicBezTo>
                <a:cubicBezTo>
                  <a:pt x="2111" y="16574"/>
                  <a:pt x="2211" y="16582"/>
                  <a:pt x="2203" y="16496"/>
                </a:cubicBezTo>
                <a:cubicBezTo>
                  <a:pt x="2198" y="16483"/>
                  <a:pt x="2192" y="16470"/>
                  <a:pt x="2187" y="16457"/>
                </a:cubicBezTo>
              </a:path>
              <a:path w="521" h="1354">
                <a:moveTo>
                  <a:pt x="2346" y="16140"/>
                </a:moveTo>
                <a:cubicBezTo>
                  <a:pt x="2329" y="16206"/>
                  <a:pt x="2305" y="16271"/>
                  <a:pt x="2291" y="16337"/>
                </a:cubicBezTo>
                <a:cubicBezTo>
                  <a:pt x="2281" y="16383"/>
                  <a:pt x="2280" y="16427"/>
                  <a:pt x="2281" y="16473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327800" y="4284720"/>
            <a:ext cx="330480" cy="212760"/>
          </a:xfrm>
          <a:custGeom>
            <a:avLst/>
            <a:gdLst/>
            <a:ahLst/>
            <a:rect l="l" t="t" r="r" b="b"/>
            <a:pathLst>
              <a:path w="917" h="588">
                <a:moveTo>
                  <a:pt x="21271" y="11903"/>
                </a:moveTo>
                <a:cubicBezTo>
                  <a:pt x="21208" y="11934"/>
                  <a:pt x="21141" y="11947"/>
                  <a:pt x="21077" y="11979"/>
                </a:cubicBezTo>
                <a:cubicBezTo>
                  <a:pt x="21008" y="12014"/>
                  <a:pt x="20944" y="12065"/>
                  <a:pt x="20879" y="12106"/>
                </a:cubicBezTo>
                <a:cubicBezTo>
                  <a:pt x="20744" y="12192"/>
                  <a:pt x="20605" y="12282"/>
                  <a:pt x="20461" y="12351"/>
                </a:cubicBezTo>
                <a:cubicBezTo>
                  <a:pt x="20389" y="12386"/>
                  <a:pt x="20389" y="12386"/>
                  <a:pt x="20410" y="12319"/>
                </a:cubicBezTo>
              </a:path>
              <a:path w="917" h="588">
                <a:moveTo>
                  <a:pt x="20608" y="12134"/>
                </a:moveTo>
                <a:cubicBezTo>
                  <a:pt x="20613" y="12211"/>
                  <a:pt x="20561" y="12254"/>
                  <a:pt x="20507" y="12319"/>
                </a:cubicBezTo>
                <a:cubicBezTo>
                  <a:pt x="20458" y="12378"/>
                  <a:pt x="20408" y="12435"/>
                  <a:pt x="20355" y="12490"/>
                </a:cubicBezTo>
                <a:cubicBezTo>
                  <a:pt x="20429" y="12456"/>
                  <a:pt x="20491" y="12443"/>
                  <a:pt x="20574" y="12444"/>
                </a:cubicBezTo>
                <a:cubicBezTo>
                  <a:pt x="20645" y="12445"/>
                  <a:pt x="20650" y="12456"/>
                  <a:pt x="20710" y="12425"/>
                </a:cubicBezTo>
              </a:path>
              <a:path w="917" h="588">
                <a:moveTo>
                  <a:pt x="20376" y="12164"/>
                </a:moveTo>
                <a:cubicBezTo>
                  <a:pt x="20434" y="12139"/>
                  <a:pt x="20435" y="12138"/>
                  <a:pt x="20456" y="12079"/>
                </a:cubicBezTo>
                <a:cubicBezTo>
                  <a:pt x="20452" y="12153"/>
                  <a:pt x="20435" y="12216"/>
                  <a:pt x="20415" y="12287"/>
                </a:cubicBezTo>
                <a:cubicBezTo>
                  <a:pt x="20401" y="12336"/>
                  <a:pt x="20389" y="12385"/>
                  <a:pt x="20376" y="12434"/>
                </a:cubicBezTo>
                <a:cubicBezTo>
                  <a:pt x="20413" y="12374"/>
                  <a:pt x="20425" y="12323"/>
                  <a:pt x="20435" y="12252"/>
                </a:cubicBezTo>
                <a:cubicBezTo>
                  <a:pt x="20440" y="12212"/>
                  <a:pt x="20442" y="12172"/>
                  <a:pt x="20445" y="12132"/>
                </a:cubicBezTo>
                <a:cubicBezTo>
                  <a:pt x="20453" y="12191"/>
                  <a:pt x="20441" y="12230"/>
                  <a:pt x="20431" y="12289"/>
                </a:cubicBezTo>
                <a:cubicBezTo>
                  <a:pt x="20424" y="12331"/>
                  <a:pt x="20424" y="12368"/>
                  <a:pt x="20426" y="12409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664000" y="2247840"/>
            <a:ext cx="1352520" cy="1166760"/>
          </a:xfrm>
          <a:custGeom>
            <a:avLst/>
            <a:gdLst/>
            <a:ahLst/>
            <a:rect l="l" t="t" r="r" b="b"/>
            <a:pathLst>
              <a:path w="3758" h="3243">
                <a:moveTo>
                  <a:pt x="8463" y="6290"/>
                </a:moveTo>
                <a:cubicBezTo>
                  <a:pt x="8475" y="6283"/>
                  <a:pt x="8488" y="6276"/>
                  <a:pt x="8500" y="6269"/>
                </a:cubicBezTo>
                <a:cubicBezTo>
                  <a:pt x="8487" y="6331"/>
                  <a:pt x="8474" y="6394"/>
                  <a:pt x="8461" y="6456"/>
                </a:cubicBezTo>
                <a:cubicBezTo>
                  <a:pt x="8437" y="6570"/>
                  <a:pt x="8413" y="6683"/>
                  <a:pt x="8384" y="6796"/>
                </a:cubicBezTo>
                <a:cubicBezTo>
                  <a:pt x="8340" y="6967"/>
                  <a:pt x="8291" y="7136"/>
                  <a:pt x="8234" y="7302"/>
                </a:cubicBezTo>
                <a:cubicBezTo>
                  <a:pt x="8132" y="7598"/>
                  <a:pt x="8021" y="7892"/>
                  <a:pt x="7913" y="8186"/>
                </a:cubicBezTo>
                <a:cubicBezTo>
                  <a:pt x="7881" y="8273"/>
                  <a:pt x="7851" y="8361"/>
                  <a:pt x="7821" y="8449"/>
                </a:cubicBezTo>
                <a:cubicBezTo>
                  <a:pt x="7764" y="8617"/>
                  <a:pt x="7704" y="8783"/>
                  <a:pt x="7646" y="8950"/>
                </a:cubicBezTo>
                <a:cubicBezTo>
                  <a:pt x="7626" y="9008"/>
                  <a:pt x="7599" y="9069"/>
                  <a:pt x="7590" y="9130"/>
                </a:cubicBezTo>
                <a:cubicBezTo>
                  <a:pt x="7573" y="9246"/>
                  <a:pt x="7587" y="9362"/>
                  <a:pt x="7564" y="9479"/>
                </a:cubicBezTo>
                <a:cubicBezTo>
                  <a:pt x="7569" y="9437"/>
                  <a:pt x="7571" y="9424"/>
                  <a:pt x="7564" y="9396"/>
                </a:cubicBezTo>
              </a:path>
              <a:path w="3758" h="3243">
                <a:moveTo>
                  <a:pt x="7398" y="9301"/>
                </a:moveTo>
                <a:cubicBezTo>
                  <a:pt x="7457" y="9334"/>
                  <a:pt x="7458" y="9370"/>
                  <a:pt x="7479" y="9437"/>
                </a:cubicBezTo>
                <a:cubicBezTo>
                  <a:pt x="7515" y="9549"/>
                  <a:pt x="7543" y="9443"/>
                  <a:pt x="7585" y="9403"/>
                </a:cubicBezTo>
                <a:cubicBezTo>
                  <a:pt x="7639" y="9352"/>
                  <a:pt x="7722" y="9332"/>
                  <a:pt x="7772" y="9278"/>
                </a:cubicBezTo>
                <a:cubicBezTo>
                  <a:pt x="7777" y="9267"/>
                  <a:pt x="7783" y="9256"/>
                  <a:pt x="7788" y="9245"/>
                </a:cubicBezTo>
              </a:path>
              <a:path w="3758" h="3243">
                <a:moveTo>
                  <a:pt x="8733" y="6242"/>
                </a:moveTo>
                <a:cubicBezTo>
                  <a:pt x="8780" y="6298"/>
                  <a:pt x="8835" y="6346"/>
                  <a:pt x="8886" y="6401"/>
                </a:cubicBezTo>
                <a:cubicBezTo>
                  <a:pt x="8995" y="6518"/>
                  <a:pt x="9067" y="6660"/>
                  <a:pt x="9183" y="6773"/>
                </a:cubicBezTo>
                <a:cubicBezTo>
                  <a:pt x="9306" y="6893"/>
                  <a:pt x="9462" y="6968"/>
                  <a:pt x="9587" y="7084"/>
                </a:cubicBezTo>
                <a:cubicBezTo>
                  <a:pt x="9643" y="7135"/>
                  <a:pt x="9689" y="7195"/>
                  <a:pt x="9731" y="7258"/>
                </a:cubicBezTo>
                <a:cubicBezTo>
                  <a:pt x="9798" y="7358"/>
                  <a:pt x="9804" y="7475"/>
                  <a:pt x="9858" y="7571"/>
                </a:cubicBezTo>
                <a:cubicBezTo>
                  <a:pt x="9917" y="7676"/>
                  <a:pt x="9998" y="7762"/>
                  <a:pt x="10056" y="7870"/>
                </a:cubicBezTo>
                <a:cubicBezTo>
                  <a:pt x="10163" y="8068"/>
                  <a:pt x="10304" y="8172"/>
                  <a:pt x="10476" y="8306"/>
                </a:cubicBezTo>
                <a:cubicBezTo>
                  <a:pt x="10589" y="8394"/>
                  <a:pt x="10674" y="8521"/>
                  <a:pt x="10765" y="8631"/>
                </a:cubicBezTo>
                <a:cubicBezTo>
                  <a:pt x="10861" y="8746"/>
                  <a:pt x="10908" y="8847"/>
                  <a:pt x="10966" y="8978"/>
                </a:cubicBezTo>
                <a:cubicBezTo>
                  <a:pt x="10999" y="9052"/>
                  <a:pt x="11015" y="9068"/>
                  <a:pt x="11100" y="9100"/>
                </a:cubicBezTo>
                <a:cubicBezTo>
                  <a:pt x="11084" y="9089"/>
                  <a:pt x="11069" y="9077"/>
                  <a:pt x="11053" y="9066"/>
                </a:cubicBezTo>
              </a:path>
              <a:path w="3758" h="3243">
                <a:moveTo>
                  <a:pt x="10739" y="9056"/>
                </a:moveTo>
                <a:cubicBezTo>
                  <a:pt x="10791" y="9100"/>
                  <a:pt x="10845" y="9137"/>
                  <a:pt x="10911" y="9158"/>
                </a:cubicBezTo>
                <a:cubicBezTo>
                  <a:pt x="10956" y="9172"/>
                  <a:pt x="11071" y="9204"/>
                  <a:pt x="11114" y="9165"/>
                </a:cubicBezTo>
                <a:cubicBezTo>
                  <a:pt x="11160" y="9124"/>
                  <a:pt x="11140" y="9017"/>
                  <a:pt x="11142" y="8964"/>
                </a:cubicBezTo>
                <a:cubicBezTo>
                  <a:pt x="11144" y="8908"/>
                  <a:pt x="11159" y="8843"/>
                  <a:pt x="11155" y="8788"/>
                </a:cubicBezTo>
                <a:cubicBezTo>
                  <a:pt x="11151" y="8773"/>
                  <a:pt x="11148" y="8757"/>
                  <a:pt x="11144" y="8742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719440" y="3983040"/>
            <a:ext cx="162000" cy="447840"/>
          </a:xfrm>
          <a:custGeom>
            <a:avLst/>
            <a:gdLst/>
            <a:ahLst/>
            <a:rect l="l" t="t" r="r" b="b"/>
            <a:pathLst>
              <a:path w="451" h="1243">
                <a:moveTo>
                  <a:pt x="7553" y="11102"/>
                </a:moveTo>
                <a:cubicBezTo>
                  <a:pt x="7561" y="11089"/>
                  <a:pt x="7568" y="11076"/>
                  <a:pt x="7576" y="11063"/>
                </a:cubicBezTo>
                <a:cubicBezTo>
                  <a:pt x="7585" y="11177"/>
                  <a:pt x="7578" y="11293"/>
                  <a:pt x="7602" y="11404"/>
                </a:cubicBezTo>
                <a:cubicBezTo>
                  <a:pt x="7619" y="11485"/>
                  <a:pt x="7647" y="11566"/>
                  <a:pt x="7680" y="11642"/>
                </a:cubicBezTo>
                <a:cubicBezTo>
                  <a:pt x="7717" y="11725"/>
                  <a:pt x="7765" y="11801"/>
                  <a:pt x="7796" y="11887"/>
                </a:cubicBezTo>
                <a:cubicBezTo>
                  <a:pt x="7825" y="11968"/>
                  <a:pt x="7853" y="12048"/>
                  <a:pt x="7885" y="12128"/>
                </a:cubicBezTo>
                <a:cubicBezTo>
                  <a:pt x="7865" y="12084"/>
                  <a:pt x="7859" y="12070"/>
                  <a:pt x="7844" y="12042"/>
                </a:cubicBezTo>
              </a:path>
              <a:path w="451" h="1243">
                <a:moveTo>
                  <a:pt x="7618" y="12044"/>
                </a:moveTo>
                <a:cubicBezTo>
                  <a:pt x="7602" y="12127"/>
                  <a:pt x="7655" y="12128"/>
                  <a:pt x="7722" y="12190"/>
                </a:cubicBezTo>
                <a:cubicBezTo>
                  <a:pt x="7751" y="12217"/>
                  <a:pt x="7814" y="12344"/>
                  <a:pt x="7869" y="12293"/>
                </a:cubicBezTo>
                <a:cubicBezTo>
                  <a:pt x="7901" y="12263"/>
                  <a:pt x="7923" y="12139"/>
                  <a:pt x="7943" y="12097"/>
                </a:cubicBezTo>
                <a:cubicBezTo>
                  <a:pt x="7976" y="12028"/>
                  <a:pt x="8006" y="11982"/>
                  <a:pt x="7992" y="11908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218120" y="3790800"/>
            <a:ext cx="169560" cy="757440"/>
          </a:xfrm>
          <a:custGeom>
            <a:avLst/>
            <a:gdLst/>
            <a:ahLst/>
            <a:rect l="l" t="t" r="r" b="b"/>
            <a:pathLst>
              <a:path w="473" h="2107">
                <a:moveTo>
                  <a:pt x="11777" y="10529"/>
                </a:moveTo>
                <a:cubicBezTo>
                  <a:pt x="11764" y="10616"/>
                  <a:pt x="11769" y="10702"/>
                  <a:pt x="11777" y="10790"/>
                </a:cubicBezTo>
                <a:cubicBezTo>
                  <a:pt x="11787" y="10896"/>
                  <a:pt x="11795" y="11001"/>
                  <a:pt x="11806" y="11107"/>
                </a:cubicBezTo>
                <a:cubicBezTo>
                  <a:pt x="11830" y="11332"/>
                  <a:pt x="11868" y="11553"/>
                  <a:pt x="11897" y="11777"/>
                </a:cubicBezTo>
                <a:cubicBezTo>
                  <a:pt x="11906" y="11849"/>
                  <a:pt x="11909" y="11921"/>
                  <a:pt x="11913" y="11993"/>
                </a:cubicBezTo>
                <a:cubicBezTo>
                  <a:pt x="11919" y="12117"/>
                  <a:pt x="11914" y="12244"/>
                  <a:pt x="11929" y="12367"/>
                </a:cubicBezTo>
                <a:cubicBezTo>
                  <a:pt x="11935" y="12418"/>
                  <a:pt x="11954" y="12466"/>
                  <a:pt x="11956" y="12518"/>
                </a:cubicBezTo>
                <a:cubicBezTo>
                  <a:pt x="11957" y="12548"/>
                  <a:pt x="11972" y="12631"/>
                  <a:pt x="11942" y="12554"/>
                </a:cubicBezTo>
              </a:path>
              <a:path w="473" h="2107">
                <a:moveTo>
                  <a:pt x="11716" y="12462"/>
                </a:moveTo>
                <a:cubicBezTo>
                  <a:pt x="11770" y="12510"/>
                  <a:pt x="11825" y="12580"/>
                  <a:pt x="11885" y="12619"/>
                </a:cubicBezTo>
                <a:cubicBezTo>
                  <a:pt x="11961" y="12669"/>
                  <a:pt x="12008" y="12548"/>
                  <a:pt x="12035" y="12497"/>
                </a:cubicBezTo>
                <a:cubicBezTo>
                  <a:pt x="12068" y="12435"/>
                  <a:pt x="12086" y="12382"/>
                  <a:pt x="12130" y="12324"/>
                </a:cubicBezTo>
                <a:cubicBezTo>
                  <a:pt x="12164" y="12285"/>
                  <a:pt x="12174" y="12274"/>
                  <a:pt x="12188" y="12243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057480" y="4951440"/>
            <a:ext cx="285840" cy="430200"/>
          </a:xfrm>
          <a:custGeom>
            <a:avLst/>
            <a:gdLst/>
            <a:ahLst/>
            <a:rect l="l" t="t" r="r" b="b"/>
            <a:pathLst>
              <a:path w="791" h="1195">
                <a:moveTo>
                  <a:pt x="8495" y="13753"/>
                </a:moveTo>
                <a:cubicBezTo>
                  <a:pt x="8523" y="13823"/>
                  <a:pt x="8553" y="13890"/>
                  <a:pt x="8585" y="13958"/>
                </a:cubicBezTo>
                <a:cubicBezTo>
                  <a:pt x="8640" y="14075"/>
                  <a:pt x="8714" y="14181"/>
                  <a:pt x="8781" y="14291"/>
                </a:cubicBezTo>
                <a:cubicBezTo>
                  <a:pt x="8843" y="14393"/>
                  <a:pt x="8906" y="14492"/>
                  <a:pt x="8973" y="14591"/>
                </a:cubicBezTo>
                <a:cubicBezTo>
                  <a:pt x="9026" y="14669"/>
                  <a:pt x="9078" y="14750"/>
                  <a:pt x="9144" y="14818"/>
                </a:cubicBezTo>
                <a:cubicBezTo>
                  <a:pt x="9185" y="14861"/>
                  <a:pt x="9234" y="14892"/>
                  <a:pt x="9283" y="14924"/>
                </a:cubicBezTo>
                <a:cubicBezTo>
                  <a:pt x="9270" y="14863"/>
                  <a:pt x="9252" y="14854"/>
                  <a:pt x="9200" y="14810"/>
                </a:cubicBezTo>
              </a:path>
              <a:path w="791" h="1195">
                <a:moveTo>
                  <a:pt x="8832" y="14795"/>
                </a:moveTo>
                <a:cubicBezTo>
                  <a:pt x="8850" y="14855"/>
                  <a:pt x="8913" y="14879"/>
                  <a:pt x="8980" y="14910"/>
                </a:cubicBezTo>
                <a:cubicBezTo>
                  <a:pt x="9040" y="14938"/>
                  <a:pt x="9120" y="14972"/>
                  <a:pt x="9178" y="14922"/>
                </a:cubicBezTo>
                <a:cubicBezTo>
                  <a:pt x="9230" y="14877"/>
                  <a:pt x="9233" y="14788"/>
                  <a:pt x="9236" y="14725"/>
                </a:cubicBezTo>
                <a:cubicBezTo>
                  <a:pt x="9239" y="14665"/>
                  <a:pt x="9246" y="14609"/>
                  <a:pt x="9252" y="14550"/>
                </a:cubicBezTo>
                <a:cubicBezTo>
                  <a:pt x="9252" y="14535"/>
                  <a:pt x="9253" y="14519"/>
                  <a:pt x="9253" y="14504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330800" y="5137200"/>
            <a:ext cx="180720" cy="730080"/>
          </a:xfrm>
          <a:custGeom>
            <a:avLst/>
            <a:gdLst/>
            <a:ahLst/>
            <a:rect l="l" t="t" r="r" b="b"/>
            <a:pathLst>
              <a:path w="505" h="2030">
                <a:moveTo>
                  <a:pt x="12088" y="14303"/>
                </a:moveTo>
                <a:cubicBezTo>
                  <a:pt x="12097" y="14215"/>
                  <a:pt x="12090" y="14414"/>
                  <a:pt x="12090" y="14444"/>
                </a:cubicBezTo>
                <a:cubicBezTo>
                  <a:pt x="12091" y="14545"/>
                  <a:pt x="12098" y="14639"/>
                  <a:pt x="12113" y="14739"/>
                </a:cubicBezTo>
                <a:cubicBezTo>
                  <a:pt x="12129" y="14847"/>
                  <a:pt x="12155" y="14951"/>
                  <a:pt x="12181" y="15057"/>
                </a:cubicBezTo>
                <a:cubicBezTo>
                  <a:pt x="12205" y="15157"/>
                  <a:pt x="12223" y="15250"/>
                  <a:pt x="12229" y="15353"/>
                </a:cubicBezTo>
                <a:cubicBezTo>
                  <a:pt x="12244" y="15591"/>
                  <a:pt x="12157" y="15897"/>
                  <a:pt x="12217" y="16127"/>
                </a:cubicBezTo>
                <a:cubicBezTo>
                  <a:pt x="12222" y="16139"/>
                  <a:pt x="12226" y="16151"/>
                  <a:pt x="12231" y="16163"/>
                </a:cubicBezTo>
              </a:path>
              <a:path w="505" h="2030">
                <a:moveTo>
                  <a:pt x="12028" y="16004"/>
                </a:moveTo>
                <a:cubicBezTo>
                  <a:pt x="12078" y="16064"/>
                  <a:pt x="12087" y="16128"/>
                  <a:pt x="12130" y="16194"/>
                </a:cubicBezTo>
                <a:cubicBezTo>
                  <a:pt x="12179" y="16270"/>
                  <a:pt x="12219" y="16328"/>
                  <a:pt x="12289" y="16249"/>
                </a:cubicBezTo>
                <a:cubicBezTo>
                  <a:pt x="12352" y="16177"/>
                  <a:pt x="12419" y="16099"/>
                  <a:pt x="12480" y="16028"/>
                </a:cubicBezTo>
                <a:cubicBezTo>
                  <a:pt x="12509" y="15980"/>
                  <a:pt x="12518" y="15965"/>
                  <a:pt x="12532" y="15931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037200" y="4083120"/>
            <a:ext cx="255600" cy="392040"/>
          </a:xfrm>
          <a:custGeom>
            <a:avLst/>
            <a:gdLst/>
            <a:ahLst/>
            <a:rect l="l" t="t" r="r" b="b"/>
            <a:pathLst>
              <a:path w="713" h="1091">
                <a:moveTo>
                  <a:pt x="16789" y="11377"/>
                </a:moveTo>
                <a:cubicBezTo>
                  <a:pt x="16785" y="11365"/>
                  <a:pt x="16780" y="11354"/>
                  <a:pt x="16776" y="11342"/>
                </a:cubicBezTo>
                <a:cubicBezTo>
                  <a:pt x="16772" y="11426"/>
                  <a:pt x="16816" y="11492"/>
                  <a:pt x="16854" y="11569"/>
                </a:cubicBezTo>
                <a:cubicBezTo>
                  <a:pt x="16920" y="11704"/>
                  <a:pt x="16989" y="11837"/>
                  <a:pt x="17069" y="11964"/>
                </a:cubicBezTo>
                <a:cubicBezTo>
                  <a:pt x="17176" y="12136"/>
                  <a:pt x="17322" y="12281"/>
                  <a:pt x="17455" y="12432"/>
                </a:cubicBezTo>
                <a:cubicBezTo>
                  <a:pt x="17444" y="12383"/>
                  <a:pt x="17437" y="12364"/>
                  <a:pt x="17401" y="12345"/>
                </a:cubicBezTo>
              </a:path>
              <a:path w="713" h="1091">
                <a:moveTo>
                  <a:pt x="16969" y="12208"/>
                </a:moveTo>
                <a:cubicBezTo>
                  <a:pt x="17026" y="12238"/>
                  <a:pt x="17085" y="12245"/>
                  <a:pt x="17149" y="12266"/>
                </a:cubicBezTo>
                <a:cubicBezTo>
                  <a:pt x="17217" y="12289"/>
                  <a:pt x="17282" y="12317"/>
                  <a:pt x="17351" y="12337"/>
                </a:cubicBezTo>
                <a:cubicBezTo>
                  <a:pt x="17428" y="12359"/>
                  <a:pt x="17439" y="12279"/>
                  <a:pt x="17454" y="12218"/>
                </a:cubicBezTo>
                <a:cubicBezTo>
                  <a:pt x="17471" y="12151"/>
                  <a:pt x="17491" y="12066"/>
                  <a:pt x="17480" y="11996"/>
                </a:cubicBezTo>
                <a:cubicBezTo>
                  <a:pt x="17475" y="11984"/>
                  <a:pt x="17471" y="11971"/>
                  <a:pt x="17466" y="11959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423040" y="2863800"/>
            <a:ext cx="631800" cy="2259000"/>
          </a:xfrm>
          <a:custGeom>
            <a:avLst/>
            <a:gdLst/>
            <a:ahLst/>
            <a:rect l="l" t="t" r="r" b="b"/>
            <a:pathLst>
              <a:path w="1758" h="6272">
                <a:moveTo>
                  <a:pt x="16808" y="7957"/>
                </a:moveTo>
                <a:cubicBezTo>
                  <a:pt x="16820" y="8024"/>
                  <a:pt x="16808" y="8083"/>
                  <a:pt x="16794" y="8151"/>
                </a:cubicBezTo>
                <a:cubicBezTo>
                  <a:pt x="16783" y="8207"/>
                  <a:pt x="16770" y="8263"/>
                  <a:pt x="16757" y="8318"/>
                </a:cubicBezTo>
                <a:cubicBezTo>
                  <a:pt x="16741" y="8385"/>
                  <a:pt x="16727" y="8452"/>
                  <a:pt x="16716" y="8520"/>
                </a:cubicBezTo>
                <a:cubicBezTo>
                  <a:pt x="16701" y="8610"/>
                  <a:pt x="16665" y="8695"/>
                  <a:pt x="16642" y="8784"/>
                </a:cubicBezTo>
                <a:cubicBezTo>
                  <a:pt x="16613" y="8900"/>
                  <a:pt x="16591" y="9003"/>
                  <a:pt x="16591" y="9123"/>
                </a:cubicBezTo>
                <a:cubicBezTo>
                  <a:pt x="16591" y="9285"/>
                  <a:pt x="16583" y="9441"/>
                  <a:pt x="16565" y="9601"/>
                </a:cubicBezTo>
                <a:cubicBezTo>
                  <a:pt x="16559" y="9643"/>
                  <a:pt x="16557" y="9653"/>
                  <a:pt x="16563" y="9592"/>
                </a:cubicBezTo>
              </a:path>
              <a:path w="1758" h="6272">
                <a:moveTo>
                  <a:pt x="16392" y="9490"/>
                </a:moveTo>
                <a:cubicBezTo>
                  <a:pt x="16406" y="9549"/>
                  <a:pt x="16439" y="9612"/>
                  <a:pt x="16487" y="9656"/>
                </a:cubicBezTo>
                <a:cubicBezTo>
                  <a:pt x="16499" y="9663"/>
                  <a:pt x="16510" y="9671"/>
                  <a:pt x="16522" y="9678"/>
                </a:cubicBezTo>
                <a:cubicBezTo>
                  <a:pt x="16579" y="9613"/>
                  <a:pt x="16626" y="9538"/>
                  <a:pt x="16686" y="9476"/>
                </a:cubicBezTo>
                <a:cubicBezTo>
                  <a:pt x="16740" y="9429"/>
                  <a:pt x="16756" y="9414"/>
                  <a:pt x="16794" y="9387"/>
                </a:cubicBezTo>
              </a:path>
              <a:path w="1758" h="6272">
                <a:moveTo>
                  <a:pt x="16228" y="11252"/>
                </a:moveTo>
                <a:cubicBezTo>
                  <a:pt x="16230" y="11315"/>
                  <a:pt x="16224" y="11363"/>
                  <a:pt x="16205" y="11442"/>
                </a:cubicBezTo>
                <a:cubicBezTo>
                  <a:pt x="16172" y="11578"/>
                  <a:pt x="16129" y="11713"/>
                  <a:pt x="16080" y="11845"/>
                </a:cubicBezTo>
                <a:cubicBezTo>
                  <a:pt x="15961" y="12168"/>
                  <a:pt x="15837" y="12487"/>
                  <a:pt x="15734" y="12816"/>
                </a:cubicBezTo>
                <a:cubicBezTo>
                  <a:pt x="15671" y="13016"/>
                  <a:pt x="15574" y="13203"/>
                  <a:pt x="15494" y="13397"/>
                </a:cubicBezTo>
                <a:cubicBezTo>
                  <a:pt x="15445" y="13516"/>
                  <a:pt x="15408" y="13636"/>
                  <a:pt x="15365" y="13757"/>
                </a:cubicBezTo>
                <a:cubicBezTo>
                  <a:pt x="15321" y="13881"/>
                  <a:pt x="15234" y="14061"/>
                  <a:pt x="15219" y="14072"/>
                </a:cubicBezTo>
              </a:path>
              <a:path w="1758" h="6272">
                <a:moveTo>
                  <a:pt x="15081" y="13917"/>
                </a:moveTo>
                <a:cubicBezTo>
                  <a:pt x="15058" y="14001"/>
                  <a:pt x="15075" y="14029"/>
                  <a:pt x="15111" y="14108"/>
                </a:cubicBezTo>
                <a:cubicBezTo>
                  <a:pt x="15129" y="14148"/>
                  <a:pt x="15141" y="14186"/>
                  <a:pt x="15152" y="14228"/>
                </a:cubicBezTo>
                <a:cubicBezTo>
                  <a:pt x="15220" y="14182"/>
                  <a:pt x="15278" y="14125"/>
                  <a:pt x="15344" y="14076"/>
                </a:cubicBezTo>
                <a:cubicBezTo>
                  <a:pt x="15410" y="14028"/>
                  <a:pt x="15457" y="13977"/>
                  <a:pt x="15513" y="13917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164360" y="2144880"/>
            <a:ext cx="158760" cy="669600"/>
          </a:xfrm>
          <a:custGeom>
            <a:avLst/>
            <a:gdLst/>
            <a:ahLst/>
            <a:rect l="l" t="t" r="r" b="b"/>
            <a:pathLst>
              <a:path w="442" h="1860">
                <a:moveTo>
                  <a:pt x="20142" y="5957"/>
                </a:moveTo>
                <a:cubicBezTo>
                  <a:pt x="20191" y="6014"/>
                  <a:pt x="20163" y="6070"/>
                  <a:pt x="20154" y="6154"/>
                </a:cubicBezTo>
                <a:cubicBezTo>
                  <a:pt x="20139" y="6300"/>
                  <a:pt x="20133" y="6448"/>
                  <a:pt x="20128" y="6595"/>
                </a:cubicBezTo>
                <a:cubicBezTo>
                  <a:pt x="20124" y="6709"/>
                  <a:pt x="20121" y="6822"/>
                  <a:pt x="20121" y="6936"/>
                </a:cubicBezTo>
                <a:cubicBezTo>
                  <a:pt x="20120" y="7078"/>
                  <a:pt x="20138" y="7229"/>
                  <a:pt x="20121" y="7370"/>
                </a:cubicBezTo>
                <a:cubicBezTo>
                  <a:pt x="20110" y="7462"/>
                  <a:pt x="20067" y="7486"/>
                  <a:pt x="20013" y="7555"/>
                </a:cubicBezTo>
                <a:cubicBezTo>
                  <a:pt x="19973" y="7606"/>
                  <a:pt x="19976" y="7651"/>
                  <a:pt x="19976" y="7712"/>
                </a:cubicBezTo>
                <a:cubicBezTo>
                  <a:pt x="19976" y="7819"/>
                  <a:pt x="19989" y="7790"/>
                  <a:pt x="20001" y="7705"/>
                </a:cubicBezTo>
              </a:path>
              <a:path w="442" h="1860">
                <a:moveTo>
                  <a:pt x="19902" y="7555"/>
                </a:moveTo>
                <a:cubicBezTo>
                  <a:pt x="19917" y="7624"/>
                  <a:pt x="19938" y="7690"/>
                  <a:pt x="19958" y="7758"/>
                </a:cubicBezTo>
                <a:cubicBezTo>
                  <a:pt x="19994" y="7880"/>
                  <a:pt x="20074" y="7765"/>
                  <a:pt x="20124" y="7715"/>
                </a:cubicBezTo>
                <a:cubicBezTo>
                  <a:pt x="20177" y="7663"/>
                  <a:pt x="20234" y="7601"/>
                  <a:pt x="20278" y="7541"/>
                </a:cubicBezTo>
                <a:cubicBezTo>
                  <a:pt x="20315" y="7482"/>
                  <a:pt x="20326" y="7466"/>
                  <a:pt x="20343" y="7424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299440" y="2082960"/>
            <a:ext cx="333360" cy="552240"/>
          </a:xfrm>
          <a:custGeom>
            <a:avLst/>
            <a:gdLst/>
            <a:ahLst/>
            <a:rect l="l" t="t" r="r" b="b"/>
            <a:pathLst>
              <a:path w="925" h="1535">
                <a:moveTo>
                  <a:pt x="23054" y="5784"/>
                </a:moveTo>
                <a:cubicBezTo>
                  <a:pt x="23057" y="5848"/>
                  <a:pt x="23067" y="5903"/>
                  <a:pt x="23086" y="5964"/>
                </a:cubicBezTo>
                <a:cubicBezTo>
                  <a:pt x="23147" y="6165"/>
                  <a:pt x="23248" y="6371"/>
                  <a:pt x="23345" y="6556"/>
                </a:cubicBezTo>
                <a:cubicBezTo>
                  <a:pt x="23386" y="6635"/>
                  <a:pt x="23427" y="6719"/>
                  <a:pt x="23477" y="6793"/>
                </a:cubicBezTo>
                <a:cubicBezTo>
                  <a:pt x="23518" y="6854"/>
                  <a:pt x="23566" y="6917"/>
                  <a:pt x="23620" y="6967"/>
                </a:cubicBezTo>
                <a:cubicBezTo>
                  <a:pt x="23678" y="7020"/>
                  <a:pt x="23727" y="7079"/>
                  <a:pt x="23783" y="7135"/>
                </a:cubicBezTo>
                <a:cubicBezTo>
                  <a:pt x="23827" y="7178"/>
                  <a:pt x="23852" y="7232"/>
                  <a:pt x="23894" y="7276"/>
                </a:cubicBezTo>
                <a:cubicBezTo>
                  <a:pt x="23964" y="7349"/>
                  <a:pt x="23941" y="7309"/>
                  <a:pt x="23959" y="7273"/>
                </a:cubicBezTo>
              </a:path>
              <a:path w="925" h="1535">
                <a:moveTo>
                  <a:pt x="23446" y="7237"/>
                </a:moveTo>
                <a:cubicBezTo>
                  <a:pt x="23508" y="7273"/>
                  <a:pt x="23566" y="7290"/>
                  <a:pt x="23636" y="7306"/>
                </a:cubicBezTo>
                <a:cubicBezTo>
                  <a:pt x="23727" y="7326"/>
                  <a:pt x="23818" y="7322"/>
                  <a:pt x="23895" y="7262"/>
                </a:cubicBezTo>
                <a:cubicBezTo>
                  <a:pt x="23966" y="7207"/>
                  <a:pt x="23974" y="7150"/>
                  <a:pt x="23973" y="7068"/>
                </a:cubicBezTo>
                <a:cubicBezTo>
                  <a:pt x="23973" y="7031"/>
                  <a:pt x="23973" y="7018"/>
                  <a:pt x="23964" y="6994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597880" y="3259080"/>
            <a:ext cx="179280" cy="222480"/>
          </a:xfrm>
          <a:custGeom>
            <a:avLst/>
            <a:gdLst/>
            <a:ahLst/>
            <a:rect l="l" t="t" r="r" b="b"/>
            <a:pathLst>
              <a:path w="496" h="620">
                <a:moveTo>
                  <a:pt x="24102" y="9051"/>
                </a:moveTo>
                <a:cubicBezTo>
                  <a:pt x="24101" y="9126"/>
                  <a:pt x="24100" y="9200"/>
                  <a:pt x="24107" y="9275"/>
                </a:cubicBezTo>
                <a:cubicBezTo>
                  <a:pt x="24113" y="9339"/>
                  <a:pt x="24132" y="9401"/>
                  <a:pt x="24149" y="9463"/>
                </a:cubicBezTo>
                <a:cubicBezTo>
                  <a:pt x="24162" y="9512"/>
                  <a:pt x="24150" y="9633"/>
                  <a:pt x="24183" y="9544"/>
                </a:cubicBezTo>
              </a:path>
              <a:path w="496" h="620">
                <a:moveTo>
                  <a:pt x="23885" y="9500"/>
                </a:moveTo>
                <a:cubicBezTo>
                  <a:pt x="23918" y="9559"/>
                  <a:pt x="23975" y="9622"/>
                  <a:pt x="24038" y="9656"/>
                </a:cubicBezTo>
                <a:cubicBezTo>
                  <a:pt x="24119" y="9700"/>
                  <a:pt x="24157" y="9626"/>
                  <a:pt x="24211" y="9580"/>
                </a:cubicBezTo>
                <a:cubicBezTo>
                  <a:pt x="24277" y="9523"/>
                  <a:pt x="24333" y="9500"/>
                  <a:pt x="24380" y="9428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594360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095880" y="533412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361200" y="4991040"/>
            <a:ext cx="155520" cy="416160"/>
          </a:xfrm>
          <a:custGeom>
            <a:avLst/>
            <a:gdLst/>
            <a:ahLst/>
            <a:rect l="l" t="t" r="r" b="b"/>
            <a:pathLst>
              <a:path w="433" h="1159">
                <a:moveTo>
                  <a:pt x="17935" y="13862"/>
                </a:moveTo>
                <a:cubicBezTo>
                  <a:pt x="17952" y="13927"/>
                  <a:pt x="17937" y="13966"/>
                  <a:pt x="17926" y="14035"/>
                </a:cubicBezTo>
                <a:cubicBezTo>
                  <a:pt x="17916" y="14099"/>
                  <a:pt x="17915" y="14164"/>
                  <a:pt x="17911" y="14228"/>
                </a:cubicBezTo>
                <a:cubicBezTo>
                  <a:pt x="17906" y="14314"/>
                  <a:pt x="17904" y="14399"/>
                  <a:pt x="17900" y="14485"/>
                </a:cubicBezTo>
                <a:cubicBezTo>
                  <a:pt x="17896" y="14562"/>
                  <a:pt x="17893" y="14639"/>
                  <a:pt x="17889" y="14716"/>
                </a:cubicBezTo>
                <a:cubicBezTo>
                  <a:pt x="17885" y="14791"/>
                  <a:pt x="17878" y="15017"/>
                  <a:pt x="17872" y="14942"/>
                </a:cubicBezTo>
                <a:cubicBezTo>
                  <a:pt x="17872" y="14928"/>
                  <a:pt x="17873" y="14915"/>
                  <a:pt x="17873" y="14901"/>
                </a:cubicBezTo>
              </a:path>
              <a:path w="433" h="1159">
                <a:moveTo>
                  <a:pt x="17669" y="14847"/>
                </a:moveTo>
                <a:cubicBezTo>
                  <a:pt x="17698" y="14897"/>
                  <a:pt x="17710" y="14991"/>
                  <a:pt x="17769" y="15018"/>
                </a:cubicBezTo>
                <a:cubicBezTo>
                  <a:pt x="17852" y="15056"/>
                  <a:pt x="17945" y="14927"/>
                  <a:pt x="17985" y="14878"/>
                </a:cubicBezTo>
                <a:cubicBezTo>
                  <a:pt x="18023" y="14832"/>
                  <a:pt x="18058" y="14784"/>
                  <a:pt x="18080" y="14728"/>
                </a:cubicBezTo>
                <a:cubicBezTo>
                  <a:pt x="18087" y="14708"/>
                  <a:pt x="18094" y="14688"/>
                  <a:pt x="18101" y="14668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283360" y="5661000"/>
            <a:ext cx="220680" cy="387360"/>
          </a:xfrm>
          <a:custGeom>
            <a:avLst/>
            <a:gdLst/>
            <a:ahLst/>
            <a:rect l="l" t="t" r="r" b="b"/>
            <a:pathLst>
              <a:path w="613" h="1075">
                <a:moveTo>
                  <a:pt x="14960" y="15737"/>
                </a:moveTo>
                <a:cubicBezTo>
                  <a:pt x="15034" y="15740"/>
                  <a:pt x="14984" y="15811"/>
                  <a:pt x="14979" y="15894"/>
                </a:cubicBezTo>
                <a:cubicBezTo>
                  <a:pt x="14974" y="15987"/>
                  <a:pt x="14977" y="16080"/>
                  <a:pt x="14982" y="16173"/>
                </a:cubicBezTo>
                <a:cubicBezTo>
                  <a:pt x="14987" y="16272"/>
                  <a:pt x="14999" y="16370"/>
                  <a:pt x="15012" y="16468"/>
                </a:cubicBezTo>
                <a:cubicBezTo>
                  <a:pt x="15021" y="16539"/>
                  <a:pt x="15032" y="16609"/>
                  <a:pt x="15048" y="16679"/>
                </a:cubicBezTo>
                <a:cubicBezTo>
                  <a:pt x="15080" y="16822"/>
                  <a:pt x="15046" y="16661"/>
                  <a:pt x="15039" y="16641"/>
                </a:cubicBezTo>
              </a:path>
              <a:path w="613" h="1075">
                <a:moveTo>
                  <a:pt x="14677" y="16506"/>
                </a:moveTo>
                <a:cubicBezTo>
                  <a:pt x="14752" y="16526"/>
                  <a:pt x="14791" y="16598"/>
                  <a:pt x="14836" y="16667"/>
                </a:cubicBezTo>
                <a:cubicBezTo>
                  <a:pt x="14866" y="16712"/>
                  <a:pt x="14909" y="16838"/>
                  <a:pt x="14981" y="16780"/>
                </a:cubicBezTo>
                <a:cubicBezTo>
                  <a:pt x="15041" y="16731"/>
                  <a:pt x="15084" y="16646"/>
                  <a:pt x="15125" y="16582"/>
                </a:cubicBezTo>
                <a:cubicBezTo>
                  <a:pt x="15174" y="16506"/>
                  <a:pt x="15232" y="16436"/>
                  <a:pt x="15266" y="16351"/>
                </a:cubicBezTo>
                <a:cubicBezTo>
                  <a:pt x="15274" y="16329"/>
                  <a:pt x="15281" y="16308"/>
                  <a:pt x="15289" y="16286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410080" y="4343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Web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01520" y="3038400"/>
            <a:ext cx="5100840" cy="336600"/>
          </a:xfrm>
          <a:custGeom>
            <a:avLst/>
            <a:gdLst/>
            <a:ahLst/>
            <a:rect l="l" t="t" r="r" b="b"/>
            <a:pathLst>
              <a:path w="14169" h="936">
                <a:moveTo>
                  <a:pt x="282" y="9278"/>
                </a:moveTo>
                <a:cubicBezTo>
                  <a:pt x="896" y="9204"/>
                  <a:pt x="1511" y="9139"/>
                  <a:pt x="2125" y="9061"/>
                </a:cubicBezTo>
                <a:cubicBezTo>
                  <a:pt x="2622" y="8998"/>
                  <a:pt x="3104" y="8918"/>
                  <a:pt x="3607" y="8948"/>
                </a:cubicBezTo>
                <a:cubicBezTo>
                  <a:pt x="4236" y="8986"/>
                  <a:pt x="4789" y="9043"/>
                  <a:pt x="5413" y="8918"/>
                </a:cubicBezTo>
                <a:cubicBezTo>
                  <a:pt x="6146" y="8771"/>
                  <a:pt x="6794" y="8632"/>
                  <a:pt x="7546" y="8703"/>
                </a:cubicBezTo>
                <a:cubicBezTo>
                  <a:pt x="8101" y="8756"/>
                  <a:pt x="8595" y="8588"/>
                  <a:pt x="9140" y="8537"/>
                </a:cubicBezTo>
                <a:cubicBezTo>
                  <a:pt x="9744" y="8480"/>
                  <a:pt x="10328" y="8443"/>
                  <a:pt x="10934" y="8475"/>
                </a:cubicBezTo>
                <a:cubicBezTo>
                  <a:pt x="11350" y="8497"/>
                  <a:pt x="11758" y="8479"/>
                  <a:pt x="12173" y="8527"/>
                </a:cubicBezTo>
                <a:cubicBezTo>
                  <a:pt x="12549" y="8571"/>
                  <a:pt x="12969" y="8621"/>
                  <a:pt x="13317" y="8775"/>
                </a:cubicBezTo>
                <a:cubicBezTo>
                  <a:pt x="13575" y="8889"/>
                  <a:pt x="13809" y="9063"/>
                  <a:pt x="14063" y="9190"/>
                </a:cubicBezTo>
                <a:cubicBezTo>
                  <a:pt x="14183" y="9250"/>
                  <a:pt x="14298" y="9319"/>
                  <a:pt x="14413" y="9372"/>
                </a:cubicBezTo>
                <a:cubicBezTo>
                  <a:pt x="14425" y="9373"/>
                  <a:pt x="14438" y="9374"/>
                  <a:pt x="14450" y="9375"/>
                </a:cubicBezTo>
              </a:path>
            </a:pathLst>
          </a:custGeom>
          <a:noFill/>
          <a:ln cap="rnd" w="19080">
            <a:solidFill>
              <a:srgbClr val="fbdf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11240" y="4098960"/>
            <a:ext cx="4733640" cy="239760"/>
          </a:xfrm>
          <a:custGeom>
            <a:avLst/>
            <a:gdLst/>
            <a:ahLst/>
            <a:rect l="l" t="t" r="r" b="b"/>
            <a:pathLst>
              <a:path w="13152" h="668">
                <a:moveTo>
                  <a:pt x="346" y="12005"/>
                </a:moveTo>
                <a:cubicBezTo>
                  <a:pt x="333" y="12015"/>
                  <a:pt x="320" y="12025"/>
                  <a:pt x="307" y="12035"/>
                </a:cubicBezTo>
                <a:cubicBezTo>
                  <a:pt x="535" y="12012"/>
                  <a:pt x="765" y="11990"/>
                  <a:pt x="1000" y="11986"/>
                </a:cubicBezTo>
                <a:cubicBezTo>
                  <a:pt x="1389" y="11980"/>
                  <a:pt x="1775" y="11932"/>
                  <a:pt x="2164" y="11912"/>
                </a:cubicBezTo>
                <a:cubicBezTo>
                  <a:pt x="3441" y="11846"/>
                  <a:pt x="4746" y="11936"/>
                  <a:pt x="6017" y="11799"/>
                </a:cubicBezTo>
                <a:cubicBezTo>
                  <a:pt x="6429" y="11755"/>
                  <a:pt x="6811" y="11698"/>
                  <a:pt x="7227" y="11693"/>
                </a:cubicBezTo>
                <a:cubicBezTo>
                  <a:pt x="8047" y="11684"/>
                  <a:pt x="8871" y="11617"/>
                  <a:pt x="9689" y="11555"/>
                </a:cubicBezTo>
                <a:cubicBezTo>
                  <a:pt x="10246" y="11513"/>
                  <a:pt x="10805" y="11405"/>
                  <a:pt x="11363" y="11386"/>
                </a:cubicBezTo>
                <a:cubicBezTo>
                  <a:pt x="11772" y="11372"/>
                  <a:pt x="12068" y="11517"/>
                  <a:pt x="12451" y="11617"/>
                </a:cubicBezTo>
                <a:cubicBezTo>
                  <a:pt x="12773" y="11701"/>
                  <a:pt x="13127" y="11662"/>
                  <a:pt x="13458" y="11663"/>
                </a:cubicBezTo>
              </a:path>
            </a:pathLst>
          </a:custGeom>
          <a:noFill/>
          <a:ln cap="rnd" w="19080">
            <a:solidFill>
              <a:srgbClr val="fbdf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467400" y="1254240"/>
            <a:ext cx="2646360" cy="1807920"/>
          </a:xfrm>
          <a:custGeom>
            <a:avLst/>
            <a:gdLst/>
            <a:ahLst/>
            <a:rect l="l" t="t" r="r" b="b"/>
            <a:pathLst>
              <a:path w="7349" h="5024">
                <a:moveTo>
                  <a:pt x="17967" y="8417"/>
                </a:moveTo>
                <a:cubicBezTo>
                  <a:pt x="17989" y="8461"/>
                  <a:pt x="17997" y="8474"/>
                  <a:pt x="17988" y="8507"/>
                </a:cubicBezTo>
                <a:cubicBezTo>
                  <a:pt x="18097" y="8161"/>
                  <a:pt x="18132" y="7813"/>
                  <a:pt x="18152" y="7449"/>
                </a:cubicBezTo>
                <a:cubicBezTo>
                  <a:pt x="18169" y="7139"/>
                  <a:pt x="18188" y="6920"/>
                  <a:pt x="18304" y="6630"/>
                </a:cubicBezTo>
                <a:cubicBezTo>
                  <a:pt x="18361" y="6488"/>
                  <a:pt x="18414" y="6345"/>
                  <a:pt x="18463" y="6202"/>
                </a:cubicBezTo>
                <a:cubicBezTo>
                  <a:pt x="18552" y="5944"/>
                  <a:pt x="18674" y="5705"/>
                  <a:pt x="18752" y="5442"/>
                </a:cubicBezTo>
                <a:cubicBezTo>
                  <a:pt x="18836" y="5158"/>
                  <a:pt x="18817" y="4879"/>
                  <a:pt x="18874" y="4597"/>
                </a:cubicBezTo>
                <a:cubicBezTo>
                  <a:pt x="18922" y="4360"/>
                  <a:pt x="19080" y="4040"/>
                  <a:pt x="19249" y="3866"/>
                </a:cubicBezTo>
                <a:cubicBezTo>
                  <a:pt x="19345" y="3768"/>
                  <a:pt x="19460" y="3742"/>
                  <a:pt x="19579" y="3687"/>
                </a:cubicBezTo>
                <a:cubicBezTo>
                  <a:pt x="19896" y="3541"/>
                  <a:pt x="20150" y="3447"/>
                  <a:pt x="20486" y="3549"/>
                </a:cubicBezTo>
                <a:cubicBezTo>
                  <a:pt x="20820" y="3651"/>
                  <a:pt x="21099" y="3878"/>
                  <a:pt x="21276" y="4173"/>
                </a:cubicBezTo>
                <a:cubicBezTo>
                  <a:pt x="21378" y="4343"/>
                  <a:pt x="21361" y="4491"/>
                  <a:pt x="21394" y="4678"/>
                </a:cubicBezTo>
                <a:cubicBezTo>
                  <a:pt x="21441" y="4944"/>
                  <a:pt x="21517" y="5226"/>
                  <a:pt x="21620" y="5475"/>
                </a:cubicBezTo>
                <a:cubicBezTo>
                  <a:pt x="21758" y="5807"/>
                  <a:pt x="21788" y="6245"/>
                  <a:pt x="21975" y="6544"/>
                </a:cubicBezTo>
                <a:cubicBezTo>
                  <a:pt x="22133" y="6796"/>
                  <a:pt x="22353" y="6873"/>
                  <a:pt x="22634" y="6858"/>
                </a:cubicBezTo>
                <a:cubicBezTo>
                  <a:pt x="23153" y="6829"/>
                  <a:pt x="23628" y="6597"/>
                  <a:pt x="24121" y="6459"/>
                </a:cubicBezTo>
                <a:cubicBezTo>
                  <a:pt x="24523" y="6346"/>
                  <a:pt x="24909" y="6297"/>
                  <a:pt x="25315" y="6354"/>
                </a:cubicBezTo>
              </a:path>
            </a:pathLst>
          </a:custGeom>
          <a:noFill/>
          <a:ln cap="rnd" w="19080">
            <a:solidFill>
              <a:srgbClr val="fbdf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516720" y="2556000"/>
            <a:ext cx="2598840" cy="1523880"/>
          </a:xfrm>
          <a:custGeom>
            <a:avLst/>
            <a:gdLst/>
            <a:ahLst/>
            <a:rect l="l" t="t" r="r" b="b"/>
            <a:pathLst>
              <a:path w="7221" h="4234">
                <a:moveTo>
                  <a:pt x="18101" y="11333"/>
                </a:moveTo>
                <a:cubicBezTo>
                  <a:pt x="18257" y="11160"/>
                  <a:pt x="18397" y="11020"/>
                  <a:pt x="18445" y="10783"/>
                </a:cubicBezTo>
                <a:cubicBezTo>
                  <a:pt x="18472" y="10652"/>
                  <a:pt x="18477" y="10511"/>
                  <a:pt x="18496" y="10377"/>
                </a:cubicBezTo>
                <a:cubicBezTo>
                  <a:pt x="18520" y="10207"/>
                  <a:pt x="18507" y="10043"/>
                  <a:pt x="18514" y="9872"/>
                </a:cubicBezTo>
                <a:cubicBezTo>
                  <a:pt x="18521" y="9690"/>
                  <a:pt x="18546" y="9507"/>
                  <a:pt x="18556" y="9324"/>
                </a:cubicBezTo>
                <a:cubicBezTo>
                  <a:pt x="18570" y="9059"/>
                  <a:pt x="18618" y="8824"/>
                  <a:pt x="18657" y="8565"/>
                </a:cubicBezTo>
                <a:cubicBezTo>
                  <a:pt x="18689" y="8351"/>
                  <a:pt x="18708" y="8158"/>
                  <a:pt x="18773" y="7950"/>
                </a:cubicBezTo>
                <a:cubicBezTo>
                  <a:pt x="18835" y="7753"/>
                  <a:pt x="18885" y="7611"/>
                  <a:pt x="19054" y="7477"/>
                </a:cubicBezTo>
                <a:cubicBezTo>
                  <a:pt x="19207" y="7356"/>
                  <a:pt x="19401" y="7261"/>
                  <a:pt x="19583" y="7190"/>
                </a:cubicBezTo>
                <a:cubicBezTo>
                  <a:pt x="19701" y="7144"/>
                  <a:pt x="19804" y="7140"/>
                  <a:pt x="19927" y="7123"/>
                </a:cubicBezTo>
                <a:cubicBezTo>
                  <a:pt x="20264" y="7077"/>
                  <a:pt x="20707" y="7069"/>
                  <a:pt x="21033" y="7158"/>
                </a:cubicBezTo>
                <a:cubicBezTo>
                  <a:pt x="21181" y="7198"/>
                  <a:pt x="21337" y="7282"/>
                  <a:pt x="21467" y="7362"/>
                </a:cubicBezTo>
                <a:cubicBezTo>
                  <a:pt x="21688" y="7498"/>
                  <a:pt x="21802" y="7661"/>
                  <a:pt x="21876" y="7900"/>
                </a:cubicBezTo>
                <a:cubicBezTo>
                  <a:pt x="21932" y="8081"/>
                  <a:pt x="21976" y="8231"/>
                  <a:pt x="22073" y="8398"/>
                </a:cubicBezTo>
                <a:cubicBezTo>
                  <a:pt x="22139" y="8510"/>
                  <a:pt x="22179" y="8640"/>
                  <a:pt x="22243" y="8745"/>
                </a:cubicBezTo>
                <a:cubicBezTo>
                  <a:pt x="22297" y="8832"/>
                  <a:pt x="22378" y="8943"/>
                  <a:pt x="22461" y="9005"/>
                </a:cubicBezTo>
                <a:cubicBezTo>
                  <a:pt x="22792" y="9252"/>
                  <a:pt x="23477" y="9125"/>
                  <a:pt x="23869" y="9148"/>
                </a:cubicBezTo>
                <a:cubicBezTo>
                  <a:pt x="24081" y="9161"/>
                  <a:pt x="24275" y="9148"/>
                  <a:pt x="24486" y="9135"/>
                </a:cubicBezTo>
                <a:cubicBezTo>
                  <a:pt x="24722" y="9120"/>
                  <a:pt x="25212" y="9099"/>
                  <a:pt x="25269" y="9086"/>
                </a:cubicBezTo>
              </a:path>
            </a:pathLst>
          </a:custGeom>
          <a:noFill/>
          <a:ln cap="rnd" w="19080">
            <a:solidFill>
              <a:srgbClr val="fbdf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807080" y="4040280"/>
            <a:ext cx="1976400" cy="1806480"/>
          </a:xfrm>
          <a:custGeom>
            <a:avLst/>
            <a:gdLst/>
            <a:ahLst/>
            <a:rect l="l" t="t" r="r" b="b"/>
            <a:pathLst>
              <a:path w="5490" h="5019">
                <a:moveTo>
                  <a:pt x="13458" y="11746"/>
                </a:moveTo>
                <a:cubicBezTo>
                  <a:pt x="13512" y="11758"/>
                  <a:pt x="13560" y="11745"/>
                  <a:pt x="13617" y="11765"/>
                </a:cubicBezTo>
                <a:cubicBezTo>
                  <a:pt x="13869" y="11851"/>
                  <a:pt x="13954" y="11970"/>
                  <a:pt x="13926" y="12229"/>
                </a:cubicBezTo>
                <a:cubicBezTo>
                  <a:pt x="13907" y="12403"/>
                  <a:pt x="13851" y="12582"/>
                  <a:pt x="13825" y="12756"/>
                </a:cubicBezTo>
                <a:cubicBezTo>
                  <a:pt x="13802" y="12910"/>
                  <a:pt x="13768" y="13060"/>
                  <a:pt x="13744" y="13213"/>
                </a:cubicBezTo>
                <a:cubicBezTo>
                  <a:pt x="13709" y="13435"/>
                  <a:pt x="13702" y="13675"/>
                  <a:pt x="13628" y="13887"/>
                </a:cubicBezTo>
                <a:cubicBezTo>
                  <a:pt x="13531" y="14164"/>
                  <a:pt x="13396" y="14372"/>
                  <a:pt x="13390" y="14676"/>
                </a:cubicBezTo>
                <a:cubicBezTo>
                  <a:pt x="13385" y="14903"/>
                  <a:pt x="13366" y="15121"/>
                  <a:pt x="13356" y="15346"/>
                </a:cubicBezTo>
                <a:cubicBezTo>
                  <a:pt x="13345" y="15601"/>
                  <a:pt x="13437" y="15841"/>
                  <a:pt x="13665" y="15974"/>
                </a:cubicBezTo>
                <a:cubicBezTo>
                  <a:pt x="13908" y="16116"/>
                  <a:pt x="14254" y="16081"/>
                  <a:pt x="14524" y="16147"/>
                </a:cubicBezTo>
                <a:cubicBezTo>
                  <a:pt x="14702" y="16190"/>
                  <a:pt x="14849" y="16243"/>
                  <a:pt x="15037" y="16237"/>
                </a:cubicBezTo>
                <a:cubicBezTo>
                  <a:pt x="15413" y="16225"/>
                  <a:pt x="15689" y="16002"/>
                  <a:pt x="15986" y="15804"/>
                </a:cubicBezTo>
                <a:cubicBezTo>
                  <a:pt x="16189" y="15668"/>
                  <a:pt x="16319" y="15546"/>
                  <a:pt x="16450" y="15339"/>
                </a:cubicBezTo>
                <a:cubicBezTo>
                  <a:pt x="16502" y="15258"/>
                  <a:pt x="16544" y="15175"/>
                  <a:pt x="16602" y="15099"/>
                </a:cubicBezTo>
                <a:cubicBezTo>
                  <a:pt x="16681" y="14995"/>
                  <a:pt x="16781" y="14923"/>
                  <a:pt x="16877" y="14838"/>
                </a:cubicBezTo>
                <a:cubicBezTo>
                  <a:pt x="17091" y="14650"/>
                  <a:pt x="17334" y="14473"/>
                  <a:pt x="17607" y="14381"/>
                </a:cubicBezTo>
                <a:cubicBezTo>
                  <a:pt x="17840" y="14302"/>
                  <a:pt x="18096" y="14288"/>
                  <a:pt x="18322" y="14185"/>
                </a:cubicBezTo>
                <a:cubicBezTo>
                  <a:pt x="18487" y="14110"/>
                  <a:pt x="18588" y="13994"/>
                  <a:pt x="18699" y="13857"/>
                </a:cubicBezTo>
                <a:cubicBezTo>
                  <a:pt x="18845" y="13678"/>
                  <a:pt x="18839" y="13492"/>
                  <a:pt x="18842" y="13266"/>
                </a:cubicBezTo>
                <a:cubicBezTo>
                  <a:pt x="18845" y="13011"/>
                  <a:pt x="18846" y="12767"/>
                  <a:pt x="18708" y="12541"/>
                </a:cubicBezTo>
                <a:cubicBezTo>
                  <a:pt x="18599" y="12363"/>
                  <a:pt x="18432" y="12197"/>
                  <a:pt x="18307" y="12026"/>
                </a:cubicBezTo>
                <a:cubicBezTo>
                  <a:pt x="18229" y="11920"/>
                  <a:pt x="18140" y="11824"/>
                  <a:pt x="18082" y="11707"/>
                </a:cubicBezTo>
                <a:cubicBezTo>
                  <a:pt x="18052" y="11646"/>
                  <a:pt x="18023" y="11617"/>
                  <a:pt x="18022" y="11546"/>
                </a:cubicBezTo>
                <a:cubicBezTo>
                  <a:pt x="18020" y="11402"/>
                  <a:pt x="18092" y="11338"/>
                  <a:pt x="18184" y="11241"/>
                </a:cubicBezTo>
                <a:cubicBezTo>
                  <a:pt x="18196" y="11235"/>
                  <a:pt x="18209" y="11228"/>
                  <a:pt x="18221" y="11222"/>
                </a:cubicBezTo>
              </a:path>
            </a:pathLst>
          </a:custGeom>
          <a:noFill/>
          <a:ln cap="rnd" w="19080">
            <a:solidFill>
              <a:srgbClr val="fbdf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165640" y="3035160"/>
            <a:ext cx="1316160" cy="1514520"/>
          </a:xfrm>
          <a:custGeom>
            <a:avLst/>
            <a:gdLst/>
            <a:ahLst/>
            <a:rect l="l" t="t" r="r" b="b"/>
            <a:pathLst>
              <a:path w="3652" h="4208">
                <a:moveTo>
                  <a:pt x="14351" y="9379"/>
                </a:moveTo>
                <a:cubicBezTo>
                  <a:pt x="14452" y="9423"/>
                  <a:pt x="14466" y="9413"/>
                  <a:pt x="14545" y="9495"/>
                </a:cubicBezTo>
                <a:cubicBezTo>
                  <a:pt x="14704" y="9662"/>
                  <a:pt x="14745" y="9888"/>
                  <a:pt x="14767" y="10107"/>
                </a:cubicBezTo>
                <a:cubicBezTo>
                  <a:pt x="14791" y="10340"/>
                  <a:pt x="14757" y="10556"/>
                  <a:pt x="14723" y="10786"/>
                </a:cubicBezTo>
                <a:cubicBezTo>
                  <a:pt x="14672" y="11133"/>
                  <a:pt x="14662" y="11385"/>
                  <a:pt x="14736" y="11725"/>
                </a:cubicBezTo>
                <a:cubicBezTo>
                  <a:pt x="14774" y="11901"/>
                  <a:pt x="14788" y="12088"/>
                  <a:pt x="14855" y="12257"/>
                </a:cubicBezTo>
                <a:cubicBezTo>
                  <a:pt x="14908" y="12392"/>
                  <a:pt x="14989" y="12517"/>
                  <a:pt x="15117" y="12591"/>
                </a:cubicBezTo>
                <a:cubicBezTo>
                  <a:pt x="15205" y="12642"/>
                  <a:pt x="15256" y="12644"/>
                  <a:pt x="15355" y="12615"/>
                </a:cubicBezTo>
                <a:cubicBezTo>
                  <a:pt x="15616" y="12538"/>
                  <a:pt x="15905" y="12370"/>
                  <a:pt x="16150" y="12243"/>
                </a:cubicBezTo>
                <a:cubicBezTo>
                  <a:pt x="16317" y="12157"/>
                  <a:pt x="16471" y="12064"/>
                  <a:pt x="16621" y="11954"/>
                </a:cubicBezTo>
                <a:cubicBezTo>
                  <a:pt x="16720" y="11881"/>
                  <a:pt x="16818" y="11817"/>
                  <a:pt x="16914" y="11740"/>
                </a:cubicBezTo>
                <a:cubicBezTo>
                  <a:pt x="17080" y="11607"/>
                  <a:pt x="17281" y="11488"/>
                  <a:pt x="17403" y="11308"/>
                </a:cubicBezTo>
                <a:cubicBezTo>
                  <a:pt x="17447" y="11243"/>
                  <a:pt x="17477" y="11172"/>
                  <a:pt x="17507" y="11100"/>
                </a:cubicBezTo>
                <a:cubicBezTo>
                  <a:pt x="17587" y="10910"/>
                  <a:pt x="17681" y="10694"/>
                  <a:pt x="17711" y="10490"/>
                </a:cubicBezTo>
                <a:cubicBezTo>
                  <a:pt x="17750" y="10226"/>
                  <a:pt x="17750" y="9903"/>
                  <a:pt x="17757" y="9641"/>
                </a:cubicBezTo>
                <a:cubicBezTo>
                  <a:pt x="17759" y="9582"/>
                  <a:pt x="17756" y="9519"/>
                  <a:pt x="17757" y="9461"/>
                </a:cubicBezTo>
                <a:cubicBezTo>
                  <a:pt x="17757" y="9438"/>
                  <a:pt x="17750" y="9316"/>
                  <a:pt x="17757" y="9297"/>
                </a:cubicBezTo>
                <a:cubicBezTo>
                  <a:pt x="17780" y="9230"/>
                  <a:pt x="17836" y="9185"/>
                  <a:pt x="17858" y="9110"/>
                </a:cubicBezTo>
                <a:cubicBezTo>
                  <a:pt x="17913" y="8926"/>
                  <a:pt x="17930" y="8729"/>
                  <a:pt x="17974" y="8543"/>
                </a:cubicBezTo>
                <a:cubicBezTo>
                  <a:pt x="17983" y="8505"/>
                  <a:pt x="17993" y="8469"/>
                  <a:pt x="18002" y="8431"/>
                </a:cubicBezTo>
              </a:path>
            </a:pathLst>
          </a:custGeom>
          <a:noFill/>
          <a:ln cap="rnd" w="19080">
            <a:solidFill>
              <a:srgbClr val="fbdf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343400" y="29718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Myriad Web"/>
              </a:rPr>
              <a:t>expose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 (s) {</a:t>
            </a:r>
            <a:r>
              <a:rPr b="0" lang="en-US" sz="2400" spc="-1" strike="noStrike">
                <a:solidFill>
                  <a:srgbClr val="969696"/>
                </a:solidFill>
                <a:latin typeface="Myriad Web"/>
              </a:rPr>
              <a:t> …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yriad Web"/>
              </a:rPr>
              <a:t>Object states:  a picture of the heap</a:t>
            </a: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429" name=""/>
          <p:cNvSpPr/>
          <p:nvPr/>
        </p:nvSpPr>
        <p:spPr>
          <a:xfrm>
            <a:off x="7086600" y="4527720"/>
            <a:ext cx="685800" cy="68580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086600" y="5289480"/>
            <a:ext cx="685800" cy="685800"/>
          </a:xfrm>
          <a:prstGeom prst="ellipse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086600" y="605160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772400" y="4680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Web"/>
              </a:rPr>
              <a:t>Mu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56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Web"/>
              </a:rPr>
              <a:t>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6218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Web"/>
              </a:rPr>
              <a:t>Com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0" y="4114800"/>
            <a:ext cx="2286000" cy="2743200"/>
          </a:xfrm>
          <a:custGeom>
            <a:avLst/>
            <a:gdLst/>
            <a:ahLst/>
            <a:rect l="l" t="t" r="r" b="b"/>
            <a:pathLst>
              <a:path w="1440" h="1536">
                <a:moveTo>
                  <a:pt x="0" y="1536"/>
                </a:moveTo>
                <a:lnTo>
                  <a:pt x="0" y="0"/>
                </a:lnTo>
                <a:lnTo>
                  <a:pt x="14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09480" y="1447920"/>
            <a:ext cx="685800" cy="68580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600200" y="1371600"/>
            <a:ext cx="685800" cy="68580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1600200"/>
            <a:ext cx="685800" cy="68580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86200" y="2286000"/>
            <a:ext cx="685800" cy="68580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066680" y="2362320"/>
            <a:ext cx="685800" cy="68580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952880" y="1371600"/>
            <a:ext cx="685800" cy="68580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715000" y="2209680"/>
            <a:ext cx="685800" cy="68580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848720" y="1447920"/>
            <a:ext cx="685800" cy="68580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57200" y="3352680"/>
            <a:ext cx="685800" cy="685800"/>
          </a:xfrm>
          <a:prstGeom prst="ellipse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286000" y="3352680"/>
            <a:ext cx="685800" cy="685800"/>
          </a:xfrm>
          <a:prstGeom prst="ellipse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809880" y="3124080"/>
            <a:ext cx="685800" cy="685800"/>
          </a:xfrm>
          <a:prstGeom prst="ellipse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562720" y="3429000"/>
            <a:ext cx="685800" cy="68580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Web"/>
              </a:rPr>
              <a:t>s: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934320" y="1523880"/>
            <a:ext cx="685800" cy="685800"/>
          </a:xfrm>
          <a:prstGeom prst="ellipse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305920" y="2590920"/>
            <a:ext cx="685800" cy="685800"/>
          </a:xfrm>
          <a:prstGeom prst="ellipse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28600" y="480060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295280" y="472428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57200" y="586728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905120" y="571500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14600" y="434340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048120" y="525780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962520" y="449568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579132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029200" y="5029200"/>
            <a:ext cx="685800" cy="685800"/>
          </a:xfrm>
          <a:prstGeom prst="ellipse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Web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Myriad Web"/>
              </a:rPr>
              <a:t>Hash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019920" y="4343400"/>
            <a:ext cx="685800" cy="685800"/>
          </a:xfrm>
          <a:prstGeom prst="ellipse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0" y="274320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381880" y="335268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772400" y="4129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Web"/>
              </a:rPr>
              <a:t>ow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43120" y="3968640"/>
            <a:ext cx="1215720" cy="2030400"/>
          </a:xfrm>
          <a:custGeom>
            <a:avLst/>
            <a:gdLst/>
            <a:ahLst/>
            <a:rect l="l" t="t" r="r" b="b"/>
            <a:pathLst>
              <a:path w="3377" h="5638">
                <a:moveTo>
                  <a:pt x="2341" y="14981"/>
                </a:moveTo>
                <a:cubicBezTo>
                  <a:pt x="2404" y="15013"/>
                  <a:pt x="2443" y="15033"/>
                  <a:pt x="2519" y="15051"/>
                </a:cubicBezTo>
                <a:cubicBezTo>
                  <a:pt x="2721" y="15099"/>
                  <a:pt x="2912" y="15169"/>
                  <a:pt x="3094" y="15272"/>
                </a:cubicBezTo>
                <a:cubicBezTo>
                  <a:pt x="3247" y="15358"/>
                  <a:pt x="3399" y="15446"/>
                  <a:pt x="3549" y="15536"/>
                </a:cubicBezTo>
                <a:cubicBezTo>
                  <a:pt x="3827" y="15703"/>
                  <a:pt x="4089" y="15907"/>
                  <a:pt x="4387" y="16037"/>
                </a:cubicBezTo>
                <a:cubicBezTo>
                  <a:pt x="4549" y="16108"/>
                  <a:pt x="4715" y="16132"/>
                  <a:pt x="4881" y="16185"/>
                </a:cubicBezTo>
                <a:cubicBezTo>
                  <a:pt x="5049" y="16239"/>
                  <a:pt x="5196" y="16315"/>
                  <a:pt x="5352" y="16394"/>
                </a:cubicBezTo>
                <a:cubicBezTo>
                  <a:pt x="5429" y="16433"/>
                  <a:pt x="5622" y="16569"/>
                  <a:pt x="5703" y="16575"/>
                </a:cubicBezTo>
                <a:cubicBezTo>
                  <a:pt x="5695" y="16563"/>
                  <a:pt x="5688" y="16550"/>
                  <a:pt x="5680" y="16538"/>
                </a:cubicBezTo>
              </a:path>
              <a:path w="3377" h="5638">
                <a:moveTo>
                  <a:pt x="5507" y="16346"/>
                </a:moveTo>
                <a:cubicBezTo>
                  <a:pt x="5457" y="16314"/>
                  <a:pt x="5432" y="16301"/>
                  <a:pt x="5376" y="16286"/>
                </a:cubicBezTo>
                <a:cubicBezTo>
                  <a:pt x="5455" y="16324"/>
                  <a:pt x="5511" y="16373"/>
                  <a:pt x="5576" y="16432"/>
                </a:cubicBezTo>
                <a:cubicBezTo>
                  <a:pt x="5635" y="16486"/>
                  <a:pt x="5699" y="16526"/>
                  <a:pt x="5711" y="16598"/>
                </a:cubicBezTo>
                <a:cubicBezTo>
                  <a:pt x="5639" y="16613"/>
                  <a:pt x="5568" y="16624"/>
                  <a:pt x="5496" y="16633"/>
                </a:cubicBezTo>
                <a:cubicBezTo>
                  <a:pt x="5432" y="16641"/>
                  <a:pt x="5368" y="16647"/>
                  <a:pt x="5304" y="16655"/>
                </a:cubicBezTo>
                <a:cubicBezTo>
                  <a:pt x="5286" y="16657"/>
                  <a:pt x="5163" y="16668"/>
                  <a:pt x="5270" y="16660"/>
                </a:cubicBezTo>
              </a:path>
              <a:path w="3377" h="5638">
                <a:moveTo>
                  <a:pt x="2889" y="11026"/>
                </a:moveTo>
                <a:cubicBezTo>
                  <a:pt x="2922" y="11082"/>
                  <a:pt x="2956" y="11137"/>
                  <a:pt x="2992" y="11192"/>
                </a:cubicBezTo>
                <a:cubicBezTo>
                  <a:pt x="3035" y="11258"/>
                  <a:pt x="3069" y="11328"/>
                  <a:pt x="3113" y="11393"/>
                </a:cubicBezTo>
                <a:cubicBezTo>
                  <a:pt x="3215" y="11543"/>
                  <a:pt x="3357" y="11659"/>
                  <a:pt x="3482" y="11790"/>
                </a:cubicBezTo>
                <a:cubicBezTo>
                  <a:pt x="3603" y="11918"/>
                  <a:pt x="3669" y="12061"/>
                  <a:pt x="3727" y="12224"/>
                </a:cubicBezTo>
                <a:cubicBezTo>
                  <a:pt x="3752" y="12294"/>
                  <a:pt x="3776" y="12363"/>
                  <a:pt x="3803" y="12432"/>
                </a:cubicBezTo>
                <a:cubicBezTo>
                  <a:pt x="3839" y="12525"/>
                  <a:pt x="3874" y="12617"/>
                  <a:pt x="3912" y="12709"/>
                </a:cubicBezTo>
                <a:cubicBezTo>
                  <a:pt x="3944" y="12786"/>
                  <a:pt x="3981" y="12860"/>
                  <a:pt x="4013" y="12936"/>
                </a:cubicBezTo>
                <a:cubicBezTo>
                  <a:pt x="4046" y="13014"/>
                  <a:pt x="4070" y="13096"/>
                  <a:pt x="4098" y="13176"/>
                </a:cubicBezTo>
                <a:cubicBezTo>
                  <a:pt x="4122" y="13244"/>
                  <a:pt x="4156" y="13304"/>
                  <a:pt x="4184" y="13370"/>
                </a:cubicBezTo>
                <a:cubicBezTo>
                  <a:pt x="4205" y="13421"/>
                  <a:pt x="4212" y="13471"/>
                  <a:pt x="4223" y="13525"/>
                </a:cubicBezTo>
                <a:cubicBezTo>
                  <a:pt x="4216" y="13486"/>
                  <a:pt x="4213" y="13472"/>
                  <a:pt x="4210" y="13446"/>
                </a:cubicBezTo>
              </a:path>
              <a:path w="3377" h="5638">
                <a:moveTo>
                  <a:pt x="4434" y="13106"/>
                </a:moveTo>
                <a:cubicBezTo>
                  <a:pt x="4433" y="13167"/>
                  <a:pt x="4417" y="13223"/>
                  <a:pt x="4403" y="13284"/>
                </a:cubicBezTo>
                <a:cubicBezTo>
                  <a:pt x="4391" y="13338"/>
                  <a:pt x="4380" y="13392"/>
                  <a:pt x="4371" y="13446"/>
                </a:cubicBezTo>
                <a:cubicBezTo>
                  <a:pt x="4361" y="13504"/>
                  <a:pt x="4351" y="13562"/>
                  <a:pt x="4346" y="13621"/>
                </a:cubicBezTo>
                <a:cubicBezTo>
                  <a:pt x="4340" y="13687"/>
                  <a:pt x="4340" y="13754"/>
                  <a:pt x="4332" y="13820"/>
                </a:cubicBezTo>
                <a:cubicBezTo>
                  <a:pt x="4249" y="13801"/>
                  <a:pt x="4228" y="13769"/>
                  <a:pt x="4161" y="13718"/>
                </a:cubicBezTo>
                <a:cubicBezTo>
                  <a:pt x="4088" y="13663"/>
                  <a:pt x="4005" y="13631"/>
                  <a:pt x="3921" y="13598"/>
                </a:cubicBezTo>
                <a:cubicBezTo>
                  <a:pt x="3830" y="13562"/>
                  <a:pt x="3837" y="13533"/>
                  <a:pt x="3933" y="13543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012680" y="2082960"/>
            <a:ext cx="365400" cy="1385640"/>
          </a:xfrm>
          <a:custGeom>
            <a:avLst/>
            <a:gdLst/>
            <a:ahLst/>
            <a:rect l="l" t="t" r="r" b="b"/>
            <a:pathLst>
              <a:path w="1014" h="3851">
                <a:moveTo>
                  <a:pt x="3090" y="5784"/>
                </a:moveTo>
                <a:cubicBezTo>
                  <a:pt x="3107" y="5854"/>
                  <a:pt x="3123" y="5891"/>
                  <a:pt x="3164" y="5953"/>
                </a:cubicBezTo>
                <a:cubicBezTo>
                  <a:pt x="3215" y="6029"/>
                  <a:pt x="3249" y="6105"/>
                  <a:pt x="3291" y="6186"/>
                </a:cubicBezTo>
                <a:cubicBezTo>
                  <a:pt x="3332" y="6265"/>
                  <a:pt x="3385" y="6328"/>
                  <a:pt x="3443" y="6394"/>
                </a:cubicBezTo>
                <a:cubicBezTo>
                  <a:pt x="3533" y="6498"/>
                  <a:pt x="3590" y="6592"/>
                  <a:pt x="3637" y="6720"/>
                </a:cubicBezTo>
                <a:cubicBezTo>
                  <a:pt x="3661" y="6784"/>
                  <a:pt x="3701" y="6821"/>
                  <a:pt x="3746" y="6870"/>
                </a:cubicBezTo>
                <a:cubicBezTo>
                  <a:pt x="3769" y="6822"/>
                  <a:pt x="3776" y="6805"/>
                  <a:pt x="3750" y="6770"/>
                </a:cubicBezTo>
              </a:path>
              <a:path w="1014" h="3851">
                <a:moveTo>
                  <a:pt x="3341" y="6717"/>
                </a:moveTo>
                <a:cubicBezTo>
                  <a:pt x="3375" y="6782"/>
                  <a:pt x="3412" y="6832"/>
                  <a:pt x="3473" y="6874"/>
                </a:cubicBezTo>
                <a:cubicBezTo>
                  <a:pt x="3521" y="6907"/>
                  <a:pt x="3580" y="6934"/>
                  <a:pt x="3637" y="6950"/>
                </a:cubicBezTo>
                <a:cubicBezTo>
                  <a:pt x="3703" y="6969"/>
                  <a:pt x="3791" y="7000"/>
                  <a:pt x="3808" y="6913"/>
                </a:cubicBezTo>
                <a:cubicBezTo>
                  <a:pt x="3821" y="6846"/>
                  <a:pt x="3798" y="6761"/>
                  <a:pt x="3803" y="6690"/>
                </a:cubicBezTo>
                <a:cubicBezTo>
                  <a:pt x="3807" y="6633"/>
                  <a:pt x="3819" y="6576"/>
                  <a:pt x="3824" y="6519"/>
                </a:cubicBezTo>
                <a:cubicBezTo>
                  <a:pt x="3826" y="6476"/>
                  <a:pt x="3827" y="6461"/>
                  <a:pt x="3792" y="6500"/>
                </a:cubicBezTo>
              </a:path>
              <a:path w="1014" h="3851">
                <a:moveTo>
                  <a:pt x="3623" y="8289"/>
                </a:moveTo>
                <a:cubicBezTo>
                  <a:pt x="3635" y="8286"/>
                  <a:pt x="3646" y="8283"/>
                  <a:pt x="3658" y="8280"/>
                </a:cubicBezTo>
                <a:cubicBezTo>
                  <a:pt x="3594" y="8333"/>
                  <a:pt x="3558" y="8398"/>
                  <a:pt x="3512" y="8470"/>
                </a:cubicBezTo>
                <a:cubicBezTo>
                  <a:pt x="3477" y="8524"/>
                  <a:pt x="3443" y="8580"/>
                  <a:pt x="3411" y="8636"/>
                </a:cubicBezTo>
                <a:cubicBezTo>
                  <a:pt x="3352" y="8739"/>
                  <a:pt x="3313" y="8854"/>
                  <a:pt x="3247" y="8952"/>
                </a:cubicBezTo>
                <a:cubicBezTo>
                  <a:pt x="3204" y="9016"/>
                  <a:pt x="3160" y="9081"/>
                  <a:pt x="3122" y="9148"/>
                </a:cubicBezTo>
                <a:cubicBezTo>
                  <a:pt x="3082" y="9218"/>
                  <a:pt x="3077" y="9296"/>
                  <a:pt x="3030" y="9363"/>
                </a:cubicBezTo>
                <a:cubicBezTo>
                  <a:pt x="2988" y="9422"/>
                  <a:pt x="2944" y="9460"/>
                  <a:pt x="2919" y="9530"/>
                </a:cubicBezTo>
                <a:cubicBezTo>
                  <a:pt x="2904" y="9572"/>
                  <a:pt x="2912" y="9653"/>
                  <a:pt x="2895" y="9553"/>
                </a:cubicBezTo>
              </a:path>
              <a:path w="1014" h="3851">
                <a:moveTo>
                  <a:pt x="2813" y="9305"/>
                </a:moveTo>
                <a:cubicBezTo>
                  <a:pt x="2837" y="9359"/>
                  <a:pt x="2848" y="9407"/>
                  <a:pt x="2856" y="9467"/>
                </a:cubicBezTo>
                <a:cubicBezTo>
                  <a:pt x="2864" y="9523"/>
                  <a:pt x="2869" y="9578"/>
                  <a:pt x="2879" y="9634"/>
                </a:cubicBezTo>
                <a:cubicBezTo>
                  <a:pt x="2957" y="9621"/>
                  <a:pt x="2990" y="9579"/>
                  <a:pt x="3057" y="9537"/>
                </a:cubicBezTo>
                <a:cubicBezTo>
                  <a:pt x="3131" y="9491"/>
                  <a:pt x="3191" y="9467"/>
                  <a:pt x="3276" y="9463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46120" y="3979800"/>
            <a:ext cx="209520" cy="871560"/>
          </a:xfrm>
          <a:custGeom>
            <a:avLst/>
            <a:gdLst/>
            <a:ahLst/>
            <a:rect l="l" t="t" r="r" b="b"/>
            <a:pathLst>
              <a:path w="581" h="2423">
                <a:moveTo>
                  <a:pt x="1972" y="11054"/>
                </a:moveTo>
                <a:cubicBezTo>
                  <a:pt x="1972" y="11189"/>
                  <a:pt x="1972" y="11327"/>
                  <a:pt x="1963" y="11462"/>
                </a:cubicBezTo>
                <a:cubicBezTo>
                  <a:pt x="1952" y="11620"/>
                  <a:pt x="1933" y="11778"/>
                  <a:pt x="1921" y="11936"/>
                </a:cubicBezTo>
                <a:cubicBezTo>
                  <a:pt x="1902" y="12179"/>
                  <a:pt x="1908" y="12418"/>
                  <a:pt x="1838" y="12654"/>
                </a:cubicBezTo>
                <a:cubicBezTo>
                  <a:pt x="1821" y="12713"/>
                  <a:pt x="1802" y="12771"/>
                  <a:pt x="1782" y="12829"/>
                </a:cubicBezTo>
                <a:cubicBezTo>
                  <a:pt x="1742" y="12946"/>
                  <a:pt x="1731" y="13041"/>
                  <a:pt x="1720" y="13162"/>
                </a:cubicBezTo>
                <a:cubicBezTo>
                  <a:pt x="1717" y="13197"/>
                  <a:pt x="1695" y="13422"/>
                  <a:pt x="1697" y="13309"/>
                </a:cubicBezTo>
              </a:path>
              <a:path w="581" h="2423">
                <a:moveTo>
                  <a:pt x="1519" y="13144"/>
                </a:moveTo>
                <a:cubicBezTo>
                  <a:pt x="1561" y="13205"/>
                  <a:pt x="1581" y="13261"/>
                  <a:pt x="1609" y="13330"/>
                </a:cubicBezTo>
                <a:cubicBezTo>
                  <a:pt x="1632" y="13386"/>
                  <a:pt x="1659" y="13428"/>
                  <a:pt x="1695" y="13476"/>
                </a:cubicBezTo>
                <a:cubicBezTo>
                  <a:pt x="1764" y="13453"/>
                  <a:pt x="1800" y="13389"/>
                  <a:pt x="1854" y="13330"/>
                </a:cubicBezTo>
                <a:cubicBezTo>
                  <a:pt x="1911" y="13268"/>
                  <a:pt x="1983" y="13212"/>
                  <a:pt x="2037" y="13148"/>
                </a:cubicBezTo>
                <a:cubicBezTo>
                  <a:pt x="2069" y="13100"/>
                  <a:pt x="2079" y="13085"/>
                  <a:pt x="2099" y="13053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7360" y="5477040"/>
            <a:ext cx="187200" cy="487080"/>
          </a:xfrm>
          <a:custGeom>
            <a:avLst/>
            <a:gdLst/>
            <a:ahLst/>
            <a:rect l="l" t="t" r="r" b="b"/>
            <a:pathLst>
              <a:path w="521" h="1354">
                <a:moveTo>
                  <a:pt x="1826" y="15212"/>
                </a:moveTo>
                <a:cubicBezTo>
                  <a:pt x="1845" y="15274"/>
                  <a:pt x="1859" y="15339"/>
                  <a:pt x="1879" y="15401"/>
                </a:cubicBezTo>
                <a:cubicBezTo>
                  <a:pt x="1913" y="15509"/>
                  <a:pt x="1947" y="15612"/>
                  <a:pt x="1965" y="15725"/>
                </a:cubicBezTo>
                <a:cubicBezTo>
                  <a:pt x="1975" y="15787"/>
                  <a:pt x="1996" y="15844"/>
                  <a:pt x="2018" y="15903"/>
                </a:cubicBezTo>
                <a:cubicBezTo>
                  <a:pt x="2048" y="15984"/>
                  <a:pt x="2095" y="16061"/>
                  <a:pt x="2117" y="16143"/>
                </a:cubicBezTo>
                <a:cubicBezTo>
                  <a:pt x="2134" y="16208"/>
                  <a:pt x="2146" y="16274"/>
                  <a:pt x="2161" y="16339"/>
                </a:cubicBezTo>
                <a:cubicBezTo>
                  <a:pt x="2175" y="16400"/>
                  <a:pt x="2187" y="16459"/>
                  <a:pt x="2196" y="16521"/>
                </a:cubicBezTo>
                <a:cubicBezTo>
                  <a:pt x="2189" y="16485"/>
                  <a:pt x="2185" y="16471"/>
                  <a:pt x="2166" y="16452"/>
                </a:cubicBezTo>
              </a:path>
              <a:path w="521" h="1354">
                <a:moveTo>
                  <a:pt x="1900" y="16429"/>
                </a:moveTo>
                <a:cubicBezTo>
                  <a:pt x="1948" y="16482"/>
                  <a:pt x="1977" y="16534"/>
                  <a:pt x="2050" y="16556"/>
                </a:cubicBezTo>
                <a:cubicBezTo>
                  <a:pt x="2111" y="16574"/>
                  <a:pt x="2211" y="16582"/>
                  <a:pt x="2203" y="16496"/>
                </a:cubicBezTo>
                <a:cubicBezTo>
                  <a:pt x="2198" y="16483"/>
                  <a:pt x="2192" y="16470"/>
                  <a:pt x="2187" y="16457"/>
                </a:cubicBezTo>
              </a:path>
              <a:path w="521" h="1354">
                <a:moveTo>
                  <a:pt x="2346" y="16140"/>
                </a:moveTo>
                <a:cubicBezTo>
                  <a:pt x="2329" y="16206"/>
                  <a:pt x="2305" y="16271"/>
                  <a:pt x="2291" y="16337"/>
                </a:cubicBezTo>
                <a:cubicBezTo>
                  <a:pt x="2281" y="16383"/>
                  <a:pt x="2280" y="16427"/>
                  <a:pt x="2281" y="16473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327800" y="4284720"/>
            <a:ext cx="330480" cy="212760"/>
          </a:xfrm>
          <a:custGeom>
            <a:avLst/>
            <a:gdLst/>
            <a:ahLst/>
            <a:rect l="l" t="t" r="r" b="b"/>
            <a:pathLst>
              <a:path w="917" h="588">
                <a:moveTo>
                  <a:pt x="21271" y="11903"/>
                </a:moveTo>
                <a:cubicBezTo>
                  <a:pt x="21208" y="11934"/>
                  <a:pt x="21141" y="11947"/>
                  <a:pt x="21077" y="11979"/>
                </a:cubicBezTo>
                <a:cubicBezTo>
                  <a:pt x="21008" y="12014"/>
                  <a:pt x="20944" y="12065"/>
                  <a:pt x="20879" y="12106"/>
                </a:cubicBezTo>
                <a:cubicBezTo>
                  <a:pt x="20744" y="12192"/>
                  <a:pt x="20605" y="12282"/>
                  <a:pt x="20461" y="12351"/>
                </a:cubicBezTo>
                <a:cubicBezTo>
                  <a:pt x="20389" y="12386"/>
                  <a:pt x="20389" y="12386"/>
                  <a:pt x="20410" y="12319"/>
                </a:cubicBezTo>
              </a:path>
              <a:path w="917" h="588">
                <a:moveTo>
                  <a:pt x="20608" y="12134"/>
                </a:moveTo>
                <a:cubicBezTo>
                  <a:pt x="20613" y="12211"/>
                  <a:pt x="20561" y="12254"/>
                  <a:pt x="20507" y="12319"/>
                </a:cubicBezTo>
                <a:cubicBezTo>
                  <a:pt x="20458" y="12378"/>
                  <a:pt x="20408" y="12435"/>
                  <a:pt x="20355" y="12490"/>
                </a:cubicBezTo>
                <a:cubicBezTo>
                  <a:pt x="20429" y="12456"/>
                  <a:pt x="20491" y="12443"/>
                  <a:pt x="20574" y="12444"/>
                </a:cubicBezTo>
                <a:cubicBezTo>
                  <a:pt x="20645" y="12445"/>
                  <a:pt x="20650" y="12456"/>
                  <a:pt x="20710" y="12425"/>
                </a:cubicBezTo>
              </a:path>
              <a:path w="917" h="588">
                <a:moveTo>
                  <a:pt x="20376" y="12164"/>
                </a:moveTo>
                <a:cubicBezTo>
                  <a:pt x="20434" y="12139"/>
                  <a:pt x="20435" y="12138"/>
                  <a:pt x="20456" y="12079"/>
                </a:cubicBezTo>
                <a:cubicBezTo>
                  <a:pt x="20452" y="12153"/>
                  <a:pt x="20435" y="12216"/>
                  <a:pt x="20415" y="12287"/>
                </a:cubicBezTo>
                <a:cubicBezTo>
                  <a:pt x="20401" y="12336"/>
                  <a:pt x="20389" y="12385"/>
                  <a:pt x="20376" y="12434"/>
                </a:cubicBezTo>
                <a:cubicBezTo>
                  <a:pt x="20413" y="12374"/>
                  <a:pt x="20425" y="12323"/>
                  <a:pt x="20435" y="12252"/>
                </a:cubicBezTo>
                <a:cubicBezTo>
                  <a:pt x="20440" y="12212"/>
                  <a:pt x="20442" y="12172"/>
                  <a:pt x="20445" y="12132"/>
                </a:cubicBezTo>
                <a:cubicBezTo>
                  <a:pt x="20453" y="12191"/>
                  <a:pt x="20441" y="12230"/>
                  <a:pt x="20431" y="12289"/>
                </a:cubicBezTo>
                <a:cubicBezTo>
                  <a:pt x="20424" y="12331"/>
                  <a:pt x="20424" y="12368"/>
                  <a:pt x="20426" y="12409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664000" y="2247840"/>
            <a:ext cx="1352520" cy="1166760"/>
          </a:xfrm>
          <a:custGeom>
            <a:avLst/>
            <a:gdLst/>
            <a:ahLst/>
            <a:rect l="l" t="t" r="r" b="b"/>
            <a:pathLst>
              <a:path w="3758" h="3243">
                <a:moveTo>
                  <a:pt x="8463" y="6290"/>
                </a:moveTo>
                <a:cubicBezTo>
                  <a:pt x="8475" y="6283"/>
                  <a:pt x="8488" y="6276"/>
                  <a:pt x="8500" y="6269"/>
                </a:cubicBezTo>
                <a:cubicBezTo>
                  <a:pt x="8487" y="6331"/>
                  <a:pt x="8474" y="6394"/>
                  <a:pt x="8461" y="6456"/>
                </a:cubicBezTo>
                <a:cubicBezTo>
                  <a:pt x="8437" y="6570"/>
                  <a:pt x="8413" y="6683"/>
                  <a:pt x="8384" y="6796"/>
                </a:cubicBezTo>
                <a:cubicBezTo>
                  <a:pt x="8340" y="6967"/>
                  <a:pt x="8291" y="7136"/>
                  <a:pt x="8234" y="7302"/>
                </a:cubicBezTo>
                <a:cubicBezTo>
                  <a:pt x="8132" y="7598"/>
                  <a:pt x="8021" y="7892"/>
                  <a:pt x="7913" y="8186"/>
                </a:cubicBezTo>
                <a:cubicBezTo>
                  <a:pt x="7881" y="8273"/>
                  <a:pt x="7851" y="8361"/>
                  <a:pt x="7821" y="8449"/>
                </a:cubicBezTo>
                <a:cubicBezTo>
                  <a:pt x="7764" y="8617"/>
                  <a:pt x="7704" y="8783"/>
                  <a:pt x="7646" y="8950"/>
                </a:cubicBezTo>
                <a:cubicBezTo>
                  <a:pt x="7626" y="9008"/>
                  <a:pt x="7599" y="9069"/>
                  <a:pt x="7590" y="9130"/>
                </a:cubicBezTo>
                <a:cubicBezTo>
                  <a:pt x="7573" y="9246"/>
                  <a:pt x="7587" y="9362"/>
                  <a:pt x="7564" y="9479"/>
                </a:cubicBezTo>
                <a:cubicBezTo>
                  <a:pt x="7569" y="9437"/>
                  <a:pt x="7571" y="9424"/>
                  <a:pt x="7564" y="9396"/>
                </a:cubicBezTo>
              </a:path>
              <a:path w="3758" h="3243">
                <a:moveTo>
                  <a:pt x="7398" y="9301"/>
                </a:moveTo>
                <a:cubicBezTo>
                  <a:pt x="7457" y="9334"/>
                  <a:pt x="7458" y="9370"/>
                  <a:pt x="7479" y="9437"/>
                </a:cubicBezTo>
                <a:cubicBezTo>
                  <a:pt x="7515" y="9549"/>
                  <a:pt x="7543" y="9443"/>
                  <a:pt x="7585" y="9403"/>
                </a:cubicBezTo>
                <a:cubicBezTo>
                  <a:pt x="7639" y="9352"/>
                  <a:pt x="7722" y="9332"/>
                  <a:pt x="7772" y="9278"/>
                </a:cubicBezTo>
                <a:cubicBezTo>
                  <a:pt x="7777" y="9267"/>
                  <a:pt x="7783" y="9256"/>
                  <a:pt x="7788" y="9245"/>
                </a:cubicBezTo>
              </a:path>
              <a:path w="3758" h="3243">
                <a:moveTo>
                  <a:pt x="8733" y="6242"/>
                </a:moveTo>
                <a:cubicBezTo>
                  <a:pt x="8780" y="6298"/>
                  <a:pt x="8835" y="6346"/>
                  <a:pt x="8886" y="6401"/>
                </a:cubicBezTo>
                <a:cubicBezTo>
                  <a:pt x="8995" y="6518"/>
                  <a:pt x="9067" y="6660"/>
                  <a:pt x="9183" y="6773"/>
                </a:cubicBezTo>
                <a:cubicBezTo>
                  <a:pt x="9306" y="6893"/>
                  <a:pt x="9462" y="6968"/>
                  <a:pt x="9587" y="7084"/>
                </a:cubicBezTo>
                <a:cubicBezTo>
                  <a:pt x="9643" y="7135"/>
                  <a:pt x="9689" y="7195"/>
                  <a:pt x="9731" y="7258"/>
                </a:cubicBezTo>
                <a:cubicBezTo>
                  <a:pt x="9798" y="7358"/>
                  <a:pt x="9804" y="7475"/>
                  <a:pt x="9858" y="7571"/>
                </a:cubicBezTo>
                <a:cubicBezTo>
                  <a:pt x="9917" y="7676"/>
                  <a:pt x="9998" y="7762"/>
                  <a:pt x="10056" y="7870"/>
                </a:cubicBezTo>
                <a:cubicBezTo>
                  <a:pt x="10163" y="8068"/>
                  <a:pt x="10304" y="8172"/>
                  <a:pt x="10476" y="8306"/>
                </a:cubicBezTo>
                <a:cubicBezTo>
                  <a:pt x="10589" y="8394"/>
                  <a:pt x="10674" y="8521"/>
                  <a:pt x="10765" y="8631"/>
                </a:cubicBezTo>
                <a:cubicBezTo>
                  <a:pt x="10861" y="8746"/>
                  <a:pt x="10908" y="8847"/>
                  <a:pt x="10966" y="8978"/>
                </a:cubicBezTo>
                <a:cubicBezTo>
                  <a:pt x="10999" y="9052"/>
                  <a:pt x="11015" y="9068"/>
                  <a:pt x="11100" y="9100"/>
                </a:cubicBezTo>
                <a:cubicBezTo>
                  <a:pt x="11084" y="9089"/>
                  <a:pt x="11069" y="9077"/>
                  <a:pt x="11053" y="9066"/>
                </a:cubicBezTo>
              </a:path>
              <a:path w="3758" h="3243">
                <a:moveTo>
                  <a:pt x="10739" y="9056"/>
                </a:moveTo>
                <a:cubicBezTo>
                  <a:pt x="10791" y="9100"/>
                  <a:pt x="10845" y="9137"/>
                  <a:pt x="10911" y="9158"/>
                </a:cubicBezTo>
                <a:cubicBezTo>
                  <a:pt x="10956" y="9172"/>
                  <a:pt x="11071" y="9204"/>
                  <a:pt x="11114" y="9165"/>
                </a:cubicBezTo>
                <a:cubicBezTo>
                  <a:pt x="11160" y="9124"/>
                  <a:pt x="11140" y="9017"/>
                  <a:pt x="11142" y="8964"/>
                </a:cubicBezTo>
                <a:cubicBezTo>
                  <a:pt x="11144" y="8908"/>
                  <a:pt x="11159" y="8843"/>
                  <a:pt x="11155" y="8788"/>
                </a:cubicBezTo>
                <a:cubicBezTo>
                  <a:pt x="11151" y="8773"/>
                  <a:pt x="11148" y="8757"/>
                  <a:pt x="11144" y="8742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719440" y="3983040"/>
            <a:ext cx="162000" cy="447840"/>
          </a:xfrm>
          <a:custGeom>
            <a:avLst/>
            <a:gdLst/>
            <a:ahLst/>
            <a:rect l="l" t="t" r="r" b="b"/>
            <a:pathLst>
              <a:path w="451" h="1243">
                <a:moveTo>
                  <a:pt x="7553" y="11102"/>
                </a:moveTo>
                <a:cubicBezTo>
                  <a:pt x="7561" y="11089"/>
                  <a:pt x="7568" y="11076"/>
                  <a:pt x="7576" y="11063"/>
                </a:cubicBezTo>
                <a:cubicBezTo>
                  <a:pt x="7585" y="11177"/>
                  <a:pt x="7578" y="11293"/>
                  <a:pt x="7602" y="11404"/>
                </a:cubicBezTo>
                <a:cubicBezTo>
                  <a:pt x="7619" y="11485"/>
                  <a:pt x="7647" y="11566"/>
                  <a:pt x="7680" y="11642"/>
                </a:cubicBezTo>
                <a:cubicBezTo>
                  <a:pt x="7717" y="11725"/>
                  <a:pt x="7765" y="11801"/>
                  <a:pt x="7796" y="11887"/>
                </a:cubicBezTo>
                <a:cubicBezTo>
                  <a:pt x="7825" y="11968"/>
                  <a:pt x="7853" y="12048"/>
                  <a:pt x="7885" y="12128"/>
                </a:cubicBezTo>
                <a:cubicBezTo>
                  <a:pt x="7865" y="12084"/>
                  <a:pt x="7859" y="12070"/>
                  <a:pt x="7844" y="12042"/>
                </a:cubicBezTo>
              </a:path>
              <a:path w="451" h="1243">
                <a:moveTo>
                  <a:pt x="7618" y="12044"/>
                </a:moveTo>
                <a:cubicBezTo>
                  <a:pt x="7602" y="12127"/>
                  <a:pt x="7655" y="12128"/>
                  <a:pt x="7722" y="12190"/>
                </a:cubicBezTo>
                <a:cubicBezTo>
                  <a:pt x="7751" y="12217"/>
                  <a:pt x="7814" y="12344"/>
                  <a:pt x="7869" y="12293"/>
                </a:cubicBezTo>
                <a:cubicBezTo>
                  <a:pt x="7901" y="12263"/>
                  <a:pt x="7923" y="12139"/>
                  <a:pt x="7943" y="12097"/>
                </a:cubicBezTo>
                <a:cubicBezTo>
                  <a:pt x="7976" y="12028"/>
                  <a:pt x="8006" y="11982"/>
                  <a:pt x="7992" y="11908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218120" y="3790800"/>
            <a:ext cx="169560" cy="757440"/>
          </a:xfrm>
          <a:custGeom>
            <a:avLst/>
            <a:gdLst/>
            <a:ahLst/>
            <a:rect l="l" t="t" r="r" b="b"/>
            <a:pathLst>
              <a:path w="473" h="2107">
                <a:moveTo>
                  <a:pt x="11777" y="10529"/>
                </a:moveTo>
                <a:cubicBezTo>
                  <a:pt x="11764" y="10616"/>
                  <a:pt x="11769" y="10702"/>
                  <a:pt x="11777" y="10790"/>
                </a:cubicBezTo>
                <a:cubicBezTo>
                  <a:pt x="11787" y="10896"/>
                  <a:pt x="11795" y="11001"/>
                  <a:pt x="11806" y="11107"/>
                </a:cubicBezTo>
                <a:cubicBezTo>
                  <a:pt x="11830" y="11332"/>
                  <a:pt x="11868" y="11553"/>
                  <a:pt x="11897" y="11777"/>
                </a:cubicBezTo>
                <a:cubicBezTo>
                  <a:pt x="11906" y="11849"/>
                  <a:pt x="11909" y="11921"/>
                  <a:pt x="11913" y="11993"/>
                </a:cubicBezTo>
                <a:cubicBezTo>
                  <a:pt x="11919" y="12117"/>
                  <a:pt x="11914" y="12244"/>
                  <a:pt x="11929" y="12367"/>
                </a:cubicBezTo>
                <a:cubicBezTo>
                  <a:pt x="11935" y="12418"/>
                  <a:pt x="11954" y="12466"/>
                  <a:pt x="11956" y="12518"/>
                </a:cubicBezTo>
                <a:cubicBezTo>
                  <a:pt x="11957" y="12548"/>
                  <a:pt x="11972" y="12631"/>
                  <a:pt x="11942" y="12554"/>
                </a:cubicBezTo>
              </a:path>
              <a:path w="473" h="2107">
                <a:moveTo>
                  <a:pt x="11716" y="12462"/>
                </a:moveTo>
                <a:cubicBezTo>
                  <a:pt x="11770" y="12510"/>
                  <a:pt x="11825" y="12580"/>
                  <a:pt x="11885" y="12619"/>
                </a:cubicBezTo>
                <a:cubicBezTo>
                  <a:pt x="11961" y="12669"/>
                  <a:pt x="12008" y="12548"/>
                  <a:pt x="12035" y="12497"/>
                </a:cubicBezTo>
                <a:cubicBezTo>
                  <a:pt x="12068" y="12435"/>
                  <a:pt x="12086" y="12382"/>
                  <a:pt x="12130" y="12324"/>
                </a:cubicBezTo>
                <a:cubicBezTo>
                  <a:pt x="12164" y="12285"/>
                  <a:pt x="12174" y="12274"/>
                  <a:pt x="12188" y="12243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057480" y="4951440"/>
            <a:ext cx="285840" cy="430200"/>
          </a:xfrm>
          <a:custGeom>
            <a:avLst/>
            <a:gdLst/>
            <a:ahLst/>
            <a:rect l="l" t="t" r="r" b="b"/>
            <a:pathLst>
              <a:path w="791" h="1195">
                <a:moveTo>
                  <a:pt x="8495" y="13753"/>
                </a:moveTo>
                <a:cubicBezTo>
                  <a:pt x="8523" y="13823"/>
                  <a:pt x="8553" y="13890"/>
                  <a:pt x="8585" y="13958"/>
                </a:cubicBezTo>
                <a:cubicBezTo>
                  <a:pt x="8640" y="14075"/>
                  <a:pt x="8714" y="14181"/>
                  <a:pt x="8781" y="14291"/>
                </a:cubicBezTo>
                <a:cubicBezTo>
                  <a:pt x="8843" y="14393"/>
                  <a:pt x="8906" y="14492"/>
                  <a:pt x="8973" y="14591"/>
                </a:cubicBezTo>
                <a:cubicBezTo>
                  <a:pt x="9026" y="14669"/>
                  <a:pt x="9078" y="14750"/>
                  <a:pt x="9144" y="14818"/>
                </a:cubicBezTo>
                <a:cubicBezTo>
                  <a:pt x="9185" y="14861"/>
                  <a:pt x="9234" y="14892"/>
                  <a:pt x="9283" y="14924"/>
                </a:cubicBezTo>
                <a:cubicBezTo>
                  <a:pt x="9270" y="14863"/>
                  <a:pt x="9252" y="14854"/>
                  <a:pt x="9200" y="14810"/>
                </a:cubicBezTo>
              </a:path>
              <a:path w="791" h="1195">
                <a:moveTo>
                  <a:pt x="8832" y="14795"/>
                </a:moveTo>
                <a:cubicBezTo>
                  <a:pt x="8850" y="14855"/>
                  <a:pt x="8913" y="14879"/>
                  <a:pt x="8980" y="14910"/>
                </a:cubicBezTo>
                <a:cubicBezTo>
                  <a:pt x="9040" y="14938"/>
                  <a:pt x="9120" y="14972"/>
                  <a:pt x="9178" y="14922"/>
                </a:cubicBezTo>
                <a:cubicBezTo>
                  <a:pt x="9230" y="14877"/>
                  <a:pt x="9233" y="14788"/>
                  <a:pt x="9236" y="14725"/>
                </a:cubicBezTo>
                <a:cubicBezTo>
                  <a:pt x="9239" y="14665"/>
                  <a:pt x="9246" y="14609"/>
                  <a:pt x="9252" y="14550"/>
                </a:cubicBezTo>
                <a:cubicBezTo>
                  <a:pt x="9252" y="14535"/>
                  <a:pt x="9253" y="14519"/>
                  <a:pt x="9253" y="14504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330800" y="5137200"/>
            <a:ext cx="180720" cy="730080"/>
          </a:xfrm>
          <a:custGeom>
            <a:avLst/>
            <a:gdLst/>
            <a:ahLst/>
            <a:rect l="l" t="t" r="r" b="b"/>
            <a:pathLst>
              <a:path w="505" h="2030">
                <a:moveTo>
                  <a:pt x="12088" y="14303"/>
                </a:moveTo>
                <a:cubicBezTo>
                  <a:pt x="12097" y="14215"/>
                  <a:pt x="12090" y="14414"/>
                  <a:pt x="12090" y="14444"/>
                </a:cubicBezTo>
                <a:cubicBezTo>
                  <a:pt x="12091" y="14545"/>
                  <a:pt x="12098" y="14639"/>
                  <a:pt x="12113" y="14739"/>
                </a:cubicBezTo>
                <a:cubicBezTo>
                  <a:pt x="12129" y="14847"/>
                  <a:pt x="12155" y="14951"/>
                  <a:pt x="12181" y="15057"/>
                </a:cubicBezTo>
                <a:cubicBezTo>
                  <a:pt x="12205" y="15157"/>
                  <a:pt x="12223" y="15250"/>
                  <a:pt x="12229" y="15353"/>
                </a:cubicBezTo>
                <a:cubicBezTo>
                  <a:pt x="12244" y="15591"/>
                  <a:pt x="12157" y="15897"/>
                  <a:pt x="12217" y="16127"/>
                </a:cubicBezTo>
                <a:cubicBezTo>
                  <a:pt x="12222" y="16139"/>
                  <a:pt x="12226" y="16151"/>
                  <a:pt x="12231" y="16163"/>
                </a:cubicBezTo>
              </a:path>
              <a:path w="505" h="2030">
                <a:moveTo>
                  <a:pt x="12028" y="16004"/>
                </a:moveTo>
                <a:cubicBezTo>
                  <a:pt x="12078" y="16064"/>
                  <a:pt x="12087" y="16128"/>
                  <a:pt x="12130" y="16194"/>
                </a:cubicBezTo>
                <a:cubicBezTo>
                  <a:pt x="12179" y="16270"/>
                  <a:pt x="12219" y="16328"/>
                  <a:pt x="12289" y="16249"/>
                </a:cubicBezTo>
                <a:cubicBezTo>
                  <a:pt x="12352" y="16177"/>
                  <a:pt x="12419" y="16099"/>
                  <a:pt x="12480" y="16028"/>
                </a:cubicBezTo>
                <a:cubicBezTo>
                  <a:pt x="12509" y="15980"/>
                  <a:pt x="12518" y="15965"/>
                  <a:pt x="12532" y="15931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037200" y="4083120"/>
            <a:ext cx="255600" cy="392040"/>
          </a:xfrm>
          <a:custGeom>
            <a:avLst/>
            <a:gdLst/>
            <a:ahLst/>
            <a:rect l="l" t="t" r="r" b="b"/>
            <a:pathLst>
              <a:path w="713" h="1091">
                <a:moveTo>
                  <a:pt x="16789" y="11377"/>
                </a:moveTo>
                <a:cubicBezTo>
                  <a:pt x="16785" y="11365"/>
                  <a:pt x="16780" y="11354"/>
                  <a:pt x="16776" y="11342"/>
                </a:cubicBezTo>
                <a:cubicBezTo>
                  <a:pt x="16772" y="11426"/>
                  <a:pt x="16816" y="11492"/>
                  <a:pt x="16854" y="11569"/>
                </a:cubicBezTo>
                <a:cubicBezTo>
                  <a:pt x="16920" y="11704"/>
                  <a:pt x="16989" y="11837"/>
                  <a:pt x="17069" y="11964"/>
                </a:cubicBezTo>
                <a:cubicBezTo>
                  <a:pt x="17176" y="12136"/>
                  <a:pt x="17322" y="12281"/>
                  <a:pt x="17455" y="12432"/>
                </a:cubicBezTo>
                <a:cubicBezTo>
                  <a:pt x="17444" y="12383"/>
                  <a:pt x="17437" y="12364"/>
                  <a:pt x="17401" y="12345"/>
                </a:cubicBezTo>
              </a:path>
              <a:path w="713" h="1091">
                <a:moveTo>
                  <a:pt x="16969" y="12208"/>
                </a:moveTo>
                <a:cubicBezTo>
                  <a:pt x="17026" y="12238"/>
                  <a:pt x="17085" y="12245"/>
                  <a:pt x="17149" y="12266"/>
                </a:cubicBezTo>
                <a:cubicBezTo>
                  <a:pt x="17217" y="12289"/>
                  <a:pt x="17282" y="12317"/>
                  <a:pt x="17351" y="12337"/>
                </a:cubicBezTo>
                <a:cubicBezTo>
                  <a:pt x="17428" y="12359"/>
                  <a:pt x="17439" y="12279"/>
                  <a:pt x="17454" y="12218"/>
                </a:cubicBezTo>
                <a:cubicBezTo>
                  <a:pt x="17471" y="12151"/>
                  <a:pt x="17491" y="12066"/>
                  <a:pt x="17480" y="11996"/>
                </a:cubicBezTo>
                <a:cubicBezTo>
                  <a:pt x="17475" y="11984"/>
                  <a:pt x="17471" y="11971"/>
                  <a:pt x="17466" y="11959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423040" y="2863800"/>
            <a:ext cx="631800" cy="2259000"/>
          </a:xfrm>
          <a:custGeom>
            <a:avLst/>
            <a:gdLst/>
            <a:ahLst/>
            <a:rect l="l" t="t" r="r" b="b"/>
            <a:pathLst>
              <a:path w="1758" h="6272">
                <a:moveTo>
                  <a:pt x="16808" y="7957"/>
                </a:moveTo>
                <a:cubicBezTo>
                  <a:pt x="16820" y="8024"/>
                  <a:pt x="16808" y="8083"/>
                  <a:pt x="16794" y="8151"/>
                </a:cubicBezTo>
                <a:cubicBezTo>
                  <a:pt x="16783" y="8207"/>
                  <a:pt x="16770" y="8263"/>
                  <a:pt x="16757" y="8318"/>
                </a:cubicBezTo>
                <a:cubicBezTo>
                  <a:pt x="16741" y="8385"/>
                  <a:pt x="16727" y="8452"/>
                  <a:pt x="16716" y="8520"/>
                </a:cubicBezTo>
                <a:cubicBezTo>
                  <a:pt x="16701" y="8610"/>
                  <a:pt x="16665" y="8695"/>
                  <a:pt x="16642" y="8784"/>
                </a:cubicBezTo>
                <a:cubicBezTo>
                  <a:pt x="16613" y="8900"/>
                  <a:pt x="16591" y="9003"/>
                  <a:pt x="16591" y="9123"/>
                </a:cubicBezTo>
                <a:cubicBezTo>
                  <a:pt x="16591" y="9285"/>
                  <a:pt x="16583" y="9441"/>
                  <a:pt x="16565" y="9601"/>
                </a:cubicBezTo>
                <a:cubicBezTo>
                  <a:pt x="16559" y="9643"/>
                  <a:pt x="16557" y="9653"/>
                  <a:pt x="16563" y="9592"/>
                </a:cubicBezTo>
              </a:path>
              <a:path w="1758" h="6272">
                <a:moveTo>
                  <a:pt x="16392" y="9490"/>
                </a:moveTo>
                <a:cubicBezTo>
                  <a:pt x="16406" y="9549"/>
                  <a:pt x="16439" y="9612"/>
                  <a:pt x="16487" y="9656"/>
                </a:cubicBezTo>
                <a:cubicBezTo>
                  <a:pt x="16499" y="9663"/>
                  <a:pt x="16510" y="9671"/>
                  <a:pt x="16522" y="9678"/>
                </a:cubicBezTo>
                <a:cubicBezTo>
                  <a:pt x="16579" y="9613"/>
                  <a:pt x="16626" y="9538"/>
                  <a:pt x="16686" y="9476"/>
                </a:cubicBezTo>
                <a:cubicBezTo>
                  <a:pt x="16740" y="9429"/>
                  <a:pt x="16756" y="9414"/>
                  <a:pt x="16794" y="9387"/>
                </a:cubicBezTo>
              </a:path>
              <a:path w="1758" h="6272">
                <a:moveTo>
                  <a:pt x="16228" y="11252"/>
                </a:moveTo>
                <a:cubicBezTo>
                  <a:pt x="16230" y="11315"/>
                  <a:pt x="16224" y="11363"/>
                  <a:pt x="16205" y="11442"/>
                </a:cubicBezTo>
                <a:cubicBezTo>
                  <a:pt x="16172" y="11578"/>
                  <a:pt x="16129" y="11713"/>
                  <a:pt x="16080" y="11845"/>
                </a:cubicBezTo>
                <a:cubicBezTo>
                  <a:pt x="15961" y="12168"/>
                  <a:pt x="15837" y="12487"/>
                  <a:pt x="15734" y="12816"/>
                </a:cubicBezTo>
                <a:cubicBezTo>
                  <a:pt x="15671" y="13016"/>
                  <a:pt x="15574" y="13203"/>
                  <a:pt x="15494" y="13397"/>
                </a:cubicBezTo>
                <a:cubicBezTo>
                  <a:pt x="15445" y="13516"/>
                  <a:pt x="15408" y="13636"/>
                  <a:pt x="15365" y="13757"/>
                </a:cubicBezTo>
                <a:cubicBezTo>
                  <a:pt x="15321" y="13881"/>
                  <a:pt x="15234" y="14061"/>
                  <a:pt x="15219" y="14072"/>
                </a:cubicBezTo>
              </a:path>
              <a:path w="1758" h="6272">
                <a:moveTo>
                  <a:pt x="15081" y="13917"/>
                </a:moveTo>
                <a:cubicBezTo>
                  <a:pt x="15058" y="14001"/>
                  <a:pt x="15075" y="14029"/>
                  <a:pt x="15111" y="14108"/>
                </a:cubicBezTo>
                <a:cubicBezTo>
                  <a:pt x="15129" y="14148"/>
                  <a:pt x="15141" y="14186"/>
                  <a:pt x="15152" y="14228"/>
                </a:cubicBezTo>
                <a:cubicBezTo>
                  <a:pt x="15220" y="14182"/>
                  <a:pt x="15278" y="14125"/>
                  <a:pt x="15344" y="14076"/>
                </a:cubicBezTo>
                <a:cubicBezTo>
                  <a:pt x="15410" y="14028"/>
                  <a:pt x="15457" y="13977"/>
                  <a:pt x="15513" y="13917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164360" y="2144880"/>
            <a:ext cx="158760" cy="669600"/>
          </a:xfrm>
          <a:custGeom>
            <a:avLst/>
            <a:gdLst/>
            <a:ahLst/>
            <a:rect l="l" t="t" r="r" b="b"/>
            <a:pathLst>
              <a:path w="442" h="1860">
                <a:moveTo>
                  <a:pt x="20142" y="5957"/>
                </a:moveTo>
                <a:cubicBezTo>
                  <a:pt x="20191" y="6014"/>
                  <a:pt x="20163" y="6070"/>
                  <a:pt x="20154" y="6154"/>
                </a:cubicBezTo>
                <a:cubicBezTo>
                  <a:pt x="20139" y="6300"/>
                  <a:pt x="20133" y="6448"/>
                  <a:pt x="20128" y="6595"/>
                </a:cubicBezTo>
                <a:cubicBezTo>
                  <a:pt x="20124" y="6709"/>
                  <a:pt x="20121" y="6822"/>
                  <a:pt x="20121" y="6936"/>
                </a:cubicBezTo>
                <a:cubicBezTo>
                  <a:pt x="20120" y="7078"/>
                  <a:pt x="20138" y="7229"/>
                  <a:pt x="20121" y="7370"/>
                </a:cubicBezTo>
                <a:cubicBezTo>
                  <a:pt x="20110" y="7462"/>
                  <a:pt x="20067" y="7486"/>
                  <a:pt x="20013" y="7555"/>
                </a:cubicBezTo>
                <a:cubicBezTo>
                  <a:pt x="19973" y="7606"/>
                  <a:pt x="19976" y="7651"/>
                  <a:pt x="19976" y="7712"/>
                </a:cubicBezTo>
                <a:cubicBezTo>
                  <a:pt x="19976" y="7819"/>
                  <a:pt x="19989" y="7790"/>
                  <a:pt x="20001" y="7705"/>
                </a:cubicBezTo>
              </a:path>
              <a:path w="442" h="1860">
                <a:moveTo>
                  <a:pt x="19902" y="7555"/>
                </a:moveTo>
                <a:cubicBezTo>
                  <a:pt x="19917" y="7624"/>
                  <a:pt x="19938" y="7690"/>
                  <a:pt x="19958" y="7758"/>
                </a:cubicBezTo>
                <a:cubicBezTo>
                  <a:pt x="19994" y="7880"/>
                  <a:pt x="20074" y="7765"/>
                  <a:pt x="20124" y="7715"/>
                </a:cubicBezTo>
                <a:cubicBezTo>
                  <a:pt x="20177" y="7663"/>
                  <a:pt x="20234" y="7601"/>
                  <a:pt x="20278" y="7541"/>
                </a:cubicBezTo>
                <a:cubicBezTo>
                  <a:pt x="20315" y="7482"/>
                  <a:pt x="20326" y="7466"/>
                  <a:pt x="20343" y="7424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299440" y="2082960"/>
            <a:ext cx="333360" cy="552240"/>
          </a:xfrm>
          <a:custGeom>
            <a:avLst/>
            <a:gdLst/>
            <a:ahLst/>
            <a:rect l="l" t="t" r="r" b="b"/>
            <a:pathLst>
              <a:path w="925" h="1535">
                <a:moveTo>
                  <a:pt x="23054" y="5784"/>
                </a:moveTo>
                <a:cubicBezTo>
                  <a:pt x="23057" y="5848"/>
                  <a:pt x="23067" y="5903"/>
                  <a:pt x="23086" y="5964"/>
                </a:cubicBezTo>
                <a:cubicBezTo>
                  <a:pt x="23147" y="6165"/>
                  <a:pt x="23248" y="6371"/>
                  <a:pt x="23345" y="6556"/>
                </a:cubicBezTo>
                <a:cubicBezTo>
                  <a:pt x="23386" y="6635"/>
                  <a:pt x="23427" y="6719"/>
                  <a:pt x="23477" y="6793"/>
                </a:cubicBezTo>
                <a:cubicBezTo>
                  <a:pt x="23518" y="6854"/>
                  <a:pt x="23566" y="6917"/>
                  <a:pt x="23620" y="6967"/>
                </a:cubicBezTo>
                <a:cubicBezTo>
                  <a:pt x="23678" y="7020"/>
                  <a:pt x="23727" y="7079"/>
                  <a:pt x="23783" y="7135"/>
                </a:cubicBezTo>
                <a:cubicBezTo>
                  <a:pt x="23827" y="7178"/>
                  <a:pt x="23852" y="7232"/>
                  <a:pt x="23894" y="7276"/>
                </a:cubicBezTo>
                <a:cubicBezTo>
                  <a:pt x="23964" y="7349"/>
                  <a:pt x="23941" y="7309"/>
                  <a:pt x="23959" y="7273"/>
                </a:cubicBezTo>
              </a:path>
              <a:path w="925" h="1535">
                <a:moveTo>
                  <a:pt x="23446" y="7237"/>
                </a:moveTo>
                <a:cubicBezTo>
                  <a:pt x="23508" y="7273"/>
                  <a:pt x="23566" y="7290"/>
                  <a:pt x="23636" y="7306"/>
                </a:cubicBezTo>
                <a:cubicBezTo>
                  <a:pt x="23727" y="7326"/>
                  <a:pt x="23818" y="7322"/>
                  <a:pt x="23895" y="7262"/>
                </a:cubicBezTo>
                <a:cubicBezTo>
                  <a:pt x="23966" y="7207"/>
                  <a:pt x="23974" y="7150"/>
                  <a:pt x="23973" y="7068"/>
                </a:cubicBezTo>
                <a:cubicBezTo>
                  <a:pt x="23973" y="7031"/>
                  <a:pt x="23973" y="7018"/>
                  <a:pt x="23964" y="6994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597880" y="3259080"/>
            <a:ext cx="179280" cy="222480"/>
          </a:xfrm>
          <a:custGeom>
            <a:avLst/>
            <a:gdLst/>
            <a:ahLst/>
            <a:rect l="l" t="t" r="r" b="b"/>
            <a:pathLst>
              <a:path w="496" h="620">
                <a:moveTo>
                  <a:pt x="24102" y="9051"/>
                </a:moveTo>
                <a:cubicBezTo>
                  <a:pt x="24101" y="9126"/>
                  <a:pt x="24100" y="9200"/>
                  <a:pt x="24107" y="9275"/>
                </a:cubicBezTo>
                <a:cubicBezTo>
                  <a:pt x="24113" y="9339"/>
                  <a:pt x="24132" y="9401"/>
                  <a:pt x="24149" y="9463"/>
                </a:cubicBezTo>
                <a:cubicBezTo>
                  <a:pt x="24162" y="9512"/>
                  <a:pt x="24150" y="9633"/>
                  <a:pt x="24183" y="9544"/>
                </a:cubicBezTo>
              </a:path>
              <a:path w="496" h="620">
                <a:moveTo>
                  <a:pt x="23885" y="9500"/>
                </a:moveTo>
                <a:cubicBezTo>
                  <a:pt x="23918" y="9559"/>
                  <a:pt x="23975" y="9622"/>
                  <a:pt x="24038" y="9656"/>
                </a:cubicBezTo>
                <a:cubicBezTo>
                  <a:pt x="24119" y="9700"/>
                  <a:pt x="24157" y="9626"/>
                  <a:pt x="24211" y="9580"/>
                </a:cubicBezTo>
                <a:cubicBezTo>
                  <a:pt x="24277" y="9523"/>
                  <a:pt x="24333" y="9500"/>
                  <a:pt x="24380" y="9428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594360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095880" y="533412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361200" y="4991040"/>
            <a:ext cx="155520" cy="416160"/>
          </a:xfrm>
          <a:custGeom>
            <a:avLst/>
            <a:gdLst/>
            <a:ahLst/>
            <a:rect l="l" t="t" r="r" b="b"/>
            <a:pathLst>
              <a:path w="433" h="1159">
                <a:moveTo>
                  <a:pt x="17935" y="13862"/>
                </a:moveTo>
                <a:cubicBezTo>
                  <a:pt x="17952" y="13927"/>
                  <a:pt x="17937" y="13966"/>
                  <a:pt x="17926" y="14035"/>
                </a:cubicBezTo>
                <a:cubicBezTo>
                  <a:pt x="17916" y="14099"/>
                  <a:pt x="17915" y="14164"/>
                  <a:pt x="17911" y="14228"/>
                </a:cubicBezTo>
                <a:cubicBezTo>
                  <a:pt x="17906" y="14314"/>
                  <a:pt x="17904" y="14399"/>
                  <a:pt x="17900" y="14485"/>
                </a:cubicBezTo>
                <a:cubicBezTo>
                  <a:pt x="17896" y="14562"/>
                  <a:pt x="17893" y="14639"/>
                  <a:pt x="17889" y="14716"/>
                </a:cubicBezTo>
                <a:cubicBezTo>
                  <a:pt x="17885" y="14791"/>
                  <a:pt x="17878" y="15017"/>
                  <a:pt x="17872" y="14942"/>
                </a:cubicBezTo>
                <a:cubicBezTo>
                  <a:pt x="17872" y="14928"/>
                  <a:pt x="17873" y="14915"/>
                  <a:pt x="17873" y="14901"/>
                </a:cubicBezTo>
              </a:path>
              <a:path w="433" h="1159">
                <a:moveTo>
                  <a:pt x="17669" y="14847"/>
                </a:moveTo>
                <a:cubicBezTo>
                  <a:pt x="17698" y="14897"/>
                  <a:pt x="17710" y="14991"/>
                  <a:pt x="17769" y="15018"/>
                </a:cubicBezTo>
                <a:cubicBezTo>
                  <a:pt x="17852" y="15056"/>
                  <a:pt x="17945" y="14927"/>
                  <a:pt x="17985" y="14878"/>
                </a:cubicBezTo>
                <a:cubicBezTo>
                  <a:pt x="18023" y="14832"/>
                  <a:pt x="18058" y="14784"/>
                  <a:pt x="18080" y="14728"/>
                </a:cubicBezTo>
                <a:cubicBezTo>
                  <a:pt x="18087" y="14708"/>
                  <a:pt x="18094" y="14688"/>
                  <a:pt x="18101" y="14668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283360" y="5661000"/>
            <a:ext cx="220680" cy="387360"/>
          </a:xfrm>
          <a:custGeom>
            <a:avLst/>
            <a:gdLst/>
            <a:ahLst/>
            <a:rect l="l" t="t" r="r" b="b"/>
            <a:pathLst>
              <a:path w="613" h="1075">
                <a:moveTo>
                  <a:pt x="14960" y="15737"/>
                </a:moveTo>
                <a:cubicBezTo>
                  <a:pt x="15034" y="15740"/>
                  <a:pt x="14984" y="15811"/>
                  <a:pt x="14979" y="15894"/>
                </a:cubicBezTo>
                <a:cubicBezTo>
                  <a:pt x="14974" y="15987"/>
                  <a:pt x="14977" y="16080"/>
                  <a:pt x="14982" y="16173"/>
                </a:cubicBezTo>
                <a:cubicBezTo>
                  <a:pt x="14987" y="16272"/>
                  <a:pt x="14999" y="16370"/>
                  <a:pt x="15012" y="16468"/>
                </a:cubicBezTo>
                <a:cubicBezTo>
                  <a:pt x="15021" y="16539"/>
                  <a:pt x="15032" y="16609"/>
                  <a:pt x="15048" y="16679"/>
                </a:cubicBezTo>
                <a:cubicBezTo>
                  <a:pt x="15080" y="16822"/>
                  <a:pt x="15046" y="16661"/>
                  <a:pt x="15039" y="16641"/>
                </a:cubicBezTo>
              </a:path>
              <a:path w="613" h="1075">
                <a:moveTo>
                  <a:pt x="14677" y="16506"/>
                </a:moveTo>
                <a:cubicBezTo>
                  <a:pt x="14752" y="16526"/>
                  <a:pt x="14791" y="16598"/>
                  <a:pt x="14836" y="16667"/>
                </a:cubicBezTo>
                <a:cubicBezTo>
                  <a:pt x="14866" y="16712"/>
                  <a:pt x="14909" y="16838"/>
                  <a:pt x="14981" y="16780"/>
                </a:cubicBezTo>
                <a:cubicBezTo>
                  <a:pt x="15041" y="16731"/>
                  <a:pt x="15084" y="16646"/>
                  <a:pt x="15125" y="16582"/>
                </a:cubicBezTo>
                <a:cubicBezTo>
                  <a:pt x="15174" y="16506"/>
                  <a:pt x="15232" y="16436"/>
                  <a:pt x="15266" y="16351"/>
                </a:cubicBezTo>
                <a:cubicBezTo>
                  <a:pt x="15274" y="16329"/>
                  <a:pt x="15281" y="16308"/>
                  <a:pt x="15289" y="16286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410080" y="4343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Web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01520" y="3038400"/>
            <a:ext cx="5100840" cy="336600"/>
          </a:xfrm>
          <a:custGeom>
            <a:avLst/>
            <a:gdLst/>
            <a:ahLst/>
            <a:rect l="l" t="t" r="r" b="b"/>
            <a:pathLst>
              <a:path w="14169" h="936">
                <a:moveTo>
                  <a:pt x="282" y="9278"/>
                </a:moveTo>
                <a:cubicBezTo>
                  <a:pt x="896" y="9204"/>
                  <a:pt x="1511" y="9139"/>
                  <a:pt x="2125" y="9061"/>
                </a:cubicBezTo>
                <a:cubicBezTo>
                  <a:pt x="2622" y="8998"/>
                  <a:pt x="3104" y="8918"/>
                  <a:pt x="3607" y="8948"/>
                </a:cubicBezTo>
                <a:cubicBezTo>
                  <a:pt x="4236" y="8986"/>
                  <a:pt x="4789" y="9043"/>
                  <a:pt x="5413" y="8918"/>
                </a:cubicBezTo>
                <a:cubicBezTo>
                  <a:pt x="6146" y="8771"/>
                  <a:pt x="6794" y="8632"/>
                  <a:pt x="7546" y="8703"/>
                </a:cubicBezTo>
                <a:cubicBezTo>
                  <a:pt x="8101" y="8756"/>
                  <a:pt x="8595" y="8588"/>
                  <a:pt x="9140" y="8537"/>
                </a:cubicBezTo>
                <a:cubicBezTo>
                  <a:pt x="9744" y="8480"/>
                  <a:pt x="10328" y="8443"/>
                  <a:pt x="10934" y="8475"/>
                </a:cubicBezTo>
                <a:cubicBezTo>
                  <a:pt x="11350" y="8497"/>
                  <a:pt x="11758" y="8479"/>
                  <a:pt x="12173" y="8527"/>
                </a:cubicBezTo>
                <a:cubicBezTo>
                  <a:pt x="12549" y="8571"/>
                  <a:pt x="12969" y="8621"/>
                  <a:pt x="13317" y="8775"/>
                </a:cubicBezTo>
                <a:cubicBezTo>
                  <a:pt x="13575" y="8889"/>
                  <a:pt x="13809" y="9063"/>
                  <a:pt x="14063" y="9190"/>
                </a:cubicBezTo>
                <a:cubicBezTo>
                  <a:pt x="14183" y="9250"/>
                  <a:pt x="14298" y="9319"/>
                  <a:pt x="14413" y="9372"/>
                </a:cubicBezTo>
                <a:cubicBezTo>
                  <a:pt x="14425" y="9373"/>
                  <a:pt x="14438" y="9374"/>
                  <a:pt x="14450" y="9375"/>
                </a:cubicBezTo>
              </a:path>
            </a:pathLst>
          </a:custGeom>
          <a:noFill/>
          <a:ln cap="rnd" w="19080">
            <a:solidFill>
              <a:srgbClr val="fbdf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1240" y="4098960"/>
            <a:ext cx="4733640" cy="239760"/>
          </a:xfrm>
          <a:custGeom>
            <a:avLst/>
            <a:gdLst/>
            <a:ahLst/>
            <a:rect l="l" t="t" r="r" b="b"/>
            <a:pathLst>
              <a:path w="13152" h="668">
                <a:moveTo>
                  <a:pt x="346" y="12005"/>
                </a:moveTo>
                <a:cubicBezTo>
                  <a:pt x="333" y="12015"/>
                  <a:pt x="320" y="12025"/>
                  <a:pt x="307" y="12035"/>
                </a:cubicBezTo>
                <a:cubicBezTo>
                  <a:pt x="535" y="12012"/>
                  <a:pt x="765" y="11990"/>
                  <a:pt x="1000" y="11986"/>
                </a:cubicBezTo>
                <a:cubicBezTo>
                  <a:pt x="1389" y="11980"/>
                  <a:pt x="1775" y="11932"/>
                  <a:pt x="2164" y="11912"/>
                </a:cubicBezTo>
                <a:cubicBezTo>
                  <a:pt x="3441" y="11846"/>
                  <a:pt x="4746" y="11936"/>
                  <a:pt x="6017" y="11799"/>
                </a:cubicBezTo>
                <a:cubicBezTo>
                  <a:pt x="6429" y="11755"/>
                  <a:pt x="6811" y="11698"/>
                  <a:pt x="7227" y="11693"/>
                </a:cubicBezTo>
                <a:cubicBezTo>
                  <a:pt x="8047" y="11684"/>
                  <a:pt x="8871" y="11617"/>
                  <a:pt x="9689" y="11555"/>
                </a:cubicBezTo>
                <a:cubicBezTo>
                  <a:pt x="10246" y="11513"/>
                  <a:pt x="10805" y="11405"/>
                  <a:pt x="11363" y="11386"/>
                </a:cubicBezTo>
                <a:cubicBezTo>
                  <a:pt x="11772" y="11372"/>
                  <a:pt x="12068" y="11517"/>
                  <a:pt x="12451" y="11617"/>
                </a:cubicBezTo>
                <a:cubicBezTo>
                  <a:pt x="12773" y="11701"/>
                  <a:pt x="13127" y="11662"/>
                  <a:pt x="13458" y="11663"/>
                </a:cubicBezTo>
              </a:path>
            </a:pathLst>
          </a:custGeom>
          <a:noFill/>
          <a:ln cap="rnd" w="19080">
            <a:solidFill>
              <a:srgbClr val="fbdf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467400" y="1254240"/>
            <a:ext cx="2646360" cy="1807920"/>
          </a:xfrm>
          <a:custGeom>
            <a:avLst/>
            <a:gdLst/>
            <a:ahLst/>
            <a:rect l="l" t="t" r="r" b="b"/>
            <a:pathLst>
              <a:path w="7349" h="5024">
                <a:moveTo>
                  <a:pt x="17967" y="8417"/>
                </a:moveTo>
                <a:cubicBezTo>
                  <a:pt x="17989" y="8461"/>
                  <a:pt x="17997" y="8474"/>
                  <a:pt x="17988" y="8507"/>
                </a:cubicBezTo>
                <a:cubicBezTo>
                  <a:pt x="18097" y="8161"/>
                  <a:pt x="18132" y="7813"/>
                  <a:pt x="18152" y="7449"/>
                </a:cubicBezTo>
                <a:cubicBezTo>
                  <a:pt x="18169" y="7139"/>
                  <a:pt x="18188" y="6920"/>
                  <a:pt x="18304" y="6630"/>
                </a:cubicBezTo>
                <a:cubicBezTo>
                  <a:pt x="18361" y="6488"/>
                  <a:pt x="18414" y="6345"/>
                  <a:pt x="18463" y="6202"/>
                </a:cubicBezTo>
                <a:cubicBezTo>
                  <a:pt x="18552" y="5944"/>
                  <a:pt x="18674" y="5705"/>
                  <a:pt x="18752" y="5442"/>
                </a:cubicBezTo>
                <a:cubicBezTo>
                  <a:pt x="18836" y="5158"/>
                  <a:pt x="18817" y="4879"/>
                  <a:pt x="18874" y="4597"/>
                </a:cubicBezTo>
                <a:cubicBezTo>
                  <a:pt x="18922" y="4360"/>
                  <a:pt x="19080" y="4040"/>
                  <a:pt x="19249" y="3866"/>
                </a:cubicBezTo>
                <a:cubicBezTo>
                  <a:pt x="19345" y="3768"/>
                  <a:pt x="19460" y="3742"/>
                  <a:pt x="19579" y="3687"/>
                </a:cubicBezTo>
                <a:cubicBezTo>
                  <a:pt x="19896" y="3541"/>
                  <a:pt x="20150" y="3447"/>
                  <a:pt x="20486" y="3549"/>
                </a:cubicBezTo>
                <a:cubicBezTo>
                  <a:pt x="20820" y="3651"/>
                  <a:pt x="21099" y="3878"/>
                  <a:pt x="21276" y="4173"/>
                </a:cubicBezTo>
                <a:cubicBezTo>
                  <a:pt x="21378" y="4343"/>
                  <a:pt x="21361" y="4491"/>
                  <a:pt x="21394" y="4678"/>
                </a:cubicBezTo>
                <a:cubicBezTo>
                  <a:pt x="21441" y="4944"/>
                  <a:pt x="21517" y="5226"/>
                  <a:pt x="21620" y="5475"/>
                </a:cubicBezTo>
                <a:cubicBezTo>
                  <a:pt x="21758" y="5807"/>
                  <a:pt x="21788" y="6245"/>
                  <a:pt x="21975" y="6544"/>
                </a:cubicBezTo>
                <a:cubicBezTo>
                  <a:pt x="22133" y="6796"/>
                  <a:pt x="22353" y="6873"/>
                  <a:pt x="22634" y="6858"/>
                </a:cubicBezTo>
                <a:cubicBezTo>
                  <a:pt x="23153" y="6829"/>
                  <a:pt x="23628" y="6597"/>
                  <a:pt x="24121" y="6459"/>
                </a:cubicBezTo>
                <a:cubicBezTo>
                  <a:pt x="24523" y="6346"/>
                  <a:pt x="24909" y="6297"/>
                  <a:pt x="25315" y="6354"/>
                </a:cubicBezTo>
              </a:path>
            </a:pathLst>
          </a:custGeom>
          <a:noFill/>
          <a:ln cap="rnd" w="19080">
            <a:solidFill>
              <a:srgbClr val="fbdf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516720" y="2556000"/>
            <a:ext cx="2598840" cy="1523880"/>
          </a:xfrm>
          <a:custGeom>
            <a:avLst/>
            <a:gdLst/>
            <a:ahLst/>
            <a:rect l="l" t="t" r="r" b="b"/>
            <a:pathLst>
              <a:path w="7221" h="4234">
                <a:moveTo>
                  <a:pt x="18101" y="11333"/>
                </a:moveTo>
                <a:cubicBezTo>
                  <a:pt x="18257" y="11160"/>
                  <a:pt x="18397" y="11020"/>
                  <a:pt x="18445" y="10783"/>
                </a:cubicBezTo>
                <a:cubicBezTo>
                  <a:pt x="18472" y="10652"/>
                  <a:pt x="18477" y="10511"/>
                  <a:pt x="18496" y="10377"/>
                </a:cubicBezTo>
                <a:cubicBezTo>
                  <a:pt x="18520" y="10207"/>
                  <a:pt x="18507" y="10043"/>
                  <a:pt x="18514" y="9872"/>
                </a:cubicBezTo>
                <a:cubicBezTo>
                  <a:pt x="18521" y="9690"/>
                  <a:pt x="18546" y="9507"/>
                  <a:pt x="18556" y="9324"/>
                </a:cubicBezTo>
                <a:cubicBezTo>
                  <a:pt x="18570" y="9059"/>
                  <a:pt x="18618" y="8824"/>
                  <a:pt x="18657" y="8565"/>
                </a:cubicBezTo>
                <a:cubicBezTo>
                  <a:pt x="18689" y="8351"/>
                  <a:pt x="18708" y="8158"/>
                  <a:pt x="18773" y="7950"/>
                </a:cubicBezTo>
                <a:cubicBezTo>
                  <a:pt x="18835" y="7753"/>
                  <a:pt x="18885" y="7611"/>
                  <a:pt x="19054" y="7477"/>
                </a:cubicBezTo>
                <a:cubicBezTo>
                  <a:pt x="19207" y="7356"/>
                  <a:pt x="19401" y="7261"/>
                  <a:pt x="19583" y="7190"/>
                </a:cubicBezTo>
                <a:cubicBezTo>
                  <a:pt x="19701" y="7144"/>
                  <a:pt x="19804" y="7140"/>
                  <a:pt x="19927" y="7123"/>
                </a:cubicBezTo>
                <a:cubicBezTo>
                  <a:pt x="20264" y="7077"/>
                  <a:pt x="20707" y="7069"/>
                  <a:pt x="21033" y="7158"/>
                </a:cubicBezTo>
                <a:cubicBezTo>
                  <a:pt x="21181" y="7198"/>
                  <a:pt x="21337" y="7282"/>
                  <a:pt x="21467" y="7362"/>
                </a:cubicBezTo>
                <a:cubicBezTo>
                  <a:pt x="21688" y="7498"/>
                  <a:pt x="21802" y="7661"/>
                  <a:pt x="21876" y="7900"/>
                </a:cubicBezTo>
                <a:cubicBezTo>
                  <a:pt x="21932" y="8081"/>
                  <a:pt x="21976" y="8231"/>
                  <a:pt x="22073" y="8398"/>
                </a:cubicBezTo>
                <a:cubicBezTo>
                  <a:pt x="22139" y="8510"/>
                  <a:pt x="22179" y="8640"/>
                  <a:pt x="22243" y="8745"/>
                </a:cubicBezTo>
                <a:cubicBezTo>
                  <a:pt x="22297" y="8832"/>
                  <a:pt x="22378" y="8943"/>
                  <a:pt x="22461" y="9005"/>
                </a:cubicBezTo>
                <a:cubicBezTo>
                  <a:pt x="22792" y="9252"/>
                  <a:pt x="23477" y="9125"/>
                  <a:pt x="23869" y="9148"/>
                </a:cubicBezTo>
                <a:cubicBezTo>
                  <a:pt x="24081" y="9161"/>
                  <a:pt x="24275" y="9148"/>
                  <a:pt x="24486" y="9135"/>
                </a:cubicBezTo>
                <a:cubicBezTo>
                  <a:pt x="24722" y="9120"/>
                  <a:pt x="25212" y="9099"/>
                  <a:pt x="25269" y="9086"/>
                </a:cubicBezTo>
              </a:path>
            </a:pathLst>
          </a:custGeom>
          <a:noFill/>
          <a:ln cap="rnd" w="19080">
            <a:solidFill>
              <a:srgbClr val="fbdf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807080" y="4040280"/>
            <a:ext cx="1976400" cy="1806480"/>
          </a:xfrm>
          <a:custGeom>
            <a:avLst/>
            <a:gdLst/>
            <a:ahLst/>
            <a:rect l="l" t="t" r="r" b="b"/>
            <a:pathLst>
              <a:path w="5490" h="5019">
                <a:moveTo>
                  <a:pt x="13458" y="11746"/>
                </a:moveTo>
                <a:cubicBezTo>
                  <a:pt x="13512" y="11758"/>
                  <a:pt x="13560" y="11745"/>
                  <a:pt x="13617" y="11765"/>
                </a:cubicBezTo>
                <a:cubicBezTo>
                  <a:pt x="13869" y="11851"/>
                  <a:pt x="13954" y="11970"/>
                  <a:pt x="13926" y="12229"/>
                </a:cubicBezTo>
                <a:cubicBezTo>
                  <a:pt x="13907" y="12403"/>
                  <a:pt x="13851" y="12582"/>
                  <a:pt x="13825" y="12756"/>
                </a:cubicBezTo>
                <a:cubicBezTo>
                  <a:pt x="13802" y="12910"/>
                  <a:pt x="13768" y="13060"/>
                  <a:pt x="13744" y="13213"/>
                </a:cubicBezTo>
                <a:cubicBezTo>
                  <a:pt x="13709" y="13435"/>
                  <a:pt x="13702" y="13675"/>
                  <a:pt x="13628" y="13887"/>
                </a:cubicBezTo>
                <a:cubicBezTo>
                  <a:pt x="13531" y="14164"/>
                  <a:pt x="13396" y="14372"/>
                  <a:pt x="13390" y="14676"/>
                </a:cubicBezTo>
                <a:cubicBezTo>
                  <a:pt x="13385" y="14903"/>
                  <a:pt x="13366" y="15121"/>
                  <a:pt x="13356" y="15346"/>
                </a:cubicBezTo>
                <a:cubicBezTo>
                  <a:pt x="13345" y="15601"/>
                  <a:pt x="13437" y="15841"/>
                  <a:pt x="13665" y="15974"/>
                </a:cubicBezTo>
                <a:cubicBezTo>
                  <a:pt x="13908" y="16116"/>
                  <a:pt x="14254" y="16081"/>
                  <a:pt x="14524" y="16147"/>
                </a:cubicBezTo>
                <a:cubicBezTo>
                  <a:pt x="14702" y="16190"/>
                  <a:pt x="14849" y="16243"/>
                  <a:pt x="15037" y="16237"/>
                </a:cubicBezTo>
                <a:cubicBezTo>
                  <a:pt x="15413" y="16225"/>
                  <a:pt x="15689" y="16002"/>
                  <a:pt x="15986" y="15804"/>
                </a:cubicBezTo>
                <a:cubicBezTo>
                  <a:pt x="16189" y="15668"/>
                  <a:pt x="16319" y="15546"/>
                  <a:pt x="16450" y="15339"/>
                </a:cubicBezTo>
                <a:cubicBezTo>
                  <a:pt x="16502" y="15258"/>
                  <a:pt x="16544" y="15175"/>
                  <a:pt x="16602" y="15099"/>
                </a:cubicBezTo>
                <a:cubicBezTo>
                  <a:pt x="16681" y="14995"/>
                  <a:pt x="16781" y="14923"/>
                  <a:pt x="16877" y="14838"/>
                </a:cubicBezTo>
                <a:cubicBezTo>
                  <a:pt x="17091" y="14650"/>
                  <a:pt x="17334" y="14473"/>
                  <a:pt x="17607" y="14381"/>
                </a:cubicBezTo>
                <a:cubicBezTo>
                  <a:pt x="17840" y="14302"/>
                  <a:pt x="18096" y="14288"/>
                  <a:pt x="18322" y="14185"/>
                </a:cubicBezTo>
                <a:cubicBezTo>
                  <a:pt x="18487" y="14110"/>
                  <a:pt x="18588" y="13994"/>
                  <a:pt x="18699" y="13857"/>
                </a:cubicBezTo>
                <a:cubicBezTo>
                  <a:pt x="18845" y="13678"/>
                  <a:pt x="18839" y="13492"/>
                  <a:pt x="18842" y="13266"/>
                </a:cubicBezTo>
                <a:cubicBezTo>
                  <a:pt x="18845" y="13011"/>
                  <a:pt x="18846" y="12767"/>
                  <a:pt x="18708" y="12541"/>
                </a:cubicBezTo>
                <a:cubicBezTo>
                  <a:pt x="18599" y="12363"/>
                  <a:pt x="18432" y="12197"/>
                  <a:pt x="18307" y="12026"/>
                </a:cubicBezTo>
                <a:cubicBezTo>
                  <a:pt x="18229" y="11920"/>
                  <a:pt x="18140" y="11824"/>
                  <a:pt x="18082" y="11707"/>
                </a:cubicBezTo>
                <a:cubicBezTo>
                  <a:pt x="18052" y="11646"/>
                  <a:pt x="18023" y="11617"/>
                  <a:pt x="18022" y="11546"/>
                </a:cubicBezTo>
                <a:cubicBezTo>
                  <a:pt x="18020" y="11402"/>
                  <a:pt x="18092" y="11338"/>
                  <a:pt x="18184" y="11241"/>
                </a:cubicBezTo>
                <a:cubicBezTo>
                  <a:pt x="18196" y="11235"/>
                  <a:pt x="18209" y="11228"/>
                  <a:pt x="18221" y="11222"/>
                </a:cubicBezTo>
              </a:path>
            </a:pathLst>
          </a:custGeom>
          <a:noFill/>
          <a:ln cap="rnd" w="19080">
            <a:solidFill>
              <a:srgbClr val="fbdf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165640" y="3035160"/>
            <a:ext cx="1316160" cy="1514520"/>
          </a:xfrm>
          <a:custGeom>
            <a:avLst/>
            <a:gdLst/>
            <a:ahLst/>
            <a:rect l="l" t="t" r="r" b="b"/>
            <a:pathLst>
              <a:path w="3652" h="4208">
                <a:moveTo>
                  <a:pt x="14351" y="9379"/>
                </a:moveTo>
                <a:cubicBezTo>
                  <a:pt x="14452" y="9423"/>
                  <a:pt x="14466" y="9413"/>
                  <a:pt x="14545" y="9495"/>
                </a:cubicBezTo>
                <a:cubicBezTo>
                  <a:pt x="14704" y="9662"/>
                  <a:pt x="14745" y="9888"/>
                  <a:pt x="14767" y="10107"/>
                </a:cubicBezTo>
                <a:cubicBezTo>
                  <a:pt x="14791" y="10340"/>
                  <a:pt x="14757" y="10556"/>
                  <a:pt x="14723" y="10786"/>
                </a:cubicBezTo>
                <a:cubicBezTo>
                  <a:pt x="14672" y="11133"/>
                  <a:pt x="14662" y="11385"/>
                  <a:pt x="14736" y="11725"/>
                </a:cubicBezTo>
                <a:cubicBezTo>
                  <a:pt x="14774" y="11901"/>
                  <a:pt x="14788" y="12088"/>
                  <a:pt x="14855" y="12257"/>
                </a:cubicBezTo>
                <a:cubicBezTo>
                  <a:pt x="14908" y="12392"/>
                  <a:pt x="14989" y="12517"/>
                  <a:pt x="15117" y="12591"/>
                </a:cubicBezTo>
                <a:cubicBezTo>
                  <a:pt x="15205" y="12642"/>
                  <a:pt x="15256" y="12644"/>
                  <a:pt x="15355" y="12615"/>
                </a:cubicBezTo>
                <a:cubicBezTo>
                  <a:pt x="15616" y="12538"/>
                  <a:pt x="15905" y="12370"/>
                  <a:pt x="16150" y="12243"/>
                </a:cubicBezTo>
                <a:cubicBezTo>
                  <a:pt x="16317" y="12157"/>
                  <a:pt x="16471" y="12064"/>
                  <a:pt x="16621" y="11954"/>
                </a:cubicBezTo>
                <a:cubicBezTo>
                  <a:pt x="16720" y="11881"/>
                  <a:pt x="16818" y="11817"/>
                  <a:pt x="16914" y="11740"/>
                </a:cubicBezTo>
                <a:cubicBezTo>
                  <a:pt x="17080" y="11607"/>
                  <a:pt x="17281" y="11488"/>
                  <a:pt x="17403" y="11308"/>
                </a:cubicBezTo>
                <a:cubicBezTo>
                  <a:pt x="17447" y="11243"/>
                  <a:pt x="17477" y="11172"/>
                  <a:pt x="17507" y="11100"/>
                </a:cubicBezTo>
                <a:cubicBezTo>
                  <a:pt x="17587" y="10910"/>
                  <a:pt x="17681" y="10694"/>
                  <a:pt x="17711" y="10490"/>
                </a:cubicBezTo>
                <a:cubicBezTo>
                  <a:pt x="17750" y="10226"/>
                  <a:pt x="17750" y="9903"/>
                  <a:pt x="17757" y="9641"/>
                </a:cubicBezTo>
                <a:cubicBezTo>
                  <a:pt x="17759" y="9582"/>
                  <a:pt x="17756" y="9519"/>
                  <a:pt x="17757" y="9461"/>
                </a:cubicBezTo>
                <a:cubicBezTo>
                  <a:pt x="17757" y="9438"/>
                  <a:pt x="17750" y="9316"/>
                  <a:pt x="17757" y="9297"/>
                </a:cubicBezTo>
                <a:cubicBezTo>
                  <a:pt x="17780" y="9230"/>
                  <a:pt x="17836" y="9185"/>
                  <a:pt x="17858" y="9110"/>
                </a:cubicBezTo>
                <a:cubicBezTo>
                  <a:pt x="17913" y="8926"/>
                  <a:pt x="17930" y="8729"/>
                  <a:pt x="17974" y="8543"/>
                </a:cubicBezTo>
                <a:cubicBezTo>
                  <a:pt x="17983" y="8505"/>
                  <a:pt x="17993" y="8469"/>
                  <a:pt x="18002" y="8431"/>
                </a:cubicBezTo>
              </a:path>
            </a:pathLst>
          </a:custGeom>
          <a:noFill/>
          <a:ln cap="rnd" w="19080">
            <a:solidFill>
              <a:srgbClr val="fbdf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419720" y="2971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Myriad Web"/>
              </a:rPr>
              <a:t>expose (s) { …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 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yriad Web"/>
              </a:rPr>
              <a:t>Basic architecture of a verifier</a:t>
            </a: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2133720"/>
            <a:ext cx="2971800" cy="91440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verification cond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4114800"/>
            <a:ext cx="2971800" cy="91440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theorem p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verification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14479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program with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14800" y="54100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correct” or list of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3526800">
            <a:off x="1766520" y="2808360"/>
            <a:ext cx="4572000" cy="1752480"/>
          </a:xfrm>
          <a:prstGeom prst="rightArrow">
            <a:avLst>
              <a:gd name="adj1" fmla="val 50000"/>
              <a:gd name="adj2" fmla="val 65222"/>
            </a:avLst>
          </a:prstGeom>
          <a:solidFill>
            <a:srgbClr val="96969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yriad Web"/>
              </a:rPr>
              <a:t>Object states:  a picture of the heap</a:t>
            </a: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491" name=""/>
          <p:cNvSpPr/>
          <p:nvPr/>
        </p:nvSpPr>
        <p:spPr>
          <a:xfrm>
            <a:off x="7086600" y="4527720"/>
            <a:ext cx="685800" cy="68580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086600" y="5289480"/>
            <a:ext cx="685800" cy="685800"/>
          </a:xfrm>
          <a:prstGeom prst="ellipse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086600" y="605160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772400" y="4680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Web"/>
              </a:rPr>
              <a:t>Mu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772400" y="5456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Web"/>
              </a:rPr>
              <a:t>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772400" y="6218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Web"/>
              </a:rPr>
              <a:t>Com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858000" y="4114800"/>
            <a:ext cx="2286000" cy="2743200"/>
          </a:xfrm>
          <a:custGeom>
            <a:avLst/>
            <a:gdLst/>
            <a:ahLst/>
            <a:rect l="l" t="t" r="r" b="b"/>
            <a:pathLst>
              <a:path w="1440" h="1536">
                <a:moveTo>
                  <a:pt x="0" y="1536"/>
                </a:moveTo>
                <a:lnTo>
                  <a:pt x="0" y="0"/>
                </a:lnTo>
                <a:lnTo>
                  <a:pt x="14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09480" y="1447920"/>
            <a:ext cx="685800" cy="68580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600200" y="1371600"/>
            <a:ext cx="685800" cy="68580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666880" y="1600200"/>
            <a:ext cx="685800" cy="68580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886200" y="2286000"/>
            <a:ext cx="685800" cy="68580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066680" y="2362320"/>
            <a:ext cx="685800" cy="68580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1371600"/>
            <a:ext cx="685800" cy="68580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715000" y="2209680"/>
            <a:ext cx="685800" cy="68580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848720" y="1447920"/>
            <a:ext cx="685800" cy="68580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57200" y="3352680"/>
            <a:ext cx="685800" cy="685800"/>
          </a:xfrm>
          <a:prstGeom prst="ellipse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0" y="3352680"/>
            <a:ext cx="685800" cy="685800"/>
          </a:xfrm>
          <a:prstGeom prst="ellipse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809880" y="3124080"/>
            <a:ext cx="685800" cy="685800"/>
          </a:xfrm>
          <a:prstGeom prst="ellipse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562720" y="3429000"/>
            <a:ext cx="685800" cy="685800"/>
          </a:xfrm>
          <a:prstGeom prst="ellipse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Web"/>
              </a:rPr>
              <a:t>s: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934320" y="1523880"/>
            <a:ext cx="685800" cy="685800"/>
          </a:xfrm>
          <a:prstGeom prst="ellipse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305920" y="2590920"/>
            <a:ext cx="685800" cy="685800"/>
          </a:xfrm>
          <a:prstGeom prst="ellipse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480060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295280" y="472428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57200" y="586728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905120" y="571500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514600" y="434340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048120" y="525780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962520" y="449568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114800" y="579132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029200" y="502920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Web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Myriad Web"/>
              </a:rPr>
              <a:t>Hash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019920" y="434340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0" y="274320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381880" y="335268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772400" y="4129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Web"/>
              </a:rPr>
              <a:t>ow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43120" y="3968640"/>
            <a:ext cx="1215720" cy="2030400"/>
          </a:xfrm>
          <a:custGeom>
            <a:avLst/>
            <a:gdLst/>
            <a:ahLst/>
            <a:rect l="l" t="t" r="r" b="b"/>
            <a:pathLst>
              <a:path w="3377" h="5638">
                <a:moveTo>
                  <a:pt x="2341" y="14981"/>
                </a:moveTo>
                <a:cubicBezTo>
                  <a:pt x="2404" y="15013"/>
                  <a:pt x="2443" y="15033"/>
                  <a:pt x="2519" y="15051"/>
                </a:cubicBezTo>
                <a:cubicBezTo>
                  <a:pt x="2721" y="15099"/>
                  <a:pt x="2912" y="15169"/>
                  <a:pt x="3094" y="15272"/>
                </a:cubicBezTo>
                <a:cubicBezTo>
                  <a:pt x="3247" y="15358"/>
                  <a:pt x="3399" y="15446"/>
                  <a:pt x="3549" y="15536"/>
                </a:cubicBezTo>
                <a:cubicBezTo>
                  <a:pt x="3827" y="15703"/>
                  <a:pt x="4089" y="15907"/>
                  <a:pt x="4387" y="16037"/>
                </a:cubicBezTo>
                <a:cubicBezTo>
                  <a:pt x="4549" y="16108"/>
                  <a:pt x="4715" y="16132"/>
                  <a:pt x="4881" y="16185"/>
                </a:cubicBezTo>
                <a:cubicBezTo>
                  <a:pt x="5049" y="16239"/>
                  <a:pt x="5196" y="16315"/>
                  <a:pt x="5352" y="16394"/>
                </a:cubicBezTo>
                <a:cubicBezTo>
                  <a:pt x="5429" y="16433"/>
                  <a:pt x="5622" y="16569"/>
                  <a:pt x="5703" y="16575"/>
                </a:cubicBezTo>
                <a:cubicBezTo>
                  <a:pt x="5695" y="16563"/>
                  <a:pt x="5688" y="16550"/>
                  <a:pt x="5680" y="16538"/>
                </a:cubicBezTo>
              </a:path>
              <a:path w="3377" h="5638">
                <a:moveTo>
                  <a:pt x="5507" y="16346"/>
                </a:moveTo>
                <a:cubicBezTo>
                  <a:pt x="5457" y="16314"/>
                  <a:pt x="5432" y="16301"/>
                  <a:pt x="5376" y="16286"/>
                </a:cubicBezTo>
                <a:cubicBezTo>
                  <a:pt x="5455" y="16324"/>
                  <a:pt x="5511" y="16373"/>
                  <a:pt x="5576" y="16432"/>
                </a:cubicBezTo>
                <a:cubicBezTo>
                  <a:pt x="5635" y="16486"/>
                  <a:pt x="5699" y="16526"/>
                  <a:pt x="5711" y="16598"/>
                </a:cubicBezTo>
                <a:cubicBezTo>
                  <a:pt x="5639" y="16613"/>
                  <a:pt x="5568" y="16624"/>
                  <a:pt x="5496" y="16633"/>
                </a:cubicBezTo>
                <a:cubicBezTo>
                  <a:pt x="5432" y="16641"/>
                  <a:pt x="5368" y="16647"/>
                  <a:pt x="5304" y="16655"/>
                </a:cubicBezTo>
                <a:cubicBezTo>
                  <a:pt x="5286" y="16657"/>
                  <a:pt x="5163" y="16668"/>
                  <a:pt x="5270" y="16660"/>
                </a:cubicBezTo>
              </a:path>
              <a:path w="3377" h="5638">
                <a:moveTo>
                  <a:pt x="2889" y="11026"/>
                </a:moveTo>
                <a:cubicBezTo>
                  <a:pt x="2922" y="11082"/>
                  <a:pt x="2956" y="11137"/>
                  <a:pt x="2992" y="11192"/>
                </a:cubicBezTo>
                <a:cubicBezTo>
                  <a:pt x="3035" y="11258"/>
                  <a:pt x="3069" y="11328"/>
                  <a:pt x="3113" y="11393"/>
                </a:cubicBezTo>
                <a:cubicBezTo>
                  <a:pt x="3215" y="11543"/>
                  <a:pt x="3357" y="11659"/>
                  <a:pt x="3482" y="11790"/>
                </a:cubicBezTo>
                <a:cubicBezTo>
                  <a:pt x="3603" y="11918"/>
                  <a:pt x="3669" y="12061"/>
                  <a:pt x="3727" y="12224"/>
                </a:cubicBezTo>
                <a:cubicBezTo>
                  <a:pt x="3752" y="12294"/>
                  <a:pt x="3776" y="12363"/>
                  <a:pt x="3803" y="12432"/>
                </a:cubicBezTo>
                <a:cubicBezTo>
                  <a:pt x="3839" y="12525"/>
                  <a:pt x="3874" y="12617"/>
                  <a:pt x="3912" y="12709"/>
                </a:cubicBezTo>
                <a:cubicBezTo>
                  <a:pt x="3944" y="12786"/>
                  <a:pt x="3981" y="12860"/>
                  <a:pt x="4013" y="12936"/>
                </a:cubicBezTo>
                <a:cubicBezTo>
                  <a:pt x="4046" y="13014"/>
                  <a:pt x="4070" y="13096"/>
                  <a:pt x="4098" y="13176"/>
                </a:cubicBezTo>
                <a:cubicBezTo>
                  <a:pt x="4122" y="13244"/>
                  <a:pt x="4156" y="13304"/>
                  <a:pt x="4184" y="13370"/>
                </a:cubicBezTo>
                <a:cubicBezTo>
                  <a:pt x="4205" y="13421"/>
                  <a:pt x="4212" y="13471"/>
                  <a:pt x="4223" y="13525"/>
                </a:cubicBezTo>
                <a:cubicBezTo>
                  <a:pt x="4216" y="13486"/>
                  <a:pt x="4213" y="13472"/>
                  <a:pt x="4210" y="13446"/>
                </a:cubicBezTo>
              </a:path>
              <a:path w="3377" h="5638">
                <a:moveTo>
                  <a:pt x="4434" y="13106"/>
                </a:moveTo>
                <a:cubicBezTo>
                  <a:pt x="4433" y="13167"/>
                  <a:pt x="4417" y="13223"/>
                  <a:pt x="4403" y="13284"/>
                </a:cubicBezTo>
                <a:cubicBezTo>
                  <a:pt x="4391" y="13338"/>
                  <a:pt x="4380" y="13392"/>
                  <a:pt x="4371" y="13446"/>
                </a:cubicBezTo>
                <a:cubicBezTo>
                  <a:pt x="4361" y="13504"/>
                  <a:pt x="4351" y="13562"/>
                  <a:pt x="4346" y="13621"/>
                </a:cubicBezTo>
                <a:cubicBezTo>
                  <a:pt x="4340" y="13687"/>
                  <a:pt x="4340" y="13754"/>
                  <a:pt x="4332" y="13820"/>
                </a:cubicBezTo>
                <a:cubicBezTo>
                  <a:pt x="4249" y="13801"/>
                  <a:pt x="4228" y="13769"/>
                  <a:pt x="4161" y="13718"/>
                </a:cubicBezTo>
                <a:cubicBezTo>
                  <a:pt x="4088" y="13663"/>
                  <a:pt x="4005" y="13631"/>
                  <a:pt x="3921" y="13598"/>
                </a:cubicBezTo>
                <a:cubicBezTo>
                  <a:pt x="3830" y="13562"/>
                  <a:pt x="3837" y="13533"/>
                  <a:pt x="3933" y="13543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012680" y="2082960"/>
            <a:ext cx="365400" cy="1385640"/>
          </a:xfrm>
          <a:custGeom>
            <a:avLst/>
            <a:gdLst/>
            <a:ahLst/>
            <a:rect l="l" t="t" r="r" b="b"/>
            <a:pathLst>
              <a:path w="1014" h="3851">
                <a:moveTo>
                  <a:pt x="3090" y="5784"/>
                </a:moveTo>
                <a:cubicBezTo>
                  <a:pt x="3107" y="5854"/>
                  <a:pt x="3123" y="5891"/>
                  <a:pt x="3164" y="5953"/>
                </a:cubicBezTo>
                <a:cubicBezTo>
                  <a:pt x="3215" y="6029"/>
                  <a:pt x="3249" y="6105"/>
                  <a:pt x="3291" y="6186"/>
                </a:cubicBezTo>
                <a:cubicBezTo>
                  <a:pt x="3332" y="6265"/>
                  <a:pt x="3385" y="6328"/>
                  <a:pt x="3443" y="6394"/>
                </a:cubicBezTo>
                <a:cubicBezTo>
                  <a:pt x="3533" y="6498"/>
                  <a:pt x="3590" y="6592"/>
                  <a:pt x="3637" y="6720"/>
                </a:cubicBezTo>
                <a:cubicBezTo>
                  <a:pt x="3661" y="6784"/>
                  <a:pt x="3701" y="6821"/>
                  <a:pt x="3746" y="6870"/>
                </a:cubicBezTo>
                <a:cubicBezTo>
                  <a:pt x="3769" y="6822"/>
                  <a:pt x="3776" y="6805"/>
                  <a:pt x="3750" y="6770"/>
                </a:cubicBezTo>
              </a:path>
              <a:path w="1014" h="3851">
                <a:moveTo>
                  <a:pt x="3341" y="6717"/>
                </a:moveTo>
                <a:cubicBezTo>
                  <a:pt x="3375" y="6782"/>
                  <a:pt x="3412" y="6832"/>
                  <a:pt x="3473" y="6874"/>
                </a:cubicBezTo>
                <a:cubicBezTo>
                  <a:pt x="3521" y="6907"/>
                  <a:pt x="3580" y="6934"/>
                  <a:pt x="3637" y="6950"/>
                </a:cubicBezTo>
                <a:cubicBezTo>
                  <a:pt x="3703" y="6969"/>
                  <a:pt x="3791" y="7000"/>
                  <a:pt x="3808" y="6913"/>
                </a:cubicBezTo>
                <a:cubicBezTo>
                  <a:pt x="3821" y="6846"/>
                  <a:pt x="3798" y="6761"/>
                  <a:pt x="3803" y="6690"/>
                </a:cubicBezTo>
                <a:cubicBezTo>
                  <a:pt x="3807" y="6633"/>
                  <a:pt x="3819" y="6576"/>
                  <a:pt x="3824" y="6519"/>
                </a:cubicBezTo>
                <a:cubicBezTo>
                  <a:pt x="3826" y="6476"/>
                  <a:pt x="3827" y="6461"/>
                  <a:pt x="3792" y="6500"/>
                </a:cubicBezTo>
              </a:path>
              <a:path w="1014" h="3851">
                <a:moveTo>
                  <a:pt x="3623" y="8289"/>
                </a:moveTo>
                <a:cubicBezTo>
                  <a:pt x="3635" y="8286"/>
                  <a:pt x="3646" y="8283"/>
                  <a:pt x="3658" y="8280"/>
                </a:cubicBezTo>
                <a:cubicBezTo>
                  <a:pt x="3594" y="8333"/>
                  <a:pt x="3558" y="8398"/>
                  <a:pt x="3512" y="8470"/>
                </a:cubicBezTo>
                <a:cubicBezTo>
                  <a:pt x="3477" y="8524"/>
                  <a:pt x="3443" y="8580"/>
                  <a:pt x="3411" y="8636"/>
                </a:cubicBezTo>
                <a:cubicBezTo>
                  <a:pt x="3352" y="8739"/>
                  <a:pt x="3313" y="8854"/>
                  <a:pt x="3247" y="8952"/>
                </a:cubicBezTo>
                <a:cubicBezTo>
                  <a:pt x="3204" y="9016"/>
                  <a:pt x="3160" y="9081"/>
                  <a:pt x="3122" y="9148"/>
                </a:cubicBezTo>
                <a:cubicBezTo>
                  <a:pt x="3082" y="9218"/>
                  <a:pt x="3077" y="9296"/>
                  <a:pt x="3030" y="9363"/>
                </a:cubicBezTo>
                <a:cubicBezTo>
                  <a:pt x="2988" y="9422"/>
                  <a:pt x="2944" y="9460"/>
                  <a:pt x="2919" y="9530"/>
                </a:cubicBezTo>
                <a:cubicBezTo>
                  <a:pt x="2904" y="9572"/>
                  <a:pt x="2912" y="9653"/>
                  <a:pt x="2895" y="9553"/>
                </a:cubicBezTo>
              </a:path>
              <a:path w="1014" h="3851">
                <a:moveTo>
                  <a:pt x="2813" y="9305"/>
                </a:moveTo>
                <a:cubicBezTo>
                  <a:pt x="2837" y="9359"/>
                  <a:pt x="2848" y="9407"/>
                  <a:pt x="2856" y="9467"/>
                </a:cubicBezTo>
                <a:cubicBezTo>
                  <a:pt x="2864" y="9523"/>
                  <a:pt x="2869" y="9578"/>
                  <a:pt x="2879" y="9634"/>
                </a:cubicBezTo>
                <a:cubicBezTo>
                  <a:pt x="2957" y="9621"/>
                  <a:pt x="2990" y="9579"/>
                  <a:pt x="3057" y="9537"/>
                </a:cubicBezTo>
                <a:cubicBezTo>
                  <a:pt x="3131" y="9491"/>
                  <a:pt x="3191" y="9467"/>
                  <a:pt x="3276" y="9463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46120" y="3979800"/>
            <a:ext cx="209520" cy="871560"/>
          </a:xfrm>
          <a:custGeom>
            <a:avLst/>
            <a:gdLst/>
            <a:ahLst/>
            <a:rect l="l" t="t" r="r" b="b"/>
            <a:pathLst>
              <a:path w="581" h="2423">
                <a:moveTo>
                  <a:pt x="1972" y="11054"/>
                </a:moveTo>
                <a:cubicBezTo>
                  <a:pt x="1972" y="11189"/>
                  <a:pt x="1972" y="11327"/>
                  <a:pt x="1963" y="11462"/>
                </a:cubicBezTo>
                <a:cubicBezTo>
                  <a:pt x="1952" y="11620"/>
                  <a:pt x="1933" y="11778"/>
                  <a:pt x="1921" y="11936"/>
                </a:cubicBezTo>
                <a:cubicBezTo>
                  <a:pt x="1902" y="12179"/>
                  <a:pt x="1908" y="12418"/>
                  <a:pt x="1838" y="12654"/>
                </a:cubicBezTo>
                <a:cubicBezTo>
                  <a:pt x="1821" y="12713"/>
                  <a:pt x="1802" y="12771"/>
                  <a:pt x="1782" y="12829"/>
                </a:cubicBezTo>
                <a:cubicBezTo>
                  <a:pt x="1742" y="12946"/>
                  <a:pt x="1731" y="13041"/>
                  <a:pt x="1720" y="13162"/>
                </a:cubicBezTo>
                <a:cubicBezTo>
                  <a:pt x="1717" y="13197"/>
                  <a:pt x="1695" y="13422"/>
                  <a:pt x="1697" y="13309"/>
                </a:cubicBezTo>
              </a:path>
              <a:path w="581" h="2423">
                <a:moveTo>
                  <a:pt x="1519" y="13144"/>
                </a:moveTo>
                <a:cubicBezTo>
                  <a:pt x="1561" y="13205"/>
                  <a:pt x="1581" y="13261"/>
                  <a:pt x="1609" y="13330"/>
                </a:cubicBezTo>
                <a:cubicBezTo>
                  <a:pt x="1632" y="13386"/>
                  <a:pt x="1659" y="13428"/>
                  <a:pt x="1695" y="13476"/>
                </a:cubicBezTo>
                <a:cubicBezTo>
                  <a:pt x="1764" y="13453"/>
                  <a:pt x="1800" y="13389"/>
                  <a:pt x="1854" y="13330"/>
                </a:cubicBezTo>
                <a:cubicBezTo>
                  <a:pt x="1911" y="13268"/>
                  <a:pt x="1983" y="13212"/>
                  <a:pt x="2037" y="13148"/>
                </a:cubicBezTo>
                <a:cubicBezTo>
                  <a:pt x="2069" y="13100"/>
                  <a:pt x="2079" y="13085"/>
                  <a:pt x="2099" y="13053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57360" y="5477040"/>
            <a:ext cx="187200" cy="487080"/>
          </a:xfrm>
          <a:custGeom>
            <a:avLst/>
            <a:gdLst/>
            <a:ahLst/>
            <a:rect l="l" t="t" r="r" b="b"/>
            <a:pathLst>
              <a:path w="521" h="1354">
                <a:moveTo>
                  <a:pt x="1826" y="15212"/>
                </a:moveTo>
                <a:cubicBezTo>
                  <a:pt x="1845" y="15274"/>
                  <a:pt x="1859" y="15339"/>
                  <a:pt x="1879" y="15401"/>
                </a:cubicBezTo>
                <a:cubicBezTo>
                  <a:pt x="1913" y="15509"/>
                  <a:pt x="1947" y="15612"/>
                  <a:pt x="1965" y="15725"/>
                </a:cubicBezTo>
                <a:cubicBezTo>
                  <a:pt x="1975" y="15787"/>
                  <a:pt x="1996" y="15844"/>
                  <a:pt x="2018" y="15903"/>
                </a:cubicBezTo>
                <a:cubicBezTo>
                  <a:pt x="2048" y="15984"/>
                  <a:pt x="2095" y="16061"/>
                  <a:pt x="2117" y="16143"/>
                </a:cubicBezTo>
                <a:cubicBezTo>
                  <a:pt x="2134" y="16208"/>
                  <a:pt x="2146" y="16274"/>
                  <a:pt x="2161" y="16339"/>
                </a:cubicBezTo>
                <a:cubicBezTo>
                  <a:pt x="2175" y="16400"/>
                  <a:pt x="2187" y="16459"/>
                  <a:pt x="2196" y="16521"/>
                </a:cubicBezTo>
                <a:cubicBezTo>
                  <a:pt x="2189" y="16485"/>
                  <a:pt x="2185" y="16471"/>
                  <a:pt x="2166" y="16452"/>
                </a:cubicBezTo>
              </a:path>
              <a:path w="521" h="1354">
                <a:moveTo>
                  <a:pt x="1900" y="16429"/>
                </a:moveTo>
                <a:cubicBezTo>
                  <a:pt x="1948" y="16482"/>
                  <a:pt x="1977" y="16534"/>
                  <a:pt x="2050" y="16556"/>
                </a:cubicBezTo>
                <a:cubicBezTo>
                  <a:pt x="2111" y="16574"/>
                  <a:pt x="2211" y="16582"/>
                  <a:pt x="2203" y="16496"/>
                </a:cubicBezTo>
                <a:cubicBezTo>
                  <a:pt x="2198" y="16483"/>
                  <a:pt x="2192" y="16470"/>
                  <a:pt x="2187" y="16457"/>
                </a:cubicBezTo>
              </a:path>
              <a:path w="521" h="1354">
                <a:moveTo>
                  <a:pt x="2346" y="16140"/>
                </a:moveTo>
                <a:cubicBezTo>
                  <a:pt x="2329" y="16206"/>
                  <a:pt x="2305" y="16271"/>
                  <a:pt x="2291" y="16337"/>
                </a:cubicBezTo>
                <a:cubicBezTo>
                  <a:pt x="2281" y="16383"/>
                  <a:pt x="2280" y="16427"/>
                  <a:pt x="2281" y="16473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327800" y="4284720"/>
            <a:ext cx="330480" cy="212760"/>
          </a:xfrm>
          <a:custGeom>
            <a:avLst/>
            <a:gdLst/>
            <a:ahLst/>
            <a:rect l="l" t="t" r="r" b="b"/>
            <a:pathLst>
              <a:path w="917" h="588">
                <a:moveTo>
                  <a:pt x="21271" y="11903"/>
                </a:moveTo>
                <a:cubicBezTo>
                  <a:pt x="21208" y="11934"/>
                  <a:pt x="21141" y="11947"/>
                  <a:pt x="21077" y="11979"/>
                </a:cubicBezTo>
                <a:cubicBezTo>
                  <a:pt x="21008" y="12014"/>
                  <a:pt x="20944" y="12065"/>
                  <a:pt x="20879" y="12106"/>
                </a:cubicBezTo>
                <a:cubicBezTo>
                  <a:pt x="20744" y="12192"/>
                  <a:pt x="20605" y="12282"/>
                  <a:pt x="20461" y="12351"/>
                </a:cubicBezTo>
                <a:cubicBezTo>
                  <a:pt x="20389" y="12386"/>
                  <a:pt x="20389" y="12386"/>
                  <a:pt x="20410" y="12319"/>
                </a:cubicBezTo>
              </a:path>
              <a:path w="917" h="588">
                <a:moveTo>
                  <a:pt x="20608" y="12134"/>
                </a:moveTo>
                <a:cubicBezTo>
                  <a:pt x="20613" y="12211"/>
                  <a:pt x="20561" y="12254"/>
                  <a:pt x="20507" y="12319"/>
                </a:cubicBezTo>
                <a:cubicBezTo>
                  <a:pt x="20458" y="12378"/>
                  <a:pt x="20408" y="12435"/>
                  <a:pt x="20355" y="12490"/>
                </a:cubicBezTo>
                <a:cubicBezTo>
                  <a:pt x="20429" y="12456"/>
                  <a:pt x="20491" y="12443"/>
                  <a:pt x="20574" y="12444"/>
                </a:cubicBezTo>
                <a:cubicBezTo>
                  <a:pt x="20645" y="12445"/>
                  <a:pt x="20650" y="12456"/>
                  <a:pt x="20710" y="12425"/>
                </a:cubicBezTo>
              </a:path>
              <a:path w="917" h="588">
                <a:moveTo>
                  <a:pt x="20376" y="12164"/>
                </a:moveTo>
                <a:cubicBezTo>
                  <a:pt x="20434" y="12139"/>
                  <a:pt x="20435" y="12138"/>
                  <a:pt x="20456" y="12079"/>
                </a:cubicBezTo>
                <a:cubicBezTo>
                  <a:pt x="20452" y="12153"/>
                  <a:pt x="20435" y="12216"/>
                  <a:pt x="20415" y="12287"/>
                </a:cubicBezTo>
                <a:cubicBezTo>
                  <a:pt x="20401" y="12336"/>
                  <a:pt x="20389" y="12385"/>
                  <a:pt x="20376" y="12434"/>
                </a:cubicBezTo>
                <a:cubicBezTo>
                  <a:pt x="20413" y="12374"/>
                  <a:pt x="20425" y="12323"/>
                  <a:pt x="20435" y="12252"/>
                </a:cubicBezTo>
                <a:cubicBezTo>
                  <a:pt x="20440" y="12212"/>
                  <a:pt x="20442" y="12172"/>
                  <a:pt x="20445" y="12132"/>
                </a:cubicBezTo>
                <a:cubicBezTo>
                  <a:pt x="20453" y="12191"/>
                  <a:pt x="20441" y="12230"/>
                  <a:pt x="20431" y="12289"/>
                </a:cubicBezTo>
                <a:cubicBezTo>
                  <a:pt x="20424" y="12331"/>
                  <a:pt x="20424" y="12368"/>
                  <a:pt x="20426" y="12409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664000" y="2247840"/>
            <a:ext cx="1352520" cy="1166760"/>
          </a:xfrm>
          <a:custGeom>
            <a:avLst/>
            <a:gdLst/>
            <a:ahLst/>
            <a:rect l="l" t="t" r="r" b="b"/>
            <a:pathLst>
              <a:path w="3758" h="3243">
                <a:moveTo>
                  <a:pt x="8463" y="6290"/>
                </a:moveTo>
                <a:cubicBezTo>
                  <a:pt x="8475" y="6283"/>
                  <a:pt x="8488" y="6276"/>
                  <a:pt x="8500" y="6269"/>
                </a:cubicBezTo>
                <a:cubicBezTo>
                  <a:pt x="8487" y="6331"/>
                  <a:pt x="8474" y="6394"/>
                  <a:pt x="8461" y="6456"/>
                </a:cubicBezTo>
                <a:cubicBezTo>
                  <a:pt x="8437" y="6570"/>
                  <a:pt x="8413" y="6683"/>
                  <a:pt x="8384" y="6796"/>
                </a:cubicBezTo>
                <a:cubicBezTo>
                  <a:pt x="8340" y="6967"/>
                  <a:pt x="8291" y="7136"/>
                  <a:pt x="8234" y="7302"/>
                </a:cubicBezTo>
                <a:cubicBezTo>
                  <a:pt x="8132" y="7598"/>
                  <a:pt x="8021" y="7892"/>
                  <a:pt x="7913" y="8186"/>
                </a:cubicBezTo>
                <a:cubicBezTo>
                  <a:pt x="7881" y="8273"/>
                  <a:pt x="7851" y="8361"/>
                  <a:pt x="7821" y="8449"/>
                </a:cubicBezTo>
                <a:cubicBezTo>
                  <a:pt x="7764" y="8617"/>
                  <a:pt x="7704" y="8783"/>
                  <a:pt x="7646" y="8950"/>
                </a:cubicBezTo>
                <a:cubicBezTo>
                  <a:pt x="7626" y="9008"/>
                  <a:pt x="7599" y="9069"/>
                  <a:pt x="7590" y="9130"/>
                </a:cubicBezTo>
                <a:cubicBezTo>
                  <a:pt x="7573" y="9246"/>
                  <a:pt x="7587" y="9362"/>
                  <a:pt x="7564" y="9479"/>
                </a:cubicBezTo>
                <a:cubicBezTo>
                  <a:pt x="7569" y="9437"/>
                  <a:pt x="7571" y="9424"/>
                  <a:pt x="7564" y="9396"/>
                </a:cubicBezTo>
              </a:path>
              <a:path w="3758" h="3243">
                <a:moveTo>
                  <a:pt x="7398" y="9301"/>
                </a:moveTo>
                <a:cubicBezTo>
                  <a:pt x="7457" y="9334"/>
                  <a:pt x="7458" y="9370"/>
                  <a:pt x="7479" y="9437"/>
                </a:cubicBezTo>
                <a:cubicBezTo>
                  <a:pt x="7515" y="9549"/>
                  <a:pt x="7543" y="9443"/>
                  <a:pt x="7585" y="9403"/>
                </a:cubicBezTo>
                <a:cubicBezTo>
                  <a:pt x="7639" y="9352"/>
                  <a:pt x="7722" y="9332"/>
                  <a:pt x="7772" y="9278"/>
                </a:cubicBezTo>
                <a:cubicBezTo>
                  <a:pt x="7777" y="9267"/>
                  <a:pt x="7783" y="9256"/>
                  <a:pt x="7788" y="9245"/>
                </a:cubicBezTo>
              </a:path>
              <a:path w="3758" h="3243">
                <a:moveTo>
                  <a:pt x="8733" y="6242"/>
                </a:moveTo>
                <a:cubicBezTo>
                  <a:pt x="8780" y="6298"/>
                  <a:pt x="8835" y="6346"/>
                  <a:pt x="8886" y="6401"/>
                </a:cubicBezTo>
                <a:cubicBezTo>
                  <a:pt x="8995" y="6518"/>
                  <a:pt x="9067" y="6660"/>
                  <a:pt x="9183" y="6773"/>
                </a:cubicBezTo>
                <a:cubicBezTo>
                  <a:pt x="9306" y="6893"/>
                  <a:pt x="9462" y="6968"/>
                  <a:pt x="9587" y="7084"/>
                </a:cubicBezTo>
                <a:cubicBezTo>
                  <a:pt x="9643" y="7135"/>
                  <a:pt x="9689" y="7195"/>
                  <a:pt x="9731" y="7258"/>
                </a:cubicBezTo>
                <a:cubicBezTo>
                  <a:pt x="9798" y="7358"/>
                  <a:pt x="9804" y="7475"/>
                  <a:pt x="9858" y="7571"/>
                </a:cubicBezTo>
                <a:cubicBezTo>
                  <a:pt x="9917" y="7676"/>
                  <a:pt x="9998" y="7762"/>
                  <a:pt x="10056" y="7870"/>
                </a:cubicBezTo>
                <a:cubicBezTo>
                  <a:pt x="10163" y="8068"/>
                  <a:pt x="10304" y="8172"/>
                  <a:pt x="10476" y="8306"/>
                </a:cubicBezTo>
                <a:cubicBezTo>
                  <a:pt x="10589" y="8394"/>
                  <a:pt x="10674" y="8521"/>
                  <a:pt x="10765" y="8631"/>
                </a:cubicBezTo>
                <a:cubicBezTo>
                  <a:pt x="10861" y="8746"/>
                  <a:pt x="10908" y="8847"/>
                  <a:pt x="10966" y="8978"/>
                </a:cubicBezTo>
                <a:cubicBezTo>
                  <a:pt x="10999" y="9052"/>
                  <a:pt x="11015" y="9068"/>
                  <a:pt x="11100" y="9100"/>
                </a:cubicBezTo>
                <a:cubicBezTo>
                  <a:pt x="11084" y="9089"/>
                  <a:pt x="11069" y="9077"/>
                  <a:pt x="11053" y="9066"/>
                </a:cubicBezTo>
              </a:path>
              <a:path w="3758" h="3243">
                <a:moveTo>
                  <a:pt x="10739" y="9056"/>
                </a:moveTo>
                <a:cubicBezTo>
                  <a:pt x="10791" y="9100"/>
                  <a:pt x="10845" y="9137"/>
                  <a:pt x="10911" y="9158"/>
                </a:cubicBezTo>
                <a:cubicBezTo>
                  <a:pt x="10956" y="9172"/>
                  <a:pt x="11071" y="9204"/>
                  <a:pt x="11114" y="9165"/>
                </a:cubicBezTo>
                <a:cubicBezTo>
                  <a:pt x="11160" y="9124"/>
                  <a:pt x="11140" y="9017"/>
                  <a:pt x="11142" y="8964"/>
                </a:cubicBezTo>
                <a:cubicBezTo>
                  <a:pt x="11144" y="8908"/>
                  <a:pt x="11159" y="8843"/>
                  <a:pt x="11155" y="8788"/>
                </a:cubicBezTo>
                <a:cubicBezTo>
                  <a:pt x="11151" y="8773"/>
                  <a:pt x="11148" y="8757"/>
                  <a:pt x="11144" y="8742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719440" y="3983040"/>
            <a:ext cx="162000" cy="447840"/>
          </a:xfrm>
          <a:custGeom>
            <a:avLst/>
            <a:gdLst/>
            <a:ahLst/>
            <a:rect l="l" t="t" r="r" b="b"/>
            <a:pathLst>
              <a:path w="451" h="1243">
                <a:moveTo>
                  <a:pt x="7553" y="11102"/>
                </a:moveTo>
                <a:cubicBezTo>
                  <a:pt x="7561" y="11089"/>
                  <a:pt x="7568" y="11076"/>
                  <a:pt x="7576" y="11063"/>
                </a:cubicBezTo>
                <a:cubicBezTo>
                  <a:pt x="7585" y="11177"/>
                  <a:pt x="7578" y="11293"/>
                  <a:pt x="7602" y="11404"/>
                </a:cubicBezTo>
                <a:cubicBezTo>
                  <a:pt x="7619" y="11485"/>
                  <a:pt x="7647" y="11566"/>
                  <a:pt x="7680" y="11642"/>
                </a:cubicBezTo>
                <a:cubicBezTo>
                  <a:pt x="7717" y="11725"/>
                  <a:pt x="7765" y="11801"/>
                  <a:pt x="7796" y="11887"/>
                </a:cubicBezTo>
                <a:cubicBezTo>
                  <a:pt x="7825" y="11968"/>
                  <a:pt x="7853" y="12048"/>
                  <a:pt x="7885" y="12128"/>
                </a:cubicBezTo>
                <a:cubicBezTo>
                  <a:pt x="7865" y="12084"/>
                  <a:pt x="7859" y="12070"/>
                  <a:pt x="7844" y="12042"/>
                </a:cubicBezTo>
              </a:path>
              <a:path w="451" h="1243">
                <a:moveTo>
                  <a:pt x="7618" y="12044"/>
                </a:moveTo>
                <a:cubicBezTo>
                  <a:pt x="7602" y="12127"/>
                  <a:pt x="7655" y="12128"/>
                  <a:pt x="7722" y="12190"/>
                </a:cubicBezTo>
                <a:cubicBezTo>
                  <a:pt x="7751" y="12217"/>
                  <a:pt x="7814" y="12344"/>
                  <a:pt x="7869" y="12293"/>
                </a:cubicBezTo>
                <a:cubicBezTo>
                  <a:pt x="7901" y="12263"/>
                  <a:pt x="7923" y="12139"/>
                  <a:pt x="7943" y="12097"/>
                </a:cubicBezTo>
                <a:cubicBezTo>
                  <a:pt x="7976" y="12028"/>
                  <a:pt x="8006" y="11982"/>
                  <a:pt x="7992" y="11908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218120" y="3790800"/>
            <a:ext cx="169560" cy="757440"/>
          </a:xfrm>
          <a:custGeom>
            <a:avLst/>
            <a:gdLst/>
            <a:ahLst/>
            <a:rect l="l" t="t" r="r" b="b"/>
            <a:pathLst>
              <a:path w="473" h="2107">
                <a:moveTo>
                  <a:pt x="11777" y="10529"/>
                </a:moveTo>
                <a:cubicBezTo>
                  <a:pt x="11764" y="10616"/>
                  <a:pt x="11769" y="10702"/>
                  <a:pt x="11777" y="10790"/>
                </a:cubicBezTo>
                <a:cubicBezTo>
                  <a:pt x="11787" y="10896"/>
                  <a:pt x="11795" y="11001"/>
                  <a:pt x="11806" y="11107"/>
                </a:cubicBezTo>
                <a:cubicBezTo>
                  <a:pt x="11830" y="11332"/>
                  <a:pt x="11868" y="11553"/>
                  <a:pt x="11897" y="11777"/>
                </a:cubicBezTo>
                <a:cubicBezTo>
                  <a:pt x="11906" y="11849"/>
                  <a:pt x="11909" y="11921"/>
                  <a:pt x="11913" y="11993"/>
                </a:cubicBezTo>
                <a:cubicBezTo>
                  <a:pt x="11919" y="12117"/>
                  <a:pt x="11914" y="12244"/>
                  <a:pt x="11929" y="12367"/>
                </a:cubicBezTo>
                <a:cubicBezTo>
                  <a:pt x="11935" y="12418"/>
                  <a:pt x="11954" y="12466"/>
                  <a:pt x="11956" y="12518"/>
                </a:cubicBezTo>
                <a:cubicBezTo>
                  <a:pt x="11957" y="12548"/>
                  <a:pt x="11972" y="12631"/>
                  <a:pt x="11942" y="12554"/>
                </a:cubicBezTo>
              </a:path>
              <a:path w="473" h="2107">
                <a:moveTo>
                  <a:pt x="11716" y="12462"/>
                </a:moveTo>
                <a:cubicBezTo>
                  <a:pt x="11770" y="12510"/>
                  <a:pt x="11825" y="12580"/>
                  <a:pt x="11885" y="12619"/>
                </a:cubicBezTo>
                <a:cubicBezTo>
                  <a:pt x="11961" y="12669"/>
                  <a:pt x="12008" y="12548"/>
                  <a:pt x="12035" y="12497"/>
                </a:cubicBezTo>
                <a:cubicBezTo>
                  <a:pt x="12068" y="12435"/>
                  <a:pt x="12086" y="12382"/>
                  <a:pt x="12130" y="12324"/>
                </a:cubicBezTo>
                <a:cubicBezTo>
                  <a:pt x="12164" y="12285"/>
                  <a:pt x="12174" y="12274"/>
                  <a:pt x="12188" y="12243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057480" y="4951440"/>
            <a:ext cx="285840" cy="430200"/>
          </a:xfrm>
          <a:custGeom>
            <a:avLst/>
            <a:gdLst/>
            <a:ahLst/>
            <a:rect l="l" t="t" r="r" b="b"/>
            <a:pathLst>
              <a:path w="791" h="1195">
                <a:moveTo>
                  <a:pt x="8495" y="13753"/>
                </a:moveTo>
                <a:cubicBezTo>
                  <a:pt x="8523" y="13823"/>
                  <a:pt x="8553" y="13890"/>
                  <a:pt x="8585" y="13958"/>
                </a:cubicBezTo>
                <a:cubicBezTo>
                  <a:pt x="8640" y="14075"/>
                  <a:pt x="8714" y="14181"/>
                  <a:pt x="8781" y="14291"/>
                </a:cubicBezTo>
                <a:cubicBezTo>
                  <a:pt x="8843" y="14393"/>
                  <a:pt x="8906" y="14492"/>
                  <a:pt x="8973" y="14591"/>
                </a:cubicBezTo>
                <a:cubicBezTo>
                  <a:pt x="9026" y="14669"/>
                  <a:pt x="9078" y="14750"/>
                  <a:pt x="9144" y="14818"/>
                </a:cubicBezTo>
                <a:cubicBezTo>
                  <a:pt x="9185" y="14861"/>
                  <a:pt x="9234" y="14892"/>
                  <a:pt x="9283" y="14924"/>
                </a:cubicBezTo>
                <a:cubicBezTo>
                  <a:pt x="9270" y="14863"/>
                  <a:pt x="9252" y="14854"/>
                  <a:pt x="9200" y="14810"/>
                </a:cubicBezTo>
              </a:path>
              <a:path w="791" h="1195">
                <a:moveTo>
                  <a:pt x="8832" y="14795"/>
                </a:moveTo>
                <a:cubicBezTo>
                  <a:pt x="8850" y="14855"/>
                  <a:pt x="8913" y="14879"/>
                  <a:pt x="8980" y="14910"/>
                </a:cubicBezTo>
                <a:cubicBezTo>
                  <a:pt x="9040" y="14938"/>
                  <a:pt x="9120" y="14972"/>
                  <a:pt x="9178" y="14922"/>
                </a:cubicBezTo>
                <a:cubicBezTo>
                  <a:pt x="9230" y="14877"/>
                  <a:pt x="9233" y="14788"/>
                  <a:pt x="9236" y="14725"/>
                </a:cubicBezTo>
                <a:cubicBezTo>
                  <a:pt x="9239" y="14665"/>
                  <a:pt x="9246" y="14609"/>
                  <a:pt x="9252" y="14550"/>
                </a:cubicBezTo>
                <a:cubicBezTo>
                  <a:pt x="9252" y="14535"/>
                  <a:pt x="9253" y="14519"/>
                  <a:pt x="9253" y="14504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330800" y="5137200"/>
            <a:ext cx="180720" cy="730080"/>
          </a:xfrm>
          <a:custGeom>
            <a:avLst/>
            <a:gdLst/>
            <a:ahLst/>
            <a:rect l="l" t="t" r="r" b="b"/>
            <a:pathLst>
              <a:path w="505" h="2030">
                <a:moveTo>
                  <a:pt x="12088" y="14303"/>
                </a:moveTo>
                <a:cubicBezTo>
                  <a:pt x="12097" y="14215"/>
                  <a:pt x="12090" y="14414"/>
                  <a:pt x="12090" y="14444"/>
                </a:cubicBezTo>
                <a:cubicBezTo>
                  <a:pt x="12091" y="14545"/>
                  <a:pt x="12098" y="14639"/>
                  <a:pt x="12113" y="14739"/>
                </a:cubicBezTo>
                <a:cubicBezTo>
                  <a:pt x="12129" y="14847"/>
                  <a:pt x="12155" y="14951"/>
                  <a:pt x="12181" y="15057"/>
                </a:cubicBezTo>
                <a:cubicBezTo>
                  <a:pt x="12205" y="15157"/>
                  <a:pt x="12223" y="15250"/>
                  <a:pt x="12229" y="15353"/>
                </a:cubicBezTo>
                <a:cubicBezTo>
                  <a:pt x="12244" y="15591"/>
                  <a:pt x="12157" y="15897"/>
                  <a:pt x="12217" y="16127"/>
                </a:cubicBezTo>
                <a:cubicBezTo>
                  <a:pt x="12222" y="16139"/>
                  <a:pt x="12226" y="16151"/>
                  <a:pt x="12231" y="16163"/>
                </a:cubicBezTo>
              </a:path>
              <a:path w="505" h="2030">
                <a:moveTo>
                  <a:pt x="12028" y="16004"/>
                </a:moveTo>
                <a:cubicBezTo>
                  <a:pt x="12078" y="16064"/>
                  <a:pt x="12087" y="16128"/>
                  <a:pt x="12130" y="16194"/>
                </a:cubicBezTo>
                <a:cubicBezTo>
                  <a:pt x="12179" y="16270"/>
                  <a:pt x="12219" y="16328"/>
                  <a:pt x="12289" y="16249"/>
                </a:cubicBezTo>
                <a:cubicBezTo>
                  <a:pt x="12352" y="16177"/>
                  <a:pt x="12419" y="16099"/>
                  <a:pt x="12480" y="16028"/>
                </a:cubicBezTo>
                <a:cubicBezTo>
                  <a:pt x="12509" y="15980"/>
                  <a:pt x="12518" y="15965"/>
                  <a:pt x="12532" y="15931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037200" y="4083120"/>
            <a:ext cx="255600" cy="392040"/>
          </a:xfrm>
          <a:custGeom>
            <a:avLst/>
            <a:gdLst/>
            <a:ahLst/>
            <a:rect l="l" t="t" r="r" b="b"/>
            <a:pathLst>
              <a:path w="713" h="1091">
                <a:moveTo>
                  <a:pt x="16789" y="11377"/>
                </a:moveTo>
                <a:cubicBezTo>
                  <a:pt x="16785" y="11365"/>
                  <a:pt x="16780" y="11354"/>
                  <a:pt x="16776" y="11342"/>
                </a:cubicBezTo>
                <a:cubicBezTo>
                  <a:pt x="16772" y="11426"/>
                  <a:pt x="16816" y="11492"/>
                  <a:pt x="16854" y="11569"/>
                </a:cubicBezTo>
                <a:cubicBezTo>
                  <a:pt x="16920" y="11704"/>
                  <a:pt x="16989" y="11837"/>
                  <a:pt x="17069" y="11964"/>
                </a:cubicBezTo>
                <a:cubicBezTo>
                  <a:pt x="17176" y="12136"/>
                  <a:pt x="17322" y="12281"/>
                  <a:pt x="17455" y="12432"/>
                </a:cubicBezTo>
                <a:cubicBezTo>
                  <a:pt x="17444" y="12383"/>
                  <a:pt x="17437" y="12364"/>
                  <a:pt x="17401" y="12345"/>
                </a:cubicBezTo>
              </a:path>
              <a:path w="713" h="1091">
                <a:moveTo>
                  <a:pt x="16969" y="12208"/>
                </a:moveTo>
                <a:cubicBezTo>
                  <a:pt x="17026" y="12238"/>
                  <a:pt x="17085" y="12245"/>
                  <a:pt x="17149" y="12266"/>
                </a:cubicBezTo>
                <a:cubicBezTo>
                  <a:pt x="17217" y="12289"/>
                  <a:pt x="17282" y="12317"/>
                  <a:pt x="17351" y="12337"/>
                </a:cubicBezTo>
                <a:cubicBezTo>
                  <a:pt x="17428" y="12359"/>
                  <a:pt x="17439" y="12279"/>
                  <a:pt x="17454" y="12218"/>
                </a:cubicBezTo>
                <a:cubicBezTo>
                  <a:pt x="17471" y="12151"/>
                  <a:pt x="17491" y="12066"/>
                  <a:pt x="17480" y="11996"/>
                </a:cubicBezTo>
                <a:cubicBezTo>
                  <a:pt x="17475" y="11984"/>
                  <a:pt x="17471" y="11971"/>
                  <a:pt x="17466" y="11959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423040" y="2863800"/>
            <a:ext cx="631800" cy="2259000"/>
          </a:xfrm>
          <a:custGeom>
            <a:avLst/>
            <a:gdLst/>
            <a:ahLst/>
            <a:rect l="l" t="t" r="r" b="b"/>
            <a:pathLst>
              <a:path w="1758" h="6272">
                <a:moveTo>
                  <a:pt x="16808" y="7957"/>
                </a:moveTo>
                <a:cubicBezTo>
                  <a:pt x="16820" y="8024"/>
                  <a:pt x="16808" y="8083"/>
                  <a:pt x="16794" y="8151"/>
                </a:cubicBezTo>
                <a:cubicBezTo>
                  <a:pt x="16783" y="8207"/>
                  <a:pt x="16770" y="8263"/>
                  <a:pt x="16757" y="8318"/>
                </a:cubicBezTo>
                <a:cubicBezTo>
                  <a:pt x="16741" y="8385"/>
                  <a:pt x="16727" y="8452"/>
                  <a:pt x="16716" y="8520"/>
                </a:cubicBezTo>
                <a:cubicBezTo>
                  <a:pt x="16701" y="8610"/>
                  <a:pt x="16665" y="8695"/>
                  <a:pt x="16642" y="8784"/>
                </a:cubicBezTo>
                <a:cubicBezTo>
                  <a:pt x="16613" y="8900"/>
                  <a:pt x="16591" y="9003"/>
                  <a:pt x="16591" y="9123"/>
                </a:cubicBezTo>
                <a:cubicBezTo>
                  <a:pt x="16591" y="9285"/>
                  <a:pt x="16583" y="9441"/>
                  <a:pt x="16565" y="9601"/>
                </a:cubicBezTo>
                <a:cubicBezTo>
                  <a:pt x="16559" y="9643"/>
                  <a:pt x="16557" y="9653"/>
                  <a:pt x="16563" y="9592"/>
                </a:cubicBezTo>
              </a:path>
              <a:path w="1758" h="6272">
                <a:moveTo>
                  <a:pt x="16392" y="9490"/>
                </a:moveTo>
                <a:cubicBezTo>
                  <a:pt x="16406" y="9549"/>
                  <a:pt x="16439" y="9612"/>
                  <a:pt x="16487" y="9656"/>
                </a:cubicBezTo>
                <a:cubicBezTo>
                  <a:pt x="16499" y="9663"/>
                  <a:pt x="16510" y="9671"/>
                  <a:pt x="16522" y="9678"/>
                </a:cubicBezTo>
                <a:cubicBezTo>
                  <a:pt x="16579" y="9613"/>
                  <a:pt x="16626" y="9538"/>
                  <a:pt x="16686" y="9476"/>
                </a:cubicBezTo>
                <a:cubicBezTo>
                  <a:pt x="16740" y="9429"/>
                  <a:pt x="16756" y="9414"/>
                  <a:pt x="16794" y="9387"/>
                </a:cubicBezTo>
              </a:path>
              <a:path w="1758" h="6272">
                <a:moveTo>
                  <a:pt x="16228" y="11252"/>
                </a:moveTo>
                <a:cubicBezTo>
                  <a:pt x="16230" y="11315"/>
                  <a:pt x="16224" y="11363"/>
                  <a:pt x="16205" y="11442"/>
                </a:cubicBezTo>
                <a:cubicBezTo>
                  <a:pt x="16172" y="11578"/>
                  <a:pt x="16129" y="11713"/>
                  <a:pt x="16080" y="11845"/>
                </a:cubicBezTo>
                <a:cubicBezTo>
                  <a:pt x="15961" y="12168"/>
                  <a:pt x="15837" y="12487"/>
                  <a:pt x="15734" y="12816"/>
                </a:cubicBezTo>
                <a:cubicBezTo>
                  <a:pt x="15671" y="13016"/>
                  <a:pt x="15574" y="13203"/>
                  <a:pt x="15494" y="13397"/>
                </a:cubicBezTo>
                <a:cubicBezTo>
                  <a:pt x="15445" y="13516"/>
                  <a:pt x="15408" y="13636"/>
                  <a:pt x="15365" y="13757"/>
                </a:cubicBezTo>
                <a:cubicBezTo>
                  <a:pt x="15321" y="13881"/>
                  <a:pt x="15234" y="14061"/>
                  <a:pt x="15219" y="14072"/>
                </a:cubicBezTo>
              </a:path>
              <a:path w="1758" h="6272">
                <a:moveTo>
                  <a:pt x="15081" y="13917"/>
                </a:moveTo>
                <a:cubicBezTo>
                  <a:pt x="15058" y="14001"/>
                  <a:pt x="15075" y="14029"/>
                  <a:pt x="15111" y="14108"/>
                </a:cubicBezTo>
                <a:cubicBezTo>
                  <a:pt x="15129" y="14148"/>
                  <a:pt x="15141" y="14186"/>
                  <a:pt x="15152" y="14228"/>
                </a:cubicBezTo>
                <a:cubicBezTo>
                  <a:pt x="15220" y="14182"/>
                  <a:pt x="15278" y="14125"/>
                  <a:pt x="15344" y="14076"/>
                </a:cubicBezTo>
                <a:cubicBezTo>
                  <a:pt x="15410" y="14028"/>
                  <a:pt x="15457" y="13977"/>
                  <a:pt x="15513" y="13917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164360" y="2144880"/>
            <a:ext cx="158760" cy="669600"/>
          </a:xfrm>
          <a:custGeom>
            <a:avLst/>
            <a:gdLst/>
            <a:ahLst/>
            <a:rect l="l" t="t" r="r" b="b"/>
            <a:pathLst>
              <a:path w="442" h="1860">
                <a:moveTo>
                  <a:pt x="20142" y="5957"/>
                </a:moveTo>
                <a:cubicBezTo>
                  <a:pt x="20191" y="6014"/>
                  <a:pt x="20163" y="6070"/>
                  <a:pt x="20154" y="6154"/>
                </a:cubicBezTo>
                <a:cubicBezTo>
                  <a:pt x="20139" y="6300"/>
                  <a:pt x="20133" y="6448"/>
                  <a:pt x="20128" y="6595"/>
                </a:cubicBezTo>
                <a:cubicBezTo>
                  <a:pt x="20124" y="6709"/>
                  <a:pt x="20121" y="6822"/>
                  <a:pt x="20121" y="6936"/>
                </a:cubicBezTo>
                <a:cubicBezTo>
                  <a:pt x="20120" y="7078"/>
                  <a:pt x="20138" y="7229"/>
                  <a:pt x="20121" y="7370"/>
                </a:cubicBezTo>
                <a:cubicBezTo>
                  <a:pt x="20110" y="7462"/>
                  <a:pt x="20067" y="7486"/>
                  <a:pt x="20013" y="7555"/>
                </a:cubicBezTo>
                <a:cubicBezTo>
                  <a:pt x="19973" y="7606"/>
                  <a:pt x="19976" y="7651"/>
                  <a:pt x="19976" y="7712"/>
                </a:cubicBezTo>
                <a:cubicBezTo>
                  <a:pt x="19976" y="7819"/>
                  <a:pt x="19989" y="7790"/>
                  <a:pt x="20001" y="7705"/>
                </a:cubicBezTo>
              </a:path>
              <a:path w="442" h="1860">
                <a:moveTo>
                  <a:pt x="19902" y="7555"/>
                </a:moveTo>
                <a:cubicBezTo>
                  <a:pt x="19917" y="7624"/>
                  <a:pt x="19938" y="7690"/>
                  <a:pt x="19958" y="7758"/>
                </a:cubicBezTo>
                <a:cubicBezTo>
                  <a:pt x="19994" y="7880"/>
                  <a:pt x="20074" y="7765"/>
                  <a:pt x="20124" y="7715"/>
                </a:cubicBezTo>
                <a:cubicBezTo>
                  <a:pt x="20177" y="7663"/>
                  <a:pt x="20234" y="7601"/>
                  <a:pt x="20278" y="7541"/>
                </a:cubicBezTo>
                <a:cubicBezTo>
                  <a:pt x="20315" y="7482"/>
                  <a:pt x="20326" y="7466"/>
                  <a:pt x="20343" y="7424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299440" y="2082960"/>
            <a:ext cx="333360" cy="552240"/>
          </a:xfrm>
          <a:custGeom>
            <a:avLst/>
            <a:gdLst/>
            <a:ahLst/>
            <a:rect l="l" t="t" r="r" b="b"/>
            <a:pathLst>
              <a:path w="925" h="1535">
                <a:moveTo>
                  <a:pt x="23054" y="5784"/>
                </a:moveTo>
                <a:cubicBezTo>
                  <a:pt x="23057" y="5848"/>
                  <a:pt x="23067" y="5903"/>
                  <a:pt x="23086" y="5964"/>
                </a:cubicBezTo>
                <a:cubicBezTo>
                  <a:pt x="23147" y="6165"/>
                  <a:pt x="23248" y="6371"/>
                  <a:pt x="23345" y="6556"/>
                </a:cubicBezTo>
                <a:cubicBezTo>
                  <a:pt x="23386" y="6635"/>
                  <a:pt x="23427" y="6719"/>
                  <a:pt x="23477" y="6793"/>
                </a:cubicBezTo>
                <a:cubicBezTo>
                  <a:pt x="23518" y="6854"/>
                  <a:pt x="23566" y="6917"/>
                  <a:pt x="23620" y="6967"/>
                </a:cubicBezTo>
                <a:cubicBezTo>
                  <a:pt x="23678" y="7020"/>
                  <a:pt x="23727" y="7079"/>
                  <a:pt x="23783" y="7135"/>
                </a:cubicBezTo>
                <a:cubicBezTo>
                  <a:pt x="23827" y="7178"/>
                  <a:pt x="23852" y="7232"/>
                  <a:pt x="23894" y="7276"/>
                </a:cubicBezTo>
                <a:cubicBezTo>
                  <a:pt x="23964" y="7349"/>
                  <a:pt x="23941" y="7309"/>
                  <a:pt x="23959" y="7273"/>
                </a:cubicBezTo>
              </a:path>
              <a:path w="925" h="1535">
                <a:moveTo>
                  <a:pt x="23446" y="7237"/>
                </a:moveTo>
                <a:cubicBezTo>
                  <a:pt x="23508" y="7273"/>
                  <a:pt x="23566" y="7290"/>
                  <a:pt x="23636" y="7306"/>
                </a:cubicBezTo>
                <a:cubicBezTo>
                  <a:pt x="23727" y="7326"/>
                  <a:pt x="23818" y="7322"/>
                  <a:pt x="23895" y="7262"/>
                </a:cubicBezTo>
                <a:cubicBezTo>
                  <a:pt x="23966" y="7207"/>
                  <a:pt x="23974" y="7150"/>
                  <a:pt x="23973" y="7068"/>
                </a:cubicBezTo>
                <a:cubicBezTo>
                  <a:pt x="23973" y="7031"/>
                  <a:pt x="23973" y="7018"/>
                  <a:pt x="23964" y="6994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597880" y="3259080"/>
            <a:ext cx="179280" cy="222480"/>
          </a:xfrm>
          <a:custGeom>
            <a:avLst/>
            <a:gdLst/>
            <a:ahLst/>
            <a:rect l="l" t="t" r="r" b="b"/>
            <a:pathLst>
              <a:path w="496" h="620">
                <a:moveTo>
                  <a:pt x="24102" y="9051"/>
                </a:moveTo>
                <a:cubicBezTo>
                  <a:pt x="24101" y="9126"/>
                  <a:pt x="24100" y="9200"/>
                  <a:pt x="24107" y="9275"/>
                </a:cubicBezTo>
                <a:cubicBezTo>
                  <a:pt x="24113" y="9339"/>
                  <a:pt x="24132" y="9401"/>
                  <a:pt x="24149" y="9463"/>
                </a:cubicBezTo>
                <a:cubicBezTo>
                  <a:pt x="24162" y="9512"/>
                  <a:pt x="24150" y="9633"/>
                  <a:pt x="24183" y="9544"/>
                </a:cubicBezTo>
              </a:path>
              <a:path w="496" h="620">
                <a:moveTo>
                  <a:pt x="23885" y="9500"/>
                </a:moveTo>
                <a:cubicBezTo>
                  <a:pt x="23918" y="9559"/>
                  <a:pt x="23975" y="9622"/>
                  <a:pt x="24038" y="9656"/>
                </a:cubicBezTo>
                <a:cubicBezTo>
                  <a:pt x="24119" y="9700"/>
                  <a:pt x="24157" y="9626"/>
                  <a:pt x="24211" y="9580"/>
                </a:cubicBezTo>
                <a:cubicBezTo>
                  <a:pt x="24277" y="9523"/>
                  <a:pt x="24333" y="9500"/>
                  <a:pt x="24380" y="9428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105520" y="594360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095880" y="5334120"/>
            <a:ext cx="685800" cy="68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361200" y="4991040"/>
            <a:ext cx="155520" cy="416160"/>
          </a:xfrm>
          <a:custGeom>
            <a:avLst/>
            <a:gdLst/>
            <a:ahLst/>
            <a:rect l="l" t="t" r="r" b="b"/>
            <a:pathLst>
              <a:path w="433" h="1159">
                <a:moveTo>
                  <a:pt x="17935" y="13862"/>
                </a:moveTo>
                <a:cubicBezTo>
                  <a:pt x="17952" y="13927"/>
                  <a:pt x="17937" y="13966"/>
                  <a:pt x="17926" y="14035"/>
                </a:cubicBezTo>
                <a:cubicBezTo>
                  <a:pt x="17916" y="14099"/>
                  <a:pt x="17915" y="14164"/>
                  <a:pt x="17911" y="14228"/>
                </a:cubicBezTo>
                <a:cubicBezTo>
                  <a:pt x="17906" y="14314"/>
                  <a:pt x="17904" y="14399"/>
                  <a:pt x="17900" y="14485"/>
                </a:cubicBezTo>
                <a:cubicBezTo>
                  <a:pt x="17896" y="14562"/>
                  <a:pt x="17893" y="14639"/>
                  <a:pt x="17889" y="14716"/>
                </a:cubicBezTo>
                <a:cubicBezTo>
                  <a:pt x="17885" y="14791"/>
                  <a:pt x="17878" y="15017"/>
                  <a:pt x="17872" y="14942"/>
                </a:cubicBezTo>
                <a:cubicBezTo>
                  <a:pt x="17872" y="14928"/>
                  <a:pt x="17873" y="14915"/>
                  <a:pt x="17873" y="14901"/>
                </a:cubicBezTo>
              </a:path>
              <a:path w="433" h="1159">
                <a:moveTo>
                  <a:pt x="17669" y="14847"/>
                </a:moveTo>
                <a:cubicBezTo>
                  <a:pt x="17698" y="14897"/>
                  <a:pt x="17710" y="14991"/>
                  <a:pt x="17769" y="15018"/>
                </a:cubicBezTo>
                <a:cubicBezTo>
                  <a:pt x="17852" y="15056"/>
                  <a:pt x="17945" y="14927"/>
                  <a:pt x="17985" y="14878"/>
                </a:cubicBezTo>
                <a:cubicBezTo>
                  <a:pt x="18023" y="14832"/>
                  <a:pt x="18058" y="14784"/>
                  <a:pt x="18080" y="14728"/>
                </a:cubicBezTo>
                <a:cubicBezTo>
                  <a:pt x="18087" y="14708"/>
                  <a:pt x="18094" y="14688"/>
                  <a:pt x="18101" y="14668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283360" y="5661000"/>
            <a:ext cx="220680" cy="387360"/>
          </a:xfrm>
          <a:custGeom>
            <a:avLst/>
            <a:gdLst/>
            <a:ahLst/>
            <a:rect l="l" t="t" r="r" b="b"/>
            <a:pathLst>
              <a:path w="613" h="1075">
                <a:moveTo>
                  <a:pt x="14960" y="15737"/>
                </a:moveTo>
                <a:cubicBezTo>
                  <a:pt x="15034" y="15740"/>
                  <a:pt x="14984" y="15811"/>
                  <a:pt x="14979" y="15894"/>
                </a:cubicBezTo>
                <a:cubicBezTo>
                  <a:pt x="14974" y="15987"/>
                  <a:pt x="14977" y="16080"/>
                  <a:pt x="14982" y="16173"/>
                </a:cubicBezTo>
                <a:cubicBezTo>
                  <a:pt x="14987" y="16272"/>
                  <a:pt x="14999" y="16370"/>
                  <a:pt x="15012" y="16468"/>
                </a:cubicBezTo>
                <a:cubicBezTo>
                  <a:pt x="15021" y="16539"/>
                  <a:pt x="15032" y="16609"/>
                  <a:pt x="15048" y="16679"/>
                </a:cubicBezTo>
                <a:cubicBezTo>
                  <a:pt x="15080" y="16822"/>
                  <a:pt x="15046" y="16661"/>
                  <a:pt x="15039" y="16641"/>
                </a:cubicBezTo>
              </a:path>
              <a:path w="613" h="1075">
                <a:moveTo>
                  <a:pt x="14677" y="16506"/>
                </a:moveTo>
                <a:cubicBezTo>
                  <a:pt x="14752" y="16526"/>
                  <a:pt x="14791" y="16598"/>
                  <a:pt x="14836" y="16667"/>
                </a:cubicBezTo>
                <a:cubicBezTo>
                  <a:pt x="14866" y="16712"/>
                  <a:pt x="14909" y="16838"/>
                  <a:pt x="14981" y="16780"/>
                </a:cubicBezTo>
                <a:cubicBezTo>
                  <a:pt x="15041" y="16731"/>
                  <a:pt x="15084" y="16646"/>
                  <a:pt x="15125" y="16582"/>
                </a:cubicBezTo>
                <a:cubicBezTo>
                  <a:pt x="15174" y="16506"/>
                  <a:pt x="15232" y="16436"/>
                  <a:pt x="15266" y="16351"/>
                </a:cubicBezTo>
                <a:cubicBezTo>
                  <a:pt x="15274" y="16329"/>
                  <a:pt x="15281" y="16308"/>
                  <a:pt x="15289" y="16286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410080" y="4343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Web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01520" y="3038400"/>
            <a:ext cx="5100840" cy="336600"/>
          </a:xfrm>
          <a:custGeom>
            <a:avLst/>
            <a:gdLst/>
            <a:ahLst/>
            <a:rect l="l" t="t" r="r" b="b"/>
            <a:pathLst>
              <a:path w="14169" h="936">
                <a:moveTo>
                  <a:pt x="282" y="9278"/>
                </a:moveTo>
                <a:cubicBezTo>
                  <a:pt x="896" y="9204"/>
                  <a:pt x="1511" y="9139"/>
                  <a:pt x="2125" y="9061"/>
                </a:cubicBezTo>
                <a:cubicBezTo>
                  <a:pt x="2622" y="8998"/>
                  <a:pt x="3104" y="8918"/>
                  <a:pt x="3607" y="8948"/>
                </a:cubicBezTo>
                <a:cubicBezTo>
                  <a:pt x="4236" y="8986"/>
                  <a:pt x="4789" y="9043"/>
                  <a:pt x="5413" y="8918"/>
                </a:cubicBezTo>
                <a:cubicBezTo>
                  <a:pt x="6146" y="8771"/>
                  <a:pt x="6794" y="8632"/>
                  <a:pt x="7546" y="8703"/>
                </a:cubicBezTo>
                <a:cubicBezTo>
                  <a:pt x="8101" y="8756"/>
                  <a:pt x="8595" y="8588"/>
                  <a:pt x="9140" y="8537"/>
                </a:cubicBezTo>
                <a:cubicBezTo>
                  <a:pt x="9744" y="8480"/>
                  <a:pt x="10328" y="8443"/>
                  <a:pt x="10934" y="8475"/>
                </a:cubicBezTo>
                <a:cubicBezTo>
                  <a:pt x="11350" y="8497"/>
                  <a:pt x="11758" y="8479"/>
                  <a:pt x="12173" y="8527"/>
                </a:cubicBezTo>
                <a:cubicBezTo>
                  <a:pt x="12549" y="8571"/>
                  <a:pt x="12969" y="8621"/>
                  <a:pt x="13317" y="8775"/>
                </a:cubicBezTo>
                <a:cubicBezTo>
                  <a:pt x="13575" y="8889"/>
                  <a:pt x="13809" y="9063"/>
                  <a:pt x="14063" y="9190"/>
                </a:cubicBezTo>
                <a:cubicBezTo>
                  <a:pt x="14183" y="9250"/>
                  <a:pt x="14298" y="9319"/>
                  <a:pt x="14413" y="9372"/>
                </a:cubicBezTo>
                <a:cubicBezTo>
                  <a:pt x="14425" y="9373"/>
                  <a:pt x="14438" y="9374"/>
                  <a:pt x="14450" y="9375"/>
                </a:cubicBezTo>
              </a:path>
            </a:pathLst>
          </a:custGeom>
          <a:noFill/>
          <a:ln cap="rnd" w="19080">
            <a:solidFill>
              <a:srgbClr val="fbdf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11240" y="4098960"/>
            <a:ext cx="4733640" cy="239760"/>
          </a:xfrm>
          <a:custGeom>
            <a:avLst/>
            <a:gdLst/>
            <a:ahLst/>
            <a:rect l="l" t="t" r="r" b="b"/>
            <a:pathLst>
              <a:path w="13152" h="668">
                <a:moveTo>
                  <a:pt x="346" y="12005"/>
                </a:moveTo>
                <a:cubicBezTo>
                  <a:pt x="333" y="12015"/>
                  <a:pt x="320" y="12025"/>
                  <a:pt x="307" y="12035"/>
                </a:cubicBezTo>
                <a:cubicBezTo>
                  <a:pt x="535" y="12012"/>
                  <a:pt x="765" y="11990"/>
                  <a:pt x="1000" y="11986"/>
                </a:cubicBezTo>
                <a:cubicBezTo>
                  <a:pt x="1389" y="11980"/>
                  <a:pt x="1775" y="11932"/>
                  <a:pt x="2164" y="11912"/>
                </a:cubicBezTo>
                <a:cubicBezTo>
                  <a:pt x="3441" y="11846"/>
                  <a:pt x="4746" y="11936"/>
                  <a:pt x="6017" y="11799"/>
                </a:cubicBezTo>
                <a:cubicBezTo>
                  <a:pt x="6429" y="11755"/>
                  <a:pt x="6811" y="11698"/>
                  <a:pt x="7227" y="11693"/>
                </a:cubicBezTo>
                <a:cubicBezTo>
                  <a:pt x="8047" y="11684"/>
                  <a:pt x="8871" y="11617"/>
                  <a:pt x="9689" y="11555"/>
                </a:cubicBezTo>
                <a:cubicBezTo>
                  <a:pt x="10246" y="11513"/>
                  <a:pt x="10805" y="11405"/>
                  <a:pt x="11363" y="11386"/>
                </a:cubicBezTo>
                <a:cubicBezTo>
                  <a:pt x="11772" y="11372"/>
                  <a:pt x="12068" y="11517"/>
                  <a:pt x="12451" y="11617"/>
                </a:cubicBezTo>
                <a:cubicBezTo>
                  <a:pt x="12773" y="11701"/>
                  <a:pt x="13127" y="11662"/>
                  <a:pt x="13458" y="11663"/>
                </a:cubicBezTo>
              </a:path>
            </a:pathLst>
          </a:custGeom>
          <a:noFill/>
          <a:ln cap="rnd" w="19080">
            <a:solidFill>
              <a:srgbClr val="fbdf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467400" y="1254240"/>
            <a:ext cx="2646360" cy="1807920"/>
          </a:xfrm>
          <a:custGeom>
            <a:avLst/>
            <a:gdLst/>
            <a:ahLst/>
            <a:rect l="l" t="t" r="r" b="b"/>
            <a:pathLst>
              <a:path w="7349" h="5024">
                <a:moveTo>
                  <a:pt x="17967" y="8417"/>
                </a:moveTo>
                <a:cubicBezTo>
                  <a:pt x="17989" y="8461"/>
                  <a:pt x="17997" y="8474"/>
                  <a:pt x="17988" y="8507"/>
                </a:cubicBezTo>
                <a:cubicBezTo>
                  <a:pt x="18097" y="8161"/>
                  <a:pt x="18132" y="7813"/>
                  <a:pt x="18152" y="7449"/>
                </a:cubicBezTo>
                <a:cubicBezTo>
                  <a:pt x="18169" y="7139"/>
                  <a:pt x="18188" y="6920"/>
                  <a:pt x="18304" y="6630"/>
                </a:cubicBezTo>
                <a:cubicBezTo>
                  <a:pt x="18361" y="6488"/>
                  <a:pt x="18414" y="6345"/>
                  <a:pt x="18463" y="6202"/>
                </a:cubicBezTo>
                <a:cubicBezTo>
                  <a:pt x="18552" y="5944"/>
                  <a:pt x="18674" y="5705"/>
                  <a:pt x="18752" y="5442"/>
                </a:cubicBezTo>
                <a:cubicBezTo>
                  <a:pt x="18836" y="5158"/>
                  <a:pt x="18817" y="4879"/>
                  <a:pt x="18874" y="4597"/>
                </a:cubicBezTo>
                <a:cubicBezTo>
                  <a:pt x="18922" y="4360"/>
                  <a:pt x="19080" y="4040"/>
                  <a:pt x="19249" y="3866"/>
                </a:cubicBezTo>
                <a:cubicBezTo>
                  <a:pt x="19345" y="3768"/>
                  <a:pt x="19460" y="3742"/>
                  <a:pt x="19579" y="3687"/>
                </a:cubicBezTo>
                <a:cubicBezTo>
                  <a:pt x="19896" y="3541"/>
                  <a:pt x="20150" y="3447"/>
                  <a:pt x="20486" y="3549"/>
                </a:cubicBezTo>
                <a:cubicBezTo>
                  <a:pt x="20820" y="3651"/>
                  <a:pt x="21099" y="3878"/>
                  <a:pt x="21276" y="4173"/>
                </a:cubicBezTo>
                <a:cubicBezTo>
                  <a:pt x="21378" y="4343"/>
                  <a:pt x="21361" y="4491"/>
                  <a:pt x="21394" y="4678"/>
                </a:cubicBezTo>
                <a:cubicBezTo>
                  <a:pt x="21441" y="4944"/>
                  <a:pt x="21517" y="5226"/>
                  <a:pt x="21620" y="5475"/>
                </a:cubicBezTo>
                <a:cubicBezTo>
                  <a:pt x="21758" y="5807"/>
                  <a:pt x="21788" y="6245"/>
                  <a:pt x="21975" y="6544"/>
                </a:cubicBezTo>
                <a:cubicBezTo>
                  <a:pt x="22133" y="6796"/>
                  <a:pt x="22353" y="6873"/>
                  <a:pt x="22634" y="6858"/>
                </a:cubicBezTo>
                <a:cubicBezTo>
                  <a:pt x="23153" y="6829"/>
                  <a:pt x="23628" y="6597"/>
                  <a:pt x="24121" y="6459"/>
                </a:cubicBezTo>
                <a:cubicBezTo>
                  <a:pt x="24523" y="6346"/>
                  <a:pt x="24909" y="6297"/>
                  <a:pt x="25315" y="6354"/>
                </a:cubicBezTo>
              </a:path>
            </a:pathLst>
          </a:custGeom>
          <a:noFill/>
          <a:ln cap="rnd" w="19080">
            <a:solidFill>
              <a:srgbClr val="fbdf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516720" y="2556000"/>
            <a:ext cx="2598840" cy="1523880"/>
          </a:xfrm>
          <a:custGeom>
            <a:avLst/>
            <a:gdLst/>
            <a:ahLst/>
            <a:rect l="l" t="t" r="r" b="b"/>
            <a:pathLst>
              <a:path w="7221" h="4234">
                <a:moveTo>
                  <a:pt x="18101" y="11333"/>
                </a:moveTo>
                <a:cubicBezTo>
                  <a:pt x="18257" y="11160"/>
                  <a:pt x="18397" y="11020"/>
                  <a:pt x="18445" y="10783"/>
                </a:cubicBezTo>
                <a:cubicBezTo>
                  <a:pt x="18472" y="10652"/>
                  <a:pt x="18477" y="10511"/>
                  <a:pt x="18496" y="10377"/>
                </a:cubicBezTo>
                <a:cubicBezTo>
                  <a:pt x="18520" y="10207"/>
                  <a:pt x="18507" y="10043"/>
                  <a:pt x="18514" y="9872"/>
                </a:cubicBezTo>
                <a:cubicBezTo>
                  <a:pt x="18521" y="9690"/>
                  <a:pt x="18546" y="9507"/>
                  <a:pt x="18556" y="9324"/>
                </a:cubicBezTo>
                <a:cubicBezTo>
                  <a:pt x="18570" y="9059"/>
                  <a:pt x="18618" y="8824"/>
                  <a:pt x="18657" y="8565"/>
                </a:cubicBezTo>
                <a:cubicBezTo>
                  <a:pt x="18689" y="8351"/>
                  <a:pt x="18708" y="8158"/>
                  <a:pt x="18773" y="7950"/>
                </a:cubicBezTo>
                <a:cubicBezTo>
                  <a:pt x="18835" y="7753"/>
                  <a:pt x="18885" y="7611"/>
                  <a:pt x="19054" y="7477"/>
                </a:cubicBezTo>
                <a:cubicBezTo>
                  <a:pt x="19207" y="7356"/>
                  <a:pt x="19401" y="7261"/>
                  <a:pt x="19583" y="7190"/>
                </a:cubicBezTo>
                <a:cubicBezTo>
                  <a:pt x="19701" y="7144"/>
                  <a:pt x="19804" y="7140"/>
                  <a:pt x="19927" y="7123"/>
                </a:cubicBezTo>
                <a:cubicBezTo>
                  <a:pt x="20264" y="7077"/>
                  <a:pt x="20707" y="7069"/>
                  <a:pt x="21033" y="7158"/>
                </a:cubicBezTo>
                <a:cubicBezTo>
                  <a:pt x="21181" y="7198"/>
                  <a:pt x="21337" y="7282"/>
                  <a:pt x="21467" y="7362"/>
                </a:cubicBezTo>
                <a:cubicBezTo>
                  <a:pt x="21688" y="7498"/>
                  <a:pt x="21802" y="7661"/>
                  <a:pt x="21876" y="7900"/>
                </a:cubicBezTo>
                <a:cubicBezTo>
                  <a:pt x="21932" y="8081"/>
                  <a:pt x="21976" y="8231"/>
                  <a:pt x="22073" y="8398"/>
                </a:cubicBezTo>
                <a:cubicBezTo>
                  <a:pt x="22139" y="8510"/>
                  <a:pt x="22179" y="8640"/>
                  <a:pt x="22243" y="8745"/>
                </a:cubicBezTo>
                <a:cubicBezTo>
                  <a:pt x="22297" y="8832"/>
                  <a:pt x="22378" y="8943"/>
                  <a:pt x="22461" y="9005"/>
                </a:cubicBezTo>
                <a:cubicBezTo>
                  <a:pt x="22792" y="9252"/>
                  <a:pt x="23477" y="9125"/>
                  <a:pt x="23869" y="9148"/>
                </a:cubicBezTo>
                <a:cubicBezTo>
                  <a:pt x="24081" y="9161"/>
                  <a:pt x="24275" y="9148"/>
                  <a:pt x="24486" y="9135"/>
                </a:cubicBezTo>
                <a:cubicBezTo>
                  <a:pt x="24722" y="9120"/>
                  <a:pt x="25212" y="9099"/>
                  <a:pt x="25269" y="9086"/>
                </a:cubicBezTo>
              </a:path>
            </a:pathLst>
          </a:custGeom>
          <a:noFill/>
          <a:ln cap="rnd" w="19080">
            <a:solidFill>
              <a:srgbClr val="fbdf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807080" y="3056040"/>
            <a:ext cx="1758960" cy="1301760"/>
          </a:xfrm>
          <a:custGeom>
            <a:avLst/>
            <a:gdLst/>
            <a:ahLst/>
            <a:rect l="l" t="t" r="r" b="b"/>
            <a:pathLst>
              <a:path w="4884" h="3617">
                <a:moveTo>
                  <a:pt x="14455" y="9405"/>
                </a:moveTo>
                <a:cubicBezTo>
                  <a:pt x="14507" y="9467"/>
                  <a:pt x="14513" y="9486"/>
                  <a:pt x="14591" y="9523"/>
                </a:cubicBezTo>
                <a:cubicBezTo>
                  <a:pt x="14731" y="9589"/>
                  <a:pt x="14891" y="9585"/>
                  <a:pt x="15041" y="9585"/>
                </a:cubicBezTo>
                <a:cubicBezTo>
                  <a:pt x="15156" y="9585"/>
                  <a:pt x="15273" y="9579"/>
                  <a:pt x="15386" y="9562"/>
                </a:cubicBezTo>
                <a:cubicBezTo>
                  <a:pt x="15442" y="9553"/>
                  <a:pt x="15559" y="9550"/>
                  <a:pt x="15605" y="9521"/>
                </a:cubicBezTo>
                <a:cubicBezTo>
                  <a:pt x="15708" y="9457"/>
                  <a:pt x="15707" y="9410"/>
                  <a:pt x="15841" y="9403"/>
                </a:cubicBezTo>
                <a:cubicBezTo>
                  <a:pt x="16098" y="9389"/>
                  <a:pt x="16360" y="9388"/>
                  <a:pt x="16618" y="9382"/>
                </a:cubicBezTo>
                <a:cubicBezTo>
                  <a:pt x="16753" y="9379"/>
                  <a:pt x="16886" y="9378"/>
                  <a:pt x="17020" y="9363"/>
                </a:cubicBezTo>
                <a:cubicBezTo>
                  <a:pt x="17204" y="9343"/>
                  <a:pt x="17397" y="9342"/>
                  <a:pt x="17572" y="9276"/>
                </a:cubicBezTo>
                <a:cubicBezTo>
                  <a:pt x="17631" y="9254"/>
                  <a:pt x="17684" y="9234"/>
                  <a:pt x="17711" y="9174"/>
                </a:cubicBezTo>
                <a:cubicBezTo>
                  <a:pt x="17741" y="9106"/>
                  <a:pt x="17698" y="9047"/>
                  <a:pt x="17745" y="8982"/>
                </a:cubicBezTo>
                <a:cubicBezTo>
                  <a:pt x="17811" y="8891"/>
                  <a:pt x="17850" y="8862"/>
                  <a:pt x="17875" y="8745"/>
                </a:cubicBezTo>
                <a:cubicBezTo>
                  <a:pt x="17886" y="8695"/>
                  <a:pt x="17879" y="8630"/>
                  <a:pt x="17905" y="8585"/>
                </a:cubicBezTo>
                <a:cubicBezTo>
                  <a:pt x="17931" y="8540"/>
                  <a:pt x="17969" y="8523"/>
                  <a:pt x="18004" y="8488"/>
                </a:cubicBezTo>
              </a:path>
              <a:path w="4884" h="3617">
                <a:moveTo>
                  <a:pt x="13354" y="11705"/>
                </a:moveTo>
                <a:cubicBezTo>
                  <a:pt x="13374" y="11740"/>
                  <a:pt x="13381" y="11752"/>
                  <a:pt x="13411" y="11756"/>
                </a:cubicBezTo>
                <a:cubicBezTo>
                  <a:pt x="13458" y="11681"/>
                  <a:pt x="13404" y="11686"/>
                  <a:pt x="13501" y="11663"/>
                </a:cubicBezTo>
                <a:cubicBezTo>
                  <a:pt x="13666" y="11624"/>
                  <a:pt x="14171" y="11601"/>
                  <a:pt x="14300" y="11709"/>
                </a:cubicBezTo>
                <a:cubicBezTo>
                  <a:pt x="14361" y="11760"/>
                  <a:pt x="14364" y="11775"/>
                  <a:pt x="14441" y="11809"/>
                </a:cubicBezTo>
                <a:cubicBezTo>
                  <a:pt x="14497" y="11834"/>
                  <a:pt x="14550" y="11856"/>
                  <a:pt x="14603" y="11892"/>
                </a:cubicBezTo>
                <a:cubicBezTo>
                  <a:pt x="14657" y="11928"/>
                  <a:pt x="14701" y="11969"/>
                  <a:pt x="14762" y="11994"/>
                </a:cubicBezTo>
                <a:cubicBezTo>
                  <a:pt x="14875" y="12041"/>
                  <a:pt x="15014" y="12060"/>
                  <a:pt x="15134" y="12083"/>
                </a:cubicBezTo>
                <a:cubicBezTo>
                  <a:pt x="15344" y="12123"/>
                  <a:pt x="15565" y="12096"/>
                  <a:pt x="15774" y="12058"/>
                </a:cubicBezTo>
                <a:cubicBezTo>
                  <a:pt x="15914" y="12032"/>
                  <a:pt x="16052" y="11997"/>
                  <a:pt x="16191" y="11966"/>
                </a:cubicBezTo>
                <a:cubicBezTo>
                  <a:pt x="16459" y="11906"/>
                  <a:pt x="16727" y="11864"/>
                  <a:pt x="16997" y="11815"/>
                </a:cubicBezTo>
                <a:cubicBezTo>
                  <a:pt x="17238" y="11771"/>
                  <a:pt x="17450" y="11726"/>
                  <a:pt x="17678" y="11654"/>
                </a:cubicBezTo>
                <a:cubicBezTo>
                  <a:pt x="17747" y="11632"/>
                  <a:pt x="17799" y="11643"/>
                  <a:pt x="17870" y="11638"/>
                </a:cubicBezTo>
                <a:cubicBezTo>
                  <a:pt x="17929" y="11634"/>
                  <a:pt x="17979" y="11626"/>
                  <a:pt x="18030" y="11594"/>
                </a:cubicBezTo>
                <a:cubicBezTo>
                  <a:pt x="18086" y="11559"/>
                  <a:pt x="18099" y="11498"/>
                  <a:pt x="18135" y="11449"/>
                </a:cubicBezTo>
                <a:cubicBezTo>
                  <a:pt x="18174" y="11395"/>
                  <a:pt x="18203" y="11346"/>
                  <a:pt x="18237" y="11289"/>
                </a:cubicBezTo>
              </a:path>
            </a:pathLst>
          </a:custGeom>
          <a:noFill/>
          <a:ln cap="rnd" w="19080">
            <a:solidFill>
              <a:srgbClr val="fbdf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419720" y="2971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Myriad Web"/>
              </a:rPr>
              <a:t>expose (s) { …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 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yriad Web"/>
              </a:rPr>
              <a:t>Summary of object invariants</a:t>
            </a: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Myriad Web"/>
              </a:rPr>
              <a:t>invariant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Myriad Web"/>
              </a:rPr>
              <a:t>owned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T f;</a:t>
            </a: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Myriad Web"/>
              </a:rPr>
              <a:t>inv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:  { Mutable, Valid, Committed }</a:t>
            </a: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Myriad Web"/>
              </a:rPr>
              <a:t>expose</a:t>
            </a: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updates of  o.f  require  o.</a:t>
            </a:r>
            <a:r>
              <a:rPr b="0" lang="en-US" sz="2800" spc="-1" strike="noStrike">
                <a:solidFill>
                  <a:srgbClr val="cc3300"/>
                </a:solidFill>
                <a:latin typeface="Myriad Web"/>
              </a:rPr>
              <a:t>inv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= Mutable</a:t>
            </a: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In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Myriad Web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(o) can mention only the fields of o and the fields of </a:t>
            </a:r>
            <a:r>
              <a:rPr b="0" lang="en-US" sz="2800" spc="-1" strike="noStrike">
                <a:solidFill>
                  <a:srgbClr val="3333cc"/>
                </a:solidFill>
                <a:latin typeface="Myriad Web"/>
              </a:rPr>
              <a:t>owned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fields</a:t>
            </a: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example:  </a:t>
            </a:r>
            <a:r>
              <a:rPr b="0" lang="en-US" sz="2400" spc="-1" strike="noStrike">
                <a:solidFill>
                  <a:srgbClr val="3333cc"/>
                </a:solidFill>
                <a:latin typeface="Myriad Web"/>
              </a:rPr>
              <a:t>invariant this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.n = </a:t>
            </a:r>
            <a:r>
              <a:rPr b="0" lang="en-US" sz="2400" spc="-1" strike="noStrike">
                <a:solidFill>
                  <a:srgbClr val="3333cc"/>
                </a:solidFill>
                <a:latin typeface="Myriad Web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.h.Count;</a:t>
            </a:r>
            <a:endParaRPr b="0" lang="en-US" sz="2400" spc="-1" strike="noStrike">
              <a:solidFill>
                <a:srgbClr val="000000"/>
              </a:solidFill>
              <a:latin typeface="Myriad Web"/>
            </a:endParaRPr>
          </a:p>
          <a:p>
            <a:pPr marL="332640" indent="-33264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Myriad Web"/>
              </a:rPr>
              <a:t>(</a:t>
            </a:r>
            <a:r>
              <a:rPr b="0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9900"/>
                </a:solidFill>
                <a:latin typeface="Myriad Web"/>
                <a:ea typeface="HGPSoeiKakupoptai"/>
              </a:rPr>
              <a:t>o </a:t>
            </a:r>
            <a:r>
              <a:rPr b="0" lang="en-US" sz="2800" spc="-1" strike="noStrike">
                <a:solidFill>
                  <a:srgbClr val="009900"/>
                </a:solidFill>
                <a:latin typeface="Myriad Web"/>
                <a:ea typeface="HGPSoeiKakupoptai"/>
              </a:rPr>
              <a:t>･  </a:t>
            </a:r>
            <a:r>
              <a:rPr b="0" lang="en-US" sz="2800" spc="-1" strike="noStrike">
                <a:solidFill>
                  <a:srgbClr val="009900"/>
                </a:solidFill>
                <a:latin typeface="Myriad Web"/>
                <a:ea typeface="HGPSoeiKakupoptai"/>
              </a:rPr>
              <a:t>o.</a:t>
            </a:r>
            <a:r>
              <a:rPr b="0" lang="en-US" sz="2800" spc="-1" strike="noStrike">
                <a:solidFill>
                  <a:srgbClr val="cc3300"/>
                </a:solidFill>
                <a:latin typeface="Myriad Web"/>
                <a:ea typeface="HGPSoeiKakupoptai"/>
              </a:rPr>
              <a:t>inv</a:t>
            </a:r>
            <a:r>
              <a:rPr b="0" lang="en-US" sz="2800" spc="-1" strike="noStrike">
                <a:solidFill>
                  <a:srgbClr val="009900"/>
                </a:solidFill>
                <a:latin typeface="Myriad Web"/>
                <a:ea typeface="HGPSoeiKakupoptai"/>
              </a:rPr>
              <a:t> = Mutable  </a:t>
            </a:r>
            <a:r>
              <a:rPr b="0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9900"/>
                </a:solidFill>
                <a:latin typeface="Myriad Web"/>
                <a:ea typeface="HGPSoeiKakupoptai"/>
              </a:rPr>
              <a:t>  Inv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Myriad Web"/>
                <a:ea typeface="HGPSoeiKakupopta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Myriad Web"/>
                <a:ea typeface="HGPSoeiKakupoptai"/>
              </a:rPr>
              <a:t>(o))</a:t>
            </a: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  <a:p>
            <a:pPr marL="332640" indent="-33264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Myriad Web"/>
              </a:rPr>
              <a:t>(</a:t>
            </a:r>
            <a:r>
              <a:rPr b="0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9900"/>
                </a:solidFill>
                <a:latin typeface="Myriad Web"/>
                <a:ea typeface="HGPSoeiKakupoptai"/>
              </a:rPr>
              <a:t>o </a:t>
            </a:r>
            <a:r>
              <a:rPr b="0" lang="en-US" sz="2800" spc="-1" strike="noStrike">
                <a:solidFill>
                  <a:srgbClr val="009900"/>
                </a:solidFill>
                <a:latin typeface="Myriad Web"/>
                <a:ea typeface="HGPSoeiKakupoptai"/>
              </a:rPr>
              <a:t>･  </a:t>
            </a:r>
            <a:r>
              <a:rPr b="0" lang="en-US" sz="2800" spc="-1" strike="noStrike">
                <a:solidFill>
                  <a:srgbClr val="009900"/>
                </a:solidFill>
                <a:latin typeface="Myriad Web"/>
                <a:ea typeface="HGPSoeiKakupoptai"/>
              </a:rPr>
              <a:t>o.</a:t>
            </a:r>
            <a:r>
              <a:rPr b="0" lang="en-US" sz="2800" spc="-1" strike="noStrike">
                <a:solidFill>
                  <a:srgbClr val="cc3300"/>
                </a:solidFill>
                <a:latin typeface="Myriad Web"/>
                <a:ea typeface="HGPSoeiKakupoptai"/>
              </a:rPr>
              <a:t>inv</a:t>
            </a:r>
            <a:r>
              <a:rPr b="0" lang="en-US" sz="2800" spc="-1" strike="noStrike">
                <a:solidFill>
                  <a:srgbClr val="009900"/>
                </a:solidFill>
                <a:latin typeface="Myriad Web"/>
                <a:ea typeface="HGPSoeiKakupoptai"/>
              </a:rPr>
              <a:t> = Mutable  </a:t>
            </a:r>
            <a:r>
              <a:rPr b="0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9900"/>
                </a:solidFill>
                <a:latin typeface="Myriad Web"/>
                <a:ea typeface="HGPSoeiKakupoptai"/>
              </a:rPr>
              <a:t>  o.f.</a:t>
            </a:r>
            <a:r>
              <a:rPr b="0" lang="en-US" sz="2800" spc="-1" strike="noStrike">
                <a:solidFill>
                  <a:srgbClr val="cc3300"/>
                </a:solidFill>
                <a:latin typeface="Myriad Web"/>
                <a:ea typeface="HGPSoeiKakupoptai"/>
              </a:rPr>
              <a:t>inv</a:t>
            </a:r>
            <a:r>
              <a:rPr b="0" lang="en-US" sz="2800" spc="-1" strike="noStrike">
                <a:solidFill>
                  <a:srgbClr val="009900"/>
                </a:solidFill>
                <a:latin typeface="Myriad Web"/>
                <a:ea typeface="HGPSoeiKakupoptai"/>
              </a:rPr>
              <a:t> = Committed)</a:t>
            </a: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yriad Web"/>
              </a:rPr>
              <a:t>Summary</a:t>
            </a: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09120" y="1341000"/>
            <a:ext cx="80773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Programming/specification language</a:t>
            </a: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Programming/specification methodology</a:t>
            </a: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object invariants</a:t>
            </a: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frame conditions</a:t>
            </a: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Semantics in terms of core language</a:t>
            </a: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VC generation</a:t>
            </a: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VCs for good prover performance</a:t>
            </a: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71600" y="2666880"/>
            <a:ext cx="6934320" cy="3657600"/>
          </a:xfrm>
          <a:prstGeom prst="roundRect">
            <a:avLst>
              <a:gd name="adj" fmla="val 16667"/>
            </a:avLst>
          </a:prstGeom>
          <a:solidFill>
            <a:srgbClr val="ff99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yriad Web"/>
              </a:rPr>
              <a:t>Spec# verifier architecture</a:t>
            </a: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99" name=""/>
          <p:cNvSpPr/>
          <p:nvPr/>
        </p:nvSpPr>
        <p:spPr>
          <a:xfrm>
            <a:off x="2666880" y="4403880"/>
            <a:ext cx="2210040" cy="45720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V.C.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54547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automati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theorem p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71800" y="49086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verification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2193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Spec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67080" y="62928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correct” or list of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1676520"/>
            <a:ext cx="2361960" cy="53316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Spec# comp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286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MSIL (“bytecod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2895480"/>
            <a:ext cx="2286000" cy="45720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trans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3657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Boogie 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3048120"/>
            <a:ext cx="2590920" cy="60948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inference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3390000">
            <a:off x="113760" y="3078000"/>
            <a:ext cx="6400800" cy="1752840"/>
          </a:xfrm>
          <a:prstGeom prst="rightArrow">
            <a:avLst>
              <a:gd name="adj1" fmla="val 50000"/>
              <a:gd name="adj2" fmla="val 91292"/>
            </a:avLst>
          </a:prstGeom>
          <a:solidFill>
            <a:srgbClr val="96969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4981200">
            <a:off x="3892680" y="1667520"/>
            <a:ext cx="1128960" cy="3886200"/>
          </a:xfrm>
          <a:custGeom>
            <a:avLst/>
            <a:gdLst>
              <a:gd name="textAreaLeft" fmla="*/ 0 w 1128960"/>
              <a:gd name="textAreaRight" fmla="*/ 1129320 w 1128960"/>
              <a:gd name="textAreaTop" fmla="*/ 0 h 3886200"/>
              <a:gd name="textAreaBottom" fmla="*/ 3886560 h 3886200"/>
            </a:gdLst>
            <a:ahLst/>
            <a:rect l="textAreaLeft" t="textAreaTop" r="textAreaRight" b="textAreaBottom"/>
            <a:pathLst>
              <a:path w="21600" h="21600">
                <a:moveTo>
                  <a:pt x="5234" y="10146"/>
                </a:moveTo>
                <a:arcTo wR="-5604" hR="-5604" stAng="-10397912" swAng="-17308462"/>
                <a:lnTo>
                  <a:pt x="13004" y="21373"/>
                </a:lnTo>
                <a:arcTo wR="10800" hR="10800" stAng="4693626" swAng="17308462"/>
                <a:lnTo>
                  <a:pt x="24208" y="12375"/>
                </a:lnTo>
                <a:lnTo>
                  <a:pt x="18328" y="17019"/>
                </a:lnTo>
                <a:lnTo>
                  <a:pt x="13684" y="11139"/>
                </a:lnTo>
                <a:close/>
              </a:path>
            </a:pathLst>
          </a:custGeom>
          <a:solidFill>
            <a:srgbClr val="96969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10080" y="2362320"/>
            <a:ext cx="28958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Web"/>
              </a:rPr>
              <a:t>Spec# program ver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yriad Web"/>
              </a:rPr>
              <a:t>Core language</a:t>
            </a: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Program outcomes:</a:t>
            </a: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terminate</a:t>
            </a: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go wrong</a:t>
            </a: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block</a:t>
            </a: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diverge</a:t>
            </a: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yriad Web"/>
              </a:rPr>
              <a:t>Core language</a:t>
            </a: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x := E</a:t>
            </a:r>
            <a:endParaRPr b="0" lang="en-US" sz="2400" spc="-1" strike="noStrike">
              <a:solidFill>
                <a:srgbClr val="000000"/>
              </a:solidFill>
              <a:latin typeface="Myriad Web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evaluate E and change x to that value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Myriad Web"/>
              </a:rPr>
              <a:t>havoc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 x</a:t>
            </a:r>
            <a:endParaRPr b="0" lang="en-US" sz="2400" spc="-1" strike="noStrike">
              <a:solidFill>
                <a:srgbClr val="000000"/>
              </a:solidFill>
              <a:latin typeface="Myriad Web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change x to an arbitrary value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Myriad Web"/>
              </a:rPr>
              <a:t>assert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 E</a:t>
            </a:r>
            <a:endParaRPr b="0" lang="en-US" sz="2400" spc="-1" strike="noStrike">
              <a:solidFill>
                <a:srgbClr val="000000"/>
              </a:solidFill>
              <a:latin typeface="Myriad Web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if E holds, terminate; otherwise, go wrong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Myriad Web"/>
              </a:rPr>
              <a:t>assume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 E</a:t>
            </a:r>
            <a:endParaRPr b="0" lang="en-US" sz="2400" spc="-1" strike="noStrike">
              <a:solidFill>
                <a:srgbClr val="000000"/>
              </a:solidFill>
              <a:latin typeface="Myriad Web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if E holds, terminate; otherwise, block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S ; T</a:t>
            </a:r>
            <a:endParaRPr b="0" lang="en-US" sz="2400" spc="-1" strike="noStrike">
              <a:solidFill>
                <a:srgbClr val="000000"/>
              </a:solidFill>
              <a:latin typeface="Myriad Web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execute S, then T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S [] T           </a:t>
            </a:r>
            <a:r>
              <a:rPr b="0" i="1" lang="en-US" sz="2400" spc="-1" strike="noStrike">
                <a:solidFill>
                  <a:srgbClr val="000000"/>
                </a:solidFill>
                <a:latin typeface="Myriad Web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            </a:t>
            </a:r>
            <a:r>
              <a:rPr b="0" lang="en-US" sz="2400" spc="-1" strike="noStrike">
                <a:solidFill>
                  <a:srgbClr val="3333cc"/>
                </a:solidFill>
                <a:latin typeface="Myriad Web"/>
              </a:rPr>
              <a:t>goto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 A </a:t>
            </a:r>
            <a:r>
              <a:rPr b="0" lang="en-US" sz="2400" spc="-1" strike="noStrike">
                <a:solidFill>
                  <a:srgbClr val="3333cc"/>
                </a:solidFill>
                <a:latin typeface="Myriad Web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 B;</a:t>
            </a:r>
            <a:endParaRPr b="0" lang="en-US" sz="2400" spc="-1" strike="noStrike">
              <a:solidFill>
                <a:srgbClr val="000000"/>
              </a:solidFill>
              <a:latin typeface="Myriad Web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execute either S or T, choosing blindly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Web"/>
              </a:rPr>
              <a:t>change point of control to block A or block B, choosing blindly</a:t>
            </a:r>
            <a:endParaRPr b="0" lang="en-US" sz="2000" spc="-1" strike="noStrike">
              <a:solidFill>
                <a:srgbClr val="000000"/>
              </a:solidFill>
              <a:latin typeface="Myriad W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yriad Web"/>
              </a:rPr>
              <a:t>Example translation:  if</a:t>
            </a: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Myriad Web"/>
              </a:rPr>
              <a:t>Tr[[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Myriad Web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P </a:t>
            </a:r>
            <a:r>
              <a:rPr b="0" lang="en-US" sz="2800" spc="-1" strike="noStrike">
                <a:solidFill>
                  <a:srgbClr val="3333cc"/>
                </a:solidFill>
                <a:latin typeface="Myriad Web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S </a:t>
            </a:r>
            <a:r>
              <a:rPr b="0" lang="en-US" sz="2800" spc="-1" strike="noStrike">
                <a:solidFill>
                  <a:srgbClr val="3333cc"/>
                </a:solidFill>
                <a:latin typeface="Myriad Web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T </a:t>
            </a:r>
            <a:r>
              <a:rPr b="0" lang="en-US" sz="2800" spc="-1" strike="noStrike">
                <a:solidFill>
                  <a:srgbClr val="3333cc"/>
                </a:solidFill>
                <a:latin typeface="Myriad Web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Myriad Web"/>
              </a:rPr>
              <a:t>]]</a:t>
            </a: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Start: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Myriad Web"/>
              </a:rPr>
              <a:t>goto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Then </a:t>
            </a:r>
            <a:r>
              <a:rPr b="0" lang="en-US" sz="2800" spc="-1" strike="noStrike">
                <a:solidFill>
                  <a:srgbClr val="3333cc"/>
                </a:solidFill>
                <a:latin typeface="Myriad Web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Else</a:t>
            </a: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Then: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Myriad Web"/>
              </a:rPr>
              <a:t>assume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P 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Myriad Web"/>
              </a:rPr>
              <a:t>Tr[[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S </a:t>
            </a:r>
            <a:r>
              <a:rPr b="0" lang="en-US" sz="2800" spc="-1" strike="noStrike">
                <a:solidFill>
                  <a:srgbClr val="009900"/>
                </a:solidFill>
                <a:latin typeface="Myriad Web"/>
              </a:rPr>
              <a:t>]]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Myriad Web"/>
              </a:rPr>
              <a:t>goto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After</a:t>
            </a: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Else: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Myriad Web"/>
              </a:rPr>
              <a:t>assume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¬P 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Myriad Web"/>
              </a:rPr>
              <a:t>Tr[[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T </a:t>
            </a:r>
            <a:r>
              <a:rPr b="0" lang="en-US" sz="2800" spc="-1" strike="noStrike">
                <a:solidFill>
                  <a:srgbClr val="009900"/>
                </a:solidFill>
                <a:latin typeface="Myriad Web"/>
              </a:rPr>
              <a:t>]]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Myriad Web"/>
              </a:rPr>
              <a:t>goto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 After</a:t>
            </a: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After: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yriad Web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W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yriad Web"/>
              </a:rPr>
              <a:t>Example translation:  loop</a:t>
            </a:r>
            <a:endParaRPr b="1" lang="en-US" sz="4000" spc="-1" strike="noStrike">
              <a:solidFill>
                <a:srgbClr val="000000"/>
              </a:solidFill>
              <a:latin typeface="Myriad Web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3200" spc="-1" strike="noStrike">
                <a:solidFill>
                  <a:srgbClr val="009900"/>
                </a:solidFill>
                <a:latin typeface="Myriad Web"/>
              </a:rPr>
              <a:t>Tr[[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Myriad Web"/>
              </a:rPr>
              <a:t>while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 { </a:t>
            </a:r>
            <a:r>
              <a:rPr b="0" lang="en-US" sz="3200" spc="-1" strike="noStrike">
                <a:solidFill>
                  <a:srgbClr val="3333cc"/>
                </a:solidFill>
                <a:latin typeface="Myriad Web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 J } B </a:t>
            </a:r>
            <a:r>
              <a:rPr b="0" lang="en-US" sz="3200" spc="-1" strike="noStrike">
                <a:solidFill>
                  <a:srgbClr val="3333cc"/>
                </a:solidFill>
                <a:latin typeface="Myriad Web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 S </a:t>
            </a:r>
            <a:r>
              <a:rPr b="0" lang="en-US" sz="3200" spc="-1" strike="noStrike">
                <a:solidFill>
                  <a:srgbClr val="3333cc"/>
                </a:solidFill>
                <a:latin typeface="Myriad Web"/>
              </a:rPr>
              <a:t>end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Myriad Web"/>
              </a:rPr>
              <a:t>]]</a:t>
            </a: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LoopHead: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Myriad Web"/>
              </a:rPr>
              <a:t>assert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 J 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Myriad Web"/>
              </a:rPr>
              <a:t>goto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 LoopBody </a:t>
            </a:r>
            <a:r>
              <a:rPr b="0" lang="en-US" sz="3200" spc="-1" strike="noStrike">
                <a:solidFill>
                  <a:srgbClr val="3333cc"/>
                </a:solidFill>
                <a:latin typeface="Myriad Web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 AfterLoop</a:t>
            </a: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LoopBody: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Myriad Web"/>
              </a:rPr>
              <a:t>assume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 B 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3200" spc="-1" strike="noStrike">
                <a:solidFill>
                  <a:srgbClr val="009900"/>
                </a:solidFill>
                <a:latin typeface="Myriad Web"/>
              </a:rPr>
              <a:t>Tr[[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 S </a:t>
            </a:r>
            <a:r>
              <a:rPr b="0" lang="en-US" sz="3200" spc="-1" strike="noStrike">
                <a:solidFill>
                  <a:srgbClr val="009900"/>
                </a:solidFill>
                <a:latin typeface="Myriad Web"/>
              </a:rPr>
              <a:t>]]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 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Myriad Web"/>
              </a:rPr>
              <a:t>goto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 LoopHead</a:t>
            </a: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AfterLoop: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Myriad Web"/>
              </a:rPr>
              <a:t>assume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 ¬B 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Web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Myriad W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1:28:25Z</dcterms:created>
  <dc:creator>Rustan Leino</dc:creator>
  <dc:description/>
  <dc:language>en-US</dc:language>
  <cp:lastModifiedBy>Rustan Leino</cp:lastModifiedBy>
  <dcterms:modified xsi:type="dcterms:W3CDTF">2006-05-11T05:41:04Z</dcterms:modified>
  <cp:revision>36</cp:revision>
  <dc:subject/>
  <dc:title>Building a program verifier</dc:title>
</cp:coreProperties>
</file>