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FAD-3974-4A3D-BFEA-8CD998E4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09D-559C-4E85-93F2-DF2B049D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348-276C-4394-99F3-A2158386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8E6-5513-4547-B2B1-78E2C38A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732-8552-4D90-9672-6076038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11C-101F-4622-B476-15B4A1B1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9C8-862E-4D62-8E38-70BBB5B3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719-EF17-4AAE-A992-1558D37F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FE6-3B1D-4512-BFE1-B7C49985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517-0624-4396-9050-D3284472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FEA-EED5-436A-99C5-69FFF3F0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558-628B-40ED-B75F-AFD13BD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4CDA-5E3B-4A76-9A01-2A1DF70B6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utomated Theorem Provin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cture 4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06360" y="27432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48" y="528"/>
                </a:moveTo>
                <a:cubicBezTo>
                  <a:pt x="24" y="380"/>
                  <a:pt x="0" y="232"/>
                  <a:pt x="48" y="144"/>
                </a:cubicBezTo>
                <a:cubicBezTo>
                  <a:pt x="96" y="56"/>
                  <a:pt x="216" y="28"/>
                  <a:pt x="336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1040" y="25606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61080" y="342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56120" y="342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52680" y="16002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5109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68480" y="2971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44800" y="2057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501640" y="205740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77960" y="1905120"/>
            <a:ext cx="482760" cy="1676160"/>
          </a:xfrm>
          <a:custGeom>
            <a:avLst/>
            <a:gdLst/>
            <a:ahLst/>
            <a:rect l="l" t="t" r="r" b="b"/>
            <a:pathLst>
              <a:path w="304" h="1056">
                <a:moveTo>
                  <a:pt x="96" y="0"/>
                </a:moveTo>
                <a:cubicBezTo>
                  <a:pt x="200" y="200"/>
                  <a:pt x="304" y="400"/>
                  <a:pt x="288" y="576"/>
                </a:cubicBezTo>
                <a:cubicBezTo>
                  <a:pt x="272" y="752"/>
                  <a:pt x="136" y="904"/>
                  <a:pt x="0" y="105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03240" y="1828800"/>
            <a:ext cx="622440" cy="762120"/>
          </a:xfrm>
          <a:custGeom>
            <a:avLst/>
            <a:gdLst/>
            <a:ahLst/>
            <a:rect l="l" t="t" r="r" b="b"/>
            <a:pathLst>
              <a:path w="392" h="480">
                <a:moveTo>
                  <a:pt x="392" y="0"/>
                </a:moveTo>
                <a:cubicBezTo>
                  <a:pt x="252" y="8"/>
                  <a:pt x="112" y="16"/>
                  <a:pt x="56" y="96"/>
                </a:cubicBezTo>
                <a:cubicBezTo>
                  <a:pt x="0" y="176"/>
                  <a:pt x="28" y="328"/>
                  <a:pt x="56" y="4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61160" y="304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61160" y="12492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1160" y="21636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61160" y="30780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61160" y="39924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28400" y="4876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99400" y="7272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99400" y="1684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99400" y="25988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99400" y="3481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99400" y="4449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97680" y="2392200"/>
            <a:ext cx="393840" cy="2667240"/>
          </a:xfrm>
          <a:custGeom>
            <a:avLst/>
            <a:gdLst/>
            <a:ahLst/>
            <a:rect l="l" t="t" r="r" b="b"/>
            <a:pathLst>
              <a:path w="248" h="1680">
                <a:moveTo>
                  <a:pt x="48" y="0"/>
                </a:moveTo>
                <a:cubicBezTo>
                  <a:pt x="148" y="364"/>
                  <a:pt x="248" y="728"/>
                  <a:pt x="240" y="1008"/>
                </a:cubicBezTo>
                <a:cubicBezTo>
                  <a:pt x="232" y="1288"/>
                  <a:pt x="116" y="1484"/>
                  <a:pt x="0" y="16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97680" y="563400"/>
            <a:ext cx="698400" cy="4572000"/>
          </a:xfrm>
          <a:custGeom>
            <a:avLst/>
            <a:gdLst/>
            <a:ahLst/>
            <a:rect l="l" t="t" r="r" b="b"/>
            <a:pathLst>
              <a:path w="440" h="2880">
                <a:moveTo>
                  <a:pt x="0" y="0"/>
                </a:moveTo>
                <a:cubicBezTo>
                  <a:pt x="212" y="576"/>
                  <a:pt x="424" y="1152"/>
                  <a:pt x="432" y="1632"/>
                </a:cubicBezTo>
                <a:cubicBezTo>
                  <a:pt x="440" y="2112"/>
                  <a:pt x="244" y="2496"/>
                  <a:pt x="48" y="28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64160" y="1477800"/>
            <a:ext cx="381240" cy="2667240"/>
          </a:xfrm>
          <a:custGeom>
            <a:avLst/>
            <a:gdLst/>
            <a:ahLst/>
            <a:rect l="l" t="t" r="r" b="b"/>
            <a:pathLst>
              <a:path w="240" h="1680">
                <a:moveTo>
                  <a:pt x="240" y="0"/>
                </a:moveTo>
                <a:cubicBezTo>
                  <a:pt x="120" y="364"/>
                  <a:pt x="0" y="728"/>
                  <a:pt x="0" y="1008"/>
                </a:cubicBezTo>
                <a:cubicBezTo>
                  <a:pt x="0" y="1288"/>
                  <a:pt x="120" y="1484"/>
                  <a:pt x="240" y="16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5240" y="639720"/>
            <a:ext cx="470160" cy="2514600"/>
          </a:xfrm>
          <a:custGeom>
            <a:avLst/>
            <a:gdLst/>
            <a:ahLst/>
            <a:rect l="l" t="t" r="r" b="b"/>
            <a:pathLst>
              <a:path w="296" h="1584">
                <a:moveTo>
                  <a:pt x="248" y="0"/>
                </a:moveTo>
                <a:cubicBezTo>
                  <a:pt x="124" y="348"/>
                  <a:pt x="0" y="696"/>
                  <a:pt x="8" y="960"/>
                </a:cubicBezTo>
                <a:cubicBezTo>
                  <a:pt x="16" y="1224"/>
                  <a:pt x="156" y="1404"/>
                  <a:pt x="296" y="158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3680" y="2468520"/>
            <a:ext cx="241200" cy="1676520"/>
          </a:xfrm>
          <a:custGeom>
            <a:avLst/>
            <a:gdLst/>
            <a:ahLst/>
            <a:rect l="l" t="t" r="r" b="b"/>
            <a:pathLst>
              <a:path w="152" h="1056">
                <a:moveTo>
                  <a:pt x="0" y="0"/>
                </a:moveTo>
                <a:cubicBezTo>
                  <a:pt x="68" y="224"/>
                  <a:pt x="136" y="448"/>
                  <a:pt x="144" y="624"/>
                </a:cubicBezTo>
                <a:cubicBezTo>
                  <a:pt x="152" y="800"/>
                  <a:pt x="100" y="928"/>
                  <a:pt x="48" y="105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18800" y="4340160"/>
            <a:ext cx="14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-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4080" y="54100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union-find algorithm to maintain equiva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es on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971440" y="3505320"/>
            <a:ext cx="1219320" cy="838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00600" y="3505320"/>
            <a:ext cx="1219320" cy="838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57960" y="380880"/>
            <a:ext cx="67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uence closur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cision procedure for EUF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717840" y="1646280"/>
            <a:ext cx="7803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Construct initial e-graph for all terms appearing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lities and disequa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Apply congruence closure ignoring disequa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If there is a disequality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an equiva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containing both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return unsatisf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Otherwise, return satisf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undn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23880" y="1749600"/>
            <a:ext cx="8219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em: If the algorithm returns unsatisfi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straints are unsatisf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680" y="3352680"/>
            <a:ext cx="729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mma: At every step of the congruence clo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orithm, each equality in the e-graph is impl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the original set of equa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:  By induction on the number of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leten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856800" y="1749600"/>
            <a:ext cx="7781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em: If the algorithm returns satisfi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 model satisfying the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de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135800" y="1905120"/>
            <a:ext cx="7283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(finite or infinite) universe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interpretation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ps each constant symbol u to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ment I(u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ps each function symbol f 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ction I(f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leten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856800" y="1749600"/>
            <a:ext cx="7781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em: If the algorithm returns satisfi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 model satisfying the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29840" y="3763800"/>
            <a:ext cx="64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w do we construct the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232240" y="167652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48" y="528"/>
                </a:moveTo>
                <a:cubicBezTo>
                  <a:pt x="24" y="380"/>
                  <a:pt x="0" y="232"/>
                  <a:pt x="48" y="144"/>
                </a:cubicBezTo>
                <a:cubicBezTo>
                  <a:pt x="96" y="56"/>
                  <a:pt x="216" y="28"/>
                  <a:pt x="336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14940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6960" y="2362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82000" y="23623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8560" y="5335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536800" y="19051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94360" y="19051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70680" y="9907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527520" y="990720"/>
            <a:ext cx="759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03840" y="838080"/>
            <a:ext cx="482760" cy="1676520"/>
          </a:xfrm>
          <a:custGeom>
            <a:avLst/>
            <a:gdLst/>
            <a:ahLst/>
            <a:rect l="l" t="t" r="r" b="b"/>
            <a:pathLst>
              <a:path w="304" h="1056">
                <a:moveTo>
                  <a:pt x="96" y="0"/>
                </a:moveTo>
                <a:cubicBezTo>
                  <a:pt x="200" y="200"/>
                  <a:pt x="304" y="400"/>
                  <a:pt x="288" y="576"/>
                </a:cubicBezTo>
                <a:cubicBezTo>
                  <a:pt x="272" y="752"/>
                  <a:pt x="136" y="904"/>
                  <a:pt x="0" y="105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29480" y="762120"/>
            <a:ext cx="622080" cy="761760"/>
          </a:xfrm>
          <a:custGeom>
            <a:avLst/>
            <a:gdLst/>
            <a:ahLst/>
            <a:rect l="l" t="t" r="r" b="b"/>
            <a:pathLst>
              <a:path w="392" h="480">
                <a:moveTo>
                  <a:pt x="392" y="0"/>
                </a:moveTo>
                <a:cubicBezTo>
                  <a:pt x="252" y="8"/>
                  <a:pt x="112" y="16"/>
                  <a:pt x="56" y="96"/>
                </a:cubicBezTo>
                <a:cubicBezTo>
                  <a:pt x="0" y="176"/>
                  <a:pt x="28" y="328"/>
                  <a:pt x="56" y="4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8640" y="9144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a,b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35440" y="14479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f(a,b),b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3246480"/>
            <a:ext cx="843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ny term t in the e-graph, let EC(t) be the equiva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containing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= set of equivalence classes + new ele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(c) = EC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(f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EC(f(u))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f(u) is a term in the e-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(f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        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vexit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279440" y="156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6160" y="1752480"/>
            <a:ext cx="86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junction of facts is convex if whenever it entail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junction of equalities, it also entails at least one e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95880" y="3170160"/>
            <a:ext cx="6098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re is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,n] such that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4720" y="461808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heory is convex if ever conjunction of facts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heory is conv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UF is convex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41960" y="2743200"/>
            <a:ext cx="7986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se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gruence closure algorithm demonstrate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some i such that even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nterpreted theor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62600" y="1905120"/>
            <a:ext cx="82454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symbols: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 (each with an ar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0,1,…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 symbols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 (each with an ar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0,1,…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 relation: equality (arity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ean facts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. R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4160" y="4114800"/>
            <a:ext cx="77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junction of facts is consistent iff there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(U,I) that satisfies each fact in the conj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10480" y="538020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EUF, arrays,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81400" y="1905120"/>
            <a:ext cx="777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:= A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om := b | t = 0 | t &lt; 0 |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erm := c | x | t + t | t – t | ct | Select(m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mTerm := f | Update(m,t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Bool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Int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{…,-1,0,1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rpreted theor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587880" y="1752480"/>
            <a:ext cx="82454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symbols: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 (each with an ar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0,1,…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 symbols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 (each with an ar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0,1,…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 relation: equality (arity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ean facts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. R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9760" y="4800600"/>
            <a:ext cx="824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junction of facts is consistent iff I can be ext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the free variables of the conjunction so that each f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conjunction is satis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37520" y="3855960"/>
            <a:ext cx="71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d model (U,I) providing an interpretation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unction and relation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9640" y="6019920"/>
            <a:ext cx="80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rithmetic over rationals, arithmetic over inte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municating theori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the only shared symbols between two theories T1 and T2 are equality and vari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1 is conjunction of facts in theory T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2 is conjunction of facts in theory T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C1 is consistent by itself and C2 is consistent by its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C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2 consisten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00040" y="45720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f(x) – f(y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z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y +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940040" y="2103480"/>
            <a:ext cx="4935960" cy="1607400"/>
            <a:chOff x="1940040" y="2103480"/>
            <a:chExt cx="4935960" cy="1607400"/>
          </a:xfrm>
        </p:grpSpPr>
        <p:sp>
          <p:nvSpPr>
            <p:cNvPr id="194" name=""/>
            <p:cNvSpPr/>
            <p:nvPr/>
          </p:nvSpPr>
          <p:spPr>
            <a:xfrm>
              <a:off x="1940040" y="2103480"/>
              <a:ext cx="168768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y + z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– 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87320" y="2103480"/>
              <a:ext cx="158868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(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f(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f(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395160" y="4449600"/>
            <a:ext cx="24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 is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 is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70680" y="5562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C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2 is not consist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5400" y="1447920"/>
            <a:ext cx="7520760" cy="761760"/>
            <a:chOff x="725400" y="1447920"/>
            <a:chExt cx="7520760" cy="761760"/>
          </a:xfrm>
        </p:grpSpPr>
        <p:grpSp>
          <p:nvGrpSpPr>
            <p:cNvPr id="199" name=""/>
            <p:cNvGrpSpPr/>
            <p:nvPr/>
          </p:nvGrpSpPr>
          <p:grpSpPr>
            <a:xfrm>
              <a:off x="725400" y="1600200"/>
              <a:ext cx="1332000" cy="609480"/>
              <a:chOff x="725400" y="1600200"/>
              <a:chExt cx="1332000" cy="609480"/>
            </a:xfrm>
          </p:grpSpPr>
          <p:sp>
            <p:nvSpPr>
              <p:cNvPr id="200" name=""/>
              <p:cNvSpPr/>
              <p:nvPr/>
            </p:nvSpPr>
            <p:spPr>
              <a:xfrm>
                <a:off x="725400" y="16002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5280" y="1905120"/>
                <a:ext cx="7621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933960" y="1447920"/>
              <a:ext cx="1312200" cy="761760"/>
              <a:chOff x="6933960" y="1447920"/>
              <a:chExt cx="1312200" cy="761760"/>
            </a:xfrm>
          </p:grpSpPr>
          <p:sp>
            <p:nvSpPr>
              <p:cNvPr id="203" name=""/>
              <p:cNvSpPr/>
              <p:nvPr/>
            </p:nvSpPr>
            <p:spPr>
              <a:xfrm>
                <a:off x="7699680" y="1447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933960" y="1752480"/>
                <a:ext cx="685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3048120" y="1219320"/>
            <a:ext cx="2514600" cy="1066680"/>
            <a:chOff x="3048120" y="1219320"/>
            <a:chExt cx="2514600" cy="1066680"/>
          </a:xfrm>
        </p:grpSpPr>
        <p:sp>
          <p:nvSpPr>
            <p:cNvPr id="206" name=""/>
            <p:cNvSpPr/>
            <p:nvPr/>
          </p:nvSpPr>
          <p:spPr>
            <a:xfrm>
              <a:off x="3048120" y="1638360"/>
              <a:ext cx="2514600" cy="647640"/>
            </a:xfrm>
            <a:custGeom>
              <a:avLst/>
              <a:gdLst/>
              <a:ahLst/>
              <a:rect l="l" t="t" r="r" b="b"/>
              <a:pathLst>
                <a:path w="1584" h="408">
                  <a:moveTo>
                    <a:pt x="0" y="408"/>
                  </a:moveTo>
                  <a:cubicBezTo>
                    <a:pt x="180" y="228"/>
                    <a:pt x="360" y="48"/>
                    <a:pt x="624" y="24"/>
                  </a:cubicBezTo>
                  <a:cubicBezTo>
                    <a:pt x="888" y="0"/>
                    <a:pt x="1236" y="132"/>
                    <a:pt x="1584" y="26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75280" y="1219320"/>
              <a:ext cx="8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95480" y="3429000"/>
            <a:ext cx="2971800" cy="812880"/>
            <a:chOff x="2895480" y="3429000"/>
            <a:chExt cx="2971800" cy="812880"/>
          </a:xfrm>
        </p:grpSpPr>
        <p:sp>
          <p:nvSpPr>
            <p:cNvPr id="209" name=""/>
            <p:cNvSpPr/>
            <p:nvPr/>
          </p:nvSpPr>
          <p:spPr>
            <a:xfrm>
              <a:off x="2895480" y="3429000"/>
              <a:ext cx="2971800" cy="812880"/>
            </a:xfrm>
            <a:custGeom>
              <a:avLst/>
              <a:gdLst/>
              <a:ahLst/>
              <a:rect l="l" t="t" r="r" b="b"/>
              <a:pathLst>
                <a:path w="1872" h="512">
                  <a:moveTo>
                    <a:pt x="1872" y="0"/>
                  </a:moveTo>
                  <a:cubicBezTo>
                    <a:pt x="1692" y="224"/>
                    <a:pt x="1512" y="448"/>
                    <a:pt x="1200" y="480"/>
                  </a:cubicBezTo>
                  <a:cubicBezTo>
                    <a:pt x="888" y="512"/>
                    <a:pt x="444" y="352"/>
                    <a:pt x="0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9920" y="3657600"/>
              <a:ext cx="108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476960" y="121932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1760" y="1417680"/>
            <a:ext cx="86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ny conjunction C1 of facts in the theory of rat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any conjunction C2 of facts in the theory of EUF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uffices to communicate equalities over shared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25560" y="3855960"/>
            <a:ext cx="73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C1 is a conjunction of facts in the theor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ithmetic over integ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304720" y="157176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0840" y="157176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1219320"/>
            <a:ext cx="8380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781680" y="106668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7768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36480" y="65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5040" y="3627360"/>
            <a:ext cx="66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x) = f(a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x) = f(b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01040" y="4344840"/>
            <a:ext cx="67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quality sharing procedure does no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the theory of integers is non-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lthough the theory of rationals is convex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19560" y="579132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: Communicate disjunctions of equali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04720" y="157176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80840" y="157176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7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21440" y="33228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304720" y="1571760"/>
            <a:ext cx="91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80840" y="1571760"/>
            <a:ext cx="150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37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920" y="16462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 2, 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4040" y="36273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04720" y="1571760"/>
            <a:ext cx="91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80840" y="1571760"/>
            <a:ext cx="150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41560" y="37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4040" y="36273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650680" y="27194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736360" y="157176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16080" y="1571760"/>
            <a:ext cx="11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a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b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77120" y="339876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emory axio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79520" y="2789280"/>
            <a:ext cx="692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all objects o and o’, and memories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 = o’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Select(Update(m,o,v),o’) =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’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Select(Update(m,o,v),o’) = Select(m,o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36360" y="1571760"/>
            <a:ext cx="91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16080" y="1571760"/>
            <a:ext cx="11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a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b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2240" y="16462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 3, 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739600" y="609480"/>
            <a:ext cx="3204000" cy="3325320"/>
            <a:chOff x="2739600" y="609480"/>
            <a:chExt cx="3204000" cy="3325320"/>
          </a:xfrm>
        </p:grpSpPr>
        <p:sp>
          <p:nvSpPr>
            <p:cNvPr id="244" name=""/>
            <p:cNvSpPr/>
            <p:nvPr/>
          </p:nvSpPr>
          <p:spPr>
            <a:xfrm>
              <a:off x="2739600" y="347508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=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6720" y="1054080"/>
              <a:ext cx="2666880" cy="546120"/>
            </a:xfrm>
            <a:custGeom>
              <a:avLst/>
              <a:gdLst/>
              <a:ahLst/>
              <a:rect l="l" t="t" r="r" b="b"/>
              <a:pathLst>
                <a:path w="1680" h="344">
                  <a:moveTo>
                    <a:pt x="1680" y="296"/>
                  </a:moveTo>
                  <a:cubicBezTo>
                    <a:pt x="1436" y="148"/>
                    <a:pt x="1192" y="0"/>
                    <a:pt x="912" y="8"/>
                  </a:cubicBezTo>
                  <a:cubicBezTo>
                    <a:pt x="632" y="16"/>
                    <a:pt x="316" y="180"/>
                    <a:pt x="0" y="3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44400" y="60948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=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10400" y="43131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736360" y="1571760"/>
            <a:ext cx="91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6080" y="1571760"/>
            <a:ext cx="11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x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a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b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10400" y="43131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739600" y="609480"/>
            <a:ext cx="3204000" cy="3325320"/>
            <a:chOff x="2739600" y="609480"/>
            <a:chExt cx="3204000" cy="3325320"/>
          </a:xfrm>
        </p:grpSpPr>
        <p:sp>
          <p:nvSpPr>
            <p:cNvPr id="252" name=""/>
            <p:cNvSpPr/>
            <p:nvPr/>
          </p:nvSpPr>
          <p:spPr>
            <a:xfrm>
              <a:off x="2739600" y="347508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=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76720" y="1054080"/>
              <a:ext cx="2666880" cy="546120"/>
            </a:xfrm>
            <a:custGeom>
              <a:avLst/>
              <a:gdLst/>
              <a:ahLst/>
              <a:rect l="l" t="t" r="r" b="b"/>
              <a:pathLst>
                <a:path w="1680" h="344">
                  <a:moveTo>
                    <a:pt x="1680" y="296"/>
                  </a:moveTo>
                  <a:cubicBezTo>
                    <a:pt x="1436" y="148"/>
                    <a:pt x="1192" y="0"/>
                    <a:pt x="912" y="8"/>
                  </a:cubicBezTo>
                  <a:cubicBezTo>
                    <a:pt x="632" y="16"/>
                    <a:pt x="316" y="180"/>
                    <a:pt x="0" y="3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44400" y="60948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=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52600" y="457200"/>
            <a:ext cx="726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cedure returns satisfiable only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 is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 is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 is 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 is 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 entails (x = y) iff C2 entails (x =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89640" y="304812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m: If the procedure returns satisfiable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model of C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720" y="4343400"/>
            <a:ext cx="802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ical side condi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consistent formula in T1 has a countab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Every consistent formula in T2 has a countab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of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61440" y="1447920"/>
            <a:ext cx="842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tion variables into equivalence class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for all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,n], if x,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n C1 entails x =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2600" y="2590920"/>
            <a:ext cx="797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mma: For all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,n], if x,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n C2 entails x =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1280" y="3352680"/>
            <a:ext cx="660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,n], pick representative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1160" y="3870360"/>
            <a:ext cx="63388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mma: C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i &lt; j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is 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640" y="4724280"/>
            <a:ext cx="63388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mma: C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i &lt; j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is 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of continue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748800" y="1523880"/>
            <a:ext cx="3815280" cy="1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 = C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i &lt; j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2 = C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i &lt; j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3760" y="3200400"/>
            <a:ext cx="60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 has a countably infinite model (U1, I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2 has a countably infinite model (U2, I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8320" y="4419720"/>
            <a:ext cx="824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 an isomorphism K from U1 to U2 that is consist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variable assignments, i.e., for all x, K(I1(x)) = I2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terpretations of function and relation symbol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mapped easily using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28160" y="2013120"/>
            <a:ext cx="75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(f,b)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(Update(f,a,5),a) + Select(Update(f,a,5),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3640" y="457200"/>
            <a:ext cx="53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{ b.f = 5 } a.f = 5 { a.f + b.f = 10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22720" y="3780000"/>
            <a:ext cx="494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y of arithmetic: 5, 10,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y of arrays: Select, Update,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600" y="510552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s that arise in program verification are mix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62280" y="12193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ories communicating via equality and variable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931320" y="263844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odu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 w to represent Select(f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 x to represent Select(Update(f,a,w)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 y to represent Select(Updatef,a,w)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z and z’ to eliminate the arithmetic dis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2040" y="5105520"/>
            <a:ext cx="388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 = Select(f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Select(Update(f,a,w)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Select(Update(f,a,w)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48240" y="455760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y of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200" y="455760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y of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1840" y="5105520"/>
            <a:ext cx="13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+ y =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’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28160" y="1676520"/>
            <a:ext cx="75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(f,b)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(Update(f,a,5),a) + Select(Update(f,a,5),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66760" y="5046840"/>
            <a:ext cx="1532520" cy="591840"/>
            <a:chOff x="2966760" y="5046840"/>
            <a:chExt cx="1532520" cy="591840"/>
          </a:xfrm>
        </p:grpSpPr>
        <p:sp>
          <p:nvSpPr>
            <p:cNvPr id="58" name=""/>
            <p:cNvSpPr/>
            <p:nvPr/>
          </p:nvSpPr>
          <p:spPr>
            <a:xfrm>
              <a:off x="3124080" y="5410080"/>
              <a:ext cx="1371600" cy="2286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864" y="144"/>
                  </a:moveTo>
                  <a:cubicBezTo>
                    <a:pt x="720" y="72"/>
                    <a:pt x="576" y="0"/>
                    <a:pt x="432" y="0"/>
                  </a:cubicBezTo>
                  <a:cubicBezTo>
                    <a:pt x="288" y="0"/>
                    <a:pt x="144" y="72"/>
                    <a:pt x="0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66760" y="5046840"/>
              <a:ext cx="15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 = w, y = 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124080" y="5790960"/>
            <a:ext cx="1371600" cy="569160"/>
            <a:chOff x="3124080" y="5790960"/>
            <a:chExt cx="1371600" cy="569160"/>
          </a:xfrm>
        </p:grpSpPr>
        <p:sp>
          <p:nvSpPr>
            <p:cNvPr id="61" name=""/>
            <p:cNvSpPr/>
            <p:nvPr/>
          </p:nvSpPr>
          <p:spPr>
            <a:xfrm flipV="1">
              <a:off x="3124080" y="5790600"/>
              <a:ext cx="1371600" cy="2286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864" y="144"/>
                  </a:moveTo>
                  <a:cubicBezTo>
                    <a:pt x="720" y="72"/>
                    <a:pt x="576" y="0"/>
                    <a:pt x="432" y="0"/>
                  </a:cubicBezTo>
                  <a:cubicBezTo>
                    <a:pt x="288" y="0"/>
                    <a:pt x="144" y="72"/>
                    <a:pt x="0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35840" y="5961240"/>
              <a:ext cx="7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z = z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ory of arrays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1466640" y="1905120"/>
            <a:ext cx="588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:= A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om := t = t |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erm := c | Select(m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mTerm := f | Update(m,t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080" y="4527720"/>
            <a:ext cx="692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all objects o and o’, and memories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 = o’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Select(Update(m,o,v),o’) =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’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Select(Update(m,o,v),o’) = Select(m,o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ory of Equality with Uninterpreted Function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2112840" y="1905120"/>
            <a:ext cx="404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:= A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om := t = t |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erm := c | f(t,…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Co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20720" y="4343400"/>
            <a:ext cx="59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constants a and b and functions 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 =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 =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=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 =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(a) = 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5479560" y="762120"/>
            <a:ext cx="2384280" cy="1374120"/>
            <a:chOff x="5479560" y="762120"/>
            <a:chExt cx="2384280" cy="1374120"/>
          </a:xfrm>
        </p:grpSpPr>
        <p:sp>
          <p:nvSpPr>
            <p:cNvPr id="70" name=""/>
            <p:cNvSpPr/>
            <p:nvPr/>
          </p:nvSpPr>
          <p:spPr>
            <a:xfrm>
              <a:off x="5569200" y="762120"/>
              <a:ext cx="22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(f(f(f(f(a))))) =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79560" y="1676520"/>
              <a:ext cx="171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(f(f(a))) =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434560" y="259092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(f(a)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89920" y="350532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(a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240" y="76212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a,b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4400" y="1676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f(a,b),b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1920" y="25909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(a,b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440" y="350532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24200" y="44197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(f(f(f(a)))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3809880"/>
            <a:ext cx="533520" cy="83844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48" y="528"/>
                </a:moveTo>
                <a:cubicBezTo>
                  <a:pt x="24" y="380"/>
                  <a:pt x="0" y="232"/>
                  <a:pt x="48" y="144"/>
                </a:cubicBezTo>
                <a:cubicBezTo>
                  <a:pt x="96" y="56"/>
                  <a:pt x="216" y="28"/>
                  <a:pt x="336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197720" y="2666880"/>
            <a:ext cx="1477080" cy="2288520"/>
            <a:chOff x="1197720" y="2666880"/>
            <a:chExt cx="1477080" cy="2288520"/>
          </a:xfrm>
        </p:grpSpPr>
        <p:sp>
          <p:nvSpPr>
            <p:cNvPr id="82" name=""/>
            <p:cNvSpPr/>
            <p:nvPr/>
          </p:nvSpPr>
          <p:spPr>
            <a:xfrm>
              <a:off x="1687320" y="362736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197720" y="2666880"/>
              <a:ext cx="1477080" cy="2288520"/>
              <a:chOff x="1197720" y="2666880"/>
              <a:chExt cx="1477080" cy="2288520"/>
            </a:xfrm>
          </p:grpSpPr>
          <p:sp>
            <p:nvSpPr>
              <p:cNvPr id="84" name=""/>
              <p:cNvSpPr/>
              <p:nvPr/>
            </p:nvSpPr>
            <p:spPr>
              <a:xfrm>
                <a:off x="1197720" y="449568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92400" y="449568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388960" y="2666880"/>
                <a:ext cx="28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1447920" y="4038480"/>
                <a:ext cx="3045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4038480"/>
                <a:ext cx="38088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981080" y="3124080"/>
                <a:ext cx="4572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2438280" y="3124080"/>
                <a:ext cx="7632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2514600" y="2971800"/>
            <a:ext cx="482760" cy="1676520"/>
          </a:xfrm>
          <a:custGeom>
            <a:avLst/>
            <a:gdLst/>
            <a:ahLst/>
            <a:rect l="l" t="t" r="r" b="b"/>
            <a:pathLst>
              <a:path w="304" h="1056">
                <a:moveTo>
                  <a:pt x="96" y="0"/>
                </a:moveTo>
                <a:cubicBezTo>
                  <a:pt x="200" y="200"/>
                  <a:pt x="304" y="400"/>
                  <a:pt x="288" y="576"/>
                </a:cubicBezTo>
                <a:cubicBezTo>
                  <a:pt x="272" y="752"/>
                  <a:pt x="136" y="904"/>
                  <a:pt x="0" y="105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39880" y="2895480"/>
            <a:ext cx="622440" cy="762120"/>
          </a:xfrm>
          <a:custGeom>
            <a:avLst/>
            <a:gdLst/>
            <a:ahLst/>
            <a:rect l="l" t="t" r="r" b="b"/>
            <a:pathLst>
              <a:path w="392" h="480">
                <a:moveTo>
                  <a:pt x="392" y="0"/>
                </a:moveTo>
                <a:cubicBezTo>
                  <a:pt x="252" y="8"/>
                  <a:pt x="112" y="16"/>
                  <a:pt x="56" y="96"/>
                </a:cubicBezTo>
                <a:cubicBezTo>
                  <a:pt x="0" y="176"/>
                  <a:pt x="28" y="328"/>
                  <a:pt x="56" y="4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65040" y="1371600"/>
            <a:ext cx="351360" cy="5031720"/>
            <a:chOff x="6665040" y="1371600"/>
            <a:chExt cx="351360" cy="5031720"/>
          </a:xfrm>
        </p:grpSpPr>
        <p:sp>
          <p:nvSpPr>
            <p:cNvPr id="95" name=""/>
            <p:cNvSpPr/>
            <p:nvPr/>
          </p:nvSpPr>
          <p:spPr>
            <a:xfrm>
              <a:off x="6697440" y="137160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97440" y="231624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7440" y="323064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97440" y="414504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97440" y="505944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65040" y="59436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35680" y="17938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35680" y="27511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35680" y="3665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35680" y="4548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35680" y="55166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934320" y="3459240"/>
            <a:ext cx="393480" cy="2666880"/>
          </a:xfrm>
          <a:custGeom>
            <a:avLst/>
            <a:gdLst/>
            <a:ahLst/>
            <a:rect l="l" t="t" r="r" b="b"/>
            <a:pathLst>
              <a:path w="248" h="1680">
                <a:moveTo>
                  <a:pt x="48" y="0"/>
                </a:moveTo>
                <a:cubicBezTo>
                  <a:pt x="148" y="364"/>
                  <a:pt x="248" y="728"/>
                  <a:pt x="240" y="1008"/>
                </a:cubicBezTo>
                <a:cubicBezTo>
                  <a:pt x="232" y="1288"/>
                  <a:pt x="116" y="1484"/>
                  <a:pt x="0" y="16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1630440"/>
            <a:ext cx="698400" cy="4572000"/>
          </a:xfrm>
          <a:custGeom>
            <a:avLst/>
            <a:gdLst/>
            <a:ahLst/>
            <a:rect l="l" t="t" r="r" b="b"/>
            <a:pathLst>
              <a:path w="440" h="2880">
                <a:moveTo>
                  <a:pt x="0" y="0"/>
                </a:moveTo>
                <a:cubicBezTo>
                  <a:pt x="212" y="576"/>
                  <a:pt x="424" y="1152"/>
                  <a:pt x="432" y="1632"/>
                </a:cubicBezTo>
                <a:cubicBezTo>
                  <a:pt x="440" y="2112"/>
                  <a:pt x="244" y="2496"/>
                  <a:pt x="48" y="28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2544840"/>
            <a:ext cx="380880" cy="2666880"/>
          </a:xfrm>
          <a:custGeom>
            <a:avLst/>
            <a:gdLst/>
            <a:ahLst/>
            <a:rect l="l" t="t" r="r" b="b"/>
            <a:pathLst>
              <a:path w="240" h="1680">
                <a:moveTo>
                  <a:pt x="240" y="0"/>
                </a:moveTo>
                <a:cubicBezTo>
                  <a:pt x="120" y="364"/>
                  <a:pt x="0" y="728"/>
                  <a:pt x="0" y="1008"/>
                </a:cubicBezTo>
                <a:cubicBezTo>
                  <a:pt x="0" y="1288"/>
                  <a:pt x="120" y="1484"/>
                  <a:pt x="240" y="16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11880" y="1706400"/>
            <a:ext cx="469800" cy="2514600"/>
          </a:xfrm>
          <a:custGeom>
            <a:avLst/>
            <a:gdLst/>
            <a:ahLst/>
            <a:rect l="l" t="t" r="r" b="b"/>
            <a:pathLst>
              <a:path w="296" h="1584">
                <a:moveTo>
                  <a:pt x="248" y="0"/>
                </a:moveTo>
                <a:cubicBezTo>
                  <a:pt x="124" y="348"/>
                  <a:pt x="0" y="696"/>
                  <a:pt x="8" y="960"/>
                </a:cubicBezTo>
                <a:cubicBezTo>
                  <a:pt x="16" y="1224"/>
                  <a:pt x="156" y="1404"/>
                  <a:pt x="296" y="158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80320" y="3535200"/>
            <a:ext cx="241200" cy="1676520"/>
          </a:xfrm>
          <a:custGeom>
            <a:avLst/>
            <a:gdLst/>
            <a:ahLst/>
            <a:rect l="l" t="t" r="r" b="b"/>
            <a:pathLst>
              <a:path w="152" h="1056">
                <a:moveTo>
                  <a:pt x="0" y="0"/>
                </a:moveTo>
                <a:cubicBezTo>
                  <a:pt x="68" y="224"/>
                  <a:pt x="136" y="448"/>
                  <a:pt x="144" y="624"/>
                </a:cubicBezTo>
                <a:cubicBezTo>
                  <a:pt x="152" y="800"/>
                  <a:pt x="100" y="928"/>
                  <a:pt x="48" y="105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8640" y="15228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a,b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5440" y="685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f(a,b),b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479560" y="152280"/>
            <a:ext cx="2384280" cy="993240"/>
            <a:chOff x="5479560" y="152280"/>
            <a:chExt cx="2384280" cy="993240"/>
          </a:xfrm>
        </p:grpSpPr>
        <p:sp>
          <p:nvSpPr>
            <p:cNvPr id="114" name=""/>
            <p:cNvSpPr/>
            <p:nvPr/>
          </p:nvSpPr>
          <p:spPr>
            <a:xfrm>
              <a:off x="5569200" y="152280"/>
              <a:ext cx="22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(f(f(f(f(a))))) =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79560" y="685800"/>
              <a:ext cx="171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(f(f(a))) =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6:50:46Z</dcterms:created>
  <dc:creator>qadeer</dc:creator>
  <dc:description/>
  <dc:language>en-US</dc:language>
  <cp:lastModifiedBy>qadeer</cp:lastModifiedBy>
  <dcterms:modified xsi:type="dcterms:W3CDTF">2006-05-24T21:59:12Z</dcterms:modified>
  <cp:revision>691</cp:revision>
  <dc:subject/>
  <dc:title>Automated Theorem Proving Lecture 5</dc:title>
</cp:coreProperties>
</file>