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2EE-791D-4D1A-AE35-CEDFB81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277-CF54-4874-B5AE-833F887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1BE-7208-4007-8825-98063E2B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8A6-F817-4C33-85F6-200CB49B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CFF-4264-4633-9B47-EA98531D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C16-C5CA-4AD6-89A7-E721AB6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0C4-9F79-436F-A9D6-A766EF3E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8C3-16DF-43BA-A954-34EB1C2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29B-2775-49AD-AD8A-072F3242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218-8DA6-478F-BE87-B6C43ED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38E-EEB2-44C3-98A1-68E916A4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8E2-7A80-4FE8-AA35-3B065D2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D03-7E5A-4432-95F7-8C77E03B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utomated Theorem Prov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iability modulo the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atisfiability problem for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ffine constraint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1239840" y="1679400"/>
            <a:ext cx="6670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m constraints over n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280" y="4389480"/>
            <a:ext cx="794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Does there exist an assignment of x</a:t>
            </a:r>
            <a:r>
              <a:rPr b="0" lang="en-US" sz="2400" spc="-1" strike="noStrike" baseline="-25000">
                <a:solidFill>
                  <a:srgbClr val="ff505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505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, …,</a:t>
            </a:r>
            <a:r>
              <a:rPr b="0" lang="en-US" sz="2400" spc="-1" strike="noStrike" baseline="-25000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505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 ove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integers such that each constraint is satisfi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ving affine constrai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ger linear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P-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roximate integers by rationals/re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ar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time (Khachian 1978, Karmarkar 198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x algorithm (Dantzig 6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ial worst-ca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ehavior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32760" y="2575080"/>
            <a:ext cx="553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mplex Algorithm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ffine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bleau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343160"/>
            <a:ext cx="41911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51240" y="1828800"/>
            <a:ext cx="38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1295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2960" y="40863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it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27440" y="4619520"/>
            <a:ext cx="4963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0560" y="4619520"/>
            <a:ext cx="11545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47400" y="14320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" y="2438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85800"/>
            <a:ext cx="247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y +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+ y +   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x      +  -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8440" y="297972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-1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 1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1      0  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86280" y="3429000"/>
            <a:ext cx="28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72080" y="3086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8600" y="0"/>
            <a:ext cx="68580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-360" y="1599840"/>
            <a:ext cx="525780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0600" y="6048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76120" y="3027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96600" y="60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71400" y="63421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640" y="6048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mple poi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1266840"/>
            <a:ext cx="41911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51240" y="1752480"/>
            <a:ext cx="38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219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80320" y="3733920"/>
            <a:ext cx="331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720" y="4114800"/>
            <a:ext cx="1143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88280" y="914400"/>
            <a:ext cx="755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bleau is feasible if the sample point satisf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ign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, drop a subset of sign constrain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a feasible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unsatisfied sign constra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a different point satisfying the constr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preserving exis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uch a point is found, add th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, declare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lare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vot oper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82320" y="1371600"/>
            <a:ext cx="842508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hange row i and column 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olve for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       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(-1/aij)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(-1)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ubstitute in row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           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          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0" y="457200"/>
            <a:ext cx="419112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j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…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j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90760" y="942840"/>
            <a:ext cx="38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6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633840"/>
            <a:ext cx="876312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… 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(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        …   (1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…         (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   …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…   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m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1148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1560" y="3733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ithmetic progra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integer-valued variables with affine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883080" y="3162240"/>
            <a:ext cx="592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b | t = 0 | t &gt; 0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x | t + t | t – t | 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Int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{…,-1,0,1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734760" y="2359080"/>
            <a:ext cx="754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ivot operation preserves the solution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any tabl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82440" y="57168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-1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 1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1      0  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1160" y="1020600"/>
            <a:ext cx="240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86080" y="677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74400" y="57168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-1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 1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-1      0  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07080" y="1020600"/>
            <a:ext cx="24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1640" y="677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04640" y="3894120"/>
            <a:ext cx="22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1      1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1      2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-1     -1  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343400"/>
            <a:ext cx="24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9560" y="4000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400" y="3886200"/>
            <a:ext cx="281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1/2      1/2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    -1/2      1/2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-1/2     -1/2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2360" y="4335480"/>
            <a:ext cx="313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6920" y="3992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1600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2360" y="1198440"/>
            <a:ext cx="14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op 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2629080"/>
            <a:ext cx="0" cy="12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7960" y="2863800"/>
            <a:ext cx="104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an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771720" y="5143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1120" y="4784760"/>
            <a:ext cx="10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v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8600" y="0"/>
            <a:ext cx="68580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-360" y="1599840"/>
            <a:ext cx="525780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10600" y="6048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76120" y="3027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96600" y="60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71400" y="63421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640" y="6048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240" y="3355920"/>
            <a:ext cx="16524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43480" y="3354480"/>
            <a:ext cx="164880" cy="16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51040" y="4251240"/>
            <a:ext cx="16524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</a:rPr>
              <a:t>Manifestly maximized row variable</a:t>
            </a:r>
            <a:endParaRPr b="0" lang="en-US" sz="4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384120" y="160020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ow variable is manifestly maximized if every non-z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, other than the entry in the constant column, in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w is negative and lies in a column owned by a restri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4600" y="3276720"/>
            <a:ext cx="23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   1    -1    2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  -1    -3    0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92680" y="5075280"/>
            <a:ext cx="76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 is manifestly maximized in the above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is constrained to be at most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is not manifestly maximized in the above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3809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210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anifestly unbounded column variable</a:t>
            </a:r>
            <a:endParaRPr b="0" lang="en-US" sz="3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88240" y="1447920"/>
            <a:ext cx="76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umn variable is manifestly unbounded if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entry in its column is in a row owned by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restricted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9440" y="2819520"/>
            <a:ext cx="239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1     -1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    -1     -1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    -1     -2 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0      1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306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925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7000" y="5303880"/>
            <a:ext cx="78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manifestly unbounded in the above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an take arbitrarily larg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is not manifestly unbounded in the above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50400" y="1486080"/>
            <a:ext cx="933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feasible tableau T and a variable v, t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sequence of pivot operations on T leading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au T’ such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is manifestly maximized in T’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v is manifestly unbounded in 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gorith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14840" y="1541520"/>
            <a:ext cx="89593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initial tableau T with only those sign constraints that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tisfied by the sample point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If every row variable satisfies its sign constraint, return 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ick a row k owned by variable y such that the sign constrain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atisfied by the sample point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If y is manifestly maximized in T, return un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Pick a column j such that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If every restricted row has a non-negative entry in column j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Pivot(k,j). y becomes manifestly unbounded in 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, add the sign constraint for y. Go to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(i, j) = ComputePivot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Perform Pivot(T,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If the sample point of T satisfies the sign constraint for y,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the sign constraint for y.  Go to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Go to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 row variable y is not manifestly maxim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ither there is a positive entry in some colu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there is a negative entry in a column owned by an unrestricted var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gorith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-360" y="1541520"/>
            <a:ext cx="91893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initial tableau T with only those sign constraints that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tisfied by the sample point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If every row variable satisfies its sign constraint, return 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ick a row k owned by variable y such that the sign constrain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atisfied by the sample point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If y is manifestly maximized in T, return un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’. Pick a column j such that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negative and the variable in column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un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If every restricted row has a non-positive entry in column j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Pivot(k,j). y becomes manifestly unbounded in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, add the sign constraint for y. Go to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(i, j) = ComputePivot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Perform Pivot(T,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If the sample point of T satisfies the sign constraint for y,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the sign constraint for y.  Go to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Go to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18000" y="2460600"/>
            <a:ext cx="55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att’s Algorithm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ifference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atisfiability modulo arithmetic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rmula is a boolean combination of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literal is a positive or negative at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atom is either a boolean variable or a linear constraint over integer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ce constrai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624320" y="1901880"/>
            <a:ext cx="614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different kinds of 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3880" y="4000680"/>
            <a:ext cx="679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very common in program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iability procedure more efficient t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general affin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atisfiability procedure complete fo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duction to a graph proble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914040" y="14860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e a new variable z to denote the valu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12200" y="20588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7080" y="20574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-  z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7200" y="263052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81040" y="26290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 - 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911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22827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50480" y="3414600"/>
            <a:ext cx="7098120" cy="1389240"/>
            <a:chOff x="1050480" y="3414600"/>
            <a:chExt cx="7098120" cy="1389240"/>
          </a:xfrm>
        </p:grpSpPr>
        <p:sp>
          <p:nvSpPr>
            <p:cNvPr id="211" name=""/>
            <p:cNvSpPr/>
            <p:nvPr/>
          </p:nvSpPr>
          <p:spPr>
            <a:xfrm>
              <a:off x="1069200" y="341460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ariable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360" y="3414600"/>
              <a:ext cx="13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rtex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50480" y="3978360"/>
              <a:ext cx="30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nstraint x – 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43280" y="3978360"/>
              <a:ext cx="26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ge from y to x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ith weight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7080" y="525780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dd a new vertex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dd an edge with weight 0 from s to every other vertex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ore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202040" y="256212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t of constraints is satisfiable 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no negative cycle in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nd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902880" y="172260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 negative cycle in the graph, the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s is unsatisf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25200" y="2865600"/>
            <a:ext cx="19105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49560" y="4800600"/>
            <a:ext cx="528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97080" y="4923000"/>
            <a:ext cx="38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…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&lt;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817200" y="1714680"/>
            <a:ext cx="751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no negative cycle in the graph, the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s is satisf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llman-Ford algorith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1813320" y="1622520"/>
            <a:ext cx="5379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(s)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vertex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(v) 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vert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edge (u,v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d(v) &gt; d(u) + weight(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(v) := d(u) + weight(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edge (u,v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d(v) &gt; d(u) + weight(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ph contains a negative-weight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116360" y="1714680"/>
            <a:ext cx="68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no negative cycle in the graph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(v) - d(u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ight(u,v) for each edge (u,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8360" y="377208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: Assign to variable x the value d(x) –d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14240" y="609480"/>
            <a:ext cx="50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8840" y="762120"/>
            <a:ext cx="16516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63280" y="160020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14240" y="609480"/>
            <a:ext cx="50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762120"/>
            <a:ext cx="16516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63280" y="160020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505320"/>
            <a:ext cx="2057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14240" y="609480"/>
            <a:ext cx="50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8840" y="762120"/>
            <a:ext cx="16516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63280" y="160020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72240" y="31464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0240" y="27432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T, 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2057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07972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971800"/>
            <a:ext cx="2590920" cy="838080"/>
          </a:xfrm>
          <a:custGeom>
            <a:avLst/>
            <a:gdLst/>
            <a:ahLst/>
            <a:rect l="l" t="t" r="r" b="b"/>
            <a:pathLst>
              <a:path w="1632" h="528">
                <a:moveTo>
                  <a:pt x="1632" y="0"/>
                </a:moveTo>
                <a:cubicBezTo>
                  <a:pt x="952" y="220"/>
                  <a:pt x="272" y="44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59040" y="4784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4240" y="609480"/>
            <a:ext cx="50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8840" y="762120"/>
            <a:ext cx="16516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63280" y="160020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2240" y="31464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0240" y="27432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T, 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1520" y="42670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62040" y="36194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2080" y="3598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520" y="486108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T, c = T, 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505320"/>
            <a:ext cx="2057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07972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9840" y="478476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742840" y="3886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14240" y="609480"/>
            <a:ext cx="50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88840" y="762120"/>
            <a:ext cx="16516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z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&gt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 +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63280" y="160020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72240" y="31464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0240" y="27432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T, 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7760" y="42451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9440" y="36194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840" y="487692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T, d = T, 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6200" y="358128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505320"/>
            <a:ext cx="2057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07972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960" y="478476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742840" y="3885840"/>
            <a:ext cx="3505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ffine constrai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239840" y="1447920"/>
            <a:ext cx="6670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m constraints over n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5600" y="4106880"/>
            <a:ext cx="361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66440" y="4106880"/>
            <a:ext cx="390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-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160" y="5089680"/>
            <a:ext cx="361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82720" y="4937040"/>
            <a:ext cx="4574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… + (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+ (-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1:44:49Z</dcterms:created>
  <dc:creator>qadeer</dc:creator>
  <dc:description/>
  <dc:language>en-US</dc:language>
  <cp:lastModifiedBy>qadeer</cp:lastModifiedBy>
  <dcterms:modified xsi:type="dcterms:W3CDTF">2006-05-19T18:12:39Z</dcterms:modified>
  <cp:revision>368</cp:revision>
  <dc:subject/>
  <dc:title>Automated Theorem Proving</dc:title>
</cp:coreProperties>
</file>