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161-B770-433F-AB00-41B67905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09B-A3BA-468B-A882-72C64167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CAE-8F13-4E72-A936-B5F7C373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AF1-07DF-4948-BE20-4941A22D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F9F-268C-493A-BC09-FA2023E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F5C-1CB3-450B-8D69-5051DA32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14D-C81D-4306-B216-59EEDE37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57A-3E54-4D61-8B8D-9623029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0F7-4A00-4BDB-9BD1-4030AFF8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4BE-C096-407D-AB63-B4431F7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726-70C3-42FA-871E-DF40442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F07-6E5F-4922-A0A9-3C39DAC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99B-B6FF-4F92-9E5C-3D9337D2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utomated Theorem Prov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itional Satisfiabi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solu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103560" y="2638440"/>
            <a:ext cx="2920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)    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8288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99080" y="150804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505320" y="18288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4114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21560" y="47419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e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6280" y="5486400"/>
            <a:ext cx="794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lvent(b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160" y="1371600"/>
            <a:ext cx="346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dependent of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93400" y="2131920"/>
            <a:ext cx="4672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ore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026720" y="4160880"/>
            <a:ext cx="751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the resolvent to the set of clauses does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 the satisfiability of the claus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resolu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1564200" y="2335320"/>
            <a:ext cx="2181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b )    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5040" y="1676520"/>
            <a:ext cx="72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clauses being resolved is a unit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84280" y="408456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rivation of the empty clause (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41040" y="4697280"/>
            <a:ext cx="18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b )   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334120"/>
            <a:ext cx="20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97180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04600" y="2341440"/>
            <a:ext cx="2181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)    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7960" y="297828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vis-Putnam algorithm (I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925560" y="1417680"/>
            <a:ext cx="734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clause set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 1: If a clause (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, replace it with (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 2: If a clause (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, remove it from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 3a: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does not occur in any clause in 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every clause containing b from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 3b: If b does not occur in any clause in 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every clause contai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from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vis-Putnam algorithm (II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1600200"/>
            <a:ext cx="71744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e C w.r.t Rules 1, 2, 3a,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C is nonempt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a variable b appearing in some clause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’ = { resolvent(b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e C’ w.r.t. Rules 1, 2, 3a,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’) return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= 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49920" y="192420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) 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)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tisfiable exampl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2840" y="2590920"/>
            <a:ext cx="5135040" cy="992880"/>
            <a:chOff x="2832840" y="2590920"/>
            <a:chExt cx="5135040" cy="992880"/>
          </a:xfrm>
        </p:grpSpPr>
        <p:sp>
          <p:nvSpPr>
            <p:cNvPr id="93" name=""/>
            <p:cNvSpPr/>
            <p:nvPr/>
          </p:nvSpPr>
          <p:spPr>
            <a:xfrm>
              <a:off x="2832840" y="3124080"/>
              <a:ext cx="28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)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4160" y="2590920"/>
              <a:ext cx="12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ule 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380760" y="3627360"/>
            <a:ext cx="4969800" cy="1023480"/>
            <a:chOff x="3380760" y="3627360"/>
            <a:chExt cx="4969800" cy="1023480"/>
          </a:xfrm>
        </p:grpSpPr>
        <p:sp>
          <p:nvSpPr>
            <p:cNvPr id="96" name=""/>
            <p:cNvSpPr/>
            <p:nvPr/>
          </p:nvSpPr>
          <p:spPr>
            <a:xfrm>
              <a:off x="3380760" y="41911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c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1840" y="362736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solve on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795040" y="4694400"/>
            <a:ext cx="5087520" cy="1221480"/>
            <a:chOff x="2795040" y="4694400"/>
            <a:chExt cx="5087520" cy="1221480"/>
          </a:xfrm>
        </p:grpSpPr>
        <p:sp>
          <p:nvSpPr>
            <p:cNvPr id="99" name=""/>
            <p:cNvSpPr/>
            <p:nvPr/>
          </p:nvSpPr>
          <p:spPr>
            <a:xfrm>
              <a:off x="6819480" y="469440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ul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5040" y="5456160"/>
              <a:ext cx="29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ause set is emp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30280" y="1801800"/>
            <a:ext cx="45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)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3160" y="2971800"/>
            <a:ext cx="31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a )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)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9200" y="4038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 )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63640" y="495288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satisfiable exampl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2860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00400" y="22096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5600" y="24084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4290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14440" y="33526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4290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28840" y="33526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4956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648320" y="44956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84240" y="37036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5400" y="46944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988920" y="1600200"/>
            <a:ext cx="71744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e C w.r.t Rules 1, 2, 3a,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C is nonempt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a variable b appearing in some clause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’ = { resolvent(b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e C’ w.r.t. Rules 1, 2, 3a,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’) return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= 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6120" y="513720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Each of the rules 1, 2, 3a, and 3b preserve satisf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C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mory explos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988920" y="1600200"/>
            <a:ext cx="71744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e C w.r.t Rules 1, 2, 3a,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C is nonempt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a variable b appearing in some clause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’ = { resolvent(b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e C’ w.r.t. Rules 1, 2, 3a,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’) return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= 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7440" y="527364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 n be the number of clauses in the input clause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umber of clauses after i-th iteration of loop: O(n^(2^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avis-Logemann-Loveland algorithm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58560" y="182556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des 42-72 of sat_course1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wnloa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9040" y="27432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research.microsoft.com/users/lintaoz/SATSolving/satsolving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cision proced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oolean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ositional satisfi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ithmetic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itional satisfiability modulo theory of linear arithme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ory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itional satisfiability modulo theory of linear arithmetic + arr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avis-Logemann-Loveland algorithm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iminates exponential memory requi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ht still need exponential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nflict-driven learning and non-chronological backtrack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79800" y="1901880"/>
            <a:ext cx="51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des 2-20 of sat_course2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wnloa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9040" y="287964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research.microsoft.com/users/lintaoz/SATSolving/satsolving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se I: Boolean progra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lean-valued variables and boolean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400040" y="2971800"/>
            <a:ext cx="49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b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BoolCo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NP-complete problem (Cook 197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vis-Putnam algorithm (196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lution-ba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use exponentia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vis-Logemann-Loveland algorithm (196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-ba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s for all successful modern sol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-driven learning and non-chronological backtracking (1996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lution strikes bac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azing prog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SP, SATO, Chaff, ZChaff, BerkMin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junctive Normal Fo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752480"/>
            <a:ext cx="5346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NF Formula ::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use ::=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iteral ::= b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mBool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90760" y="388620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clause ( 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lause containing a single 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ty clause 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lause containing no lit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version into CNF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general, conve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an equivalent CNF formula may result in an exponential blow-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only interested in satisfiability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into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qui-satisfiab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NF formula EQCNF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satisfiable iff EQCN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satisf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ze of EQCN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polynomial in siz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version into CNF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formul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normal form NF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polynomial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NF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into equisatisfiable CNF formula EQCNF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CN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polynomial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49720" y="1757520"/>
            <a:ext cx="52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form: 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d normal form: N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rmal Fo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692080" y="2895480"/>
            <a:ext cx="45871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(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F(b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N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N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qui-satisfiable CNF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405440" y="3124080"/>
            <a:ext cx="61502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(b) = 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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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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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8000" y="1447920"/>
            <a:ext cx="6378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 formula in norm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subformu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create a fresh symbo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SymBool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b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5913360"/>
            <a:ext cx="303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CN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7:43:59Z</dcterms:created>
  <dc:creator>qadeer</dc:creator>
  <dc:description/>
  <dc:language>en-US</dc:language>
  <cp:lastModifiedBy>qadeer</cp:lastModifiedBy>
  <dcterms:modified xsi:type="dcterms:W3CDTF">2006-05-24T22:12:10Z</dcterms:modified>
  <cp:revision>201</cp:revision>
  <dc:subject/>
  <dc:title>Automated Theorem Proving</dc:title>
</cp:coreProperties>
</file>