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870-09FC-4F0A-AABE-614090AC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D27-AD6D-4B38-A71B-5CE761B2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F56-D7A9-4EC9-8BCB-1BBD0A67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CAD-77F1-47FB-B9E5-6C4C0B06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26E-1BC3-489F-9748-6353E656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8F0-B914-43E0-8D41-E7D41DF8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C70-E3C6-4F67-95E0-D88C35DF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2C0-0433-4B82-A8EC-DE240E82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5C5-70E7-42D6-92FB-8C8C8891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240-B939-4322-AC5D-0222D411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E9B-3071-4ED8-A7A9-81824BF6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4EC-8840-4DA4-9B7E-A70217B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0F63-A2FA-474D-BFEA-B08F91E7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utomated Theorem Provin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cture 1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are Rules: Assign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 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{ A } x := x + 2 {x &gt;= 5 }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at is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1240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rprising how simple the rule 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key is to compute “backwards” the precondition from the post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 rule is more complica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314880" y="1981080"/>
          <a:ext cx="2933640" cy="912960"/>
        </p:xfrm>
        <a:graphic>
          <a:graphicData uri="http://schemas.openxmlformats.org/drawingml/2006/table">
            <a:tbl>
              <a:tblPr/>
              <a:tblGrid>
                <a:gridCol w="293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{ B[E/x] } x := E {B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981080" y="4724280"/>
          <a:ext cx="5791320" cy="97308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{ A } x := E {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x’. A[x’/x]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x = E[x’/x]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akest precondition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5627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00" y="1752480"/>
            <a:ext cx="85870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jkstra’s idea: To verify that { A } s { 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Pre(s, B) = {A’ | { A’} s { B}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(Pre(s,B), )) is a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fal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(s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s,B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s,B)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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s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s,B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s,B)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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(s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WP(s, B) = lu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re(s, 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) Compute WP(s, B) and prove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P(s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dicate latti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50880" y="2590920"/>
            <a:ext cx="7610040" cy="1284840"/>
            <a:chOff x="650880" y="2590920"/>
            <a:chExt cx="7610040" cy="1284840"/>
          </a:xfrm>
        </p:grpSpPr>
        <p:sp>
          <p:nvSpPr>
            <p:cNvPr id="94" name=""/>
            <p:cNvSpPr/>
            <p:nvPr/>
          </p:nvSpPr>
          <p:spPr>
            <a:xfrm>
              <a:off x="990720" y="327672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4360" y="2638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39320" y="263844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45400" y="2590920"/>
              <a:ext cx="2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0880" y="3476880"/>
              <a:ext cx="9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ro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9280" y="335304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eak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990720" y="3087720"/>
            <a:ext cx="3124080" cy="372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(s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777040" y="3489480"/>
            <a:ext cx="2808360" cy="919440"/>
            <a:chOff x="2777040" y="3489480"/>
            <a:chExt cx="2808360" cy="919440"/>
          </a:xfrm>
        </p:grpSpPr>
        <p:sp>
          <p:nvSpPr>
            <p:cNvPr id="102" name=""/>
            <p:cNvSpPr/>
            <p:nvPr/>
          </p:nvSpPr>
          <p:spPr>
            <a:xfrm>
              <a:off x="2777040" y="3705120"/>
              <a:ext cx="280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eak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econdition: </a:t>
              </a: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WP(s, 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114800" y="34894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48840" y="3565440"/>
            <a:ext cx="375840" cy="764280"/>
            <a:chOff x="2148840" y="3565440"/>
            <a:chExt cx="375840" cy="764280"/>
          </a:xfrm>
        </p:grpSpPr>
        <p:sp>
          <p:nvSpPr>
            <p:cNvPr id="105" name=""/>
            <p:cNvSpPr/>
            <p:nvPr/>
          </p:nvSpPr>
          <p:spPr>
            <a:xfrm>
              <a:off x="2148840" y="38700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362320" y="3565440"/>
              <a:ext cx="0" cy="304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akest precondition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P(x := E, B) = B[E/x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P(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; 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B) = WP(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WP(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B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P(if E then 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else 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B) =                                                                               E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WP(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B)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WP(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P(assert E, B) = 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5240" y="20484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34000" y="1143000"/>
            <a:ext cx="353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s c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 or(bool a, bool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: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: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81640" y="5257800"/>
            <a:ext cx="583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ecture to be pro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4880" y="50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1840" y="4572000"/>
            <a:ext cx="72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P(S, c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=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66688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8520" y="3124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eakest preconditions (Contd.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loop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a family of weakest pre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while E do S, 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weakest precondition from which if the loop terminates in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fewer iterations, then it terminates in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0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i+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=  W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i 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(E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WP(s, W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P(while E do S, B) =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k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msy10"/>
              </a:rPr>
              <a:t>¸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0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W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= glb {W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| k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rd to comp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we find something easier yet sufficient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t quite weakest precondition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all what we are trying to d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590920"/>
            <a:ext cx="693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4360" y="195264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39320" y="195264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5400" y="190512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0880" y="27907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79280" y="266688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401920"/>
            <a:ext cx="3124080" cy="372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(s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7040" y="30193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ondition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P(s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14800" y="280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48840" y="31845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362320" y="287928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21080" y="2819520"/>
            <a:ext cx="2326680" cy="1529280"/>
            <a:chOff x="1621080" y="2819520"/>
            <a:chExt cx="2326680" cy="1529280"/>
          </a:xfrm>
        </p:grpSpPr>
        <p:sp>
          <p:nvSpPr>
            <p:cNvPr id="132" name=""/>
            <p:cNvSpPr/>
            <p:nvPr/>
          </p:nvSpPr>
          <p:spPr>
            <a:xfrm>
              <a:off x="1621080" y="3645000"/>
              <a:ext cx="232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erific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ition: </a:t>
              </a: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VC(s, 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716200" y="28195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4495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shall construc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verification cond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C(s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oops are annotated with loop invariant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 is guaranteed stronger than W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hopefully still weaker than A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VC(s, B)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WP(s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erification condition gener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d in a manner similar to W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pt the rule for whil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VC(whil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I,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 do s, B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    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( I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((E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VC(s, I))     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(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 </a:t>
            </a:r>
            <a:r>
              <a:rPr b="0" lang="en-US" sz="2000" spc="-1" strike="noStrike">
                <a:solidFill>
                  <a:srgbClr val="333399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B)) )[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T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loop invariant (provided by the programm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et of loop targets (can be approximated by scanning the loop bod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1206360" y="332100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38640" y="327672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preserv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rbitrar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305240" y="239976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000 h 1676520"/>
              <a:gd name="textAreaBottom" fmla="*/ 16585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10"/>
                </a:lnTo>
                <a:cubicBezTo>
                  <a:pt x="10800" y="10384"/>
                  <a:pt x="5400" y="10757"/>
                  <a:pt x="0" y="10757"/>
                </a:cubicBezTo>
                <a:cubicBezTo>
                  <a:pt x="5400" y="10757"/>
                  <a:pt x="10800" y="11131"/>
                  <a:pt x="10800" y="11504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1638000" y="293364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38520 h 533160"/>
              <a:gd name="textAreaBottom" fmla="*/ 494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07"/>
                  <a:pt x="10800" y="5014"/>
                </a:cubicBezTo>
                <a:lnTo>
                  <a:pt x="10800" y="5721"/>
                </a:lnTo>
                <a:cubicBezTo>
                  <a:pt x="10800" y="8228"/>
                  <a:pt x="5400" y="10735"/>
                  <a:pt x="0" y="10735"/>
                </a:cubicBezTo>
                <a:cubicBezTo>
                  <a:pt x="5400" y="10735"/>
                  <a:pt x="10800" y="13242"/>
                  <a:pt x="10800" y="15749"/>
                </a:cubicBezTo>
                <a:lnTo>
                  <a:pt x="10800" y="16586"/>
                </a:lnTo>
                <a:cubicBezTo>
                  <a:pt x="10800" y="1909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6748560" y="26665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240 h 1143000"/>
              <a:gd name="textAreaBottom" fmla="*/ 113076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10"/>
                </a:lnTo>
                <a:cubicBezTo>
                  <a:pt x="10800" y="10384"/>
                  <a:pt x="5400" y="10757"/>
                  <a:pt x="0" y="10757"/>
                </a:cubicBezTo>
                <a:cubicBezTo>
                  <a:pt x="5400" y="10757"/>
                  <a:pt x="10800" y="11131"/>
                  <a:pt x="10800" y="11504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45680" y="3321000"/>
            <a:ext cx="21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olds whe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p 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85880" y="838080"/>
            <a:ext cx="2995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b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s c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 add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: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: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ri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 = a + b -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t &gt;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:= c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:= t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2920" y="7632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3480" y="5981760"/>
            <a:ext cx="372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ecture to be pro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C(A, c = a +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0320" y="136440"/>
            <a:ext cx="36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(B,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 - 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-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+ 1 = a + b – (t –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572000"/>
            <a:ext cx="162000" cy="685800"/>
          </a:xfrm>
          <a:custGeom>
            <a:avLst/>
            <a:gdLst>
              <a:gd name="textAreaLeft" fmla="*/ 103680 w 162000"/>
              <a:gd name="textAreaRight" fmla="*/ 162360 w 1620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72080" y="4691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9880" y="3527280"/>
            <a:ext cx="226800" cy="2133720"/>
          </a:xfrm>
          <a:custGeom>
            <a:avLst/>
            <a:gdLst>
              <a:gd name="textAreaLeft" fmla="*/ 145080 w 226800"/>
              <a:gd name="textAreaRight" fmla="*/ 227160 w 2268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8880" y="438624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395440"/>
            <a:ext cx="380880" cy="3276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0" y="3809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33480" y="838080"/>
            <a:ext cx="38203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(L, c = a +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 –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 –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&gt;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 -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+ 1 = a + b – (t -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)[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c,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55080" y="2819520"/>
            <a:ext cx="4053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(L, c = a +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 –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 + b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gt;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 = a + b –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 +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55080" y="4865760"/>
            <a:ext cx="4053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(A, c = a +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= a + b –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 + b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gt;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 = a + b –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 +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variants Are Not Eas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the following code from QuickS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nt partition(int *a, int L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int H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int pivot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nt L = L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H = H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(L &lt; H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(a[L] &lt; pivot) L ++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(a[H] &gt; pivot) H --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(L &lt; H) { swap a[L] and a[H]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L++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eturn 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verifying only memory safe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loop invariant for the outer loop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8080" y="3733920"/>
            <a:ext cx="87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ogram verification is undecid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47880" y="2057400"/>
            <a:ext cx="729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n program P and specification 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P satisfy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erification conditions (Contd.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bout procedure call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e each procedure with a precondition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 postcondition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o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VC(f(), B) = pre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(post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gram verific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otate each procedure with a precondition and a postcondition and each loop with an invari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ify each procedure separate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119960" y="4114800"/>
            <a:ext cx="20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p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s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12600" y="4206960"/>
            <a:ext cx="37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ify that the form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C(f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p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VC(S, pos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verification condition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decision procedure for proving validity of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VC(f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s on the logic in which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VC(f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expres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338560" y="1614600"/>
            <a:ext cx="42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VC(f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pre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VC(S, 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48040" y="1219320"/>
            <a:ext cx="42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VC(f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pre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VC(S, 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erification condition logic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connected by boolean opera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depend on the program variables and operations on the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ean, integer,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depend on the language of assertions, i.e., program assertions, loop invariants, preconditions and post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cation, reachability predic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34720" y="533520"/>
            <a:ext cx="887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sume each assertion is a quantifier-free bool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bination of expressions over program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VC(f) is a boolean combination of ato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ach atom is a relation over ter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ach term is built using functions and logical cons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Logical constants are different from program vari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am variables change over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ogical constants are fix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he logical constants in VC(f) refer to the values of program variables at the beginning of 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se I: Boolean program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lean-valued variables and boolean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065960" y="2971800"/>
            <a:ext cx="49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:= A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     :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BoolCo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5240" y="20484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34000" y="1143000"/>
            <a:ext cx="353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s c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 or(bool a, bool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: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: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81640" y="5257800"/>
            <a:ext cx="583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ecture to be pro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4880" y="50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23920" y="457200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C(S, c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=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266688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28520" y="3124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se II: Arithmetic program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, integer-valued variables with affine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883080" y="3162240"/>
            <a:ext cx="592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:= A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 := b | t = 0 | t &lt; 0 |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erm := c | x | t + t | t – t | 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Bool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Int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{…,-1,0,1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85880" y="838080"/>
            <a:ext cx="2995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b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s c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 add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: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: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ri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 = a + b -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t &gt;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:= c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:= t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2920" y="7632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3480" y="5981760"/>
            <a:ext cx="372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ecture to be pro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C(A, c = a +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50320" y="136440"/>
            <a:ext cx="36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(B,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 - 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-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+ 1 = a + b – (t –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4572000"/>
            <a:ext cx="162000" cy="685800"/>
          </a:xfrm>
          <a:custGeom>
            <a:avLst/>
            <a:gdLst>
              <a:gd name="textAreaLeft" fmla="*/ 103680 w 162000"/>
              <a:gd name="textAreaRight" fmla="*/ 162360 w 1620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72080" y="4691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9880" y="3527280"/>
            <a:ext cx="226800" cy="2133720"/>
          </a:xfrm>
          <a:custGeom>
            <a:avLst/>
            <a:gdLst>
              <a:gd name="textAreaLeft" fmla="*/ 145080 w 226800"/>
              <a:gd name="textAreaRight" fmla="*/ 227160 w 2268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8880" y="438624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395440"/>
            <a:ext cx="380880" cy="3276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0" y="3809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3480" y="838080"/>
            <a:ext cx="38203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(L, c = a +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 –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 –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&gt;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 -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+ 1 = a + b – (t -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)[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c,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5080" y="2819520"/>
            <a:ext cx="4053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(L, c = a +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 = a + b –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 + b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gt;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 = a + b –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 +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55080" y="4865760"/>
            <a:ext cx="4053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(A, c = a +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= a + b –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 + b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gt;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 = a + b –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 +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se III: Memory program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ddition, a memory with read and write ope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unbounded set of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inite set of fields in each ob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field contains a boolean value, an integer value, or a reference to an ob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ach field f, two operations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elect(f,o) is the content of the memory at object o and field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pdate(f,o,v) is a new memory obtained by updating field f of object o to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model checking approa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model of the program in a decidable formal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ify the model algorithmic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icul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 creation is burden on programm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del might be incorrec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verification fails, is the problem in the model or the progra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emory axiom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479520" y="2789280"/>
            <a:ext cx="692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all objects o and o’, and memories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 = o’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Select(Update(m,o,v),o’) =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’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Select(Update(m,o,v),o’) = Select(m,o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deling memory operation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316520" y="1600200"/>
            <a:ext cx="610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at each field f as a map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b.f                        a = Select(f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f = b                        f = Update(f,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74600" y="3276720"/>
            <a:ext cx="44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{ ? } a.f = 5 { a.f + b.f = 10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2840" y="4038480"/>
            <a:ext cx="74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P(a.f = 5, a.f + b.f = 1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P(f = Update(f,a,5), Select(f,a) + Select(f,b) = 1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(Update(f,a,5),a) + Select(Update(f,a,5),b)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mplify using memory axio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839160" y="1914480"/>
            <a:ext cx="747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(Update(f,a,5),a) + Select(Update(f,a,5),b)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+ Select(Update(f,a,5),b)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(Update(f,a,5),b)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83440" y="4237200"/>
            <a:ext cx="343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=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5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lect(f,b)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50920" y="5111640"/>
            <a:ext cx="32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lect(f,b)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81400" y="1905120"/>
            <a:ext cx="777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:= A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 := b | t = 0 | t &lt; 0 |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erm := c | x | t + t | t – t | ct | Select(m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mTerm := f | Update(m,t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Bool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mIntCo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{…,-1,0,1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cision procedur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lean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itional satisfi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ithmetic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itional satisfiability modulo theory of linear arithme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ory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itional satisfiability modulo theory of linear arithmetic + arr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axiomatic approa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uxiliary specifications to the program to decompose the verification task into a set of local verification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y each local verification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icul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xiliary spec is burden on program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xiliary spec might be incorrect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verification fails, is the problem with the auxiliary specification or the progra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orem Proving and Softwar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175248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s spec/Found Bu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76720" y="3886200"/>
            <a:ext cx="2286000" cy="838080"/>
            <a:chOff x="3276720" y="3886200"/>
            <a:chExt cx="2286000" cy="838080"/>
          </a:xfrm>
        </p:grpSpPr>
        <p:sp>
          <p:nvSpPr>
            <p:cNvPr id="51" name=""/>
            <p:cNvSpPr/>
            <p:nvPr/>
          </p:nvSpPr>
          <p:spPr>
            <a:xfrm>
              <a:off x="3276720" y="3886200"/>
              <a:ext cx="22860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0680" y="3886200"/>
              <a:ext cx="135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ore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a log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62120" y="1447920"/>
            <a:ext cx="2286000" cy="1295280"/>
            <a:chOff x="762120" y="1447920"/>
            <a:chExt cx="2286000" cy="1295280"/>
          </a:xfrm>
        </p:grpSpPr>
        <p:grpSp>
          <p:nvGrpSpPr>
            <p:cNvPr id="54" name=""/>
            <p:cNvGrpSpPr/>
            <p:nvPr/>
          </p:nvGrpSpPr>
          <p:grpSpPr>
            <a:xfrm>
              <a:off x="895320" y="1447920"/>
              <a:ext cx="1676520" cy="609480"/>
              <a:chOff x="895320" y="1447920"/>
              <a:chExt cx="1676520" cy="6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895320" y="1447920"/>
                <a:ext cx="16765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24280" y="1447920"/>
                <a:ext cx="123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gra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62120" y="2133720"/>
              <a:ext cx="1981080" cy="609480"/>
              <a:chOff x="762120" y="2133720"/>
              <a:chExt cx="198108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762120" y="2133720"/>
                <a:ext cx="19810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6280" y="2181240"/>
                <a:ext cx="179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ifi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895480" y="152388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124080" y="1371600"/>
            <a:ext cx="2362320" cy="609120"/>
            <a:chOff x="3124080" y="1371600"/>
            <a:chExt cx="2362320" cy="609120"/>
          </a:xfrm>
        </p:grpSpPr>
        <p:sp>
          <p:nvSpPr>
            <p:cNvPr id="62" name=""/>
            <p:cNvSpPr/>
            <p:nvPr/>
          </p:nvSpPr>
          <p:spPr>
            <a:xfrm>
              <a:off x="3124080" y="1745640"/>
              <a:ext cx="2362320" cy="23508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cubicBezTo>
                    <a:pt x="256" y="96"/>
                    <a:pt x="512" y="0"/>
                    <a:pt x="768" y="0"/>
                  </a:cubicBezTo>
                  <a:cubicBezTo>
                    <a:pt x="1024" y="0"/>
                    <a:pt x="1280" y="96"/>
                    <a:pt x="1536" y="19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14120" y="137160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783160" y="2208240"/>
            <a:ext cx="1558800" cy="1600200"/>
            <a:chOff x="2783160" y="2208240"/>
            <a:chExt cx="1558800" cy="1600200"/>
          </a:xfrm>
        </p:grpSpPr>
        <p:sp>
          <p:nvSpPr>
            <p:cNvPr id="65" name=""/>
            <p:cNvSpPr/>
            <p:nvPr/>
          </p:nvSpPr>
          <p:spPr>
            <a:xfrm>
              <a:off x="3125880" y="2208240"/>
              <a:ext cx="1216080" cy="1600200"/>
            </a:xfrm>
            <a:custGeom>
              <a:avLst/>
              <a:gdLst/>
              <a:ahLst/>
              <a:rect l="l" t="t" r="r" b="b"/>
              <a:pathLst>
                <a:path w="768" h="1008">
                  <a:moveTo>
                    <a:pt x="0" y="0"/>
                  </a:moveTo>
                  <a:cubicBezTo>
                    <a:pt x="0" y="0"/>
                    <a:pt x="384" y="504"/>
                    <a:pt x="768" y="1008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83160" y="287964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962520" y="2209680"/>
            <a:ext cx="1447560" cy="1600200"/>
            <a:chOff x="3962520" y="2209680"/>
            <a:chExt cx="1447560" cy="1600200"/>
          </a:xfrm>
        </p:grpSpPr>
        <p:sp>
          <p:nvSpPr>
            <p:cNvPr id="68" name=""/>
            <p:cNvSpPr/>
            <p:nvPr/>
          </p:nvSpPr>
          <p:spPr>
            <a:xfrm>
              <a:off x="4495680" y="2209680"/>
              <a:ext cx="914400" cy="1600200"/>
            </a:xfrm>
            <a:custGeom>
              <a:avLst/>
              <a:gdLst/>
              <a:ahLst/>
              <a:rect l="l" t="t" r="r" b="b"/>
              <a:pathLst>
                <a:path w="576" h="1008">
                  <a:moveTo>
                    <a:pt x="0" y="1008"/>
                  </a:moveTo>
                  <a:cubicBezTo>
                    <a:pt x="28" y="908"/>
                    <a:pt x="74" y="574"/>
                    <a:pt x="170" y="406"/>
                  </a:cubicBezTo>
                  <a:cubicBezTo>
                    <a:pt x="266" y="238"/>
                    <a:pt x="492" y="85"/>
                    <a:pt x="57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2520" y="243828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id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648320" y="2286000"/>
            <a:ext cx="2802600" cy="1541880"/>
            <a:chOff x="4648320" y="2286000"/>
            <a:chExt cx="2802600" cy="1541880"/>
          </a:xfrm>
        </p:grpSpPr>
        <p:sp>
          <p:nvSpPr>
            <p:cNvPr id="71" name=""/>
            <p:cNvSpPr/>
            <p:nvPr/>
          </p:nvSpPr>
          <p:spPr>
            <a:xfrm>
              <a:off x="4648320" y="2286000"/>
              <a:ext cx="1066680" cy="1523880"/>
            </a:xfrm>
            <a:custGeom>
              <a:avLst/>
              <a:gdLst/>
              <a:ahLst/>
              <a:rect l="l" t="t" r="r" b="b"/>
              <a:pathLst>
                <a:path w="672" h="960">
                  <a:moveTo>
                    <a:pt x="0" y="960"/>
                  </a:moveTo>
                  <a:cubicBezTo>
                    <a:pt x="208" y="824"/>
                    <a:pt x="416" y="688"/>
                    <a:pt x="528" y="528"/>
                  </a:cubicBezTo>
                  <a:cubicBezTo>
                    <a:pt x="640" y="368"/>
                    <a:pt x="656" y="184"/>
                    <a:pt x="672" y="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04680" y="3124080"/>
              <a:ext cx="204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v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theorem provin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4723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ndnes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theorem is valid then the program meets spec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theorem is provable then it is va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verview of the Next Few Lectur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programs to theor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ication condition gen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theorems to proo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em pro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sion 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grams </a:t>
            </a:r>
            <a:r>
              <a:rPr b="0" lang="en-US" sz="4400" spc="-1" strike="noStrike">
                <a:solidFill>
                  <a:srgbClr val="ff0000"/>
                </a:solidFill>
                <a:latin typeface="cmsy10"/>
              </a:rPr>
              <a:t>!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Theorems = Axiomatic Semantic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anguage for making assertions about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s for establishing when assertions ho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 asser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the execution, only non-null pointers are dereferenc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gram terminates with x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al vs. total correctness asser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vs. liveness prope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ually focus on safety (partial correctnes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are Tripl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al correctness: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{ A } s { B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start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any state that satisfies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xecution of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rmin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oes so in a state that satisfies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correctness: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[ A ] s [ B 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start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any state that satisfies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xecution of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rminates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oes so in a state that satisfies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d inductively on the structure of stat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are Rul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400480" y="1754280"/>
          <a:ext cx="4152600" cy="912600"/>
        </p:xfrm>
        <a:graphic>
          <a:graphicData uri="http://schemas.openxmlformats.org/drawingml/2006/table">
            <a:tbl>
              <a:tblPr/>
              <a:tblGrid>
                <a:gridCol w="41526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{A} 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{C}            {C} 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{B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{ A } 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; 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{B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295280" y="3124080"/>
          <a:ext cx="6858000" cy="9115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{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} 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{B}            {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} 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{B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{A} if E then 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lse 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{B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14600" y="4572000"/>
          <a:ext cx="4648320" cy="91116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{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} s {I}          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{ I} while E do s {B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08:13Z</dcterms:created>
  <dc:creator>qadeer</dc:creator>
  <dc:description/>
  <dc:language>en-US</dc:language>
  <cp:lastModifiedBy>qadeer</cp:lastModifiedBy>
  <dcterms:modified xsi:type="dcterms:W3CDTF">2006-05-04T20:39:41Z</dcterms:modified>
  <cp:revision>407</cp:revision>
  <dc:subject/>
  <dc:title>Automated Theorem Proving Lecture 1</dc:title>
</cp:coreProperties>
</file>