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33A3-04B5-46BD-9392-02B08FCB4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E339-B5A5-48A0-82C9-70A953CE1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1623-E404-419D-870F-61CF4A031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ED4D-B458-49AA-8A0E-DFE67F46E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E740-5846-41F9-BDC0-B2EE3A44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AAD1-20DE-4349-BF88-A6E48DEC2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45DD-CB93-4CC0-87F3-9E92C1904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07B1-70E9-41DD-A2FB-047F1F303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7550-2211-4D07-A6D4-716CF205F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E8A4-1214-4AC8-BDD0-663F92C4A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7A86-F1A5-4D25-9FAD-E2A69999F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48B2-DBF1-4E38-BF1C-07BD5A5D2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50E9-5D45-4436-AF61-B2894FE6E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1DED-30E2-4FC1-B910-19BD269C5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11AC-4584-4F03-A714-904B0FB10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E944-8F02-45AC-AA01-89DDCA84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1B4A-ABE9-41C9-8DA4-7256BF5C9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0899-8F40-4AED-8547-68B865EA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6045-6B96-4175-9AAE-34A11CA3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17D7-7BF7-4FF0-8BB7-7941AFCB3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B662-5BE8-46B1-B5C3-2FEB1C565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FCE8-960F-48A9-ADCE-D9524442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0D1E-BC03-4AEF-BAFB-0C497EA74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208D-2E77-42CE-96BA-8320DDC7C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669C-E8C9-4021-99DF-593AF38E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4BF6-1262-46F7-9910-02AB0AD34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3193-4161-442D-8957-9CD52607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F586-003C-4109-BFE1-235DFA35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e over surface and evolve to minimize cos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94C-8B79-484D-8680-9AFE94BE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29B-F555-4530-B57C-4386F0E7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A89-01B3-4F48-AEFD-FAE85D5D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0F0-E0A2-47AE-AE4B-D5535016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25B-829F-4D6C-9FD2-6A633DAD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29F-E04E-4D82-96C1-FF2E1114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CC2-52CC-4992-93EC-A987430A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5A7-8B98-4CB6-9497-51301C1E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296-006B-446A-9E5C-8F35776A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2A4-C09F-4839-99C3-10C4E07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C07-587C-4BF3-A581-87ABD692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9DB7-CE64-43A9-8116-7A6D6053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1BBE-F9E3-4B31-B326-DD85AE99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te, Dense and Robust Multi-View Stereop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sutaka Furukawa and Jean P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71600" y="45720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 Rahul Garg and Ryan Kamin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Constraints on scene ge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ing box 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h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disp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5791320" y="3048120"/>
            <a:ext cx="28670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1"/>
          <a:stretch/>
        </p:blipFill>
        <p:spPr>
          <a:xfrm>
            <a:off x="1278000" y="1828800"/>
            <a:ext cx="6570720" cy="2048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1066680" y="3886200"/>
            <a:ext cx="73152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im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ed              reconstructed       final patches      polygonal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s              patches after     after expansion    from reconstruc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itial           and filtering             p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04920" y="2438280"/>
            <a:ext cx="152388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666880" y="2438280"/>
            <a:ext cx="14479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952880" y="2438280"/>
            <a:ext cx="15242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04920" y="3429000"/>
            <a:ext cx="15238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905120" y="32511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4191120" y="32511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13"/>
          <p:cNvCxnSpPr/>
          <p:nvPr/>
        </p:nvCxnSpPr>
        <p:spPr>
          <a:xfrm rot="5400000">
            <a:off x="4570920" y="3124800"/>
            <a:ext cx="2160" cy="2439000"/>
          </a:xfrm>
          <a:prstGeom prst="bentConnector3">
            <a:avLst>
              <a:gd name="adj1" fmla="val 480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Rectangle 14"/>
          <p:cNvSpPr/>
          <p:nvPr/>
        </p:nvSpPr>
        <p:spPr>
          <a:xfrm>
            <a:off x="7238880" y="2438280"/>
            <a:ext cx="16002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6540480" y="32385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6481800" y="2666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features using Harris Corner and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matching to generate sparse set of p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ch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p): Most closely associated image with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p): Images where 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p): Images where p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u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971800" y="3448080"/>
            <a:ext cx="24764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451"/>
          <p:cNvSpPr/>
          <p:nvPr/>
        </p:nvSpPr>
        <p:spPr>
          <a:xfrm>
            <a:off x="3124080" y="3962520"/>
            <a:ext cx="2971800" cy="8380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3429000"/>
          <a:ext cx="2590920" cy="3124080"/>
        </p:xfrm>
        <a:graphic>
          <a:graphicData uri="http://schemas.openxmlformats.org/drawingml/2006/table">
            <a:tbl>
              <a:tblPr/>
              <a:tblGrid>
                <a:gridCol w="432000"/>
                <a:gridCol w="406440"/>
                <a:gridCol w="457200"/>
                <a:gridCol w="431640"/>
                <a:gridCol w="432000"/>
                <a:gridCol w="43164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352680" y="3429000"/>
          <a:ext cx="2590920" cy="3108240"/>
        </p:xfrm>
        <a:graphic>
          <a:graphicData uri="http://schemas.openxmlformats.org/drawingml/2006/table">
            <a:tbl>
              <a:tblPr/>
              <a:tblGrid>
                <a:gridCol w="432000"/>
                <a:gridCol w="406440"/>
                <a:gridCol w="457200"/>
                <a:gridCol w="431640"/>
                <a:gridCol w="432000"/>
                <a:gridCol w="43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248520" y="3429000"/>
          <a:ext cx="2590560" cy="3108240"/>
        </p:xfrm>
        <a:graphic>
          <a:graphicData uri="http://schemas.openxmlformats.org/drawingml/2006/table">
            <a:tbl>
              <a:tblPr/>
              <a:tblGrid>
                <a:gridCol w="431640"/>
                <a:gridCol w="406440"/>
                <a:gridCol w="457200"/>
                <a:gridCol w="431640"/>
                <a:gridCol w="432000"/>
                <a:gridCol w="431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Freeform 395"/>
          <p:cNvSpPr/>
          <p:nvPr/>
        </p:nvSpPr>
        <p:spPr>
          <a:xfrm>
            <a:off x="380880" y="3111480"/>
            <a:ext cx="457200" cy="31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6"/>
          <p:cNvSpPr/>
          <p:nvPr/>
        </p:nvSpPr>
        <p:spPr>
          <a:xfrm>
            <a:off x="22860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ix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97"/>
          <p:cNvSpPr/>
          <p:nvPr/>
        </p:nvSpPr>
        <p:spPr>
          <a:xfrm>
            <a:off x="1422360" y="414036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50"/>
          <p:cNvSpPr/>
          <p:nvPr/>
        </p:nvSpPr>
        <p:spPr>
          <a:xfrm>
            <a:off x="4394160" y="428004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52"/>
          <p:cNvSpPr/>
          <p:nvPr/>
        </p:nvSpPr>
        <p:spPr>
          <a:xfrm>
            <a:off x="3733920" y="4433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Epipolar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55"/>
          <p:cNvGrpSpPr/>
          <p:nvPr/>
        </p:nvGrpSpPr>
        <p:grpSpPr>
          <a:xfrm>
            <a:off x="2286000" y="1219320"/>
            <a:ext cx="533520" cy="228600"/>
            <a:chOff x="2286000" y="1219320"/>
            <a:chExt cx="533520" cy="228600"/>
          </a:xfrm>
        </p:grpSpPr>
        <p:sp>
          <p:nvSpPr>
            <p:cNvPr id="113" name="Line 453"/>
            <p:cNvSpPr/>
            <p:nvPr/>
          </p:nvSpPr>
          <p:spPr>
            <a:xfrm>
              <a:off x="2286000" y="121932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4"/>
            <p:cNvSpPr/>
            <p:nvPr/>
          </p:nvSpPr>
          <p:spPr>
            <a:xfrm>
              <a:off x="2552760" y="1219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56"/>
          <p:cNvSpPr/>
          <p:nvPr/>
        </p:nvSpPr>
        <p:spPr>
          <a:xfrm flipV="1">
            <a:off x="1447920" y="1599840"/>
            <a:ext cx="9144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57"/>
          <p:cNvSpPr/>
          <p:nvPr/>
        </p:nvSpPr>
        <p:spPr>
          <a:xfrm flipH="1" flipV="1">
            <a:off x="2819160" y="1600200"/>
            <a:ext cx="160020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58"/>
          <p:cNvSpPr/>
          <p:nvPr/>
        </p:nvSpPr>
        <p:spPr>
          <a:xfrm>
            <a:off x="1371600" y="380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p): from trian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59"/>
          <p:cNvSpPr/>
          <p:nvPr/>
        </p:nvSpPr>
        <p:spPr>
          <a:xfrm>
            <a:off x="1384200" y="700200"/>
            <a:ext cx="49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p): Direction of optical ray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60"/>
          <p:cNvSpPr/>
          <p:nvPr/>
        </p:nvSpPr>
        <p:spPr>
          <a:xfrm>
            <a:off x="7772400" y="41148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61"/>
          <p:cNvSpPr/>
          <p:nvPr/>
        </p:nvSpPr>
        <p:spPr>
          <a:xfrm flipH="1" flipV="1">
            <a:off x="3200400" y="1447920"/>
            <a:ext cx="457200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62"/>
          <p:cNvGrpSpPr/>
          <p:nvPr/>
        </p:nvGrpSpPr>
        <p:grpSpPr>
          <a:xfrm>
            <a:off x="2575440" y="1251720"/>
            <a:ext cx="525240" cy="270360"/>
            <a:chOff x="2575440" y="1251720"/>
            <a:chExt cx="525240" cy="270360"/>
          </a:xfrm>
        </p:grpSpPr>
        <p:sp>
          <p:nvSpPr>
            <p:cNvPr id="122" name="Line 463"/>
            <p:cNvSpPr/>
            <p:nvPr/>
          </p:nvSpPr>
          <p:spPr>
            <a:xfrm flipV="1">
              <a:off x="2575440" y="1251720"/>
              <a:ext cx="525240" cy="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64"/>
            <p:cNvSpPr/>
            <p:nvPr/>
          </p:nvSpPr>
          <p:spPr>
            <a:xfrm>
              <a:off x="2837880" y="1297080"/>
              <a:ext cx="38880" cy="22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478"/>
          <p:cNvSpPr/>
          <p:nvPr/>
        </p:nvSpPr>
        <p:spPr>
          <a:xfrm>
            <a:off x="4191120" y="3936960"/>
            <a:ext cx="457200" cy="53352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1"/>
          <p:cNvSpPr/>
          <p:nvPr/>
        </p:nvSpPr>
        <p:spPr>
          <a:xfrm>
            <a:off x="1219320" y="3949560"/>
            <a:ext cx="457200" cy="53352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82"/>
          <p:cNvSpPr/>
          <p:nvPr/>
        </p:nvSpPr>
        <p:spPr>
          <a:xfrm>
            <a:off x="7531200" y="3936960"/>
            <a:ext cx="457200" cy="533520"/>
          </a:xfrm>
          <a:prstGeom prst="rect">
            <a:avLst/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zed Cross Correlation (N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276200" y="1447920"/>
            <a:ext cx="6267600" cy="1581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1714680" y="4503600"/>
            <a:ext cx="5371920" cy="12114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605240" y="382428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 step:  Maximizing the average NCC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838080" y="281844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    is the mean of the feature and        is the mean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in the region under the featu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$ \bar{t} $"/>
          <p:cNvPicPr/>
          <p:nvPr/>
        </p:nvPicPr>
        <p:blipFill>
          <a:blip r:embed="rId3"/>
          <a:stretch/>
        </p:blipFill>
        <p:spPr>
          <a:xfrm>
            <a:off x="1486080" y="2882880"/>
            <a:ext cx="95040" cy="152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$ \bar{f}_{u,v} $"/>
          <p:cNvPicPr/>
          <p:nvPr/>
        </p:nvPicPr>
        <p:blipFill>
          <a:blip r:embed="rId4"/>
          <a:stretch/>
        </p:blipFill>
        <p:spPr>
          <a:xfrm>
            <a:off x="4089240" y="2819520"/>
            <a:ext cx="2955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ch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patches along tangential planes into empty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7"/>
          <p:cNvGrpSpPr/>
          <p:nvPr/>
        </p:nvGrpSpPr>
        <p:grpSpPr>
          <a:xfrm>
            <a:off x="3657240" y="3621960"/>
            <a:ext cx="1448280" cy="843840"/>
            <a:chOff x="3657240" y="3621960"/>
            <a:chExt cx="1448280" cy="843840"/>
          </a:xfrm>
        </p:grpSpPr>
        <p:sp>
          <p:nvSpPr>
            <p:cNvPr id="137" name="Rectangle 5"/>
            <p:cNvSpPr/>
            <p:nvPr/>
          </p:nvSpPr>
          <p:spPr>
            <a:xfrm rot="18600">
              <a:off x="3657240" y="4384440"/>
              <a:ext cx="1447920" cy="770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Straight Arrow Connector 10"/>
            <p:cNvCxnSpPr>
              <a:stCxn id="137" idx="0"/>
            </p:cNvCxnSpPr>
            <p:nvPr/>
          </p:nvCxnSpPr>
          <p:spPr>
            <a:xfrm flipH="1" flipV="1">
              <a:off x="4373640" y="3621960"/>
              <a:ext cx="12600" cy="773280"/>
            </a:xfrm>
            <a:prstGeom prst="straightConnector1">
              <a:avLst/>
            </a:prstGeom>
            <a:ln w="9360">
              <a:solidFill>
                <a:srgbClr val="004620"/>
              </a:solidFill>
              <a:miter/>
              <a:tailEnd len="med" type="arrow" w="med"/>
            </a:ln>
          </p:spPr>
        </p:cxnSp>
      </p:grpSp>
      <p:sp>
        <p:nvSpPr>
          <p:cNvPr id="139" name="Straight Connector 19"/>
          <p:cNvSpPr/>
          <p:nvPr/>
        </p:nvSpPr>
        <p:spPr>
          <a:xfrm flipV="1">
            <a:off x="762120" y="4495680"/>
            <a:ext cx="7543800" cy="7632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 rot="18600">
            <a:off x="5305320" y="4385880"/>
            <a:ext cx="1447920" cy="763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22"/>
          <p:cNvCxnSpPr>
            <a:stCxn id="140" idx="0"/>
          </p:cNvCxnSpPr>
          <p:nvPr/>
        </p:nvCxnSpPr>
        <p:spPr>
          <a:xfrm flipH="1" flipV="1">
            <a:off x="6017760" y="3623040"/>
            <a:ext cx="10440" cy="763560"/>
          </a:xfrm>
          <a:prstGeom prst="straightConnector1">
            <a:avLst/>
          </a:prstGeom>
          <a:ln w="9360">
            <a:solidFill>
              <a:srgbClr val="004620"/>
            </a:solidFill>
            <a:miter/>
            <a:tailEnd len="med" type="arrow" w="med"/>
          </a:ln>
        </p:spPr>
      </p:cxnSp>
      <p:sp>
        <p:nvSpPr>
          <p:cNvPr id="142" name="Rectangle 24"/>
          <p:cNvSpPr/>
          <p:nvPr/>
        </p:nvSpPr>
        <p:spPr>
          <a:xfrm rot="18600">
            <a:off x="1979640" y="4385880"/>
            <a:ext cx="1447920" cy="763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Arrow Connector 25"/>
          <p:cNvCxnSpPr>
            <a:stCxn id="142" idx="0"/>
          </p:cNvCxnSpPr>
          <p:nvPr/>
        </p:nvCxnSpPr>
        <p:spPr>
          <a:xfrm flipH="1" flipV="1">
            <a:off x="2692080" y="3623040"/>
            <a:ext cx="11880" cy="763560"/>
          </a:xfrm>
          <a:prstGeom prst="straightConnector1">
            <a:avLst/>
          </a:prstGeom>
          <a:ln w="9360">
            <a:solidFill>
              <a:srgbClr val="004620"/>
            </a:solidFill>
            <a:miter/>
            <a:tailEnd len="med" type="arrow" w="med"/>
          </a:ln>
        </p:spPr>
      </p:cxnSp>
      <p:grpSp>
        <p:nvGrpSpPr>
          <p:cNvPr id="144" name="Group 32"/>
          <p:cNvGrpSpPr/>
          <p:nvPr/>
        </p:nvGrpSpPr>
        <p:grpSpPr>
          <a:xfrm>
            <a:off x="1950840" y="3618720"/>
            <a:ext cx="1448280" cy="905760"/>
            <a:chOff x="1950840" y="3618720"/>
            <a:chExt cx="1448280" cy="905760"/>
          </a:xfrm>
        </p:grpSpPr>
        <p:sp>
          <p:nvSpPr>
            <p:cNvPr id="145" name="Rectangle 33"/>
            <p:cNvSpPr/>
            <p:nvPr/>
          </p:nvSpPr>
          <p:spPr>
            <a:xfrm rot="21256200">
              <a:off x="1950840" y="4375800"/>
              <a:ext cx="1447920" cy="7632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Straight Arrow Connector 34"/>
            <p:cNvCxnSpPr>
              <a:stCxn id="145" idx="0"/>
            </p:cNvCxnSpPr>
            <p:nvPr/>
          </p:nvCxnSpPr>
          <p:spPr>
            <a:xfrm flipH="1" flipV="1">
              <a:off x="2576520" y="3618720"/>
              <a:ext cx="92520" cy="760320"/>
            </a:xfrm>
            <a:prstGeom prst="straightConnector1">
              <a:avLst/>
            </a:prstGeom>
            <a:ln w="9360">
              <a:solidFill>
                <a:srgbClr val="004620"/>
              </a:solidFill>
              <a:miter/>
              <a:tailEnd len="med" type="arrow" w="med"/>
            </a:ln>
          </p:spPr>
        </p:cxnSp>
      </p:grpSp>
      <p:grpSp>
        <p:nvGrpSpPr>
          <p:cNvPr id="147" name="Group 35"/>
          <p:cNvGrpSpPr/>
          <p:nvPr/>
        </p:nvGrpSpPr>
        <p:grpSpPr>
          <a:xfrm>
            <a:off x="5333040" y="3580920"/>
            <a:ext cx="1449360" cy="886680"/>
            <a:chOff x="5333040" y="3580920"/>
            <a:chExt cx="1449360" cy="886680"/>
          </a:xfrm>
        </p:grpSpPr>
        <p:sp>
          <p:nvSpPr>
            <p:cNvPr id="148" name="Rectangle 36"/>
            <p:cNvSpPr/>
            <p:nvPr/>
          </p:nvSpPr>
          <p:spPr>
            <a:xfrm rot="229200">
              <a:off x="5333760" y="4343400"/>
              <a:ext cx="1447560" cy="759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Straight Arrow Connector 37"/>
            <p:cNvCxnSpPr>
              <a:stCxn id="148" idx="0"/>
            </p:cNvCxnSpPr>
            <p:nvPr/>
          </p:nvCxnSpPr>
          <p:spPr>
            <a:xfrm flipV="1">
              <a:off x="6059880" y="3580920"/>
              <a:ext cx="35640" cy="763200"/>
            </a:xfrm>
            <a:prstGeom prst="straightConnector1">
              <a:avLst/>
            </a:prstGeom>
            <a:ln w="9360">
              <a:solidFill>
                <a:srgbClr val="004620"/>
              </a:solidFill>
              <a:miter/>
              <a:tailEnd len="med" type="arrow" w="med"/>
            </a:ln>
          </p:spPr>
        </p:cxnSp>
      </p:grpSp>
      <p:sp>
        <p:nvSpPr>
          <p:cNvPr id="150" name="Rectangle 3"/>
          <p:cNvSpPr/>
          <p:nvPr/>
        </p:nvSpPr>
        <p:spPr>
          <a:xfrm>
            <a:off x="457200" y="5105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for normal and center and add if photometric constraints are satisfied in at least k im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ing visibility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62120" y="2724120"/>
            <a:ext cx="2562120" cy="291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5638680" y="2647800"/>
            <a:ext cx="2409840" cy="306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3519360" y="2209680"/>
            <a:ext cx="2105280" cy="933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609480" y="5857920"/>
            <a:ext cx="1981440" cy="39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5"/>
          <a:stretch/>
        </p:blipFill>
        <p:spPr>
          <a:xfrm>
            <a:off x="2610000" y="5772240"/>
            <a:ext cx="158112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6"/>
          <a:stretch/>
        </p:blipFill>
        <p:spPr>
          <a:xfrm>
            <a:off x="6105600" y="5791320"/>
            <a:ext cx="151452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smoothness constraint : Remove patches for which proportion of neighboring patches with tangential plane “nearly” parallel is less tha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 rot="2266200">
            <a:off x="3631680" y="4746240"/>
            <a:ext cx="1447920" cy="763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5"/>
          <p:cNvCxnSpPr>
            <a:stCxn id="161" idx="0"/>
          </p:cNvCxnSpPr>
          <p:nvPr/>
        </p:nvCxnSpPr>
        <p:spPr>
          <a:xfrm flipV="1">
            <a:off x="4379400" y="4141440"/>
            <a:ext cx="454680" cy="612360"/>
          </a:xfrm>
          <a:prstGeom prst="straightConnector1">
            <a:avLst/>
          </a:prstGeom>
          <a:ln w="9360">
            <a:solidFill>
              <a:srgbClr val="004620"/>
            </a:solidFill>
            <a:miter/>
            <a:tailEnd len="med" type="arrow" w="med"/>
          </a:ln>
        </p:spPr>
      </p:cxnSp>
      <p:sp>
        <p:nvSpPr>
          <p:cNvPr id="163" name="Straight Connector 6"/>
          <p:cNvSpPr/>
          <p:nvPr/>
        </p:nvSpPr>
        <p:spPr>
          <a:xfrm flipV="1">
            <a:off x="762120" y="4919400"/>
            <a:ext cx="7543800" cy="7596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 rot="18600">
            <a:off x="5305320" y="4809600"/>
            <a:ext cx="1447920" cy="7632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8"/>
          <p:cNvCxnSpPr>
            <a:stCxn id="164" idx="0"/>
          </p:cNvCxnSpPr>
          <p:nvPr/>
        </p:nvCxnSpPr>
        <p:spPr>
          <a:xfrm flipH="1" flipV="1">
            <a:off x="6017760" y="4047480"/>
            <a:ext cx="10440" cy="763200"/>
          </a:xfrm>
          <a:prstGeom prst="straightConnector1">
            <a:avLst/>
          </a:prstGeom>
          <a:ln w="9360">
            <a:solidFill>
              <a:srgbClr val="004620"/>
            </a:solidFill>
            <a:miter/>
            <a:tailEnd len="med" type="arrow" w="med"/>
          </a:ln>
        </p:spPr>
      </p:cxnSp>
      <p:sp>
        <p:nvSpPr>
          <p:cNvPr id="166" name="Rectangle 9"/>
          <p:cNvSpPr/>
          <p:nvPr/>
        </p:nvSpPr>
        <p:spPr>
          <a:xfrm rot="18600">
            <a:off x="1979640" y="4809600"/>
            <a:ext cx="1447920" cy="7632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10"/>
          <p:cNvCxnSpPr>
            <a:stCxn id="166" idx="0"/>
          </p:cNvCxnSpPr>
          <p:nvPr/>
        </p:nvCxnSpPr>
        <p:spPr>
          <a:xfrm flipH="1" flipV="1">
            <a:off x="2692080" y="4047480"/>
            <a:ext cx="11880" cy="763200"/>
          </a:xfrm>
          <a:prstGeom prst="straightConnector1">
            <a:avLst/>
          </a:prstGeom>
          <a:ln w="9360">
            <a:solidFill>
              <a:srgbClr val="004620"/>
            </a:solidFill>
            <a:miter/>
            <a:tailEnd len="med" type="arrow" w="med"/>
          </a:ln>
        </p:spPr>
      </p:cxnSp>
      <p:grpSp>
        <p:nvGrpSpPr>
          <p:cNvPr id="168" name="Group 11"/>
          <p:cNvGrpSpPr/>
          <p:nvPr/>
        </p:nvGrpSpPr>
        <p:grpSpPr>
          <a:xfrm>
            <a:off x="426960" y="4118760"/>
            <a:ext cx="1447920" cy="905760"/>
            <a:chOff x="426960" y="4118760"/>
            <a:chExt cx="1447920" cy="905760"/>
          </a:xfrm>
        </p:grpSpPr>
        <p:sp>
          <p:nvSpPr>
            <p:cNvPr id="169" name="Rectangle 12"/>
            <p:cNvSpPr/>
            <p:nvPr/>
          </p:nvSpPr>
          <p:spPr>
            <a:xfrm rot="21256200">
              <a:off x="426960" y="4875840"/>
              <a:ext cx="1447560" cy="7632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0" name="Straight Arrow Connector 13"/>
            <p:cNvCxnSpPr>
              <a:stCxn id="169" idx="0"/>
            </p:cNvCxnSpPr>
            <p:nvPr/>
          </p:nvCxnSpPr>
          <p:spPr>
            <a:xfrm flipH="1" flipV="1">
              <a:off x="1052640" y="4118760"/>
              <a:ext cx="92520" cy="760320"/>
            </a:xfrm>
            <a:prstGeom prst="straightConnector1">
              <a:avLst/>
            </a:prstGeom>
            <a:ln w="9360">
              <a:solidFill>
                <a:srgbClr val="004620"/>
              </a:solidFill>
              <a:miter/>
              <a:tailEnd len="med" type="arrow" w="med"/>
            </a:ln>
          </p:spPr>
        </p:cxnSp>
      </p:grpSp>
      <p:grpSp>
        <p:nvGrpSpPr>
          <p:cNvPr id="171" name="Group 14"/>
          <p:cNvGrpSpPr/>
          <p:nvPr/>
        </p:nvGrpSpPr>
        <p:grpSpPr>
          <a:xfrm>
            <a:off x="7009200" y="4004640"/>
            <a:ext cx="1449720" cy="886680"/>
            <a:chOff x="7009200" y="4004640"/>
            <a:chExt cx="1449720" cy="886680"/>
          </a:xfrm>
        </p:grpSpPr>
        <p:sp>
          <p:nvSpPr>
            <p:cNvPr id="172" name="Rectangle 15"/>
            <p:cNvSpPr/>
            <p:nvPr/>
          </p:nvSpPr>
          <p:spPr>
            <a:xfrm rot="229200">
              <a:off x="7009920" y="4767120"/>
              <a:ext cx="1447920" cy="759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traight Arrow Connector 16"/>
            <p:cNvCxnSpPr>
              <a:stCxn id="172" idx="0"/>
            </p:cNvCxnSpPr>
            <p:nvPr/>
          </p:nvCxnSpPr>
          <p:spPr>
            <a:xfrm flipV="1">
              <a:off x="7736400" y="4004640"/>
              <a:ext cx="35640" cy="762840"/>
            </a:xfrm>
            <a:prstGeom prst="straightConnector1">
              <a:avLst/>
            </a:prstGeom>
            <a:ln w="9360">
              <a:solidFill>
                <a:srgbClr val="004620"/>
              </a:solidFill>
              <a:miter/>
              <a:tailEnd len="med" type="arrow" w="med"/>
            </a:ln>
          </p:spPr>
        </p:cxnSp>
      </p:grp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519360" y="5391000"/>
            <a:ext cx="21052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view Stereo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to other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al Surface Re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e using convex hull of p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ly deform/snap to the patch model using two kinds of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ness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metric Consistency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85800" y="4619520"/>
            <a:ext cx="3543480" cy="19335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6"/>
          <p:cNvSpPr/>
          <p:nvPr/>
        </p:nvSpPr>
        <p:spPr>
          <a:xfrm>
            <a:off x="4727160" y="4800600"/>
            <a:ext cx="407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  : Current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*    : Tru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v)  : Normal at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) : Set of patches compatible with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v)  : Distance between S and 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hm Taxonomy Catego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Map + M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consistency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P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ocal smoot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extraction , depth maps, optimization over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136520" y="1295280"/>
            <a:ext cx="2978280" cy="4757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5343480" y="1219320"/>
            <a:ext cx="3075120" cy="48765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1609200" y="61722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427360" y="617220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gonal Surfa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nskullb.m1v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n vision.middlebury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3124080"/>
          <a:ext cx="8534520" cy="210348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1066680"/>
                <a:gridCol w="1067040"/>
                <a:gridCol w="1303200"/>
                <a:gridCol w="949320"/>
                <a:gridCol w="94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mple (# of view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no (# of view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rse(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esele et. 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andez et. 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4"/>
          <p:cNvSpPr/>
          <p:nvPr/>
        </p:nvSpPr>
        <p:spPr>
          <a:xfrm>
            <a:off x="845640" y="5257800"/>
            <a:ext cx="77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cy Measure: Distance d in mm which brings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reconstruction within ground tr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460800" y="647712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Old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724280" y="3505320"/>
            <a:ext cx="4267440" cy="1752480"/>
          </a:xfrm>
          <a:prstGeom prst="rect">
            <a:avLst/>
          </a:prstGeom>
          <a:noFill/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3000600" cy="30006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 occlusions/obsta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228600" y="2476440"/>
            <a:ext cx="63054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 similar to Goesele et al. (ICCV’07) – initialize patches, expand and optimize for position and norm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71600" y="3429000"/>
          <a:ext cx="6095880" cy="2200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is 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oesele et. 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ize patches using triangulated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ize using Structure from Motion 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it occlusion handl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lusion handling through outlier removal and view selection, prioritize patch candidates for expa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 the problem as an optimization problem simultaneously accounting for local smoothness, photo consistency, oc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ce of Expand/Filter – do more iterations lead to better reco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/Outlier handling – results on mor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patch model  – Adaptive Resolution, generalizes to large number of object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view Ster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e shape reconstruction from multiple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inoSR0007"/>
          <p:cNvPicPr/>
          <p:nvPr/>
        </p:nvPicPr>
        <p:blipFill>
          <a:blip r:embed="rId1"/>
          <a:stretch/>
        </p:blipFill>
        <p:spPr>
          <a:xfrm>
            <a:off x="990720" y="2438280"/>
            <a:ext cx="1314360" cy="175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inoSR0001"/>
          <p:cNvPicPr/>
          <p:nvPr/>
        </p:nvPicPr>
        <p:blipFill>
          <a:blip r:embed="rId2"/>
          <a:stretch/>
        </p:blipFill>
        <p:spPr>
          <a:xfrm>
            <a:off x="2743200" y="2438280"/>
            <a:ext cx="1314360" cy="17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dinoSR0010"/>
          <p:cNvPicPr/>
          <p:nvPr/>
        </p:nvPicPr>
        <p:blipFill>
          <a:blip r:embed="rId3"/>
          <a:stretch/>
        </p:blipFill>
        <p:spPr>
          <a:xfrm>
            <a:off x="4495680" y="2438280"/>
            <a:ext cx="131472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dinoSR0013"/>
          <p:cNvPicPr/>
          <p:nvPr/>
        </p:nvPicPr>
        <p:blipFill>
          <a:blip r:embed="rId4"/>
          <a:stretch/>
        </p:blipFill>
        <p:spPr>
          <a:xfrm>
            <a:off x="6229440" y="2438280"/>
            <a:ext cx="131436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16938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236232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1148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854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709040" y="3036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View Stereo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consistency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i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 P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371600" y="106668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. M. Seitz, B. Curless, J. Diebel, D. Scharstein, and R. Szeli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e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on 3D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xels, Level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gon M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planar fac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that stores dep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752480" cy="153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276960" y="3124080"/>
            <a:ext cx="2257560" cy="139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3"/>
          <a:stretch/>
        </p:blipFill>
        <p:spPr>
          <a:xfrm>
            <a:off x="6229440" y="4581360"/>
            <a:ext cx="23810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consistency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Measures visual compatibility of reconstruction with input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part of reconstruction into images, measure clos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:  Variance , sum of squared distances, normalized cross-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cene geometry to transform image to different view, measure error of predicted vs. actual (prediction err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Views to consider when evaluating photo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ly model geometry of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si-Geo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geometric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er based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occlusions as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pe P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Additional constraints or assumptions about re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Su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sets, Min-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al Su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xel coloring, space car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ocal smoothness on nearby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267080" y="2416320"/>
            <a:ext cx="221004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ructi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cos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xels, graph cut, level sets, me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consistent depth m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 extraction, matching, surface fi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3:28:43Z</dcterms:created>
  <dc:creator>Ryan Kaminsky</dc:creator>
  <dc:description/>
  <dc:language>en-US</dc:language>
  <cp:lastModifiedBy> </cp:lastModifiedBy>
  <dcterms:modified xsi:type="dcterms:W3CDTF">2007-12-03T23:33:54Z</dcterms:modified>
  <cp:revision>61</cp:revision>
  <dc:subject/>
  <dc:title>Accurate, Dense and Robust Multi-View Stereopsis</dc:title>
</cp:coreProperties>
</file>