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3157-7CD8-49A9-A517-4B99A8C5C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BAFF-BFBA-4211-B0C7-3322ECA9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9605-E92E-43BA-94D2-1C5E7DCA1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F44D-8116-47C7-B51C-92C43850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11B-BDB7-46C1-9E58-30E9774DC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9702-4D77-4C4F-BF63-5D03DB0EB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4321-2999-420E-8567-E3BA92780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3522-AD87-41BD-BEDF-C522E2D1A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9001-81C0-404B-8DD5-367762BB0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A13A-A71F-47BB-AFAA-675056A64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0FDE-5F5E-40D1-8A7B-530BA6789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BFAD-778D-4FF4-88BB-0DB0B3F34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B273-587A-4B5A-A244-18D1F2B64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534D-BAF2-4705-BE34-55423F979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4960-A3B2-4E05-9BA4-07DF6EF17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360D-3CFA-4AB3-B6EE-0C85949BD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D7A7-2FB4-4E45-8EBA-EF6FAF50E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3F7F-EF3A-4968-9AA2-79B90D87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4903-B6CE-45AD-8A8D-06F5CDF06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1FA4-3AC3-4845-B982-1F59A202D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203C-B11D-473B-818A-BC9456171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1ABC-11F0-49E2-A629-F97EB9488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D8A2-EFA6-498A-889E-FF5C5A091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BA31-291C-4A4E-A8E0-82A4EF9C0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5905-9DD4-4E4E-9F72-5C771C252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A0E9-0FF5-44FB-8DA6-7A3C5E3DD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FF83-ED9C-4A87-BF8C-2AA4007E8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E4D8-3080-47BD-9B3D-8AE837308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e over surface and evolve to minimize cos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CB3-EA4D-4278-89DE-DC497BA8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98E-1572-4662-BB58-0FB2A4F3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597-6785-48F3-AA16-C65278E2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55B-DD64-4FE1-9DC9-28C50A6D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5D3-F172-406D-9037-E1C6BA62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70F-385D-4693-B6B5-D8534100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E20-DF97-4A6B-A149-939729C5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8E9-A3E1-4A9E-BABE-2F5DAF31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040-341C-45C3-9E6F-2358EDEE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D9D-DF0F-4B0D-8649-07DA6A42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E70-56E7-49E2-A7A8-6751617D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E3F-00DF-4413-A448-D1472889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5972-55A4-4645-BEEE-538E78AE7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te, Dense and Robust Multi-View Stereop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sutaka Furukawa and Jean P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71600" y="45720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 Rahul Garg and Ryan Kamin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Constraints on scene ge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ing box 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h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disp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5791320" y="3048120"/>
            <a:ext cx="28670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1"/>
          <a:stretch/>
        </p:blipFill>
        <p:spPr>
          <a:xfrm>
            <a:off x="1278000" y="1828800"/>
            <a:ext cx="6570720" cy="2048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1066680" y="3886200"/>
            <a:ext cx="73152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im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ed              reconstructed       final patches      polygonal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s              patches after     after expansion    from reconstruc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itial           and filtering             p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04920" y="2438280"/>
            <a:ext cx="15238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666880" y="2438280"/>
            <a:ext cx="14479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952880" y="2438280"/>
            <a:ext cx="15242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04920" y="3429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905120" y="32511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4191120" y="32511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13"/>
          <p:cNvCxnSpPr/>
          <p:nvPr/>
        </p:nvCxnSpPr>
        <p:spPr>
          <a:xfrm rot="5400000">
            <a:off x="4570920" y="3124800"/>
            <a:ext cx="2160" cy="2439000"/>
          </a:xfrm>
          <a:prstGeom prst="bentConnector3">
            <a:avLst>
              <a:gd name="adj1" fmla="val 480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Rectangle 14"/>
          <p:cNvSpPr/>
          <p:nvPr/>
        </p:nvSpPr>
        <p:spPr>
          <a:xfrm>
            <a:off x="7238880" y="2438280"/>
            <a:ext cx="16002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6540480" y="32385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6481800" y="2666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features using Harris Corner and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matching to generate sparse set of p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ch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p): Most closely associated image with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p): Images where 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p): Images where p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u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971800" y="3448080"/>
            <a:ext cx="24764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451"/>
          <p:cNvSpPr/>
          <p:nvPr/>
        </p:nvSpPr>
        <p:spPr>
          <a:xfrm>
            <a:off x="3124080" y="3962520"/>
            <a:ext cx="2971800" cy="8380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3429000"/>
          <a:ext cx="2590920" cy="3124080"/>
        </p:xfrm>
        <a:graphic>
          <a:graphicData uri="http://schemas.openxmlformats.org/drawingml/2006/table">
            <a:tbl>
              <a:tblPr/>
              <a:tblGrid>
                <a:gridCol w="432000"/>
                <a:gridCol w="406440"/>
                <a:gridCol w="457200"/>
                <a:gridCol w="431640"/>
                <a:gridCol w="432000"/>
                <a:gridCol w="43164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352680" y="3429000"/>
          <a:ext cx="2590920" cy="3108240"/>
        </p:xfrm>
        <a:graphic>
          <a:graphicData uri="http://schemas.openxmlformats.org/drawingml/2006/table">
            <a:tbl>
              <a:tblPr/>
              <a:tblGrid>
                <a:gridCol w="432000"/>
                <a:gridCol w="406440"/>
                <a:gridCol w="457200"/>
                <a:gridCol w="431640"/>
                <a:gridCol w="432000"/>
                <a:gridCol w="43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248520" y="3429000"/>
          <a:ext cx="2590560" cy="3108240"/>
        </p:xfrm>
        <a:graphic>
          <a:graphicData uri="http://schemas.openxmlformats.org/drawingml/2006/table">
            <a:tbl>
              <a:tblPr/>
              <a:tblGrid>
                <a:gridCol w="431640"/>
                <a:gridCol w="406440"/>
                <a:gridCol w="457200"/>
                <a:gridCol w="431640"/>
                <a:gridCol w="432000"/>
                <a:gridCol w="43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Freeform 395"/>
          <p:cNvSpPr/>
          <p:nvPr/>
        </p:nvSpPr>
        <p:spPr>
          <a:xfrm>
            <a:off x="380880" y="3111480"/>
            <a:ext cx="457200" cy="31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6"/>
          <p:cNvSpPr/>
          <p:nvPr/>
        </p:nvSpPr>
        <p:spPr>
          <a:xfrm>
            <a:off x="22860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ix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97"/>
          <p:cNvSpPr/>
          <p:nvPr/>
        </p:nvSpPr>
        <p:spPr>
          <a:xfrm>
            <a:off x="1422360" y="414036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50"/>
          <p:cNvSpPr/>
          <p:nvPr/>
        </p:nvSpPr>
        <p:spPr>
          <a:xfrm>
            <a:off x="4394160" y="42800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52"/>
          <p:cNvSpPr/>
          <p:nvPr/>
        </p:nvSpPr>
        <p:spPr>
          <a:xfrm>
            <a:off x="3733920" y="4433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Epipolar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55"/>
          <p:cNvGrpSpPr/>
          <p:nvPr/>
        </p:nvGrpSpPr>
        <p:grpSpPr>
          <a:xfrm>
            <a:off x="2286000" y="1219320"/>
            <a:ext cx="533520" cy="228600"/>
            <a:chOff x="2286000" y="1219320"/>
            <a:chExt cx="533520" cy="228600"/>
          </a:xfrm>
        </p:grpSpPr>
        <p:sp>
          <p:nvSpPr>
            <p:cNvPr id="113" name="Line 453"/>
            <p:cNvSpPr/>
            <p:nvPr/>
          </p:nvSpPr>
          <p:spPr>
            <a:xfrm>
              <a:off x="2286000" y="121932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4"/>
            <p:cNvSpPr/>
            <p:nvPr/>
          </p:nvSpPr>
          <p:spPr>
            <a:xfrm>
              <a:off x="2552760" y="1219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56"/>
          <p:cNvSpPr/>
          <p:nvPr/>
        </p:nvSpPr>
        <p:spPr>
          <a:xfrm flipV="1">
            <a:off x="1447920" y="1599840"/>
            <a:ext cx="9144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57"/>
          <p:cNvSpPr/>
          <p:nvPr/>
        </p:nvSpPr>
        <p:spPr>
          <a:xfrm flipH="1" flipV="1">
            <a:off x="2819160" y="1600200"/>
            <a:ext cx="160020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58"/>
          <p:cNvSpPr/>
          <p:nvPr/>
        </p:nvSpPr>
        <p:spPr>
          <a:xfrm>
            <a:off x="1371600" y="380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p): from trian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59"/>
          <p:cNvSpPr/>
          <p:nvPr/>
        </p:nvSpPr>
        <p:spPr>
          <a:xfrm>
            <a:off x="1384200" y="700200"/>
            <a:ext cx="49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p): Direction of optical ray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60"/>
          <p:cNvSpPr/>
          <p:nvPr/>
        </p:nvSpPr>
        <p:spPr>
          <a:xfrm>
            <a:off x="77724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61"/>
          <p:cNvSpPr/>
          <p:nvPr/>
        </p:nvSpPr>
        <p:spPr>
          <a:xfrm flipH="1" flipV="1">
            <a:off x="3200400" y="1447920"/>
            <a:ext cx="457200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62"/>
          <p:cNvGrpSpPr/>
          <p:nvPr/>
        </p:nvGrpSpPr>
        <p:grpSpPr>
          <a:xfrm>
            <a:off x="2575440" y="1251720"/>
            <a:ext cx="525240" cy="270360"/>
            <a:chOff x="2575440" y="1251720"/>
            <a:chExt cx="525240" cy="270360"/>
          </a:xfrm>
        </p:grpSpPr>
        <p:sp>
          <p:nvSpPr>
            <p:cNvPr id="122" name="Line 463"/>
            <p:cNvSpPr/>
            <p:nvPr/>
          </p:nvSpPr>
          <p:spPr>
            <a:xfrm flipV="1">
              <a:off x="2575440" y="1251720"/>
              <a:ext cx="525240" cy="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64"/>
            <p:cNvSpPr/>
            <p:nvPr/>
          </p:nvSpPr>
          <p:spPr>
            <a:xfrm>
              <a:off x="2837880" y="1297080"/>
              <a:ext cx="38880" cy="22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478"/>
          <p:cNvSpPr/>
          <p:nvPr/>
        </p:nvSpPr>
        <p:spPr>
          <a:xfrm>
            <a:off x="4191120" y="3936960"/>
            <a:ext cx="457200" cy="53352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1"/>
          <p:cNvSpPr/>
          <p:nvPr/>
        </p:nvSpPr>
        <p:spPr>
          <a:xfrm>
            <a:off x="1219320" y="3949560"/>
            <a:ext cx="457200" cy="53352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82"/>
          <p:cNvSpPr/>
          <p:nvPr/>
        </p:nvSpPr>
        <p:spPr>
          <a:xfrm>
            <a:off x="7531200" y="3936960"/>
            <a:ext cx="457200" cy="53352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zed Cross Correlation (N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276200" y="1447920"/>
            <a:ext cx="6267600" cy="1581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1714680" y="4503600"/>
            <a:ext cx="5371920" cy="12114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605240" y="382428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 step:  Maximizing the average NCC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838080" y="281844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    is the mean of the feature and        is the mean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in the region under the featu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$ \bar{t} $"/>
          <p:cNvPicPr/>
          <p:nvPr/>
        </p:nvPicPr>
        <p:blipFill>
          <a:blip r:embed="rId3"/>
          <a:stretch/>
        </p:blipFill>
        <p:spPr>
          <a:xfrm>
            <a:off x="1486080" y="2882880"/>
            <a:ext cx="95040" cy="15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$ \bar{f}_{u,v} $"/>
          <p:cNvPicPr/>
          <p:nvPr/>
        </p:nvPicPr>
        <p:blipFill>
          <a:blip r:embed="rId4"/>
          <a:stretch/>
        </p:blipFill>
        <p:spPr>
          <a:xfrm>
            <a:off x="4089240" y="2819520"/>
            <a:ext cx="2955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ch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patches along tangential planes into empty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7"/>
          <p:cNvGrpSpPr/>
          <p:nvPr/>
        </p:nvGrpSpPr>
        <p:grpSpPr>
          <a:xfrm>
            <a:off x="3657240" y="3621960"/>
            <a:ext cx="1448280" cy="843840"/>
            <a:chOff x="3657240" y="3621960"/>
            <a:chExt cx="1448280" cy="843840"/>
          </a:xfrm>
        </p:grpSpPr>
        <p:sp>
          <p:nvSpPr>
            <p:cNvPr id="137" name="Rectangle 5"/>
            <p:cNvSpPr/>
            <p:nvPr/>
          </p:nvSpPr>
          <p:spPr>
            <a:xfrm rot="18600">
              <a:off x="3657240" y="4384440"/>
              <a:ext cx="1447920" cy="770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Straight Arrow Connector 10"/>
            <p:cNvCxnSpPr>
              <a:stCxn id="137" idx="0"/>
            </p:cNvCxnSpPr>
            <p:nvPr/>
          </p:nvCxnSpPr>
          <p:spPr>
            <a:xfrm flipH="1" flipV="1">
              <a:off x="4373640" y="3621960"/>
              <a:ext cx="12600" cy="773280"/>
            </a:xfrm>
            <a:prstGeom prst="straightConnector1">
              <a:avLst/>
            </a:prstGeom>
            <a:ln w="9360">
              <a:solidFill>
                <a:srgbClr val="004620"/>
              </a:solidFill>
              <a:miter/>
              <a:tailEnd len="med" type="arrow" w="med"/>
            </a:ln>
          </p:spPr>
        </p:cxnSp>
      </p:grpSp>
      <p:sp>
        <p:nvSpPr>
          <p:cNvPr id="139" name="Straight Connector 19"/>
          <p:cNvSpPr/>
          <p:nvPr/>
        </p:nvSpPr>
        <p:spPr>
          <a:xfrm flipV="1">
            <a:off x="762120" y="4495680"/>
            <a:ext cx="7543800" cy="7632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 rot="18600">
            <a:off x="5305320" y="4385880"/>
            <a:ext cx="1447920" cy="763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2"/>
          <p:cNvCxnSpPr>
            <a:stCxn id="140" idx="0"/>
          </p:cNvCxnSpPr>
          <p:nvPr/>
        </p:nvCxnSpPr>
        <p:spPr>
          <a:xfrm flipH="1" flipV="1">
            <a:off x="6017760" y="3623040"/>
            <a:ext cx="10440" cy="763560"/>
          </a:xfrm>
          <a:prstGeom prst="straightConnector1">
            <a:avLst/>
          </a:prstGeom>
          <a:ln w="9360">
            <a:solidFill>
              <a:srgbClr val="004620"/>
            </a:solidFill>
            <a:miter/>
            <a:tailEnd len="med" type="arrow" w="med"/>
          </a:ln>
        </p:spPr>
      </p:cxnSp>
      <p:sp>
        <p:nvSpPr>
          <p:cNvPr id="142" name="Rectangle 24"/>
          <p:cNvSpPr/>
          <p:nvPr/>
        </p:nvSpPr>
        <p:spPr>
          <a:xfrm rot="18600">
            <a:off x="1979640" y="4385880"/>
            <a:ext cx="1447920" cy="763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Arrow Connector 25"/>
          <p:cNvCxnSpPr>
            <a:stCxn id="142" idx="0"/>
          </p:cNvCxnSpPr>
          <p:nvPr/>
        </p:nvCxnSpPr>
        <p:spPr>
          <a:xfrm flipH="1" flipV="1">
            <a:off x="2692080" y="3623040"/>
            <a:ext cx="11880" cy="763560"/>
          </a:xfrm>
          <a:prstGeom prst="straightConnector1">
            <a:avLst/>
          </a:prstGeom>
          <a:ln w="9360">
            <a:solidFill>
              <a:srgbClr val="004620"/>
            </a:solidFill>
            <a:miter/>
            <a:tailEnd len="med" type="arrow" w="med"/>
          </a:ln>
        </p:spPr>
      </p:cxnSp>
      <p:grpSp>
        <p:nvGrpSpPr>
          <p:cNvPr id="144" name="Group 32"/>
          <p:cNvGrpSpPr/>
          <p:nvPr/>
        </p:nvGrpSpPr>
        <p:grpSpPr>
          <a:xfrm>
            <a:off x="1950840" y="3618720"/>
            <a:ext cx="1448280" cy="905760"/>
            <a:chOff x="1950840" y="3618720"/>
            <a:chExt cx="1448280" cy="905760"/>
          </a:xfrm>
        </p:grpSpPr>
        <p:sp>
          <p:nvSpPr>
            <p:cNvPr id="145" name="Rectangle 33"/>
            <p:cNvSpPr/>
            <p:nvPr/>
          </p:nvSpPr>
          <p:spPr>
            <a:xfrm rot="21256200">
              <a:off x="1950840" y="4375800"/>
              <a:ext cx="1447920" cy="7632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Straight Arrow Connector 34"/>
            <p:cNvCxnSpPr>
              <a:stCxn id="145" idx="0"/>
            </p:cNvCxnSpPr>
            <p:nvPr/>
          </p:nvCxnSpPr>
          <p:spPr>
            <a:xfrm flipH="1" flipV="1">
              <a:off x="2576520" y="3618720"/>
              <a:ext cx="92520" cy="760320"/>
            </a:xfrm>
            <a:prstGeom prst="straightConnector1">
              <a:avLst/>
            </a:prstGeom>
            <a:ln w="9360">
              <a:solidFill>
                <a:srgbClr val="004620"/>
              </a:solidFill>
              <a:miter/>
              <a:tailEnd len="med" type="arrow" w="med"/>
            </a:ln>
          </p:spPr>
        </p:cxnSp>
      </p:grpSp>
      <p:grpSp>
        <p:nvGrpSpPr>
          <p:cNvPr id="147" name="Group 35"/>
          <p:cNvGrpSpPr/>
          <p:nvPr/>
        </p:nvGrpSpPr>
        <p:grpSpPr>
          <a:xfrm>
            <a:off x="5333040" y="3580920"/>
            <a:ext cx="1449360" cy="886680"/>
            <a:chOff x="5333040" y="3580920"/>
            <a:chExt cx="1449360" cy="886680"/>
          </a:xfrm>
        </p:grpSpPr>
        <p:sp>
          <p:nvSpPr>
            <p:cNvPr id="148" name="Rectangle 36"/>
            <p:cNvSpPr/>
            <p:nvPr/>
          </p:nvSpPr>
          <p:spPr>
            <a:xfrm rot="229200">
              <a:off x="5333760" y="4343400"/>
              <a:ext cx="1447560" cy="759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Straight Arrow Connector 37"/>
            <p:cNvCxnSpPr>
              <a:stCxn id="148" idx="0"/>
            </p:cNvCxnSpPr>
            <p:nvPr/>
          </p:nvCxnSpPr>
          <p:spPr>
            <a:xfrm flipV="1">
              <a:off x="6059880" y="3580920"/>
              <a:ext cx="35640" cy="763200"/>
            </a:xfrm>
            <a:prstGeom prst="straightConnector1">
              <a:avLst/>
            </a:prstGeom>
            <a:ln w="9360">
              <a:solidFill>
                <a:srgbClr val="004620"/>
              </a:solidFill>
              <a:miter/>
              <a:tailEnd len="med" type="arrow" w="med"/>
            </a:ln>
          </p:spPr>
        </p:cxnSp>
      </p:grpSp>
      <p:sp>
        <p:nvSpPr>
          <p:cNvPr id="150" name="Rectangle 3"/>
          <p:cNvSpPr/>
          <p:nvPr/>
        </p:nvSpPr>
        <p:spPr>
          <a:xfrm>
            <a:off x="457200" y="5105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for normal and center and add if photometric constraints are satisfied in at least k im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ing visibility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62120" y="2724120"/>
            <a:ext cx="2562120" cy="291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5638680" y="2647800"/>
            <a:ext cx="2409840" cy="306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3519360" y="2209680"/>
            <a:ext cx="2105280" cy="933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609480" y="5857920"/>
            <a:ext cx="1981440" cy="39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5"/>
          <a:stretch/>
        </p:blipFill>
        <p:spPr>
          <a:xfrm>
            <a:off x="2610000" y="5772240"/>
            <a:ext cx="158112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6"/>
          <a:stretch/>
        </p:blipFill>
        <p:spPr>
          <a:xfrm>
            <a:off x="6105600" y="5791320"/>
            <a:ext cx="151452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smoothness constraint : Remove patches for which proportion of neighboring patches with tangential plane “nearly” parallel is less tha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 rot="2266200">
            <a:off x="3631680" y="4746240"/>
            <a:ext cx="1447920" cy="763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5"/>
          <p:cNvCxnSpPr>
            <a:stCxn id="161" idx="0"/>
          </p:cNvCxnSpPr>
          <p:nvPr/>
        </p:nvCxnSpPr>
        <p:spPr>
          <a:xfrm flipV="1">
            <a:off x="4379400" y="4141440"/>
            <a:ext cx="454680" cy="612360"/>
          </a:xfrm>
          <a:prstGeom prst="straightConnector1">
            <a:avLst/>
          </a:prstGeom>
          <a:ln w="9360">
            <a:solidFill>
              <a:srgbClr val="004620"/>
            </a:solidFill>
            <a:miter/>
            <a:tailEnd len="med" type="arrow" w="med"/>
          </a:ln>
        </p:spPr>
      </p:cxnSp>
      <p:sp>
        <p:nvSpPr>
          <p:cNvPr id="163" name="Straight Connector 6"/>
          <p:cNvSpPr/>
          <p:nvPr/>
        </p:nvSpPr>
        <p:spPr>
          <a:xfrm flipV="1">
            <a:off x="762120" y="4919400"/>
            <a:ext cx="7543800" cy="7596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 rot="18600">
            <a:off x="5305320" y="4809600"/>
            <a:ext cx="1447920" cy="7632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8"/>
          <p:cNvCxnSpPr>
            <a:stCxn id="164" idx="0"/>
          </p:cNvCxnSpPr>
          <p:nvPr/>
        </p:nvCxnSpPr>
        <p:spPr>
          <a:xfrm flipH="1" flipV="1">
            <a:off x="6017760" y="4047480"/>
            <a:ext cx="10440" cy="763200"/>
          </a:xfrm>
          <a:prstGeom prst="straightConnector1">
            <a:avLst/>
          </a:prstGeom>
          <a:ln w="9360">
            <a:solidFill>
              <a:srgbClr val="004620"/>
            </a:solidFill>
            <a:miter/>
            <a:tailEnd len="med" type="arrow" w="med"/>
          </a:ln>
        </p:spPr>
      </p:cxnSp>
      <p:sp>
        <p:nvSpPr>
          <p:cNvPr id="166" name="Rectangle 9"/>
          <p:cNvSpPr/>
          <p:nvPr/>
        </p:nvSpPr>
        <p:spPr>
          <a:xfrm rot="18600">
            <a:off x="1979640" y="4809600"/>
            <a:ext cx="1447920" cy="7632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10"/>
          <p:cNvCxnSpPr>
            <a:stCxn id="166" idx="0"/>
          </p:cNvCxnSpPr>
          <p:nvPr/>
        </p:nvCxnSpPr>
        <p:spPr>
          <a:xfrm flipH="1" flipV="1">
            <a:off x="2692080" y="4047480"/>
            <a:ext cx="11880" cy="763200"/>
          </a:xfrm>
          <a:prstGeom prst="straightConnector1">
            <a:avLst/>
          </a:prstGeom>
          <a:ln w="9360">
            <a:solidFill>
              <a:srgbClr val="004620"/>
            </a:solidFill>
            <a:miter/>
            <a:tailEnd len="med" type="arrow" w="med"/>
          </a:ln>
        </p:spPr>
      </p:cxnSp>
      <p:grpSp>
        <p:nvGrpSpPr>
          <p:cNvPr id="168" name="Group 11"/>
          <p:cNvGrpSpPr/>
          <p:nvPr/>
        </p:nvGrpSpPr>
        <p:grpSpPr>
          <a:xfrm>
            <a:off x="426960" y="4118760"/>
            <a:ext cx="1447920" cy="905760"/>
            <a:chOff x="426960" y="4118760"/>
            <a:chExt cx="1447920" cy="905760"/>
          </a:xfrm>
        </p:grpSpPr>
        <p:sp>
          <p:nvSpPr>
            <p:cNvPr id="169" name="Rectangle 12"/>
            <p:cNvSpPr/>
            <p:nvPr/>
          </p:nvSpPr>
          <p:spPr>
            <a:xfrm rot="21256200">
              <a:off x="426960" y="4875840"/>
              <a:ext cx="1447560" cy="7632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0" name="Straight Arrow Connector 13"/>
            <p:cNvCxnSpPr>
              <a:stCxn id="169" idx="0"/>
            </p:cNvCxnSpPr>
            <p:nvPr/>
          </p:nvCxnSpPr>
          <p:spPr>
            <a:xfrm flipH="1" flipV="1">
              <a:off x="1052640" y="4118760"/>
              <a:ext cx="92520" cy="760320"/>
            </a:xfrm>
            <a:prstGeom prst="straightConnector1">
              <a:avLst/>
            </a:prstGeom>
            <a:ln w="9360">
              <a:solidFill>
                <a:srgbClr val="004620"/>
              </a:solidFill>
              <a:miter/>
              <a:tailEnd len="med" type="arrow" w="med"/>
            </a:ln>
          </p:spPr>
        </p:cxnSp>
      </p:grpSp>
      <p:grpSp>
        <p:nvGrpSpPr>
          <p:cNvPr id="171" name="Group 14"/>
          <p:cNvGrpSpPr/>
          <p:nvPr/>
        </p:nvGrpSpPr>
        <p:grpSpPr>
          <a:xfrm>
            <a:off x="7009200" y="4004640"/>
            <a:ext cx="1449720" cy="886680"/>
            <a:chOff x="7009200" y="4004640"/>
            <a:chExt cx="1449720" cy="886680"/>
          </a:xfrm>
        </p:grpSpPr>
        <p:sp>
          <p:nvSpPr>
            <p:cNvPr id="172" name="Rectangle 15"/>
            <p:cNvSpPr/>
            <p:nvPr/>
          </p:nvSpPr>
          <p:spPr>
            <a:xfrm rot="229200">
              <a:off x="7009920" y="4767120"/>
              <a:ext cx="1447920" cy="759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traight Arrow Connector 16"/>
            <p:cNvCxnSpPr>
              <a:stCxn id="172" idx="0"/>
            </p:cNvCxnSpPr>
            <p:nvPr/>
          </p:nvCxnSpPr>
          <p:spPr>
            <a:xfrm flipV="1">
              <a:off x="7736400" y="4004640"/>
              <a:ext cx="35640" cy="762840"/>
            </a:xfrm>
            <a:prstGeom prst="straightConnector1">
              <a:avLst/>
            </a:prstGeom>
            <a:ln w="9360">
              <a:solidFill>
                <a:srgbClr val="004620"/>
              </a:solidFill>
              <a:miter/>
              <a:tailEnd len="med" type="arrow" w="med"/>
            </a:ln>
          </p:spPr>
        </p:cxnSp>
      </p:grp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519360" y="5391000"/>
            <a:ext cx="21052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view Stereo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to other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al Surface Re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e using convex hull of p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ly deform/snap to the patch model using two kinds of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ness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metric Consistency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85800" y="4619520"/>
            <a:ext cx="3543480" cy="19335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6"/>
          <p:cNvSpPr/>
          <p:nvPr/>
        </p:nvSpPr>
        <p:spPr>
          <a:xfrm>
            <a:off x="4727160" y="4800600"/>
            <a:ext cx="407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  : Current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*    : Tru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v)  : Normal at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) : Set of patches compatible with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v)  : Distance between S and 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hm Taxonomy Catego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Map + M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consistency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P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ocal smoot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extraction , depth maps, optimization over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136520" y="1295280"/>
            <a:ext cx="2978280" cy="4757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5343480" y="1219320"/>
            <a:ext cx="3075120" cy="48765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1609200" y="61722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427360" y="617220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gonal Surfa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nskullb.m1v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n vision.middlebury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3124080"/>
          <a:ext cx="8534520" cy="210348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1066680"/>
                <a:gridCol w="1067040"/>
                <a:gridCol w="1303200"/>
                <a:gridCol w="949320"/>
                <a:gridCol w="94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mple (# of view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no (# of view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rse(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esele et. 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andez et. 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4"/>
          <p:cNvSpPr/>
          <p:nvPr/>
        </p:nvSpPr>
        <p:spPr>
          <a:xfrm>
            <a:off x="845640" y="5257800"/>
            <a:ext cx="77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cy Measure: Distance d in mm which brings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reconstruction within ground tr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460800" y="647712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Old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724280" y="3505320"/>
            <a:ext cx="4267440" cy="1752480"/>
          </a:xfrm>
          <a:prstGeom prst="rect">
            <a:avLst/>
          </a:prstGeom>
          <a:noFill/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3000600" cy="30006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 occlusions/obsta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228600" y="2476440"/>
            <a:ext cx="63054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 similar to Goesele et al. (ICCV’07) – initialize patches, expand and optimize for position and norm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71600" y="3429000"/>
          <a:ext cx="6095880" cy="2200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is 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oesele et. 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ize patches using triangulated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ize using Structure from Motion 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it occlusion handl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lusion handling through outlier removal and view selection, prioritize patch candidates for expa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 the problem as an optimization problem simultaneously accounting for local smoothness, photo consistency, oc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ce of Expand/Filter – do more iterations lead to better reco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/Outlier handling – results on mor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patch model  – Adaptive Resolution, generalizes to large number of object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view Ste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e shape reconstruction from multipl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inoSR0007"/>
          <p:cNvPicPr/>
          <p:nvPr/>
        </p:nvPicPr>
        <p:blipFill>
          <a:blip r:embed="rId1"/>
          <a:stretch/>
        </p:blipFill>
        <p:spPr>
          <a:xfrm>
            <a:off x="990720" y="2438280"/>
            <a:ext cx="1314360" cy="175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inoSR0001"/>
          <p:cNvPicPr/>
          <p:nvPr/>
        </p:nvPicPr>
        <p:blipFill>
          <a:blip r:embed="rId2"/>
          <a:stretch/>
        </p:blipFill>
        <p:spPr>
          <a:xfrm>
            <a:off x="2743200" y="2438280"/>
            <a:ext cx="1314360" cy="17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dinoSR0010"/>
          <p:cNvPicPr/>
          <p:nvPr/>
        </p:nvPicPr>
        <p:blipFill>
          <a:blip r:embed="rId3"/>
          <a:stretch/>
        </p:blipFill>
        <p:spPr>
          <a:xfrm>
            <a:off x="4495680" y="2438280"/>
            <a:ext cx="131472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dinoSR0013"/>
          <p:cNvPicPr/>
          <p:nvPr/>
        </p:nvPicPr>
        <p:blipFill>
          <a:blip r:embed="rId4"/>
          <a:stretch/>
        </p:blipFill>
        <p:spPr>
          <a:xfrm>
            <a:off x="6229440" y="2438280"/>
            <a:ext cx="131436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16938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236232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1148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854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709040" y="3036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View Stereo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consistency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i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 P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371600" y="106668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. M. Seitz, B. Curless, J. Diebel, D. Scharstein, and R. Szeli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e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on 3D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xels, Level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gon M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planar fac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that stores dep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752480" cy="153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276960" y="3124080"/>
            <a:ext cx="2257560" cy="139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3"/>
          <a:stretch/>
        </p:blipFill>
        <p:spPr>
          <a:xfrm>
            <a:off x="6229440" y="4581360"/>
            <a:ext cx="23810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consistency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Measures visual compatibility of reconstruction with input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part of reconstruction into images, measure clos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:  Variance , sum of squared distances, normalized cross-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cene geometry to transform image to different view, measure error of predicted vs. actual (prediction err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Views to consider when evaluating photo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ly model geometry of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si-Geo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geometric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er based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occlusions as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 P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Additional constraints or assumptions about re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Su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sets, Min-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al Su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xel coloring, space ca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ocal smoothness on nearby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267080" y="2416320"/>
            <a:ext cx="221004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cos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xels, graph cut, level sets, me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consistent depth m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extraction, matching, surface fi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3:28:43Z</dcterms:created>
  <dc:creator>Ryan Kaminsky</dc:creator>
  <dc:description/>
  <dc:language>en-US</dc:language>
  <cp:lastModifiedBy> </cp:lastModifiedBy>
  <dcterms:modified xsi:type="dcterms:W3CDTF">2007-12-03T23:33:54Z</dcterms:modified>
  <cp:revision>61</cp:revision>
  <dc:subject/>
  <dc:title>Accurate, Dense and Robust Multi-View Stereopsis</dc:title>
</cp:coreProperties>
</file>