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F94-9EB3-448E-B013-D4E6AFDFF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54E3-0D82-4675-ABC5-8E670BD33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A592-9AB9-4178-B2D4-E803EC655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EF21-8C13-4341-A478-0113B7F88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165-B1E7-4433-9DA8-4079B179F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F16A-B2BA-44FB-88E4-A9BDCD5FC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1752-AD03-44B2-864E-B50C00452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2DF8-377B-4D68-B6A4-64AA11860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3B27-DD79-4B3D-B7F7-3565F75AB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9D1-3AA7-46F0-BD8B-11A7E3BC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CBB-6724-4B8F-9B10-BFFD0CFB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A6A-7DEA-43F6-A95A-93427BEB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64D-17DC-4246-BBC7-BEFAF9D6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3FB-BC21-4A6E-91C7-80AB334E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1E4-3B37-4519-A361-E81CEB6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4A6-6D70-43A7-B2FD-E3BC4D34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360-BF07-4C64-B401-22C7FE2C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EED-37B6-4085-8B2A-127BCE8F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A10-2D56-4DD3-B2A3-D4B59D2C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498-A5A2-4B18-9EB4-FD63434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041-84B3-465A-958C-4CB4FC0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5C45-E0A0-4A3F-B3A4-7A79CF038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pproximate Nearest Subspace Search with Applications to Pattern Recogn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nen Basri, Tal Hassner, Lihi Zelnik-Man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esented by Andrew Guillory and Ian Sim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-Subspace D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quared di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406440" y="2870280"/>
                <a:ext cx="406548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Z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t xml:space="preserve">2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0" name="Rectangle 7"/>
          <p:cNvSpPr/>
          <p:nvPr/>
        </p:nvSpPr>
        <p:spPr>
          <a:xfrm>
            <a:off x="1523880" y="4781520"/>
            <a:ext cx="335304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-Subspace D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quared di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4876920" y="1523880"/>
                <a:ext cx="4095720" cy="488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d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406440" y="2870280"/>
                <a:ext cx="406548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Z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t xml:space="preserve">2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-Subspace Dis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quared di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uared point-subspace dist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represented as a dot pro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4876920" y="1523880"/>
                <a:ext cx="4095720" cy="488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d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d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06440" y="2870280"/>
                <a:ext cx="406548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x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Z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/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r>
                            <m:t xml:space="preserve">2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1359000" y="2438280"/>
                <a:ext cx="1606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5132520" y="2819520"/>
                <a:ext cx="3625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1411200" y="4952880"/>
                <a:ext cx="46641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</m:e>
                          </m:d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u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v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s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v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5132520" y="2819520"/>
                <a:ext cx="3625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359000" y="2438280"/>
                <a:ext cx="1606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5" name="Oval 7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3581280" y="1752480"/>
            <a:ext cx="533520" cy="53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320040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Oval 11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Content Placeholder 11"/>
              <p:cNvSpPr txBox="1"/>
              <p:nvPr/>
            </p:nvSpPr>
            <p:spPr>
              <a:xfrm>
                <a:off x="609480" y="2666880"/>
                <a:ext cx="3382920" cy="386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Rectangle 12"/>
          <p:cNvSpPr/>
          <p:nvPr/>
        </p:nvSpPr>
        <p:spPr>
          <a:xfrm>
            <a:off x="609480" y="4419720"/>
            <a:ext cx="34290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43434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 baseline="30000">
                <a:solidFill>
                  <a:srgbClr val="00b050"/>
                </a:solidFill>
                <a:latin typeface="Calibri"/>
              </a:rPr>
              <a:t>T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Oval 16"/>
          <p:cNvSpPr/>
          <p:nvPr/>
        </p:nvSpPr>
        <p:spPr>
          <a:xfrm>
            <a:off x="3581280" y="1752480"/>
            <a:ext cx="533520" cy="53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7"/>
          <p:cNvSpPr/>
          <p:nvPr/>
        </p:nvSpPr>
        <p:spPr>
          <a:xfrm>
            <a:off x="320040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9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Content Placeholder 11"/>
              <p:cNvSpPr txBox="1"/>
              <p:nvPr/>
            </p:nvSpPr>
            <p:spPr>
              <a:xfrm>
                <a:off x="609480" y="2666880"/>
                <a:ext cx="3382920" cy="386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TextBox 12"/>
          <p:cNvSpPr/>
          <p:nvPr/>
        </p:nvSpPr>
        <p:spPr>
          <a:xfrm>
            <a:off x="43434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 baseline="30000">
                <a:solidFill>
                  <a:srgbClr val="00b050"/>
                </a:solidFill>
                <a:latin typeface="Calibri"/>
              </a:rPr>
              <a:t>T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838080" y="5791320"/>
            <a:ext cx="289584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3962520" y="5257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is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by-(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), columns orthonorm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6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2" name="Oval 15"/>
          <p:cNvSpPr/>
          <p:nvPr/>
        </p:nvSpPr>
        <p:spPr>
          <a:xfrm>
            <a:off x="3581280" y="1752480"/>
            <a:ext cx="533520" cy="53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320040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 subspac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2779560" y="2432160"/>
                <a:ext cx="13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Straight Connector 8"/>
          <p:cNvSpPr/>
          <p:nvPr/>
        </p:nvSpPr>
        <p:spPr>
          <a:xfrm>
            <a:off x="7350840" y="2744640"/>
            <a:ext cx="324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0"/>
          <p:cNvSpPr/>
          <p:nvPr/>
        </p:nvSpPr>
        <p:spPr>
          <a:xfrm flipV="1">
            <a:off x="6172200" y="3619080"/>
            <a:ext cx="2362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4"/>
          <p:cNvSpPr/>
          <p:nvPr/>
        </p:nvSpPr>
        <p:spPr>
          <a:xfrm flipV="1">
            <a:off x="6172200" y="297180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6"/>
          <p:cNvSpPr/>
          <p:nvPr/>
        </p:nvSpPr>
        <p:spPr>
          <a:xfrm>
            <a:off x="6172200" y="2743200"/>
            <a:ext cx="23623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6400800" y="274320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0"/>
          <p:cNvSpPr/>
          <p:nvPr/>
        </p:nvSpPr>
        <p:spPr>
          <a:xfrm>
            <a:off x="7009560" y="274320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22"/>
          <p:cNvSpPr/>
          <p:nvPr/>
        </p:nvSpPr>
        <p:spPr>
          <a:xfrm flipV="1">
            <a:off x="6705720" y="274320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24"/>
          <p:cNvSpPr/>
          <p:nvPr/>
        </p:nvSpPr>
        <p:spPr>
          <a:xfrm flipV="1">
            <a:off x="6172200" y="327636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6"/>
          <p:cNvSpPr/>
          <p:nvPr/>
        </p:nvSpPr>
        <p:spPr>
          <a:xfrm flipH="1">
            <a:off x="6858000" y="274320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Content Placeholder 11"/>
              <p:cNvSpPr txBox="1"/>
              <p:nvPr/>
            </p:nvSpPr>
            <p:spPr>
              <a:xfrm>
                <a:off x="609480" y="2666880"/>
                <a:ext cx="3382920" cy="386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Z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Z</m:t>
                              </m:r>
                            </m:e>
                          </m:d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6692760" y="1828800"/>
                <a:ext cx="1606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TextBox 12"/>
          <p:cNvSpPr/>
          <p:nvPr/>
        </p:nvSpPr>
        <p:spPr>
          <a:xfrm>
            <a:off x="43434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 baseline="30000">
                <a:solidFill>
                  <a:srgbClr val="00b050"/>
                </a:solidFill>
                <a:latin typeface="Calibri"/>
              </a:rPr>
              <a:t>T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3962520" y="5257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Z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 is 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by-(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d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0" i="1" lang="en-US" sz="1800" spc="-1" strike="noStrike">
                <a:solidFill>
                  <a:srgbClr val="00b05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), columns orthonorm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582480" y="1752480"/>
                <a:ext cx="4189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2" name="Oval 14"/>
          <p:cNvSpPr/>
          <p:nvPr/>
        </p:nvSpPr>
        <p:spPr>
          <a:xfrm>
            <a:off x="3581280" y="1752480"/>
            <a:ext cx="533520" cy="53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320040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457200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stant over qu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query point q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942840" y="2514600"/>
                <a:ext cx="478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query point q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e decrease the additive cons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942840" y="2514600"/>
                <a:ext cx="478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data points lie on a hyperpl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914400" y="1752480"/>
                <a:ext cx="20019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data points lie on a hyperpl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the hyperplane contains the orig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914400" y="1752480"/>
                <a:ext cx="20019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1600200" y="4572000"/>
                <a:ext cx="2855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5078520" y="4419720"/>
                <a:ext cx="2422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yperplane proj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ata points lie on a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762120" y="2743200"/>
                <a:ext cx="3673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</m:num>
                                        <m:den>
                                          <m:r>
                                            <m:t xml:space="preserve">d</m:t>
                                          </m:r>
                                        </m:den>
                                      </m:f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yperplane proj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ata points lie on a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the query point lies on the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762120" y="2743200"/>
                <a:ext cx="3673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</m:num>
                                        <m:den>
                                          <m:r>
                                            <m:t xml:space="preserve">d</m:t>
                                          </m:r>
                                        </m:den>
                                      </m:f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660920" y="2577960"/>
                <a:ext cx="42084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a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yperplane proj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ata points lie on a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the query point lies on the hyper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762120" y="2743200"/>
                <a:ext cx="367344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u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  <m:e>
                          <m:sSup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p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Z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</m:num>
                                        <m:den>
                                          <m:r>
                                            <m:t xml:space="preserve">d</m:t>
                                          </m:r>
                                        </m:den>
                                      </m:f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d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4660920" y="2577960"/>
                <a:ext cx="42084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q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43" name="Picture 4" descr="C:\Users\Ian\AppData\Local\Microsoft\Windows\Temporary Internet Files\Content.IE5\YG2WZ1CN\MCj04238120000[1].wmf"/>
          <p:cNvPicPr/>
          <p:nvPr/>
        </p:nvPicPr>
        <p:blipFill>
          <a:blip r:embed="rId1"/>
          <a:stretch/>
        </p:blipFill>
        <p:spPr>
          <a:xfrm>
            <a:off x="6172200" y="5257800"/>
            <a:ext cx="1130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tion Ge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happe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4527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tion Ge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happe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 subspac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a query poi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8"/>
          <p:cNvSpPr/>
          <p:nvPr/>
        </p:nvSpPr>
        <p:spPr>
          <a:xfrm>
            <a:off x="7350840" y="2744640"/>
            <a:ext cx="324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10"/>
          <p:cNvSpPr/>
          <p:nvPr/>
        </p:nvSpPr>
        <p:spPr>
          <a:xfrm flipV="1">
            <a:off x="6172200" y="3619080"/>
            <a:ext cx="2362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14"/>
          <p:cNvSpPr/>
          <p:nvPr/>
        </p:nvSpPr>
        <p:spPr>
          <a:xfrm flipV="1">
            <a:off x="6172200" y="297180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6172200" y="2743200"/>
            <a:ext cx="23623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18"/>
          <p:cNvSpPr/>
          <p:nvPr/>
        </p:nvSpPr>
        <p:spPr>
          <a:xfrm>
            <a:off x="6400800" y="274320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0"/>
          <p:cNvSpPr/>
          <p:nvPr/>
        </p:nvSpPr>
        <p:spPr>
          <a:xfrm>
            <a:off x="7009560" y="274320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22"/>
          <p:cNvSpPr/>
          <p:nvPr/>
        </p:nvSpPr>
        <p:spPr>
          <a:xfrm flipV="1">
            <a:off x="6705720" y="274320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24"/>
          <p:cNvSpPr/>
          <p:nvPr/>
        </p:nvSpPr>
        <p:spPr>
          <a:xfrm flipV="1">
            <a:off x="6172200" y="327636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26"/>
          <p:cNvSpPr/>
          <p:nvPr/>
        </p:nvSpPr>
        <p:spPr>
          <a:xfrm flipH="1">
            <a:off x="6858000" y="274320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6248520" y="3124080"/>
            <a:ext cx="7596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2779560" y="2432160"/>
                <a:ext cx="13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ve constant depends only on dimension of points and sub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pplies to linear subspaces, all of the same dim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2590920" y="1676520"/>
                <a:ext cx="387648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ν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μ</m:t>
                              </m:r>
                            </m:e>
                            <m:e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p>
                                    <m:e>
                                      <m:d>
                                        <m:dPr>
                                          <m:begChr m:val="‖"/>
                                          <m:endChr m:val="‖"/>
                                        </m:d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k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</m:e>
                                      </m:d>
                                    </m:num>
                                    <m:den>
                                      <m:r>
                                        <m:t xml:space="preserve">d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ν</m:t>
                              </m:r>
                            </m:e>
                            <m:e/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k</m:t>
                                      </m:r>
                                    </m:num>
                                    <m:den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f>
                                        <m:num>
                                          <m:r>
                                            <m:t xml:space="preserve">k</m:t>
                                          </m:r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d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</m:e>
                                          </m:d>
                                        </m:num>
                                        <m:den>
                                          <m:r>
                                            <m:t xml:space="preserve">d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den>
                                      </m:f>
                                    </m:e>
                                  </m:rad>
                                </m:e>
                              </m:d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paces of different dim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s and planes, e.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data points have the same n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extra dimension to fix th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paces of different dim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s and planes, e.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 data points have the same n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extra dimension to fix th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ine subsp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ain, not all data poi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the same n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traight Connector 4"/>
          <p:cNvSpPr/>
          <p:nvPr/>
        </p:nvSpPr>
        <p:spPr>
          <a:xfrm>
            <a:off x="6969960" y="4497480"/>
            <a:ext cx="324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traight Connector 5"/>
          <p:cNvSpPr/>
          <p:nvPr/>
        </p:nvSpPr>
        <p:spPr>
          <a:xfrm flipV="1">
            <a:off x="5791320" y="5372280"/>
            <a:ext cx="2361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traight Connector 6"/>
          <p:cNvSpPr/>
          <p:nvPr/>
        </p:nvSpPr>
        <p:spPr>
          <a:xfrm flipV="1">
            <a:off x="5791320" y="4495680"/>
            <a:ext cx="1371600" cy="152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traight Connector 7"/>
          <p:cNvSpPr/>
          <p:nvPr/>
        </p:nvSpPr>
        <p:spPr>
          <a:xfrm>
            <a:off x="5791320" y="5181480"/>
            <a:ext cx="23619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traight Connector 8"/>
          <p:cNvSpPr/>
          <p:nvPr/>
        </p:nvSpPr>
        <p:spPr>
          <a:xfrm>
            <a:off x="6019920" y="4495680"/>
            <a:ext cx="1904760" cy="1752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6629400" y="4495680"/>
            <a:ext cx="152388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0"/>
          <p:cNvSpPr/>
          <p:nvPr/>
        </p:nvSpPr>
        <p:spPr>
          <a:xfrm flipV="1">
            <a:off x="6324480" y="4800600"/>
            <a:ext cx="18288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traight Connector 11"/>
          <p:cNvSpPr/>
          <p:nvPr/>
        </p:nvSpPr>
        <p:spPr>
          <a:xfrm>
            <a:off x="5791320" y="5715000"/>
            <a:ext cx="236196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traight Connector 12"/>
          <p:cNvSpPr/>
          <p:nvPr/>
        </p:nvSpPr>
        <p:spPr>
          <a:xfrm flipH="1">
            <a:off x="5791320" y="4495680"/>
            <a:ext cx="22096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1447920" y="4800600"/>
                <a:ext cx="1374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pproxim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arest Neighbor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poin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dist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&lt;= (1 +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e based approaches: KD-trees, metric / ball trees, cover tr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ity sensitive ha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per uses multiple KD-Trees with (different) random proj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D-Tr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ose space into axis aligned rect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786120" cy="38102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592320" y="62485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 from Dan Pell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dom Proj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y data with a random matri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,j) drawn from N(0,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different just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hnson-Lindenstrauss (data set that is small compared to dimension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Sensing (data set that is sparse in some linear ba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P-Trees (data set that has small doubling dimen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their method is fa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 nearest subspace is use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exper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ic Exper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 Approx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le 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ale Pa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age 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25280" y="1447920"/>
            <a:ext cx="901872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ale 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/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random projections be applied before or after the red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e effective distance error go down with the ambient dimensional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duction tends to make query points far away from the points in the database.  Are there better approximate nearest neighbor algorithms in this c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 subspac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a query poi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subspac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minimizes dist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8"/>
          <p:cNvSpPr/>
          <p:nvPr/>
        </p:nvSpPr>
        <p:spPr>
          <a:xfrm>
            <a:off x="7350840" y="2744640"/>
            <a:ext cx="324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10"/>
          <p:cNvSpPr/>
          <p:nvPr/>
        </p:nvSpPr>
        <p:spPr>
          <a:xfrm flipV="1">
            <a:off x="6172200" y="3619080"/>
            <a:ext cx="2362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14"/>
          <p:cNvSpPr/>
          <p:nvPr/>
        </p:nvSpPr>
        <p:spPr>
          <a:xfrm flipV="1">
            <a:off x="6172200" y="297180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6"/>
          <p:cNvSpPr/>
          <p:nvPr/>
        </p:nvSpPr>
        <p:spPr>
          <a:xfrm>
            <a:off x="6172200" y="2743200"/>
            <a:ext cx="2362320" cy="1752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8"/>
          <p:cNvSpPr/>
          <p:nvPr/>
        </p:nvSpPr>
        <p:spPr>
          <a:xfrm>
            <a:off x="6400800" y="274320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20"/>
          <p:cNvSpPr/>
          <p:nvPr/>
        </p:nvSpPr>
        <p:spPr>
          <a:xfrm>
            <a:off x="7009560" y="274320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22"/>
          <p:cNvSpPr/>
          <p:nvPr/>
        </p:nvSpPr>
        <p:spPr>
          <a:xfrm flipV="1">
            <a:off x="6705720" y="274320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24"/>
          <p:cNvSpPr/>
          <p:nvPr/>
        </p:nvSpPr>
        <p:spPr>
          <a:xfrm flipV="1">
            <a:off x="6172200" y="327636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26"/>
          <p:cNvSpPr/>
          <p:nvPr/>
        </p:nvSpPr>
        <p:spPr>
          <a:xfrm flipH="1">
            <a:off x="6858000" y="274320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6248520" y="3124080"/>
            <a:ext cx="7596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7"/>
          <p:cNvSpPr/>
          <p:nvPr/>
        </p:nvSpPr>
        <p:spPr>
          <a:xfrm flipV="1">
            <a:off x="6306840" y="2939400"/>
            <a:ext cx="132480" cy="1911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2779560" y="2432160"/>
                <a:ext cx="13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faces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59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appearance variation = sub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queries on object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faces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595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appearance variation = sub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queries on object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reas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by reduction to nearest neigh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-to-point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by reduction to nearest neigh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-to-point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traight Connector 3"/>
          <p:cNvSpPr/>
          <p:nvPr/>
        </p:nvSpPr>
        <p:spPr>
          <a:xfrm>
            <a:off x="2245680" y="3278160"/>
            <a:ext cx="324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4"/>
          <p:cNvSpPr/>
          <p:nvPr/>
        </p:nvSpPr>
        <p:spPr>
          <a:xfrm flipV="1">
            <a:off x="1066680" y="4152960"/>
            <a:ext cx="2362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5"/>
          <p:cNvSpPr/>
          <p:nvPr/>
        </p:nvSpPr>
        <p:spPr>
          <a:xfrm flipV="1">
            <a:off x="1066680" y="350532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6"/>
          <p:cNvSpPr/>
          <p:nvPr/>
        </p:nvSpPr>
        <p:spPr>
          <a:xfrm>
            <a:off x="1066680" y="3276720"/>
            <a:ext cx="23623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7"/>
          <p:cNvSpPr/>
          <p:nvPr/>
        </p:nvSpPr>
        <p:spPr>
          <a:xfrm>
            <a:off x="1295280" y="327672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8"/>
          <p:cNvSpPr/>
          <p:nvPr/>
        </p:nvSpPr>
        <p:spPr>
          <a:xfrm>
            <a:off x="1904400" y="327672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9"/>
          <p:cNvSpPr/>
          <p:nvPr/>
        </p:nvSpPr>
        <p:spPr>
          <a:xfrm flipV="1">
            <a:off x="1600200" y="327672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10"/>
          <p:cNvSpPr/>
          <p:nvPr/>
        </p:nvSpPr>
        <p:spPr>
          <a:xfrm flipV="1">
            <a:off x="1066680" y="380952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traight Connector 11"/>
          <p:cNvSpPr/>
          <p:nvPr/>
        </p:nvSpPr>
        <p:spPr>
          <a:xfrm flipH="1">
            <a:off x="1752480" y="327672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143000" y="365760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ight Arrow 13"/>
          <p:cNvSpPr/>
          <p:nvPr/>
        </p:nvSpPr>
        <p:spPr>
          <a:xfrm>
            <a:off x="3962520" y="3809880"/>
            <a:ext cx="1523880" cy="7621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traight Connector 19"/>
          <p:cNvSpPr/>
          <p:nvPr/>
        </p:nvSpPr>
        <p:spPr>
          <a:xfrm>
            <a:off x="7198560" y="3354480"/>
            <a:ext cx="3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0"/>
          <p:cNvSpPr/>
          <p:nvPr/>
        </p:nvSpPr>
        <p:spPr>
          <a:xfrm flipV="1">
            <a:off x="6247800" y="4076280"/>
            <a:ext cx="190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23"/>
          <p:cNvSpPr/>
          <p:nvPr/>
        </p:nvSpPr>
        <p:spPr>
          <a:xfrm flipH="1">
            <a:off x="6933960" y="3809880"/>
            <a:ext cx="5331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9"/>
          <p:cNvSpPr/>
          <p:nvPr/>
        </p:nvSpPr>
        <p:spPr>
          <a:xfrm>
            <a:off x="7010280" y="4343400"/>
            <a:ext cx="122400" cy="122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30"/>
          <p:cNvSpPr/>
          <p:nvPr/>
        </p:nvSpPr>
        <p:spPr>
          <a:xfrm>
            <a:off x="7010280" y="34290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31"/>
          <p:cNvSpPr/>
          <p:nvPr/>
        </p:nvSpPr>
        <p:spPr>
          <a:xfrm>
            <a:off x="6705720" y="358128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7238880" y="3733920"/>
            <a:ext cx="92160" cy="91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543800" y="3657600"/>
            <a:ext cx="38160" cy="3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858000" y="3809880"/>
            <a:ext cx="84240" cy="8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35"/>
          <p:cNvSpPr/>
          <p:nvPr/>
        </p:nvSpPr>
        <p:spPr>
          <a:xfrm>
            <a:off x="7391520" y="4114800"/>
            <a:ext cx="7596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37"/>
          <p:cNvSpPr/>
          <p:nvPr/>
        </p:nvSpPr>
        <p:spPr>
          <a:xfrm>
            <a:off x="7543800" y="388620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8"/>
          <p:cNvSpPr/>
          <p:nvPr/>
        </p:nvSpPr>
        <p:spPr>
          <a:xfrm>
            <a:off x="6324480" y="4876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actual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by reduction to nearest neighb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-to-point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gher-dimensional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3"/>
          <p:cNvSpPr/>
          <p:nvPr/>
        </p:nvSpPr>
        <p:spPr>
          <a:xfrm>
            <a:off x="2245680" y="3278160"/>
            <a:ext cx="324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4"/>
          <p:cNvSpPr/>
          <p:nvPr/>
        </p:nvSpPr>
        <p:spPr>
          <a:xfrm flipV="1">
            <a:off x="1066680" y="4152960"/>
            <a:ext cx="2362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5"/>
          <p:cNvSpPr/>
          <p:nvPr/>
        </p:nvSpPr>
        <p:spPr>
          <a:xfrm flipV="1">
            <a:off x="1066680" y="3505320"/>
            <a:ext cx="23623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6"/>
          <p:cNvSpPr/>
          <p:nvPr/>
        </p:nvSpPr>
        <p:spPr>
          <a:xfrm>
            <a:off x="1066680" y="3276720"/>
            <a:ext cx="23623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1295280" y="3276720"/>
            <a:ext cx="19051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8"/>
          <p:cNvSpPr/>
          <p:nvPr/>
        </p:nvSpPr>
        <p:spPr>
          <a:xfrm>
            <a:off x="1904400" y="3276720"/>
            <a:ext cx="68580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9"/>
          <p:cNvSpPr/>
          <p:nvPr/>
        </p:nvSpPr>
        <p:spPr>
          <a:xfrm flipV="1">
            <a:off x="1600200" y="3276720"/>
            <a:ext cx="129528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10"/>
          <p:cNvSpPr/>
          <p:nvPr/>
        </p:nvSpPr>
        <p:spPr>
          <a:xfrm flipV="1">
            <a:off x="1066680" y="380952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1"/>
          <p:cNvSpPr/>
          <p:nvPr/>
        </p:nvSpPr>
        <p:spPr>
          <a:xfrm flipH="1">
            <a:off x="1752480" y="3276720"/>
            <a:ext cx="99072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1143000" y="365760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ight Arrow 13"/>
          <p:cNvSpPr/>
          <p:nvPr/>
        </p:nvSpPr>
        <p:spPr>
          <a:xfrm>
            <a:off x="3962520" y="3809880"/>
            <a:ext cx="1523880" cy="7621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19"/>
          <p:cNvSpPr/>
          <p:nvPr/>
        </p:nvSpPr>
        <p:spPr>
          <a:xfrm>
            <a:off x="7198560" y="3354480"/>
            <a:ext cx="3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20"/>
          <p:cNvSpPr/>
          <p:nvPr/>
        </p:nvSpPr>
        <p:spPr>
          <a:xfrm flipV="1">
            <a:off x="6247800" y="4076280"/>
            <a:ext cx="190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23"/>
          <p:cNvSpPr/>
          <p:nvPr/>
        </p:nvSpPr>
        <p:spPr>
          <a:xfrm flipH="1">
            <a:off x="6933960" y="3809880"/>
            <a:ext cx="5331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29"/>
          <p:cNvSpPr/>
          <p:nvPr/>
        </p:nvSpPr>
        <p:spPr>
          <a:xfrm>
            <a:off x="7010280" y="4343400"/>
            <a:ext cx="122400" cy="122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30"/>
          <p:cNvSpPr/>
          <p:nvPr/>
        </p:nvSpPr>
        <p:spPr>
          <a:xfrm>
            <a:off x="7010280" y="34290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31"/>
          <p:cNvSpPr/>
          <p:nvPr/>
        </p:nvSpPr>
        <p:spPr>
          <a:xfrm>
            <a:off x="6705720" y="358128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32"/>
          <p:cNvSpPr/>
          <p:nvPr/>
        </p:nvSpPr>
        <p:spPr>
          <a:xfrm>
            <a:off x="7238880" y="3733920"/>
            <a:ext cx="92160" cy="91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33"/>
          <p:cNvSpPr/>
          <p:nvPr/>
        </p:nvSpPr>
        <p:spPr>
          <a:xfrm>
            <a:off x="7543800" y="3657600"/>
            <a:ext cx="38160" cy="38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34"/>
          <p:cNvSpPr/>
          <p:nvPr/>
        </p:nvSpPr>
        <p:spPr>
          <a:xfrm>
            <a:off x="6858000" y="3809880"/>
            <a:ext cx="84240" cy="8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35"/>
          <p:cNvSpPr/>
          <p:nvPr/>
        </p:nvSpPr>
        <p:spPr>
          <a:xfrm>
            <a:off x="7391520" y="4114800"/>
            <a:ext cx="7596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37"/>
          <p:cNvSpPr/>
          <p:nvPr/>
        </p:nvSpPr>
        <p:spPr>
          <a:xfrm>
            <a:off x="7543800" y="388620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5"/>
          <p:cNvSpPr/>
          <p:nvPr/>
        </p:nvSpPr>
        <p:spPr>
          <a:xfrm>
            <a:off x="6324480" y="4876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actual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an</dc:creator>
  <dc:description/>
  <dc:language>en-US</dc:language>
  <cp:lastModifiedBy>Ian Simon</cp:lastModifiedBy>
  <dcterms:modified xsi:type="dcterms:W3CDTF">2007-11-19T08:01:02Z</dcterms:modified>
  <cp:revision>50</cp:revision>
  <dc:subject/>
  <dc:title>Approximate Nearest Subspace</dc:title>
</cp:coreProperties>
</file>