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4B6B5-B038-421A-9632-47CBCFB770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9BAA2-2139-4646-B057-093D687F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B5ED6-68E6-4873-BB56-85338F27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20A0F-A46E-4ED2-B30D-71E7AF5810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3062C-19DC-498F-BE1B-FE01EE41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6D582-D831-4BA0-A889-B4F675FC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81C00-3A0C-4638-A7D3-696CC995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98D6D-5704-482D-A23D-FDBA4DCC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75CA7-6F38-4046-8D32-347E41B3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43E9A-77A2-43A0-829F-9723FAEB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576A1-4734-4FAC-BC01-3B75D433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75922-63E2-40B8-9C85-9222CF5C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A4C40-DF41-4127-91D4-9C0FFC62A656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600200"/>
            <a:ext cx="7772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Joint Optimization of Cascaded Classifiers for Computer Aided Detection” by M.Dundar and J.B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ndrey Kolob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randon Lu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iola &amp; Jones Face Detection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a bigger experiment, they show that their 38 classifier cascade approach is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600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times faster than previous work.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ke that, previous work. (Schneiderman &amp; Kanade, 2000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Point: Cascades eliminate candidates early on, so later stages with higher complexity have to evaluate fewer candida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scade classif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519200"/>
            <a:ext cx="8229600" cy="53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vantages over monolithic classifiers: faster learning and smaller computatio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ey insight: a small number of features can reject a big number of false candid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train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use set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of examples that passed previous st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w false negative rate is critical at all st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: cascade training with AdaBo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600200"/>
            <a:ext cx="822960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alibri"/>
              </a:rPr>
              <a:t>Given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: set H = {h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, …, h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} of single-feature classifi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alibri"/>
              </a:rPr>
              <a:t>Goal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: construct cascade C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, …, C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s.t. C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is a weighted sum of an m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-subset of H, m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&lt;&lt; 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rain C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with AdaBoost to select an m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-subset using examples that passed through previous cascade stag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ptimal m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and N are very hard to find. They are set empirically. Each stage is trained to achieve a some false positive rate FP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and/or false negative rate FN</a:t>
            </a:r>
            <a:r>
              <a:rPr b="0" lang="en-GB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rawbacks of modern cascade trai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eedy; classifier at stage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is optimal for this stage but not glob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rawback of AdaBoost cascade training: feature computational complexity is ignored, leading to inefficiency in early sta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position: AND-OR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600200"/>
            <a:ext cx="8229600" cy="55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ach stage is trained for optimal system, not stage,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l examples are used for training every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stage classifier complexity increases down the casc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arameters of different stage classifiers may be adjusted throughout the training process, depending on how other classifiers are do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tivation: a negative example is classified correctly iff it’s rejected by at least one stage (OR); a positive one must pass all stages (AND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position: AND-OR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14400" y="1600200"/>
            <a:ext cx="7315200" cy="4800600"/>
            <a:chOff x="914400" y="1600200"/>
            <a:chExt cx="7315200" cy="480060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914400" y="1600200"/>
              <a:ext cx="731520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914400" y="1600200"/>
              <a:ext cx="7315200" cy="48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228600"/>
            <a:ext cx="5257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101160"/>
            <a:ext cx="907092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view of Hyperplane Classifiers w/ Hinge Lo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71640"/>
            <a:ext cx="9070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inge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28584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hinge loss is 0, correct classific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28584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hinge loss &gt; 0, incorrect classific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oal: Minimize Hinge Lo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28584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 (α) = Φ(α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GB" sz="24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=1</a:t>
            </a:r>
            <a:r>
              <a:rPr b="0" lang="en-GB" sz="24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1 − α</a:t>
            </a:r>
            <a:r>
              <a:rPr b="0" lang="en-GB" sz="2400" spc="-1" strike="noStrike" baseline="3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GB" sz="2400" spc="-1" strike="noStrike" baseline="33000">
                <a:solidFill>
                  <a:srgbClr val="0000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28584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in: J (α) = Φ(α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GB" sz="24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=1</a:t>
            </a:r>
            <a:r>
              <a:rPr b="0" lang="en-GB" sz="24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28584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en-GB" sz="2400" spc="-1" strike="noStrike">
                <a:solidFill>
                  <a:srgbClr val="000000"/>
                </a:solidFill>
                <a:latin typeface="FreeMono"/>
                <a:ea typeface="FreeMono"/>
              </a:rPr>
              <a:t>≥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1 − α</a:t>
            </a:r>
            <a:r>
              <a:rPr b="0" lang="en-GB" sz="2400" spc="-1" strike="noStrike" baseline="3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, E </a:t>
            </a:r>
            <a:r>
              <a:rPr b="0" lang="en-GB" sz="2400" spc="-1" strike="noStrike">
                <a:solidFill>
                  <a:srgbClr val="000000"/>
                </a:solidFill>
                <a:latin typeface="FreeMono"/>
                <a:ea typeface="FreeMono"/>
              </a:rPr>
              <a:t>≥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400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baseline="33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here are L pairs {x</a:t>
            </a:r>
            <a:r>
              <a:rPr b="0" lang="en-GB" sz="1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,y</a:t>
            </a:r>
            <a:r>
              <a:rPr b="0" lang="en-GB" sz="1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} of training da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720" y="109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equential Cascaded Classifi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9920" y="1371600"/>
            <a:ext cx="9070920" cy="65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 all that pertains to one classifier on its ow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scaded Version, w/ k classifiers. (x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gets split into k non-overlapping subvectors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bvectors ordered by computational complex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,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(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= Φ(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GB" sz="24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=1</a:t>
            </a:r>
            <a:r>
              <a:rPr b="0" lang="en-GB" sz="24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1 − 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 baseline="3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+                  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 i  is in T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 is set of “yes”'s from previous classifi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ut as many “no”'s as possible, leave the rest for the rest of the α'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228600" y="301680"/>
            <a:ext cx="9802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-OR Cascaded Classif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0709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verything at once – same starting pt. for ea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(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... ,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=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GB" sz="24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k=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Φ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α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GB" sz="24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 in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(1 − 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 baseline="3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+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+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 in 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0,(1 − 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 baseline="3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, ... , (1 − 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 baseline="3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3886200"/>
            <a:ext cx="457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7086600"/>
            <a:ext cx="365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496800" cy="588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43600" y="2743200"/>
            <a:ext cx="457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k=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286000"/>
            <a:ext cx="457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14400" y="3429000"/>
            <a:ext cx="7543800" cy="3200400"/>
            <a:chOff x="914400" y="3429000"/>
            <a:chExt cx="7543800" cy="320040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914400" y="3429000"/>
              <a:ext cx="75438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914400" y="3429000"/>
              <a:ext cx="75438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28600" y="338040"/>
            <a:ext cx="9802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-OR Cascaded Classif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720" y="1600200"/>
            <a:ext cx="9070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verything at once – same starting pt. for ea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(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... ,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=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GB" sz="24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k=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Φ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α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GB" sz="24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 in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(1 − 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 baseline="3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+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+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 in 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0,(1 − 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400" spc="-1" strike="noStrike" baseline="3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, ... , (1 − 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400" spc="-1" strike="noStrike" baseline="33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i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886200"/>
            <a:ext cx="457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427800"/>
            <a:ext cx="365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496800" cy="588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943600" y="2743200"/>
            <a:ext cx="457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k=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2286000"/>
            <a:ext cx="457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5720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N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4572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R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4572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egularization Te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743200" y="2741760"/>
            <a:ext cx="1143000" cy="1831680"/>
          </a:xfrm>
          <a:prstGeom prst="line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141200" y="3427200"/>
            <a:ext cx="3431880" cy="1145880"/>
          </a:xfrm>
          <a:prstGeom prst="line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941800" y="2741760"/>
            <a:ext cx="688680" cy="1831680"/>
          </a:xfrm>
          <a:prstGeom prst="line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5468760"/>
            <a:ext cx="5943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is is the training cost fun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alk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8229600" cy="46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per 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verview of cascade classifiers and current approaches for training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igh-level idea of AND-OR framewor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ry math behind AND-OR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erimental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34560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ptimizing Cascaded Classif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18840"/>
            <a:ext cx="907092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w minimization (similar to the first one)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 each k in K, fix all (α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) | j </a:t>
            </a:r>
            <a:r>
              <a:rPr b="0" lang="en-GB" sz="2400" spc="-1" strike="noStrike">
                <a:solidFill>
                  <a:srgbClr val="000000"/>
                </a:solidFill>
                <a:latin typeface="FreeMono"/>
                <a:ea typeface="FreeMono"/>
              </a:rPr>
              <a:t>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28584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inimize Φ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α) +(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GB" sz="22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 in F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w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+ (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lang="en-GB" sz="22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 in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E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290600" indent="-212760">
              <a:lnSpc>
                <a:spcPct val="12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FreeMono"/>
                <a:ea typeface="FreeMono"/>
              </a:rPr>
              <a:t>≥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1 − α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20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y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E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FreeMono"/>
                <a:ea typeface="FreeMono"/>
              </a:rPr>
              <a:t>≥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0600" indent="-212760">
              <a:lnSpc>
                <a:spcPct val="12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FreeMono"/>
                <a:ea typeface="FreeMono"/>
              </a:rPr>
              <a:t>≥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max(0,(1 − α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0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y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),...,(1 − α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k-1</a:t>
            </a:r>
            <a:r>
              <a:rPr b="0" lang="en-GB" sz="20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y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k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),                                         (1 − α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k+1</a:t>
            </a:r>
            <a:r>
              <a:rPr b="0" lang="en-GB" sz="20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y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k+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),...,(1 − α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20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y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0600" indent="-212760">
              <a:lnSpc>
                <a:spcPct val="12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l but α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Calibri"/>
              </a:rPr>
              <a:t>k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re not variable, so this is easy (linear prog./quadratic prog. solver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subproblem is conve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428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yclic Optimization Algorith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755360"/>
            <a:ext cx="9070920" cy="64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0.Initialize all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to α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600" spc="-1" strike="noStrike" baseline="33000">
                <a:solidFill>
                  <a:srgbClr val="000000"/>
                </a:solidFill>
                <a:latin typeface="Calibri"/>
              </a:rPr>
              <a:t>0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ing init. training datase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.for all k: fix all α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, i != k, minimize eq. on prev.  slid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2.Compute J(α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, ... α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... α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) using α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600" spc="-1" strike="noStrike" baseline="33000">
                <a:solidFill>
                  <a:srgbClr val="000000"/>
                </a:solidFill>
                <a:latin typeface="Calibri"/>
              </a:rPr>
              <a:t>c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stead of α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GB" sz="2600" spc="-1" strike="noStrike" baseline="33000">
                <a:solidFill>
                  <a:srgbClr val="000000"/>
                </a:solidFill>
                <a:latin typeface="Calibri"/>
              </a:rPr>
              <a:t>c-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3.If J</a:t>
            </a:r>
            <a:r>
              <a:rPr b="0" lang="en-GB" sz="2600" spc="-1" strike="noStrike" baseline="33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has improved enough, or we've run long enough, stop, otherwise, go back to step 1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vergence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6407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y show that they are globally convergent to          the set of sub-optimal sol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28584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ing magic, and a theorem by two people named Fiotot, and Hua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dea behind proof: Since we fix all vars but one, and minimize, the sequence of solutions is a decreasing sequence, with a lower bound of zero – so we converge to local min. or 0.  We threshold and limit iterations, so we could hit a flat spot or just fall sho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pplication: polyp detection in computed tomography images. Important because polyps are an early stage of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ining set: 338 volumes (images), 88 polyps, 137.3 false positives per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est set: 396 volumes, 106 polyps, 139.4 false positives per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al: reduce false positives per volume (FP/vol) to 0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aluation (cont’d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00200"/>
            <a:ext cx="82296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46 features per candidate obj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omparison of AdaBoost-trained cascade, single-stage SVM, and AND-OR trained casca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eatures were split into 3 sets, in the increasing order of complex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-stage AND-OR classifier was buil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daBoost classifier was built in 3 phases, where phase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used feature sets 1 through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for train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aluation (cont’d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nsitivity thresholds for AdaBoost were 0 missed polyps for phase 1, 2 for phase 2, and 1 for phas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umber` of stages in each phase was picked to satisfy these threshol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670040" y="1600200"/>
            <a:ext cx="5803920" cy="4525920"/>
            <a:chOff x="1670040" y="1600200"/>
            <a:chExt cx="5803920" cy="452592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1670040" y="1600200"/>
              <a:ext cx="580392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670040" y="1600200"/>
              <a:ext cx="580392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ults (cont’d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scade AdaBoost - 118 CPU se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scade AND-OR – 81 CPU se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VM – 286 CPU se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scade AND-OR is as accurate as SVM and 30% better than cascade AdaBo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ther methods of solving the optimiz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ow to assign cascade para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are feature sub-vectors sor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uristic?  What is “ordered by computational complexity”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peed increase was more prominent result, but hardly mentioned next to discussion of false positiv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nerally better to use parallel cascade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per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poses procedure for offline joint learning of cascade classif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sulting classifier is tested on polyp detection from computed tomography im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sulting cascade classifier is more accurate than cascade AdaBoost, on par with SVM, and faster than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523880"/>
            <a:ext cx="403848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lyp detection in a CT 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olog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y candidate structures (subwindow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ute features of candidate struc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assify candid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741920" y="1600200"/>
            <a:ext cx="4003560" cy="3892680"/>
            <a:chOff x="4741920" y="1600200"/>
            <a:chExt cx="4003560" cy="389268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4741920" y="1600200"/>
              <a:ext cx="4003560" cy="38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741920" y="1600200"/>
              <a:ext cx="4003560" cy="38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scade classif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143000" y="1371600"/>
            <a:ext cx="7086600" cy="4800600"/>
            <a:chOff x="1143000" y="1371600"/>
            <a:chExt cx="7086600" cy="480060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143000" y="1371600"/>
              <a:ext cx="708660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143000" y="1371600"/>
              <a:ext cx="7086600" cy="48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 digression to previous work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use cascades in the first plac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motivate their use with Paul Viola and Michael Jones' 2004 work on detecting f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Also, this is more vision-related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iola &amp; Jones Face Detection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sed cascaded classifiers to detect f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show why cascades are useful, evaluated one big (200 feature) classifier vs. 10 20-feature classif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5000 faces, 10000 non-f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age n trained on faces + FP of stage n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olithic trained on union of all sets used to train each stage in casc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iola &amp; Jones Face Detection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4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nolithic vs. Cascade similar in accu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scade is ~10 times fa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iminate FPs early – later stages don't think about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35560" y="1438200"/>
            <a:ext cx="4022640" cy="496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iola &amp; Jones Face Detection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a small experiment, even the big classifier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s paper claims that the big classifier only works w/ ~10,000 (“maybe ~100,000”) negative 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116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scaded version sifts through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undreds of million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of negatives, since many are pared off at each s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lobov</dc:creator>
  <dc:description/>
  <dc:language>en-US</dc:language>
  <cp:lastModifiedBy>akolobov</cp:lastModifiedBy>
  <cp:revision>0</cp:revision>
  <dc:subject/>
  <dc:title>Slide 1</dc:title>
</cp:coreProperties>
</file>