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2757-7087-4007-994F-8D7DD336A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0F30-5656-42DB-A39A-1DCDD41D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51DB-552F-48A4-A05B-8C3CC0D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90C5-9654-48D9-936A-B418038CB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4CDB-13AD-4A93-A9F7-E3B71759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5DA8-ED05-495F-984C-2FCE2666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92DE-7E06-4538-9470-900D9F0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5EE2-CEA2-4A48-B3A7-6EE8B9B9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656E-2274-4556-9D2A-87CCC79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6CF1-6BA6-4FDD-8308-A6BAC3F4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99AB-5ED5-449C-844B-D53FE7C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D66E-FFEC-42F7-952C-FAC964D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D86F4-7F1E-4206-AF03-5A2C86BB21CB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Joint Optimization of Cascaded Classifiers for Computer Aided Detection” by M.Dundar and J.B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rey Kolob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randon Lu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a bigger experiment, they show that their 38 classifier cascade approach i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imes faster than previous work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at, previous work. (Schneiderman &amp; Kanade, 2000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oint: Cascades eliminate candidates early on, so later stages with higher complexity have to evaluate fewer candid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scade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519200"/>
            <a:ext cx="822960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vantages over monolithic classifiers: faster learning and smaller computati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 insight: a small number of features can reject a big number of false candi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rain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use set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examples that passed previous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w false negative rate is critical at all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: cascade training with AdaBo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Give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: set H = {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…, 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} of single-feature classifi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Goal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: construct cascade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…,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s.t.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is a weighted sum of an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subset of H,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&lt;&lt; 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ain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with AdaBoost to select an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subset using examples that passed through previous cascade stag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timal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and N are very hard to find. They are set empirically. Each stage is trained to achieve a some false positive rate FP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and/or false negative rate FN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rawbacks of modern cascade trai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dy; classifier at stage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optimal for this stage but not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back of AdaBoost cascade training: feature computational complexity is ignored, leading to inefficiency in early st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ition: AND-OR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stage is trained for optimal system, not stage,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examples are used for training every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tage classifier complexity increases down the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ameters of different stage classifiers may be adjusted throughout the training process, depending on how other classifiers are d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tivation: a negative example is classified correctly iff it’s rejected by at least one stage (OR); a positive one must pass all stages (AND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ition: AND-OR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1600200"/>
            <a:ext cx="7315200" cy="4800600"/>
            <a:chOff x="914400" y="1600200"/>
            <a:chExt cx="7315200" cy="48006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73152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914400" y="1600200"/>
              <a:ext cx="73152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01160"/>
            <a:ext cx="907092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 of Hyperplane Classifiers w/ Hinge Lo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71640"/>
            <a:ext cx="9070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ng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hinge loss is 0, correct class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hinge loss &gt; 0, incorrect class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al: Minimize Hinge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 (α) = Φ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1 − α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n: J (α) = Φ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≥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 − α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E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baseline="33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re are L pairs {x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} of training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quential Cascaded Classif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65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 all that pertains to one classifier on its 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scaded Version, w/ k classifiers. (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ets split into k non-overlapping subvectors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vectors ordered by computational 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Φ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i  is in T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 is set of “yes”'s from previous class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t as many “no”'s as possible, leave the rest for the rest of the α'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28600" y="301680"/>
            <a:ext cx="9802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-OR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070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verything at once – same starting pt. for 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... ,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=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0,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... ,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88620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7086600"/>
            <a:ext cx="365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496800" cy="58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27432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429000"/>
            <a:ext cx="7543800" cy="3200400"/>
            <a:chOff x="914400" y="3429000"/>
            <a:chExt cx="7543800" cy="320040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914400" y="3429000"/>
              <a:ext cx="75438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14400" y="3429000"/>
              <a:ext cx="7543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28600" y="338040"/>
            <a:ext cx="9802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-OR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" y="1600200"/>
            <a:ext cx="907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verything at once – same starting pt. for 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... ,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=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0,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... ,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8620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427800"/>
            <a:ext cx="365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496800" cy="58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3600" y="27432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2860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572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4572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R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572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gularization 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43200" y="2741760"/>
            <a:ext cx="114300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141200" y="3427200"/>
            <a:ext cx="3431880" cy="11458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941800" y="2741760"/>
            <a:ext cx="68868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468760"/>
            <a:ext cx="59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s is the training cost fun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per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view of cascade classifiers and current approaches for train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-level idea of AND-OR frame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ry math behind AND-OR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456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timizing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18840"/>
            <a:ext cx="907092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minimization (similar to the first one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k in K, fix all 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| j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imize Φ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α) +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+ 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ax(0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...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                                         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+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...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but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alibri"/>
              </a:rPr>
              <a:t>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not variable, so this is easy (linear prog./quadratic prog. solver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subproblem is conv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yclic Optimization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755360"/>
            <a:ext cx="9070920" cy="64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0.Initialize all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to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ing init. training datas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.for all k: fix all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i != k, minimize eq. on prev.  slid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.Compute J(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...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...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) using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ead of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-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.If J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has improved enough, or we've run long enough, stop, otherwise, go back to step 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vergen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640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show that they are globally convergent to          the set of sub-optimal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magic, and a theorem by two people named Fiotot, and Hu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a behind proof: Since we fix all vars but one, and minimize, the sequence of solutions is a decreasing sequence, with a lower bound of zero – so we converge to local min. or 0.  We threshold and limit iterations, so we could hit a flat spot or just fall sh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lication: polyp detection in computed tomography images. Important because polyps are an early stage of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ining set: 338 volumes (images), 88 polyps, 137.3 false positives per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set: 396 volumes, 106 polyps, 139.4 false positives per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al: reduce false positives per volume (FP/vol) to 0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229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6 features per candidate ob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mparison of AdaBoost-trained cascade, single-stage SVM, and AND-OR trained casc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eatures were split into 3 sets, in the increasing order of complex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-stage AND-OR classifier was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daBoost classifier was built in 3 phases, where phas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used feature sets 1 through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trai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nsitivity thresholds for AdaBoost were 0 missed polyps for phase 1, 2 for phase 2, and 1 for phas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umber` of stages in each phase was picked to satisfy these threshol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0040" y="1600200"/>
            <a:ext cx="5803920" cy="4525920"/>
            <a:chOff x="1670040" y="1600200"/>
            <a:chExt cx="5803920" cy="45259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670040" y="1600200"/>
              <a:ext cx="58039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70040" y="1600200"/>
              <a:ext cx="580392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ults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daBoost - 118 CPU se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ND-OR – 81 CPU s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VM – 286 CPU s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ND-OR is as accurate as SVM and 30% better than cascade AdaBo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ther methods of solving the optim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to assign cascade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are feature sub-vectors s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uristic?  What is “ordered by computational complexity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ed increase was more prominent result, but hardly mentioned next to discussion of false positiv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nerally better to use parallel cascad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per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poses procedure for offline joint learning of cascade class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ulting classifier is tested on polyp detection from computed tomography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ulting cascade classifier is more accurate than cascade AdaBoost, on par with SVM, and faster than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3880"/>
            <a:ext cx="40384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yp detection in a CT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olo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andidate structures (subwindow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ute features of candidate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ssify candi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41920" y="1600200"/>
            <a:ext cx="4003560" cy="3892680"/>
            <a:chOff x="4741920" y="1600200"/>
            <a:chExt cx="4003560" cy="3892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741920" y="1600200"/>
              <a:ext cx="4003560" cy="38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741920" y="1600200"/>
              <a:ext cx="4003560" cy="38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scade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43000" y="1371600"/>
            <a:ext cx="7086600" cy="4800600"/>
            <a:chOff x="1143000" y="1371600"/>
            <a:chExt cx="7086600" cy="48006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70866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43000" y="1371600"/>
              <a:ext cx="70866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digression to previous wor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use cascades in the first plac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motivate their use with Paul Viola and Michael Jones' 2004 work on detecting 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Also, this is more vision-related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d cascaded classifiers to detect 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ow why cascades are useful, evaluated one big (200 feature) classifier vs. 10 20-feature class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000 faces, 10000 non-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ge n trained on faces + FP of stage n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olithic trained on union of all sets used to train each stage in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olithic vs. Cascade similar in 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is ~10 times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minate FPs early – later stages don't think abo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35560" y="1438200"/>
            <a:ext cx="40226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a small experiment, even the big classifier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paper claims that the big classifier only works w/ ~10,000 (“maybe ~100,000”) negative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scaded version sifts through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undreds of mill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negatives, since many are pared off at each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lobov</dc:creator>
  <dc:description/>
  <dc:language>en-US</dc:language>
  <cp:lastModifiedBy>akolobov</cp:lastModifiedBy>
  <cp:revision>0</cp:revision>
  <dc:subject/>
  <dc:title>Slide 1</dc:title>
</cp:coreProperties>
</file>