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966-D4BC-4064-8C50-DF9F6B5B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1C5-1F69-4155-BD22-2EE33CED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FE6-6A07-4A32-A721-FF4239CF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D6F-80A8-4E7E-9272-B7B5FBEF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BD2-1B93-4666-B407-74320A34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046-3AC2-47CA-AF8B-28CD4FA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720-BF76-4DF0-953F-155F7A4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779-E5DE-46FB-B7B2-0D74B8E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9F7-60B4-4B0B-B1C2-DDA9477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8B3-EF0E-41CB-90EA-B815558C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933-0A64-4DCC-8B84-2FE2B375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64A-BDE9-45F5-B877-036FBB7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EEC-2F3C-4D82-A418-F4D6C943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SE 590ST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Meth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omputer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ro Domi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 to Oth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 546: 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 573: Artificial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classes (e.g., Comp B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in C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 and 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reasoning and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on and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 and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s and data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in C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s an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iquitous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-computer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 neuro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 in Bayes 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ayes 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likelihood and Bayesian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ov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man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ayes 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heory and M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cto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dro Doming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pedrod@cs.washington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: 648 Allen Cen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Wednesdays 3:00-3: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t Richard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mattr@cs.washington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: TB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Mondays 3:00-3: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ww.cs.washington.edu/590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se590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homeworks (15% e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d out on weeks 2, 4, 6 and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wo weeks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Koller &amp; N. Friedman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ayesian Networks and Beyond: Probabilistic Models for Learning and Reasoning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T Pres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andout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Russell &amp; P. Norvig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tificial Intelligence: A Modern Appro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d ed.), Prentice Hall, 200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. DeGroot &amp; M. Schervish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bability and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rd ed.), Addison-Wesley, 200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book chapters and pa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ob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culus for dealing with nondeterminism and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.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stic mode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ys how often we expect different things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.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in It for Computer Scientis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 is not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ld is full of uncertainty and non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need to be able to handl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: New foundation for 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s 1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s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ferring probabilistic models fro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in It for Computer Scientis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and CS are both abou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ive amounts of data aroun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lets us summarize and understan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lets data do our work for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s 101 vs. Thi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s 101 is a prerequisite for thi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s 101 deals with one or two variables; we deal with tens to 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s 101 focuses on continuous variables; we focus on discrete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s 101 ignore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ocus on computationa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ocus on C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8:06:01Z</dcterms:created>
  <dc:creator>Administrator</dc:creator>
  <dc:description/>
  <dc:language>en-US</dc:language>
  <cp:lastModifiedBy>Administrator</cp:lastModifiedBy>
  <dcterms:modified xsi:type="dcterms:W3CDTF">2004-03-26T10:06:34Z</dcterms:modified>
  <cp:revision>12</cp:revision>
  <dc:subject/>
  <dc:title>CSE 590ST Statistical Methods  in Computer Science</dc:title>
</cp:coreProperties>
</file>