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40538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DA2-72E2-47EC-B43A-20809325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C87-330E-46F5-906A-59295E50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61C-9557-4EAE-8167-E1B959FB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E6C-0E88-45FE-B05C-0BE9B3C4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450-4E86-40D0-9F3B-31C7AFA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F0F-5713-499D-8927-53B9D04C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64A-53D8-4570-8CCA-7C95ABDC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DDB-2459-463E-A356-7EA2D9E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6E6-6A08-42B8-8B25-4C3F69B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58A-5FB0-4B49-85EE-F58FF43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6E5-80FB-4688-84B7-BB40563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767-9322-4C2E-9727-5231B25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3E2-0C16-4AFA-8BDB-C0B433C79510}" type="slidenum">
              <a:rPr b="0" lang="en-US" sz="1400" spc="-1" strike="noStrike">
                <a:solidFill>
                  <a:srgbClr val="c0c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c0c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c0c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1587240"/>
            <a:ext cx="8559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rning Bayesian Network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4680" y="4078440"/>
            <a:ext cx="51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(From David Heckerman’s tutorial)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fficient statistic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042920" y="2637000"/>
                <a:ext cx="715644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hhth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ttth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hhth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ttth</m:t>
                          </m:r>
                          <m:r>
                            <m:t xml:space="preserve">|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θ</m:t>
                              </m:r>
                            </m:e>
                            <m:sup>
                              <m:r>
                                <m:t xml:space="preserve">h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θ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2325240" y="4619520"/>
            <a:ext cx="449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(#h,#t) are sufficient statistic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0600" y="6091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probability of heads on the next tos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19160" y="2314440"/>
                <a:ext cx="87534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th toss is </m:t>
                          </m:r>
                          <m:r>
                            <m:t xml:space="preserve">h</m:t>
                          </m:r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|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dθ</m:t>
                          </m:r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θ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θ</m:t>
                              </m:r>
                              <m:r>
                                <m:t xml:space="preserve">|</m:t>
                              </m:r>
                              <m:r>
                                <m:t xml:space="preserve">d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dθ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θ</m:t>
                              </m:r>
                              <m:r>
                                <m:t xml:space="preserve">|</m:t>
                              </m:r>
                              <m:r>
                                <m:t xml:space="preserve">d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ior Distributions for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Direct assessmen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arametric distribution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Conjugate distributions (for convenience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Mixtures of conjugate distribution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36160" y="355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jugate Family of Distribut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89280" y="5160960"/>
            <a:ext cx="1807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4960" y="2317680"/>
                <a:ext cx="8266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et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54120" y="4264200"/>
                <a:ext cx="8129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head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tails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92640" y="1838160"/>
            <a:ext cx="271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 distribution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03520" y="5405400"/>
                <a:ext cx="24289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746280" y="383220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tuition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hyperparameters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can be thought of as imaginary counts from our prior experience, starting from "pure ignorance"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Equivalent sample size =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larger the equivalent sample size, the more confident we are about the true probabilit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eta Distribut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3816360"/>
            <a:ext cx="1434960" cy="1130400"/>
          </a:xfrm>
          <a:prstGeom prst="rect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36960" y="3885840"/>
            <a:ext cx="1414440" cy="1070280"/>
            <a:chOff x="4836960" y="3885840"/>
            <a:chExt cx="1414440" cy="1070280"/>
          </a:xfrm>
        </p:grpSpPr>
        <p:sp>
          <p:nvSpPr>
            <p:cNvPr id="232" name=""/>
            <p:cNvSpPr/>
            <p:nvPr/>
          </p:nvSpPr>
          <p:spPr>
            <a:xfrm flipV="1">
              <a:off x="4836960" y="4932360"/>
              <a:ext cx="12960" cy="6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49920" y="492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867200" y="4924080"/>
              <a:ext cx="15840" cy="4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896000" y="4909680"/>
              <a:ext cx="12600" cy="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8600" y="490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23000" y="489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1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37040" y="488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4680" y="487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5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967280" y="4861080"/>
              <a:ext cx="12600" cy="9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979880" y="4849560"/>
              <a:ext cx="15840" cy="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5720" y="483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8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8680" y="481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4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025960" y="4802040"/>
              <a:ext cx="12600" cy="12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038560" y="4784760"/>
              <a:ext cx="14400" cy="17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052960" y="4768920"/>
              <a:ext cx="14400" cy="15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067360" y="4749480"/>
              <a:ext cx="12600" cy="1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079960" y="4730400"/>
              <a:ext cx="12600" cy="1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92560" y="47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1640" y="4692600"/>
              <a:ext cx="14400" cy="15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126040" y="4668840"/>
              <a:ext cx="12600" cy="23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38640" y="4645080"/>
              <a:ext cx="14400" cy="23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153040" y="4625640"/>
              <a:ext cx="11160" cy="1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4200" y="460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183280" y="4581360"/>
              <a:ext cx="1404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97320" y="4560480"/>
              <a:ext cx="12960" cy="20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210280" y="4539960"/>
              <a:ext cx="12600" cy="20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2880" y="45115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8"/>
                  </a:moveTo>
                  <a:lnTo>
                    <a:pt x="5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237280" y="4489200"/>
              <a:ext cx="12600" cy="21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498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268960" y="4443480"/>
              <a:ext cx="1440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283360" y="4421160"/>
              <a:ext cx="1080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94160" y="4394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5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08560" y="4371840"/>
              <a:ext cx="1440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322960" y="4350960"/>
              <a:ext cx="12600" cy="20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560" y="43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3200" y="4300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10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367240" y="4278240"/>
              <a:ext cx="1296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380200" y="4255920"/>
              <a:ext cx="1404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94240" y="4232160"/>
              <a:ext cx="12960" cy="23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07200" y="4208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424480" y="4186080"/>
              <a:ext cx="1440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438880" y="4170240"/>
              <a:ext cx="14040" cy="15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452920" y="4147920"/>
              <a:ext cx="12960" cy="21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65880" y="4125960"/>
              <a:ext cx="12600" cy="22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478480" y="4105080"/>
              <a:ext cx="15840" cy="20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94320" y="408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8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511960" y="4068360"/>
              <a:ext cx="12600" cy="20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524560" y="4049280"/>
              <a:ext cx="12600" cy="1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37160" y="4033800"/>
              <a:ext cx="15840" cy="15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553000" y="4016520"/>
              <a:ext cx="12600" cy="17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5600" y="399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8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83240" y="3985920"/>
              <a:ext cx="12600" cy="126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595840" y="3973320"/>
              <a:ext cx="14400" cy="126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610240" y="3957120"/>
              <a:ext cx="14400" cy="16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24640" y="3944520"/>
              <a:ext cx="12600" cy="126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637240" y="3935520"/>
              <a:ext cx="11160" cy="9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48400" y="392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667480" y="3914640"/>
              <a:ext cx="14040" cy="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681520" y="3909600"/>
              <a:ext cx="12960" cy="4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694480" y="3900600"/>
              <a:ext cx="14040" cy="9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08520" y="3895560"/>
              <a:ext cx="12960" cy="5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148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740560" y="3885840"/>
              <a:ext cx="12600" cy="4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53160" y="3886200"/>
              <a:ext cx="126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65760" y="3886200"/>
              <a:ext cx="126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78360" y="3886200"/>
              <a:ext cx="14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2760" y="3886200"/>
              <a:ext cx="12600" cy="4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536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24440" y="3895560"/>
              <a:ext cx="14400" cy="5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8840" y="3900600"/>
              <a:ext cx="12600" cy="9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51440" y="3909960"/>
              <a:ext cx="12960" cy="6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64400" y="3916440"/>
              <a:ext cx="14040" cy="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78440" y="392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97520" y="3940200"/>
              <a:ext cx="11160" cy="1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8680" y="3954600"/>
              <a:ext cx="14400" cy="14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23080" y="3968640"/>
              <a:ext cx="12600" cy="17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35680" y="3986280"/>
              <a:ext cx="14400" cy="23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4010040"/>
              <a:ext cx="12600" cy="1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402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81760" y="4052880"/>
              <a:ext cx="12600" cy="25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94360" y="4078440"/>
              <a:ext cx="14400" cy="27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8760" y="4105440"/>
              <a:ext cx="12600" cy="3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1360" y="4140360"/>
              <a:ext cx="14400" cy="29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35760" y="4170240"/>
              <a:ext cx="14040" cy="30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49800" y="420048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lnTo>
                    <a:pt x="8" y="12"/>
                  </a:lnTo>
                  <a:lnTo>
                    <a:pt x="16" y="23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67440" y="4237200"/>
              <a:ext cx="12600" cy="41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80040" y="4278240"/>
              <a:ext cx="12960" cy="38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3000" y="4316400"/>
              <a:ext cx="15840" cy="46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08840" y="4362480"/>
              <a:ext cx="12600" cy="47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1440" y="44100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8" y="14"/>
                  </a:lnTo>
                  <a:lnTo>
                    <a:pt x="16" y="31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38720" y="4459320"/>
              <a:ext cx="12960" cy="47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51680" y="4506840"/>
              <a:ext cx="14040" cy="54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65720" y="4560840"/>
              <a:ext cx="2700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lnTo>
                    <a:pt x="5" y="17"/>
                  </a:lnTo>
                  <a:lnTo>
                    <a:pt x="16" y="34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80120" y="46148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0"/>
                  </a:moveTo>
                  <a:lnTo>
                    <a:pt x="6" y="20"/>
                  </a:lnTo>
                  <a:lnTo>
                    <a:pt x="16" y="39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2720" y="4676760"/>
              <a:ext cx="12960" cy="58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5680" y="473544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0"/>
                  </a:moveTo>
                  <a:lnTo>
                    <a:pt x="8" y="20"/>
                  </a:lnTo>
                  <a:lnTo>
                    <a:pt x="16" y="39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2960" y="4797360"/>
              <a:ext cx="15840" cy="69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38800" y="4867200"/>
              <a:ext cx="1260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952720" y="3816360"/>
            <a:ext cx="1434960" cy="1130400"/>
          </a:xfrm>
          <a:prstGeom prst="rect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46240" y="4343400"/>
            <a:ext cx="14479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85560" y="5046840"/>
            <a:ext cx="1241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Beta(3, 2</a:t>
            </a:r>
            <a:r>
              <a:rPr b="0" lang="en-US" sz="2000" spc="-1" strike="noStrike" baseline="-25000">
                <a:solidFill>
                  <a:srgbClr val="fda4b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82320" y="5046840"/>
            <a:ext cx="1241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Beta(1, 1</a:t>
            </a:r>
            <a:r>
              <a:rPr b="0" lang="en-US" sz="2000" spc="-1" strike="noStrike" baseline="-25000">
                <a:solidFill>
                  <a:srgbClr val="fda4b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635880" y="2444760"/>
            <a:ext cx="1511280" cy="2502000"/>
            <a:chOff x="6635880" y="2444760"/>
            <a:chExt cx="1511280" cy="2502000"/>
          </a:xfrm>
        </p:grpSpPr>
        <p:sp>
          <p:nvSpPr>
            <p:cNvPr id="335" name=""/>
            <p:cNvSpPr/>
            <p:nvPr/>
          </p:nvSpPr>
          <p:spPr>
            <a:xfrm>
              <a:off x="6635880" y="2444760"/>
              <a:ext cx="1511280" cy="2502000"/>
            </a:xfrm>
            <a:prstGeom prst="rect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805440" y="2543040"/>
              <a:ext cx="613080" cy="2401920"/>
              <a:chOff x="6805440" y="2543040"/>
              <a:chExt cx="613080" cy="2401920"/>
            </a:xfrm>
          </p:grpSpPr>
          <p:sp>
            <p:nvSpPr>
              <p:cNvPr id="337" name=""/>
              <p:cNvSpPr/>
              <p:nvPr/>
            </p:nvSpPr>
            <p:spPr>
              <a:xfrm>
                <a:off x="6805440" y="4917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5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9840" y="4905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5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37480" y="48718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21"/>
                    </a:moveTo>
                    <a:lnTo>
                      <a:pt x="4" y="1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53320" y="481320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0" y="37"/>
                    </a:moveTo>
                    <a:lnTo>
                      <a:pt x="4" y="2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69160" y="473724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8"/>
                    </a:moveTo>
                    <a:lnTo>
                      <a:pt x="4" y="2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85000" y="4632480"/>
                <a:ext cx="27000" cy="10620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0" y="66"/>
                    </a:moveTo>
                    <a:lnTo>
                      <a:pt x="5" y="3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02280" y="4486320"/>
                <a:ext cx="27000" cy="1476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0" y="92"/>
                    </a:moveTo>
                    <a:lnTo>
                      <a:pt x="5" y="5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16680" y="4307040"/>
                <a:ext cx="27000" cy="18072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0" y="113"/>
                    </a:moveTo>
                    <a:lnTo>
                      <a:pt x="5" y="62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35760" y="4097160"/>
                <a:ext cx="27000" cy="211320"/>
              </a:xfrm>
              <a:custGeom>
                <a:avLst/>
                <a:gdLst/>
                <a:ahLst/>
                <a:rect l="l" t="t" r="r" b="b"/>
                <a:pathLst>
                  <a:path w="17" h="133">
                    <a:moveTo>
                      <a:pt x="0" y="132"/>
                    </a:moveTo>
                    <a:lnTo>
                      <a:pt x="5" y="6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50160" y="3857760"/>
                <a:ext cx="27000" cy="241200"/>
              </a:xfrm>
              <a:custGeom>
                <a:avLst/>
                <a:gdLst/>
                <a:ahLst/>
                <a:rect l="l" t="t" r="r" b="b"/>
                <a:pathLst>
                  <a:path w="17" h="152">
                    <a:moveTo>
                      <a:pt x="0" y="151"/>
                    </a:moveTo>
                    <a:lnTo>
                      <a:pt x="5" y="7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967440" y="3607920"/>
                <a:ext cx="15840" cy="2494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983280" y="3346200"/>
                <a:ext cx="15840" cy="2617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99120" y="3102120"/>
                <a:ext cx="27000" cy="245880"/>
              </a:xfrm>
              <a:custGeom>
                <a:avLst/>
                <a:gdLst/>
                <a:ahLst/>
                <a:rect l="l" t="t" r="r" b="b"/>
                <a:pathLst>
                  <a:path w="17" h="155">
                    <a:moveTo>
                      <a:pt x="0" y="154"/>
                    </a:moveTo>
                    <a:lnTo>
                      <a:pt x="4" y="7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15320" y="289260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7" h="133">
                    <a:moveTo>
                      <a:pt x="0" y="132"/>
                    </a:moveTo>
                    <a:lnTo>
                      <a:pt x="5" y="6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32600" y="2709720"/>
                <a:ext cx="27000" cy="184320"/>
              </a:xfrm>
              <a:custGeom>
                <a:avLst/>
                <a:gdLst/>
                <a:ahLst/>
                <a:rect l="l" t="t" r="r" b="b"/>
                <a:pathLst>
                  <a:path w="17" h="116">
                    <a:moveTo>
                      <a:pt x="0" y="115"/>
                    </a:moveTo>
                    <a:lnTo>
                      <a:pt x="4" y="52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8440" y="2600280"/>
                <a:ext cx="27000" cy="11124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0" y="69"/>
                    </a:moveTo>
                    <a:lnTo>
                      <a:pt x="5" y="3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254304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0" y="36"/>
                    </a:moveTo>
                    <a:lnTo>
                      <a:pt x="5" y="1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80120" y="2543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5" y="0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097760" y="2549520"/>
                <a:ext cx="27000" cy="763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0" y="0"/>
                    </a:moveTo>
                    <a:lnTo>
                      <a:pt x="4" y="21"/>
                    </a:lnTo>
                    <a:lnTo>
                      <a:pt x="16" y="47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3600" y="2624040"/>
                <a:ext cx="27000" cy="130320"/>
              </a:xfrm>
              <a:custGeom>
                <a:avLst/>
                <a:gdLst/>
                <a:ahLst/>
                <a:rect l="l" t="t" r="r" b="b"/>
                <a:pathLst>
                  <a:path w="17" h="82">
                    <a:moveTo>
                      <a:pt x="0" y="0"/>
                    </a:moveTo>
                    <a:lnTo>
                      <a:pt x="5" y="35"/>
                    </a:lnTo>
                    <a:lnTo>
                      <a:pt x="16" y="81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0880" y="275256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0" y="0"/>
                    </a:moveTo>
                    <a:lnTo>
                      <a:pt x="5" y="50"/>
                    </a:lnTo>
                    <a:lnTo>
                      <a:pt x="16" y="11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45280" y="2927520"/>
                <a:ext cx="27000" cy="203040"/>
              </a:xfrm>
              <a:custGeom>
                <a:avLst/>
                <a:gdLst/>
                <a:ahLst/>
                <a:rect l="l" t="t" r="r" b="b"/>
                <a:pathLst>
                  <a:path w="17" h="128">
                    <a:moveTo>
                      <a:pt x="0" y="0"/>
                    </a:moveTo>
                    <a:lnTo>
                      <a:pt x="5" y="61"/>
                    </a:lnTo>
                    <a:lnTo>
                      <a:pt x="16" y="127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62920" y="3129120"/>
                <a:ext cx="27000" cy="23004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0"/>
                    </a:moveTo>
                    <a:lnTo>
                      <a:pt x="4" y="72"/>
                    </a:lnTo>
                    <a:lnTo>
                      <a:pt x="16" y="144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78760" y="3357720"/>
                <a:ext cx="17280" cy="2268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96040" y="3584520"/>
                <a:ext cx="27000" cy="223920"/>
              </a:xfrm>
              <a:custGeom>
                <a:avLst/>
                <a:gdLst/>
                <a:ahLst/>
                <a:rect l="l" t="t" r="r" b="b"/>
                <a:pathLst>
                  <a:path w="17" h="141">
                    <a:moveTo>
                      <a:pt x="0" y="0"/>
                    </a:moveTo>
                    <a:lnTo>
                      <a:pt x="4" y="70"/>
                    </a:lnTo>
                    <a:lnTo>
                      <a:pt x="16" y="14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11880" y="3807000"/>
                <a:ext cx="27000" cy="204480"/>
              </a:xfrm>
              <a:custGeom>
                <a:avLst/>
                <a:gdLst/>
                <a:ahLst/>
                <a:rect l="l" t="t" r="r" b="b"/>
                <a:pathLst>
                  <a:path w="17" h="129">
                    <a:moveTo>
                      <a:pt x="0" y="0"/>
                    </a:moveTo>
                    <a:lnTo>
                      <a:pt x="4" y="67"/>
                    </a:lnTo>
                    <a:lnTo>
                      <a:pt x="16" y="128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27720" y="40100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4" y="61"/>
                    </a:lnTo>
                    <a:lnTo>
                      <a:pt x="16" y="121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43920" y="42022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5" y="52"/>
                    </a:lnTo>
                    <a:lnTo>
                      <a:pt x="16" y="104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61200" y="4367160"/>
                <a:ext cx="27000" cy="1335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0" y="0"/>
                    </a:moveTo>
                    <a:lnTo>
                      <a:pt x="5" y="44"/>
                    </a:lnTo>
                    <a:lnTo>
                      <a:pt x="16" y="83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75600" y="449892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0" y="0"/>
                    </a:moveTo>
                    <a:lnTo>
                      <a:pt x="5" y="37"/>
                    </a:lnTo>
                    <a:lnTo>
                      <a:pt x="16" y="73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4680" y="461484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0"/>
                    </a:moveTo>
                    <a:lnTo>
                      <a:pt x="5" y="29"/>
                    </a:lnTo>
                    <a:lnTo>
                      <a:pt x="16" y="54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08720" y="4700520"/>
                <a:ext cx="27000" cy="795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0"/>
                    </a:moveTo>
                    <a:lnTo>
                      <a:pt x="5" y="27"/>
                    </a:lnTo>
                    <a:lnTo>
                      <a:pt x="16" y="49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26360" y="4778280"/>
                <a:ext cx="27000" cy="4788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lnTo>
                      <a:pt x="4" y="15"/>
                    </a:lnTo>
                    <a:lnTo>
                      <a:pt x="16" y="29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42200" y="48243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0"/>
                    </a:moveTo>
                    <a:lnTo>
                      <a:pt x="11" y="16"/>
                    </a:lnTo>
                    <a:lnTo>
                      <a:pt x="16" y="26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58040" y="486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9" y="11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69200" y="4890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5" y="10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86480" y="491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2680" y="4917960"/>
                <a:ext cx="15840" cy="1116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6611760" y="5046840"/>
            <a:ext cx="149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Beta(19, 39</a:t>
            </a:r>
            <a:r>
              <a:rPr b="0" lang="en-US" sz="2000" spc="-1" strike="noStrike" baseline="-25000">
                <a:solidFill>
                  <a:srgbClr val="fda4b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28800" y="3614760"/>
            <a:ext cx="1863720" cy="1535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086840" y="5046840"/>
            <a:ext cx="162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Beta(0.5, 0.5</a:t>
            </a:r>
            <a:r>
              <a:rPr b="0" lang="en-US" sz="2000" spc="-1" strike="noStrike" baseline="-25000">
                <a:solidFill>
                  <a:srgbClr val="fda4b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a4b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82160" y="418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sessment of a Beta Distribution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560" y="1914480"/>
            <a:ext cx="60627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hod 1: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quivalent sampl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- assess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- assess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/(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hod 2: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agined future sample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11200" y="4059360"/>
                <a:ext cx="8131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s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head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1" name=""/>
          <p:cNvGraphicFramePr/>
          <p:nvPr/>
        </p:nvGraphicFramePr>
        <p:xfrm>
          <a:off x="1981080" y="4740120"/>
          <a:ext cx="518976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40120"/>
                    <a:ext cx="51897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419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eneralization to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iscrete outcome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"multinomial distribution"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89280" y="5224320"/>
            <a:ext cx="1807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30160" y="2178000"/>
                <a:ext cx="764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θ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richl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287440" y="5815080"/>
                <a:ext cx="47340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690840" y="1838160"/>
            <a:ext cx="32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richlet distribution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556080" y="4332240"/>
                <a:ext cx="21985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746280" y="434016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409920" y="3097080"/>
                <a:ext cx="2489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generalizations</a:t>
            </a:r>
            <a:br>
              <a:rPr sz="3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ee, e.g., Bernardo + Smith, 1994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ikelihoods from the exponential famil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Binomia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Multinomia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oisson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Gamma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Normal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35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68560" y="1968120"/>
            <a:ext cx="7137360" cy="36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Intro to Bayesian statistics:</a:t>
            </a:r>
            <a:br>
              <a:rPr sz="2400"/>
            </a:b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a probabilit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arning probabilities in a Bayes ne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Bayes-net structure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85960" y="1819440"/>
            <a:ext cx="169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Bayes net(s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2840" y="212076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2880" y="2620800"/>
            <a:ext cx="2959200" cy="2263680"/>
            <a:chOff x="272880" y="2620800"/>
            <a:chExt cx="2959200" cy="2263680"/>
          </a:xfrm>
        </p:grpSpPr>
        <p:sp>
          <p:nvSpPr>
            <p:cNvPr id="46" name=""/>
            <p:cNvSpPr/>
            <p:nvPr/>
          </p:nvSpPr>
          <p:spPr>
            <a:xfrm>
              <a:off x="272880" y="2620800"/>
              <a:ext cx="2940120" cy="22446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74760" y="2673000"/>
              <a:ext cx="417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080" y="2668320"/>
              <a:ext cx="71928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86200" y="2668320"/>
              <a:ext cx="48168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55880" y="2668320"/>
              <a:ext cx="62028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0.7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-1.6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5.9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6.3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2880" y="3004920"/>
              <a:ext cx="294948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3309840"/>
              <a:ext cx="295920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2240" y="3614400"/>
              <a:ext cx="293076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960" y="3919320"/>
              <a:ext cx="294012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1320" y="4224240"/>
              <a:ext cx="293076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7880" y="3011400"/>
              <a:ext cx="0" cy="18540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66600" y="3020760"/>
              <a:ext cx="0" cy="185436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95320" y="3030120"/>
              <a:ext cx="0" cy="185436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66240" y="3506400"/>
              <a:ext cx="39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12200" y="4182840"/>
              <a:ext cx="251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12200" y="4335120"/>
              <a:ext cx="251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25560" y="4162320"/>
              <a:ext cx="26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9680" y="4314600"/>
              <a:ext cx="263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54160" y="4466880"/>
              <a:ext cx="26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0880" y="622080"/>
            <a:ext cx="723240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arning Bayes Nets From Dat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89280" y="4108320"/>
            <a:ext cx="1486080" cy="0"/>
          </a:xfrm>
          <a:prstGeom prst="line">
            <a:avLst/>
          </a:prstGeom>
          <a:ln w="25560">
            <a:solidFill>
              <a:srgbClr val="e00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1000" y="231768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3640" y="247032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5920" y="262260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48200" y="277488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00840" y="292752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5800" y="4237200"/>
            <a:ext cx="887760" cy="24120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7320" y="304956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75600" y="377352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2360" y="534024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6000" y="3578400"/>
            <a:ext cx="473040" cy="444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75720" y="315900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13600" y="392580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320" y="429264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18640" y="463068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99160" y="5254560"/>
            <a:ext cx="473040" cy="4446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7280" y="3449520"/>
            <a:ext cx="330480" cy="35892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82040" y="3564000"/>
            <a:ext cx="241200" cy="24444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1840" y="3649680"/>
            <a:ext cx="58680" cy="25884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995880" y="4307040"/>
            <a:ext cx="1083960" cy="95868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253000" y="4392720"/>
            <a:ext cx="27000" cy="21564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924320" y="5092560"/>
            <a:ext cx="212760" cy="25884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481440" y="3435480"/>
            <a:ext cx="198360" cy="20160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3200" y="4006800"/>
            <a:ext cx="258480" cy="273240"/>
          </a:xfrm>
          <a:prstGeom prst="line">
            <a:avLst/>
          </a:prstGeom>
          <a:ln w="1260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2880" y="330048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Bayes-net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learner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7800" y="5054760"/>
            <a:ext cx="3064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prior/expert informatio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896616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umbtacks to Bayes net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11240" y="1844640"/>
            <a:ext cx="694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umbtack problem can be viewed as learning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probability for a very simple BN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21280" y="2873520"/>
            <a:ext cx="723600" cy="6346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27680" y="3087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heads/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041480" y="3924360"/>
            <a:ext cx="7493040" cy="2781720"/>
            <a:chOff x="1041480" y="3924360"/>
            <a:chExt cx="7493040" cy="2781720"/>
          </a:xfrm>
        </p:grpSpPr>
        <p:sp>
          <p:nvSpPr>
            <p:cNvPr id="400" name=""/>
            <p:cNvSpPr/>
            <p:nvPr/>
          </p:nvSpPr>
          <p:spPr>
            <a:xfrm>
              <a:off x="1041480" y="3924360"/>
              <a:ext cx="7493040" cy="368280"/>
            </a:xfrm>
            <a:custGeom>
              <a:avLst/>
              <a:gdLst/>
              <a:ahLst/>
              <a:rect l="l" t="t" r="r" b="b"/>
              <a:pathLst>
                <a:path w="4720" h="232">
                  <a:moveTo>
                    <a:pt x="0" y="72"/>
                  </a:moveTo>
                  <a:cubicBezTo>
                    <a:pt x="35" y="69"/>
                    <a:pt x="70" y="69"/>
                    <a:pt x="104" y="64"/>
                  </a:cubicBezTo>
                  <a:cubicBezTo>
                    <a:pt x="143" y="58"/>
                    <a:pt x="180" y="38"/>
                    <a:pt x="216" y="24"/>
                  </a:cubicBezTo>
                  <a:cubicBezTo>
                    <a:pt x="258" y="8"/>
                    <a:pt x="309" y="5"/>
                    <a:pt x="352" y="0"/>
                  </a:cubicBezTo>
                  <a:cubicBezTo>
                    <a:pt x="397" y="3"/>
                    <a:pt x="443" y="2"/>
                    <a:pt x="488" y="8"/>
                  </a:cubicBezTo>
                  <a:cubicBezTo>
                    <a:pt x="524" y="13"/>
                    <a:pt x="565" y="44"/>
                    <a:pt x="600" y="56"/>
                  </a:cubicBezTo>
                  <a:cubicBezTo>
                    <a:pt x="629" y="66"/>
                    <a:pt x="672" y="74"/>
                    <a:pt x="704" y="80"/>
                  </a:cubicBezTo>
                  <a:cubicBezTo>
                    <a:pt x="759" y="108"/>
                    <a:pt x="777" y="106"/>
                    <a:pt x="848" y="112"/>
                  </a:cubicBezTo>
                  <a:cubicBezTo>
                    <a:pt x="861" y="117"/>
                    <a:pt x="874" y="124"/>
                    <a:pt x="888" y="128"/>
                  </a:cubicBezTo>
                  <a:cubicBezTo>
                    <a:pt x="914" y="135"/>
                    <a:pt x="968" y="144"/>
                    <a:pt x="968" y="144"/>
                  </a:cubicBezTo>
                  <a:cubicBezTo>
                    <a:pt x="1083" y="141"/>
                    <a:pt x="1197" y="141"/>
                    <a:pt x="1312" y="136"/>
                  </a:cubicBezTo>
                  <a:cubicBezTo>
                    <a:pt x="1358" y="134"/>
                    <a:pt x="1403" y="120"/>
                    <a:pt x="1448" y="112"/>
                  </a:cubicBezTo>
                  <a:cubicBezTo>
                    <a:pt x="1484" y="106"/>
                    <a:pt x="1683" y="92"/>
                    <a:pt x="1744" y="88"/>
                  </a:cubicBezTo>
                  <a:cubicBezTo>
                    <a:pt x="1800" y="91"/>
                    <a:pt x="1857" y="85"/>
                    <a:pt x="1912" y="96"/>
                  </a:cubicBezTo>
                  <a:cubicBezTo>
                    <a:pt x="1962" y="106"/>
                    <a:pt x="1941" y="130"/>
                    <a:pt x="1968" y="152"/>
                  </a:cubicBezTo>
                  <a:cubicBezTo>
                    <a:pt x="1976" y="159"/>
                    <a:pt x="2039" y="205"/>
                    <a:pt x="2048" y="208"/>
                  </a:cubicBezTo>
                  <a:cubicBezTo>
                    <a:pt x="2095" y="222"/>
                    <a:pt x="2151" y="227"/>
                    <a:pt x="2200" y="232"/>
                  </a:cubicBezTo>
                  <a:cubicBezTo>
                    <a:pt x="2379" y="225"/>
                    <a:pt x="2465" y="204"/>
                    <a:pt x="2624" y="176"/>
                  </a:cubicBezTo>
                  <a:cubicBezTo>
                    <a:pt x="2714" y="160"/>
                    <a:pt x="2805" y="149"/>
                    <a:pt x="2896" y="136"/>
                  </a:cubicBezTo>
                  <a:cubicBezTo>
                    <a:pt x="2933" y="131"/>
                    <a:pt x="3008" y="120"/>
                    <a:pt x="3008" y="120"/>
                  </a:cubicBezTo>
                  <a:cubicBezTo>
                    <a:pt x="3055" y="96"/>
                    <a:pt x="3081" y="88"/>
                    <a:pt x="3128" y="72"/>
                  </a:cubicBezTo>
                  <a:cubicBezTo>
                    <a:pt x="3798" y="79"/>
                    <a:pt x="3767" y="40"/>
                    <a:pt x="4184" y="144"/>
                  </a:cubicBezTo>
                  <a:cubicBezTo>
                    <a:pt x="4259" y="141"/>
                    <a:pt x="4333" y="141"/>
                    <a:pt x="4408" y="136"/>
                  </a:cubicBezTo>
                  <a:cubicBezTo>
                    <a:pt x="4450" y="133"/>
                    <a:pt x="4492" y="115"/>
                    <a:pt x="4536" y="112"/>
                  </a:cubicBezTo>
                  <a:cubicBezTo>
                    <a:pt x="4597" y="108"/>
                    <a:pt x="4720" y="104"/>
                    <a:pt x="4720" y="104"/>
                  </a:cubicBezTo>
                </a:path>
              </a:pathLst>
            </a:custGeom>
            <a:noFill/>
            <a:ln w="9360">
              <a:solidFill>
                <a:srgbClr val="c0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714760" y="4511520"/>
              <a:ext cx="3534840" cy="2194560"/>
              <a:chOff x="2714760" y="4511520"/>
              <a:chExt cx="3534840" cy="21945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2832120" y="4511520"/>
                <a:ext cx="3276360" cy="1754280"/>
                <a:chOff x="2832120" y="4511520"/>
                <a:chExt cx="3276360" cy="1754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54480" y="4511520"/>
                  <a:ext cx="723960" cy="541440"/>
                </a:xfrm>
                <a:prstGeom prst="ellipse">
                  <a:avLst/>
                </a:prstGeom>
                <a:noFill/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0c0ff"/>
                      </a:solidFill>
                      <a:latin typeface="Symbol"/>
                      <a:ea typeface="Symbol"/>
                    </a:rPr>
                    <a:t></a:t>
                  </a:r>
                  <a:endParaRPr b="0" lang="en-US" sz="28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32120" y="5724720"/>
                  <a:ext cx="723960" cy="541080"/>
                </a:xfrm>
                <a:prstGeom prst="ellipse">
                  <a:avLst/>
                </a:prstGeom>
                <a:noFill/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c0c0ff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c0c0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11400" y="5724720"/>
                  <a:ext cx="723960" cy="541080"/>
                </a:xfrm>
                <a:prstGeom prst="ellipse">
                  <a:avLst/>
                </a:prstGeom>
                <a:noFill/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c0c0ff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c0c0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384880" y="5724720"/>
                  <a:ext cx="723600" cy="541080"/>
                </a:xfrm>
                <a:prstGeom prst="ellipse">
                  <a:avLst/>
                </a:prstGeom>
                <a:noFill/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c0c0ff"/>
                      </a:solidFill>
                      <a:latin typeface="Times New Roman"/>
                    </a:rPr>
                    <a:t>X</a:t>
                  </a:r>
                  <a:r>
                    <a:rPr b="0" i="1" lang="en-US" sz="2000" spc="-1" strike="noStrike" baseline="-25000">
                      <a:solidFill>
                        <a:srgbClr val="c0c0ff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3397320" y="4982760"/>
                  <a:ext cx="939600" cy="77976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>
                  <a:off x="4324320" y="5069160"/>
                  <a:ext cx="216000" cy="6498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70440" y="4993560"/>
                  <a:ext cx="673200" cy="80136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829040" y="5762520"/>
                  <a:ext cx="3952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c0c0ff"/>
                      </a:solidFill>
                      <a:latin typeface="Arial"/>
                    </a:rPr>
                    <a:t>...</a:t>
                  </a:r>
                  <a:endParaRPr b="0" lang="en-US" sz="20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714760" y="6305400"/>
                <a:ext cx="86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ff"/>
                    </a:solidFill>
                    <a:latin typeface="Arial"/>
                  </a:rPr>
                  <a:t>toss 1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95920" y="6307200"/>
                <a:ext cx="86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ff"/>
                    </a:solidFill>
                    <a:latin typeface="Arial"/>
                  </a:rPr>
                  <a:t>toss 2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46720" y="6307200"/>
                <a:ext cx="90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ff"/>
                    </a:solidFill>
                    <a:latin typeface="Arial"/>
                  </a:rPr>
                  <a:t>toss </a:t>
                </a:r>
                <a:r>
                  <a:rPr b="0" i="1" lang="en-US" sz="2000" spc="-1" strike="noStrike">
                    <a:solidFill>
                      <a:srgbClr val="c0c0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ext simplest Bayes ne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416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417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420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420840" y="3022560"/>
            <a:ext cx="8473680" cy="3133800"/>
            <a:chOff x="420840" y="3022560"/>
            <a:chExt cx="8473680" cy="3133800"/>
          </a:xfrm>
        </p:grpSpPr>
        <p:grpSp>
          <p:nvGrpSpPr>
            <p:cNvPr id="423" name=""/>
            <p:cNvGrpSpPr/>
            <p:nvPr/>
          </p:nvGrpSpPr>
          <p:grpSpPr>
            <a:xfrm>
              <a:off x="420840" y="4376880"/>
              <a:ext cx="3962160" cy="1779480"/>
              <a:chOff x="420840" y="4376880"/>
              <a:chExt cx="3962160" cy="177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420840" y="5712120"/>
                <a:ext cx="3962160" cy="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72760" y="5712120"/>
                <a:ext cx="88884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57040" y="5712120"/>
                <a:ext cx="88884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41320" y="5712120"/>
                <a:ext cx="88848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25600" y="5712120"/>
                <a:ext cx="88848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09520" y="5712120"/>
                <a:ext cx="88884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93800" y="5712120"/>
                <a:ext cx="888840" cy="44424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2422800" y="4529880"/>
                <a:ext cx="1328760" cy="1326240"/>
                <a:chOff x="2422800" y="4529880"/>
                <a:chExt cx="1328760" cy="1326240"/>
              </a:xfrm>
            </p:grpSpPr>
            <p:sp>
              <p:nvSpPr>
                <p:cNvPr id="432" name=""/>
                <p:cNvSpPr/>
                <p:nvPr/>
              </p:nvSpPr>
              <p:spPr>
                <a:xfrm rot="2580000">
                  <a:off x="2604960" y="4735800"/>
                  <a:ext cx="96444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3114000" y="4937400"/>
                  <a:ext cx="0" cy="698400"/>
                </a:xfrm>
                <a:prstGeom prst="line">
                  <a:avLst/>
                </a:prstGeom>
                <a:ln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2760120" y="43768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tails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1045440" y="4952160"/>
                <a:ext cx="1156320" cy="1120320"/>
                <a:chOff x="1045440" y="4952160"/>
                <a:chExt cx="1156320" cy="1120320"/>
              </a:xfrm>
            </p:grpSpPr>
            <p:sp>
              <p:nvSpPr>
                <p:cNvPr id="436" name=""/>
                <p:cNvSpPr/>
                <p:nvPr/>
              </p:nvSpPr>
              <p:spPr>
                <a:xfrm rot="9960000">
                  <a:off x="1141560" y="5055120"/>
                  <a:ext cx="9637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239120" y="5293080"/>
                  <a:ext cx="585720" cy="380880"/>
                </a:xfrm>
                <a:prstGeom prst="line">
                  <a:avLst/>
                </a:prstGeom>
                <a:ln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974880" y="4402440"/>
                <a:ext cx="921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heads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 flipH="1">
              <a:off x="1587240" y="3035160"/>
              <a:ext cx="1765080" cy="1028880"/>
            </a:xfrm>
            <a:prstGeom prst="line">
              <a:avLst/>
            </a:prstGeom>
            <a:ln w="936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17920" y="3022560"/>
              <a:ext cx="279360" cy="1244520"/>
            </a:xfrm>
            <a:prstGeom prst="line">
              <a:avLst/>
            </a:prstGeom>
            <a:ln w="936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849200" y="4375080"/>
              <a:ext cx="4045320" cy="1307880"/>
              <a:chOff x="4849200" y="4375080"/>
              <a:chExt cx="4045320" cy="1307880"/>
            </a:xfrm>
          </p:grpSpPr>
          <p:sp>
            <p:nvSpPr>
              <p:cNvPr id="442" name=""/>
              <p:cNvSpPr/>
              <p:nvPr/>
            </p:nvSpPr>
            <p:spPr>
              <a:xfrm>
                <a:off x="5164200" y="5358600"/>
                <a:ext cx="3629880" cy="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7364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9448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14960" y="5363280"/>
                <a:ext cx="63108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53544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5628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37676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68480" y="4375080"/>
                <a:ext cx="1173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heads”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98240" y="4375080"/>
                <a:ext cx="946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c0c0ff"/>
                    </a:solidFill>
                    <a:latin typeface="Arial"/>
                  </a:rPr>
                  <a:t>tails”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7126920" y="5083560"/>
                <a:ext cx="1506600" cy="210960"/>
                <a:chOff x="7126920" y="5083560"/>
                <a:chExt cx="1506600" cy="2109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7144920" y="5094000"/>
                  <a:ext cx="566280" cy="20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613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6138"/>
                    </a:path>
                  </a:pathLst>
                </a:custGeom>
                <a:noFill/>
                <a:ln cap="rnd"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126920" y="5094000"/>
                  <a:ext cx="565920" cy="20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56" y="0"/>
                      </a:moveTo>
                      <a:arcTo wR="10800" hR="10800" stAng="-5413862" swAng="5413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56" y="0"/>
                      </a:moveTo>
                      <a:arcTo wR="10800" hR="10800" stAng="-5413862" swAng="5413862"/>
                    </a:path>
                  </a:pathLst>
                </a:custGeom>
                <a:noFill/>
                <a:ln cap="rnd"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flipV="1">
                  <a:off x="7692120" y="5174640"/>
                  <a:ext cx="291960" cy="45720"/>
                </a:xfrm>
                <a:prstGeom prst="line">
                  <a:avLst/>
                </a:prstGeom>
                <a:ln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5720" y="5083560"/>
                  <a:ext cx="1297800" cy="12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0c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 flipH="1">
                <a:off x="5689800" y="5129640"/>
                <a:ext cx="292320" cy="900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0800000">
                <a:off x="5344200" y="5111640"/>
                <a:ext cx="129708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15600" y="5372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63800" y="5363280"/>
                <a:ext cx="630720" cy="31068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77520" y="5083920"/>
                <a:ext cx="530280" cy="164520"/>
              </a:xfrm>
              <a:prstGeom prst="ellipse">
                <a:avLst/>
              </a:prstGeom>
              <a:solidFill>
                <a:srgbClr val="000080"/>
              </a:solidFill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49200" y="5176800"/>
                <a:ext cx="171792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557760" y="5175360"/>
                <a:ext cx="73080" cy="4572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7143480" y="5184360"/>
                <a:ext cx="292320" cy="3636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418160" y="5184720"/>
                <a:ext cx="273960" cy="2736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14800" y="5029560"/>
                <a:ext cx="175500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81680" y="5104440"/>
                <a:ext cx="43200" cy="4356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5244840" y="3137040"/>
              <a:ext cx="152280" cy="1180800"/>
            </a:xfrm>
            <a:prstGeom prst="line">
              <a:avLst/>
            </a:prstGeom>
            <a:ln w="936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27600" y="3187800"/>
              <a:ext cx="2603520" cy="990360"/>
            </a:xfrm>
            <a:prstGeom prst="line">
              <a:avLst/>
            </a:prstGeom>
            <a:ln w="936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ext simplest Bayes ne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471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472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475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43200" y="4003560"/>
            <a:ext cx="1371600" cy="2714760"/>
            <a:chOff x="2743200" y="4003560"/>
            <a:chExt cx="1371600" cy="2714760"/>
          </a:xfrm>
        </p:grpSpPr>
        <p:sp>
          <p:nvSpPr>
            <p:cNvPr id="479" name=""/>
            <p:cNvSpPr/>
            <p:nvPr/>
          </p:nvSpPr>
          <p:spPr>
            <a:xfrm>
              <a:off x="3390840" y="400356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c0ff"/>
                  </a:solidFill>
                  <a:latin typeface="Symbol"/>
                  <a:ea typeface="Symbol"/>
                </a:rPr>
                <a:t></a:t>
              </a:r>
              <a:r>
                <a:rPr b="0" i="1" lang="en-US" sz="2800" spc="-1" strike="noStrike" baseline="-25000">
                  <a:solidFill>
                    <a:srgbClr val="c0c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78240" y="46702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65640" y="5305320"/>
              <a:ext cx="72360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52680" y="61768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74840" y="4406760"/>
              <a:ext cx="279720" cy="393840"/>
            </a:xfrm>
            <a:custGeom>
              <a:avLst/>
              <a:gdLst/>
              <a:ahLst/>
              <a:rect l="l" t="t" r="r" b="b"/>
              <a:pathLst>
                <a:path w="176" h="248">
                  <a:moveTo>
                    <a:pt x="168" y="0"/>
                  </a:moveTo>
                  <a:lnTo>
                    <a:pt x="0" y="112"/>
                  </a:lnTo>
                  <a:lnTo>
                    <a:pt x="176" y="248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4400" y="4317840"/>
              <a:ext cx="419040" cy="1168560"/>
            </a:xfrm>
            <a:custGeom>
              <a:avLst/>
              <a:gdLst/>
              <a:ahLst/>
              <a:rect l="l" t="t" r="r" b="b"/>
              <a:pathLst>
                <a:path w="264" h="736">
                  <a:moveTo>
                    <a:pt x="256" y="0"/>
                  </a:moveTo>
                  <a:lnTo>
                    <a:pt x="0" y="176"/>
                  </a:lnTo>
                  <a:lnTo>
                    <a:pt x="0" y="592"/>
                  </a:lnTo>
                  <a:lnTo>
                    <a:pt x="264" y="73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43200" y="4229280"/>
              <a:ext cx="635040" cy="205740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400" y="0"/>
                  </a:moveTo>
                  <a:lnTo>
                    <a:pt x="0" y="272"/>
                  </a:lnTo>
                  <a:lnTo>
                    <a:pt x="0" y="1096"/>
                  </a:lnTo>
                  <a:lnTo>
                    <a:pt x="368" y="129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3676680" y="5845320"/>
                  <a:ext cx="1396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7" name=""/>
          <p:cNvSpPr/>
          <p:nvPr/>
        </p:nvSpPr>
        <p:spPr>
          <a:xfrm>
            <a:off x="4991040" y="4029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78440" y="46958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3308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62024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c0c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76840" y="4457880"/>
            <a:ext cx="279360" cy="39348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02400" y="4343400"/>
            <a:ext cx="41904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702400" y="4216320"/>
            <a:ext cx="635040" cy="2057400"/>
          </a:xfrm>
          <a:custGeom>
            <a:avLst/>
            <a:gdLst/>
            <a:ahLst/>
            <a:rect l="l" t="t" r="r" b="b"/>
            <a:pathLst>
              <a:path w="400" h="1296">
                <a:moveTo>
                  <a:pt x="400" y="0"/>
                </a:moveTo>
                <a:lnTo>
                  <a:pt x="0" y="272"/>
                </a:lnTo>
                <a:lnTo>
                  <a:pt x="0" y="1096"/>
                </a:lnTo>
                <a:lnTo>
                  <a:pt x="368" y="129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276880" y="587052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6793560" y="4675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93560" y="5272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93560" y="6249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02200" y="4292640"/>
            <a:ext cx="8888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93080" y="38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ext simplest Bayes ne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502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503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506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743200" y="4003560"/>
            <a:ext cx="1371600" cy="2714760"/>
            <a:chOff x="2743200" y="4003560"/>
            <a:chExt cx="1371600" cy="2714760"/>
          </a:xfrm>
        </p:grpSpPr>
        <p:sp>
          <p:nvSpPr>
            <p:cNvPr id="510" name=""/>
            <p:cNvSpPr/>
            <p:nvPr/>
          </p:nvSpPr>
          <p:spPr>
            <a:xfrm>
              <a:off x="3390840" y="400356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c0ff"/>
                  </a:solidFill>
                  <a:latin typeface="Symbol"/>
                  <a:ea typeface="Symbol"/>
                </a:rPr>
                <a:t></a:t>
              </a:r>
              <a:r>
                <a:rPr b="0" i="1" lang="en-US" sz="2800" spc="-1" strike="noStrike" baseline="-25000">
                  <a:solidFill>
                    <a:srgbClr val="c0c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78240" y="46702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5640" y="5305320"/>
              <a:ext cx="72360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2680" y="61768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74840" y="4406760"/>
              <a:ext cx="279720" cy="393840"/>
            </a:xfrm>
            <a:custGeom>
              <a:avLst/>
              <a:gdLst/>
              <a:ahLst/>
              <a:rect l="l" t="t" r="r" b="b"/>
              <a:pathLst>
                <a:path w="176" h="248">
                  <a:moveTo>
                    <a:pt x="168" y="0"/>
                  </a:moveTo>
                  <a:lnTo>
                    <a:pt x="0" y="112"/>
                  </a:lnTo>
                  <a:lnTo>
                    <a:pt x="176" y="248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84400" y="4317840"/>
              <a:ext cx="419040" cy="1168560"/>
            </a:xfrm>
            <a:custGeom>
              <a:avLst/>
              <a:gdLst/>
              <a:ahLst/>
              <a:rect l="l" t="t" r="r" b="b"/>
              <a:pathLst>
                <a:path w="264" h="736">
                  <a:moveTo>
                    <a:pt x="256" y="0"/>
                  </a:moveTo>
                  <a:lnTo>
                    <a:pt x="0" y="176"/>
                  </a:lnTo>
                  <a:lnTo>
                    <a:pt x="0" y="592"/>
                  </a:lnTo>
                  <a:lnTo>
                    <a:pt x="264" y="73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3200" y="4229280"/>
              <a:ext cx="635040" cy="205740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400" y="0"/>
                  </a:moveTo>
                  <a:lnTo>
                    <a:pt x="0" y="272"/>
                  </a:lnTo>
                  <a:lnTo>
                    <a:pt x="0" y="1096"/>
                  </a:lnTo>
                  <a:lnTo>
                    <a:pt x="368" y="129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3676680" y="5845320"/>
                  <a:ext cx="1396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8" name=""/>
          <p:cNvSpPr/>
          <p:nvPr/>
        </p:nvSpPr>
        <p:spPr>
          <a:xfrm>
            <a:off x="4991040" y="4029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78440" y="46958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65840" y="53308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62024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c0c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676840" y="4457880"/>
            <a:ext cx="279360" cy="39348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702400" y="4343400"/>
            <a:ext cx="41904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702400" y="4216320"/>
            <a:ext cx="635040" cy="2057400"/>
          </a:xfrm>
          <a:custGeom>
            <a:avLst/>
            <a:gdLst/>
            <a:ahLst/>
            <a:rect l="l" t="t" r="r" b="b"/>
            <a:pathLst>
              <a:path w="400" h="1296">
                <a:moveTo>
                  <a:pt x="400" y="0"/>
                </a:moveTo>
                <a:lnTo>
                  <a:pt x="0" y="272"/>
                </a:lnTo>
                <a:lnTo>
                  <a:pt x="0" y="1096"/>
                </a:lnTo>
                <a:lnTo>
                  <a:pt x="368" y="129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276880" y="587052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793560" y="4675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93560" y="5272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93560" y="6249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02200" y="4292640"/>
            <a:ext cx="8888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68960" y="4051440"/>
            <a:ext cx="330120" cy="469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431960" y="4089240"/>
            <a:ext cx="304920" cy="330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1560" y="397656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"paramete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independence"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ext simplest Bayes ne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535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536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539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743200" y="4003560"/>
            <a:ext cx="1371600" cy="2714760"/>
            <a:chOff x="2743200" y="4003560"/>
            <a:chExt cx="1371600" cy="2714760"/>
          </a:xfrm>
        </p:grpSpPr>
        <p:sp>
          <p:nvSpPr>
            <p:cNvPr id="543" name=""/>
            <p:cNvSpPr/>
            <p:nvPr/>
          </p:nvSpPr>
          <p:spPr>
            <a:xfrm>
              <a:off x="3390840" y="400356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c0ff"/>
                  </a:solidFill>
                  <a:latin typeface="Symbol"/>
                  <a:ea typeface="Symbol"/>
                </a:rPr>
                <a:t></a:t>
              </a:r>
              <a:r>
                <a:rPr b="0" i="1" lang="en-US" sz="2800" spc="-1" strike="noStrike" baseline="-25000">
                  <a:solidFill>
                    <a:srgbClr val="c0c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78240" y="46702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5640" y="5305320"/>
              <a:ext cx="72360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2680" y="6176880"/>
              <a:ext cx="723960" cy="541440"/>
            </a:xfrm>
            <a:prstGeom prst="ellipse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c0ff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c0c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74840" y="4406760"/>
              <a:ext cx="279720" cy="393840"/>
            </a:xfrm>
            <a:custGeom>
              <a:avLst/>
              <a:gdLst/>
              <a:ahLst/>
              <a:rect l="l" t="t" r="r" b="b"/>
              <a:pathLst>
                <a:path w="176" h="248">
                  <a:moveTo>
                    <a:pt x="168" y="0"/>
                  </a:moveTo>
                  <a:lnTo>
                    <a:pt x="0" y="112"/>
                  </a:lnTo>
                  <a:lnTo>
                    <a:pt x="176" y="248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84400" y="4317840"/>
              <a:ext cx="419040" cy="1168560"/>
            </a:xfrm>
            <a:custGeom>
              <a:avLst/>
              <a:gdLst/>
              <a:ahLst/>
              <a:rect l="l" t="t" r="r" b="b"/>
              <a:pathLst>
                <a:path w="264" h="736">
                  <a:moveTo>
                    <a:pt x="256" y="0"/>
                  </a:moveTo>
                  <a:lnTo>
                    <a:pt x="0" y="176"/>
                  </a:lnTo>
                  <a:lnTo>
                    <a:pt x="0" y="592"/>
                  </a:lnTo>
                  <a:lnTo>
                    <a:pt x="264" y="73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229280"/>
              <a:ext cx="635040" cy="205740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400" y="0"/>
                  </a:moveTo>
                  <a:lnTo>
                    <a:pt x="0" y="272"/>
                  </a:lnTo>
                  <a:lnTo>
                    <a:pt x="0" y="1096"/>
                  </a:lnTo>
                  <a:lnTo>
                    <a:pt x="368" y="1296"/>
                  </a:lnTo>
                </a:path>
              </a:pathLst>
            </a:custGeom>
            <a:noFill/>
            <a:ln w="9360">
              <a:solidFill>
                <a:srgbClr val="c0c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676680" y="5845320"/>
                  <a:ext cx="1396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"/>
          <p:cNvSpPr/>
          <p:nvPr/>
        </p:nvSpPr>
        <p:spPr>
          <a:xfrm>
            <a:off x="4991040" y="4029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978440" y="46958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65840" y="53308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620244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c0c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676840" y="4457880"/>
            <a:ext cx="279360" cy="39348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702400" y="4343400"/>
            <a:ext cx="41904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702400" y="4216320"/>
            <a:ext cx="635040" cy="2057400"/>
          </a:xfrm>
          <a:custGeom>
            <a:avLst/>
            <a:gdLst/>
            <a:ahLst/>
            <a:rect l="l" t="t" r="r" b="b"/>
            <a:pathLst>
              <a:path w="400" h="1296">
                <a:moveTo>
                  <a:pt x="400" y="0"/>
                </a:moveTo>
                <a:lnTo>
                  <a:pt x="0" y="272"/>
                </a:lnTo>
                <a:lnTo>
                  <a:pt x="0" y="1096"/>
                </a:lnTo>
                <a:lnTo>
                  <a:pt x="368" y="129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276880" y="587052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6793560" y="4675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93560" y="5272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93560" y="6249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1560" y="397656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"paramete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independence"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17000" y="48290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ff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0400" y="537372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separat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umbtack-lik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arning problem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it more difficult..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567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568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571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60520" y="4025880"/>
            <a:ext cx="622296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c0ff"/>
                </a:solidFill>
                <a:uFillTx/>
                <a:latin typeface="Arial"/>
              </a:rPr>
              <a:t>Three probabilities to learn: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c0c0ff"/>
                </a:solidFill>
                <a:latin typeface="Times New Roman"/>
              </a:rPr>
              <a:t>Y=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Times New Roman"/>
              </a:rPr>
              <a:t>heads|</a:t>
            </a:r>
            <a:r>
              <a:rPr b="1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c0c0ff"/>
                </a:solidFill>
                <a:latin typeface="Times New Roman"/>
              </a:rPr>
              <a:t>Y=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Times New Roman"/>
              </a:rPr>
              <a:t>heads|</a:t>
            </a:r>
            <a:r>
              <a:rPr b="1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it more difficult..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577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578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581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44720" y="41623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32120" y="4848120"/>
            <a:ext cx="723960" cy="5414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5483160"/>
            <a:ext cx="723960" cy="5414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29080" y="4584600"/>
            <a:ext cx="279360" cy="39384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4495680"/>
            <a:ext cx="41940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3130560" y="602280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411480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43680" y="48736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30720" y="54957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442120" y="6035760"/>
                <a:ext cx="1396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6793560" y="4929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93560" y="5526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164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4686480"/>
            <a:ext cx="241200" cy="2664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29480" y="4711680"/>
            <a:ext cx="49500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43480" y="511812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56080" y="576576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2440" y="474804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ff"/>
                </a:solidFill>
                <a:latin typeface="Arial"/>
              </a:rPr>
              <a:t>heads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3520" y="54212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ff"/>
                </a:solidFill>
                <a:latin typeface="Arial"/>
              </a:rPr>
              <a:t>tails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it more difficult..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606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607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610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44720" y="41623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32120" y="4848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9520" y="54831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29080" y="4584600"/>
            <a:ext cx="279360" cy="39384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4495680"/>
            <a:ext cx="41940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130560" y="602280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411480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43680" y="48736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30720" y="54957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42120" y="6035760"/>
                <a:ext cx="1396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6793560" y="4929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93560" y="5526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029200" y="4686480"/>
            <a:ext cx="241200" cy="2664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29480" y="4711680"/>
            <a:ext cx="49500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43480" y="511812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56080" y="576576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660920" y="4724280"/>
            <a:ext cx="49536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676840" y="4648320"/>
            <a:ext cx="241200" cy="26676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it more difficult..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635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636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639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44720" y="41623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32120" y="4848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520" y="54831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29080" y="4584600"/>
            <a:ext cx="279360" cy="39384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4495680"/>
            <a:ext cx="41940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130560" y="602280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411480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43680" y="48736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30720" y="54957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442120" y="6035760"/>
                <a:ext cx="1396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93560" y="4929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93560" y="5526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5164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4686480"/>
            <a:ext cx="241200" cy="2664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29480" y="4711680"/>
            <a:ext cx="49500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43480" y="511812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56080" y="576576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60920" y="4724280"/>
            <a:ext cx="49536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676840" y="4648320"/>
            <a:ext cx="241200" cy="26676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4432320"/>
            <a:ext cx="53352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60840" y="4432320"/>
            <a:ext cx="165240" cy="126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543480" y="3936960"/>
            <a:ext cx="2273040" cy="355680"/>
          </a:xfrm>
          <a:custGeom>
            <a:avLst/>
            <a:gdLst/>
            <a:ahLst/>
            <a:rect l="l" t="t" r="r" b="b"/>
            <a:pathLst>
              <a:path w="1432" h="224">
                <a:moveTo>
                  <a:pt x="0" y="224"/>
                </a:moveTo>
                <a:lnTo>
                  <a:pt x="920" y="0"/>
                </a:lnTo>
                <a:lnTo>
                  <a:pt x="1432" y="21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1080" y="3747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58240" y="396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0200" y="437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it more difficult..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670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671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6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41623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32120" y="4848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54831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9080" y="4584600"/>
            <a:ext cx="279360" cy="39384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4495680"/>
            <a:ext cx="41940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3130560" y="6022800"/>
                <a:ext cx="139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411480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43680" y="4873680"/>
            <a:ext cx="72360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30720" y="549576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442120" y="6035760"/>
                <a:ext cx="1396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6793560" y="4929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93560" y="5526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5164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4686480"/>
            <a:ext cx="241200" cy="2664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29480" y="4711680"/>
            <a:ext cx="49500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43480" y="511812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56080" y="576576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60920" y="4724280"/>
            <a:ext cx="49536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676840" y="4648320"/>
            <a:ext cx="241200" cy="26676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67480" y="6415200"/>
            <a:ext cx="50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separate thumbtack-like problem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35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68560" y="1968120"/>
            <a:ext cx="7137360" cy="36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Introduction to Bayesian statistics:</a:t>
            </a:r>
            <a:br>
              <a:rPr sz="2400"/>
            </a:b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a probabilit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probabilities in a Bayes ne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Bayes-net structure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general…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70868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probabilities in a BN is straightforward if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ocal distributions from the exponential family (binomial, poisson, gamma, ...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arameter independence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Conjugate prior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Complete data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omplete data makes parameters dependen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22680" y="2289240"/>
            <a:ext cx="5496840" cy="712080"/>
            <a:chOff x="1822680" y="2289240"/>
            <a:chExt cx="5496840" cy="712080"/>
          </a:xfrm>
        </p:grpSpPr>
        <p:grpSp>
          <p:nvGrpSpPr>
            <p:cNvPr id="702" name=""/>
            <p:cNvGrpSpPr/>
            <p:nvPr/>
          </p:nvGrpSpPr>
          <p:grpSpPr>
            <a:xfrm>
              <a:off x="1822680" y="2289240"/>
              <a:ext cx="2317680" cy="712080"/>
              <a:chOff x="1822680" y="2289240"/>
              <a:chExt cx="2317680" cy="71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341640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2268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952880" y="2289240"/>
              <a:ext cx="2366640" cy="712080"/>
              <a:chOff x="4952880" y="2289240"/>
              <a:chExt cx="2366640" cy="712080"/>
            </a:xfrm>
          </p:grpSpPr>
          <p:sp>
            <p:nvSpPr>
              <p:cNvPr id="706" name=""/>
              <p:cNvSpPr/>
              <p:nvPr/>
            </p:nvSpPr>
            <p:spPr>
              <a:xfrm>
                <a:off x="4952880" y="228924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683320" y="254160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4127400" y="259092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03320" y="3454560"/>
            <a:ext cx="7493040" cy="368280"/>
          </a:xfrm>
          <a:custGeom>
            <a:avLst/>
            <a:gdLst/>
            <a:ahLst/>
            <a:rect l="l" t="t" r="r" b="b"/>
            <a:pathLst>
              <a:path w="4720" h="232">
                <a:moveTo>
                  <a:pt x="0" y="72"/>
                </a:moveTo>
                <a:cubicBezTo>
                  <a:pt x="35" y="69"/>
                  <a:pt x="70" y="69"/>
                  <a:pt x="104" y="64"/>
                </a:cubicBezTo>
                <a:cubicBezTo>
                  <a:pt x="143" y="58"/>
                  <a:pt x="180" y="38"/>
                  <a:pt x="216" y="24"/>
                </a:cubicBezTo>
                <a:cubicBezTo>
                  <a:pt x="258" y="8"/>
                  <a:pt x="309" y="5"/>
                  <a:pt x="352" y="0"/>
                </a:cubicBezTo>
                <a:cubicBezTo>
                  <a:pt x="397" y="3"/>
                  <a:pt x="443" y="2"/>
                  <a:pt x="488" y="8"/>
                </a:cubicBezTo>
                <a:cubicBezTo>
                  <a:pt x="524" y="13"/>
                  <a:pt x="565" y="44"/>
                  <a:pt x="600" y="56"/>
                </a:cubicBezTo>
                <a:cubicBezTo>
                  <a:pt x="629" y="66"/>
                  <a:pt x="672" y="74"/>
                  <a:pt x="704" y="80"/>
                </a:cubicBezTo>
                <a:cubicBezTo>
                  <a:pt x="759" y="108"/>
                  <a:pt x="777" y="106"/>
                  <a:pt x="848" y="112"/>
                </a:cubicBezTo>
                <a:cubicBezTo>
                  <a:pt x="861" y="117"/>
                  <a:pt x="874" y="124"/>
                  <a:pt x="888" y="128"/>
                </a:cubicBezTo>
                <a:cubicBezTo>
                  <a:pt x="914" y="135"/>
                  <a:pt x="968" y="144"/>
                  <a:pt x="968" y="144"/>
                </a:cubicBezTo>
                <a:cubicBezTo>
                  <a:pt x="1083" y="141"/>
                  <a:pt x="1197" y="141"/>
                  <a:pt x="1312" y="136"/>
                </a:cubicBezTo>
                <a:cubicBezTo>
                  <a:pt x="1358" y="134"/>
                  <a:pt x="1403" y="120"/>
                  <a:pt x="1448" y="112"/>
                </a:cubicBezTo>
                <a:cubicBezTo>
                  <a:pt x="1484" y="106"/>
                  <a:pt x="1683" y="92"/>
                  <a:pt x="1744" y="88"/>
                </a:cubicBezTo>
                <a:cubicBezTo>
                  <a:pt x="1800" y="91"/>
                  <a:pt x="1857" y="85"/>
                  <a:pt x="1912" y="96"/>
                </a:cubicBezTo>
                <a:cubicBezTo>
                  <a:pt x="1962" y="106"/>
                  <a:pt x="1941" y="130"/>
                  <a:pt x="1968" y="152"/>
                </a:cubicBezTo>
                <a:cubicBezTo>
                  <a:pt x="1976" y="159"/>
                  <a:pt x="2039" y="205"/>
                  <a:pt x="2048" y="208"/>
                </a:cubicBezTo>
                <a:cubicBezTo>
                  <a:pt x="2095" y="222"/>
                  <a:pt x="2151" y="227"/>
                  <a:pt x="2200" y="232"/>
                </a:cubicBezTo>
                <a:cubicBezTo>
                  <a:pt x="2379" y="225"/>
                  <a:pt x="2465" y="204"/>
                  <a:pt x="2624" y="176"/>
                </a:cubicBezTo>
                <a:cubicBezTo>
                  <a:pt x="2714" y="160"/>
                  <a:pt x="2805" y="149"/>
                  <a:pt x="2896" y="136"/>
                </a:cubicBezTo>
                <a:cubicBezTo>
                  <a:pt x="2933" y="131"/>
                  <a:pt x="3008" y="120"/>
                  <a:pt x="3008" y="120"/>
                </a:cubicBezTo>
                <a:cubicBezTo>
                  <a:pt x="3055" y="96"/>
                  <a:pt x="3081" y="88"/>
                  <a:pt x="3128" y="72"/>
                </a:cubicBezTo>
                <a:cubicBezTo>
                  <a:pt x="3798" y="79"/>
                  <a:pt x="3767" y="40"/>
                  <a:pt x="4184" y="144"/>
                </a:cubicBezTo>
                <a:cubicBezTo>
                  <a:pt x="4259" y="141"/>
                  <a:pt x="4333" y="141"/>
                  <a:pt x="4408" y="136"/>
                </a:cubicBezTo>
                <a:cubicBezTo>
                  <a:pt x="4450" y="133"/>
                  <a:pt x="4492" y="115"/>
                  <a:pt x="4536" y="112"/>
                </a:cubicBezTo>
                <a:cubicBezTo>
                  <a:pt x="4597" y="108"/>
                  <a:pt x="4720" y="104"/>
                  <a:pt x="4720" y="104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44720" y="41623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8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32120" y="4848120"/>
            <a:ext cx="723960" cy="5414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5483160"/>
            <a:ext cx="723960" cy="5414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29080" y="4584600"/>
            <a:ext cx="279360" cy="393840"/>
          </a:xfrm>
          <a:custGeom>
            <a:avLst/>
            <a:gdLst/>
            <a:ahLst/>
            <a:rect l="l" t="t" r="r" b="b"/>
            <a:pathLst>
              <a:path w="176" h="248">
                <a:moveTo>
                  <a:pt x="168" y="0"/>
                </a:moveTo>
                <a:lnTo>
                  <a:pt x="0" y="112"/>
                </a:lnTo>
                <a:lnTo>
                  <a:pt x="176" y="248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38280" y="4495680"/>
            <a:ext cx="419400" cy="1168560"/>
          </a:xfrm>
          <a:custGeom>
            <a:avLst/>
            <a:gdLst/>
            <a:ahLst/>
            <a:rect l="l" t="t" r="r" b="b"/>
            <a:pathLst>
              <a:path w="264" h="736">
                <a:moveTo>
                  <a:pt x="256" y="0"/>
                </a:moveTo>
                <a:lnTo>
                  <a:pt x="0" y="176"/>
                </a:lnTo>
                <a:lnTo>
                  <a:pt x="0" y="592"/>
                </a:lnTo>
                <a:lnTo>
                  <a:pt x="264" y="73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43680" y="4873680"/>
            <a:ext cx="723600" cy="5414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0720" y="5495760"/>
            <a:ext cx="723960" cy="5414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c0c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93560" y="4929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1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93560" y="5526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1640" y="4160880"/>
            <a:ext cx="1333440" cy="54288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|</a:t>
            </a:r>
            <a:r>
              <a:rPr b="0" i="1" lang="en-US" sz="2400" spc="-1" strike="noStrike" baseline="-25000">
                <a:solidFill>
                  <a:srgbClr val="c0c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Times New Roman"/>
              </a:rPr>
              <a:t>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29200" y="4686480"/>
            <a:ext cx="241200" cy="26640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29480" y="4711680"/>
            <a:ext cx="49500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43480" y="511812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56080" y="5765760"/>
            <a:ext cx="16002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660920" y="4724280"/>
            <a:ext cx="495360" cy="914400"/>
          </a:xfrm>
          <a:custGeom>
            <a:avLst/>
            <a:gdLst/>
            <a:ahLst/>
            <a:rect l="l" t="t" r="r" b="b"/>
            <a:pathLst>
              <a:path w="312" h="576">
                <a:moveTo>
                  <a:pt x="312" y="0"/>
                </a:moveTo>
                <a:lnTo>
                  <a:pt x="208" y="45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676840" y="4648320"/>
            <a:ext cx="241200" cy="26676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35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68560" y="1968120"/>
            <a:ext cx="7137360" cy="36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Intro to Bayesian statistics:</a:t>
            </a:r>
            <a:br>
              <a:rPr sz="2400"/>
            </a:b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a probabilit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earning probabilities in a Bayes ne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arning Bayes-net structure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84080" y="673200"/>
            <a:ext cx="757584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arning Bayes-net structur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64240" y="2197080"/>
            <a:ext cx="501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iven data, which model is correct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7480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7028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5680" y="3265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1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8740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8288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5680" y="4471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2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4699080"/>
            <a:ext cx="4320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84080" y="673200"/>
            <a:ext cx="757584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yesian approac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320" y="2197080"/>
            <a:ext cx="680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iven data, which model is correct?  more likely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7480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7028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5680" y="3265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1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8740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288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5680" y="4471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2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4699080"/>
            <a:ext cx="4320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87720" y="2108160"/>
            <a:ext cx="1257480" cy="698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241520" y="2120760"/>
            <a:ext cx="787320" cy="622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817800" y="330372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817800" y="4522680"/>
                <a:ext cx="1413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5562720" y="4330800"/>
            <a:ext cx="1015920" cy="0"/>
          </a:xfrm>
          <a:prstGeom prst="line">
            <a:avLst/>
          </a:prstGeom>
          <a:ln w="7632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403960" y="3703680"/>
            <a:ext cx="123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Arial"/>
              </a:rPr>
              <a:t>Data</a:t>
            </a:r>
            <a:r>
              <a:rPr b="1" lang="en-US" sz="2800" spc="-1" strike="noStrike">
                <a:solidFill>
                  <a:srgbClr val="c0c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c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6824520" y="3303720"/>
                <a:ext cx="1675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824520" y="4522680"/>
                <a:ext cx="1721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84080" y="673200"/>
            <a:ext cx="757584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yesian approach: Model Averaging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65320" y="2197080"/>
            <a:ext cx="680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iven data, which model is correct?  more likely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7480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7028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5680" y="3265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1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8740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8288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5680" y="4471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2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4699080"/>
            <a:ext cx="4320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87720" y="2108160"/>
            <a:ext cx="1257480" cy="698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241520" y="2120760"/>
            <a:ext cx="787320" cy="622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3817800" y="330372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817800" y="4522680"/>
                <a:ext cx="1413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8" name=""/>
          <p:cNvSpPr/>
          <p:nvPr/>
        </p:nvSpPr>
        <p:spPr>
          <a:xfrm>
            <a:off x="5562720" y="4330800"/>
            <a:ext cx="1015920" cy="0"/>
          </a:xfrm>
          <a:prstGeom prst="line">
            <a:avLst/>
          </a:prstGeom>
          <a:ln w="7632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03960" y="3703680"/>
            <a:ext cx="123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Arial"/>
              </a:rPr>
              <a:t>Data</a:t>
            </a:r>
            <a:r>
              <a:rPr b="1" lang="en-US" sz="2800" spc="-1" strike="noStrike">
                <a:solidFill>
                  <a:srgbClr val="c0c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c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24520" y="3303720"/>
                <a:ext cx="1675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824520" y="4522680"/>
                <a:ext cx="1721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6534000" y="4967280"/>
            <a:ext cx="2473560" cy="0"/>
          </a:xfrm>
          <a:prstGeom prst="line">
            <a:avLst/>
          </a:prstGeom>
          <a:ln w="381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28560" y="513252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84080" y="673200"/>
            <a:ext cx="757584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yesian approach: Model Selection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5320" y="2197080"/>
            <a:ext cx="680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iven data, which model is correct?  more likely?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7480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70280" y="320364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5680" y="3265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1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8740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82880" y="4410000"/>
            <a:ext cx="658800" cy="581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c0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5680" y="4471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 2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699080"/>
            <a:ext cx="43200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7720" y="2108160"/>
            <a:ext cx="1257480" cy="698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241520" y="2120760"/>
            <a:ext cx="787320" cy="622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817800" y="330372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817800" y="4522680"/>
                <a:ext cx="1413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5562720" y="4330800"/>
            <a:ext cx="1015920" cy="0"/>
          </a:xfrm>
          <a:prstGeom prst="line">
            <a:avLst/>
          </a:prstGeom>
          <a:ln w="7632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03960" y="3703680"/>
            <a:ext cx="123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ff"/>
                </a:solidFill>
                <a:latin typeface="Arial"/>
              </a:rPr>
              <a:t>Data</a:t>
            </a:r>
            <a:r>
              <a:rPr b="1" lang="en-US" sz="2800" spc="-1" strike="noStrike">
                <a:solidFill>
                  <a:srgbClr val="c0c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c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6824520" y="3303720"/>
                <a:ext cx="1675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6824520" y="4522680"/>
                <a:ext cx="1721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5885280" y="5153040"/>
            <a:ext cx="30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Keep the best model: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- Explanatio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- Understanding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- Tractability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280" y="4273560"/>
            <a:ext cx="8794800" cy="1022400"/>
          </a:xfrm>
          <a:custGeom>
            <a:avLst/>
            <a:gdLst/>
            <a:ahLst/>
            <a:rect l="l" t="t" r="r" b="b"/>
            <a:pathLst>
              <a:path w="5540" h="644">
                <a:moveTo>
                  <a:pt x="179" y="132"/>
                </a:moveTo>
                <a:cubicBezTo>
                  <a:pt x="258" y="113"/>
                  <a:pt x="388" y="85"/>
                  <a:pt x="499" y="68"/>
                </a:cubicBezTo>
                <a:cubicBezTo>
                  <a:pt x="610" y="51"/>
                  <a:pt x="746" y="36"/>
                  <a:pt x="843" y="28"/>
                </a:cubicBezTo>
                <a:cubicBezTo>
                  <a:pt x="940" y="20"/>
                  <a:pt x="998" y="21"/>
                  <a:pt x="1083" y="20"/>
                </a:cubicBezTo>
                <a:cubicBezTo>
                  <a:pt x="1168" y="19"/>
                  <a:pt x="1260" y="20"/>
                  <a:pt x="1355" y="20"/>
                </a:cubicBezTo>
                <a:cubicBezTo>
                  <a:pt x="1450" y="20"/>
                  <a:pt x="1494" y="23"/>
                  <a:pt x="1651" y="20"/>
                </a:cubicBezTo>
                <a:cubicBezTo>
                  <a:pt x="1808" y="17"/>
                  <a:pt x="2148" y="0"/>
                  <a:pt x="2299" y="4"/>
                </a:cubicBezTo>
                <a:cubicBezTo>
                  <a:pt x="2450" y="8"/>
                  <a:pt x="2483" y="36"/>
                  <a:pt x="2555" y="44"/>
                </a:cubicBezTo>
                <a:cubicBezTo>
                  <a:pt x="2627" y="52"/>
                  <a:pt x="2636" y="49"/>
                  <a:pt x="2731" y="52"/>
                </a:cubicBezTo>
                <a:cubicBezTo>
                  <a:pt x="2826" y="55"/>
                  <a:pt x="3004" y="45"/>
                  <a:pt x="3123" y="60"/>
                </a:cubicBezTo>
                <a:cubicBezTo>
                  <a:pt x="3242" y="75"/>
                  <a:pt x="3342" y="121"/>
                  <a:pt x="3443" y="140"/>
                </a:cubicBezTo>
                <a:cubicBezTo>
                  <a:pt x="3544" y="159"/>
                  <a:pt x="3643" y="165"/>
                  <a:pt x="3731" y="172"/>
                </a:cubicBezTo>
                <a:cubicBezTo>
                  <a:pt x="3819" y="179"/>
                  <a:pt x="3898" y="179"/>
                  <a:pt x="3971" y="180"/>
                </a:cubicBezTo>
                <a:cubicBezTo>
                  <a:pt x="4044" y="181"/>
                  <a:pt x="4088" y="193"/>
                  <a:pt x="4171" y="180"/>
                </a:cubicBezTo>
                <a:cubicBezTo>
                  <a:pt x="4254" y="167"/>
                  <a:pt x="4395" y="119"/>
                  <a:pt x="4467" y="100"/>
                </a:cubicBezTo>
                <a:cubicBezTo>
                  <a:pt x="4539" y="81"/>
                  <a:pt x="4528" y="75"/>
                  <a:pt x="4603" y="68"/>
                </a:cubicBezTo>
                <a:cubicBezTo>
                  <a:pt x="4678" y="61"/>
                  <a:pt x="4815" y="59"/>
                  <a:pt x="4915" y="60"/>
                </a:cubicBezTo>
                <a:cubicBezTo>
                  <a:pt x="5015" y="61"/>
                  <a:pt x="5119" y="61"/>
                  <a:pt x="5203" y="76"/>
                </a:cubicBezTo>
                <a:cubicBezTo>
                  <a:pt x="5287" y="91"/>
                  <a:pt x="5363" y="113"/>
                  <a:pt x="5419" y="148"/>
                </a:cubicBezTo>
                <a:cubicBezTo>
                  <a:pt x="5475" y="183"/>
                  <a:pt x="5540" y="239"/>
                  <a:pt x="5539" y="284"/>
                </a:cubicBezTo>
                <a:cubicBezTo>
                  <a:pt x="5538" y="329"/>
                  <a:pt x="5486" y="383"/>
                  <a:pt x="5411" y="420"/>
                </a:cubicBezTo>
                <a:cubicBezTo>
                  <a:pt x="5336" y="457"/>
                  <a:pt x="5216" y="493"/>
                  <a:pt x="5091" y="508"/>
                </a:cubicBezTo>
                <a:cubicBezTo>
                  <a:pt x="4966" y="523"/>
                  <a:pt x="4792" y="515"/>
                  <a:pt x="4659" y="508"/>
                </a:cubicBezTo>
                <a:cubicBezTo>
                  <a:pt x="4526" y="501"/>
                  <a:pt x="4440" y="484"/>
                  <a:pt x="4291" y="468"/>
                </a:cubicBezTo>
                <a:cubicBezTo>
                  <a:pt x="4142" y="452"/>
                  <a:pt x="3903" y="420"/>
                  <a:pt x="3763" y="412"/>
                </a:cubicBezTo>
                <a:cubicBezTo>
                  <a:pt x="3623" y="404"/>
                  <a:pt x="3558" y="407"/>
                  <a:pt x="3451" y="420"/>
                </a:cubicBezTo>
                <a:cubicBezTo>
                  <a:pt x="3344" y="433"/>
                  <a:pt x="3243" y="472"/>
                  <a:pt x="3123" y="492"/>
                </a:cubicBezTo>
                <a:cubicBezTo>
                  <a:pt x="3003" y="512"/>
                  <a:pt x="2882" y="527"/>
                  <a:pt x="2731" y="540"/>
                </a:cubicBezTo>
                <a:cubicBezTo>
                  <a:pt x="2580" y="553"/>
                  <a:pt x="2382" y="560"/>
                  <a:pt x="2219" y="572"/>
                </a:cubicBezTo>
                <a:cubicBezTo>
                  <a:pt x="2056" y="584"/>
                  <a:pt x="1895" y="600"/>
                  <a:pt x="1755" y="612"/>
                </a:cubicBezTo>
                <a:cubicBezTo>
                  <a:pt x="1615" y="624"/>
                  <a:pt x="1526" y="644"/>
                  <a:pt x="1379" y="644"/>
                </a:cubicBezTo>
                <a:cubicBezTo>
                  <a:pt x="1232" y="644"/>
                  <a:pt x="1007" y="628"/>
                  <a:pt x="875" y="612"/>
                </a:cubicBezTo>
                <a:cubicBezTo>
                  <a:pt x="743" y="596"/>
                  <a:pt x="684" y="569"/>
                  <a:pt x="587" y="548"/>
                </a:cubicBezTo>
                <a:cubicBezTo>
                  <a:pt x="490" y="527"/>
                  <a:pt x="374" y="504"/>
                  <a:pt x="291" y="484"/>
                </a:cubicBezTo>
                <a:cubicBezTo>
                  <a:pt x="208" y="464"/>
                  <a:pt x="135" y="465"/>
                  <a:pt x="91" y="428"/>
                </a:cubicBezTo>
                <a:cubicBezTo>
                  <a:pt x="47" y="391"/>
                  <a:pt x="38" y="301"/>
                  <a:pt x="27" y="260"/>
                </a:cubicBezTo>
                <a:cubicBezTo>
                  <a:pt x="16" y="219"/>
                  <a:pt x="0" y="204"/>
                  <a:pt x="27" y="180"/>
                </a:cubicBezTo>
                <a:cubicBezTo>
                  <a:pt x="54" y="156"/>
                  <a:pt x="100" y="151"/>
                  <a:pt x="179" y="132"/>
                </a:cubicBez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44560" y="333360"/>
            <a:ext cx="797544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o score a model, use Bayes rul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5840" y="1830240"/>
            <a:ext cx="204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ff"/>
                </a:solidFill>
                <a:uFillTx/>
                <a:latin typeface="Arial"/>
              </a:rPr>
              <a:t>Given data </a:t>
            </a:r>
            <a:r>
              <a:rPr b="1" lang="en-US" sz="2800" spc="-1" strike="noStrike" u="sng">
                <a:solidFill>
                  <a:srgbClr val="c0c0ff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322360" y="2608200"/>
                <a:ext cx="502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1409760" y="5675400"/>
                <a:ext cx="68706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3600" y="4879800"/>
            <a:ext cx="155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"marginal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likelihood"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55320" y="249084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97160" y="2870280"/>
            <a:ext cx="761760" cy="114120"/>
          </a:xfrm>
          <a:custGeom>
            <a:avLst/>
            <a:gdLst/>
            <a:ahLst/>
            <a:rect l="l" t="t" r="r" b="b"/>
            <a:pathLst>
              <a:path w="480" h="72">
                <a:moveTo>
                  <a:pt x="0" y="40"/>
                </a:moveTo>
                <a:lnTo>
                  <a:pt x="216" y="72"/>
                </a:lnTo>
                <a:lnTo>
                  <a:pt x="144" y="0"/>
                </a:lnTo>
                <a:lnTo>
                  <a:pt x="480" y="16"/>
                </a:lnTo>
              </a:path>
            </a:pathLst>
          </a:custGeom>
          <a:noFill/>
          <a:ln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0280" y="5727600"/>
            <a:ext cx="520560" cy="304920"/>
          </a:xfrm>
          <a:custGeom>
            <a:avLst/>
            <a:gdLst/>
            <a:ahLst/>
            <a:rect l="l" t="t" r="r" b="b"/>
            <a:pathLst>
              <a:path w="328" h="192">
                <a:moveTo>
                  <a:pt x="0" y="0"/>
                </a:moveTo>
                <a:lnTo>
                  <a:pt x="208" y="80"/>
                </a:lnTo>
                <a:lnTo>
                  <a:pt x="80" y="88"/>
                </a:lnTo>
                <a:lnTo>
                  <a:pt x="328" y="192"/>
                </a:lnTo>
              </a:path>
            </a:pathLst>
          </a:custGeom>
          <a:noFill/>
          <a:ln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40760" y="5019840"/>
            <a:ext cx="145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08560" y="5372280"/>
            <a:ext cx="254160" cy="444240"/>
          </a:xfrm>
          <a:custGeom>
            <a:avLst/>
            <a:gdLst/>
            <a:ahLst/>
            <a:rect l="l" t="t" r="r" b="b"/>
            <a:pathLst>
              <a:path w="160" h="280">
                <a:moveTo>
                  <a:pt x="160" y="0"/>
                </a:moveTo>
                <a:lnTo>
                  <a:pt x="0" y="120"/>
                </a:lnTo>
                <a:lnTo>
                  <a:pt x="144" y="120"/>
                </a:lnTo>
                <a:lnTo>
                  <a:pt x="0" y="280"/>
                </a:lnTo>
              </a:path>
            </a:pathLst>
          </a:custGeom>
          <a:noFill/>
          <a:ln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89440" y="3301920"/>
            <a:ext cx="1486080" cy="0"/>
          </a:xfrm>
          <a:prstGeom prst="line">
            <a:avLst/>
          </a:prstGeom>
          <a:ln w="2844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63840" y="3301920"/>
            <a:ext cx="3886200" cy="2374920"/>
          </a:xfrm>
          <a:custGeom>
            <a:avLst/>
            <a:gdLst/>
            <a:ahLst/>
            <a:rect l="l" t="t" r="r" b="b"/>
            <a:pathLst>
              <a:path w="2760" h="1560">
                <a:moveTo>
                  <a:pt x="2760" y="0"/>
                </a:moveTo>
                <a:cubicBezTo>
                  <a:pt x="2689" y="62"/>
                  <a:pt x="2619" y="124"/>
                  <a:pt x="2392" y="216"/>
                </a:cubicBezTo>
                <a:cubicBezTo>
                  <a:pt x="2165" y="308"/>
                  <a:pt x="1749" y="387"/>
                  <a:pt x="1400" y="552"/>
                </a:cubicBezTo>
                <a:cubicBezTo>
                  <a:pt x="1051" y="717"/>
                  <a:pt x="529" y="1040"/>
                  <a:pt x="296" y="1208"/>
                </a:cubicBezTo>
                <a:cubicBezTo>
                  <a:pt x="63" y="1376"/>
                  <a:pt x="31" y="1468"/>
                  <a:pt x="0" y="1560"/>
                </a:cubicBezTo>
              </a:path>
            </a:pathLst>
          </a:custGeom>
          <a:noFill/>
          <a:ln w="9360">
            <a:solidFill>
              <a:srgbClr val="c0c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umbtack exampl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1200" y="3289320"/>
                <a:ext cx="8294760" cy="33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6325200" y="421812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onjugat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rio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35200" y="1882800"/>
            <a:ext cx="723960" cy="635040"/>
          </a:xfrm>
          <a:prstGeom prst="ellipse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41960" y="20970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heads/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complicated graph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822680" y="1895400"/>
            <a:ext cx="5496840" cy="712080"/>
            <a:chOff x="1822680" y="1895400"/>
            <a:chExt cx="5496840" cy="712080"/>
          </a:xfrm>
        </p:grpSpPr>
        <p:grpSp>
          <p:nvGrpSpPr>
            <p:cNvPr id="812" name=""/>
            <p:cNvGrpSpPr/>
            <p:nvPr/>
          </p:nvGrpSpPr>
          <p:grpSpPr>
            <a:xfrm>
              <a:off x="1822680" y="1895400"/>
              <a:ext cx="2317680" cy="712080"/>
              <a:chOff x="1822680" y="1895400"/>
              <a:chExt cx="2317680" cy="712080"/>
            </a:xfrm>
          </p:grpSpPr>
          <p:sp>
            <p:nvSpPr>
              <p:cNvPr id="813" name=""/>
              <p:cNvSpPr/>
              <p:nvPr/>
            </p:nvSpPr>
            <p:spPr>
              <a:xfrm>
                <a:off x="3416400" y="189540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22680" y="214776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952880" y="1895400"/>
              <a:ext cx="2366640" cy="712080"/>
              <a:chOff x="4952880" y="1895400"/>
              <a:chExt cx="2366640" cy="712080"/>
            </a:xfrm>
          </p:grpSpPr>
          <p:sp>
            <p:nvSpPr>
              <p:cNvPr id="816" name=""/>
              <p:cNvSpPr/>
              <p:nvPr/>
            </p:nvSpPr>
            <p:spPr>
              <a:xfrm>
                <a:off x="4952880" y="189540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c0ff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683320" y="214776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c0ff"/>
                    </a:solidFill>
                    <a:latin typeface="Arial"/>
                  </a:rPr>
                  <a:t>heads/tails</a:t>
                </a:r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4127400" y="2197080"/>
            <a:ext cx="838440" cy="0"/>
          </a:xfrm>
          <a:prstGeom prst="line">
            <a:avLst/>
          </a:prstGeom>
          <a:ln w="93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34680" y="2859120"/>
            <a:ext cx="61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separate thumbtack-like learning problem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568440" y="3871800"/>
                <a:ext cx="6146640" cy="27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7174080" y="404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75880" y="49798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Y|X=head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75160" y="59198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Y|X=tails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6730560" y="3987360"/>
            <a:ext cx="343080" cy="24156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6756480" y="4343400"/>
            <a:ext cx="317520" cy="17784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6756480" y="4901760"/>
            <a:ext cx="342720" cy="24156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6781680" y="5257800"/>
            <a:ext cx="317520" cy="17784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6794640" y="5866920"/>
            <a:ext cx="342720" cy="24156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6819840" y="6222960"/>
            <a:ext cx="317520" cy="177840"/>
          </a:xfrm>
          <a:prstGeom prst="line">
            <a:avLst/>
          </a:prstGeom>
          <a:ln w="93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896616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arning Probabilities: Classical Approac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440" y="1844640"/>
            <a:ext cx="52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Simple case: Flipping a thumbtack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8400" y="2639880"/>
            <a:ext cx="3962520" cy="1779840"/>
            <a:chOff x="698400" y="2639880"/>
            <a:chExt cx="3962520" cy="1779840"/>
          </a:xfrm>
        </p:grpSpPr>
        <p:sp>
          <p:nvSpPr>
            <p:cNvPr id="97" name=""/>
            <p:cNvSpPr/>
            <p:nvPr/>
          </p:nvSpPr>
          <p:spPr>
            <a:xfrm>
              <a:off x="698400" y="3975120"/>
              <a:ext cx="396252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1040" y="3975120"/>
              <a:ext cx="88884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34960" y="3975120"/>
              <a:ext cx="88920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9240" y="3975120"/>
              <a:ext cx="88920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3520" y="3975120"/>
              <a:ext cx="88884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87800" y="3975120"/>
              <a:ext cx="88884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72080" y="3975120"/>
              <a:ext cx="888840" cy="444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701080" y="2793240"/>
              <a:ext cx="1328760" cy="1326240"/>
              <a:chOff x="2701080" y="2793240"/>
              <a:chExt cx="1328760" cy="1326240"/>
            </a:xfrm>
          </p:grpSpPr>
          <p:sp>
            <p:nvSpPr>
              <p:cNvPr id="105" name=""/>
              <p:cNvSpPr/>
              <p:nvPr/>
            </p:nvSpPr>
            <p:spPr>
              <a:xfrm rot="2580000">
                <a:off x="2883240" y="2999160"/>
                <a:ext cx="9644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392640" y="3200400"/>
                <a:ext cx="0" cy="69840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039120" y="263988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ails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323360" y="3214800"/>
              <a:ext cx="1157760" cy="1120680"/>
              <a:chOff x="1323360" y="3214800"/>
              <a:chExt cx="1157760" cy="1120680"/>
            </a:xfrm>
          </p:grpSpPr>
          <p:sp>
            <p:nvSpPr>
              <p:cNvPr id="109" name=""/>
              <p:cNvSpPr/>
              <p:nvPr/>
            </p:nvSpPr>
            <p:spPr>
              <a:xfrm rot="9960000">
                <a:off x="1419480" y="3318120"/>
                <a:ext cx="96516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17760" y="3556080"/>
                <a:ext cx="585720" cy="38088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252440" y="2665440"/>
              <a:ext cx="92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heads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83760" y="3639960"/>
            <a:ext cx="41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rue probabilit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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s unknow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3840" y="4826160"/>
            <a:ext cx="71467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iven iid data, estimate </a:t>
            </a:r>
            <a:r>
              <a:rPr b="1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  using an estimator with 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good properties: low bias, low variance, consistent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(e.g., ML estimate)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552600" y="1454040"/>
            <a:ext cx="8178480" cy="2311560"/>
          </a:xfrm>
          <a:prstGeom prst="rect">
            <a:avLst/>
          </a:prstGeom>
          <a:noFill/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2960" y="215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del score for a discrete BN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882720" y="1957320"/>
                <a:ext cx="7434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nary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447920" y="4057560"/>
                <a:ext cx="629748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# cases wher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number of states of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number of instances of parents of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putation of Marginal Likelihood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01640" y="1923840"/>
            <a:ext cx="7740720" cy="42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Efficient closed form if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Local distributions from the exponential family (binomial, poisson, gamma, ...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Parameter independence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Conjugate prior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No missing data (including no hidden variables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actical considerat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number of possible BN structures for n variables is super exponential in n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How do we find the best graph(s)?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How do we assign structure and parameter priors to all possible graph?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74880" y="58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del searc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15560" y="1924200"/>
            <a:ext cx="7201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Finding the BN structure with the highest score among those structures with at most </a:t>
            </a:r>
            <a:r>
              <a:rPr b="1" i="1" lang="en-US" sz="2400" spc="-1" strike="noStrike">
                <a:solidFill>
                  <a:srgbClr val="c0c0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parents is NP hard for </a:t>
            </a:r>
            <a:r>
              <a:rPr b="1" i="1" lang="en-US" sz="2400" spc="-1" strike="noStrike">
                <a:solidFill>
                  <a:srgbClr val="c0c0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&gt;1 (Chickering, 1995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Heuristic method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Greed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Greedy with restart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MCMC method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60360" y="3243240"/>
            <a:ext cx="2481840" cy="3289680"/>
            <a:chOff x="5760360" y="3243240"/>
            <a:chExt cx="2481840" cy="3289680"/>
          </a:xfrm>
        </p:grpSpPr>
        <p:sp>
          <p:nvSpPr>
            <p:cNvPr id="841" name=""/>
            <p:cNvSpPr/>
            <p:nvPr/>
          </p:nvSpPr>
          <p:spPr>
            <a:xfrm>
              <a:off x="5779800" y="4102920"/>
              <a:ext cx="1266480" cy="674640"/>
            </a:xfrm>
            <a:prstGeom prst="rect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scor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all possibl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single changes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91040" y="5016600"/>
              <a:ext cx="1059840" cy="723600"/>
            </a:xfrm>
            <a:prstGeom prst="diamond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any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changes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better?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5920" y="4360680"/>
              <a:ext cx="926280" cy="762840"/>
            </a:xfrm>
            <a:prstGeom prst="rect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perform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best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13040" y="4762080"/>
              <a:ext cx="0" cy="24156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6420960" y="5741640"/>
              <a:ext cx="2880" cy="2714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13040" y="3770280"/>
              <a:ext cx="0" cy="34812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78160" y="515160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09440" y="574668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7797240" y="5135400"/>
              <a:ext cx="7560" cy="24372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7811280" y="3935520"/>
              <a:ext cx="1800" cy="420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3040" y="3935880"/>
              <a:ext cx="139824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55920" y="5379840"/>
              <a:ext cx="84168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60360" y="6075360"/>
              <a:ext cx="1323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return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saved structur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0880" y="3243240"/>
              <a:ext cx="912240" cy="519120"/>
            </a:xfrm>
            <a:prstGeom prst="rect">
              <a:avLst/>
            </a:prstGeom>
            <a:noFill/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initializ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ff"/>
                  </a:solidFill>
                  <a:latin typeface="Arial"/>
                </a:rPr>
                <a:t>structure</a:t>
              </a:r>
              <a:endParaRPr b="0" lang="en-US" sz="12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2857680" y="3478320"/>
            <a:ext cx="2565360" cy="350640"/>
          </a:xfrm>
          <a:custGeom>
            <a:avLst/>
            <a:gdLst/>
            <a:ahLst/>
            <a:rect l="l" t="t" r="r" b="b"/>
            <a:pathLst>
              <a:path w="1616" h="221">
                <a:moveTo>
                  <a:pt x="0" y="137"/>
                </a:moveTo>
                <a:cubicBezTo>
                  <a:pt x="298" y="68"/>
                  <a:pt x="596" y="0"/>
                  <a:pt x="784" y="9"/>
                </a:cubicBezTo>
                <a:cubicBezTo>
                  <a:pt x="972" y="18"/>
                  <a:pt x="990" y="165"/>
                  <a:pt x="1128" y="193"/>
                </a:cubicBezTo>
                <a:cubicBezTo>
                  <a:pt x="1266" y="221"/>
                  <a:pt x="1441" y="199"/>
                  <a:pt x="1616" y="177"/>
                </a:cubicBezTo>
              </a:path>
            </a:pathLst>
          </a:custGeom>
          <a:noFill/>
          <a:ln w="12600">
            <a:solidFill>
              <a:srgbClr val="c0c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ucture prior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1. All possible structures equally likely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2. Partial ordering, required / prohibited arcs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3. p(m)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similarity(m, prior BN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ameter prior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All uniform: Beta(1,1)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Use a prior BN 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ameter prior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Recall the intuition behind the Beta prior for the thumbtack: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77200" indent="-27720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hyperparameters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can be thought of as imaginary counts from our prior experience, starting from "pure ignorance"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77200" indent="-27720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Equivalent sample size =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0c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0c0ff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  <a:p>
            <a:pPr marL="277200" indent="-27720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ff"/>
                </a:solidFill>
                <a:latin typeface="Arial"/>
              </a:rPr>
              <a:t>The larger the equivalent sample size, the more confident we are about the long-run fraction </a:t>
            </a:r>
            <a:endParaRPr b="1" lang="en-US" sz="2400" spc="-1" strike="noStrike">
              <a:solidFill>
                <a:srgbClr val="c0c0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ameter prior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90680" y="2224080"/>
            <a:ext cx="2425680" cy="2735280"/>
            <a:chOff x="490680" y="2224080"/>
            <a:chExt cx="2425680" cy="2735280"/>
          </a:xfrm>
        </p:grpSpPr>
        <p:sp>
          <p:nvSpPr>
            <p:cNvPr id="864" name=""/>
            <p:cNvSpPr/>
            <p:nvPr/>
          </p:nvSpPr>
          <p:spPr>
            <a:xfrm>
              <a:off x="1062000" y="222408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00280" y="294804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67040" y="45147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0680" y="2752920"/>
              <a:ext cx="473040" cy="444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00400" y="233352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38280" y="310032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62000" y="34671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43320" y="380520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23840" y="442908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461960" y="2624040"/>
              <a:ext cx="330480" cy="35892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106720" y="2738520"/>
              <a:ext cx="241200" cy="2444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76520" y="2824200"/>
              <a:ext cx="5868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1563840" y="3424320"/>
              <a:ext cx="884160" cy="2300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420920" y="3481560"/>
              <a:ext cx="1084320" cy="95868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677680" y="3567240"/>
              <a:ext cx="27000" cy="2156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2349000" y="4267080"/>
              <a:ext cx="21276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906120" y="2610000"/>
              <a:ext cx="198360" cy="201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47880" y="3181320"/>
              <a:ext cx="258480" cy="273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3339000" y="2978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88800" y="2693880"/>
            <a:ext cx="15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equivalent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16520" y="3301920"/>
            <a:ext cx="596880" cy="0"/>
          </a:xfrm>
          <a:prstGeom prst="line">
            <a:avLst/>
          </a:prstGeom>
          <a:ln w="7632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95280" y="2376360"/>
            <a:ext cx="19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imaginary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ount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for any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234800" y="5907240"/>
            <a:ext cx="66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arameter priors for any BN structure for 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…X</a:t>
            </a:r>
            <a:r>
              <a:rPr b="0" lang="en-US" sz="2400" spc="-1" strike="noStrike" baseline="-25000">
                <a:solidFill>
                  <a:srgbClr val="c0c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4609800" y="4305240"/>
            <a:ext cx="1879560" cy="1270080"/>
          </a:xfrm>
          <a:prstGeom prst="line">
            <a:avLst/>
          </a:prstGeom>
          <a:ln w="7632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27600" y="47862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ff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ff"/>
                </a:solidFill>
                <a:latin typeface="Arial"/>
              </a:rPr>
              <a:t>modularity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858960" y="1220760"/>
            <a:ext cx="2425680" cy="2735280"/>
            <a:chOff x="858960" y="1220760"/>
            <a:chExt cx="2425680" cy="2735280"/>
          </a:xfrm>
        </p:grpSpPr>
        <p:sp>
          <p:nvSpPr>
            <p:cNvPr id="890" name=""/>
            <p:cNvSpPr/>
            <p:nvPr/>
          </p:nvSpPr>
          <p:spPr>
            <a:xfrm>
              <a:off x="1430280" y="12207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68560" y="194472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35320" y="351144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8960" y="1749600"/>
              <a:ext cx="473040" cy="444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68680" y="133020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06560" y="209700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30280" y="246384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11600" y="280188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92120" y="34257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30240" y="1620720"/>
              <a:ext cx="330480" cy="35892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475000" y="1735200"/>
              <a:ext cx="241200" cy="2444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44800" y="1820880"/>
              <a:ext cx="5868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932120" y="2421000"/>
              <a:ext cx="884160" cy="2300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789200" y="2478240"/>
              <a:ext cx="1084320" cy="95868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045960" y="2563920"/>
              <a:ext cx="27000" cy="2156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2717280" y="3263760"/>
              <a:ext cx="21276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274400" y="1606680"/>
              <a:ext cx="198360" cy="201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16160" y="2178000"/>
              <a:ext cx="258480" cy="273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3689280" y="2679840"/>
            <a:ext cx="1575000" cy="355320"/>
          </a:xfrm>
          <a:prstGeom prst="line">
            <a:avLst/>
          </a:prstGeom>
          <a:ln w="25560">
            <a:solidFill>
              <a:srgbClr val="e00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060800" y="4263840"/>
            <a:ext cx="1384200" cy="625320"/>
          </a:xfrm>
          <a:prstGeom prst="line">
            <a:avLst/>
          </a:prstGeom>
          <a:ln w="25560">
            <a:solidFill>
              <a:srgbClr val="e00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00800" y="812880"/>
            <a:ext cx="471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or network+equivalent sample size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8040" y="389880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835960" y="1362240"/>
            <a:ext cx="268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mproved network(s)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15960" y="4330800"/>
            <a:ext cx="2959200" cy="2263680"/>
            <a:chOff x="615960" y="4330800"/>
            <a:chExt cx="2959200" cy="2263680"/>
          </a:xfrm>
        </p:grpSpPr>
        <p:sp>
          <p:nvSpPr>
            <p:cNvPr id="914" name=""/>
            <p:cNvSpPr/>
            <p:nvPr/>
          </p:nvSpPr>
          <p:spPr>
            <a:xfrm>
              <a:off x="615960" y="4330800"/>
              <a:ext cx="2940120" cy="22446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17840" y="4383000"/>
              <a:ext cx="417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8920" y="4378320"/>
              <a:ext cx="76212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90680" y="4378320"/>
              <a:ext cx="76212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29120" y="4378320"/>
              <a:ext cx="76212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5960" y="4714920"/>
              <a:ext cx="294948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5960" y="5019840"/>
              <a:ext cx="295920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5320" y="5324400"/>
              <a:ext cx="293076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5040" y="5629320"/>
              <a:ext cx="294012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4400" y="5934240"/>
              <a:ext cx="293076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80960" y="4721400"/>
              <a:ext cx="0" cy="18540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09680" y="4730760"/>
              <a:ext cx="0" cy="185436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38400" y="4740120"/>
              <a:ext cx="0" cy="185436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09320" y="5216400"/>
              <a:ext cx="39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55280" y="5892840"/>
              <a:ext cx="251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5280" y="6045120"/>
              <a:ext cx="251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8640" y="5872320"/>
              <a:ext cx="26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82760" y="6024600"/>
              <a:ext cx="263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97240" y="6176880"/>
              <a:ext cx="26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33120" y="-360"/>
            <a:ext cx="723276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user knowledge and dat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657760" y="184788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810400" y="2000160"/>
            <a:ext cx="269208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62680" y="215280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14960" y="2305080"/>
            <a:ext cx="2692440" cy="2971800"/>
          </a:xfrm>
          <a:prstGeom prst="rect">
            <a:avLst/>
          </a:prstGeom>
          <a:solidFill>
            <a:srgbClr val="000080"/>
          </a:solidFill>
          <a:ln w="1260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267600" y="2457360"/>
            <a:ext cx="2692080" cy="2971800"/>
            <a:chOff x="6267600" y="2457360"/>
            <a:chExt cx="2692080" cy="2971800"/>
          </a:xfrm>
        </p:grpSpPr>
        <p:sp>
          <p:nvSpPr>
            <p:cNvPr id="939" name=""/>
            <p:cNvSpPr/>
            <p:nvPr/>
          </p:nvSpPr>
          <p:spPr>
            <a:xfrm>
              <a:off x="6267600" y="2457360"/>
              <a:ext cx="2692080" cy="29718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42240" y="256068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80160" y="3284640"/>
              <a:ext cx="473400" cy="444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46920" y="48513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308916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80280" y="267012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18520" y="343692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42240" y="3803760"/>
              <a:ext cx="473040" cy="444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23200" y="414180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904080" y="4765680"/>
              <a:ext cx="473040" cy="4446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c0c0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42200" y="2960640"/>
              <a:ext cx="330120" cy="35892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986240" y="3075120"/>
              <a:ext cx="241560" cy="2444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56760" y="3160800"/>
              <a:ext cx="5868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300800" y="3817800"/>
              <a:ext cx="1084320" cy="9590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8557920" y="3903840"/>
              <a:ext cx="27000" cy="2156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8229240" y="4603680"/>
              <a:ext cx="212760" cy="2588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6786360" y="2946240"/>
              <a:ext cx="198360" cy="2016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27760" y="3517920"/>
              <a:ext cx="258840" cy="27288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7432560" y="3766680"/>
              <a:ext cx="887400" cy="241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18520" y="4222800"/>
              <a:ext cx="501480" cy="63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299360" y="3043080"/>
              <a:ext cx="225360" cy="160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12040" y="3014640"/>
              <a:ext cx="0" cy="28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40" y="280800"/>
            <a:ext cx="89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arning Probabilities: Bayesian Approac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12800" y="1747800"/>
            <a:ext cx="3962520" cy="1779480"/>
            <a:chOff x="712800" y="1747800"/>
            <a:chExt cx="3962520" cy="1779480"/>
          </a:xfrm>
        </p:grpSpPr>
        <p:sp>
          <p:nvSpPr>
            <p:cNvPr id="116" name=""/>
            <p:cNvSpPr/>
            <p:nvPr/>
          </p:nvSpPr>
          <p:spPr>
            <a:xfrm>
              <a:off x="712800" y="3083040"/>
              <a:ext cx="396252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5080" y="3083040"/>
              <a:ext cx="88920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9360" y="3083040"/>
              <a:ext cx="88920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3640" y="3083040"/>
              <a:ext cx="88884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7920" y="3083040"/>
              <a:ext cx="88884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1840" y="3083040"/>
              <a:ext cx="88920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6120" y="3083040"/>
              <a:ext cx="889200" cy="44424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714760" y="1900440"/>
              <a:ext cx="1329480" cy="1326600"/>
              <a:chOff x="2714760" y="1900440"/>
              <a:chExt cx="1329480" cy="1326600"/>
            </a:xfrm>
          </p:grpSpPr>
          <p:sp>
            <p:nvSpPr>
              <p:cNvPr id="124" name=""/>
              <p:cNvSpPr/>
              <p:nvPr/>
            </p:nvSpPr>
            <p:spPr>
              <a:xfrm rot="2580000">
                <a:off x="2896920" y="2106720"/>
                <a:ext cx="96516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406680" y="2308320"/>
                <a:ext cx="0" cy="69840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053520" y="174780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tails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338120" y="2322720"/>
              <a:ext cx="1157040" cy="1120320"/>
              <a:chOff x="1338120" y="2322720"/>
              <a:chExt cx="1157040" cy="1120320"/>
            </a:xfrm>
          </p:grpSpPr>
          <p:sp>
            <p:nvSpPr>
              <p:cNvPr id="128" name=""/>
              <p:cNvSpPr/>
              <p:nvPr/>
            </p:nvSpPr>
            <p:spPr>
              <a:xfrm rot="9960000">
                <a:off x="1434240" y="2425680"/>
                <a:ext cx="9644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31800" y="2664000"/>
                <a:ext cx="586080" cy="380880"/>
              </a:xfrm>
              <a:prstGeom prst="line">
                <a:avLst/>
              </a:prstGeom>
              <a:ln w="2556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266480" y="1773360"/>
              <a:ext cx="92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heads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860360" y="3309840"/>
            <a:ext cx="43700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rue probability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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s unknown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Bayesian probability density f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160240" y="4549680"/>
            <a:ext cx="3379320" cy="2307240"/>
            <a:chOff x="5160240" y="4549680"/>
            <a:chExt cx="3379320" cy="2307240"/>
          </a:xfrm>
        </p:grpSpPr>
        <p:sp>
          <p:nvSpPr>
            <p:cNvPr id="133" name=""/>
            <p:cNvSpPr/>
            <p:nvPr/>
          </p:nvSpPr>
          <p:spPr>
            <a:xfrm flipV="1">
              <a:off x="5862600" y="4549680"/>
              <a:ext cx="0" cy="182880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2600" y="6378480"/>
              <a:ext cx="2311560" cy="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0240" y="4699080"/>
              <a:ext cx="70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c0ff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c0c0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c0c0ff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c0c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6120" y="6362640"/>
              <a:ext cx="34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8040" y="6289560"/>
              <a:ext cx="0" cy="139680"/>
            </a:xfrm>
            <a:prstGeom prst="line">
              <a:avLst/>
            </a:prstGeom>
            <a:ln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3192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180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9840" y="5096160"/>
              <a:ext cx="990360" cy="127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3"/>
                  </a:moveTo>
                  <a:arcTo wR="10800" hR="10800" stAng="-8562" swAng="540856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3"/>
                  </a:moveTo>
                  <a:arcTo wR="10800" hR="10800" stAng="-8562" swAng="5408562"/>
                </a:path>
              </a:pathLst>
            </a:custGeom>
            <a:noFill/>
            <a:ln cap="rnd"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78480" y="4869000"/>
              <a:ext cx="796680" cy="187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2"/>
                  </a:moveTo>
                  <a:arcTo wR="10800" hR="10800" stAng="-10794199" swAng="5380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2"/>
                  </a:moveTo>
                  <a:arcTo wR="10800" hR="10800" stAng="-10794199" swAng="5380487"/>
                </a:path>
              </a:pathLst>
            </a:custGeom>
            <a:noFill/>
            <a:ln cap="rnd"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74080" y="5089680"/>
              <a:ext cx="935640" cy="127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72720" y="4869000"/>
              <a:ext cx="792720" cy="187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7" y="0"/>
                  </a:moveTo>
                  <a:arcTo wR="10800" hR="10800" stAng="-5413712" swAng="5407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7" y="0"/>
                  </a:moveTo>
                  <a:arcTo wR="10800" hR="10800" stAng="-5413712" swAng="5407888"/>
                </a:path>
              </a:pathLst>
            </a:custGeom>
            <a:noFill/>
            <a:ln cap="rnd" w="1260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6240" y="471600"/>
            <a:ext cx="874368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yesian Approach: use Bayes' rule to compute a new density for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iven dat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47800" y="3289320"/>
                <a:ext cx="73245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head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eads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eads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θ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020280" y="2433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rio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9960" y="2546280"/>
            <a:ext cx="145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040" y="279396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osterio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195720"/>
            <a:ext cx="515880" cy="345960"/>
          </a:xfrm>
          <a:custGeom>
            <a:avLst/>
            <a:gdLst/>
            <a:ahLst/>
            <a:rect l="l" t="t" r="r" b="b"/>
            <a:pathLst>
              <a:path w="325" h="218">
                <a:moveTo>
                  <a:pt x="0" y="0"/>
                </a:moveTo>
                <a:lnTo>
                  <a:pt x="285" y="99"/>
                </a:lnTo>
                <a:lnTo>
                  <a:pt x="118" y="118"/>
                </a:lnTo>
                <a:lnTo>
                  <a:pt x="324" y="217"/>
                </a:lnTo>
              </a:path>
            </a:pathLst>
          </a:custGeom>
          <a:noFill/>
          <a:ln cap="rnd"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7280" y="2755800"/>
            <a:ext cx="657000" cy="500040"/>
          </a:xfrm>
          <a:custGeom>
            <a:avLst/>
            <a:gdLst/>
            <a:ahLst/>
            <a:rect l="l" t="t" r="r" b="b"/>
            <a:pathLst>
              <a:path w="414" h="315">
                <a:moveTo>
                  <a:pt x="413" y="0"/>
                </a:moveTo>
                <a:lnTo>
                  <a:pt x="159" y="113"/>
                </a:lnTo>
                <a:lnTo>
                  <a:pt x="257" y="149"/>
                </a:lnTo>
                <a:lnTo>
                  <a:pt x="0" y="314"/>
                </a:lnTo>
              </a:path>
            </a:pathLst>
          </a:custGeom>
          <a:noFill/>
          <a:ln cap="rnd"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9560" y="2917800"/>
            <a:ext cx="563400" cy="330120"/>
          </a:xfrm>
          <a:custGeom>
            <a:avLst/>
            <a:gdLst/>
            <a:ahLst/>
            <a:rect l="l" t="t" r="r" b="b"/>
            <a:pathLst>
              <a:path w="355" h="208">
                <a:moveTo>
                  <a:pt x="325" y="0"/>
                </a:moveTo>
                <a:lnTo>
                  <a:pt x="138" y="118"/>
                </a:lnTo>
                <a:lnTo>
                  <a:pt x="354" y="98"/>
                </a:lnTo>
                <a:lnTo>
                  <a:pt x="0" y="207"/>
                </a:lnTo>
              </a:path>
            </a:pathLst>
          </a:custGeom>
          <a:noFill/>
          <a:ln cap="rnd" w="12600">
            <a:solidFill>
              <a:srgbClr val="c0c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16320" y="5405400"/>
                <a:ext cx="3886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s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1440" y="507960"/>
            <a:ext cx="852480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Likelihood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63880" y="2975040"/>
                <a:ext cx="2563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ils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63880" y="1925640"/>
                <a:ext cx="2842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s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44960" y="1967040"/>
                <a:ext cx="401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44960" y="2982960"/>
                <a:ext cx="1341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63880" y="4500720"/>
                <a:ext cx="52196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ht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tth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996280" y="54118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binomial distribution”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1800" y="329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xample: Application of Bayes rule to the observation of a single "heads"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26360" y="2230560"/>
            <a:ext cx="0" cy="182880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26360" y="4059360"/>
            <a:ext cx="2311200" cy="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7960" y="1927080"/>
            <a:ext cx="166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|heads)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8680" y="4010040"/>
            <a:ext cx="36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91440" y="3970440"/>
            <a:ext cx="0" cy="139680"/>
          </a:xfrm>
          <a:prstGeom prst="line">
            <a:avLst/>
          </a:prstGeom>
          <a:ln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5320" y="41403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35200" y="41403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64240" y="2853000"/>
            <a:ext cx="1549080" cy="119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71"/>
                </a:moveTo>
                <a:arcTo wR="10800" hR="10800" stAng="-9083" swAng="5409083"/>
                <a:lnTo>
                  <a:pt x="10800" y="10800"/>
                </a:lnTo>
                <a:close/>
              </a:path>
              <a:path fill="none" w="21600" h="21600">
                <a:moveTo>
                  <a:pt x="21600" y="10771"/>
                </a:moveTo>
                <a:arcTo wR="10800" hR="10800" stAng="-9083" swAng="5409083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2520" y="2549520"/>
            <a:ext cx="711000" cy="18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4099" swAng="5378764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4099" swAng="5378764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50160" y="2802240"/>
            <a:ext cx="71100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75600" y="2549520"/>
            <a:ext cx="586800" cy="18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2" y="0"/>
                </a:moveTo>
                <a:arcTo wR="10800" hR="10800" stAng="-5418566" swAng="5412603"/>
                <a:lnTo>
                  <a:pt x="10800" y="10800"/>
                </a:lnTo>
                <a:close/>
              </a:path>
              <a:path fill="none" w="21600" h="21600">
                <a:moveTo>
                  <a:pt x="10742" y="0"/>
                </a:moveTo>
                <a:arcTo wR="10800" hR="10800" stAng="-5418566" swAng="5412603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4280" y="2228760"/>
            <a:ext cx="0" cy="182880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280" y="4057560"/>
            <a:ext cx="2311200" cy="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00" y="1925640"/>
            <a:ext cx="78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1400" y="4046400"/>
            <a:ext cx="36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9360" y="3968640"/>
            <a:ext cx="0" cy="139680"/>
          </a:xfrm>
          <a:prstGeom prst="line">
            <a:avLst/>
          </a:prstGeom>
          <a:ln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3240" y="41385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93120" y="41385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1520" y="2774520"/>
            <a:ext cx="990360" cy="127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73"/>
                </a:moveTo>
                <a:arcTo wR="10800" hR="10800" stAng="-8562" swAng="5408562"/>
                <a:lnTo>
                  <a:pt x="10800" y="10800"/>
                </a:lnTo>
                <a:close/>
              </a:path>
              <a:path fill="none" w="21600" h="21600">
                <a:moveTo>
                  <a:pt x="21600" y="10773"/>
                </a:moveTo>
                <a:arcTo wR="10800" hR="10800" stAng="-8562" swAng="5408562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1080" y="2548080"/>
            <a:ext cx="834840" cy="188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2"/>
                </a:moveTo>
                <a:arcTo wR="10800" hR="10800" stAng="-10794209" swAng="5381125"/>
                <a:lnTo>
                  <a:pt x="10800" y="10800"/>
                </a:lnTo>
                <a:close/>
              </a:path>
              <a:path fill="none" w="21600" h="21600">
                <a:moveTo>
                  <a:pt x="0" y="10782"/>
                </a:moveTo>
                <a:arcTo wR="10800" hR="10800" stAng="-10794209" swAng="5381125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95400" y="2768760"/>
            <a:ext cx="93636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3440" y="2548080"/>
            <a:ext cx="853920" cy="189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0" y="0"/>
                </a:moveTo>
                <a:arcTo wR="10800" hR="10800" stAng="-5412745" swAng="5406962"/>
                <a:lnTo>
                  <a:pt x="10800" y="10800"/>
                </a:lnTo>
                <a:close/>
              </a:path>
              <a:path fill="none" w="21600" h="21600">
                <a:moveTo>
                  <a:pt x="10760" y="0"/>
                </a:moveTo>
                <a:arcTo wR="10800" hR="10800" stAng="-5412745" swAng="5406962"/>
              </a:path>
            </a:pathLst>
          </a:custGeom>
          <a:noFill/>
          <a:ln cap="rnd"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454560" y="2230560"/>
            <a:ext cx="0" cy="182880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54560" y="4059360"/>
            <a:ext cx="2311200" cy="0"/>
          </a:xfrm>
          <a:prstGeom prst="line">
            <a:avLst/>
          </a:prstGeom>
          <a:ln w="25560">
            <a:solidFill>
              <a:srgbClr val="c0c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7240" y="1927080"/>
            <a:ext cx="21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(heads|</a:t>
            </a: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c0c0ff"/>
                </a:solidFill>
                <a:latin typeface="Times New Roman"/>
              </a:rPr>
              <a:t>)= </a:t>
            </a: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6880" y="4010040"/>
            <a:ext cx="36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ff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3970440"/>
            <a:ext cx="0" cy="139680"/>
          </a:xfrm>
          <a:prstGeom prst="line">
            <a:avLst/>
          </a:prstGeom>
          <a:ln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23520" y="41403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63400" y="41403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467160" y="2541240"/>
            <a:ext cx="1739880" cy="1523880"/>
          </a:xfrm>
          <a:prstGeom prst="line">
            <a:avLst/>
          </a:prstGeom>
          <a:ln w="25560">
            <a:solidFill>
              <a:srgbClr val="c0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475240" y="2843280"/>
          <a:ext cx="6206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240" y="2843280"/>
                    <a:ext cx="6206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59160" y="2695680"/>
          <a:ext cx="65232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9160" y="2695680"/>
                    <a:ext cx="652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342800" y="493236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rio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5120" y="4932360"/>
            <a:ext cx="145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7240" y="493236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ff"/>
                </a:solidFill>
                <a:latin typeface="Arial"/>
              </a:rPr>
              <a:t>posterior</a:t>
            </a:r>
            <a:endParaRPr b="0" lang="en-US" sz="2400" spc="-1" strike="noStrike">
              <a:solidFill>
                <a:srgbClr val="c0c0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Bayes net for learning probabiliti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803680" y="2212920"/>
            <a:ext cx="3534840" cy="2504160"/>
            <a:chOff x="2803680" y="2212920"/>
            <a:chExt cx="3534840" cy="2504160"/>
          </a:xfrm>
        </p:grpSpPr>
        <p:grpSp>
          <p:nvGrpSpPr>
            <p:cNvPr id="200" name=""/>
            <p:cNvGrpSpPr/>
            <p:nvPr/>
          </p:nvGrpSpPr>
          <p:grpSpPr>
            <a:xfrm>
              <a:off x="2921040" y="2212920"/>
              <a:ext cx="3276360" cy="2057400"/>
              <a:chOff x="2921040" y="2212920"/>
              <a:chExt cx="3276360" cy="2057400"/>
            </a:xfrm>
          </p:grpSpPr>
          <p:sp>
            <p:nvSpPr>
              <p:cNvPr id="201" name=""/>
              <p:cNvSpPr/>
              <p:nvPr/>
            </p:nvSpPr>
            <p:spPr>
              <a:xfrm>
                <a:off x="4343400" y="2212920"/>
                <a:ext cx="723960" cy="63504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c0ff"/>
                    </a:solidFill>
                    <a:latin typeface="Symbol"/>
                    <a:ea typeface="Symbol"/>
                  </a:rPr>
                  <a:t></a:t>
                </a:r>
                <a:endParaRPr b="0" lang="en-US" sz="28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21040" y="3635640"/>
                <a:ext cx="723960" cy="63468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 baseline="-25000">
                    <a:solidFill>
                      <a:srgbClr val="c0c0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0320" y="3635640"/>
                <a:ext cx="723960" cy="63468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 baseline="-25000">
                    <a:solidFill>
                      <a:srgbClr val="c0c0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73800" y="3635640"/>
                <a:ext cx="723600" cy="634680"/>
              </a:xfrm>
              <a:prstGeom prst="ellipse">
                <a:avLst/>
              </a:prstGeom>
              <a:noFill/>
              <a:ln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c0c0ff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c0c0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3486240" y="2765520"/>
                <a:ext cx="939600" cy="91440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4413240" y="2867040"/>
                <a:ext cx="216000" cy="76212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59360" y="2778120"/>
                <a:ext cx="673200" cy="939960"/>
              </a:xfrm>
              <a:prstGeom prst="line">
                <a:avLst/>
              </a:prstGeom>
              <a:ln w="12600">
                <a:solidFill>
                  <a:srgbClr val="c0c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17960" y="3679920"/>
                <a:ext cx="395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0c0ff"/>
                    </a:solidFill>
                    <a:latin typeface="Arial"/>
                  </a:rPr>
                  <a:t>...</a:t>
                </a:r>
                <a:endParaRPr b="0" lang="en-US" sz="2000" spc="-1" strike="noStrike">
                  <a:solidFill>
                    <a:srgbClr val="c0c0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803680" y="43164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toss 1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84840" y="43182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toss 2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5640" y="4318200"/>
              <a:ext cx="90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c0ff"/>
                  </a:solidFill>
                  <a:latin typeface="Arial"/>
                </a:rPr>
                <a:t>toss </a:t>
              </a:r>
              <a:r>
                <a:rPr b="0" i="1" lang="en-US" sz="2000" spc="-1" strike="noStrike">
                  <a:solidFill>
                    <a:srgbClr val="c0c0ff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c0c0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62000" y="5376960"/>
                <a:ext cx="52200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ht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tth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05:30:58Z</dcterms:created>
  <dc:creator>Max Chickering</dc:creator>
  <dc:description/>
  <dc:language>en-US</dc:language>
  <cp:lastModifiedBy>Administrator</cp:lastModifiedBy>
  <cp:lastPrinted>1997-06-07T01:29:13Z</cp:lastPrinted>
  <dcterms:modified xsi:type="dcterms:W3CDTF">2004-04-16T10:48:29Z</dcterms:modified>
  <cp:revision>460</cp:revision>
  <dc:subject/>
  <dc:title>Learning Bayesian Networks:  Search Methods  and  Experimental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7688724</vt:r8>
  </property>
  <property fmtid="{D5CDD505-2E9C-101B-9397-08002B2CF9AE}" pid="3" name="_AuthorEmail">
    <vt:lpwstr>heckerma@microsoft.com</vt:lpwstr>
  </property>
  <property fmtid="{D5CDD505-2E9C-101B-9397-08002B2CF9AE}" pid="4" name="_AuthorEmailDisplayName">
    <vt:lpwstr>David Heckerman</vt:lpwstr>
  </property>
  <property fmtid="{D5CDD505-2E9C-101B-9397-08002B2CF9AE}" pid="5" name="_EmailSubject">
    <vt:lpwstr>Guest lecture? </vt:lpwstr>
  </property>
</Properties>
</file>