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AC5-30D9-4880-8655-6D4E3818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3A6-B569-48F2-9E39-0C7A6A37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A40-A5F8-454A-A459-2D145736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12A-39BA-45F3-853E-3FB20D67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BA59-2A63-46E8-9891-FDC991F6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8B1B-0D21-4C92-A5B4-E126F4C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F8F-93FE-4C1A-99E3-B335A77F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10E7-AEB7-4436-95FE-EAF5E6DD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BCD1-3017-47F8-AC8B-1145D14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48A7-42C8-495A-8799-2DB479D3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87F5-6C19-4F2F-85FE-374EFC3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891-C823-4C70-B618-759F5CC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0019-F9D1-44A5-A5CD-BB955E2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36D-8AFA-415B-AF10-62991BD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5756-6D87-42A3-8846-0E08F8F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9CE7-2DFD-42CE-BA18-234B9CF9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973F-B744-4543-98AA-8AA37375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C2D-8E09-491D-8FCF-DCE67FB3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F5C-2A43-4DA1-BA58-C90C585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229-EBF6-4AD3-860D-B81FCA7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901-A0E8-4A08-8713-536820B7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A03-2C80-47E5-BB02-B02EDB4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2F2-9542-4311-9F44-B54AF68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5A1-FDFC-4A04-9CFD-AE8AE7C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7A32-6B32-4ADE-9D41-65CFBC4EA9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ACDE-011B-4BD9-A9AA-ED756A82F1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bots.ox.ac.uk/~vgg/research/vgoogle/how/method/method_a.html" TargetMode="External"/><Relationship Id="rId2" Type="http://schemas.openxmlformats.org/officeDocument/2006/relationships/hyperlink" Target="http://www.robots.ox.ac.uk/~vgg/research/vgoogle/index.html" TargetMode="External"/><Relationship Id="rId3" Type="http://schemas.openxmlformats.org/officeDocument/2006/relationships/hyperlink" Target="http://www.robots.ox.ac.uk/~vgg/research/vgoogle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Video Google: 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Text Retrieval Approach to Object Matching in Video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hors: Josef Sivic and Andrew Zisser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versity of Oxfo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CCV 200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ature Descript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elliptical affine invariant region represented by 128 dimensional vector using SIFT descri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1722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oise Remov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ggregated over sequence of fr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Reg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tected in each frame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ack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ing simple constant velocity dynamical model and cor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Region not surviving more than 3 frames are rej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descriptor for region computed by averaging descriptors throughout tr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oise Remov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292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16765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cking region over 70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sual Vocabul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vector quantize descriptors into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lus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visual wor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new frame is observed, the descriptor of the new frame is assigned to the nearest cluster, generating matches for all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sual Vocabul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s tracked through contiguous frames and average description comp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% of tracks with highest variance eliminated, leaving about 1000 regions per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t of 48 shots (~10%) selected for clus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ance function: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ahalanob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6000 SA clusters and 10000 MS clu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sual Vocabul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s - Setu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match scene locations within closed world of sh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:164 frames from 48 shots taken at 19 different 3D locations; 4-9 frames from each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31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s - Retriev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re frame is qu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164 frames as query region in 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 retrieval: other frames which show same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rieval performance: average normalized rank of relevant im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3324240" cy="73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19720" y="4191120"/>
            <a:ext cx="4343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r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# of relevant images for query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size of imag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rank of ith relevan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8840" y="5029200"/>
            <a:ext cx="3637080" cy="1618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ank lies between 0 and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tuitively, it will be 0 if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levant images are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head of any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t will be .5 for random retriev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 - 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553080" cy="398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7200" y="59086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ero is go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s - 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19560" cy="389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571500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cision = # relevant images/total # of frames retrie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all = # correctly retrieved frames/ # relevan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rieve key frames and shots of video containing particular object with ease, speed and accuracy with which Google retrieves web pages containing particular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whether text retrieval approach is applicable to object 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analogy of word: vector quantizing descriptor v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top Lis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29000" cy="490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4362480" cy="2813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480" y="16765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5% and bottom 10% of frequent words are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patial Consistenc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ched region in retrieved frames have similar spatial arrangement to outlined region in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rieve frames using weighted frequency vector and re-rank based on spatial consist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re 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1933560" cy="31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886200" cy="478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553080" y="2286000"/>
            <a:ext cx="1828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m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www.robots.ox.ac.uk/~vgg/research/vgoogle/how/method/method_a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www.robots.ox.ac.uk/~vgg/research/vgoogle/index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enefi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ches are pre-computed so at run time frames and shots containing particular object can be retrieved with no de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object (or conjunction of objects) occurring in a video can be retrieved even though there was no explicit interest in the object when the descriptors were bui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ext Retrieval Approac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re parsed into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ds represented by 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p list to reject common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words assigned unique ident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represented by vector of weighted  frequency of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s organized in inverted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rieval returns documents with closest (angle) vector to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ewpoint invariant descrip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types of viewpoint covariant regions computed for each 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hape Adapted (SA) Mikolajczyk &amp; Schm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aximally Stable (MS) Matas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et 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ct different image are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complimentary representations of 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d at twice originally detected region size to be more discrimin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hape Adapted Regions: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Harris-Affine Operato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liptical shape adaptation about interes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ly determine ellipse center, scale and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determined by local extremum (across scale) of Laplac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pe determined by maximizing intensity gradient isotropy over elliptical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ed on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rner-like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s of Harris-Affine Operat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6576" t="25230" r="4153" b="15908"/>
          <a:stretch/>
        </p:blipFill>
        <p:spPr>
          <a:xfrm>
            <a:off x="1600200" y="1828800"/>
            <a:ext cx="62485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ximally Stable Reg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ntensity watershed image seg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reas that are approximately stationary as intensity threshold is var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spond to blobs of high contrast with respect to surrou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amples of Maximally Stable Regi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2256" t="50460" r="8383" b="27681"/>
          <a:stretch/>
        </p:blipFill>
        <p:spPr>
          <a:xfrm>
            <a:off x="609480" y="1981080"/>
            <a:ext cx="822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nda Shapiro</cp:lastModifiedBy>
  <dcterms:modified xsi:type="dcterms:W3CDTF">2007-04-06T23:47:26Z</dcterms:modified>
  <cp:revision>32</cp:revision>
  <dc:subject/>
  <dc:title>PowerPoint Presentation</dc:title>
</cp:coreProperties>
</file>