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FCF-6EFD-4FE0-9E73-9CEF18D0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F2F3-9B20-4981-8511-FDAA10FC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2E5-E7EE-4506-8350-CED9FC62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D457-36FD-4CC6-AE72-93572483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1A05-B8A5-4AF7-951B-B192C48D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E650-AB2E-4AEE-831B-064A5FFA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0D7A-4C7E-43FA-A7CD-D0D5CEAD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C615-A4CE-4449-A5CF-BB4BA503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5D3F-5803-421C-AF90-14F8CA43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2D9B-97F2-4AD5-8057-7452CCE9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5A62-B73D-46E8-8925-430D614A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D605-9DCA-47EB-A7CF-EB968AEE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3ED6-1602-4FEA-B73E-8D8F58F1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598F-E829-44CF-8033-62F3B0F7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5E86-1996-469E-9313-FEF408B9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8CE8-D496-4AC4-B847-2F5DC025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F812-A4E8-4A02-A3A1-EED1069D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84DC-7BCA-4C01-A8F1-16FA622E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8D12-53D5-43DC-904D-0F7F490C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F9CD-6FE6-4BB9-846F-6A40E308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8462-D094-45D1-9AD4-EC684312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646E-E393-4D1F-B5E2-097B0E0E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1FFB-B285-4D14-837A-7CCD5E01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6F25-0DB9-4830-95E9-ABE8B5D7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1D00-AF36-413A-BCC2-1FC16A6DE94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08C6-5FDD-4FD4-BE11-40F52BF6D6E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robots.ox.ac.uk/~vgg/research/vgoogle/how/method/method_a.html" TargetMode="External"/><Relationship Id="rId2" Type="http://schemas.openxmlformats.org/officeDocument/2006/relationships/hyperlink" Target="http://www.robots.ox.ac.uk/~vgg/research/vgoogle/index.html" TargetMode="External"/><Relationship Id="rId3" Type="http://schemas.openxmlformats.org/officeDocument/2006/relationships/hyperlink" Target="http://www.robots.ox.ac.uk/~vgg/research/vgoogle/index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Video Google: </a:t>
            </a:r>
            <a:br>
              <a:rPr sz="5200"/>
            </a:b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 Text Retrieval Approach to Object Matching in Videos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7720" y="3580920"/>
            <a:ext cx="7543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uthors: Josef Sivic and Andrew Zisserm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iversity of Oxfor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CCV 200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eature Descript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elliptical affine invariant region represented by 128 dimensional vector using SIFT descrip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3880" y="2666880"/>
            <a:ext cx="617220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oise Remov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aggregated over sequence of fra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Reg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tected in each frame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track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sing simple constant velocity dynamical model and corre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Region not surviving more than 3 frames are rejec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imate descriptor for region computed by averaging descriptors throughout tr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oise Remov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029200" cy="4530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5800" y="16765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acking region over 70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Visual Vocabular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: vector quantize descriptors into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cluster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visual word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a new frame is observed, the descriptor of the new frame is assigned to the nearest cluster, generating matches for all fr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Visual Vocabular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K-Means clust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ions tracked through contiguous frames and average description compu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% of tracks with highest variance eliminated, leaving about 1000 regions per fr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set of 48 shots (~10%) selected for clust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tance function: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Mahalanob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6000 SA clusters and 10000 MS clus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Visual Vocabular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56272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periments - Setup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al: match scene locations within closed world of sho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:164 frames from 48 shots taken at 19 different 3D locations; 4-9 frames from each 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4318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periments - Retriev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ire frame is que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of 164 frames as query region in tu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ct retrieval: other frames which show same 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rieval performance: average normalized rank of relevant im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66680" y="4191120"/>
            <a:ext cx="3324240" cy="733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419720" y="4191120"/>
            <a:ext cx="43434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re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= # of relevant images for query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 = size of image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= rank of ith relevant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8840" y="5029200"/>
            <a:ext cx="3637080" cy="1618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ank lies between 0 and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tuitively, it will be 0 if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levant images are retur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head of any oth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t will be .5 for random retriev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periment - Resul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553080" cy="3989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47200" y="59086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ero is goo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periments - Resul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019560" cy="3895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90720" y="5715000"/>
            <a:ext cx="6933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cision = # relevant images/total # of frames retrie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all = # correctly retrieved frames/ # relevant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tiv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rieve key frames and shots of video containing particular object with ease, speed and accuracy with which Google retrieves web pages containing particular w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whether text retrieval approach is applicable to object recogn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ual analogy of word: vector quantizing descriptor vec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top Lis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429000" cy="4908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4362480" cy="2813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09480" y="1676520"/>
            <a:ext cx="4572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p 5% and bottom 10% of frequent words are st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patial Consistenc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tched region in retrieved frames have similar spatial arrangement to outlined region in qu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rieve frames using weighted frequency vector and re-rank based on spatial consist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re Resul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1933560" cy="3105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3886200" cy="478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553080" y="2286000"/>
            <a:ext cx="1828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m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http://www.robots.ox.ac.uk/~vgg/research/vgoogle/how/method/method_a.ht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www.robots.ox.ac.uk/~vgg/research/vgoogle/index.ht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Benefi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tches are pre-computed so at run time frames and shots containing particular object can be retrieved with no del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object (or conjunction of objects) occurring in a video can be retrieved even though there was no explicit interest in the object when the descriptors were buil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ext Retrieval Approach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re parsed into w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ds represented by 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p list to reject common w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aining words assigned unique identifi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represented by vector of weighted  frequency of w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ctors organized in inverted fi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rieval returns documents with closest (angle) vector to qu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Viewpoint invariant descrip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types of viewpoint covariant regions computed for each fr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Shape Adapted (SA) Mikolajczyk &amp; Schm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Maximally Stable (MS) Matas 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et 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ct different image area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complimentary representations of fr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d at twice originally detected region size to be more discrimina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hape Adapted Regions: 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he Harris-Affine Operator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liptical shape adaptation about interest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eratively determine ellipse center, scale and sha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le determined by local extremum (across scale) of Laplaci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pe determined by maximizing intensity gradient isotropy over elliptical reg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ered on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orner-like 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s of Harris-Affine Operat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36576" t="25230" r="4153" b="15908"/>
          <a:stretch/>
        </p:blipFill>
        <p:spPr>
          <a:xfrm>
            <a:off x="1600200" y="1828800"/>
            <a:ext cx="62485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ximally Stable Reg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intensity watershed image seg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areas that are approximately stationary as intensity threshold is var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spond to blobs of high contrast with respect to surround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Examples of Maximally Stable Region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2256" t="50460" r="8383" b="27681"/>
          <a:stretch/>
        </p:blipFill>
        <p:spPr>
          <a:xfrm>
            <a:off x="609480" y="1981080"/>
            <a:ext cx="8229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nda Shapiro</cp:lastModifiedBy>
  <dcterms:modified xsi:type="dcterms:W3CDTF">2007-04-06T23:47:26Z</dcterms:modified>
  <cp:revision>32</cp:revision>
  <dc:subject/>
  <dc:title>PowerPoint Presentation</dc:title>
</cp:coreProperties>
</file>