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4CC-FAA2-4430-89AE-DB6E0971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544-418D-4C48-9BA4-ECA052B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1EB-6610-4C46-9DA7-06A66300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516-7B7B-4749-A31E-1A1A7E27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071-798F-4738-A180-10CB8EF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1D0-404B-4D04-B0C9-73B80A7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30B-56D8-49EB-9857-27EA66DB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FD6-B71E-4637-BCD7-B5857BF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44F-E862-410F-B365-E70295C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081-2A6B-4311-92D3-B592C2F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B28-A8A5-4A44-A5A3-034807D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3B0-5606-4545-9FE2-A6BC4BB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47B5-FA6F-4EB7-BE29-F40E7D06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demo/MixtureEM.html" TargetMode="External"/><Relationship Id="rId2" Type="http://schemas.openxmlformats.org/officeDocument/2006/relationships/hyperlink" Target="http://www.neurosci.aist.go.jp/~akaho/MixtureEM.html" TargetMode="External"/><Relationship Id="rId3" Type="http://schemas.openxmlformats.org/officeDocument/2006/relationships/hyperlink" Target="file:///../Local%20Settings/Temp/gmm13.pdf" TargetMode="External"/><Relationship Id="rId4" Type="http://schemas.openxmlformats.org/officeDocument/2006/relationships/hyperlink" Target="http://www-2.cs.cmu.edu/~awm/tutorials/gmm13.pdf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cis.upenn.edu/~jshi" TargetMode="External"/><Relationship Id="rId3" Type="http://schemas.openxmlformats.org/officeDocument/2006/relationships/hyperlink" Target="http://www.cis.upenn.edu/~jshi" TargetMode="External"/><Relationship Id="rId4" Type="http://schemas.openxmlformats.org/officeDocument/2006/relationships/hyperlink" Target="http://www.cis.upenn.edu/~jshi" TargetMode="External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aip.rutgers.edu/~comanici/clusterDemo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aip.rutgers.edu/riul/research/papers/pdf/spatmsft.pdf" TargetMode="External"/><Relationship Id="rId2" Type="http://schemas.openxmlformats.org/officeDocument/2006/relationships/hyperlink" Target="http://www.caip.rutgers.edu/riul/research/papers/pdf/spatmsft.pdf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png"/><Relationship Id="rId7" Type="http://schemas.openxmlformats.org/officeDocument/2006/relationships/hyperlink" Target="http://www.caip.rutgers.edu/~comanici/segm_images.html" TargetMode="External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cs.berkeley.edu/~leungt/Grouping/Ncut.ps.gz" TargetMode="External"/><Relationship Id="rId2" Type="http://schemas.openxmlformats.org/officeDocument/2006/relationships/hyperlink" Target="http://www.caip.rutgers.edu/riul/research/papers/pdf/spatmsft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mag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0960" y="152388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segmentation is the operation of partitioning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into a collection of connected sets of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2840" y="2514600"/>
            <a:ext cx="58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usually cover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urv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D sha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l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ibbons (long, symmetric reg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Vari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ays to initialize the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topp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methods for determining the right number of clusters (K) for a giv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EM Algorithm: a probabilistic for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uster is represented by its me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luster for each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stimate the clust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133720" y="4114800"/>
            <a:ext cx="1980720" cy="510120"/>
            <a:chOff x="2133720" y="4114800"/>
            <a:chExt cx="1980720" cy="510120"/>
          </a:xfrm>
        </p:grpSpPr>
        <p:sp>
          <p:nvSpPr>
            <p:cNvPr id="73" name=""/>
            <p:cNvSpPr/>
            <p:nvPr/>
          </p:nvSpPr>
          <p:spPr>
            <a:xfrm>
              <a:off x="2133720" y="4114800"/>
              <a:ext cx="60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50320" y="4299120"/>
              <a:ext cx="430200" cy="152280"/>
            </a:xfrm>
            <a:prstGeom prst="rightArrow">
              <a:avLst>
                <a:gd name="adj1" fmla="val 50000"/>
                <a:gd name="adj2" fmla="val 70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52960" y="4114800"/>
              <a:ext cx="86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63760" y="5499000"/>
                <a:ext cx="2906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352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962520"/>
            <a:ext cx="7596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4290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7339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1148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962520"/>
            <a:ext cx="7596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1911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37339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8862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352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8098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495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191120"/>
            <a:ext cx="7596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2670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33526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8128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962520"/>
            <a:ext cx="7596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38862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42900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73392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11480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962520"/>
            <a:ext cx="7596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19112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7632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88620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3526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80988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1148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8862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0384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191120"/>
            <a:ext cx="7596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8862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1148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275200">
            <a:off x="2039400" y="3049560"/>
            <a:ext cx="2225880" cy="168588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590000">
            <a:off x="4454640" y="3220920"/>
            <a:ext cx="1699920" cy="180360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8000" y="202104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re do the red points bel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luster of each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stimate the clust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666880"/>
            <a:ext cx="510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4038480"/>
                <a:ext cx="1326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0" name=""/>
          <p:cNvGrpSpPr/>
          <p:nvPr/>
        </p:nvGrpSpPr>
        <p:grpSpPr>
          <a:xfrm>
            <a:off x="1295280" y="5105520"/>
            <a:ext cx="4870440" cy="531720"/>
            <a:chOff x="1295280" y="5105520"/>
            <a:chExt cx="4870440" cy="5317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5105520"/>
                  <a:ext cx="202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3872880" y="516888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each clus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952680" y="40384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97600" y="495288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Max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191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105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-D EM with Gaussian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presented by a Gaussian distribution 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ization: For 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itialize its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, varian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weigh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5105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35760" y="533412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4520" y="529128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3160" y="529128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095480" cy="100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62520" y="4191120"/>
            <a:ext cx="1371600" cy="869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9432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ec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oi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 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ompute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 do we get P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 and P(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46483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1252" t="58005" r="65003" b="29000"/>
          <a:stretch/>
        </p:blipFill>
        <p:spPr>
          <a:xfrm>
            <a:off x="1752480" y="1905120"/>
            <a:ext cx="5486400" cy="187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09480" y="1055520"/>
            <a:ext cx="626616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df for a normal distrib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the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of cluster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computed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each poin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ach cluster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 them to compute new mean, variance, and weight for each clu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486400" y="1676520"/>
                <a:ext cx="2133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638680" y="3200400"/>
                <a:ext cx="32004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62720" y="4724280"/>
                <a:ext cx="2136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094000" y="3462480"/>
            <a:ext cx="34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2514600"/>
            <a:ext cx="1676160" cy="21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514600"/>
            <a:ext cx="22860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 Expectation Step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r Color Image Seg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94840" y="19810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66080" y="19810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Est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52760" y="1981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2767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514600"/>
            <a:ext cx="21333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98560" y="4827600"/>
                <a:ext cx="67564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1: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19320" y="2514600"/>
            <a:ext cx="1676160" cy="21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514600"/>
            <a:ext cx="22860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 Maximization Step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r Color Image Seg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90920" y="4876920"/>
                <a:ext cx="38113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194840" y="19810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66080" y="19810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Est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52760" y="1981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514600"/>
            <a:ext cx="21337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0880" y="4952880"/>
                <a:ext cx="20973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465960" y="4827600"/>
                <a:ext cx="2136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ll EM Algorithm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2666880"/>
            <a:ext cx="510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371600" y="4419720"/>
                <a:ext cx="50720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05320" y="5638680"/>
                <a:ext cx="2998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23880" y="5638680"/>
                <a:ext cx="1667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705720" y="5638680"/>
                <a:ext cx="168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urosci.aist.go.jp/~akaho/MixtureE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-2.cs.cmu.edu/~awm/tutorials/gmm1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bworld: Image segmentation using Expectation-Maximization and its application to image que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’s Generative/Discriminative Learning of object classes in color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obworld: Sampl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19720" y="48769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86600" y="22096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2666880" y="42670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6400800" y="48769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3276720" y="220968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ianbo Shi’s Graph-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1828800"/>
            <a:ext cx="70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mage is represented by a graph whos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ixels or small groups of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is to partition the vertices into disjoint sets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 similarity within each set is hig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different sets is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imal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080" y="2022480"/>
            <a:ext cx="798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 = (V,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graph. Each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ge 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ight w(u,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epresents the similarity between u and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 can be broken into 2 disjoint graphs with nod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nd B by removing edges that connect these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segment G is to find the minimal 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11840" y="457200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t(A,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86720" y="438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12040" y="5257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1020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772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69200" y="224460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34440" y="262404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rmalized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8360" y="1793880"/>
            <a:ext cx="62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ut favors cutting off small node grou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Shi propos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1360" y="2936880"/>
            <a:ext cx="5008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(A, B)         cut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ut(A,B) =  -------------  +  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(A,V)       asso(B,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1960" y="4683240"/>
            <a:ext cx="2775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(A,V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(u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560" y="4800600"/>
            <a:ext cx="28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w much is A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 the graph as a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64760" y="32148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Normalized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743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0384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35053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81952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2819520"/>
            <a:ext cx="0" cy="761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2895480"/>
            <a:ext cx="0" cy="6858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3581280"/>
            <a:ext cx="7621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505320"/>
            <a:ext cx="381240" cy="6094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980720" y="3505320"/>
            <a:ext cx="381240" cy="6858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5356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08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34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5684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492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5356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2880" y="2768760"/>
            <a:ext cx="1168200" cy="1473120"/>
          </a:xfrm>
          <a:custGeom>
            <a:avLst/>
            <a:gdLst/>
            <a:ahLst/>
            <a:rect l="l" t="t" r="r" b="b"/>
            <a:pathLst>
              <a:path w="736" h="928">
                <a:moveTo>
                  <a:pt x="448" y="32"/>
                </a:moveTo>
                <a:cubicBezTo>
                  <a:pt x="284" y="16"/>
                  <a:pt x="120" y="0"/>
                  <a:pt x="64" y="128"/>
                </a:cubicBezTo>
                <a:cubicBezTo>
                  <a:pt x="8" y="256"/>
                  <a:pt x="0" y="672"/>
                  <a:pt x="112" y="800"/>
                </a:cubicBezTo>
                <a:cubicBezTo>
                  <a:pt x="224" y="928"/>
                  <a:pt x="632" y="880"/>
                  <a:pt x="736" y="896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281952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240" y="0"/>
                </a:moveTo>
                <a:cubicBezTo>
                  <a:pt x="380" y="12"/>
                  <a:pt x="520" y="24"/>
                  <a:pt x="576" y="144"/>
                </a:cubicBezTo>
                <a:cubicBezTo>
                  <a:pt x="632" y="264"/>
                  <a:pt x="672" y="600"/>
                  <a:pt x="576" y="720"/>
                </a:cubicBezTo>
                <a:cubicBezTo>
                  <a:pt x="480" y="840"/>
                  <a:pt x="96" y="840"/>
                  <a:pt x="0" y="864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460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5704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2743200"/>
            <a:ext cx="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819520"/>
            <a:ext cx="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281952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65760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105160" y="2819520"/>
            <a:ext cx="99036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743200"/>
            <a:ext cx="990360" cy="91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4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42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7480" y="236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780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696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748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0" y="2819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1936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62320" y="2819520"/>
            <a:ext cx="2819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2819520"/>
            <a:ext cx="281916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940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71440" y="237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109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8200" y="4419720"/>
            <a:ext cx="3681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ut(A,B) =  -------  +  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      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2120" y="202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05880" y="194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2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Circular Ar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057400" y="2362320"/>
            <a:ext cx="5029200" cy="377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22399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i turned graph cuts into a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igenvector/eigenvalue probl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weighted graph G=(V,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t of (N)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weighted edges (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imilarity between nodes i and 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N vect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 of the weights from node i to all other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N matri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 is a diagonal matrix with d on its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N symmetric matri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t x be a characteristic vector of a set A of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f node i is in a s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t y be a continuous approximation 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v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 – W) 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igenvectors y and eigenvalu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e the eigenvecto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 second smallest eigenvalue to bipartition the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 =&gt; x =&gt;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urther subdivision is merited, repeat recur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rcRect l="32002" t="54004" r="23999" b="38003"/>
          <a:stretch/>
        </p:blipFill>
        <p:spPr>
          <a:xfrm>
            <a:off x="762120" y="2209680"/>
            <a:ext cx="7848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Shi used the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2680" y="1946160"/>
            <a:ext cx="48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 defined the edge weights w(i,j)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i,j) = e                    *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25146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5240" y="2514600"/>
            <a:ext cx="43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                      if ||X(i)-X(j)||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               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06200" y="2590920"/>
            <a:ext cx="15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|F(i)-F(j)||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92560" y="2438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|X(i)-X(j)||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1000" y="3851280"/>
            <a:ext cx="68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 X(i) is the spatial location of nod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(i) is the feature vector for nod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ich can be intensity, color, texture, mo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91000" y="5299200"/>
            <a:ext cx="66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is set up so that w(i,j) is 0 for nod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oo far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i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86600" cy="47750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116600" y="609480"/>
            <a:ext cx="4101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hi’s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cis.upenn.edu/~jsh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blems with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number of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hoose 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4760" y="412920"/>
            <a:ext cx="58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blems with Graph C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5680" y="1219320"/>
            <a:ext cx="54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to know when to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loooo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-Shift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like K-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don’t have to select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d to converge to a fixed number of clu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ding Modes in 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d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e, hard to comp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295280" y="1219320"/>
          <a:ext cx="640728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0728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5" name=""/>
          <p:cNvGrpSpPr/>
          <p:nvPr/>
        </p:nvGrpSpPr>
        <p:grpSpPr>
          <a:xfrm>
            <a:off x="2133720" y="1447920"/>
            <a:ext cx="4679640" cy="3390840"/>
            <a:chOff x="2133720" y="1447920"/>
            <a:chExt cx="4679640" cy="3390840"/>
          </a:xfrm>
        </p:grpSpPr>
        <p:sp>
          <p:nvSpPr>
            <p:cNvPr id="406" name=""/>
            <p:cNvSpPr/>
            <p:nvPr/>
          </p:nvSpPr>
          <p:spPr>
            <a:xfrm>
              <a:off x="2133720" y="1456560"/>
              <a:ext cx="2395800" cy="3382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58680" y="1447920"/>
              <a:ext cx="2254680" cy="33822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 Shift [</a:t>
            </a: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Comaniciu &amp; Meer]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Mod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andom seed, and window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center of gravity (the “mean”) of 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search window to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 2 until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89160" y="914400"/>
          <a:ext cx="64069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914400"/>
                    <a:ext cx="6406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429000" y="1154160"/>
            <a:ext cx="1600200" cy="2579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391520" y="5181480"/>
            <a:ext cx="1242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an Shift Approa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a window around eac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ere it shifts—this determines which segment it’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ints will shift to the sam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271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>
            <a:hlinkClick r:id="rId1"/>
          </p:cNvPr>
          <p:cNvPicPr/>
          <p:nvPr/>
        </p:nvPicPr>
        <p:blipFill>
          <a:blip r:embed="rId2"/>
          <a:srcRect l="0" t="36252" r="0" b="0"/>
          <a:stretch/>
        </p:blipFill>
        <p:spPr>
          <a:xfrm>
            <a:off x="1676520" y="3124080"/>
            <a:ext cx="5943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gmentation Algorith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 the mean shift procedure for each data point x and store its convergence point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gether all the z’s that are closer than .5 from each other to form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ach point to it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smal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in Methods of Region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1120" y="2362320"/>
            <a:ext cx="39189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1.  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.  Split and 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3.  </a:t>
            </a: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Cluste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286000"/>
            <a:ext cx="266688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28440" y="2209680"/>
            <a:ext cx="259092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an-shift for image segmen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to take into account spat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(R, G, B), run in (R, G, B, x, y)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Comaniciu, P. Meer, Mean shift analysis and applicatio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th International Conference on Computer 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erkyra, Greece, September 1999, 1197-12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caip.rutgers.edu/riul/research/papers/pdf/spatmsft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762120" y="3657600"/>
          <a:ext cx="25146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657600"/>
                    <a:ext cx="2514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352680" y="3649680"/>
          <a:ext cx="5181840" cy="19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649680"/>
                    <a:ext cx="518184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974520" y="5789520"/>
            <a:ext cx="71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amples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caip.rutgers.edu/~comanici/segm_images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 and Malik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malized Cuts and Image Se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Proc. CVPR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on, Belongie, Greenspan and Malik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Blobworld: Image Segmentation Using Expectation-Maximization and its Application to Image Quer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IEEE PAMI, Vol 24, No. 8, Aug.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aniciu and Meer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an shift analysis and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Pro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C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2920" y="2174760"/>
            <a:ext cx="6915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K clus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mean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st-squares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all possible partitions into K clust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one that minimizes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360" y="5410080"/>
            <a:ext cx="59108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y don’t we just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we could, would we get meaningful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4120" y="3581280"/>
            <a:ext cx="30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||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|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7200" y="3919680"/>
            <a:ext cx="124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=1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2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7672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K-Means Clust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120" y="2368440"/>
            <a:ext cx="7467120" cy="396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K-means clusters from a set of n-dimensiona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Set ic (iteration count)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Choose randomly a set of K means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…,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each vector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ompute D(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ic)), k=1,…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ssign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o the cluster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with neares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Increment ic by 1, update the means to ge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,…,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Repeat steps 3 and 4 until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+1) for all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23635" r="6527" b="29433"/>
          <a:stretch/>
        </p:blipFill>
        <p:spPr>
          <a:xfrm>
            <a:off x="609480" y="2362320"/>
            <a:ext cx="8077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3" t="16896" r="23752" b="47658"/>
          <a:stretch/>
        </p:blipFill>
        <p:spPr>
          <a:xfrm>
            <a:off x="609480" y="2362320"/>
            <a:ext cx="8001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875" t="17188" r="25001" b="46875"/>
          <a:stretch/>
        </p:blipFill>
        <p:spPr>
          <a:xfrm>
            <a:off x="538200" y="1928880"/>
            <a:ext cx="80676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2:52:03Z</dcterms:created>
  <dc:creator>cse</dc:creator>
  <dc:description/>
  <dc:language>en-US</dc:language>
  <cp:lastModifiedBy>Linda Shapiro</cp:lastModifiedBy>
  <dcterms:modified xsi:type="dcterms:W3CDTF">2007-03-30T17:07:45Z</dcterms:modified>
  <cp:revision>17</cp:revision>
  <dc:subject/>
  <dc:title>Image Segmentation</dc:title>
</cp:coreProperties>
</file>