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12.jpeg" ContentType="image/jpeg"/>
  <Override PartName="/ppt/media/image6.png" ContentType="image/png"/>
  <Override PartName="/ppt/media/image22.png" ContentType="image/png"/>
  <Override PartName="/ppt/media/image21.jpeg" ContentType="image/jpeg"/>
  <Override PartName="/ppt/media/image16.jpeg" ContentType="image/jpeg"/>
  <Override PartName="/ppt/media/image20.png" ContentType="image/png"/>
  <Override PartName="/ppt/media/image2.jpeg" ContentType="image/jpeg"/>
  <Override PartName="/ppt/media/image19.png" ContentType="image/png"/>
  <Override PartName="/ppt/media/image3.jpeg" ContentType="image/jpeg"/>
  <Override PartName="/ppt/media/image18.jpeg" ContentType="image/jpeg"/>
  <Override PartName="/ppt/media/image17.png" ContentType="image/png"/>
  <Override PartName="/ppt/media/image15.jpeg" ContentType="image/jpeg"/>
  <Override PartName="/ppt/media/image4.png" ContentType="image/png"/>
  <Override PartName="/ppt/media/image13.jpeg" ContentType="image/jpeg"/>
  <Override PartName="/ppt/media/image23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DFAE1-41B3-4C09-8B76-48F241534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595BB-B040-439D-8682-84ADCFC15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27256-9569-4B45-BC59-AEF315615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F4681-BACF-4759-8FEB-B80E463EC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4EC6F-A4AC-42C8-89B4-AAC226C7F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DF10F-A007-4FF7-ABC7-0E8599131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D0435-F45E-4475-AB2B-D6AAAA71D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1609F-F8D9-47C0-A88F-1E046C573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794EE-18E3-4356-82A6-FADAE20E3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15B54-94B4-47D3-8DB9-BFF6976FE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97ED3-8DA9-4A0F-991E-ECA56C7E2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7535D-F061-4878-A118-E302EFF05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12B11-4985-48B0-A6C2-4E10515621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file:///../Local%20Settings/Temp/demo/MixtureEM.html" TargetMode="External"/><Relationship Id="rId2" Type="http://schemas.openxmlformats.org/officeDocument/2006/relationships/hyperlink" Target="http://www.neurosci.aist.go.jp/~akaho/MixtureEM.html" TargetMode="External"/><Relationship Id="rId3" Type="http://schemas.openxmlformats.org/officeDocument/2006/relationships/hyperlink" Target="file:///../Local%20Settings/Temp/gmm13.pdf" TargetMode="External"/><Relationship Id="rId4" Type="http://schemas.openxmlformats.org/officeDocument/2006/relationships/hyperlink" Target="http://www-2.cs.cmu.edu/~awm/tutorials/gmm13.pdf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5.jpeg"/><Relationship Id="rId8" Type="http://schemas.openxmlformats.org/officeDocument/2006/relationships/image" Target="../media/image16.jpeg"/><Relationship Id="rId9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hyperlink" Target="http://www.cis.upenn.edu/~jshi" TargetMode="External"/><Relationship Id="rId3" Type="http://schemas.openxmlformats.org/officeDocument/2006/relationships/hyperlink" Target="http://www.cis.upenn.edu/~jshi" TargetMode="External"/><Relationship Id="rId4" Type="http://schemas.openxmlformats.org/officeDocument/2006/relationships/hyperlink" Target="http://www.cis.upenn.edu/~jshi" TargetMode="External"/><Relationship Id="rId5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hyperlink" Target="http://www.caip.rutgers.edu/~comanici/clusterDemo.html" TargetMode="External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hyperlink" Target="http://www.caip.rutgers.edu/riul/research/papers/pdf/spatmsft.pdf" TargetMode="External"/><Relationship Id="rId2" Type="http://schemas.openxmlformats.org/officeDocument/2006/relationships/hyperlink" Target="http://www.caip.rutgers.edu/riul/research/papers/pdf/spatmsft.pdf" TargetMode="External"/><Relationship Id="rId3" Type="http://schemas.openxmlformats.org/officeDocument/2006/relationships/oleObject" Target="../embeddings/oleObject1.bin"/><Relationship Id="rId4" Type="http://schemas.openxmlformats.org/officeDocument/2006/relationships/image" Target="../media/image22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23.png"/><Relationship Id="rId7" Type="http://schemas.openxmlformats.org/officeDocument/2006/relationships/hyperlink" Target="http://www.caip.rutgers.edu/~comanici/segm_images.html" TargetMode="External"/><Relationship Id="rId8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hyperlink" Target="http://www.cs.berkeley.edu/~leungt/Grouping/Ncut.ps.gz" TargetMode="External"/><Relationship Id="rId2" Type="http://schemas.openxmlformats.org/officeDocument/2006/relationships/hyperlink" Target="http://www.caip.rutgers.edu/riul/research/papers/pdf/spatmsft.pdf" TargetMode="External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Image Seg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0960" y="1523880"/>
            <a:ext cx="6807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age segmentation is the operation of partitioning 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age into a collection of connected sets of pixe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212840" y="2514600"/>
            <a:ext cx="58197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into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egio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which usually cover the im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into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linear structur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such 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line seg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curve seg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 into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2D shap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such 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circ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ellip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ribbons (long, symmetric regio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K-means Varia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erent ways to initialize the me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erent stopping crite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ynamic methods for determining the right number of clusters (K) for a given im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The EM Algorithm: a probabilistic formul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K-Mean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Boot Ste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lusters: C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…, C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luster is represented by its me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Iteration Ste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timate the cluster for each data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-estimate the cluster parame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2133720" y="4114800"/>
            <a:ext cx="1980720" cy="510120"/>
            <a:chOff x="2133720" y="4114800"/>
            <a:chExt cx="1980720" cy="510120"/>
          </a:xfrm>
        </p:grpSpPr>
        <p:sp>
          <p:nvSpPr>
            <p:cNvPr id="73" name=""/>
            <p:cNvSpPr/>
            <p:nvPr/>
          </p:nvSpPr>
          <p:spPr>
            <a:xfrm>
              <a:off x="2133720" y="4114800"/>
              <a:ext cx="6026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650320" y="4299120"/>
              <a:ext cx="430200" cy="152280"/>
            </a:xfrm>
            <a:prstGeom prst="rightArrow">
              <a:avLst>
                <a:gd name="adj1" fmla="val 50000"/>
                <a:gd name="adj2" fmla="val 70626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252960" y="4114800"/>
              <a:ext cx="861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1463760" y="5499000"/>
                <a:ext cx="2906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ean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K-Means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286000" y="3352680"/>
            <a:ext cx="76320" cy="763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819520" y="3581280"/>
            <a:ext cx="75960" cy="763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819520" y="3962520"/>
            <a:ext cx="75960" cy="759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24080" y="3886200"/>
            <a:ext cx="76320" cy="763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76720" y="3429000"/>
            <a:ext cx="75960" cy="763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352680" y="3733920"/>
            <a:ext cx="76320" cy="759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048120" y="4114800"/>
            <a:ext cx="75960" cy="763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733920" y="3962520"/>
            <a:ext cx="75960" cy="759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429000" y="4038480"/>
            <a:ext cx="76320" cy="763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124080" y="4572000"/>
            <a:ext cx="76320" cy="763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809880" y="4191120"/>
            <a:ext cx="76320" cy="759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181480" y="3733920"/>
            <a:ext cx="76320" cy="759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334120" y="3886200"/>
            <a:ext cx="75960" cy="763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486400" y="3352680"/>
            <a:ext cx="76320" cy="763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876920" y="3809880"/>
            <a:ext cx="75960" cy="763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952880" y="4038480"/>
            <a:ext cx="76320" cy="763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638680" y="4114800"/>
            <a:ext cx="76320" cy="763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57800" y="4267080"/>
            <a:ext cx="76320" cy="763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715000" y="4495680"/>
            <a:ext cx="76320" cy="763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181480" y="3886200"/>
            <a:ext cx="76320" cy="763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257800" y="4038480"/>
            <a:ext cx="76320" cy="763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105520" y="4495680"/>
            <a:ext cx="75960" cy="763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124080" y="3733920"/>
            <a:ext cx="7632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4191120"/>
            <a:ext cx="75960" cy="7596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343400" y="3886200"/>
            <a:ext cx="76320" cy="763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191120" y="4267080"/>
            <a:ext cx="75960" cy="763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724280" y="4114800"/>
            <a:ext cx="76320" cy="763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K-Means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3352680"/>
            <a:ext cx="76320" cy="76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819520" y="3581280"/>
            <a:ext cx="75960" cy="76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819520" y="3962520"/>
            <a:ext cx="75960" cy="75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124080" y="3886200"/>
            <a:ext cx="76320" cy="76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3429000"/>
            <a:ext cx="75960" cy="76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352680" y="3733920"/>
            <a:ext cx="76320" cy="75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048120" y="4114800"/>
            <a:ext cx="75960" cy="76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733920" y="3962520"/>
            <a:ext cx="75960" cy="75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429000" y="4038480"/>
            <a:ext cx="76320" cy="76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124080" y="4572000"/>
            <a:ext cx="76320" cy="76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809880" y="4191120"/>
            <a:ext cx="76320" cy="75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76320" cy="7596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334120" y="3886200"/>
            <a:ext cx="75960" cy="7632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86400" y="3352680"/>
            <a:ext cx="76320" cy="7632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876920" y="3809880"/>
            <a:ext cx="75960" cy="7632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952880" y="4038480"/>
            <a:ext cx="76320" cy="7632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638680" y="4114800"/>
            <a:ext cx="76320" cy="7632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257800" y="4267080"/>
            <a:ext cx="76320" cy="7632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4495680"/>
            <a:ext cx="76320" cy="7632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181480" y="3886200"/>
            <a:ext cx="76320" cy="7632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257800" y="4038480"/>
            <a:ext cx="76320" cy="7632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105520" y="4495680"/>
            <a:ext cx="75960" cy="7632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124080" y="3733920"/>
            <a:ext cx="7632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334120" y="4191120"/>
            <a:ext cx="75960" cy="7596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343400" y="3886200"/>
            <a:ext cx="76320" cy="763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191120" y="4267080"/>
            <a:ext cx="75960" cy="763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724280" y="4114800"/>
            <a:ext cx="76320" cy="7632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2275200">
            <a:off x="2039400" y="3049560"/>
            <a:ext cx="2225880" cy="1685880"/>
          </a:xfrm>
          <a:prstGeom prst="ellipse">
            <a:avLst/>
          </a:prstGeom>
          <a:noFill/>
          <a:ln w="22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rot="1590000">
            <a:off x="4454640" y="3220920"/>
            <a:ext cx="1699920" cy="1803600"/>
          </a:xfrm>
          <a:prstGeom prst="ellipse">
            <a:avLst/>
          </a:prstGeom>
          <a:noFill/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798000" y="2021040"/>
            <a:ext cx="460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Where do the red points belo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K-Means </a:t>
            </a:r>
            <a:r>
              <a:rPr b="0" lang="en-US" sz="44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 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Boot Ste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lusters: C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…, C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Iteration Ste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timate the cluster of each data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-estimate the cluster parame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2666880"/>
            <a:ext cx="5105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cluste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1447920" y="4038480"/>
                <a:ext cx="132696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40" name=""/>
          <p:cNvGrpSpPr/>
          <p:nvPr/>
        </p:nvGrpSpPr>
        <p:grpSpPr>
          <a:xfrm>
            <a:off x="1295280" y="5105520"/>
            <a:ext cx="4870440" cy="531720"/>
            <a:chOff x="1295280" y="5105520"/>
            <a:chExt cx="4870440" cy="531720"/>
          </a:xfrm>
        </p:grpSpPr>
        <mc:AlternateContent>
          <mc:Choice xmlns:a14="http://schemas.microsoft.com/office/drawing/2010/main" Requires="a14">
            <p:sp>
              <p:nvSpPr>
                <p:cNvPr id="141" name=""/>
                <p:cNvSpPr txBox="1"/>
                <p:nvPr/>
              </p:nvSpPr>
              <p:spPr>
                <a:xfrm>
                  <a:off x="1295280" y="5105520"/>
                  <a:ext cx="2022480" cy="531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j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Σ</m:t>
                          </m:r>
                        </m:e>
                        <m:sub>
                          <m:r>
                            <m:t xml:space="preserve">j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,</m:t>
                      </m:r>
                      <m:r>
                        <m:t xml:space="preserve">p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j</m:t>
                          </m:r>
                        </m:sub>
                      </m:sSub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42" name=""/>
            <p:cNvSpPr/>
            <p:nvPr/>
          </p:nvSpPr>
          <p:spPr>
            <a:xfrm>
              <a:off x="3872880" y="5168880"/>
              <a:ext cx="229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or each cluster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6952680" y="4038480"/>
            <a:ext cx="186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ahoma"/>
              </a:rPr>
              <a:t>Expec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897600" y="4952880"/>
            <a:ext cx="210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ahoma"/>
              </a:rPr>
              <a:t>Maxim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477120" y="4191120"/>
            <a:ext cx="457200" cy="228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477120" y="5105520"/>
            <a:ext cx="457200" cy="228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1-D EM with Gaussian Distribu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cluster 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represented by a Gaussian distribution N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nitialization: For each cluster 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nitialize its mean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, variance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and weight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371600" y="39625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809880" y="39625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39625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371600" y="510552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809880" y="510552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248520" y="510552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535760" y="5334120"/>
            <a:ext cx="120312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(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,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P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034520" y="5291280"/>
            <a:ext cx="120312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(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,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P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473160" y="5291280"/>
            <a:ext cx="120312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(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,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P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1523880" y="4038480"/>
            <a:ext cx="1095480" cy="100008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3962520" y="4191120"/>
            <a:ext cx="1371600" cy="86976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3"/>
          <a:stretch/>
        </p:blipFill>
        <p:spPr>
          <a:xfrm>
            <a:off x="6553080" y="3962520"/>
            <a:ext cx="943200" cy="107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Expec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each point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 each cluster 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compute P(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|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(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|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=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| 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P(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j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/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=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| 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P(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Where do we get P(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Arial"/>
              </a:rPr>
              <a:t>i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| C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Arial"/>
              </a:rPr>
              <a:t>j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)  and P(C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Arial"/>
              </a:rPr>
              <a:t>j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)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135520" y="4648320"/>
            <a:ext cx="23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rcRect l="11252" t="58005" r="65003" b="29000"/>
          <a:stretch/>
        </p:blipFill>
        <p:spPr>
          <a:xfrm>
            <a:off x="1752480" y="1905120"/>
            <a:ext cx="5486400" cy="187632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1509480" y="1055520"/>
            <a:ext cx="6266160" cy="49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the pdf for a normal distrib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P(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from the curr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meters of cluster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Maxim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ing computed P(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|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for each point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each cluster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use them to compute new mean, variance, and weight for each clu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5486400" y="1676520"/>
                <a:ext cx="2133720" cy="105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5638680" y="3200400"/>
                <a:ext cx="3200400" cy="96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⋅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5562720" y="4724280"/>
                <a:ext cx="2136600" cy="86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1" name=""/>
          <p:cNvSpPr/>
          <p:nvPr/>
        </p:nvSpPr>
        <p:spPr>
          <a:xfrm>
            <a:off x="5094000" y="3462480"/>
            <a:ext cx="3466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219320" y="2514600"/>
            <a:ext cx="1676160" cy="2149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, g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, b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, g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, b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, g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, b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505320" y="2514600"/>
            <a:ext cx="228600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uster Parame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, p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 for C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, p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 for C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, p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 for C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Multi-Dimensional Expectation Step</a:t>
            </a: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for Color Image Segmen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194840" y="1981080"/>
            <a:ext cx="170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put (Know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466080" y="1981080"/>
            <a:ext cx="210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put (Estima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052760" y="1981080"/>
            <a:ext cx="94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971800" y="32004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019920" y="3276720"/>
            <a:ext cx="533160" cy="228600"/>
          </a:xfrm>
          <a:prstGeom prst="rightArrow">
            <a:avLst>
              <a:gd name="adj1" fmla="val 50000"/>
              <a:gd name="adj2" fmla="val 5830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705720" y="2514600"/>
            <a:ext cx="2133360" cy="190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ification Res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C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|x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C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|x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C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|x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898560" y="4827600"/>
                <a:ext cx="6756480" cy="128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Example 1: Reg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514600" y="2286000"/>
            <a:ext cx="406404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219320" y="2514600"/>
            <a:ext cx="1676160" cy="2149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, g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, b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, g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, b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, g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, b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2514600"/>
            <a:ext cx="228600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uster Parame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, p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 for C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, p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 for C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, p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 for C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Multi-dimensional Maximization Step</a:t>
            </a: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for Color Image Segmen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2590920" y="4876920"/>
                <a:ext cx="3811320" cy="109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⋅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6" name=""/>
          <p:cNvSpPr/>
          <p:nvPr/>
        </p:nvSpPr>
        <p:spPr>
          <a:xfrm>
            <a:off x="1194840" y="1981080"/>
            <a:ext cx="170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put (Know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466080" y="1981080"/>
            <a:ext cx="210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put (Estima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052760" y="1981080"/>
            <a:ext cx="94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971800" y="32004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67280" y="3276720"/>
            <a:ext cx="533520" cy="228600"/>
          </a:xfrm>
          <a:prstGeom prst="rightArrow">
            <a:avLst>
              <a:gd name="adj1" fmla="val 50000"/>
              <a:gd name="adj2" fmla="val 5834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581280" y="2514600"/>
            <a:ext cx="2133720" cy="190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ification Res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C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|x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C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|x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C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|x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380880" y="4952880"/>
                <a:ext cx="2097360" cy="106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6465960" y="4827600"/>
                <a:ext cx="2136600" cy="86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Full EM Algorithm</a:t>
            </a: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Multi-Dimension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Boot Ste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lusters: C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 …, C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teration Ste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Ste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ximization Ste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752480" y="2666880"/>
            <a:ext cx="51055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ach cluster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j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1371600" y="4419720"/>
                <a:ext cx="5072040" cy="96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3505320" y="5638680"/>
                <a:ext cx="299880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⋅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1523880" y="5638680"/>
                <a:ext cx="166716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6705720" y="5638680"/>
                <a:ext cx="168264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EM Dem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De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neurosci.aist.go.jp/~akaho/MixtureEM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www-2.cs.cmu.edu/~awm/tutorials/gmm13.pd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EM Applic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lobworld: Image segmentation using Expectation-Maximization and its application to image query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i’s Generative/Discriminative Learning of object classes in color im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Blobworld: Sample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5715000" y="2209680"/>
            <a:ext cx="1219320" cy="1828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07" name="" descr=""/>
          <p:cNvPicPr/>
          <p:nvPr/>
        </p:nvPicPr>
        <p:blipFill>
          <a:blip r:embed="rId2"/>
          <a:stretch/>
        </p:blipFill>
        <p:spPr>
          <a:xfrm>
            <a:off x="1219320" y="4267080"/>
            <a:ext cx="1218960" cy="1828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08" name="" descr=""/>
          <p:cNvPicPr/>
          <p:nvPr/>
        </p:nvPicPr>
        <p:blipFill>
          <a:blip r:embed="rId3"/>
          <a:stretch/>
        </p:blipFill>
        <p:spPr>
          <a:xfrm>
            <a:off x="4419720" y="4876920"/>
            <a:ext cx="1828800" cy="1218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09" name="" descr=""/>
          <p:cNvPicPr/>
          <p:nvPr/>
        </p:nvPicPr>
        <p:blipFill>
          <a:blip r:embed="rId4"/>
          <a:stretch/>
        </p:blipFill>
        <p:spPr>
          <a:xfrm>
            <a:off x="1219320" y="2209680"/>
            <a:ext cx="1828800" cy="1219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10" name="" descr=""/>
          <p:cNvPicPr/>
          <p:nvPr/>
        </p:nvPicPr>
        <p:blipFill>
          <a:blip r:embed="rId5"/>
          <a:stretch/>
        </p:blipFill>
        <p:spPr>
          <a:xfrm>
            <a:off x="7086600" y="2209680"/>
            <a:ext cx="1219320" cy="1828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11" name="" descr=""/>
          <p:cNvPicPr/>
          <p:nvPr/>
        </p:nvPicPr>
        <p:blipFill>
          <a:blip r:embed="rId6"/>
          <a:stretch/>
        </p:blipFill>
        <p:spPr>
          <a:xfrm>
            <a:off x="2666880" y="4267080"/>
            <a:ext cx="1219320" cy="1828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12" name="" descr=""/>
          <p:cNvPicPr/>
          <p:nvPr/>
        </p:nvPicPr>
        <p:blipFill>
          <a:blip r:embed="rId7"/>
          <a:stretch/>
        </p:blipFill>
        <p:spPr>
          <a:xfrm>
            <a:off x="6400800" y="4876920"/>
            <a:ext cx="1828800" cy="1218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13" name="" descr=""/>
          <p:cNvPicPr/>
          <p:nvPr/>
        </p:nvPicPr>
        <p:blipFill>
          <a:blip r:embed="rId8"/>
          <a:stretch/>
        </p:blipFill>
        <p:spPr>
          <a:xfrm>
            <a:off x="3276720" y="2209680"/>
            <a:ext cx="1828800" cy="1219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Jianbo Shi’s Graph-Partitio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055520" y="1828800"/>
            <a:ext cx="7050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image is represented by a graph whose n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pixels or small groups of pixe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goal is to partition the vertices into disjoint sets 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t the similarity within each set is high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ross different sets is lo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828800" y="510552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133720" y="4724280"/>
            <a:ext cx="15228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905120" y="556272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286000" y="556272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676520" y="4724280"/>
            <a:ext cx="15228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362320" y="5181480"/>
            <a:ext cx="15228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447920" y="50292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523880" y="5410080"/>
            <a:ext cx="15264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105520" y="441972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562720" y="43434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019920" y="4267080"/>
            <a:ext cx="15228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172200" y="45720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715000" y="5181480"/>
            <a:ext cx="15228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72200" y="50292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400800" y="419112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791320" y="48006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334120" y="487692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1523520" y="4800600"/>
            <a:ext cx="228600" cy="304920"/>
          </a:xfrm>
          <a:prstGeom prst="line">
            <a:avLst/>
          </a:prstGeom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523880" y="5105520"/>
            <a:ext cx="76320" cy="380880"/>
          </a:xfrm>
          <a:prstGeom prst="line">
            <a:avLst/>
          </a:prstGeom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00200" y="5486400"/>
            <a:ext cx="380880" cy="152280"/>
          </a:xfrm>
          <a:prstGeom prst="line">
            <a:avLst/>
          </a:prstGeom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981080" y="5638680"/>
            <a:ext cx="381240" cy="0"/>
          </a:xfrm>
          <a:prstGeom prst="line">
            <a:avLst/>
          </a:prstGeom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361960" y="5257800"/>
            <a:ext cx="75960" cy="380880"/>
          </a:xfrm>
          <a:prstGeom prst="line">
            <a:avLst/>
          </a:prstGeom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209680" y="4800600"/>
            <a:ext cx="228600" cy="457200"/>
          </a:xfrm>
          <a:prstGeom prst="line">
            <a:avLst/>
          </a:prstGeom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752480" y="4800600"/>
            <a:ext cx="457200" cy="0"/>
          </a:xfrm>
          <a:prstGeom prst="line">
            <a:avLst/>
          </a:prstGeom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752480" y="4800600"/>
            <a:ext cx="152640" cy="380880"/>
          </a:xfrm>
          <a:prstGeom prst="line">
            <a:avLst/>
          </a:prstGeom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523880" y="5105520"/>
            <a:ext cx="381240" cy="75960"/>
          </a:xfrm>
          <a:prstGeom prst="line">
            <a:avLst/>
          </a:prstGeom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1600200" y="5181120"/>
            <a:ext cx="304920" cy="304920"/>
          </a:xfrm>
          <a:prstGeom prst="line">
            <a:avLst/>
          </a:prstGeom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905120" y="5181480"/>
            <a:ext cx="75960" cy="457200"/>
          </a:xfrm>
          <a:prstGeom prst="line">
            <a:avLst/>
          </a:prstGeom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905120" y="5181480"/>
            <a:ext cx="533160" cy="76320"/>
          </a:xfrm>
          <a:prstGeom prst="line">
            <a:avLst/>
          </a:prstGeom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905120" y="5181480"/>
            <a:ext cx="457200" cy="457200"/>
          </a:xfrm>
          <a:prstGeom prst="line">
            <a:avLst/>
          </a:prstGeom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1905120" y="5257800"/>
            <a:ext cx="533160" cy="380880"/>
          </a:xfrm>
          <a:prstGeom prst="line">
            <a:avLst/>
          </a:prstGeom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4800600"/>
            <a:ext cx="304560" cy="380880"/>
          </a:xfrm>
          <a:prstGeom prst="line">
            <a:avLst/>
          </a:prstGeom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1981080" y="4800600"/>
            <a:ext cx="228600" cy="838080"/>
          </a:xfrm>
          <a:prstGeom prst="line">
            <a:avLst/>
          </a:prstGeom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1523880" y="4800240"/>
            <a:ext cx="685800" cy="304920"/>
          </a:xfrm>
          <a:prstGeom prst="line">
            <a:avLst/>
          </a:prstGeom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1600200" y="5257440"/>
            <a:ext cx="838080" cy="228600"/>
          </a:xfrm>
          <a:prstGeom prst="line">
            <a:avLst/>
          </a:prstGeom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81480" y="4495680"/>
            <a:ext cx="228600" cy="457200"/>
          </a:xfrm>
          <a:prstGeom prst="line">
            <a:avLst/>
          </a:prstGeom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5181480" y="4266720"/>
            <a:ext cx="1295640" cy="228600"/>
          </a:xfrm>
          <a:prstGeom prst="line">
            <a:avLst/>
          </a:prstGeom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6248160" y="4267080"/>
            <a:ext cx="228600" cy="381240"/>
          </a:xfrm>
          <a:prstGeom prst="line">
            <a:avLst/>
          </a:prstGeom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48520" y="4648320"/>
            <a:ext cx="0" cy="457200"/>
          </a:xfrm>
          <a:prstGeom prst="line">
            <a:avLst/>
          </a:prstGeom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410080" y="4952880"/>
            <a:ext cx="381240" cy="304920"/>
          </a:xfrm>
          <a:prstGeom prst="line">
            <a:avLst/>
          </a:prstGeom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5791320" y="4876920"/>
            <a:ext cx="75960" cy="380880"/>
          </a:xfrm>
          <a:prstGeom prst="line">
            <a:avLst/>
          </a:prstGeom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638680" y="4419720"/>
            <a:ext cx="228600" cy="457200"/>
          </a:xfrm>
          <a:prstGeom prst="line">
            <a:avLst/>
          </a:prstGeom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410080" y="4876560"/>
            <a:ext cx="457200" cy="75960"/>
          </a:xfrm>
          <a:prstGeom prst="line">
            <a:avLst/>
          </a:prstGeom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V="1">
            <a:off x="5867280" y="4343400"/>
            <a:ext cx="228600" cy="533520"/>
          </a:xfrm>
          <a:prstGeom prst="line">
            <a:avLst/>
          </a:prstGeom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5791320" y="4647960"/>
            <a:ext cx="457200" cy="228600"/>
          </a:xfrm>
          <a:prstGeom prst="line">
            <a:avLst/>
          </a:prstGeom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flipH="1">
            <a:off x="5715000" y="5105520"/>
            <a:ext cx="533520" cy="152280"/>
          </a:xfrm>
          <a:prstGeom prst="line">
            <a:avLst/>
          </a:prstGeom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 flipH="1">
            <a:off x="5409720" y="4343400"/>
            <a:ext cx="685800" cy="609480"/>
          </a:xfrm>
          <a:prstGeom prst="line">
            <a:avLst/>
          </a:prstGeom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410080" y="4952880"/>
            <a:ext cx="838440" cy="152640"/>
          </a:xfrm>
          <a:prstGeom prst="line">
            <a:avLst/>
          </a:prstGeom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flipV="1">
            <a:off x="2438280" y="4495320"/>
            <a:ext cx="2743200" cy="762120"/>
          </a:xfrm>
          <a:prstGeom prst="line">
            <a:avLst/>
          </a:prstGeom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flipV="1">
            <a:off x="2362320" y="4952520"/>
            <a:ext cx="3047760" cy="685800"/>
          </a:xfrm>
          <a:prstGeom prst="line">
            <a:avLst/>
          </a:prstGeom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Minimal Cu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514080" y="2022480"/>
            <a:ext cx="79815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G = (V,E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 a graph. Each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edge (u,v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s a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weight w(u,v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t represents the similarity between u and v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ph G can be broken into 2 disjoint graphs with node s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and B by removing edges that connect these s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lang="en-US" sz="2400" spc="-1" strike="noStrike">
                <a:solidFill>
                  <a:srgbClr val="0066ff"/>
                </a:solidFill>
                <a:latin typeface="Times New Roman"/>
              </a:rPr>
              <a:t>cut(A,B) = </a:t>
            </a:r>
            <a:r>
              <a:rPr b="0" lang="en-US" sz="2400" spc="-1" strike="noStrike">
                <a:solidFill>
                  <a:srgbClr val="0066ff"/>
                </a:solidFill>
                <a:latin typeface="Symbol"/>
                <a:ea typeface="Symbol"/>
              </a:rPr>
              <a:t></a:t>
            </a:r>
            <a:r>
              <a:rPr b="0" lang="en-US" sz="2400" spc="-1" strike="noStrike">
                <a:solidFill>
                  <a:srgbClr val="0066ff"/>
                </a:solidFill>
                <a:latin typeface="Times New Roman"/>
              </a:rPr>
              <a:t>     w(u,v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 way to segment G is to find the minimal c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211840" y="4572000"/>
            <a:ext cx="104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Times New Roman"/>
              </a:rPr>
              <a:t>u</a:t>
            </a:r>
            <a:r>
              <a:rPr b="0" lang="en-US" sz="1800" spc="-1" strike="noStrike">
                <a:solidFill>
                  <a:srgbClr val="0066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66ff"/>
                </a:solidFill>
                <a:latin typeface="Times New Roman"/>
              </a:rPr>
              <a:t>A, v</a:t>
            </a:r>
            <a:r>
              <a:rPr b="0" lang="en-US" sz="1800" spc="-1" strike="noStrike">
                <a:solidFill>
                  <a:srgbClr val="0066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66ff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ut(A,B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828800" y="510552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133720" y="4724280"/>
            <a:ext cx="15228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905120" y="556272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286000" y="556272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676520" y="4724280"/>
            <a:ext cx="15228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362320" y="5181480"/>
            <a:ext cx="15228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1447920" y="50292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1523880" y="5410080"/>
            <a:ext cx="15264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05520" y="441972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562720" y="43434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019920" y="4267080"/>
            <a:ext cx="15228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172200" y="45720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715000" y="5181480"/>
            <a:ext cx="15228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172200" y="50292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6400800" y="419112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5791320" y="48006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5334120" y="487692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1523520" y="4800600"/>
            <a:ext cx="228600" cy="304920"/>
          </a:xfrm>
          <a:prstGeom prst="line">
            <a:avLst/>
          </a:prstGeom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523880" y="5105520"/>
            <a:ext cx="76320" cy="380880"/>
          </a:xfrm>
          <a:prstGeom prst="line">
            <a:avLst/>
          </a:prstGeom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600200" y="5486400"/>
            <a:ext cx="380880" cy="152280"/>
          </a:xfrm>
          <a:prstGeom prst="line">
            <a:avLst/>
          </a:prstGeom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1981080" y="5638680"/>
            <a:ext cx="381240" cy="0"/>
          </a:xfrm>
          <a:prstGeom prst="line">
            <a:avLst/>
          </a:prstGeom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2361960" y="5257800"/>
            <a:ext cx="75960" cy="380880"/>
          </a:xfrm>
          <a:prstGeom prst="line">
            <a:avLst/>
          </a:prstGeom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209680" y="4800600"/>
            <a:ext cx="228600" cy="457200"/>
          </a:xfrm>
          <a:prstGeom prst="line">
            <a:avLst/>
          </a:prstGeom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752480" y="4800600"/>
            <a:ext cx="457200" cy="0"/>
          </a:xfrm>
          <a:prstGeom prst="line">
            <a:avLst/>
          </a:prstGeom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1752480" y="4800600"/>
            <a:ext cx="152640" cy="380880"/>
          </a:xfrm>
          <a:prstGeom prst="line">
            <a:avLst/>
          </a:prstGeom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1523880" y="5105520"/>
            <a:ext cx="381240" cy="75960"/>
          </a:xfrm>
          <a:prstGeom prst="line">
            <a:avLst/>
          </a:prstGeom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1600200" y="5181120"/>
            <a:ext cx="304920" cy="304920"/>
          </a:xfrm>
          <a:prstGeom prst="line">
            <a:avLst/>
          </a:prstGeom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1905120" y="5181480"/>
            <a:ext cx="75960" cy="457200"/>
          </a:xfrm>
          <a:prstGeom prst="line">
            <a:avLst/>
          </a:prstGeom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1905120" y="5181480"/>
            <a:ext cx="533160" cy="76320"/>
          </a:xfrm>
          <a:prstGeom prst="line">
            <a:avLst/>
          </a:prstGeom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905120" y="5181480"/>
            <a:ext cx="457200" cy="457200"/>
          </a:xfrm>
          <a:prstGeom prst="line">
            <a:avLst/>
          </a:prstGeom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1905120" y="5257800"/>
            <a:ext cx="533160" cy="380880"/>
          </a:xfrm>
          <a:prstGeom prst="line">
            <a:avLst/>
          </a:prstGeom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V="1">
            <a:off x="1905120" y="4800600"/>
            <a:ext cx="304560" cy="380880"/>
          </a:xfrm>
          <a:prstGeom prst="line">
            <a:avLst/>
          </a:prstGeom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 flipV="1">
            <a:off x="1981080" y="4800600"/>
            <a:ext cx="228600" cy="838080"/>
          </a:xfrm>
          <a:prstGeom prst="line">
            <a:avLst/>
          </a:prstGeom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 flipV="1">
            <a:off x="1523880" y="4800240"/>
            <a:ext cx="685800" cy="304920"/>
          </a:xfrm>
          <a:prstGeom prst="line">
            <a:avLst/>
          </a:prstGeom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 flipV="1">
            <a:off x="1600200" y="5257440"/>
            <a:ext cx="838080" cy="228600"/>
          </a:xfrm>
          <a:prstGeom prst="line">
            <a:avLst/>
          </a:prstGeom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181480" y="4495680"/>
            <a:ext cx="228600" cy="457200"/>
          </a:xfrm>
          <a:prstGeom prst="line">
            <a:avLst/>
          </a:prstGeom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 flipV="1">
            <a:off x="5181480" y="4266720"/>
            <a:ext cx="1295640" cy="228600"/>
          </a:xfrm>
          <a:prstGeom prst="line">
            <a:avLst/>
          </a:prstGeom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 flipH="1">
            <a:off x="6248160" y="4267080"/>
            <a:ext cx="228600" cy="381240"/>
          </a:xfrm>
          <a:prstGeom prst="line">
            <a:avLst/>
          </a:prstGeom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248520" y="4648320"/>
            <a:ext cx="0" cy="457200"/>
          </a:xfrm>
          <a:prstGeom prst="line">
            <a:avLst/>
          </a:prstGeom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5410080" y="4952880"/>
            <a:ext cx="381240" cy="304920"/>
          </a:xfrm>
          <a:prstGeom prst="line">
            <a:avLst/>
          </a:prstGeom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5791320" y="4876920"/>
            <a:ext cx="75960" cy="380880"/>
          </a:xfrm>
          <a:prstGeom prst="line">
            <a:avLst/>
          </a:prstGeom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638680" y="4419720"/>
            <a:ext cx="228600" cy="457200"/>
          </a:xfrm>
          <a:prstGeom prst="line">
            <a:avLst/>
          </a:prstGeom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 flipV="1">
            <a:off x="5410080" y="4876560"/>
            <a:ext cx="457200" cy="75960"/>
          </a:xfrm>
          <a:prstGeom prst="line">
            <a:avLst/>
          </a:prstGeom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 flipV="1">
            <a:off x="5867280" y="4343400"/>
            <a:ext cx="228600" cy="533520"/>
          </a:xfrm>
          <a:prstGeom prst="line">
            <a:avLst/>
          </a:prstGeom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 flipV="1">
            <a:off x="5791320" y="4647960"/>
            <a:ext cx="457200" cy="228600"/>
          </a:xfrm>
          <a:prstGeom prst="line">
            <a:avLst/>
          </a:prstGeom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 flipH="1">
            <a:off x="5715000" y="5105520"/>
            <a:ext cx="533520" cy="152280"/>
          </a:xfrm>
          <a:prstGeom prst="line">
            <a:avLst/>
          </a:prstGeom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 flipH="1">
            <a:off x="5409720" y="4343400"/>
            <a:ext cx="685800" cy="609480"/>
          </a:xfrm>
          <a:prstGeom prst="line">
            <a:avLst/>
          </a:prstGeom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5410080" y="4952880"/>
            <a:ext cx="838440" cy="152640"/>
          </a:xfrm>
          <a:prstGeom prst="line">
            <a:avLst/>
          </a:prstGeom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2438280" y="4495320"/>
            <a:ext cx="2743200" cy="762120"/>
          </a:xfrm>
          <a:prstGeom prst="line">
            <a:avLst/>
          </a:prstGeom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2362320" y="4952520"/>
            <a:ext cx="3047760" cy="685800"/>
          </a:xfrm>
          <a:prstGeom prst="line">
            <a:avLst/>
          </a:prstGeom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86720" y="438480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812040" y="525780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1510200" y="40035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5777280" y="36226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1969200" y="2244600"/>
            <a:ext cx="30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t(A,B)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w(u,v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3034440" y="2624040"/>
            <a:ext cx="104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, v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Normalized C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738360" y="1793880"/>
            <a:ext cx="6272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nimal cut favors cutting off small node group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Shi proposed 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rmalized c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431360" y="2936880"/>
            <a:ext cx="500868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t(A, B)         cut(A,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cut(A,B) =  -------------  +  ------------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o(A,V)       asso(B,V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1821960" y="4683240"/>
            <a:ext cx="277596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o(A,V)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(u,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, t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4948560" y="4800600"/>
            <a:ext cx="2887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How much is A connec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to the graph as a who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764760" y="3214800"/>
            <a:ext cx="1326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normaliz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c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Example Normalized C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1371600" y="2743200"/>
            <a:ext cx="228600" cy="22860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209680" y="2743200"/>
            <a:ext cx="228600" cy="22860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1371600" y="3429000"/>
            <a:ext cx="228600" cy="22860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209680" y="3429000"/>
            <a:ext cx="228600" cy="22860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1828800" y="4038480"/>
            <a:ext cx="228600" cy="22860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29200" y="2666880"/>
            <a:ext cx="228600" cy="22860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019920" y="2666880"/>
            <a:ext cx="228600" cy="22860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5029200" y="3505320"/>
            <a:ext cx="228600" cy="22860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6019920" y="3505320"/>
            <a:ext cx="228600" cy="22860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447920" y="2819520"/>
            <a:ext cx="914400" cy="0"/>
          </a:xfrm>
          <a:prstGeom prst="line">
            <a:avLst/>
          </a:prstGeom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1523880" y="2819520"/>
            <a:ext cx="0" cy="761760"/>
          </a:xfrm>
          <a:prstGeom prst="line">
            <a:avLst/>
          </a:prstGeom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286000" y="2895480"/>
            <a:ext cx="0" cy="685800"/>
          </a:xfrm>
          <a:prstGeom prst="line">
            <a:avLst/>
          </a:prstGeom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3880" y="3581280"/>
            <a:ext cx="762120" cy="0"/>
          </a:xfrm>
          <a:prstGeom prst="line">
            <a:avLst/>
          </a:prstGeom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23880" y="3505320"/>
            <a:ext cx="381240" cy="609480"/>
          </a:xfrm>
          <a:prstGeom prst="line">
            <a:avLst/>
          </a:prstGeom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 flipH="1">
            <a:off x="1980720" y="3505320"/>
            <a:ext cx="381240" cy="685800"/>
          </a:xfrm>
          <a:prstGeom prst="line">
            <a:avLst/>
          </a:prstGeom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1753560" y="24382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1144080" y="29718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2363400" y="29718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1356840" y="36720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194920" y="36720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1753560" y="32004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812880" y="2768760"/>
            <a:ext cx="1168200" cy="1473120"/>
          </a:xfrm>
          <a:custGeom>
            <a:avLst/>
            <a:gdLst/>
            <a:ahLst/>
            <a:rect l="l" t="t" r="r" b="b"/>
            <a:pathLst>
              <a:path w="736" h="928">
                <a:moveTo>
                  <a:pt x="448" y="32"/>
                </a:moveTo>
                <a:cubicBezTo>
                  <a:pt x="284" y="16"/>
                  <a:pt x="120" y="0"/>
                  <a:pt x="64" y="128"/>
                </a:cubicBezTo>
                <a:cubicBezTo>
                  <a:pt x="8" y="256"/>
                  <a:pt x="0" y="672"/>
                  <a:pt x="112" y="800"/>
                </a:cubicBezTo>
                <a:cubicBezTo>
                  <a:pt x="224" y="928"/>
                  <a:pt x="632" y="880"/>
                  <a:pt x="736" y="896"/>
                </a:cubicBezTo>
              </a:path>
            </a:pathLst>
          </a:custGeom>
          <a:noFill/>
          <a:ln w="936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1981080" y="2819520"/>
            <a:ext cx="1067040" cy="1371600"/>
          </a:xfrm>
          <a:custGeom>
            <a:avLst/>
            <a:gdLst/>
            <a:ahLst/>
            <a:rect l="l" t="t" r="r" b="b"/>
            <a:pathLst>
              <a:path w="672" h="864">
                <a:moveTo>
                  <a:pt x="240" y="0"/>
                </a:moveTo>
                <a:cubicBezTo>
                  <a:pt x="380" y="12"/>
                  <a:pt x="520" y="24"/>
                  <a:pt x="576" y="144"/>
                </a:cubicBezTo>
                <a:cubicBezTo>
                  <a:pt x="632" y="264"/>
                  <a:pt x="672" y="600"/>
                  <a:pt x="576" y="720"/>
                </a:cubicBezTo>
                <a:cubicBezTo>
                  <a:pt x="480" y="840"/>
                  <a:pt x="96" y="840"/>
                  <a:pt x="0" y="864"/>
                </a:cubicBezTo>
              </a:path>
            </a:pathLst>
          </a:custGeom>
          <a:noFill/>
          <a:ln w="936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534600" y="32767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2957040" y="32148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181480" y="2743200"/>
            <a:ext cx="0" cy="83808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095880" y="2819520"/>
            <a:ext cx="0" cy="83808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181480" y="2819520"/>
            <a:ext cx="9907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181480" y="3657600"/>
            <a:ext cx="9144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 flipH="1">
            <a:off x="5105160" y="2819520"/>
            <a:ext cx="990360" cy="83808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5105520" y="2743200"/>
            <a:ext cx="990360" cy="9144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94240" y="2327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5394240" y="2251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5487480" y="23623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878000" y="29718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6096960" y="29718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5487480" y="37339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335200" y="28195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319360" y="32148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362320" y="2819520"/>
            <a:ext cx="281916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2362320" y="2819520"/>
            <a:ext cx="2819160" cy="76176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3794040" y="240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3871440" y="23763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10960" y="32767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4498200" y="4419720"/>
            <a:ext cx="368136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            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cut(A,B) =  -------  +  -----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1           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672120" y="20224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005880" y="19461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Example 2: 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Lines and Circular Arc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2057400" y="2362320"/>
            <a:ext cx="5029200" cy="37717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6324480" y="609480"/>
            <a:ext cx="2239920" cy="167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Shi turned graph cuts into an</a:t>
            </a: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eigenvector/eigenvalue problem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t up a weighted graph G=(V,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V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the set of (N) pix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 set of weighted edges (weight 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j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s the similarity between nodes i and j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ngth N vector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the sum of the weights from node i to all other nod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 x N matrix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 is a diagonal matrix with d on its diag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 x N symmetric matrix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j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/>
          </p:nvPr>
        </p:nvSpPr>
        <p:spPr>
          <a:xfrm>
            <a:off x="380520" y="304560"/>
            <a:ext cx="845820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Let x be a characteristic vector of a set A of nod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1 if node i is in a set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-1 otherw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Let y be a continuous approximation to 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Solve the system of equ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 – W) y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 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the eigenvectors y and eigenvalue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Use the eigenvector</a:t>
            </a: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with second smallest eigenvalue to bipartition the grap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y =&gt; x =&gt; 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further subdivision is merited, repeat recursiv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3" name="" descr=""/>
          <p:cNvPicPr/>
          <p:nvPr/>
        </p:nvPicPr>
        <p:blipFill>
          <a:blip r:embed="rId1"/>
          <a:srcRect l="32002" t="54004" r="23999" b="38003"/>
          <a:stretch/>
        </p:blipFill>
        <p:spPr>
          <a:xfrm>
            <a:off x="762120" y="2209680"/>
            <a:ext cx="7848360" cy="106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How Shi used the proced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742680" y="1946160"/>
            <a:ext cx="4835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i defined the edge weights w(i,j) 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(i,j) = e                    *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809880" y="2514600"/>
            <a:ext cx="152640" cy="762120"/>
          </a:xfrm>
          <a:custGeom>
            <a:avLst/>
            <a:gdLst>
              <a:gd name="textAreaLeft" fmla="*/ 97560 w 152640"/>
              <a:gd name="textAreaRight" fmla="*/ 153000 w 15264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035240" y="2514600"/>
            <a:ext cx="4365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                        if ||X(i)-X(j)||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&lt; 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                       otherw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1906200" y="2590920"/>
            <a:ext cx="157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||F(i)-F(j)||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/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4192560" y="2438280"/>
            <a:ext cx="173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||X(i)-X(j)||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/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891000" y="3851280"/>
            <a:ext cx="6861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where X(i) is the spatial location of node 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F(i) is the feature vector for node 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which can be intensity, color, texture, motion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891000" y="5299200"/>
            <a:ext cx="6670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formula is set up so that w(i,j) is 0 for nodes th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too far apa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Examples of 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Shi Cluste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3" name="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7086600" cy="4775040"/>
          </a:xfrm>
          <a:prstGeom prst="rect">
            <a:avLst/>
          </a:prstGeom>
          <a:ln w="0">
            <a:noFill/>
          </a:ln>
        </p:spPr>
      </p:pic>
      <p:sp>
        <p:nvSpPr>
          <p:cNvPr id="394" name=""/>
          <p:cNvSpPr/>
          <p:nvPr/>
        </p:nvSpPr>
        <p:spPr>
          <a:xfrm>
            <a:off x="4116600" y="609480"/>
            <a:ext cx="410184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e Shi’s Web P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http://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www.cis.upenn.edu/~jshi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4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762120" y="32763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Problems with 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41911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cal mini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to know number of seg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to choose 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554760" y="412920"/>
            <a:ext cx="580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Problems with Graph Cu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535680" y="1219320"/>
            <a:ext cx="547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eed to know when to sto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Very </a:t>
            </a: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Sloooo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Mean-Shift Cluste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ple, like K-me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you don’t have to select 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istical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uaranteed to converge to a fixed number of clust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Finding Modes in a Histo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53341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Many Modes Are The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sy to see, hard to compu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1295280" y="1219320"/>
          <a:ext cx="6407280" cy="3911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1219320"/>
                    <a:ext cx="6407280" cy="391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05" name=""/>
          <p:cNvGrpSpPr/>
          <p:nvPr/>
        </p:nvGrpSpPr>
        <p:grpSpPr>
          <a:xfrm>
            <a:off x="2133720" y="1447920"/>
            <a:ext cx="4679640" cy="3390840"/>
            <a:chOff x="2133720" y="1447920"/>
            <a:chExt cx="4679640" cy="3390840"/>
          </a:xfrm>
        </p:grpSpPr>
        <p:sp>
          <p:nvSpPr>
            <p:cNvPr id="406" name=""/>
            <p:cNvSpPr/>
            <p:nvPr/>
          </p:nvSpPr>
          <p:spPr>
            <a:xfrm>
              <a:off x="2133720" y="1456560"/>
              <a:ext cx="2395800" cy="338220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558680" y="1447920"/>
              <a:ext cx="2254680" cy="3382200"/>
            </a:xfrm>
            <a:prstGeom prst="rect">
              <a:avLst/>
            </a:prstGeom>
            <a:noFill/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Mean Shift [</a:t>
            </a:r>
            <a:r>
              <a:rPr b="0" lang="en-US" sz="3700" spc="-1" strike="noStrike">
                <a:solidFill>
                  <a:srgbClr val="ff0000"/>
                </a:solidFill>
                <a:latin typeface="Arial"/>
              </a:rPr>
              <a:t>Comaniciu &amp; Meer]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228600" y="4114800"/>
            <a:ext cx="76960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426600" indent="-426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erative Mode Sear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0320" indent="-30456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e random seed, and window 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0320" indent="-30456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culate center of gravity (the “mean”) of W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0320" indent="-30456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late the search window to the m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0320" indent="-30456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Step 2 until converg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0" name=""/>
          <p:cNvGraphicFramePr/>
          <p:nvPr/>
        </p:nvGraphicFramePr>
        <p:xfrm>
          <a:off x="1289160" y="914400"/>
          <a:ext cx="6406920" cy="304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89160" y="914400"/>
                    <a:ext cx="6406920" cy="304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2" name=""/>
          <p:cNvSpPr/>
          <p:nvPr/>
        </p:nvSpPr>
        <p:spPr>
          <a:xfrm>
            <a:off x="3429000" y="1154160"/>
            <a:ext cx="1600200" cy="25797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3" name="" descr=""/>
          <p:cNvPicPr/>
          <p:nvPr/>
        </p:nvPicPr>
        <p:blipFill>
          <a:blip r:embed="rId3"/>
          <a:stretch/>
        </p:blipFill>
        <p:spPr>
          <a:xfrm>
            <a:off x="7391520" y="5181480"/>
            <a:ext cx="1242720" cy="5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Mean Shift Approach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0773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e a window around each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e where it shifts—this determines which segment it’s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ple points will shift to the same seg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127160" y="34704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" descr="">
            <a:hlinkClick r:id="rId1"/>
          </p:cNvPr>
          <p:cNvPicPr/>
          <p:nvPr/>
        </p:nvPicPr>
        <p:blipFill>
          <a:blip r:embed="rId2"/>
          <a:srcRect l="0" t="36252" r="0" b="0"/>
          <a:stretch/>
        </p:blipFill>
        <p:spPr>
          <a:xfrm>
            <a:off x="1676520" y="3124080"/>
            <a:ext cx="5943600" cy="30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Segmentation Algorithm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run the mean shift procedure for each data point x and store its convergence point z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k together all the z’s that are closer than .5 from each other to form clus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ign each point to its clu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iminate small reg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Main Methods of Region Seg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21120" y="2362320"/>
            <a:ext cx="3918960" cy="30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Times New Roman"/>
              </a:rPr>
              <a:t>1.  Region Gro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Times New Roman"/>
              </a:rPr>
              <a:t>2.  Split and Mer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9999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Times New Roman"/>
              </a:rPr>
              <a:t>3.  </a:t>
            </a:r>
            <a:r>
              <a:rPr b="0" lang="en-US" sz="4000" spc="-1" strike="noStrike">
                <a:solidFill>
                  <a:srgbClr val="009999"/>
                </a:solidFill>
                <a:latin typeface="Times New Roman"/>
              </a:rPr>
              <a:t>Clustering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828800" y="2286000"/>
            <a:ext cx="2666880" cy="16002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1828440" y="2209680"/>
            <a:ext cx="2590920" cy="16765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Mean-shift for image segmentation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ful to take into account spatial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ead of (R, G, B), run in (R, G, B, x, y)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 Comaniciu, P. Meer, Mean shift analysis and applications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7th International Conference on Computer Vis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Kerkyra, Greece, September 1999, 1197-1203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://www.caip.rutgers.edu/riul/research/papers/pdf/spatmsft.pd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2" name=""/>
          <p:cNvGraphicFramePr/>
          <p:nvPr/>
        </p:nvGraphicFramePr>
        <p:xfrm>
          <a:off x="762120" y="3657600"/>
          <a:ext cx="2514600" cy="1905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2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3657600"/>
                    <a:ext cx="2514600" cy="190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4" name=""/>
          <p:cNvGraphicFramePr/>
          <p:nvPr/>
        </p:nvGraphicFramePr>
        <p:xfrm>
          <a:off x="3352680" y="3649680"/>
          <a:ext cx="5181840" cy="1906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2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352680" y="3649680"/>
                    <a:ext cx="5181840" cy="190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6" name=""/>
          <p:cNvSpPr/>
          <p:nvPr/>
        </p:nvSpPr>
        <p:spPr>
          <a:xfrm>
            <a:off x="974520" y="5789520"/>
            <a:ext cx="717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Examples: 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http://www.caip.rutgers.edu/~comanici/segm_images.html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i and Malik, “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Normalized Cuts and Image Segment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” Proc. CVPR 199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son, Belongie, Greenspan and Malik, “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</a:rPr>
              <a:t>Blobworld: Image Segmentation Using Expectation-Maximization and its Application to Image Query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” IEEE PAMI, Vol 24, No. 8, Aug. 200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aniciu and Meer, “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Mean shift analysis and applicatio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” Proc.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CCV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99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uste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72920" y="2174760"/>
            <a:ext cx="6915600" cy="30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99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are K clusters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…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means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…,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east-squares err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defined 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 of all possible partitions into K cluster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ose the one that minimizes 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990360" y="5410080"/>
            <a:ext cx="5910840" cy="8254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Why don’t we just do thi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If we could, would we get meaningful objec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464120" y="3581280"/>
            <a:ext cx="308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D =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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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 || 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- m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||  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897200" y="3919680"/>
            <a:ext cx="1245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k=1 x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 C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Times New Roman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982880" y="33526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176720" y="346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K-Means Cluster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825120" y="2368440"/>
            <a:ext cx="7467120" cy="3961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m K-means clusters from a set of n-dimensional vec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. Set ic (iteration count) to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 Choose randomly a set of K means m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1), …, m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For each vector x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 compute D(x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Tahoma"/>
              </a:rPr>
              <a:t>i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, m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Tahoma"/>
              </a:rPr>
              <a:t>k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(ic)), k=1,…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and assign x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 to the cluster C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Tahoma"/>
              </a:rPr>
              <a:t>j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 with nearest mea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.  Increment ic by 1, update the means to get m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ic),…,m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ic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5. Repeat steps 3 and 4 until 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ic) = 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ic+1) for all 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K-Means Exampl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rcRect l="0" t="23635" r="6527" b="29433"/>
          <a:stretch/>
        </p:blipFill>
        <p:spPr>
          <a:xfrm>
            <a:off x="609480" y="2362320"/>
            <a:ext cx="8077320" cy="30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K-Means Exampl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rcRect l="-623" t="16896" r="23752" b="47658"/>
          <a:stretch/>
        </p:blipFill>
        <p:spPr>
          <a:xfrm>
            <a:off x="609480" y="2362320"/>
            <a:ext cx="8001000" cy="29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K-Means Exampl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rcRect l="1875" t="17188" r="25001" b="46875"/>
          <a:stretch/>
        </p:blipFill>
        <p:spPr>
          <a:xfrm>
            <a:off x="538200" y="1928880"/>
            <a:ext cx="8067600" cy="33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30T02:52:03Z</dcterms:created>
  <dc:creator>cse</dc:creator>
  <dc:description/>
  <dc:language>en-US</dc:language>
  <cp:lastModifiedBy>Linda Shapiro</cp:lastModifiedBy>
  <dcterms:modified xsi:type="dcterms:W3CDTF">2007-03-30T17:07:45Z</dcterms:modified>
  <cp:revision>17</cp:revision>
  <dc:subject/>
  <dc:title>Image Segmentation</dc:title>
</cp:coreProperties>
</file>