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7C1-D9C0-4942-B162-6BA5AC9F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963-9FA6-4C67-BF56-57AED574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D53-4DD0-4F27-AB5D-C191376E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D6F-FCAB-4DCF-AE93-0DC16CDF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B4E-EFCD-43B4-B6B1-2B596442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9D5-48B4-42EB-8CE8-CF3327C6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F44-118F-40F3-BB06-F8618958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224-6A77-4713-9D85-8E3F6CE3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F082-C371-4301-953B-9C81B2A6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10B-A98F-4582-9C59-63A8E77D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163D-22FF-4766-8BF3-E31F71CC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302-27F9-4242-B89F-2B4640A5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28CE-010C-4476-8326-D4976DC2E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cific Object Recognition: Matching in 2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2133720"/>
            <a:ext cx="2743200" cy="289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39625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34320" y="4343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3962520"/>
            <a:ext cx="1873080" cy="1092240"/>
          </a:xfrm>
          <a:custGeom>
            <a:avLst/>
            <a:gdLst/>
            <a:ahLst/>
            <a:rect l="l" t="t" r="r" b="b"/>
            <a:pathLst>
              <a:path w="1180" h="688">
                <a:moveTo>
                  <a:pt x="118" y="17"/>
                </a:moveTo>
                <a:cubicBezTo>
                  <a:pt x="148" y="106"/>
                  <a:pt x="126" y="199"/>
                  <a:pt x="111" y="288"/>
                </a:cubicBezTo>
                <a:cubicBezTo>
                  <a:pt x="126" y="688"/>
                  <a:pt x="0" y="674"/>
                  <a:pt x="201" y="656"/>
                </a:cubicBezTo>
                <a:cubicBezTo>
                  <a:pt x="517" y="664"/>
                  <a:pt x="829" y="665"/>
                  <a:pt x="1145" y="656"/>
                </a:cubicBezTo>
                <a:cubicBezTo>
                  <a:pt x="1152" y="654"/>
                  <a:pt x="1162" y="655"/>
                  <a:pt x="1166" y="649"/>
                </a:cubicBezTo>
                <a:cubicBezTo>
                  <a:pt x="1175" y="637"/>
                  <a:pt x="1180" y="607"/>
                  <a:pt x="1180" y="607"/>
                </a:cubicBezTo>
                <a:cubicBezTo>
                  <a:pt x="1178" y="595"/>
                  <a:pt x="1179" y="582"/>
                  <a:pt x="1173" y="572"/>
                </a:cubicBezTo>
                <a:cubicBezTo>
                  <a:pt x="1141" y="523"/>
                  <a:pt x="1140" y="543"/>
                  <a:pt x="1110" y="517"/>
                </a:cubicBezTo>
                <a:cubicBezTo>
                  <a:pt x="1089" y="499"/>
                  <a:pt x="1077" y="479"/>
                  <a:pt x="1055" y="461"/>
                </a:cubicBezTo>
                <a:cubicBezTo>
                  <a:pt x="1031" y="442"/>
                  <a:pt x="1028" y="423"/>
                  <a:pt x="999" y="413"/>
                </a:cubicBezTo>
                <a:cubicBezTo>
                  <a:pt x="985" y="399"/>
                  <a:pt x="976" y="386"/>
                  <a:pt x="958" y="378"/>
                </a:cubicBezTo>
                <a:cubicBezTo>
                  <a:pt x="945" y="372"/>
                  <a:pt x="928" y="372"/>
                  <a:pt x="916" y="364"/>
                </a:cubicBezTo>
                <a:cubicBezTo>
                  <a:pt x="869" y="332"/>
                  <a:pt x="891" y="341"/>
                  <a:pt x="854" y="330"/>
                </a:cubicBezTo>
                <a:cubicBezTo>
                  <a:pt x="835" y="317"/>
                  <a:pt x="812" y="304"/>
                  <a:pt x="791" y="295"/>
                </a:cubicBezTo>
                <a:cubicBezTo>
                  <a:pt x="778" y="289"/>
                  <a:pt x="762" y="289"/>
                  <a:pt x="750" y="281"/>
                </a:cubicBezTo>
                <a:cubicBezTo>
                  <a:pt x="704" y="250"/>
                  <a:pt x="657" y="209"/>
                  <a:pt x="604" y="191"/>
                </a:cubicBezTo>
                <a:cubicBezTo>
                  <a:pt x="566" y="178"/>
                  <a:pt x="521" y="181"/>
                  <a:pt x="486" y="163"/>
                </a:cubicBezTo>
                <a:cubicBezTo>
                  <a:pt x="460" y="150"/>
                  <a:pt x="467" y="147"/>
                  <a:pt x="444" y="128"/>
                </a:cubicBezTo>
                <a:cubicBezTo>
                  <a:pt x="428" y="115"/>
                  <a:pt x="401" y="102"/>
                  <a:pt x="382" y="94"/>
                </a:cubicBezTo>
                <a:cubicBezTo>
                  <a:pt x="368" y="88"/>
                  <a:pt x="354" y="85"/>
                  <a:pt x="340" y="80"/>
                </a:cubicBezTo>
                <a:cubicBezTo>
                  <a:pt x="322" y="74"/>
                  <a:pt x="285" y="66"/>
                  <a:pt x="285" y="66"/>
                </a:cubicBezTo>
                <a:cubicBezTo>
                  <a:pt x="259" y="49"/>
                  <a:pt x="243" y="35"/>
                  <a:pt x="215" y="24"/>
                </a:cubicBezTo>
                <a:cubicBezTo>
                  <a:pt x="202" y="19"/>
                  <a:pt x="188" y="15"/>
                  <a:pt x="174" y="10"/>
                </a:cubicBezTo>
                <a:cubicBezTo>
                  <a:pt x="167" y="8"/>
                  <a:pt x="153" y="3"/>
                  <a:pt x="153" y="3"/>
                </a:cubicBezTo>
                <a:cubicBezTo>
                  <a:pt x="108" y="11"/>
                  <a:pt x="101" y="0"/>
                  <a:pt x="118" y="17"/>
                </a:cubicBezTo>
                <a:close/>
              </a:path>
            </a:pathLst>
          </a:custGeom>
          <a:solidFill>
            <a:srgbClr val="6d6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29320" y="3943440"/>
            <a:ext cx="111240" cy="774720"/>
          </a:xfrm>
          <a:custGeom>
            <a:avLst/>
            <a:gdLst/>
            <a:ahLst/>
            <a:rect l="l" t="t" r="r" b="b"/>
            <a:pathLst>
              <a:path w="70" h="488">
                <a:moveTo>
                  <a:pt x="21" y="28"/>
                </a:moveTo>
                <a:cubicBezTo>
                  <a:pt x="16" y="42"/>
                  <a:pt x="12" y="56"/>
                  <a:pt x="7" y="70"/>
                </a:cubicBezTo>
                <a:cubicBezTo>
                  <a:pt x="5" y="77"/>
                  <a:pt x="0" y="91"/>
                  <a:pt x="0" y="91"/>
                </a:cubicBezTo>
                <a:cubicBezTo>
                  <a:pt x="4" y="204"/>
                  <a:pt x="7" y="285"/>
                  <a:pt x="28" y="389"/>
                </a:cubicBezTo>
                <a:cubicBezTo>
                  <a:pt x="30" y="419"/>
                  <a:pt x="28" y="450"/>
                  <a:pt x="35" y="479"/>
                </a:cubicBezTo>
                <a:cubicBezTo>
                  <a:pt x="37" y="488"/>
                  <a:pt x="42" y="461"/>
                  <a:pt x="42" y="452"/>
                </a:cubicBezTo>
                <a:cubicBezTo>
                  <a:pt x="49" y="303"/>
                  <a:pt x="43" y="208"/>
                  <a:pt x="70" y="77"/>
                </a:cubicBezTo>
                <a:cubicBezTo>
                  <a:pt x="66" y="60"/>
                  <a:pt x="49" y="0"/>
                  <a:pt x="21" y="28"/>
                </a:cubicBezTo>
                <a:close/>
              </a:path>
            </a:pathLst>
          </a:custGeom>
          <a:solidFill>
            <a:srgbClr val="6d6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22840" y="4246560"/>
            <a:ext cx="209520" cy="633240"/>
          </a:xfrm>
          <a:custGeom>
            <a:avLst/>
            <a:gdLst/>
            <a:ahLst/>
            <a:rect l="l" t="t" r="r" b="b"/>
            <a:pathLst>
              <a:path w="132" h="399">
                <a:moveTo>
                  <a:pt x="18" y="32"/>
                </a:moveTo>
                <a:cubicBezTo>
                  <a:pt x="12" y="214"/>
                  <a:pt x="0" y="245"/>
                  <a:pt x="18" y="399"/>
                </a:cubicBezTo>
                <a:cubicBezTo>
                  <a:pt x="50" y="391"/>
                  <a:pt x="62" y="385"/>
                  <a:pt x="81" y="358"/>
                </a:cubicBezTo>
                <a:cubicBezTo>
                  <a:pt x="61" y="328"/>
                  <a:pt x="73" y="308"/>
                  <a:pt x="81" y="274"/>
                </a:cubicBezTo>
                <a:cubicBezTo>
                  <a:pt x="93" y="225"/>
                  <a:pt x="107" y="179"/>
                  <a:pt x="115" y="129"/>
                </a:cubicBezTo>
                <a:cubicBezTo>
                  <a:pt x="106" y="2"/>
                  <a:pt x="132" y="0"/>
                  <a:pt x="18" y="32"/>
                </a:cubicBezTo>
                <a:close/>
              </a:path>
            </a:pathLst>
          </a:custGeom>
          <a:solidFill>
            <a:srgbClr val="6d6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2362320"/>
            <a:ext cx="228600" cy="228600"/>
          </a:xfrm>
          <a:prstGeom prst="ellipse">
            <a:avLst/>
          </a:prstGeom>
          <a:solidFill>
            <a:srgbClr val="dbd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1240" y="449568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12120" y="5257800"/>
            <a:ext cx="280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containing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29920" y="5272200"/>
            <a:ext cx="3422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s there an engine in the im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f so, where is it loc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3124080"/>
            <a:ext cx="1295280" cy="762120"/>
          </a:xfrm>
          <a:custGeom>
            <a:avLst/>
            <a:gdLst/>
            <a:ahLst/>
            <a:rect l="l" t="t" r="r" b="b"/>
            <a:pathLst>
              <a:path w="816" h="480">
                <a:moveTo>
                  <a:pt x="0" y="480"/>
                </a:moveTo>
                <a:lnTo>
                  <a:pt x="0" y="0"/>
                </a:lnTo>
                <a:lnTo>
                  <a:pt x="384" y="0"/>
                </a:lnTo>
                <a:lnTo>
                  <a:pt x="384" y="192"/>
                </a:lnTo>
                <a:lnTo>
                  <a:pt x="816" y="192"/>
                </a:lnTo>
                <a:lnTo>
                  <a:pt x="816" y="480"/>
                </a:lnTo>
                <a:lnTo>
                  <a:pt x="0" y="48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437600">
            <a:off x="6248520" y="3352320"/>
            <a:ext cx="1442880" cy="878040"/>
          </a:xfrm>
          <a:custGeom>
            <a:avLst/>
            <a:gdLst/>
            <a:ahLst/>
            <a:rect l="l" t="t" r="r" b="b"/>
            <a:pathLst>
              <a:path w="816" h="480">
                <a:moveTo>
                  <a:pt x="0" y="480"/>
                </a:moveTo>
                <a:lnTo>
                  <a:pt x="0" y="0"/>
                </a:lnTo>
                <a:lnTo>
                  <a:pt x="384" y="0"/>
                </a:lnTo>
                <a:lnTo>
                  <a:pt x="384" y="192"/>
                </a:lnTo>
                <a:lnTo>
                  <a:pt x="816" y="192"/>
                </a:lnTo>
                <a:lnTo>
                  <a:pt x="816" y="480"/>
                </a:lnTo>
                <a:lnTo>
                  <a:pt x="0" y="48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D Model and 3 Matching Images of a Boeing Airplane P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33126" t="23438" r="32500" b="42191"/>
          <a:stretch/>
        </p:blipFill>
        <p:spPr>
          <a:xfrm>
            <a:off x="1600200" y="1494000"/>
            <a:ext cx="617220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ing Affine Transformations between Sets of Matching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2514600"/>
            <a:ext cx="1219320" cy="12193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7251800">
            <a:off x="6477120" y="2437920"/>
            <a:ext cx="1066680" cy="7621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44760" y="3733920"/>
            <a:ext cx="12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73360" y="2057400"/>
            <a:ext cx="12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24200" y="3747960"/>
            <a:ext cx="12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11280" y="2971800"/>
            <a:ext cx="13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=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28800" y="3443400"/>
            <a:ext cx="13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=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33720" y="2147760"/>
            <a:ext cx="13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=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61880" y="4419720"/>
            <a:ext cx="74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3 matching pairs of points, the affin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computed through solving a simple matrix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8600" y="5334120"/>
            <a:ext cx="5828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=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1   1                      0     0    1         1   1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54864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54864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54864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15200" y="54864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5486400"/>
            <a:ext cx="75960" cy="914400"/>
          </a:xfrm>
          <a:custGeom>
            <a:avLst/>
            <a:gdLst>
              <a:gd name="textAreaLeft" fmla="*/ 22320 w 75960"/>
              <a:gd name="textAreaRight" fmla="*/ 7632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4864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ore Robust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51080" y="1870200"/>
            <a:ext cx="70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sing only 3 points is dangerous, because if even on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ff, the transformation can be far from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60080" y="3124080"/>
            <a:ext cx="67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, use man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n =10 or mor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irs of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points to determine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ast squares estim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x parameters of the affine trans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70280" y="4572000"/>
            <a:ext cx="5384520" cy="170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21320" y="5586480"/>
            <a:ext cx="60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=1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quations to Sol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19376" t="39846" r="16250" b="26564"/>
          <a:stretch/>
        </p:blipFill>
        <p:spPr>
          <a:xfrm>
            <a:off x="457200" y="2031840"/>
            <a:ext cx="845820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93360" y="2025720"/>
            <a:ext cx="700812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y 2D matching techniques use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Local-Feature Focus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Pose Clus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Geometric Has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-Feature-Focus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42800" y="1946160"/>
            <a:ext cx="7663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model has a set of features (interesting poi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focus features are the particularly detectable featu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sually representing several different areas of the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 Each focus feature has a set of nearby features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n be used, along with the focus feature, to 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trans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5105520"/>
            <a:ext cx="1676520" cy="12189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55627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029200" y="6324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6019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181480" y="5638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93720" y="537516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FF Algorith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8440" y="1447920"/>
            <a:ext cx="860076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set of detected image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focus features of the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(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nearby features for feature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focus feature 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image feature Gi of the same type as 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ind the maximal subgrap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m of S(Fm) that matches a subgraph Si of S(G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mpute transform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 that maps th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each feature of Sm to the corresponding one of 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ply T to the line seg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 If enough transformed segments fi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vidence in the im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turn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33520" y="3241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Match 1: Good Matc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33752" t="23438" r="34377" b="50784"/>
          <a:stretch/>
        </p:blipFill>
        <p:spPr>
          <a:xfrm>
            <a:off x="1600200" y="1219320"/>
            <a:ext cx="5867280" cy="37972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2514600" y="2286000"/>
            <a:ext cx="380880" cy="380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2666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2133720"/>
            <a:ext cx="174600" cy="155520"/>
          </a:xfrm>
          <a:custGeom>
            <a:avLst/>
            <a:gdLst/>
            <a:ahLst/>
            <a:rect l="l" t="t" r="r" b="b"/>
            <a:pathLst>
              <a:path w="110" h="98">
                <a:moveTo>
                  <a:pt x="0" y="8"/>
                </a:moveTo>
                <a:cubicBezTo>
                  <a:pt x="110" y="17"/>
                  <a:pt x="97" y="0"/>
                  <a:pt x="97" y="9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2590920"/>
            <a:ext cx="150840" cy="139680"/>
          </a:xfrm>
          <a:custGeom>
            <a:avLst/>
            <a:gdLst/>
            <a:ahLst/>
            <a:rect l="l" t="t" r="r" b="b"/>
            <a:pathLst>
              <a:path w="95" h="88">
                <a:moveTo>
                  <a:pt x="0" y="70"/>
                </a:moveTo>
                <a:cubicBezTo>
                  <a:pt x="95" y="61"/>
                  <a:pt x="76" y="88"/>
                  <a:pt x="76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2666880"/>
            <a:ext cx="156960" cy="111240"/>
          </a:xfrm>
          <a:custGeom>
            <a:avLst/>
            <a:gdLst/>
            <a:ahLst/>
            <a:rect l="l" t="t" r="r" b="b"/>
            <a:pathLst>
              <a:path w="99" h="70">
                <a:moveTo>
                  <a:pt x="23" y="70"/>
                </a:moveTo>
                <a:cubicBezTo>
                  <a:pt x="0" y="0"/>
                  <a:pt x="38" y="15"/>
                  <a:pt x="99" y="15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72640" y="510552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90120" y="595800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56800" y="595800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63360" y="594360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981080" y="5486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54864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7400" y="6172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6172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54280" y="5105520"/>
            <a:ext cx="450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9120" y="5881680"/>
            <a:ext cx="450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54280" y="5867280"/>
            <a:ext cx="450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20960" y="5867280"/>
            <a:ext cx="450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333760" y="5486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77120" y="54864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6095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17524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1320" y="1676520"/>
            <a:ext cx="174600" cy="155520"/>
          </a:xfrm>
          <a:custGeom>
            <a:avLst/>
            <a:gdLst/>
            <a:ahLst/>
            <a:rect l="l" t="t" r="r" b="b"/>
            <a:pathLst>
              <a:path w="110" h="98">
                <a:moveTo>
                  <a:pt x="0" y="8"/>
                </a:moveTo>
                <a:cubicBezTo>
                  <a:pt x="110" y="17"/>
                  <a:pt x="97" y="0"/>
                  <a:pt x="97" y="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4906200">
            <a:off x="5937840" y="1910520"/>
            <a:ext cx="150840" cy="139680"/>
          </a:xfrm>
          <a:custGeom>
            <a:avLst/>
            <a:gdLst/>
            <a:ahLst/>
            <a:rect l="l" t="t" r="r" b="b"/>
            <a:pathLst>
              <a:path w="95" h="88">
                <a:moveTo>
                  <a:pt x="0" y="70"/>
                </a:moveTo>
                <a:cubicBezTo>
                  <a:pt x="95" y="61"/>
                  <a:pt x="76" y="88"/>
                  <a:pt x="76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6190400">
            <a:off x="5400360" y="1685520"/>
            <a:ext cx="174600" cy="155520"/>
          </a:xfrm>
          <a:custGeom>
            <a:avLst/>
            <a:gdLst/>
            <a:ahLst/>
            <a:rect l="l" t="t" r="r" b="b"/>
            <a:pathLst>
              <a:path w="110" h="98">
                <a:moveTo>
                  <a:pt x="0" y="8"/>
                </a:moveTo>
                <a:cubicBezTo>
                  <a:pt x="110" y="17"/>
                  <a:pt x="97" y="0"/>
                  <a:pt x="97" y="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Match 2: Poor Matc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rcRect l="33752" t="23438" r="34377" b="50784"/>
          <a:stretch/>
        </p:blipFill>
        <p:spPr>
          <a:xfrm>
            <a:off x="1600200" y="1219320"/>
            <a:ext cx="5867280" cy="37972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48" name=""/>
          <p:cNvSpPr/>
          <p:nvPr/>
        </p:nvSpPr>
        <p:spPr>
          <a:xfrm>
            <a:off x="2514600" y="3124080"/>
            <a:ext cx="38088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8120" y="2666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72640" y="510552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90120" y="595800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56800" y="595800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63360" y="594360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981080" y="5486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95480" y="54864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6172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6172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54640" y="5105520"/>
            <a:ext cx="464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19480" y="5881680"/>
            <a:ext cx="464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54640" y="5867280"/>
            <a:ext cx="464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21320" y="5867280"/>
            <a:ext cx="464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33760" y="5486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54864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6095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15000" y="2819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4906200">
            <a:off x="2585160" y="2900880"/>
            <a:ext cx="150840" cy="139680"/>
          </a:xfrm>
          <a:custGeom>
            <a:avLst/>
            <a:gdLst/>
            <a:ahLst/>
            <a:rect l="l" t="t" r="r" b="b"/>
            <a:pathLst>
              <a:path w="95" h="88">
                <a:moveTo>
                  <a:pt x="0" y="70"/>
                </a:moveTo>
                <a:cubicBezTo>
                  <a:pt x="95" y="61"/>
                  <a:pt x="76" y="88"/>
                  <a:pt x="76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6190400">
            <a:off x="6086160" y="2828520"/>
            <a:ext cx="174600" cy="155520"/>
          </a:xfrm>
          <a:custGeom>
            <a:avLst/>
            <a:gdLst/>
            <a:ahLst/>
            <a:rect l="l" t="t" r="r" b="b"/>
            <a:pathLst>
              <a:path w="110" h="98">
                <a:moveTo>
                  <a:pt x="0" y="8"/>
                </a:moveTo>
                <a:cubicBezTo>
                  <a:pt x="110" y="17"/>
                  <a:pt x="97" y="0"/>
                  <a:pt x="97" y="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8120" y="3124080"/>
            <a:ext cx="38088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3124080"/>
            <a:ext cx="38124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15000" y="38862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3505320"/>
            <a:ext cx="1600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038480" y="2666520"/>
            <a:ext cx="0" cy="83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733920" y="266688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33920" y="26668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666880" y="3124080"/>
            <a:ext cx="10670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438280" y="274284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666880" y="274320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e Cluste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5720" y="1295280"/>
            <a:ext cx="8151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 transformation aligning model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image objec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objec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s location and orientation,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fined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dea of pose clustering is 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ute lots of possible 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nsform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ach based on 2 points from the mode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hypothesized corresponding points from the image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uster all the transform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ose space and 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rif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large clu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47960" y="5832360"/>
            <a:ext cx="63817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is is not a full affine transformation, just 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142640"/>
            <a:ext cx="777240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geometric feature-based model of the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features of the object to features in the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 hypothes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tching fea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n affine transformation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features of the model to map the model features to the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verification procedure to decide how well the model features line up with actual imag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e Cluste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1447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75800" y="3699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2448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32240" y="2286000"/>
            <a:ext cx="1430280" cy="1066680"/>
          </a:xfrm>
          <a:custGeom>
            <a:avLst/>
            <a:gdLst/>
            <a:ahLst/>
            <a:rect l="l" t="t" r="r" b="b"/>
            <a:pathLst>
              <a:path w="901" h="672">
                <a:moveTo>
                  <a:pt x="36" y="261"/>
                </a:moveTo>
                <a:cubicBezTo>
                  <a:pt x="32" y="327"/>
                  <a:pt x="26" y="463"/>
                  <a:pt x="18" y="536"/>
                </a:cubicBezTo>
                <a:cubicBezTo>
                  <a:pt x="16" y="554"/>
                  <a:pt x="11" y="571"/>
                  <a:pt x="9" y="589"/>
                </a:cubicBezTo>
                <a:cubicBezTo>
                  <a:pt x="5" y="616"/>
                  <a:pt x="0" y="669"/>
                  <a:pt x="0" y="669"/>
                </a:cubicBezTo>
                <a:lnTo>
                  <a:pt x="901" y="672"/>
                </a:lnTo>
                <a:lnTo>
                  <a:pt x="901" y="336"/>
                </a:lnTo>
                <a:lnTo>
                  <a:pt x="421" y="288"/>
                </a:lnTo>
                <a:lnTo>
                  <a:pt x="421" y="48"/>
                </a:lnTo>
                <a:lnTo>
                  <a:pt x="37" y="0"/>
                </a:lnTo>
                <a:lnTo>
                  <a:pt x="36" y="26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010400">
            <a:off x="6858000" y="2743200"/>
            <a:ext cx="820800" cy="685800"/>
          </a:xfrm>
          <a:custGeom>
            <a:avLst/>
            <a:gdLst/>
            <a:ahLst/>
            <a:rect l="l" t="t" r="r" b="b"/>
            <a:pathLst>
              <a:path w="901" h="672">
                <a:moveTo>
                  <a:pt x="36" y="261"/>
                </a:moveTo>
                <a:cubicBezTo>
                  <a:pt x="32" y="327"/>
                  <a:pt x="26" y="463"/>
                  <a:pt x="18" y="536"/>
                </a:cubicBezTo>
                <a:cubicBezTo>
                  <a:pt x="16" y="554"/>
                  <a:pt x="11" y="571"/>
                  <a:pt x="9" y="589"/>
                </a:cubicBezTo>
                <a:cubicBezTo>
                  <a:pt x="5" y="616"/>
                  <a:pt x="0" y="669"/>
                  <a:pt x="0" y="669"/>
                </a:cubicBezTo>
                <a:lnTo>
                  <a:pt x="901" y="672"/>
                </a:lnTo>
                <a:lnTo>
                  <a:pt x="901" y="336"/>
                </a:lnTo>
                <a:lnTo>
                  <a:pt x="421" y="288"/>
                </a:lnTo>
                <a:lnTo>
                  <a:pt x="421" y="48"/>
                </a:lnTo>
                <a:lnTo>
                  <a:pt x="37" y="0"/>
                </a:lnTo>
                <a:lnTo>
                  <a:pt x="36" y="261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91320" y="2057400"/>
            <a:ext cx="685800" cy="609480"/>
          </a:xfrm>
          <a:custGeom>
            <a:avLst/>
            <a:gdLst/>
            <a:ahLst/>
            <a:rect l="l" t="t" r="r" b="b"/>
            <a:pathLst>
              <a:path w="901" h="672">
                <a:moveTo>
                  <a:pt x="36" y="261"/>
                </a:moveTo>
                <a:cubicBezTo>
                  <a:pt x="32" y="327"/>
                  <a:pt x="26" y="463"/>
                  <a:pt x="18" y="536"/>
                </a:cubicBezTo>
                <a:cubicBezTo>
                  <a:pt x="16" y="554"/>
                  <a:pt x="11" y="571"/>
                  <a:pt x="9" y="589"/>
                </a:cubicBezTo>
                <a:cubicBezTo>
                  <a:pt x="5" y="616"/>
                  <a:pt x="0" y="669"/>
                  <a:pt x="0" y="669"/>
                </a:cubicBezTo>
                <a:lnTo>
                  <a:pt x="901" y="672"/>
                </a:lnTo>
                <a:lnTo>
                  <a:pt x="901" y="336"/>
                </a:lnTo>
                <a:lnTo>
                  <a:pt x="421" y="288"/>
                </a:lnTo>
                <a:lnTo>
                  <a:pt x="421" y="48"/>
                </a:lnTo>
                <a:lnTo>
                  <a:pt x="37" y="0"/>
                </a:lnTo>
                <a:lnTo>
                  <a:pt x="36" y="26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e Cluste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1447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75800" y="3699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2448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32240" y="2286000"/>
            <a:ext cx="1430280" cy="1066680"/>
          </a:xfrm>
          <a:custGeom>
            <a:avLst/>
            <a:gdLst/>
            <a:ahLst/>
            <a:rect l="l" t="t" r="r" b="b"/>
            <a:pathLst>
              <a:path w="901" h="672">
                <a:moveTo>
                  <a:pt x="36" y="261"/>
                </a:moveTo>
                <a:cubicBezTo>
                  <a:pt x="32" y="327"/>
                  <a:pt x="26" y="463"/>
                  <a:pt x="18" y="536"/>
                </a:cubicBezTo>
                <a:cubicBezTo>
                  <a:pt x="16" y="554"/>
                  <a:pt x="11" y="571"/>
                  <a:pt x="9" y="589"/>
                </a:cubicBezTo>
                <a:cubicBezTo>
                  <a:pt x="5" y="616"/>
                  <a:pt x="0" y="669"/>
                  <a:pt x="0" y="669"/>
                </a:cubicBezTo>
                <a:lnTo>
                  <a:pt x="901" y="672"/>
                </a:lnTo>
                <a:lnTo>
                  <a:pt x="901" y="336"/>
                </a:lnTo>
                <a:lnTo>
                  <a:pt x="421" y="288"/>
                </a:lnTo>
                <a:lnTo>
                  <a:pt x="421" y="48"/>
                </a:lnTo>
                <a:lnTo>
                  <a:pt x="37" y="0"/>
                </a:lnTo>
                <a:lnTo>
                  <a:pt x="36" y="26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010400">
            <a:off x="7010280" y="2057400"/>
            <a:ext cx="820800" cy="685800"/>
          </a:xfrm>
          <a:custGeom>
            <a:avLst/>
            <a:gdLst/>
            <a:ahLst/>
            <a:rect l="l" t="t" r="r" b="b"/>
            <a:pathLst>
              <a:path w="901" h="672">
                <a:moveTo>
                  <a:pt x="36" y="261"/>
                </a:moveTo>
                <a:cubicBezTo>
                  <a:pt x="32" y="327"/>
                  <a:pt x="26" y="463"/>
                  <a:pt x="18" y="536"/>
                </a:cubicBezTo>
                <a:cubicBezTo>
                  <a:pt x="16" y="554"/>
                  <a:pt x="11" y="571"/>
                  <a:pt x="9" y="589"/>
                </a:cubicBezTo>
                <a:cubicBezTo>
                  <a:pt x="5" y="616"/>
                  <a:pt x="0" y="669"/>
                  <a:pt x="0" y="669"/>
                </a:cubicBezTo>
                <a:lnTo>
                  <a:pt x="901" y="672"/>
                </a:lnTo>
                <a:lnTo>
                  <a:pt x="901" y="336"/>
                </a:lnTo>
                <a:lnTo>
                  <a:pt x="421" y="288"/>
                </a:lnTo>
                <a:lnTo>
                  <a:pt x="421" y="48"/>
                </a:lnTo>
                <a:lnTo>
                  <a:pt x="37" y="0"/>
                </a:lnTo>
                <a:lnTo>
                  <a:pt x="36" y="261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791320" y="2057400"/>
            <a:ext cx="685800" cy="609480"/>
          </a:xfrm>
          <a:custGeom>
            <a:avLst/>
            <a:gdLst/>
            <a:ahLst/>
            <a:rect l="l" t="t" r="r" b="b"/>
            <a:pathLst>
              <a:path w="901" h="672">
                <a:moveTo>
                  <a:pt x="36" y="261"/>
                </a:moveTo>
                <a:cubicBezTo>
                  <a:pt x="32" y="327"/>
                  <a:pt x="26" y="463"/>
                  <a:pt x="18" y="536"/>
                </a:cubicBezTo>
                <a:cubicBezTo>
                  <a:pt x="16" y="554"/>
                  <a:pt x="11" y="571"/>
                  <a:pt x="9" y="589"/>
                </a:cubicBezTo>
                <a:cubicBezTo>
                  <a:pt x="5" y="616"/>
                  <a:pt x="0" y="669"/>
                  <a:pt x="0" y="669"/>
                </a:cubicBezTo>
                <a:lnTo>
                  <a:pt x="901" y="672"/>
                </a:lnTo>
                <a:lnTo>
                  <a:pt x="901" y="336"/>
                </a:lnTo>
                <a:lnTo>
                  <a:pt x="421" y="288"/>
                </a:lnTo>
                <a:lnTo>
                  <a:pt x="421" y="48"/>
                </a:lnTo>
                <a:lnTo>
                  <a:pt x="37" y="0"/>
                </a:lnTo>
                <a:lnTo>
                  <a:pt x="36" y="26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19920" y="2590920"/>
            <a:ext cx="1371600" cy="457200"/>
          </a:xfrm>
          <a:prstGeom prst="rect">
            <a:avLst/>
          </a:prstGeom>
          <a:solidFill>
            <a:srgbClr val="f9f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2666880"/>
            <a:ext cx="1522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77120" y="2666880"/>
            <a:ext cx="1522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2666880"/>
            <a:ext cx="1522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934320" y="2666880"/>
            <a:ext cx="1522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e Clustering Applied to Detecting a Particular Air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rcRect l="27779" t="34261" r="25000" b="12040"/>
          <a:stretch/>
        </p:blipFill>
        <p:spPr>
          <a:xfrm>
            <a:off x="2209680" y="1981080"/>
            <a:ext cx="5181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etric Hash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72960" y="1717560"/>
            <a:ext cx="7052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was developed for the case where ther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ole database of mod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ry to find in an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r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rge amount of offline preprocessing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rge amount of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otentially fast on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o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ory Behind Geometric Hash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350000" y="1793880"/>
            <a:ext cx="62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odel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an ordered set of featur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981080" y="2590920"/>
            <a:ext cx="1067040" cy="685800"/>
          </a:xfrm>
          <a:custGeom>
            <a:avLst/>
            <a:gdLst>
              <a:gd name="textAreaLeft" fmla="*/ 133200 w 1067040"/>
              <a:gd name="textAreaRight" fmla="*/ 933840 w 106704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62120" y="2400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16040" y="243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28440" y="2224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09680" y="2705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668320" y="3200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00200" y="300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53920" y="3124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38080" y="2705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51080" y="3622680"/>
            <a:ext cx="656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ffine ba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y subse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={e00,e01,e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noncollinear points of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asis E, any point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 can be represent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ffine coordin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 =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e10 – e00) +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e01-e00) + e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7086600" y="525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86600" y="6248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538680" y="51465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215200" y="590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919920" y="62136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467480" y="54864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20480" y="5181480"/>
            <a:ext cx="12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 = (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092120" y="2681280"/>
            <a:ext cx="35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= &lt;P1,P2,P3,P4,P5,P6,P7,P8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89520" y="2057400"/>
            <a:ext cx="6403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x is represented in affine coordinate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 =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e10 – e00) +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e01- e00) + e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we apply affine transform T to point x, we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x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Te10 – Te00) +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Te01-Te00) + Te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th cases, x has the same coordinate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rcRect l="10415" t="22225" r="11806" b="20370"/>
          <a:stretch/>
        </p:blipFill>
        <p:spPr>
          <a:xfrm>
            <a:off x="304920" y="1905120"/>
            <a:ext cx="8534160" cy="472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34" name=""/>
          <p:cNvSpPr/>
          <p:nvPr/>
        </p:nvSpPr>
        <p:spPr>
          <a:xfrm>
            <a:off x="1658160" y="133668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igina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39440" y="126036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nsformed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981080" y="342864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81080" y="3429000"/>
            <a:ext cx="68580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666520" y="3048120"/>
            <a:ext cx="38124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048120"/>
            <a:ext cx="30492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29000" y="4114800"/>
            <a:ext cx="762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91120" y="4114800"/>
            <a:ext cx="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73392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781320" y="3733920"/>
            <a:ext cx="76212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81680" y="4495680"/>
            <a:ext cx="106704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781680" y="4876920"/>
            <a:ext cx="106704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525780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714640" y="59436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40384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05720" y="4419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fline Pre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00200" y="1981080"/>
            <a:ext cx="6314760" cy="41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model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 feature point set 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noncollinear triple E of FM 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ther 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of 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lculate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for x with respect to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ore (M,E) in hash table H at index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sh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81080" y="2590920"/>
            <a:ext cx="3581640" cy="2819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9880" y="2590920"/>
            <a:ext cx="1752840" cy="2819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81080" y="2590920"/>
            <a:ext cx="18288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09880" y="2590920"/>
            <a:ext cx="175284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895480" y="25909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25909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81080" y="47242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373040" y="39625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1316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63960" y="1981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91120" y="4343400"/>
            <a:ext cx="25146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848640" y="4079880"/>
            <a:ext cx="10951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, 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2, 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,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474960" y="2971800"/>
            <a:ext cx="188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model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s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09880" y="3962520"/>
            <a:ext cx="838440" cy="7617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Recogni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23440" y="1641600"/>
            <a:ext cx="6081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accumulator A to all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 feature points from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basis tripl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* one basis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other poin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v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* each image poi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alculate (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 for v with respect to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trieve list L from hash table at index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 each pair (M,E) of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[M,E] = A[M,E]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eaks in accumulator array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eak (M,E) i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and try 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rif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F = 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12193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010280" y="762120"/>
            <a:ext cx="1905120" cy="167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26280" y="838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3086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6280" y="2057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05600" y="22860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1      …         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6748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2468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38188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10280" y="1143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102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02240" y="1143000"/>
            <a:ext cx="25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924680" y="1523880"/>
            <a:ext cx="45720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153280" y="167652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44160" y="320040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M,E)-&gt;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onitor"/>
          <p:cNvSpPr/>
          <p:nvPr/>
        </p:nvSpPr>
        <p:spPr>
          <a:xfrm>
            <a:off x="5867280" y="2057400"/>
            <a:ext cx="180972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omputr1"/>
          <p:cNvSpPr/>
          <p:nvPr/>
        </p:nvSpPr>
        <p:spPr>
          <a:xfrm>
            <a:off x="1600200" y="2286000"/>
            <a:ext cx="180972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429000"/>
            <a:ext cx="198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286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327672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327672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22860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590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21337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37339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0120" y="327672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1447920"/>
            <a:ext cx="44197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2680" y="491796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aptop"/>
          <p:cNvSpPr/>
          <p:nvPr/>
        </p:nvSpPr>
        <p:spPr>
          <a:xfrm>
            <a:off x="4419720" y="3048120"/>
            <a:ext cx="1809720" cy="1361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hone3"/>
          <p:cNvSpPr/>
          <p:nvPr/>
        </p:nvSpPr>
        <p:spPr>
          <a:xfrm>
            <a:off x="7086600" y="4038480"/>
            <a:ext cx="457200" cy="457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hoto"/>
          <p:cNvSpPr/>
          <p:nvPr/>
        </p:nvSpPr>
        <p:spPr>
          <a:xfrm>
            <a:off x="6553080" y="4191120"/>
            <a:ext cx="381240" cy="3045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ound"/>
          <p:cNvSpPr/>
          <p:nvPr/>
        </p:nvSpPr>
        <p:spPr>
          <a:xfrm>
            <a:off x="4419720" y="1600200"/>
            <a:ext cx="609480" cy="676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ower"/>
          <p:cNvSpPr/>
          <p:nvPr/>
        </p:nvSpPr>
        <p:spPr>
          <a:xfrm>
            <a:off x="7772400" y="2819520"/>
            <a:ext cx="90504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477120" y="2209680"/>
            <a:ext cx="1143000" cy="457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2209680"/>
            <a:ext cx="0" cy="1143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2666880"/>
            <a:ext cx="0" cy="1143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477120" y="3429000"/>
            <a:ext cx="1218960" cy="457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705720" y="2437920"/>
            <a:ext cx="838080" cy="304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2438280"/>
            <a:ext cx="0" cy="83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705720" y="3276720"/>
            <a:ext cx="838080" cy="304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705720" y="2743200"/>
            <a:ext cx="0" cy="838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otics Example (MI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rcRect l="22227" t="33676" r="32327" b="20869"/>
          <a:stretch/>
        </p:blipFill>
        <p:spPr>
          <a:xfrm>
            <a:off x="1752480" y="160020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ar Biology Ex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 Aviv Univers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76080" y="2098800"/>
            <a:ext cx="671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ell does the transformed model lin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le segments work better, allow les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luc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re’s a higher cost in executio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74960" y="3124080"/>
            <a:ext cx="474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are positions of featur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are full line or curve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D Matching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71160" y="2098800"/>
            <a:ext cx="704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malize the recognition 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f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pping from model structures to image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we can look at different paradigms for solv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99360" y="4038480"/>
            <a:ext cx="339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nterpretation tree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crete 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lational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ntinuous 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30640" y="2022480"/>
            <a:ext cx="6723000" cy="33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nit) is a structure in the sce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as a region or segment or cor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ymbol assigned to identify the 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-ary re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t of N-tuples defined ove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parts or a set of lab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assig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mapping from parts to lab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20574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56360" y="1870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2819520"/>
            <a:ext cx="1295640" cy="129528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410080" y="2590920"/>
            <a:ext cx="29718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400800" y="2819520"/>
            <a:ext cx="685800" cy="6858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72200" y="3505320"/>
            <a:ext cx="11430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19920" y="4572000"/>
            <a:ext cx="144756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486760" y="28954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l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01160" y="38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l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01160" y="49528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l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15560" y="259092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l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le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6705360" y="27432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693432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933960" y="3352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08520" y="3214800"/>
            <a:ext cx="6624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05120" y="34290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65720" y="2604960"/>
            <a:ext cx="6624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y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91600" y="2666880"/>
            <a:ext cx="6624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y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3352680" y="28954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2819520"/>
            <a:ext cx="60984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672280" y="4419720"/>
            <a:ext cx="7308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m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2971800" y="3886200"/>
            <a:ext cx="763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48920" y="5070600"/>
            <a:ext cx="438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relationshi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best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odel labels to image feat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t Labeling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320" y="1905120"/>
            <a:ext cx="7832880" cy="4634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a set of units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a set of labels for those units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a relatio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ver set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a relatio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ver set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sistent labeling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f is a mapping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: P -&gt; L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satisf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(f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f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ich means that a consistent labeling preserves relationsh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tract Example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90840" y="240336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2438280"/>
            <a:ext cx="345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048040" y="354636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330960" y="152388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324040" y="240336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45000" y="236232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16560" y="380988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245000" y="380988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81080" y="2819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90512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28564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6629040" y="1905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5638320" y="251460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638680" y="274320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5638320" y="2819520"/>
            <a:ext cx="1752840" cy="99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714640" y="4038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7391520" y="28191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677600" y="449568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{1,2,3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257800" y="44956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= {a,b,c,d,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36760" y="1717560"/>
            <a:ext cx="234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relation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39520" y="838080"/>
            <a:ext cx="235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relation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30720" y="4876920"/>
            <a:ext cx="285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1,2),(2,1),(2,3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80400" y="4952880"/>
            <a:ext cx="3082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(a,c),(c,a),(c,b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,d),(e,c),(e,d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197720" y="6060960"/>
            <a:ext cx="54248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ne consistent labeling is {(1,a),(2,c),(3,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use Exampl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rcRect l="22500" t="30470" r="22500" b="25782"/>
          <a:stretch/>
        </p:blipFill>
        <p:spPr>
          <a:xfrm>
            <a:off x="1371600" y="1295280"/>
            <a:ext cx="6705720" cy="426744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204560" y="5603760"/>
            <a:ext cx="13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1)=S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2)=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3)=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744280" y="5638680"/>
            <a:ext cx="13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4)=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5)=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6)=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496400" y="5670720"/>
            <a:ext cx="138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7)=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8) = 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9)=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325560" y="5638680"/>
            <a:ext cx="145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10)=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11)=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643200" y="2860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78920" y="289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104800" y="335268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P and RL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nection re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38280" y="4191120"/>
            <a:ext cx="38124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48120" y="4800600"/>
            <a:ext cx="3808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Interpretation Tre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505160" y="2174760"/>
            <a:ext cx="63082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terpretation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tree that represents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ments of labels to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th from the root node to a leaf repre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(partial) assignment of labels to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path terminates as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 complete consistent lab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a failed partial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the object in the image differ from that in the mo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0160" y="3200400"/>
            <a:ext cx="2157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ew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77320" y="1295280"/>
            <a:ext cx="838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2666880"/>
            <a:ext cx="838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65600">
            <a:off x="6095520" y="3429000"/>
            <a:ext cx="8384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96080" y="4267080"/>
            <a:ext cx="5335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4895400">
            <a:off x="7657920" y="4914360"/>
            <a:ext cx="685800" cy="761760"/>
          </a:xfrm>
          <a:prstGeom prst="parallelogram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41560" y="213372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often 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Affine Trans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18080" y="461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pretation Tree Exampl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530360" y="152388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43200" y="1523880"/>
            <a:ext cx="345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835280" y="251460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98000" y="76212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330600" y="167652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235720" y="167652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07280" y="320040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311680" y="312408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905120" y="190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1828800" y="1752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209320" y="20574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7619760" y="12193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6629040" y="175248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198108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6552720" y="2133720"/>
            <a:ext cx="1752840" cy="99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6781680" y="3352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8458200" y="21333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3276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80360" y="392760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1,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65600" y="4613400"/>
            <a:ext cx="31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2,b)                        (2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84560" y="552780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3,b)        (3,d)           (3,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763640" y="5562720"/>
            <a:ext cx="1123920" cy="717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(1,2)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R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(a,b)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R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135880" y="5105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187440" y="61372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06760" y="606096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929920" y="598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276720" y="3352680"/>
            <a:ext cx="9144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438280" y="434340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429000" y="4343400"/>
            <a:ext cx="10666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3580920" y="5029200"/>
            <a:ext cx="114300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724280" y="50292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5029200"/>
            <a:ext cx="14479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9481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794760" y="27846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769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880" y="148896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343840" y="1523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Discrete Relax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24520" y="1946160"/>
            <a:ext cx="69318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 relaxation is 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r addition 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pretation tree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 is 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er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chnique with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complex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 us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stra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it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be implemented on parallel mach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screte Relaxation Work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274400" y="1565280"/>
            <a:ext cx="7085880" cy="48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Each unit is assigned a set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itial possible lab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. All relations are checked to see if some pairs of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mpossible for certain pairs of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onsistent labels are remo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label 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any labels have been filtere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another pass is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the relaxation part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If there is more than one labeling left, a tree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to find each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Discrete Relax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2895480"/>
            <a:ext cx="44748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87320" y="4648320"/>
            <a:ext cx="3985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905120" y="3352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608840" y="20574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15360" y="20988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651640" y="2819520"/>
            <a:ext cx="4550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699160" y="4537080"/>
            <a:ext cx="5317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18680" y="2819520"/>
            <a:ext cx="4550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709040" y="2819520"/>
            <a:ext cx="4550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709040" y="4572000"/>
            <a:ext cx="4550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9436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924680" y="3276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11080" y="2895480"/>
            <a:ext cx="1099440" cy="44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L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681280" y="4724280"/>
            <a:ext cx="704880" cy="44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034440" y="324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87720" y="5527800"/>
            <a:ext cx="6709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re is no label in P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’s label set that is conn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in P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’s label set.  L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is inconsistent and filtered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Relational Distance Match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597680" y="1523880"/>
            <a:ext cx="617256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lly consistent labeling is unreali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mage may have missing and extra featu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relationships may not always h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looking for a consistent label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look for 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est mapping from P to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ne that preserves the most relationsh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200320" y="507060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114720" y="507060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673360" y="594360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24040" y="507060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30960" y="502920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873400" y="586728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1460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51424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362320" y="5562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2895120" y="5562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562720" y="5562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6095520" y="54864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liminary Defini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52960" y="1600200"/>
            <a:ext cx="617292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:  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elational descri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quenc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  over a set of primitives 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404720" y="2936880"/>
            <a:ext cx="705384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be a relational description over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be a relational description over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f be a 1-1, onto mapping from A to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relation R, the compositio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give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 = {(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…,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 | (a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 is in R and f(a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=(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, i=1,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558800" y="2168640"/>
            <a:ext cx="697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 = {(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…,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 | (a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 is in R and f(a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=(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, i=1,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048040" y="331776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343320" y="331776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673360" y="441972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06920" y="335268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855200" y="327672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168680" y="434340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36232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361960" y="3657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70572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705360" y="3657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09680" y="37339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2971800" y="38098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629400" y="38098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7391160" y="37339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62640" y="3317760"/>
            <a:ext cx="7142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8769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0" y="4114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16400" y="5334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17480" y="536904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25720" y="4572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300680" y="6054840"/>
            <a:ext cx="71089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 is an isomorphic copy of R with nodes renamed by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onal Distance Defini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297800" y="990720"/>
            <a:ext cx="56826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 relational description over set 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 relational description over set B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 : A -&gt;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42720" y="2362320"/>
            <a:ext cx="68155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uctural error of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   (f) = | R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f - S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| + | S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f    - R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otal error of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respect to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f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  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lational d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D(DA,DB) is give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(DA,DB) =  min  E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271960" y="30099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81440" y="4938840"/>
            <a:ext cx="45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1800" y="426708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507120" y="4419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980160" y="6324480"/>
            <a:ext cx="26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 :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, f is 1-1 and 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564160" y="2971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971720" y="209880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114720" y="209880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987560" y="304812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14720" y="308916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628960" y="202248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781680" y="2057400"/>
            <a:ext cx="381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644800" y="312408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788160" y="312408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2362320" y="259092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36232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32767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943600" y="2286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943600" y="25146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5715000" y="24379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6934320" y="251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654560" y="4308480"/>
            <a:ext cx="487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at is the best mapp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at is the error of the best mapp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 f = {(1,a),(2,b),(3,c),(4,d)}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71720" y="209880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114720" y="209880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7560" y="304812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14720" y="308916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628960" y="202248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781680" y="2057400"/>
            <a:ext cx="381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644800" y="312408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788160" y="312408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2362320" y="259092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36232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2767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943600" y="2286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943600" y="25146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5715000" y="24379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6934320" y="251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8928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327672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22800" y="3921120"/>
            <a:ext cx="72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| R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 - S | = |{(a,b)(b,c)(c,d)(d,b)} - {(a,b)(b,c)(c,b)(d,b)} 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  |{(c,d)}|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600920" y="4911840"/>
            <a:ext cx="753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|S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f    - R | = |{(1,2)(2,3)(3,2)(4,2)} - {(1,2)(2,3)(3,4)(4,2)}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 |{(3,2)}| =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271960" y="48387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297080" y="2590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62880" y="2556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584000" y="598500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(f) = 1+1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56520" y="5908680"/>
            <a:ext cx="3353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re a better mapp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Representation and Transformations (revie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76560" y="2556000"/>
            <a:ext cx="5439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Coordinates for a 2D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[x, y]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geneous Coord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[sx, sy, s]    where s is a scale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20960" y="3200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95840" y="308916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3200400"/>
            <a:ext cx="152640" cy="685800"/>
          </a:xfrm>
          <a:custGeom>
            <a:avLst/>
            <a:gdLst>
              <a:gd name="textAreaLeft" fmla="*/ 44640 w 152640"/>
              <a:gd name="textAreaRight" fmla="*/ 153000 w 15264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3200400"/>
            <a:ext cx="152280" cy="685800"/>
          </a:xfrm>
          <a:custGeom>
            <a:avLst/>
            <a:gdLst>
              <a:gd name="textAreaLeft" fmla="*/ 0 w 152280"/>
              <a:gd name="textAreaRight" fmla="*/ 106920 w 15228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38280" y="49910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a Cluster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cks-Plates-Blobs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2827440" y="1600200"/>
            <a:ext cx="3489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439640" y="2362320"/>
            <a:ext cx="673812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weights on different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e error by dividing by total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d relational distance for attributed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alizing for NIL mapp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al distance requires finding the lowest cost mapping from object features to image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ypically done using a branch and bound tree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arch keeps track of the error after each object part is assigned an image fe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error becomes higher than the best mapping found so far, it backs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also use discrete relaxation or forward checking (see Russel AI book on Constraint Satisfaction) to prune the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 Continuous Relax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128600" y="1295280"/>
            <a:ext cx="7215480" cy="511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discrete relaxation, a label for a unit is either possible or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continuous relaxation, each (unit, label) pair has a probability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label for unit i has a prior prob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mpatibility coeffici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 = {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 gives the i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the label of unit i has on the label of unit 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lationship R is replaced by a set of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nit/label compat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,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is the compatibility of label  l for part i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  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part 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terative process updates the prob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each label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unit in terms of its previous probability and the compat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ts current labels and those of other units that influenc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Relaxation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rcRect l="38872" t="34183" r="20938" b="15819"/>
          <a:stretch/>
        </p:blipFill>
        <p:spPr>
          <a:xfrm>
            <a:off x="1676520" y="1676520"/>
            <a:ext cx="6629400" cy="436248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1676520" y="2209680"/>
            <a:ext cx="6629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itialize probability of label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for part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to the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a priori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prob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676520" y="4038480"/>
            <a:ext cx="6629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At step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, compute a multiplicative factor based on looking at e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ther part </a:t>
            </a: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, how much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onstrain one another, the possible lab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r part </a:t>
            </a: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, their current probabilities and their compatability with label </a:t>
            </a: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gnition by Appea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67080" y="2251080"/>
            <a:ext cx="7486560" cy="375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-based recognition is a competing paradigm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and alig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features are extra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s are represented by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basis fun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igenvec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ir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coeffic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tching is performed on this compressed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genvectors and Eigenvalu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1368360" y="990360"/>
            <a:ext cx="2819520" cy="2819520"/>
            <a:chOff x="1368360" y="990360"/>
            <a:chExt cx="2819520" cy="2819520"/>
          </a:xfrm>
        </p:grpSpPr>
        <p:sp>
          <p:nvSpPr>
            <p:cNvPr id="632" name=""/>
            <p:cNvSpPr/>
            <p:nvPr/>
          </p:nvSpPr>
          <p:spPr>
            <a:xfrm>
              <a:off x="1368360" y="3809880"/>
              <a:ext cx="281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1368360" y="990360"/>
              <a:ext cx="0" cy="28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225720" cy="21096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3971880" y="3900600"/>
            <a:ext cx="211320" cy="21096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3352680" y="182880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438280" y="2590920"/>
            <a:ext cx="76320" cy="7596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819520" y="2362320"/>
            <a:ext cx="75960" cy="7596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048120" y="2057400"/>
            <a:ext cx="7596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666880" y="220968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666880" y="243828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438280" y="243828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895480" y="220968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1905120"/>
            <a:ext cx="76320" cy="7596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200400" y="198108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81080" y="3048120"/>
            <a:ext cx="76320" cy="7596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19520" y="350532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657600" y="25146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971800" y="31240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743200" y="297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124080" y="35053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362320" y="335268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81080" y="1828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905120" y="243828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828800" y="15238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590920" y="327672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286000" y="15238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676520" y="251460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7652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209680" y="19810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200400" y="33526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31240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29000" y="28195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438280" y="17524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71800" y="15238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581280" y="33526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590920" y="137160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657600" y="30481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809880" y="26668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09880" y="23623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600200" y="22096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886200" y="19051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200400" y="14479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905120" y="213372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76720" y="251460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581280" y="22096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209680" y="297180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286000" y="274320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057400" y="2819520"/>
            <a:ext cx="76320" cy="7596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057400" y="2286000"/>
            <a:ext cx="76320" cy="763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1905120" y="2286000"/>
            <a:ext cx="129960" cy="119160"/>
          </a:xfrm>
          <a:prstGeom prst="rect">
            <a:avLst/>
          </a:prstGeom>
          <a:ln w="0">
            <a:noFill/>
          </a:ln>
        </p:spPr>
      </p:pic>
      <p:grpSp>
        <p:nvGrpSpPr>
          <p:cNvPr id="684" name=""/>
          <p:cNvGrpSpPr/>
          <p:nvPr/>
        </p:nvGrpSpPr>
        <p:grpSpPr>
          <a:xfrm>
            <a:off x="2362320" y="1973160"/>
            <a:ext cx="914400" cy="679680"/>
            <a:chOff x="2362320" y="1973160"/>
            <a:chExt cx="914400" cy="679680"/>
          </a:xfrm>
        </p:grpSpPr>
        <p:pic>
          <p:nvPicPr>
            <p:cNvPr id="685" name="" descr=""/>
            <p:cNvPicPr/>
            <p:nvPr/>
          </p:nvPicPr>
          <p:blipFill>
            <a:blip r:embed="rId4"/>
            <a:stretch/>
          </p:blipFill>
          <p:spPr>
            <a:xfrm>
              <a:off x="2514600" y="1973160"/>
              <a:ext cx="228600" cy="1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 flipV="1">
              <a:off x="2743200" y="2057400"/>
              <a:ext cx="3812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flipV="1">
              <a:off x="2362320" y="2057400"/>
              <a:ext cx="3808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" descr=""/>
            <p:cNvPicPr/>
            <p:nvPr/>
          </p:nvPicPr>
          <p:blipFill>
            <a:blip r:embed="rId5"/>
            <a:stretch/>
          </p:blipFill>
          <p:spPr>
            <a:xfrm>
              <a:off x="3048120" y="2209680"/>
              <a:ext cx="228600" cy="1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" descr=""/>
            <p:cNvPicPr/>
            <p:nvPr/>
          </p:nvPicPr>
          <p:blipFill>
            <a:blip r:embed="rId6"/>
            <a:stretch/>
          </p:blipFill>
          <p:spPr>
            <a:xfrm>
              <a:off x="2743200" y="2496960"/>
              <a:ext cx="155520" cy="15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0" name=""/>
          <p:cNvSpPr/>
          <p:nvPr/>
        </p:nvSpPr>
        <p:spPr>
          <a:xfrm>
            <a:off x="2133720" y="22860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16280" y="1050840"/>
            <a:ext cx="391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he sum squared distance of a poi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ll of the orange poi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617720" y="2406600"/>
            <a:ext cx="33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unit vect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inimizes SS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7"/>
          <a:stretch/>
        </p:blipFill>
        <p:spPr>
          <a:xfrm>
            <a:off x="76320" y="1660680"/>
            <a:ext cx="1224000" cy="54900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8"/>
          <a:stretch/>
        </p:blipFill>
        <p:spPr>
          <a:xfrm>
            <a:off x="4411800" y="1754280"/>
            <a:ext cx="4208400" cy="53028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9"/>
          <a:stretch/>
        </p:blipFill>
        <p:spPr>
          <a:xfrm>
            <a:off x="5391000" y="2797200"/>
            <a:ext cx="2516400" cy="25092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4650120" y="3092400"/>
            <a:ext cx="342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unit vect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ximizes SS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0"/>
          <a:stretch/>
        </p:blipFill>
        <p:spPr>
          <a:xfrm>
            <a:off x="5383080" y="3432240"/>
            <a:ext cx="2565360" cy="25092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/>
          <p:cNvPicPr/>
          <p:nvPr/>
        </p:nvPicPr>
        <p:blipFill>
          <a:blip r:embed="rId11"/>
          <a:stretch/>
        </p:blipFill>
        <p:spPr>
          <a:xfrm>
            <a:off x="2270160" y="4280040"/>
            <a:ext cx="4748040" cy="18158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1149120" y="6095880"/>
            <a:ext cx="5272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eigenvector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arge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igen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eigenvector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malle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igen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 componen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each data point is N-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procedure appl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igenvectors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fine a new coordinat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envector with largest eigenvalue captures the most variation among training vecto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envector with smallest eigenvalue has least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ompress the data by only using the top few eigen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2362320" y="2438280"/>
            <a:ext cx="47480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ce of 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mage is a point in a high-dimensional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N x M image is a point in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define vectors in thi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676520" y="2361960"/>
            <a:ext cx="281916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1676520" y="175212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676520" y="4800600"/>
            <a:ext cx="4190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1676520" y="2514600"/>
            <a:ext cx="761760" cy="228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676520" y="3657240"/>
            <a:ext cx="1904760" cy="1143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438280" y="2514600"/>
            <a:ext cx="1143000" cy="1143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057400" y="1862280"/>
            <a:ext cx="712800" cy="5760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3657600" y="3367080"/>
            <a:ext cx="712800" cy="57636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3"/>
          <a:stretch/>
        </p:blipFill>
        <p:spPr>
          <a:xfrm>
            <a:off x="3048120" y="2432160"/>
            <a:ext cx="71280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 flipV="1">
            <a:off x="533520" y="2361960"/>
            <a:ext cx="281916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rot="16909200">
            <a:off x="456840" y="1676160"/>
            <a:ext cx="3276720" cy="2514600"/>
          </a:xfrm>
          <a:prstGeom prst="parallelogram">
            <a:avLst>
              <a:gd name="adj" fmla="val 3909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ality reduc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80880" y="5866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of faces is a “subspace” of the set of im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33520" y="175212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33520" y="4800600"/>
            <a:ext cx="4190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533520" y="2514600"/>
            <a:ext cx="761760" cy="228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609480" y="3657240"/>
            <a:ext cx="1905120" cy="1143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371600" y="2514600"/>
            <a:ext cx="1143000" cy="1143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12800" cy="57600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2"/>
          <a:stretch/>
        </p:blipFill>
        <p:spPr>
          <a:xfrm>
            <a:off x="2514600" y="3276720"/>
            <a:ext cx="712800" cy="5760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3494160" y="2362320"/>
            <a:ext cx="5315040" cy="24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find the best subspace using P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se it is K dimen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like fitting a “hyper-plane” to the s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ed by vector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...,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f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, ...,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286000"/>
            <a:ext cx="449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           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0          x            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´            0  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          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24382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2438280"/>
            <a:ext cx="76320" cy="60984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24382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2438280"/>
            <a:ext cx="76320" cy="60984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4382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2438280"/>
            <a:ext cx="76320" cy="60984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2438280"/>
            <a:ext cx="75960" cy="60984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2438280"/>
            <a:ext cx="75960" cy="60984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8320" y="25146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6600" y="25146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36252" t="23438" r="36252" b="57034"/>
          <a:stretch/>
        </p:blipFill>
        <p:spPr>
          <a:xfrm>
            <a:off x="2895480" y="4038480"/>
            <a:ext cx="335304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V="1">
            <a:off x="3505320" y="5181480"/>
            <a:ext cx="22860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5181480"/>
            <a:ext cx="68580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5638680"/>
            <a:ext cx="9144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733920" y="4724280"/>
            <a:ext cx="228600" cy="457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4724280"/>
            <a:ext cx="1447560" cy="9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5638680"/>
            <a:ext cx="990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5640" y="4495680"/>
            <a:ext cx="166500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caling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 factor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bout (0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k and Pentland’s Eigenfaces: 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909000" y="1295280"/>
            <a:ext cx="7937640" cy="544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 set of training face im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F be their mean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incipal 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compute the eigen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igenvalues of the covariance 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(1/M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vector u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st significant M eigen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se as the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face is represented as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near combination of eigen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=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… + 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79440" y="281952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057400" y="3429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128400" y="2819520"/>
            <a:ext cx="191196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to 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gen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05520" y="3429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177960" y="3159000"/>
            <a:ext cx="272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904400" y="4724280"/>
            <a:ext cx="4559040" cy="1241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d the face class k that minim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||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7848720" y="281952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eigen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80880" y="2895480"/>
            <a:ext cx="9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rcRect l="25001" t="14844" r="23752" b="30470"/>
          <a:stretch/>
        </p:blipFill>
        <p:spPr>
          <a:xfrm>
            <a:off x="1523880" y="609480"/>
            <a:ext cx="6248520" cy="533412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27880" y="990720"/>
            <a:ext cx="11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9080" y="4537080"/>
            <a:ext cx="121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 to 3D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11200" y="2251080"/>
            <a:ext cx="8210520" cy="411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rase and Nayar (1994, 1995) extended this idea to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ining set ha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ltiple views of each 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back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ews includ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ltiple (discrete) rot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objec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urntable and als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ltiple (discrete) illumin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could be used first 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object and th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its (approximat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llu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ple Objec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umbia Object Recognition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"/>
          <a:srcRect l="34027" t="30555" r="21528" b="13891"/>
          <a:stretch/>
        </p:blipFill>
        <p:spPr>
          <a:xfrm>
            <a:off x="2209680" y="1676520"/>
            <a:ext cx="4876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ce of thi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29560" y="2209680"/>
            <a:ext cx="7796160" cy="411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tension to 3D objects was an important con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using brute force search, the authors observed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views of a single object, when transformed in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genvector space became points on a manifold in that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is, they developed fast algorithms to find the clos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anifold to an unknown input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gnition with pose finding took less than a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arance-Based Recogni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82920" y="1066680"/>
            <a:ext cx="7569000" cy="52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images must be representative of the in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objects to be recogn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object must be well-fra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sitions and sizes must be contro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mensionality reduction i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t is not powerful enough to handle general sc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thout prior segmentation into releva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* The newer systems that use “parts” from interest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are an answer to these restri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93640" y="56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D object recognition for specific objects (usually industrial) is done by alig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ffine transformations are usually powerful enough to handle objects that are mainly two-dimens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atching can be performed by many different “graph-matching” methodolo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Verification is a necessary part of the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ppearance-based recognition is another 2D recognition paradigm that came from the need for recognizing specific instances of a general object class, motivated by face recogn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s-based recognition combines appearance-based recognition with interest-region detection. It has been used to recognize multiple generic object cla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4240" y="2133720"/>
            <a:ext cx="73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              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x                x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y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´              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y               x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y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28600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2286000"/>
            <a:ext cx="75960" cy="60948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228600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2286000"/>
            <a:ext cx="76320" cy="60948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2286000"/>
            <a:ext cx="76320" cy="60948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2286000"/>
            <a:ext cx="75960" cy="60948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2286000"/>
            <a:ext cx="75960" cy="60948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9080" y="228600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95280" y="2327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236232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29376" t="28126" r="30002" b="45314"/>
          <a:stretch/>
        </p:blipFill>
        <p:spPr>
          <a:xfrm>
            <a:off x="2362320" y="3429000"/>
            <a:ext cx="4952880" cy="2590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V="1">
            <a:off x="2895480" y="5257440"/>
            <a:ext cx="1067040" cy="228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895480" y="4572000"/>
            <a:ext cx="228600" cy="9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59160" y="4722840"/>
            <a:ext cx="299520" cy="368280"/>
          </a:xfrm>
          <a:prstGeom prst="rect">
            <a:avLst/>
          </a:prstGeom>
          <a:solidFill>
            <a:srgbClr val="dbdf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334120" y="5181120"/>
            <a:ext cx="1066680" cy="304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5028840" y="4495680"/>
            <a:ext cx="304920" cy="990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55720" y="6095880"/>
            <a:ext cx="41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otate point                           rotate 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57200" y="1717560"/>
            <a:ext cx="6230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X 2 matrix doesn’t work for transl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where we need homogeneous coordin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8720" y="3048120"/>
            <a:ext cx="46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             1  0  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         x + 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´             0  1  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          y + 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 0   0  1         1     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32004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32004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32004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3200400"/>
            <a:ext cx="75960" cy="914400"/>
          </a:xfrm>
          <a:custGeom>
            <a:avLst/>
            <a:gdLst>
              <a:gd name="textAreaLeft" fmla="*/ 22320 w 75960"/>
              <a:gd name="textAreaRight" fmla="*/ 7632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32004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3200400"/>
            <a:ext cx="75960" cy="914400"/>
          </a:xfrm>
          <a:custGeom>
            <a:avLst/>
            <a:gdLst>
              <a:gd name="textAreaLeft" fmla="*/ 0 w 75960"/>
              <a:gd name="textAreaRight" fmla="*/ 5328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53080" y="32004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32004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39720" y="3429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90760" y="3394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828800" y="4952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943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5638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638680" y="4952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38680" y="59436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5181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18960" y="52992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14640" y="4842000"/>
            <a:ext cx="176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+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+ 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, Scaling and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44520" y="266688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1  0  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 0  0     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0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=       0  1  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s  0      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0         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  0  0   1         0  0  1        0          0        1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81952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2819520"/>
            <a:ext cx="75960" cy="914400"/>
          </a:xfrm>
          <a:custGeom>
            <a:avLst/>
            <a:gdLst>
              <a:gd name="textAreaLeft" fmla="*/ 0 w 75960"/>
              <a:gd name="textAreaRight" fmla="*/ 5328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281952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2819520"/>
            <a:ext cx="75960" cy="914400"/>
          </a:xfrm>
          <a:custGeom>
            <a:avLst/>
            <a:gdLst>
              <a:gd name="textAreaLeft" fmla="*/ 22320 w 75960"/>
              <a:gd name="textAreaRight" fmla="*/ 7632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81952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2819520"/>
            <a:ext cx="75960" cy="914400"/>
          </a:xfrm>
          <a:custGeom>
            <a:avLst/>
            <a:gdLst>
              <a:gd name="textAreaLeft" fmla="*/ 22320 w 75960"/>
              <a:gd name="textAreaRight" fmla="*/ 7632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81952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281952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67480" y="281952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1880" y="281952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29520" y="423216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                S                     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99000">
            <a:off x="4495680" y="335232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29360" y="537516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23:19:34Z</dcterms:created>
  <dc:creator>Linda Shapiro</dc:creator>
  <dc:description/>
  <dc:language>en-US</dc:language>
  <cp:lastModifiedBy>Linda Shapiro</cp:lastModifiedBy>
  <dcterms:modified xsi:type="dcterms:W3CDTF">2007-05-01T00:19:53Z</dcterms:modified>
  <cp:revision>35</cp:revision>
  <dc:subject/>
  <dc:title>Slide 1</dc:title>
</cp:coreProperties>
</file>