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401-E914-453E-BAF0-33323551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D9B-80E7-4D43-9177-7CD6661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911-9983-4F4A-BDE4-BDE18FDF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3E3-43DA-4AEC-B0C8-BA7A9D0A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2D4-40EF-47DC-8CC4-D1D842C5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B8B-ED6B-42F1-BB43-ED99D5A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A1C-223B-4D39-B2F5-8BB0E3F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4B0-B714-40AC-AE16-52BDF7B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43C-8FF9-4E3C-9806-659E96CD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B2D-F328-4DF4-80A4-15CC96D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4E4-840D-48BC-97BE-1C051C6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DA3-5017-4EAA-908D-23AE04A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02F-6A1A-4665-8E17-CB4DA1B6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ic Object Recognition: Matching in 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2133720"/>
            <a:ext cx="2743200" cy="289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962520"/>
            <a:ext cx="1873080" cy="1092240"/>
          </a:xfrm>
          <a:custGeom>
            <a:avLst/>
            <a:gdLst/>
            <a:ahLst/>
            <a:rect l="l" t="t" r="r" b="b"/>
            <a:pathLst>
              <a:path w="1180" h="688">
                <a:moveTo>
                  <a:pt x="118" y="17"/>
                </a:moveTo>
                <a:cubicBezTo>
                  <a:pt x="148" y="106"/>
                  <a:pt x="126" y="199"/>
                  <a:pt x="111" y="288"/>
                </a:cubicBezTo>
                <a:cubicBezTo>
                  <a:pt x="126" y="688"/>
                  <a:pt x="0" y="674"/>
                  <a:pt x="201" y="656"/>
                </a:cubicBezTo>
                <a:cubicBezTo>
                  <a:pt x="517" y="664"/>
                  <a:pt x="829" y="665"/>
                  <a:pt x="1145" y="656"/>
                </a:cubicBezTo>
                <a:cubicBezTo>
                  <a:pt x="1152" y="654"/>
                  <a:pt x="1162" y="655"/>
                  <a:pt x="1166" y="649"/>
                </a:cubicBezTo>
                <a:cubicBezTo>
                  <a:pt x="1175" y="637"/>
                  <a:pt x="1180" y="607"/>
                  <a:pt x="1180" y="607"/>
                </a:cubicBezTo>
                <a:cubicBezTo>
                  <a:pt x="1178" y="595"/>
                  <a:pt x="1179" y="582"/>
                  <a:pt x="1173" y="572"/>
                </a:cubicBezTo>
                <a:cubicBezTo>
                  <a:pt x="1141" y="523"/>
                  <a:pt x="1140" y="543"/>
                  <a:pt x="1110" y="517"/>
                </a:cubicBezTo>
                <a:cubicBezTo>
                  <a:pt x="1089" y="499"/>
                  <a:pt x="1077" y="479"/>
                  <a:pt x="1055" y="461"/>
                </a:cubicBezTo>
                <a:cubicBezTo>
                  <a:pt x="1031" y="442"/>
                  <a:pt x="1028" y="423"/>
                  <a:pt x="999" y="413"/>
                </a:cubicBezTo>
                <a:cubicBezTo>
                  <a:pt x="985" y="399"/>
                  <a:pt x="976" y="386"/>
                  <a:pt x="958" y="378"/>
                </a:cubicBezTo>
                <a:cubicBezTo>
                  <a:pt x="945" y="372"/>
                  <a:pt x="928" y="372"/>
                  <a:pt x="916" y="364"/>
                </a:cubicBezTo>
                <a:cubicBezTo>
                  <a:pt x="869" y="332"/>
                  <a:pt x="891" y="341"/>
                  <a:pt x="854" y="330"/>
                </a:cubicBezTo>
                <a:cubicBezTo>
                  <a:pt x="835" y="317"/>
                  <a:pt x="812" y="304"/>
                  <a:pt x="791" y="295"/>
                </a:cubicBezTo>
                <a:cubicBezTo>
                  <a:pt x="778" y="289"/>
                  <a:pt x="762" y="289"/>
                  <a:pt x="750" y="281"/>
                </a:cubicBezTo>
                <a:cubicBezTo>
                  <a:pt x="704" y="250"/>
                  <a:pt x="657" y="209"/>
                  <a:pt x="604" y="191"/>
                </a:cubicBezTo>
                <a:cubicBezTo>
                  <a:pt x="566" y="178"/>
                  <a:pt x="521" y="181"/>
                  <a:pt x="486" y="163"/>
                </a:cubicBezTo>
                <a:cubicBezTo>
                  <a:pt x="460" y="150"/>
                  <a:pt x="467" y="147"/>
                  <a:pt x="444" y="128"/>
                </a:cubicBezTo>
                <a:cubicBezTo>
                  <a:pt x="428" y="115"/>
                  <a:pt x="401" y="102"/>
                  <a:pt x="382" y="94"/>
                </a:cubicBezTo>
                <a:cubicBezTo>
                  <a:pt x="368" y="88"/>
                  <a:pt x="354" y="85"/>
                  <a:pt x="340" y="80"/>
                </a:cubicBezTo>
                <a:cubicBezTo>
                  <a:pt x="322" y="74"/>
                  <a:pt x="285" y="66"/>
                  <a:pt x="285" y="66"/>
                </a:cubicBezTo>
                <a:cubicBezTo>
                  <a:pt x="259" y="49"/>
                  <a:pt x="243" y="35"/>
                  <a:pt x="215" y="24"/>
                </a:cubicBezTo>
                <a:cubicBezTo>
                  <a:pt x="202" y="19"/>
                  <a:pt x="188" y="15"/>
                  <a:pt x="174" y="10"/>
                </a:cubicBezTo>
                <a:cubicBezTo>
                  <a:pt x="167" y="8"/>
                  <a:pt x="153" y="3"/>
                  <a:pt x="153" y="3"/>
                </a:cubicBezTo>
                <a:cubicBezTo>
                  <a:pt x="108" y="11"/>
                  <a:pt x="101" y="0"/>
                  <a:pt x="118" y="17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29320" y="3943440"/>
            <a:ext cx="111240" cy="774720"/>
          </a:xfrm>
          <a:custGeom>
            <a:avLst/>
            <a:gdLst/>
            <a:ahLst/>
            <a:rect l="l" t="t" r="r" b="b"/>
            <a:pathLst>
              <a:path w="70" h="488">
                <a:moveTo>
                  <a:pt x="21" y="28"/>
                </a:moveTo>
                <a:cubicBezTo>
                  <a:pt x="16" y="42"/>
                  <a:pt x="12" y="56"/>
                  <a:pt x="7" y="70"/>
                </a:cubicBezTo>
                <a:cubicBezTo>
                  <a:pt x="5" y="77"/>
                  <a:pt x="0" y="91"/>
                  <a:pt x="0" y="91"/>
                </a:cubicBezTo>
                <a:cubicBezTo>
                  <a:pt x="4" y="204"/>
                  <a:pt x="7" y="285"/>
                  <a:pt x="28" y="389"/>
                </a:cubicBezTo>
                <a:cubicBezTo>
                  <a:pt x="30" y="419"/>
                  <a:pt x="28" y="450"/>
                  <a:pt x="35" y="479"/>
                </a:cubicBezTo>
                <a:cubicBezTo>
                  <a:pt x="37" y="488"/>
                  <a:pt x="42" y="461"/>
                  <a:pt x="42" y="452"/>
                </a:cubicBezTo>
                <a:cubicBezTo>
                  <a:pt x="49" y="303"/>
                  <a:pt x="43" y="208"/>
                  <a:pt x="70" y="77"/>
                </a:cubicBezTo>
                <a:cubicBezTo>
                  <a:pt x="66" y="60"/>
                  <a:pt x="49" y="0"/>
                  <a:pt x="21" y="28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22840" y="4246560"/>
            <a:ext cx="209520" cy="633240"/>
          </a:xfrm>
          <a:custGeom>
            <a:avLst/>
            <a:gdLst/>
            <a:ahLst/>
            <a:rect l="l" t="t" r="r" b="b"/>
            <a:pathLst>
              <a:path w="132" h="399">
                <a:moveTo>
                  <a:pt x="18" y="32"/>
                </a:moveTo>
                <a:cubicBezTo>
                  <a:pt x="12" y="214"/>
                  <a:pt x="0" y="245"/>
                  <a:pt x="18" y="399"/>
                </a:cubicBezTo>
                <a:cubicBezTo>
                  <a:pt x="50" y="391"/>
                  <a:pt x="62" y="385"/>
                  <a:pt x="81" y="358"/>
                </a:cubicBezTo>
                <a:cubicBezTo>
                  <a:pt x="61" y="328"/>
                  <a:pt x="73" y="308"/>
                  <a:pt x="81" y="274"/>
                </a:cubicBezTo>
                <a:cubicBezTo>
                  <a:pt x="93" y="225"/>
                  <a:pt x="107" y="179"/>
                  <a:pt x="115" y="129"/>
                </a:cubicBezTo>
                <a:cubicBezTo>
                  <a:pt x="106" y="2"/>
                  <a:pt x="132" y="0"/>
                  <a:pt x="18" y="32"/>
                </a:cubicBezTo>
                <a:close/>
              </a:path>
            </a:pathLst>
          </a:custGeom>
          <a:solidFill>
            <a:srgbClr val="6d6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362320"/>
            <a:ext cx="228600" cy="228600"/>
          </a:xfrm>
          <a:prstGeom prst="ellipse">
            <a:avLst/>
          </a:prstGeom>
          <a:solidFill>
            <a:srgbClr val="dbd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1240" y="44956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2120" y="5257800"/>
            <a:ext cx="28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containing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9920" y="5272200"/>
            <a:ext cx="3422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s there an engine in the im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so, where is it loc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124080"/>
            <a:ext cx="129528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816" y="192"/>
                </a:lnTo>
                <a:lnTo>
                  <a:pt x="816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437600">
            <a:off x="6248520" y="3352320"/>
            <a:ext cx="1442880" cy="87804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lnTo>
                  <a:pt x="0" y="0"/>
                </a:lnTo>
                <a:lnTo>
                  <a:pt x="384" y="0"/>
                </a:lnTo>
                <a:lnTo>
                  <a:pt x="384" y="192"/>
                </a:lnTo>
                <a:lnTo>
                  <a:pt x="816" y="192"/>
                </a:lnTo>
                <a:lnTo>
                  <a:pt x="816" y="48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D Model and 3 Matching Images of a Boeing Airplane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33126" t="23438" r="32500" b="42191"/>
          <a:stretch/>
        </p:blipFill>
        <p:spPr>
          <a:xfrm>
            <a:off x="1600200" y="1494000"/>
            <a:ext cx="6172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Affine Transformations between Sets of Match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514600"/>
            <a:ext cx="121932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7251800">
            <a:off x="6477120" y="2437920"/>
            <a:ext cx="1066680" cy="7621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44760" y="373392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73360" y="205740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24200" y="374796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11280" y="297180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28800" y="344340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3720" y="2147760"/>
            <a:ext cx="13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=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1880" y="4419720"/>
            <a:ext cx="74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3 matching pairs of points, the affin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mputed through solving a simple matrix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8600" y="5334120"/>
            <a:ext cx="5828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=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1   1                      0     0    1         1   1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5486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486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486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Robus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51080" y="187020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sing only 3 points is dangerous, because if even on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ff, the transformation can be far from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60080" y="3124080"/>
            <a:ext cx="67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, use m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n =10 or mor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irs of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oints to determine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ast squares es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x parameters of the affine trans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0280" y="4572000"/>
            <a:ext cx="5384520" cy="17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21320" y="5586480"/>
            <a:ext cx="6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quations to 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19376" t="39846" r="16250" b="26564"/>
          <a:stretch/>
        </p:blipFill>
        <p:spPr>
          <a:xfrm>
            <a:off x="457200" y="2031840"/>
            <a:ext cx="845820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93360" y="2025720"/>
            <a:ext cx="70081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2D matching techniques us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Local-Feature Focus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Pose Clus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Geometric Ha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-Feature-Focu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42800" y="1946160"/>
            <a:ext cx="7663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odel has a set of features (interesting poi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focus features are the particularly detectable feat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sually representing several different areas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 Each focus feature has a set of nearby feature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n be used, along with the focus feature,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trans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105520"/>
            <a:ext cx="1676520" cy="12189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5562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029200" y="6324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81480" y="563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3720" y="537516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FF Algorith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8440" y="1447920"/>
            <a:ext cx="86007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detected imag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focus features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(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nearby features for featur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focus feature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image feature Gi of the same type as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ind the maximal subgrap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m of S(Fm) that matches a subgraph Si of S(G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ute trans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 that maps th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ach feature of Sm to the corresponding one of 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ly T to the line se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If enough transformed segments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vidence in the im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turn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3520" y="3241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atch 1: Good Mat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514600" y="22860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1337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25909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666880"/>
            <a:ext cx="156960" cy="111240"/>
          </a:xfrm>
          <a:custGeom>
            <a:avLst/>
            <a:gdLst/>
            <a:ahLst/>
            <a:rect l="l" t="t" r="r" b="b"/>
            <a:pathLst>
              <a:path w="99" h="70">
                <a:moveTo>
                  <a:pt x="23" y="70"/>
                </a:moveTo>
                <a:cubicBezTo>
                  <a:pt x="0" y="0"/>
                  <a:pt x="38" y="15"/>
                  <a:pt x="99" y="1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54280" y="510552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9120" y="58816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4280" y="58672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20960" y="5867280"/>
            <a:ext cx="45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7524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1676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4906200">
            <a:off x="5937840" y="191052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190400">
            <a:off x="5400360" y="1685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atch 2: Poor Mat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33752" t="23438" r="34377" b="50784"/>
          <a:stretch/>
        </p:blipFill>
        <p:spPr>
          <a:xfrm>
            <a:off x="1600200" y="1219320"/>
            <a:ext cx="5867280" cy="3797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251460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2666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2640" y="510552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9012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56800" y="59580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3360" y="5943600"/>
            <a:ext cx="49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81080" y="5486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54864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54640" y="510552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19480" y="58816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54640" y="58672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21320" y="586728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3760" y="5486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5486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2819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4906200">
            <a:off x="2585160" y="2900880"/>
            <a:ext cx="150840" cy="139680"/>
          </a:xfrm>
          <a:custGeom>
            <a:avLst/>
            <a:gdLst/>
            <a:ahLst/>
            <a:rect l="l" t="t" r="r" b="b"/>
            <a:pathLst>
              <a:path w="95" h="88">
                <a:moveTo>
                  <a:pt x="0" y="70"/>
                </a:moveTo>
                <a:cubicBezTo>
                  <a:pt x="95" y="61"/>
                  <a:pt x="76" y="88"/>
                  <a:pt x="7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190400">
            <a:off x="6086160" y="2828520"/>
            <a:ext cx="174600" cy="155520"/>
          </a:xfrm>
          <a:custGeom>
            <a:avLst/>
            <a:gdLst/>
            <a:ahLst/>
            <a:rect l="l" t="t" r="r" b="b"/>
            <a:pathLst>
              <a:path w="110" h="98">
                <a:moveTo>
                  <a:pt x="0" y="8"/>
                </a:moveTo>
                <a:cubicBezTo>
                  <a:pt x="110" y="17"/>
                  <a:pt x="97" y="0"/>
                  <a:pt x="97" y="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31240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3124080"/>
            <a:ext cx="38124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3886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50532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038480" y="266652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33920" y="26668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26668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666880" y="312408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438280" y="274284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720" y="1295280"/>
            <a:ext cx="815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transformation aligning model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image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object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s location and orientation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fined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of pose clustering is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ute lots of possible 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ach based on 2 points from the mode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hypothesized corresponding points from the image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uster all the transform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ose space and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larg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5832360"/>
            <a:ext cx="6381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is not a full affine transformation, just 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geometric feature-based model of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features of the object to features in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 hypothes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tching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 affine transformation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features of the model to map the model features to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verification procedure to decide how well the model features line up with actual imag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1447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75800" y="369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32240" y="2286000"/>
            <a:ext cx="1430280" cy="10666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10400">
            <a:off x="6858000" y="2743200"/>
            <a:ext cx="820800" cy="68580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2057400"/>
            <a:ext cx="685800" cy="6094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1447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75800" y="369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2240" y="2286000"/>
            <a:ext cx="1430280" cy="10666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10400">
            <a:off x="7010280" y="2057400"/>
            <a:ext cx="820800" cy="68580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2057400"/>
            <a:ext cx="685800" cy="609480"/>
          </a:xfrm>
          <a:custGeom>
            <a:avLst/>
            <a:gdLst/>
            <a:ahLst/>
            <a:rect l="l" t="t" r="r" b="b"/>
            <a:pathLst>
              <a:path w="901" h="672">
                <a:moveTo>
                  <a:pt x="36" y="261"/>
                </a:moveTo>
                <a:cubicBezTo>
                  <a:pt x="32" y="327"/>
                  <a:pt x="26" y="463"/>
                  <a:pt x="18" y="536"/>
                </a:cubicBezTo>
                <a:cubicBezTo>
                  <a:pt x="16" y="554"/>
                  <a:pt x="11" y="571"/>
                  <a:pt x="9" y="589"/>
                </a:cubicBezTo>
                <a:cubicBezTo>
                  <a:pt x="5" y="616"/>
                  <a:pt x="0" y="669"/>
                  <a:pt x="0" y="669"/>
                </a:cubicBezTo>
                <a:lnTo>
                  <a:pt x="901" y="672"/>
                </a:lnTo>
                <a:lnTo>
                  <a:pt x="901" y="336"/>
                </a:lnTo>
                <a:lnTo>
                  <a:pt x="421" y="288"/>
                </a:lnTo>
                <a:lnTo>
                  <a:pt x="421" y="48"/>
                </a:lnTo>
                <a:lnTo>
                  <a:pt x="37" y="0"/>
                </a:lnTo>
                <a:lnTo>
                  <a:pt x="36" y="26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371600" cy="457200"/>
          </a:xfrm>
          <a:prstGeom prst="rect">
            <a:avLst/>
          </a:prstGeom>
          <a:solidFill>
            <a:srgbClr val="f9f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2666880"/>
            <a:ext cx="1522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 Clustering Applied to Detecting a Particular Air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27779" t="34261" r="25000" b="12040"/>
          <a:stretch/>
        </p:blipFill>
        <p:spPr>
          <a:xfrm>
            <a:off x="2209680" y="1981080"/>
            <a:ext cx="518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ic Has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2960" y="1717560"/>
            <a:ext cx="705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was developed for the case where ther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ole database of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ry to find in an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r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amount of offline preprocessing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amount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tentially fast on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ory Behind Geometric Has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50000" y="1793880"/>
            <a:ext cx="62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odel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an ordered set of featur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2590920"/>
            <a:ext cx="1067040" cy="68580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2120" y="2400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6040" y="243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28440" y="2224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096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832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0200" y="300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3920" y="31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8080" y="270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51080" y="3622680"/>
            <a:ext cx="656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b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 subse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={e00,e01,e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ncollinear point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asis E, any point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 can be represen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ffine coord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e00) + 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0866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624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38680" y="51465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15200" y="5908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19920" y="6213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486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0480" y="5181480"/>
            <a:ext cx="12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 =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92120" y="268128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= &lt;P1,P2,P3,P4,P5,P6,P7,P8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89520" y="2057400"/>
            <a:ext cx="6403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 is represented in affine coordinat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=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10 – 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01- e00) + 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apply affine transform T to point x,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x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10 – Te00) +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Te01-Te00) + Te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, x has the same coordinat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10415" t="22225" r="11806" b="20370"/>
          <a:stretch/>
        </p:blipFill>
        <p:spPr>
          <a:xfrm>
            <a:off x="304920" y="1905120"/>
            <a:ext cx="853416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1658160" y="13366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igin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39440" y="126036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formed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81080" y="34286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429000"/>
            <a:ext cx="6858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666520" y="3048120"/>
            <a:ext cx="38124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048120"/>
            <a:ext cx="3049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41148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411480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7339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81320" y="3733920"/>
            <a:ext cx="7621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81680" y="4495680"/>
            <a:ext cx="10670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781680" y="4876920"/>
            <a:ext cx="106704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640" y="59436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4038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4419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line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981080"/>
            <a:ext cx="631476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model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eature point set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ncollinear triple E of FM 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ther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of 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for x with respect t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re (M,E) in hash table H at index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2590920"/>
            <a:ext cx="358164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2590920"/>
            <a:ext cx="175284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2590920"/>
            <a:ext cx="1828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2590920"/>
            <a:ext cx="17528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590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47242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3040" y="3962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31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3960" y="1981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4343400"/>
            <a:ext cx="2514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8640" y="4079880"/>
            <a:ext cx="1095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, 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,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,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74960" y="2971800"/>
            <a:ext cx="18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model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3962520"/>
            <a:ext cx="838440" cy="7617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Recogni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23440" y="1641600"/>
            <a:ext cx="60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accumulator A to al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eature points from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asis trip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* one basi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other poin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* each image poi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alculate 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for v with respect to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trieve list L from hash table at index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 each pair (M,E) of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[M,E] = A[M,E]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eaks in accumulator arra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eak (M,E) 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d try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if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 = 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12193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762120"/>
            <a:ext cx="190512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26280" y="83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8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6280" y="2057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05600" y="2286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1      …        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74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46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1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1143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2240" y="11430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924680" y="1523880"/>
            <a:ext cx="45720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53280" y="167652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4160" y="32004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M,E)-&gt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onitor"/>
          <p:cNvSpPr/>
          <p:nvPr/>
        </p:nvSpPr>
        <p:spPr>
          <a:xfrm>
            <a:off x="5867280" y="20574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mputr1"/>
          <p:cNvSpPr/>
          <p:nvPr/>
        </p:nvSpPr>
        <p:spPr>
          <a:xfrm>
            <a:off x="1600200" y="22860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42900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286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2767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2860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2133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7339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447920"/>
            <a:ext cx="44197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2680" y="4917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aptop"/>
          <p:cNvSpPr/>
          <p:nvPr/>
        </p:nvSpPr>
        <p:spPr>
          <a:xfrm>
            <a:off x="4419720" y="30481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hone3"/>
          <p:cNvSpPr/>
          <p:nvPr/>
        </p:nvSpPr>
        <p:spPr>
          <a:xfrm>
            <a:off x="7086600" y="40384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hoto"/>
          <p:cNvSpPr/>
          <p:nvPr/>
        </p:nvSpPr>
        <p:spPr>
          <a:xfrm>
            <a:off x="6553080" y="4191120"/>
            <a:ext cx="381240" cy="3045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ound"/>
          <p:cNvSpPr/>
          <p:nvPr/>
        </p:nvSpPr>
        <p:spPr>
          <a:xfrm>
            <a:off x="4419720" y="1600200"/>
            <a:ext cx="609480" cy="676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ower"/>
          <p:cNvSpPr/>
          <p:nvPr/>
        </p:nvSpPr>
        <p:spPr>
          <a:xfrm>
            <a:off x="7772400" y="2819520"/>
            <a:ext cx="9050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477120" y="2209680"/>
            <a:ext cx="114300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209680"/>
            <a:ext cx="0" cy="1143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666880"/>
            <a:ext cx="0" cy="1143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477120" y="3429000"/>
            <a:ext cx="121896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705720" y="2437920"/>
            <a:ext cx="83808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4382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05720" y="3276720"/>
            <a:ext cx="83808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05720" y="274320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ics Example (M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22227" t="33676" r="32327" b="20869"/>
          <a:stretch/>
        </p:blipFill>
        <p:spPr>
          <a:xfrm>
            <a:off x="1752480" y="1600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Biology Ex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 Aviv Univer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76080" y="2098800"/>
            <a:ext cx="671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ll does the transformed model lin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segments work better, allow le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luc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’s a higher cost in executi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4960" y="3124080"/>
            <a:ext cx="47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are positions of featur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are full line or curv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atch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71160" y="2098800"/>
            <a:ext cx="70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malize the recognition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pping from model structures to imag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can look at different paradigms for solv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99360" y="403848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terpretation tre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crete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lational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tinuous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30640" y="2022480"/>
            <a:ext cx="6723000" cy="33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nit) is a structure in the sce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a region or segment or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 assigned to identify the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-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N-tuples defined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parts or a set of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apping from parts to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2057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56360" y="1870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2819520"/>
            <a:ext cx="1295640" cy="12952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2590920"/>
            <a:ext cx="29718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2819520"/>
            <a:ext cx="685800" cy="6858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5053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4572000"/>
            <a:ext cx="14475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86760" y="28954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01160" y="38862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1160" y="49528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5560" y="259092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705360" y="27432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934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93396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08520" y="321480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4290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65720" y="260496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y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91600" y="2666880"/>
            <a:ext cx="662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y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352680" y="28954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819520"/>
            <a:ext cx="6098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72280" y="4419720"/>
            <a:ext cx="730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971800" y="38862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48920" y="5070600"/>
            <a:ext cx="438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elation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est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odel labels to image fe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Labeling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320" y="1905120"/>
            <a:ext cx="7832880" cy="463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set of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set of labels for those unit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se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 re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set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istent labeling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is a mapping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: P -&gt; 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(f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f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ich means that a consistent labeling preserves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 Exampl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90840" y="24033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2438280"/>
            <a:ext cx="3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48040" y="35463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30960" y="1523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24040" y="240336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45000" y="23623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6560" y="3809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45000" y="38098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9051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28564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629040" y="1905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638320" y="25146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274320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638320" y="28195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464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915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7600" y="449568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{1,2,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4495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36760" y="1717560"/>
            <a:ext cx="23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relat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9520" y="838080"/>
            <a:ext cx="23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relatio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30720" y="4876920"/>
            <a:ext cx="285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(1,2),(2,1),(2,3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0400" y="4952880"/>
            <a:ext cx="3082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(a,c),(c,a),(c,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,d),(e,c),(e,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97720" y="6060960"/>
            <a:ext cx="54248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ne consistent labeling is {(1,a),(2,c),(3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 Exampl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22500" t="30470" r="22500" b="25782"/>
          <a:stretch/>
        </p:blipFill>
        <p:spPr>
          <a:xfrm>
            <a:off x="1371600" y="12952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204560" y="560376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)=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2)=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3)=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44280" y="5638680"/>
            <a:ext cx="13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4)=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5)=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6)=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6400" y="5670720"/>
            <a:ext cx="13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7)=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8) = 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9)=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25560" y="5638680"/>
            <a:ext cx="14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0)=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11)=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43200" y="2860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78920" y="289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04800" y="3352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P and RL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necti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38280" y="4191120"/>
            <a:ext cx="381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Interpretation Tre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05160" y="2174760"/>
            <a:ext cx="63082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erpretation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tree that represents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s of labels 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th from the root node to a leaf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(partial) assignment of labels 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ath terminates a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 complete consistent 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 failed partial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the object in the image differ from that in the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0160" y="3200400"/>
            <a:ext cx="215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12952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2666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5600">
            <a:off x="6095520" y="342900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42670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4895400">
            <a:off x="7657920" y="4914360"/>
            <a:ext cx="685800" cy="7617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156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ten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Affine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180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pretation Tree Examp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0360" y="15238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1523880"/>
            <a:ext cx="3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35280" y="2514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98000" y="762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30600" y="16765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35720" y="167652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07280" y="32004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168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8288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209320" y="2057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7619760" y="1219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629040" y="17524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19810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552720" y="2133720"/>
            <a:ext cx="175284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7816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458200" y="2133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80360" y="3927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5600" y="46134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2,b)                        (2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84560" y="552780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,b)        (3,d)           (3,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5562720"/>
            <a:ext cx="1123920" cy="717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1,2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(a,b)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3588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87440" y="6137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06760" y="6060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29920" y="598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76720" y="3352680"/>
            <a:ext cx="9144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438280" y="43434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434340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580920" y="5029200"/>
            <a:ext cx="1143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5029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50292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481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94760" y="2784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6920" y="461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880" y="1488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43840" y="1523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screte Relax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24520" y="1946160"/>
            <a:ext cx="693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relaxation is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addition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pretation tre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chnique with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u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it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implemented on parallel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screte Relaxation 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74400" y="1565280"/>
            <a:ext cx="708588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ach unit is assigned a se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itial possible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 All relations are checked to see if some pairs of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ssible for certain pairs of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nsistent labels are rem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label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any labels have been filter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nother pass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the relaxation part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If there is more than one labeling left, a tre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to find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Discrete 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895480"/>
            <a:ext cx="447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87320" y="4648320"/>
            <a:ext cx="3985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08840" y="2057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15360" y="20988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5164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9160" y="4537080"/>
            <a:ext cx="531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1868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09040" y="281952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09040" y="4572000"/>
            <a:ext cx="455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246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11080" y="2895480"/>
            <a:ext cx="109944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81280" y="4724280"/>
            <a:ext cx="70488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34440" y="324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7720" y="5527800"/>
            <a:ext cx="6709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no label in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’s label set that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in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’s label set.  L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is inconsistent and filtered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Relational Distance Matc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97680" y="1523880"/>
            <a:ext cx="617256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lly consistent labeling is unreal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mage may have missing and extra fe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relationships may not always 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looking for a consistent label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look for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est mapping from P to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e that preserves the most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0320" y="5070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14720" y="5070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73360" y="59436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24040" y="507060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30960" y="50292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73400" y="58672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2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5562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95120" y="5562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5562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95520" y="5486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52960" y="1600200"/>
            <a:ext cx="617292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: 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ional descri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 over a set of primitives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04720" y="2936880"/>
            <a:ext cx="70538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a relational description ove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be a relational description over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 be a 1-1, onto mapping from A t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relation R, the composi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| 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is in R and f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=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, i=1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58800" y="2168640"/>
            <a:ext cx="697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= {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| 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 is in R and f(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=(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, i=1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48040" y="33177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43320" y="33177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3360" y="44197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06920" y="33526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855200" y="32767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68680" y="434340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61960" y="3657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053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9680" y="3733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971800" y="3809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3809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39116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62640" y="3317760"/>
            <a:ext cx="714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6400" y="533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17480" y="53690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25720" y="4572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00680" y="6054840"/>
            <a:ext cx="7108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is an isomorphic copy of R with nodes renamed by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al Distance Defini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97800" y="990720"/>
            <a:ext cx="5682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al description over set 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relational description over set 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 : A -&gt;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42720" y="2362320"/>
            <a:ext cx="6815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tural error of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   (f) = | 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- S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| + | S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tal error of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spect to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f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  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lational 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D(DA,DB)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(DA,DB) =  min  E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71960" y="300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81440" y="493884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1800" y="42670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7120" y="4419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80160" y="6324480"/>
            <a:ext cx="26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: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, f is 1-1 and 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2971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54560" y="4308480"/>
            <a:ext cx="487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best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 is the error of the best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f = {(1,a),(2,b),(3,c),(4,d)}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71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14720" y="209880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7560" y="304812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14720" y="30891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28960" y="20224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2057400"/>
            <a:ext cx="381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44800" y="3124080"/>
            <a:ext cx="316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88160" y="312408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3623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62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2767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436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943600" y="2514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715000" y="2437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93432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892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767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0" y="3921120"/>
            <a:ext cx="72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 R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 - S | = |{(a,b)(b,c)(c,d)(d,b)} - {(a,b)(b,c)(c,b)(d,b)}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 |{(c,d)}|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0920" y="4911840"/>
            <a:ext cx="75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|S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    - R | = |{(1,2)(2,3)(3,2)(4,2)} - {(1,2)(2,3)(3,4)(4,2)}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|{(3,2)}|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71960" y="4838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9708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2880" y="255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84000" y="59850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(f) = 1+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56520" y="5908680"/>
            <a:ext cx="335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better map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Representation and Transformations (revie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76560" y="2556000"/>
            <a:ext cx="543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Coordinates for a 2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[x, y]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eous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[sx, sy, s]    where s is a scal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2096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95840" y="3089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200400"/>
            <a:ext cx="152640" cy="685800"/>
          </a:xfrm>
          <a:custGeom>
            <a:avLst/>
            <a:gdLst>
              <a:gd name="textAreaLeft" fmla="*/ 44640 w 152640"/>
              <a:gd name="textAreaRight" fmla="*/ 153000 w 15264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200400"/>
            <a:ext cx="152280" cy="685800"/>
          </a:xfrm>
          <a:custGeom>
            <a:avLst/>
            <a:gdLst>
              <a:gd name="textAreaLeft" fmla="*/ 0 w 152280"/>
              <a:gd name="textAreaRight" fmla="*/ 106920 w 15228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8280" y="4991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a Cluster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cks-Plates-Blobs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827440" y="1600200"/>
            <a:ext cx="348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439640" y="2362320"/>
            <a:ext cx="67381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weights on differ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ize error by dividing by total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d relational distance for attributed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izing for NIL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distance requires finding the lowest cost mapping from object features to image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ypically done using a branch and bound tre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keeps track of the error after each object part is assigned an image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error becomes higher than the best mapping found so far, it backs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use discrete relaxation or forward checking (see Russel AI book on Constraint Satisfaction) to prune the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Continuous Relax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28600" y="1295280"/>
            <a:ext cx="7215480" cy="511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iscrete relaxation, a label for a unit is either possible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 continuous relaxation, each (unit, label) pair has a probability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label for unit i has a prior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mpatibility coeffic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= {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gives the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the label of unit i has on the label of unit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tionship R is replaced by a se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it/label compat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,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is the compatibility of label  l for part i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 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part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terative process updates the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each labe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nit in terms of its previous probability and the compat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ts current labels and those of other units that influenc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Relaxation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rcRect l="38872" t="34183" r="20938" b="15819"/>
          <a:stretch/>
        </p:blipFill>
        <p:spPr>
          <a:xfrm>
            <a:off x="1676520" y="1676520"/>
            <a:ext cx="6629400" cy="43624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676520" y="2209680"/>
            <a:ext cx="6629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itialize probability of label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for part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to the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a prior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prob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4038480"/>
            <a:ext cx="6629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t step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compute a multiplicative factor based on looking at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ther part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how much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strain one another, the possible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r part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their current probabilities and their compatability with label </a:t>
            </a: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tion by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7080" y="2251080"/>
            <a:ext cx="74865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-based recognition is a competing paradig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and al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features are extra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are represented by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basis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igenve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ir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tching is performed on this compress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vectors and Eigenvalu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368360" y="990360"/>
            <a:ext cx="2819520" cy="2819520"/>
            <a:chOff x="1368360" y="990360"/>
            <a:chExt cx="2819520" cy="2819520"/>
          </a:xfrm>
        </p:grpSpPr>
        <p:sp>
          <p:nvSpPr>
            <p:cNvPr id="632" name=""/>
            <p:cNvSpPr/>
            <p:nvPr/>
          </p:nvSpPr>
          <p:spPr>
            <a:xfrm>
              <a:off x="1368360" y="380988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368360" y="990360"/>
              <a:ext cx="0" cy="28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5720" cy="210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971880" y="3900600"/>
            <a:ext cx="211320" cy="2109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352680" y="1828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25909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48120" y="2057400"/>
            <a:ext cx="7596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24382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95480" y="22096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1905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198108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35053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35268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1080" y="1828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243828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288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765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28195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71800" y="1523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1371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9880" y="26668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00200" y="2209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1905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14479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21337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25146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209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09680" y="29718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0" y="2743200"/>
            <a:ext cx="76320" cy="763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57400" y="2819520"/>
            <a:ext cx="76320" cy="7596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57400" y="2286000"/>
            <a:ext cx="76320" cy="76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1905120" y="2286000"/>
            <a:ext cx="129960" cy="11916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362320" y="1973160"/>
            <a:ext cx="914400" cy="679680"/>
            <a:chOff x="2362320" y="1973160"/>
            <a:chExt cx="914400" cy="679680"/>
          </a:xfrm>
        </p:grpSpPr>
        <p:pic>
          <p:nvPicPr>
            <p:cNvPr id="685" name="" descr=""/>
            <p:cNvPicPr/>
            <p:nvPr/>
          </p:nvPicPr>
          <p:blipFill>
            <a:blip r:embed="rId4"/>
            <a:stretch/>
          </p:blipFill>
          <p:spPr>
            <a:xfrm>
              <a:off x="2514600" y="197316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 flipV="1">
              <a:off x="2743200" y="2057400"/>
              <a:ext cx="3812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2362320" y="205740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5"/>
            <a:stretch/>
          </p:blipFill>
          <p:spPr>
            <a:xfrm>
              <a:off x="3048120" y="2209680"/>
              <a:ext cx="22860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"/>
            <a:stretch/>
          </p:blipFill>
          <p:spPr>
            <a:xfrm>
              <a:off x="2743200" y="2496960"/>
              <a:ext cx="155520" cy="1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"/>
          <p:cNvSpPr/>
          <p:nvPr/>
        </p:nvSpPr>
        <p:spPr>
          <a:xfrm>
            <a:off x="21337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16280" y="1050840"/>
            <a:ext cx="39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sum squared distance of a poi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ll of the orange po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17720" y="2406600"/>
            <a:ext cx="33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imizes SS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76320" y="1660680"/>
            <a:ext cx="1224000" cy="5490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8"/>
          <a:stretch/>
        </p:blipFill>
        <p:spPr>
          <a:xfrm>
            <a:off x="4411800" y="1754280"/>
            <a:ext cx="4208400" cy="530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9"/>
          <a:stretch/>
        </p:blipFill>
        <p:spPr>
          <a:xfrm>
            <a:off x="5391000" y="2797200"/>
            <a:ext cx="2516400" cy="2509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650120" y="309240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uni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ximizes SS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0"/>
          <a:stretch/>
        </p:blipFill>
        <p:spPr>
          <a:xfrm>
            <a:off x="5383080" y="3432240"/>
            <a:ext cx="2565360" cy="2509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11"/>
          <a:stretch/>
        </p:blipFill>
        <p:spPr>
          <a:xfrm>
            <a:off x="2270160" y="4280040"/>
            <a:ext cx="4748040" cy="1815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149120" y="6095880"/>
            <a:ext cx="5272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igenvector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igen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componen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each data point is N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rocedure app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igenvector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 a new coordina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vector with largest eigenvalue captures the most variation among training vect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vector with smallest eigenvalue has least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ompress the data by only using the top few eigen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7480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ce o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age is a point in a high-dimension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N x M image is a point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fine vectors in thi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676520" y="2361960"/>
            <a:ext cx="28191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676520" y="17521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676520" y="48006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676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676520" y="3657240"/>
            <a:ext cx="190476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251460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057400" y="186228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3657600" y="3367080"/>
            <a:ext cx="712800" cy="576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3048120" y="2432160"/>
            <a:ext cx="712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 flipV="1">
            <a:off x="533520" y="2361960"/>
            <a:ext cx="28191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16909200">
            <a:off x="456840" y="1676160"/>
            <a:ext cx="3276720" cy="2514600"/>
          </a:xfrm>
          <a:prstGeom prst="parallelogram">
            <a:avLst>
              <a:gd name="adj" fmla="val 390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880" y="5866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faces is a “subspace” of the set of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3520" y="17521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520" y="48006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33520" y="2514600"/>
            <a:ext cx="761760" cy="228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609480" y="3657240"/>
            <a:ext cx="1905120" cy="1143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251460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2800" cy="57600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712800" cy="576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494160" y="2362320"/>
            <a:ext cx="531504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find the best subspace using P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it is K 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like fitting a “hyper-plane” to the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ed by vecto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...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, ...,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286000"/>
            <a:ext cx="44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 x          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0  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4382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438280"/>
            <a:ext cx="76320" cy="60984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438280"/>
            <a:ext cx="75960" cy="60984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438280"/>
            <a:ext cx="75960" cy="60984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832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6600" y="2514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6252" t="23438" r="36252" b="57034"/>
          <a:stretch/>
        </p:blipFill>
        <p:spPr>
          <a:xfrm>
            <a:off x="2895480" y="4038480"/>
            <a:ext cx="335304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3505320" y="5181480"/>
            <a:ext cx="2286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5181480"/>
            <a:ext cx="68580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638680"/>
            <a:ext cx="9144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733920" y="4724280"/>
            <a:ext cx="228600" cy="457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724280"/>
            <a:ext cx="144756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638680"/>
            <a:ext cx="990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5640" y="4495680"/>
            <a:ext cx="16650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aling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facto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bout 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 and Pentland’s Eigenfaces: 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09000" y="1295280"/>
            <a:ext cx="7937640" cy="544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set of training face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 be their mean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ncipal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mpute the eigen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igenvalues of the covariance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(1/M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vector u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significant M eigen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as the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ace is represented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ear combination of eigen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=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… + 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79440" y="281952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128400" y="2819520"/>
            <a:ext cx="19119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to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0552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77960" y="3159000"/>
            <a:ext cx="27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4400" y="4724280"/>
            <a:ext cx="4559040" cy="1241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d the face class k that min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||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7848720" y="281952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ig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880" y="289548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25001" t="14844" r="23752" b="30470"/>
          <a:stretch/>
        </p:blipFill>
        <p:spPr>
          <a:xfrm>
            <a:off x="1523880" y="609480"/>
            <a:ext cx="6248520" cy="53341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27880" y="99072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9080" y="4537080"/>
            <a:ext cx="12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 to 3D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1200" y="2251080"/>
            <a:ext cx="8210520" cy="41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ase and Nayar (1994, 1995) extended this idea t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ining set ha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views of each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ews includ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(discrete) ro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bjec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rntable and als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e (discrete) illumin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could be used first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object and th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ts (approxima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llu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Objec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umbia Object Recognition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rcRect l="34027" t="30555" r="21528" b="13891"/>
          <a:stretch/>
        </p:blipFill>
        <p:spPr>
          <a:xfrm>
            <a:off x="2209680" y="167652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thi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9560" y="2209680"/>
            <a:ext cx="7796160" cy="41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tension to 3D objects was an important 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using brute force search, the authors observed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views of a single object, when transformed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vector space became points on a manifold in that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is, they developed fast algorithms to find the clos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anifold to an unknown input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gnition with pose finding took less than a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-Based Recogni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2920" y="1066680"/>
            <a:ext cx="7569000" cy="52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images must be representative of th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bjects to be recog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object must be well-fra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itions and sizes must be contro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mensionality reduction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 is not powerful enough to handle general s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out prior segmentation into releva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* The newer systems that use “parts” from interest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re an answer to these restr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3640" y="56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D object recognition for specific objects (usually industrial) is done by al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ffine transformations are usually powerful enough to handle objects that are mainly two-dimen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tching can be performed by many different “graph-matching” methodolo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erification is a necessary part of th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ppearance-based recognition is another 2D recognition paradigm that came from the need for recognizing specific instances of a general object class, motivated by face recog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s-based recognition combines appearance-based recognition with interest-region detection. It has been used to recognize multiple generic object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4240" y="2133720"/>
            <a:ext cx="73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x                x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y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  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y               x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y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28600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2860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39080" y="22860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280" y="2327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36232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9376" t="28126" r="30002" b="45314"/>
          <a:stretch/>
        </p:blipFill>
        <p:spPr>
          <a:xfrm>
            <a:off x="2362320" y="3429000"/>
            <a:ext cx="49528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2895480" y="5257440"/>
            <a:ext cx="10670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95480" y="4572000"/>
            <a:ext cx="22860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9160" y="4722840"/>
            <a:ext cx="299520" cy="368280"/>
          </a:xfrm>
          <a:prstGeom prst="rect">
            <a:avLst/>
          </a:prstGeom>
          <a:solidFill>
            <a:srgbClr val="dbdfd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34120" y="5181120"/>
            <a:ext cx="10666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28840" y="4495680"/>
            <a:ext cx="3049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55720" y="609588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otate point                           rotate 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7200" y="1717560"/>
            <a:ext cx="6230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X 2 matrix doesn’t work for transl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where we need homogeneous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720" y="304812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             1  0 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       x +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´             0  1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y +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0   0  1         1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2004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20040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2004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2004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972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0760" y="3394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2880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63868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5943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18960" y="52992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4640" y="4842000"/>
            <a:ext cx="176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+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, Scaling and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44520" y="26668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1  0 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0  0  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=       0  1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s  0      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0         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0  0   1         0  0  1        0          0        1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1952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8195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81952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8195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29520" y="42321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                S                    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99000">
            <a:off x="4495680" y="335232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9360" y="537516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3:19:34Z</dcterms:created>
  <dc:creator>Linda Shapiro</dc:creator>
  <dc:description/>
  <dc:language>en-US</dc:language>
  <cp:lastModifiedBy>Linda Shapiro</cp:lastModifiedBy>
  <dcterms:modified xsi:type="dcterms:W3CDTF">2007-05-01T00:19:53Z</dcterms:modified>
  <cp:revision>35</cp:revision>
  <dc:subject/>
  <dc:title>Slide 1</dc:title>
</cp:coreProperties>
</file>