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13.png" ContentType="image/png"/>
  <Override PartName="/ppt/media/image1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E688-25D8-4D9C-9F56-D0C735F3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5912-7812-4155-B813-432260F9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13C8-D595-433B-A349-0BBC2093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CD9-C415-4BB4-994A-0B4D25B5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5AE4-9750-4604-BE06-FBF532FE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5BEE-490A-46D9-80BA-BD1ABD30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9079-228A-49DA-B763-55F1FA29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578A-994B-4F65-BAB3-03977823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5855-AE50-4C0C-A38D-F975B6A7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86DB-E6DE-4F68-9266-9DDF2513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C76D-9F4D-42F4-A1C2-85A9E4C1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7852-0FBE-4712-868C-C8141CD8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40F3-DDD3-4B5B-BA99-920FA49D7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Moving Images with 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. Y. Wang and E. H. Adel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 Media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ayered Representation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mpos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5663" t="65413" r="3773" b="22011"/>
          <a:stretch/>
        </p:blipFill>
        <p:spPr>
          <a:xfrm>
            <a:off x="304920" y="1752480"/>
            <a:ext cx="8458200" cy="881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43960" y="3048120"/>
            <a:ext cx="8291160" cy="26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background lay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next layer (and there can be mo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alpha channel of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ith values between 0 and 1 (for graphic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elocity map tells us how to warp the frames over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nsity map and alpha map are warped together, so they stay regist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alysis: Flower Garden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27775" t="25255" r="22987" b="41921"/>
          <a:stretch/>
        </p:blipFill>
        <p:spPr>
          <a:xfrm>
            <a:off x="1066680" y="2057400"/>
            <a:ext cx="6096240" cy="3048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693840" y="2398680"/>
            <a:ext cx="20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ra is p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08960" y="388620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going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27000" y="1676520"/>
            <a:ext cx="426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 1           Frame 15         Frame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11160" y="4989600"/>
            <a:ext cx="426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 1           Frame 15         Frame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ped                                     war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cumulation of the Flowerbed L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31064" t="48826" r="31064" b="22557"/>
          <a:stretch/>
        </p:blipFill>
        <p:spPr>
          <a:xfrm>
            <a:off x="1371600" y="1828800"/>
            <a:ext cx="647712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tion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 motion segmentation using a parametric (affine)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x,y) = 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x0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+ 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xx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 + 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x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x,y) = 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y0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+ 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yx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 + 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y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Synthesis of the layered re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tion Analy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38639" t="40410" r="13389" b="7403"/>
          <a:stretch/>
        </p:blipFill>
        <p:spPr>
          <a:xfrm>
            <a:off x="1219320" y="1600200"/>
            <a:ext cx="5029200" cy="4102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86200" y="3886200"/>
            <a:ext cx="2438280" cy="1828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08600" y="3962520"/>
            <a:ext cx="195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 separate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own as 2 aff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dels (line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gaps sh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occlu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tion Estimation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tional optical flow algorithm and representation (uses multi-scale, coarse-to-fine Lucas-Kanade approac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optical flow representation, determine a set of affine motions.  Segment into regions with an affine motion within each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tion Se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array of non-overlapp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quare reg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derive an initial set of motion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ffine 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these regions by linear regression, applied separately on each velocity component (dx, d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l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each hypothesis according to i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sidual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aptive k-means cluste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merges two clusters when the distance between their centers is smaller than a threshold to produce a set of likely affine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gion Assignment by Hypothesis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motion models derived from the motion segmentation step to identify the coherent reg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this by minimizing an error  (distortion)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(i(x,y))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∑ (V(x,y) –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a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x,y)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x,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(x,y) is the model assigned to pixel 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,y) is the affine motion for that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rror is minimized at each pixel to give the best model for that pixel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s with too high error are not assigned to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terativ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itial segmentation step uses an array of square reg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iteration, the segmentation becomes more accurate, because the parameter estimation is within a single coherent motion reg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gion splitter separates disjoint reg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ilter eliminates small reg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end, intensity is used to match unassigned pixels to the best adjacent reg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yer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formation from a longer sequence must be combined over time, to accumulate each 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The transforms for each layer are used to warp its pixels to align a set of fr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dian value of a pixel over the set is used for the 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Occlusion relationships are determ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 moving images with sets of overlapping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s are ordered in depth and occlude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ocity maps indicate how the layers are to be warped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2038" t="23571" r="11112" b="12453"/>
          <a:stretch/>
        </p:blipFill>
        <p:spPr>
          <a:xfrm>
            <a:off x="228600" y="1828800"/>
            <a:ext cx="86104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3888" t="23571" r="12038" b="14136"/>
          <a:stretch/>
        </p:blipFill>
        <p:spPr>
          <a:xfrm>
            <a:off x="380880" y="1600200"/>
            <a:ext cx="838224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3389" t="23571" r="12127" b="46129"/>
          <a:stretch/>
        </p:blipFill>
        <p:spPr>
          <a:xfrm>
            <a:off x="1752480" y="838080"/>
            <a:ext cx="5867640" cy="3029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13389" t="23571" r="12127" b="49495"/>
          <a:stretch/>
        </p:blipFill>
        <p:spPr>
          <a:xfrm>
            <a:off x="1752480" y="3828960"/>
            <a:ext cx="60199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imple Domain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esture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51763" t="42093" r="1525" b="14136"/>
          <a:stretch/>
        </p:blipFill>
        <p:spPr>
          <a:xfrm>
            <a:off x="2057400" y="2057400"/>
            <a:ext cx="533412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ore Complex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at are the lay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1720" y="1600200"/>
            <a:ext cx="3889440" cy="218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2840" y="1600200"/>
            <a:ext cx="388944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0280" y="3938760"/>
            <a:ext cx="3892320" cy="218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721400" y="3938760"/>
            <a:ext cx="38923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ven More Complex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ow many layers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73000" y="1600200"/>
            <a:ext cx="320688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3208320" cy="2187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3208320" cy="2187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572000" y="403848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finition of Layer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ayer contains three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s are ordered by 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for vision or graphics or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4840" y="2286000"/>
            <a:ext cx="503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intensity 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texture m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lpha 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pacity at each po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 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arping over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yers for the Hand Ges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7409" t="25255" r="50002" b="14136"/>
          <a:stretch/>
        </p:blipFill>
        <p:spPr>
          <a:xfrm>
            <a:off x="2133720" y="1447920"/>
            <a:ext cx="6095880" cy="4770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30120" y="1636560"/>
            <a:ext cx="1752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-synthes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ptical Flow Doesn’t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cal flow techniques typically model the world as a 2-D rubber sheet that is distorted over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one object moves in front of another, the rubber sheet model f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 information appears and disappears; optical flow can’t represent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on estimates near boundaries are b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lock Matching Can’t Do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motion only handles translation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optical flow, block matching doesn’t deal with occlusion or objects that suddenly appear or disappear off the edge of the fr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20:55:38Z</dcterms:created>
  <dc:creator>Linda Shapiro</dc:creator>
  <dc:description/>
  <dc:language>en-US</dc:language>
  <cp:lastModifiedBy>Linda Shapiro</cp:lastModifiedBy>
  <dcterms:modified xsi:type="dcterms:W3CDTF">2007-05-09T20:01:13Z</dcterms:modified>
  <cp:revision>30</cp:revision>
  <dc:subject/>
  <dc:title>Representing Moving Images with Layers</dc:title>
</cp:coreProperties>
</file>