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6.png" ContentType="image/png"/>
  <Override PartName="/ppt/media/image35.png" ContentType="image/png"/>
  <Override PartName="/ppt/media/image34.png" ContentType="image/png"/>
  <Override PartName="/ppt/media/image33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55.gif" ContentType="image/gif"/>
  <Override PartName="/ppt/media/image3.wmf" ContentType="image/x-wmf"/>
  <Override PartName="/ppt/media/image48.png" ContentType="image/png"/>
  <Override PartName="/ppt/media/image11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56.gif" ContentType="image/gif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57.gif" ContentType="image/gif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14.png" ContentType="image/png"/>
  <Override PartName="/ppt/media/image58.gif" ContentType="image/gif"/>
  <Override PartName="/ppt/media/image59.gif" ContentType="image/gif"/>
  <Override PartName="/ppt/media/image62.png" ContentType="image/png"/>
  <Override PartName="/ppt/media/image63.png" ContentType="image/png"/>
  <Override PartName="/ppt/media/image92.png" ContentType="image/png"/>
  <Override PartName="/ppt/media/image27.png" ContentType="image/png"/>
  <Override PartName="/ppt/media/image64.png" ContentType="image/png"/>
  <Override PartName="/ppt/media/image93.png" ContentType="image/png"/>
  <Override PartName="/ppt/media/image28.png" ContentType="image/png"/>
  <Override PartName="/ppt/media/image70.png" ContentType="image/png"/>
  <Override PartName="/ppt/media/image65.png" ContentType="image/png"/>
  <Override PartName="/ppt/media/image94.png" ContentType="image/png"/>
  <Override PartName="/ppt/media/image29.png" ContentType="image/png"/>
  <Override PartName="/ppt/media/image66.png" ContentType="image/png"/>
  <Override PartName="/ppt/media/image67.png" ContentType="image/png"/>
  <Override PartName="/ppt/media/image69.png" ContentType="image/png"/>
  <Override PartName="/ppt/media/image68.png" ContentType="image/png"/>
  <Override PartName="/ppt/media/image96.png" ContentType="image/png"/>
  <Override PartName="/ppt/media/image72.png" ContentType="image/png"/>
  <Override PartName="/ppt/media/image60.png" ContentType="image/png"/>
  <Override PartName="/ppt/media/image71.png" ContentType="image/png"/>
  <Override PartName="/ppt/media/image6.jpeg" ContentType="image/jpeg"/>
  <Override PartName="/ppt/media/image95.png" ContentType="image/png"/>
  <Override PartName="/ppt/media/image89.png" ContentType="image/png"/>
  <Override PartName="/ppt/media/image77.png" ContentType="image/png"/>
  <Override PartName="/ppt/media/image40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50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91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png" ContentType="image/png"/>
  <Override PartName="/ppt/media/image83.png" ContentType="image/png"/>
  <Override PartName="/ppt/media/image17.png" ContentType="image/png"/>
  <Override PartName="/ppt/media/image82.png" ContentType="image/png"/>
  <Override PartName="/ppt/media/image16.png" ContentType="image/png"/>
  <Override PartName="/ppt/media/image81.png" ContentType="image/png"/>
  <Override PartName="/ppt/media/image15.png" ContentType="image/png"/>
  <Override PartName="/ppt/media/image80.png" ContentType="image/png"/>
  <Override PartName="/ppt/media/image90.png" ContentType="image/png"/>
  <Override PartName="/ppt/media/image25.png" ContentType="image/png"/>
  <Override PartName="/ppt/media/image5.jpeg" ContentType="image/jpeg"/>
  <Override PartName="/ppt/media/image61.png" ContentType="image/png"/>
  <Override PartName="/ppt/media/image10.png" ContentType="image/png"/>
  <Override PartName="/ppt/media/image47.png" ContentType="image/png"/>
  <Override PartName="/ppt/media/image54.gif" ContentType="image/gif"/>
  <Override PartName="/ppt/media/image1.jpeg" ContentType="image/jpe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65480" cy="477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117680" y="-360"/>
            <a:ext cx="3165480" cy="477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52440" y="717120"/>
            <a:ext cx="4780080" cy="35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49320" y="4540320"/>
            <a:ext cx="5384880" cy="437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9159480"/>
            <a:ext cx="3165480" cy="477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117680" y="9159480"/>
            <a:ext cx="3165480" cy="477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127DEDD8-0B99-42C7-B05C-8F026DDF2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252440" y="717480"/>
            <a:ext cx="4780080" cy="358452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49320" y="4540320"/>
            <a:ext cx="5384880" cy="437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:  H(x,y) = I(x+u, y+v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252440" y="717480"/>
            <a:ext cx="4780080" cy="358452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49320" y="4540320"/>
            <a:ext cx="5384880" cy="437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:  u and v are unknown, 1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2140-F84A-4FBA-B2D7-B77189DAB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35F4-4F70-4162-80D2-247E3EE7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3596-05BB-40D0-958E-8E1A4A330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4614-723A-4276-B6F8-A31133CB5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EB62-2E50-456E-9C2D-84210406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8E54-33C5-4D19-9FA8-5410B12A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9800-D941-4430-9CDA-2BDA705A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E453-7666-4DFD-ABF0-1ECD84D7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939F-3EF3-4E79-9B8A-1A783553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9FE6-5B74-4E1C-B958-FC6D28F0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1A03-4F7B-4DEC-AAF3-454651C8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898A-451A-417D-9B42-AD58FC58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F483-DF92-4063-ACC9-1C6EE9D5F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838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9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29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image" Target="../media/image43.png"/><Relationship Id="rId1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5.gif"/><Relationship Id="rId2" Type="http://schemas.openxmlformats.org/officeDocument/2006/relationships/image" Target="../media/image56.gif"/><Relationship Id="rId3" Type="http://schemas.openxmlformats.org/officeDocument/2006/relationships/image" Target="../media/image57.gif"/><Relationship Id="rId4" Type="http://schemas.openxmlformats.org/officeDocument/2006/relationships/image" Target="../media/image58.gif"/><Relationship Id="rId5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9.gif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image" Target="../media/image65.png"/><Relationship Id="rId5" Type="http://schemas.openxmlformats.org/officeDocument/2006/relationships/image" Target="../media/image82.png"/><Relationship Id="rId6" Type="http://schemas.openxmlformats.org/officeDocument/2006/relationships/image" Target="../media/image83.png"/><Relationship Id="rId7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image" Target="../media/image86.png"/><Relationship Id="rId4" Type="http://schemas.openxmlformats.org/officeDocument/2006/relationships/image" Target="../media/image87.png"/><Relationship Id="rId5" Type="http://schemas.openxmlformats.org/officeDocument/2006/relationships/image" Target="../media/image88.png"/><Relationship Id="rId6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90.png"/><Relationship Id="rId3" Type="http://schemas.openxmlformats.org/officeDocument/2006/relationships/image" Target="../media/image91.png"/><Relationship Id="rId4" Type="http://schemas.openxmlformats.org/officeDocument/2006/relationships/image" Target="../media/image92.pn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93.png"/><Relationship Id="rId3" Type="http://schemas.openxmlformats.org/officeDocument/2006/relationships/image" Target="../media/image94.png"/><Relationship Id="rId4" Type="http://schemas.openxmlformats.org/officeDocument/2006/relationships/image" Target="../media/image62.png"/><Relationship Id="rId5" Type="http://schemas.openxmlformats.org/officeDocument/2006/relationships/image" Target="../media/image95.png"/><Relationship Id="rId6" Type="http://schemas.openxmlformats.org/officeDocument/2006/relationships/image" Target="../media/image96.png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otion Estim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s to Steve Seitz, Simon Baker, Takeo Kanade, and anyone else who helped develop these sl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C66D-6837-469A-94F6-7F9E3B8854B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ptical flow constrain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rayscale imag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3581280"/>
            <a:ext cx="77724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look at these constraints more clos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1219320"/>
            <a:ext cx="2210040" cy="167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0" y="1600200"/>
            <a:ext cx="76320" cy="763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0520" y="1676520"/>
            <a:ext cx="30636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40384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ghtness constancy:   Q:  what’s the equa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1219320"/>
            <a:ext cx="2209680" cy="167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1905120"/>
            <a:ext cx="75960" cy="759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691240" y="1981080"/>
            <a:ext cx="1243080" cy="192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143080" y="1401840"/>
            <a:ext cx="463680" cy="1918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583000" y="1676520"/>
            <a:ext cx="2065320" cy="191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5692680" y="2997360"/>
            <a:ext cx="959040" cy="318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2279520" y="2973240"/>
            <a:ext cx="1090800" cy="3207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85800" y="4876920"/>
            <a:ext cx="777240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motion:  (u and v are less than 1 pix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we take the Taylor series expansion of 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1044720" y="5646600"/>
            <a:ext cx="7005600" cy="449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2895480" y="6172200"/>
            <a:ext cx="2922840" cy="449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80840" y="4476600"/>
            <a:ext cx="2517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H(x, y) = I(x+u, y+v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FC08-6B1B-4375-8CA4-5BCA5B85F1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ptical flow equ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ing these two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28840" y="1521000"/>
            <a:ext cx="3975120" cy="282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85800" y="4191120"/>
            <a:ext cx="77724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790640" y="2036880"/>
            <a:ext cx="4175280" cy="306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809720" y="2577960"/>
            <a:ext cx="4473720" cy="306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6257880" y="1271520"/>
            <a:ext cx="2657520" cy="405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1828800" y="3135240"/>
            <a:ext cx="2193840" cy="281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1828800" y="3621240"/>
            <a:ext cx="2149560" cy="280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708920" y="4537080"/>
            <a:ext cx="1438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at is I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56760" y="4537080"/>
            <a:ext cx="549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he time derivative of the image at 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39160" y="5222880"/>
            <a:ext cx="312984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w do we calculate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06560" y="1676520"/>
            <a:ext cx="20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The x-component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the gradient vec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DB7E-1E77-46C0-A52E-47599A651D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ptical flow equ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how many unknowns and equations per pix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054160" y="1219320"/>
            <a:ext cx="2687760" cy="3096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21337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84320" y="3581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uitively, what does this constraint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461016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ponent of the flow in the gradient direction is determ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ponent of the flow parallel to an edge is 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6840" y="2209680"/>
            <a:ext cx="47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equation, but 2 unknowns (u and 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B811-FE96-4336-A01C-9E44846EBF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 rot="20128800">
            <a:off x="2894040" y="2263320"/>
            <a:ext cx="1677960" cy="3181320"/>
          </a:xfrm>
          <a:custGeom>
            <a:avLst/>
            <a:gdLst/>
            <a:ahLst/>
            <a:rect l="l" t="t" r="r" b="b"/>
            <a:pathLst>
              <a:path w="722" h="819">
                <a:moveTo>
                  <a:pt x="0" y="0"/>
                </a:moveTo>
                <a:lnTo>
                  <a:pt x="487" y="138"/>
                </a:lnTo>
                <a:lnTo>
                  <a:pt x="722" y="81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20128800">
            <a:off x="3922560" y="2403360"/>
            <a:ext cx="1678320" cy="3181320"/>
          </a:xfrm>
          <a:custGeom>
            <a:avLst/>
            <a:gdLst/>
            <a:ahLst/>
            <a:rect l="l" t="t" r="r" b="b"/>
            <a:pathLst>
              <a:path w="722" h="819">
                <a:moveTo>
                  <a:pt x="0" y="0"/>
                </a:moveTo>
                <a:lnTo>
                  <a:pt x="487" y="138"/>
                </a:lnTo>
                <a:lnTo>
                  <a:pt x="722" y="81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perture probl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2825-B80F-40D6-B71B-894AF9E59D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 rot="20128800">
            <a:off x="2894040" y="2263320"/>
            <a:ext cx="1677960" cy="3181320"/>
          </a:xfrm>
          <a:custGeom>
            <a:avLst/>
            <a:gdLst/>
            <a:ahLst/>
            <a:rect l="l" t="t" r="r" b="b"/>
            <a:pathLst>
              <a:path w="722" h="819">
                <a:moveTo>
                  <a:pt x="0" y="0"/>
                </a:moveTo>
                <a:lnTo>
                  <a:pt x="487" y="138"/>
                </a:lnTo>
                <a:lnTo>
                  <a:pt x="722" y="81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20128800">
            <a:off x="3922560" y="2403360"/>
            <a:ext cx="1678320" cy="3181320"/>
          </a:xfrm>
          <a:custGeom>
            <a:avLst/>
            <a:gdLst/>
            <a:ahLst/>
            <a:rect l="l" t="t" r="r" b="b"/>
            <a:pathLst>
              <a:path w="722" h="819">
                <a:moveTo>
                  <a:pt x="0" y="0"/>
                </a:moveTo>
                <a:lnTo>
                  <a:pt x="487" y="138"/>
                </a:lnTo>
                <a:lnTo>
                  <a:pt x="722" y="81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90640" y="1295280"/>
            <a:ext cx="5346720" cy="5067360"/>
          </a:xfrm>
          <a:prstGeom prst="donut">
            <a:avLst>
              <a:gd name="adj" fmla="val 3259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perture probl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5851-970F-4F94-81F9-3925364BD2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olving the aperture probl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idea:  assume motion field is smo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kas &amp; Kanade:  assume locally constant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tend the pixel’s neighbors have the same (u,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we use a 5x5 window, that gives us 25 equations per pixe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other methods exist.  Here’s an overvie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rron, J.L., Fleet, D.J., and Beauchemin, S, Performance of optical flow techniqu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ternational Journal of Computer Vis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12(1):43-77, 199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905120" y="3449520"/>
            <a:ext cx="2989080" cy="24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49F3-14B3-4B84-9847-781ED08BE2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ukas-Kanade flow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get more equations for a pixe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idea:  impose additional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st common is to assume that the flow field is smooth loc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method:  pretend the pixel’s neighbors have the same (u,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we use a 5x5 window, that gives us 25 equations per pixel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44840" y="2646360"/>
            <a:ext cx="2989080" cy="24912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1407960" y="3403440"/>
            <a:ext cx="6131160" cy="2082600"/>
            <a:chOff x="1407960" y="3403440"/>
            <a:chExt cx="6131160" cy="2082600"/>
          </a:xfrm>
        </p:grpSpPr>
        <p:pic>
          <p:nvPicPr>
            <p:cNvPr id="152" name="" descr=""/>
            <p:cNvPicPr/>
            <p:nvPr/>
          </p:nvPicPr>
          <p:blipFill>
            <a:blip r:embed="rId2"/>
            <a:stretch/>
          </p:blipFill>
          <p:spPr>
            <a:xfrm>
              <a:off x="2706840" y="5073480"/>
              <a:ext cx="28404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3"/>
            <a:stretch/>
          </p:blipFill>
          <p:spPr>
            <a:xfrm>
              <a:off x="4694400" y="5074920"/>
              <a:ext cx="201600" cy="2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4"/>
            <a:stretch/>
          </p:blipFill>
          <p:spPr>
            <a:xfrm>
              <a:off x="6724800" y="5074920"/>
              <a:ext cx="122040" cy="1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5"/>
            <a:stretch/>
          </p:blipFill>
          <p:spPr>
            <a:xfrm>
              <a:off x="2527200" y="5360760"/>
              <a:ext cx="540000" cy="12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6"/>
            <a:stretch/>
          </p:blipFill>
          <p:spPr>
            <a:xfrm>
              <a:off x="6499080" y="5364000"/>
              <a:ext cx="528840" cy="12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7"/>
            <a:stretch/>
          </p:blipFill>
          <p:spPr>
            <a:xfrm>
              <a:off x="4575240" y="5360760"/>
              <a:ext cx="390600" cy="12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8"/>
            <a:stretch/>
          </p:blipFill>
          <p:spPr>
            <a:xfrm>
              <a:off x="1407960" y="3403440"/>
              <a:ext cx="6131160" cy="144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E188-4C77-446E-AAA2-46F92A7AF2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GB vers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get more equations for a pixe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idea:  impose additional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st common is to assume that the flow field is smooth loc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method:  pretend the pixel’s neighbors have the same (u,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we use a 5x5 window, that gives us 25*3 equations per pixel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103400" y="3197160"/>
            <a:ext cx="6511680" cy="2957400"/>
            <a:chOff x="1103400" y="3197160"/>
            <a:chExt cx="6511680" cy="295740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2706840" y="5715000"/>
              <a:ext cx="28404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2"/>
            <a:stretch/>
          </p:blipFill>
          <p:spPr>
            <a:xfrm>
              <a:off x="4694400" y="5716440"/>
              <a:ext cx="201600" cy="2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3"/>
            <a:stretch/>
          </p:blipFill>
          <p:spPr>
            <a:xfrm>
              <a:off x="6724800" y="5716440"/>
              <a:ext cx="122040" cy="1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4"/>
            <a:stretch/>
          </p:blipFill>
          <p:spPr>
            <a:xfrm>
              <a:off x="4575240" y="6002280"/>
              <a:ext cx="390600" cy="12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5"/>
            <a:stretch/>
          </p:blipFill>
          <p:spPr>
            <a:xfrm>
              <a:off x="2523960" y="5979960"/>
              <a:ext cx="540000" cy="1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6"/>
            <a:stretch/>
          </p:blipFill>
          <p:spPr>
            <a:xfrm>
              <a:off x="6502320" y="5983200"/>
              <a:ext cx="52884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7"/>
            <a:stretch/>
          </p:blipFill>
          <p:spPr>
            <a:xfrm>
              <a:off x="1103400" y="3197160"/>
              <a:ext cx="6511680" cy="2268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9" name="" descr=""/>
          <p:cNvPicPr/>
          <p:nvPr/>
        </p:nvPicPr>
        <p:blipFill>
          <a:blip r:embed="rId8"/>
          <a:stretch/>
        </p:blipFill>
        <p:spPr>
          <a:xfrm>
            <a:off x="2057400" y="2652840"/>
            <a:ext cx="4648320" cy="249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AB61-4BE2-4F59-A95C-A0FE37B427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ukas-Kanade flow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:  we have more equations than unknow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523880" y="1420920"/>
            <a:ext cx="1592280" cy="484200"/>
            <a:chOff x="1523880" y="1420920"/>
            <a:chExt cx="1592280" cy="484200"/>
          </a:xfrm>
        </p:grpSpPr>
        <p:pic>
          <p:nvPicPr>
            <p:cNvPr id="173" name="" descr=""/>
            <p:cNvPicPr/>
            <p:nvPr/>
          </p:nvPicPr>
          <p:blipFill>
            <a:blip r:embed="rId1"/>
            <a:stretch/>
          </p:blipFill>
          <p:spPr>
            <a:xfrm>
              <a:off x="1523880" y="1754280"/>
              <a:ext cx="463680" cy="1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2"/>
            <a:stretch/>
          </p:blipFill>
          <p:spPr>
            <a:xfrm>
              <a:off x="1692360" y="1420920"/>
              <a:ext cx="1263600" cy="24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3"/>
            <a:stretch/>
          </p:blipFill>
          <p:spPr>
            <a:xfrm>
              <a:off x="2133720" y="1749600"/>
              <a:ext cx="334800" cy="1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4"/>
            <a:stretch/>
          </p:blipFill>
          <p:spPr>
            <a:xfrm>
              <a:off x="2662200" y="1757520"/>
              <a:ext cx="453960" cy="147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"/>
          <p:cNvGrpSpPr/>
          <p:nvPr/>
        </p:nvGrpSpPr>
        <p:grpSpPr>
          <a:xfrm>
            <a:off x="2571840" y="3213000"/>
            <a:ext cx="1866960" cy="139680"/>
            <a:chOff x="2571840" y="3213000"/>
            <a:chExt cx="1866960" cy="139680"/>
          </a:xfrm>
        </p:grpSpPr>
        <p:pic>
          <p:nvPicPr>
            <p:cNvPr id="178" name="" descr=""/>
            <p:cNvPicPr/>
            <p:nvPr/>
          </p:nvPicPr>
          <p:blipFill>
            <a:blip r:embed="rId5"/>
            <a:stretch/>
          </p:blipFill>
          <p:spPr>
            <a:xfrm>
              <a:off x="2571840" y="3213000"/>
              <a:ext cx="344520" cy="1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6"/>
            <a:stretch/>
          </p:blipFill>
          <p:spPr>
            <a:xfrm>
              <a:off x="3322800" y="3214800"/>
              <a:ext cx="334800" cy="13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7"/>
            <a:stretch/>
          </p:blipFill>
          <p:spPr>
            <a:xfrm>
              <a:off x="4103640" y="3213000"/>
              <a:ext cx="335160" cy="138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1" name=""/>
          <p:cNvGrpSpPr/>
          <p:nvPr/>
        </p:nvGrpSpPr>
        <p:grpSpPr>
          <a:xfrm>
            <a:off x="685800" y="3960720"/>
            <a:ext cx="8001000" cy="2592360"/>
            <a:chOff x="685800" y="3960720"/>
            <a:chExt cx="8001000" cy="2592360"/>
          </a:xfrm>
        </p:grpSpPr>
        <p:grpSp>
          <p:nvGrpSpPr>
            <p:cNvPr id="182" name=""/>
            <p:cNvGrpSpPr/>
            <p:nvPr/>
          </p:nvGrpSpPr>
          <p:grpSpPr>
            <a:xfrm>
              <a:off x="1220760" y="3960720"/>
              <a:ext cx="5560920" cy="1297080"/>
              <a:chOff x="1220760" y="3960720"/>
              <a:chExt cx="5560920" cy="1297080"/>
            </a:xfrm>
          </p:grpSpPr>
          <p:pic>
            <p:nvPicPr>
              <p:cNvPr id="18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220760" y="3960720"/>
                <a:ext cx="5560920" cy="81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286000" y="4957920"/>
                <a:ext cx="67788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837400" y="4950000"/>
                <a:ext cx="569880" cy="307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6" name=""/>
            <p:cNvSpPr/>
            <p:nvPr/>
          </p:nvSpPr>
          <p:spPr>
            <a:xfrm>
              <a:off x="685800" y="5562720"/>
              <a:ext cx="800100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 lvl="1" marL="639000" indent="-24552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 summations are over all pixels in the K x K wind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39000" indent="-24552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is technique was first proposed by Lukas &amp; Kana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39000" indent="-245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or stereo matching (198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685800" y="1374840"/>
            <a:ext cx="7772400" cy="1139760"/>
            <a:chOff x="685800" y="1374840"/>
            <a:chExt cx="7772400" cy="1139760"/>
          </a:xfrm>
        </p:grpSpPr>
        <p:pic>
          <p:nvPicPr>
            <p:cNvPr id="188" name="" descr=""/>
            <p:cNvPicPr/>
            <p:nvPr/>
          </p:nvPicPr>
          <p:blipFill>
            <a:blip r:embed="rId11"/>
            <a:stretch/>
          </p:blipFill>
          <p:spPr>
            <a:xfrm>
              <a:off x="4794120" y="1374840"/>
              <a:ext cx="290196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3505320" y="16002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5800" y="2043000"/>
              <a:ext cx="777240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olution:  solve least squares probl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85800" y="2389320"/>
            <a:ext cx="7772400" cy="758520"/>
            <a:chOff x="685800" y="2389320"/>
            <a:chExt cx="7772400" cy="758520"/>
          </a:xfrm>
        </p:grpSpPr>
        <p:pic>
          <p:nvPicPr>
            <p:cNvPr id="192" name="" descr=""/>
            <p:cNvPicPr/>
            <p:nvPr/>
          </p:nvPicPr>
          <p:blipFill>
            <a:blip r:embed="rId12"/>
            <a:stretch/>
          </p:blipFill>
          <p:spPr>
            <a:xfrm>
              <a:off x="2297160" y="2795760"/>
              <a:ext cx="2316240" cy="35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685800" y="2389320"/>
              <a:ext cx="7772400" cy="50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nimum least squares solution given by solution (in d) of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4F1E-C7C8-4190-91F4-176F31BD07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nditions for solvabili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al (u, v) satisfies Lucas-Kanade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3352680"/>
            <a:ext cx="77724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s This Solvab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ould be inverti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ould not be too small due to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value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ould not be too 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ould be well-cond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ould not be too large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larger eigenval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220760" y="1600200"/>
            <a:ext cx="5560920" cy="1297080"/>
            <a:chOff x="1220760" y="1600200"/>
            <a:chExt cx="5560920" cy="1297080"/>
          </a:xfrm>
        </p:grpSpPr>
        <p:pic>
          <p:nvPicPr>
            <p:cNvPr id="198" name="" descr=""/>
            <p:cNvPicPr/>
            <p:nvPr/>
          </p:nvPicPr>
          <p:blipFill>
            <a:blip r:embed="rId1"/>
            <a:stretch/>
          </p:blipFill>
          <p:spPr>
            <a:xfrm>
              <a:off x="1220760" y="1600200"/>
              <a:ext cx="5560920" cy="81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2"/>
            <a:stretch/>
          </p:blipFill>
          <p:spPr>
            <a:xfrm>
              <a:off x="2286000" y="2597400"/>
              <a:ext cx="67788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3"/>
            <a:stretch/>
          </p:blipFill>
          <p:spPr>
            <a:xfrm>
              <a:off x="5837400" y="2589480"/>
              <a:ext cx="569880" cy="30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9327-0326-40FA-A497-B50E92993AC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y estimate motion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live in a 4-D world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e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era Stabi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Mosa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D Shape Reconstruction (SF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Effects (Match Mo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48320" y="2227320"/>
            <a:ext cx="3809880" cy="263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164B-9522-4322-88ED-6A96EC3F47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dges cause proble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5638680" cy="42274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5700600" y="1447920"/>
            <a:ext cx="2514600" cy="18856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5303880" y="3591000"/>
            <a:ext cx="3382920" cy="25369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 flipH="1">
            <a:off x="4831920" y="2111400"/>
            <a:ext cx="3812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16280" y="2057400"/>
            <a:ext cx="152640" cy="130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2040" y="5611680"/>
            <a:ext cx="3632400" cy="7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gradients, all the s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mall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62120" y="5257800"/>
            <a:ext cx="1790640" cy="43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8908-A73F-49C6-9AC8-B909977635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303880" y="3543480"/>
            <a:ext cx="3382920" cy="25365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710320" y="1447920"/>
            <a:ext cx="2514600" cy="18856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0" y="990720"/>
            <a:ext cx="5621400" cy="421452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ow texture regions don’t work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1445760" y="2732040"/>
            <a:ext cx="3812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92040" y="5611680"/>
            <a:ext cx="4029840" cy="7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ients have small magn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mall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762120" y="5257800"/>
            <a:ext cx="1790640" cy="430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262160" y="2655720"/>
            <a:ext cx="152280" cy="130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D270-2B0F-4476-B701-7F53B1332FE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igh textured region work bes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689440" y="1452600"/>
            <a:ext cx="2514600" cy="18842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5257800" y="3562200"/>
            <a:ext cx="3378240" cy="25336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4343400" y="4114800"/>
            <a:ext cx="152280" cy="152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0" y="990720"/>
            <a:ext cx="5621400" cy="42145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 flipH="1">
            <a:off x="4527720" y="390852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354560" y="3843360"/>
            <a:ext cx="152280" cy="130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89160" y="5611680"/>
            <a:ext cx="5005440" cy="7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ients are different, large magnitu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larg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762120" y="5257800"/>
            <a:ext cx="1790640" cy="43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04A8-273C-457A-853A-DFCD5509371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rrors in Lukas-Kana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potential causes of errors in this proced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is easily invert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there is not much noise in the 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2133720"/>
            <a:ext cx="8077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our assumptions are vi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ghtness constancy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atis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tion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oint do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ve like its neighb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size is too l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ideal window siz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4395-3A53-47DD-A1EE-71BBA49D5A5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032520" cy="411336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visiting the small motion assump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548460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is motion small enoug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ably not—it’s much larger than one pixel (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der terms domin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ight we solve this probl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A024-3DBE-44A4-83B2-193F7BDAD0C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duce the resolution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911840" y="3659040"/>
            <a:ext cx="3655800" cy="27417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4886280" y="990720"/>
            <a:ext cx="3656160" cy="27432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885960" y="990720"/>
            <a:ext cx="3655800" cy="27414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898560" y="3595680"/>
            <a:ext cx="3655800" cy="274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0936-184C-4B9E-997E-3252184603D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5221440" y="5195880"/>
            <a:ext cx="3609720" cy="1203480"/>
            <a:chOff x="5221440" y="5195880"/>
            <a:chExt cx="3609720" cy="1203480"/>
          </a:xfrm>
        </p:grpSpPr>
        <p:sp>
          <p:nvSpPr>
            <p:cNvPr id="238" name=""/>
            <p:cNvSpPr/>
            <p:nvPr/>
          </p:nvSpPr>
          <p:spPr>
            <a:xfrm>
              <a:off x="5221440" y="5195880"/>
              <a:ext cx="3609720" cy="1203480"/>
            </a:xfrm>
            <a:prstGeom prst="parallelogram">
              <a:avLst>
                <a:gd name="adj" fmla="val 7498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34000" y="5661000"/>
              <a:ext cx="892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image I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177840" y="5216400"/>
            <a:ext cx="3606840" cy="1203480"/>
            <a:chOff x="177840" y="5216400"/>
            <a:chExt cx="3606840" cy="1203480"/>
          </a:xfrm>
        </p:grpSpPr>
        <p:sp>
          <p:nvSpPr>
            <p:cNvPr id="241" name=""/>
            <p:cNvSpPr/>
            <p:nvPr/>
          </p:nvSpPr>
          <p:spPr>
            <a:xfrm>
              <a:off x="177840" y="5216400"/>
              <a:ext cx="3606840" cy="1203480"/>
            </a:xfrm>
            <a:prstGeom prst="parallelogram">
              <a:avLst>
                <a:gd name="adj" fmla="val 7492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408680" y="5646600"/>
              <a:ext cx="1000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image 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177840" y="1452240"/>
            <a:ext cx="8696160" cy="5321880"/>
            <a:chOff x="177840" y="1452240"/>
            <a:chExt cx="8696160" cy="5321880"/>
          </a:xfrm>
        </p:grpSpPr>
        <p:grpSp>
          <p:nvGrpSpPr>
            <p:cNvPr id="244" name=""/>
            <p:cNvGrpSpPr/>
            <p:nvPr/>
          </p:nvGrpSpPr>
          <p:grpSpPr>
            <a:xfrm>
              <a:off x="177840" y="1452240"/>
              <a:ext cx="8696160" cy="5321880"/>
              <a:chOff x="177840" y="1452240"/>
              <a:chExt cx="8696160" cy="5321880"/>
            </a:xfrm>
          </p:grpSpPr>
          <p:grpSp>
            <p:nvGrpSpPr>
              <p:cNvPr id="245" name=""/>
              <p:cNvGrpSpPr/>
              <p:nvPr/>
            </p:nvGrpSpPr>
            <p:grpSpPr>
              <a:xfrm>
                <a:off x="177840" y="1476000"/>
                <a:ext cx="3768480" cy="5297760"/>
                <a:chOff x="177840" y="1476000"/>
                <a:chExt cx="3768480" cy="5297760"/>
              </a:xfrm>
            </p:grpSpPr>
            <p:grpSp>
              <p:nvGrpSpPr>
                <p:cNvPr id="246" name=""/>
                <p:cNvGrpSpPr/>
                <p:nvPr/>
              </p:nvGrpSpPr>
              <p:grpSpPr>
                <a:xfrm>
                  <a:off x="177840" y="1476000"/>
                  <a:ext cx="3606840" cy="4941360"/>
                  <a:chOff x="177840" y="1476000"/>
                  <a:chExt cx="3606840" cy="4941360"/>
                </a:xfrm>
              </p:grpSpPr>
              <p:sp>
                <p:nvSpPr>
                  <p:cNvPr id="247" name=""/>
                  <p:cNvSpPr/>
                  <p:nvPr/>
                </p:nvSpPr>
                <p:spPr>
                  <a:xfrm flipV="1">
                    <a:off x="196920" y="1476000"/>
                    <a:ext cx="1481040" cy="4892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 flipH="1" flipV="1">
                    <a:off x="1680840" y="1486800"/>
                    <a:ext cx="2071800" cy="3708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flipH="1">
                    <a:off x="1076040" y="1540800"/>
                    <a:ext cx="625320" cy="3676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177840" y="5214240"/>
                    <a:ext cx="3606840" cy="1203120"/>
                  </a:xfrm>
                  <a:prstGeom prst="parallelogram">
                    <a:avLst>
                      <a:gd name="adj" fmla="val 74948"/>
                    </a:avLst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987480" y="3323520"/>
                    <a:ext cx="1730160" cy="504720"/>
                  </a:xfrm>
                  <a:prstGeom prst="parallelogram">
                    <a:avLst>
                      <a:gd name="adj" fmla="val 85699"/>
                    </a:avLst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623880" y="4166640"/>
                    <a:ext cx="2573280" cy="748800"/>
                  </a:xfrm>
                  <a:prstGeom prst="parallelogram">
                    <a:avLst>
                      <a:gd name="adj" fmla="val 85913"/>
                    </a:avLst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1249200" y="2499840"/>
                    <a:ext cx="1022400" cy="298080"/>
                  </a:xfrm>
                  <a:prstGeom prst="parallelogram">
                    <a:avLst>
                      <a:gd name="adj" fmla="val 85749"/>
                    </a:avLst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 flipH="1" flipV="1">
                    <a:off x="1687680" y="1486800"/>
                    <a:ext cx="1196640" cy="4914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5" name=""/>
                <p:cNvSpPr/>
                <p:nvPr/>
              </p:nvSpPr>
              <p:spPr>
                <a:xfrm>
                  <a:off x="370440" y="6468480"/>
                  <a:ext cx="3575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Gaussian pyramid of image 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5221440" y="1452240"/>
                <a:ext cx="3652560" cy="5321880"/>
                <a:chOff x="5221440" y="1452240"/>
                <a:chExt cx="3652560" cy="5321880"/>
              </a:xfrm>
            </p:grpSpPr>
            <p:grpSp>
              <p:nvGrpSpPr>
                <p:cNvPr id="257" name=""/>
                <p:cNvGrpSpPr/>
                <p:nvPr/>
              </p:nvGrpSpPr>
              <p:grpSpPr>
                <a:xfrm>
                  <a:off x="5221440" y="1452240"/>
                  <a:ext cx="3609720" cy="4944960"/>
                  <a:chOff x="5221440" y="1452240"/>
                  <a:chExt cx="3609720" cy="494496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 flipV="1">
                    <a:off x="5240160" y="1452240"/>
                    <a:ext cx="1482840" cy="4897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 flipH="1" flipV="1">
                    <a:off x="6725880" y="1463040"/>
                    <a:ext cx="2073240" cy="3709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 flipH="1">
                    <a:off x="6118200" y="1517400"/>
                    <a:ext cx="628560" cy="3679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5221440" y="5194080"/>
                    <a:ext cx="3609720" cy="1203120"/>
                  </a:xfrm>
                  <a:prstGeom prst="parallelogram">
                    <a:avLst>
                      <a:gd name="adj" fmla="val 75007"/>
                    </a:avLst>
                  </a:pr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6032520" y="3301920"/>
                    <a:ext cx="1731960" cy="502920"/>
                  </a:xfrm>
                  <a:prstGeom prst="parallelogram">
                    <a:avLst>
                      <a:gd name="adj" fmla="val 86095"/>
                    </a:avLst>
                  </a:pr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5670720" y="4144680"/>
                    <a:ext cx="2573280" cy="749160"/>
                  </a:xfrm>
                  <a:prstGeom prst="parallelogram">
                    <a:avLst>
                      <a:gd name="adj" fmla="val 85872"/>
                    </a:avLst>
                  </a:pr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6294600" y="2477880"/>
                    <a:ext cx="1020600" cy="294840"/>
                  </a:xfrm>
                  <a:prstGeom prst="parallelogram">
                    <a:avLst>
                      <a:gd name="adj" fmla="val 86538"/>
                    </a:avLst>
                  </a:pr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 flipH="1" flipV="1">
                    <a:off x="6732360" y="1463400"/>
                    <a:ext cx="1197000" cy="4916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6" name=""/>
                <p:cNvSpPr/>
                <p:nvPr/>
              </p:nvSpPr>
              <p:spPr>
                <a:xfrm>
                  <a:off x="5412240" y="6468840"/>
                  <a:ext cx="34617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Gaussian pyramid of image 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7" name=""/>
            <p:cNvSpPr/>
            <p:nvPr/>
          </p:nvSpPr>
          <p:spPr>
            <a:xfrm>
              <a:off x="6545880" y="5681520"/>
              <a:ext cx="875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mage 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406880" y="5667120"/>
              <a:ext cx="989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mage 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3951720" y="2352600"/>
            <a:ext cx="1722960" cy="3604320"/>
            <a:chOff x="3951720" y="2352600"/>
            <a:chExt cx="1722960" cy="3604320"/>
          </a:xfrm>
        </p:grpSpPr>
        <p:sp>
          <p:nvSpPr>
            <p:cNvPr id="270" name=""/>
            <p:cNvSpPr/>
            <p:nvPr/>
          </p:nvSpPr>
          <p:spPr>
            <a:xfrm>
              <a:off x="3952080" y="5527800"/>
              <a:ext cx="1512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d60093"/>
                  </a:solidFill>
                  <a:latin typeface="Times New Roman"/>
                </a:rPr>
                <a:t>u=10 pixel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952440" y="4219560"/>
              <a:ext cx="13723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d60093"/>
                  </a:solidFill>
                  <a:latin typeface="Times New Roman"/>
                </a:rPr>
                <a:t>u=5 pixel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952080" y="3216240"/>
              <a:ext cx="1582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d60093"/>
                  </a:solidFill>
                  <a:latin typeface="Times New Roman"/>
                </a:rPr>
                <a:t>u=2.5 pixel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951720" y="2352600"/>
              <a:ext cx="1722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d60093"/>
                  </a:solidFill>
                  <a:latin typeface="Times New Roman"/>
                </a:rPr>
                <a:t>u=1.25 pixel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arse-to-fine optical flow estim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26C0-7761-42F9-A752-C84A4A127AE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10" dur="1" fill="hold"/>
                                  <p:tgtEl>
                                    <p:spTgt spid="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5221440" y="5195880"/>
            <a:ext cx="3609720" cy="1203480"/>
            <a:chOff x="5221440" y="5195880"/>
            <a:chExt cx="3609720" cy="1203480"/>
          </a:xfrm>
        </p:grpSpPr>
        <p:sp>
          <p:nvSpPr>
            <p:cNvPr id="276" name=""/>
            <p:cNvSpPr/>
            <p:nvPr/>
          </p:nvSpPr>
          <p:spPr>
            <a:xfrm>
              <a:off x="5221440" y="5195880"/>
              <a:ext cx="3609720" cy="1203480"/>
            </a:xfrm>
            <a:prstGeom prst="parallelogram">
              <a:avLst>
                <a:gd name="adj" fmla="val 7498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534000" y="5661000"/>
              <a:ext cx="892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image I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77840" y="5216400"/>
            <a:ext cx="3606840" cy="1203480"/>
            <a:chOff x="177840" y="5216400"/>
            <a:chExt cx="3606840" cy="1203480"/>
          </a:xfrm>
        </p:grpSpPr>
        <p:sp>
          <p:nvSpPr>
            <p:cNvPr id="279" name=""/>
            <p:cNvSpPr/>
            <p:nvPr/>
          </p:nvSpPr>
          <p:spPr>
            <a:xfrm>
              <a:off x="177840" y="5216400"/>
              <a:ext cx="3606840" cy="1203480"/>
            </a:xfrm>
            <a:prstGeom prst="parallelogram">
              <a:avLst>
                <a:gd name="adj" fmla="val 7492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07960" y="5646600"/>
              <a:ext cx="92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image J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77840" y="1454040"/>
            <a:ext cx="8696160" cy="5321880"/>
            <a:chOff x="177840" y="1454040"/>
            <a:chExt cx="8696160" cy="5321880"/>
          </a:xfrm>
        </p:grpSpPr>
        <p:grpSp>
          <p:nvGrpSpPr>
            <p:cNvPr id="282" name=""/>
            <p:cNvGrpSpPr/>
            <p:nvPr/>
          </p:nvGrpSpPr>
          <p:grpSpPr>
            <a:xfrm>
              <a:off x="177840" y="1454040"/>
              <a:ext cx="8696160" cy="5321880"/>
              <a:chOff x="177840" y="1454040"/>
              <a:chExt cx="8696160" cy="5321880"/>
            </a:xfrm>
          </p:grpSpPr>
          <p:grpSp>
            <p:nvGrpSpPr>
              <p:cNvPr id="283" name=""/>
              <p:cNvGrpSpPr/>
              <p:nvPr/>
            </p:nvGrpSpPr>
            <p:grpSpPr>
              <a:xfrm>
                <a:off x="177840" y="1477440"/>
                <a:ext cx="3768480" cy="5298480"/>
                <a:chOff x="177840" y="1477440"/>
                <a:chExt cx="3768480" cy="5298480"/>
              </a:xfrm>
            </p:grpSpPr>
            <p:grpSp>
              <p:nvGrpSpPr>
                <p:cNvPr id="284" name=""/>
                <p:cNvGrpSpPr/>
                <p:nvPr/>
              </p:nvGrpSpPr>
              <p:grpSpPr>
                <a:xfrm>
                  <a:off x="177840" y="1477440"/>
                  <a:ext cx="3606840" cy="4942440"/>
                  <a:chOff x="177840" y="1477440"/>
                  <a:chExt cx="3606840" cy="494244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 flipV="1">
                    <a:off x="196920" y="1477440"/>
                    <a:ext cx="1481040" cy="4892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 flipH="1" flipV="1">
                    <a:off x="1680840" y="1488600"/>
                    <a:ext cx="2071800" cy="3708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1076040" y="1542960"/>
                    <a:ext cx="625320" cy="3676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177840" y="5216400"/>
                    <a:ext cx="3606840" cy="1203480"/>
                  </a:xfrm>
                  <a:prstGeom prst="parallelogram">
                    <a:avLst>
                      <a:gd name="adj" fmla="val 74925"/>
                    </a:avLst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987480" y="3325680"/>
                    <a:ext cx="1730160" cy="505080"/>
                  </a:xfrm>
                  <a:prstGeom prst="parallelogram">
                    <a:avLst>
                      <a:gd name="adj" fmla="val 85638"/>
                    </a:avLst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623880" y="4168800"/>
                    <a:ext cx="2573280" cy="749160"/>
                  </a:xfrm>
                  <a:prstGeom prst="parallelogram">
                    <a:avLst>
                      <a:gd name="adj" fmla="val 85872"/>
                    </a:avLst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1249200" y="2502000"/>
                    <a:ext cx="1022400" cy="298440"/>
                  </a:xfrm>
                  <a:prstGeom prst="parallelogram">
                    <a:avLst>
                      <a:gd name="adj" fmla="val 85645"/>
                    </a:avLst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1687680" y="1488600"/>
                    <a:ext cx="1196640" cy="4915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>
                  <a:off x="370440" y="6470640"/>
                  <a:ext cx="3575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Gaussian pyramid of image 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5221440" y="1454040"/>
                <a:ext cx="3652560" cy="5321880"/>
                <a:chOff x="5221440" y="1454040"/>
                <a:chExt cx="3652560" cy="5321880"/>
              </a:xfrm>
            </p:grpSpPr>
            <p:grpSp>
              <p:nvGrpSpPr>
                <p:cNvPr id="295" name=""/>
                <p:cNvGrpSpPr/>
                <p:nvPr/>
              </p:nvGrpSpPr>
              <p:grpSpPr>
                <a:xfrm>
                  <a:off x="5221440" y="1454040"/>
                  <a:ext cx="3609720" cy="4945320"/>
                  <a:chOff x="5221440" y="1454040"/>
                  <a:chExt cx="3609720" cy="4945320"/>
                </a:xfrm>
              </p:grpSpPr>
              <p:sp>
                <p:nvSpPr>
                  <p:cNvPr id="296" name=""/>
                  <p:cNvSpPr/>
                  <p:nvPr/>
                </p:nvSpPr>
                <p:spPr>
                  <a:xfrm flipV="1">
                    <a:off x="5240160" y="1454040"/>
                    <a:ext cx="1482840" cy="4897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 flipH="1" flipV="1">
                    <a:off x="6725880" y="1465200"/>
                    <a:ext cx="2073240" cy="3710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flipH="1">
                    <a:off x="6118200" y="1519200"/>
                    <a:ext cx="628560" cy="3679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5221440" y="5195880"/>
                    <a:ext cx="3609720" cy="1203480"/>
                  </a:xfrm>
                  <a:prstGeom prst="parallelogram">
                    <a:avLst>
                      <a:gd name="adj" fmla="val 74985"/>
                    </a:avLst>
                  </a:pr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6032520" y="3303720"/>
                    <a:ext cx="1731960" cy="503280"/>
                  </a:xfrm>
                  <a:prstGeom prst="parallelogram">
                    <a:avLst>
                      <a:gd name="adj" fmla="val 86034"/>
                    </a:avLst>
                  </a:pr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5670720" y="4146480"/>
                    <a:ext cx="2573280" cy="749520"/>
                  </a:xfrm>
                  <a:prstGeom prst="parallelogram">
                    <a:avLst>
                      <a:gd name="adj" fmla="val 85831"/>
                    </a:avLst>
                  </a:pr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6294600" y="2479680"/>
                    <a:ext cx="1020600" cy="295200"/>
                  </a:xfrm>
                  <a:prstGeom prst="parallelogram">
                    <a:avLst>
                      <a:gd name="adj" fmla="val 86433"/>
                    </a:avLst>
                  </a:pr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 flipH="1" flipV="1">
                    <a:off x="6732360" y="1464840"/>
                    <a:ext cx="1197000" cy="4916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4" name=""/>
                <p:cNvSpPr/>
                <p:nvPr/>
              </p:nvSpPr>
              <p:spPr>
                <a:xfrm>
                  <a:off x="5412240" y="6470640"/>
                  <a:ext cx="34617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Gaussian pyramid of image 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5" name=""/>
            <p:cNvSpPr/>
            <p:nvPr/>
          </p:nvSpPr>
          <p:spPr>
            <a:xfrm>
              <a:off x="6545880" y="5683320"/>
              <a:ext cx="875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mage 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406880" y="5668920"/>
              <a:ext cx="989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mage 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arse-to-fine optical flow estim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275280" y="2498760"/>
            <a:ext cx="197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iterative L-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362320" y="2774880"/>
            <a:ext cx="834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5334120" y="2774880"/>
            <a:ext cx="890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670120" y="3489480"/>
            <a:ext cx="3273480" cy="398880"/>
            <a:chOff x="2670120" y="3489480"/>
            <a:chExt cx="3273480" cy="398880"/>
          </a:xfrm>
        </p:grpSpPr>
        <p:sp>
          <p:nvSpPr>
            <p:cNvPr id="312" name=""/>
            <p:cNvSpPr/>
            <p:nvPr/>
          </p:nvSpPr>
          <p:spPr>
            <a:xfrm>
              <a:off x="2670120" y="3657600"/>
              <a:ext cx="527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34120" y="36576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281760" y="3489480"/>
              <a:ext cx="197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un iterative L-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4191120" y="2895480"/>
            <a:ext cx="2153520" cy="594000"/>
            <a:chOff x="4191120" y="2895480"/>
            <a:chExt cx="2153520" cy="594000"/>
          </a:xfrm>
        </p:grpSpPr>
        <p:sp>
          <p:nvSpPr>
            <p:cNvPr id="316" name=""/>
            <p:cNvSpPr/>
            <p:nvPr/>
          </p:nvSpPr>
          <p:spPr>
            <a:xfrm>
              <a:off x="4191120" y="2895480"/>
              <a:ext cx="0" cy="59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196520" y="2955960"/>
              <a:ext cx="214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arp &amp; upsa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4191120" y="3809880"/>
            <a:ext cx="301320" cy="685800"/>
            <a:chOff x="4191120" y="3809880"/>
            <a:chExt cx="301320" cy="685800"/>
          </a:xfrm>
        </p:grpSpPr>
        <p:sp>
          <p:nvSpPr>
            <p:cNvPr id="319" name=""/>
            <p:cNvSpPr/>
            <p:nvPr/>
          </p:nvSpPr>
          <p:spPr>
            <a:xfrm>
              <a:off x="4191120" y="3902040"/>
              <a:ext cx="0" cy="59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268880" y="3809880"/>
              <a:ext cx="223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B02A-CFD5-43A5-BEFC-196C25DCEC0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 Few Detail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op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L-K to get a flow field representing the flow from the first frame to the second fr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this flow field to warp the first frame toward the second fr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run L-K on the new warped image to get a flow field from it to the second fr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 till converg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ext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sample the flow field to the next level as the first guess of the flow at that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this flow field to warp the first frame toward the second fr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run L-K and warping till convergence as abo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2390-C096-4755-8B35-BBF79D35660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5105520" y="1474920"/>
            <a:ext cx="3200400" cy="2259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Flower Garden Vide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5257800" y="1600200"/>
            <a:ext cx="2925720" cy="20066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7147080" y="2641680"/>
            <a:ext cx="152280" cy="1522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023240" y="2660760"/>
            <a:ext cx="152280" cy="1522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839000" y="2000160"/>
            <a:ext cx="152640" cy="1526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486400" y="2286000"/>
            <a:ext cx="152280" cy="152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238880" y="3124080"/>
            <a:ext cx="152640" cy="15264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431000" y="2454120"/>
            <a:ext cx="218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at should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tical flow 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5227560" y="3986280"/>
            <a:ext cx="3078360" cy="205272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3A76-40FD-464D-A3BB-2BD7E885680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me from an ARDA Sample Vide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14600" y="2590920"/>
            <a:ext cx="4179960" cy="285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968F-47C0-4C09-8CF3-0C6F0438FF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obust Visual Motion Analysis: </a:t>
            </a:r>
            <a:br>
              <a:rPr sz="34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iecewise-Smooth Optical Fl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312372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g 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ical Enginee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versity of Washing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F6CD-CA9F-4363-AD83-238F91CFB5E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ructure From Mo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rcRect l="0" t="441" r="2226" b="0"/>
          <a:stretch/>
        </p:blipFill>
        <p:spPr>
          <a:xfrm>
            <a:off x="1066680" y="1379520"/>
            <a:ext cx="2687760" cy="182412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pic>
        <p:nvPicPr>
          <p:cNvPr id="337" name="" descr=""/>
          <p:cNvPicPr/>
          <p:nvPr/>
        </p:nvPicPr>
        <p:blipFill>
          <a:blip r:embed="rId2"/>
          <a:srcRect l="0" t="1216" r="2488" b="0"/>
          <a:stretch/>
        </p:blipFill>
        <p:spPr>
          <a:xfrm>
            <a:off x="5334120" y="1393920"/>
            <a:ext cx="2666880" cy="18018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338" name=""/>
          <p:cNvSpPr/>
          <p:nvPr/>
        </p:nvSpPr>
        <p:spPr>
          <a:xfrm>
            <a:off x="4952880" y="3352680"/>
            <a:ext cx="32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Estimated horizontal mo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1981080" y="3733920"/>
            <a:ext cx="3729240" cy="270648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609480" y="3352680"/>
            <a:ext cx="3886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Rigid scene + camera trans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868000" y="541008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Depth 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4819680" y="33210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43" name=""/>
          <p:cNvSpPr/>
          <p:nvPr/>
        </p:nvSpPr>
        <p:spPr>
          <a:xfrm rot="1843800">
            <a:off x="6552720" y="3886200"/>
            <a:ext cx="381240" cy="914400"/>
          </a:xfrm>
          <a:custGeom>
            <a:avLst/>
            <a:gdLst>
              <a:gd name="textAreaLeft" fmla="*/ 51120 w 381240"/>
              <a:gd name="textAreaRight" fmla="*/ 330120 w 38124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2B4C-76AE-493B-9C52-2749A5BE5AD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6" dur="1" fill="hold"/>
                                        <p:tgtEl>
                                          <p:spTgt spid="3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cene Dynamics Understand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3627000"/>
            <a:ext cx="449568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veil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deo com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rcRect l="0" t="4202" r="0" b="0"/>
          <a:stretch/>
        </p:blipFill>
        <p:spPr>
          <a:xfrm>
            <a:off x="1371600" y="1447920"/>
            <a:ext cx="2438280" cy="17334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4206" r="0" b="0"/>
          <a:stretch/>
        </p:blipFill>
        <p:spPr>
          <a:xfrm>
            <a:off x="4876920" y="1447920"/>
            <a:ext cx="2439720" cy="173484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4876920" y="3733920"/>
            <a:ext cx="2458800" cy="182556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349" name=""/>
          <p:cNvSpPr/>
          <p:nvPr/>
        </p:nvSpPr>
        <p:spPr>
          <a:xfrm>
            <a:off x="4419720" y="3276720"/>
            <a:ext cx="32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Estimated horizontal mo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953600" y="5791320"/>
            <a:ext cx="23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Motion smooth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21560" y="175248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gh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xels =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622280" y="4038480"/>
            <a:ext cx="138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smoo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9EED-39B6-4CB4-BB55-519489975BB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2" dur="1" fill="hold"/>
                                        <p:tgtEl>
                                          <p:spTgt spid="3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arget Detection and Track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066680" y="4648320"/>
            <a:ext cx="358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A tiny airplane --- only observable by its distinct mo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2943000" cy="22068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grpSp>
        <p:nvGrpSpPr>
          <p:cNvPr id="356" name=""/>
          <p:cNvGrpSpPr/>
          <p:nvPr/>
        </p:nvGrpSpPr>
        <p:grpSpPr>
          <a:xfrm>
            <a:off x="4952880" y="2057400"/>
            <a:ext cx="2943360" cy="3142080"/>
            <a:chOff x="4952880" y="2057400"/>
            <a:chExt cx="2943360" cy="3142080"/>
          </a:xfrm>
        </p:grpSpPr>
        <p:sp>
          <p:nvSpPr>
            <p:cNvPr id="357" name=""/>
            <p:cNvSpPr/>
            <p:nvPr/>
          </p:nvSpPr>
          <p:spPr>
            <a:xfrm>
              <a:off x="5485680" y="4800600"/>
              <a:ext cx="214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00"/>
                  </a:solidFill>
                  <a:latin typeface="Arial"/>
                </a:rPr>
                <a:t>Tracking 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8" name="" descr=""/>
            <p:cNvPicPr/>
            <p:nvPr/>
          </p:nvPicPr>
          <p:blipFill>
            <a:blip r:embed="rId2"/>
            <a:stretch/>
          </p:blipFill>
          <p:spPr>
            <a:xfrm>
              <a:off x="4952880" y="2057400"/>
              <a:ext cx="2943360" cy="2206800"/>
            </a:xfrm>
            <a:prstGeom prst="rect">
              <a:avLst/>
            </a:prstGeom>
            <a:ln w="76320">
              <a:solidFill>
                <a:srgbClr val="0000ff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C077-DF6C-4A46-B57C-3B837703D95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3" dur="1" fill="hold"/>
                                        <p:tgtEl>
                                          <p:spTgt spid="3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09480" y="2742840"/>
            <a:ext cx="7315200" cy="2133720"/>
          </a:xfrm>
          <a:prstGeom prst="rect">
            <a:avLst/>
          </a:prstGeom>
          <a:solidFill>
            <a:srgbClr val="e5ffe5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Arial"/>
              </a:rPr>
              <a:t>Problem State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Arial"/>
              </a:rPr>
              <a:t>Assuming only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brightness conservation</a:t>
            </a:r>
            <a:r>
              <a:rPr b="1" i="1" lang="en-US" sz="2800" spc="-1" strike="noStrike">
                <a:solidFill>
                  <a:srgbClr val="3333ff"/>
                </a:solidFill>
                <a:latin typeface="Arial"/>
              </a:rPr>
              <a:t> and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piecewise-smooth motion</a:t>
            </a:r>
            <a:r>
              <a:rPr b="1" i="1" lang="en-US" sz="2800" spc="-1" strike="noStrike">
                <a:solidFill>
                  <a:srgbClr val="3333ff"/>
                </a:solidFill>
                <a:latin typeface="Arial"/>
              </a:rPr>
              <a:t>, find the optical flow to best describe the intensity change in 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three </a:t>
            </a:r>
            <a:r>
              <a:rPr b="1" i="1" lang="en-US" sz="2800" spc="-1" strike="noStrike">
                <a:solidFill>
                  <a:srgbClr val="3333ff"/>
                </a:solidFill>
                <a:latin typeface="Arial"/>
              </a:rPr>
              <a:t>fra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94840" y="857160"/>
            <a:ext cx="852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ng Piecewise-Smooth Optical 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Global Matching and Graduated Opti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8DF9-84A7-4823-AEEA-B5D36044A17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pproach: Matching-Based Global Optimiz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99160" y="2390760"/>
            <a:ext cx="8219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tep 1.   Robust local gradient-based method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high-quality initial flow estim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tep 2.   Global gradient-based method to improv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flow-field cohe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tep 3.   Global matching that minimizes energy by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             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reedy approa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65E6-B68F-4FC8-A9CE-ED281E64397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lobal Energy Desig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3733920" y="1459080"/>
                <a:ext cx="27414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all sites s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>
            <a:off x="685800" y="2819520"/>
            <a:ext cx="8001000" cy="235368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V is the optical flow fie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6600cc"/>
                </a:solidFill>
                <a:latin typeface="Arial"/>
              </a:rPr>
              <a:t>s </a:t>
            </a: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 is the optical flow at pixel (site) 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6600cc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 is the brightness conservation err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6600cc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 is the flow smoothness error in a neighborhood about   pixel 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166760" y="4838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42160" y="3160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81BF-C923-4B09-8BD2-CB4E8022873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lobal Energy Desig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ghtness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ping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3886200" y="1062000"/>
                <a:ext cx="27306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3886200" y="1905120"/>
                <a:ext cx="45496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(</m:t>
                    </m:r>
                    <m:r>
                      <m:t xml:space="preserve">|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,</m:t>
                    </m:r>
                    <m:r>
                      <m:t xml:space="preserve">|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2895480" y="5943600"/>
                <a:ext cx="170028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4" name=""/>
          <p:cNvSpPr/>
          <p:nvPr/>
        </p:nvSpPr>
        <p:spPr>
          <a:xfrm>
            <a:off x="673920" y="6093000"/>
            <a:ext cx="74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Error function: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scale parame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733920" y="914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23680" y="2890800"/>
            <a:ext cx="5820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the warped intensity in the previous fra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the warped intensity in the next fra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2160" y="3160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19320" y="4038480"/>
            <a:ext cx="142704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895480" y="4038480"/>
            <a:ext cx="14274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640400" y="4038480"/>
            <a:ext cx="142704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76880" y="5146560"/>
            <a:ext cx="38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I                    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505320" y="4495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83240" y="4495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32080" y="4495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262480" y="449568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1660680" y="4495680"/>
            <a:ext cx="32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E3E4-F8F9-4B76-AD82-757B5DFC734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lobal Energy Desig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oothness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3917880" y="1401840"/>
                <a:ext cx="343872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∈</m:t>
                        </m:r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8</m:t>
                            </m:r>
                          </m:sup>
                        </m:sSubSup>
                      </m:sub>
                      <m:sup/>
                      <m:e>
                        <m:r>
                          <m:t xml:space="preserve">ρ</m:t>
                        </m:r>
                        <m:r>
                          <m:t xml:space="preserve">(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2895480" y="5943600"/>
                <a:ext cx="170028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1" name=""/>
          <p:cNvSpPr/>
          <p:nvPr/>
        </p:nvSpPr>
        <p:spPr>
          <a:xfrm>
            <a:off x="685080" y="609588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Error fun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733920" y="914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616800" y="1401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246320" y="3022560"/>
            <a:ext cx="74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Smoothness error is computed in a neighborhood around pixel 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38080" y="4070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842160" y="3160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95440" y="3730680"/>
            <a:ext cx="1708200" cy="1342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257800" y="3730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51B7-C7F2-4675-8535-D493E81510A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verall Algorith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1143000"/>
            <a:ext cx="2126880" cy="5199480"/>
            <a:chOff x="533520" y="1143000"/>
            <a:chExt cx="2126880" cy="5199480"/>
          </a:xfrm>
        </p:grpSpPr>
        <p:sp>
          <p:nvSpPr>
            <p:cNvPr id="401" name=""/>
            <p:cNvSpPr/>
            <p:nvPr/>
          </p:nvSpPr>
          <p:spPr>
            <a:xfrm>
              <a:off x="685800" y="5943600"/>
              <a:ext cx="197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00"/>
                  </a:solidFill>
                  <a:latin typeface="Arial"/>
                </a:rPr>
                <a:t>Image pyram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533520" y="1143000"/>
              <a:ext cx="2057400" cy="4653000"/>
              <a:chOff x="533520" y="1143000"/>
              <a:chExt cx="2057400" cy="4653000"/>
            </a:xfrm>
          </p:grpSpPr>
          <p:grpSp>
            <p:nvGrpSpPr>
              <p:cNvPr id="403" name=""/>
              <p:cNvGrpSpPr/>
              <p:nvPr/>
            </p:nvGrpSpPr>
            <p:grpSpPr>
              <a:xfrm>
                <a:off x="990720" y="1143000"/>
                <a:ext cx="1600200" cy="4648320"/>
                <a:chOff x="990720" y="1143000"/>
                <a:chExt cx="1600200" cy="4648320"/>
              </a:xfrm>
            </p:grpSpPr>
            <p:grpSp>
              <p:nvGrpSpPr>
                <p:cNvPr id="404" name=""/>
                <p:cNvGrpSpPr/>
                <p:nvPr/>
              </p:nvGrpSpPr>
              <p:grpSpPr>
                <a:xfrm>
                  <a:off x="990720" y="5181480"/>
                  <a:ext cx="1600200" cy="609840"/>
                  <a:chOff x="990720" y="5181480"/>
                  <a:chExt cx="1600200" cy="60984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>
                    <a:off x="990720" y="5334120"/>
                    <a:ext cx="1600200" cy="457200"/>
                  </a:xfrm>
                  <a:prstGeom prst="parallelogram">
                    <a:avLst>
                      <a:gd name="adj" fmla="val 90627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990720" y="5257800"/>
                    <a:ext cx="1600200" cy="457200"/>
                  </a:xfrm>
                  <a:prstGeom prst="parallelogram">
                    <a:avLst>
                      <a:gd name="adj" fmla="val 90627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990720" y="5181480"/>
                    <a:ext cx="1600200" cy="457200"/>
                  </a:xfrm>
                  <a:prstGeom prst="parallelogram">
                    <a:avLst>
                      <a:gd name="adj" fmla="val 90627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8" name=""/>
                <p:cNvGrpSpPr/>
                <p:nvPr/>
              </p:nvGrpSpPr>
              <p:grpSpPr>
                <a:xfrm>
                  <a:off x="990720" y="1143000"/>
                  <a:ext cx="1574640" cy="4502160"/>
                  <a:chOff x="990720" y="1143000"/>
                  <a:chExt cx="1574640" cy="450216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>
                    <a:off x="1415880" y="1143000"/>
                    <a:ext cx="1149480" cy="404496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9360">
                    <a:solidFill>
                      <a:srgbClr val="ff00ff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990720" y="1143000"/>
                    <a:ext cx="1149120" cy="4502160"/>
                  </a:xfrm>
                  <a:prstGeom prst="triangle">
                    <a:avLst>
                      <a:gd name="adj" fmla="val 87981"/>
                    </a:avLst>
                  </a:prstGeom>
                  <a:noFill/>
                  <a:ln w="9360">
                    <a:solidFill>
                      <a:srgbClr val="ff00ff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1" name=""/>
                <p:cNvGrpSpPr/>
                <p:nvPr/>
              </p:nvGrpSpPr>
              <p:grpSpPr>
                <a:xfrm>
                  <a:off x="1219320" y="4343400"/>
                  <a:ext cx="1218960" cy="456840"/>
                  <a:chOff x="1219320" y="4343400"/>
                  <a:chExt cx="1218960" cy="45684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>
                    <a:off x="1219320" y="4457520"/>
                    <a:ext cx="1218960" cy="342720"/>
                  </a:xfrm>
                  <a:prstGeom prst="parallelogram">
                    <a:avLst>
                      <a:gd name="adj" fmla="val 92096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1219320" y="4400280"/>
                    <a:ext cx="1218960" cy="342720"/>
                  </a:xfrm>
                  <a:prstGeom prst="parallelogram">
                    <a:avLst>
                      <a:gd name="adj" fmla="val 92096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1219320" y="4343400"/>
                    <a:ext cx="1218960" cy="342720"/>
                  </a:xfrm>
                  <a:prstGeom prst="parallelogram">
                    <a:avLst>
                      <a:gd name="adj" fmla="val 92096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5" name=""/>
                <p:cNvGrpSpPr/>
                <p:nvPr/>
              </p:nvGrpSpPr>
              <p:grpSpPr>
                <a:xfrm>
                  <a:off x="1523880" y="3048120"/>
                  <a:ext cx="762120" cy="304200"/>
                  <a:chOff x="1523880" y="3048120"/>
                  <a:chExt cx="762120" cy="30420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1523880" y="3124080"/>
                    <a:ext cx="762120" cy="228240"/>
                  </a:xfrm>
                  <a:prstGeom prst="parallelogram">
                    <a:avLst>
                      <a:gd name="adj" fmla="val 86461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1523880" y="3085920"/>
                    <a:ext cx="762120" cy="228240"/>
                  </a:xfrm>
                  <a:prstGeom prst="parallelogram">
                    <a:avLst>
                      <a:gd name="adj" fmla="val 86461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1523880" y="3048120"/>
                    <a:ext cx="762120" cy="228240"/>
                  </a:xfrm>
                  <a:prstGeom prst="parallelogram">
                    <a:avLst>
                      <a:gd name="adj" fmla="val 86461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9" name=""/>
                <p:cNvSpPr/>
                <p:nvPr/>
              </p:nvSpPr>
              <p:spPr>
                <a:xfrm>
                  <a:off x="1905120" y="3657600"/>
                  <a:ext cx="0" cy="380880"/>
                </a:xfrm>
                <a:prstGeom prst="line">
                  <a:avLst/>
                </a:prstGeom>
                <a:ln cap="rnd" w="38160">
                  <a:solidFill>
                    <a:srgbClr val="ff00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420" name=""/>
                  <p:cNvSpPr txBox="1"/>
                  <p:nvPr/>
                </p:nvSpPr>
                <p:spPr>
                  <a:xfrm>
                    <a:off x="762120" y="2971800"/>
                    <a:ext cx="566640" cy="385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21" name=""/>
                  <p:cNvSpPr txBox="1"/>
                  <p:nvPr/>
                </p:nvSpPr>
                <p:spPr>
                  <a:xfrm>
                    <a:off x="685800" y="4419720"/>
                    <a:ext cx="385920" cy="385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22" name=""/>
                  <p:cNvSpPr txBox="1"/>
                  <p:nvPr/>
                </p:nvSpPr>
                <p:spPr>
                  <a:xfrm>
                    <a:off x="533520" y="5410080"/>
                    <a:ext cx="360360" cy="385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423" name=""/>
          <p:cNvGrpSpPr/>
          <p:nvPr/>
        </p:nvGrpSpPr>
        <p:grpSpPr>
          <a:xfrm>
            <a:off x="3165480" y="812880"/>
            <a:ext cx="4835520" cy="5928840"/>
            <a:chOff x="3165480" y="812880"/>
            <a:chExt cx="4835520" cy="5928840"/>
          </a:xfrm>
        </p:grpSpPr>
        <mc:AlternateContent>
          <mc:Choice xmlns:a14="http://schemas.microsoft.com/office/drawing/2010/main" Requires="a14">
            <p:sp>
              <p:nvSpPr>
                <p:cNvPr id="424" name=""/>
                <p:cNvSpPr txBox="1"/>
                <p:nvPr/>
              </p:nvSpPr>
              <p:spPr>
                <a:xfrm>
                  <a:off x="6172200" y="6259320"/>
                  <a:ext cx="619200" cy="48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p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425" name=""/>
            <p:cNvSpPr/>
            <p:nvPr/>
          </p:nvSpPr>
          <p:spPr>
            <a:xfrm>
              <a:off x="3352680" y="888120"/>
              <a:ext cx="4648320" cy="0"/>
            </a:xfrm>
            <a:prstGeom prst="line">
              <a:avLst/>
            </a:prstGeom>
            <a:ln w="93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6" name=""/>
                <p:cNvSpPr txBox="1"/>
                <p:nvPr/>
              </p:nvSpPr>
              <p:spPr>
                <a:xfrm>
                  <a:off x="3809880" y="1640160"/>
                  <a:ext cx="38592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I</m:t>
                          </m:r>
                        </m:e>
                        <m:sup>
                          <m:r>
                            <m:t xml:space="preserve">p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427" name=""/>
            <p:cNvSpPr/>
            <p:nvPr/>
          </p:nvSpPr>
          <p:spPr>
            <a:xfrm>
              <a:off x="5715000" y="1402200"/>
              <a:ext cx="785880" cy="398880"/>
            </a:xfrm>
            <a:prstGeom prst="rect">
              <a:avLst/>
            </a:prstGeom>
            <a:solidFill>
              <a:srgbClr val="ffc3c4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ar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095880" y="1820160"/>
              <a:ext cx="0" cy="3650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095880" y="812880"/>
              <a:ext cx="0" cy="5702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809880" y="1565280"/>
              <a:ext cx="1905120" cy="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1" name=""/>
                <p:cNvSpPr txBox="1"/>
                <p:nvPr/>
              </p:nvSpPr>
              <p:spPr>
                <a:xfrm>
                  <a:off x="6197760" y="1740600"/>
                  <a:ext cx="385560" cy="48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w</m:t>
                          </m:r>
                        </m:sub>
                        <m:sup>
                          <m:r>
                            <m:t xml:space="preserve">p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2" name=""/>
                <p:cNvSpPr txBox="1"/>
                <p:nvPr/>
              </p:nvSpPr>
              <p:spPr>
                <a:xfrm>
                  <a:off x="5638680" y="812880"/>
                  <a:ext cx="43812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p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433" name=""/>
            <p:cNvSpPr/>
            <p:nvPr/>
          </p:nvSpPr>
          <p:spPr>
            <a:xfrm>
              <a:off x="4826160" y="2168640"/>
              <a:ext cx="2666880" cy="398880"/>
            </a:xfrm>
            <a:prstGeom prst="rect">
              <a:avLst/>
            </a:prstGeom>
            <a:solidFill>
              <a:srgbClr val="ffc68d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alculate gradi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127920" y="3334320"/>
              <a:ext cx="0" cy="4309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5" name=""/>
                <p:cNvSpPr txBox="1"/>
                <p:nvPr/>
              </p:nvSpPr>
              <p:spPr>
                <a:xfrm>
                  <a:off x="6222960" y="3295440"/>
                  <a:ext cx="1720800" cy="53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V</m:t>
                          </m:r>
                        </m:e>
                        <m:sub>
                          <m:sSup>
                            <m:e>
                              <m:r>
                                <m:t xml:space="preserve">0</m:t>
                              </m:r>
                            </m:e>
                            <m:sup>
                              <m:r>
                                <m:t xml:space="preserve">p</m:t>
                              </m:r>
                            </m:sup>
                          </m:sSup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36" name=""/>
            <p:cNvSpPr/>
            <p:nvPr/>
          </p:nvSpPr>
          <p:spPr>
            <a:xfrm>
              <a:off x="5943600" y="4499280"/>
              <a:ext cx="304920" cy="300600"/>
            </a:xfrm>
            <a:prstGeom prst="flowChartOr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102360" y="4788720"/>
              <a:ext cx="0" cy="316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952880" y="5104080"/>
              <a:ext cx="2181240" cy="398880"/>
            </a:xfrm>
            <a:prstGeom prst="rect">
              <a:avLst/>
            </a:prstGeom>
            <a:solidFill>
              <a:srgbClr val="a7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lobal match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094440" y="5508720"/>
              <a:ext cx="0" cy="3837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0" name=""/>
                <p:cNvSpPr txBox="1"/>
                <p:nvPr/>
              </p:nvSpPr>
              <p:spPr>
                <a:xfrm>
                  <a:off x="6186600" y="5433120"/>
                  <a:ext cx="438120" cy="45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p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441" name=""/>
            <p:cNvSpPr/>
            <p:nvPr/>
          </p:nvSpPr>
          <p:spPr>
            <a:xfrm>
              <a:off x="5257800" y="5929560"/>
              <a:ext cx="1700280" cy="398880"/>
            </a:xfrm>
            <a:prstGeom prst="rect">
              <a:avLst/>
            </a:prstGeom>
            <a:solidFill>
              <a:srgbClr val="e5e5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j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095880" y="6336000"/>
              <a:ext cx="1800" cy="369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5853240"/>
              <a:ext cx="4648320" cy="0"/>
            </a:xfrm>
            <a:prstGeom prst="line">
              <a:avLst/>
            </a:prstGeom>
            <a:ln w="93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277440" y="103824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00"/>
                  </a:solidFill>
                  <a:latin typeface="Arial"/>
                </a:rPr>
                <a:t>Level 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165480" y="5853240"/>
              <a:ext cx="12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00"/>
                  </a:solidFill>
                  <a:latin typeface="Arial"/>
                </a:rPr>
                <a:t>Level p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283360" y="2996280"/>
              <a:ext cx="1828800" cy="398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cal OF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7" name=""/>
                <p:cNvSpPr txBox="1"/>
                <p:nvPr/>
              </p:nvSpPr>
              <p:spPr>
                <a:xfrm>
                  <a:off x="6095880" y="2543040"/>
                  <a:ext cx="59076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∇</m:t>
                      </m:r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w</m:t>
                          </m:r>
                        </m:sub>
                        <m:sup>
                          <m:r>
                            <m:t xml:space="preserve">p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448" name=""/>
            <p:cNvSpPr/>
            <p:nvPr/>
          </p:nvSpPr>
          <p:spPr>
            <a:xfrm>
              <a:off x="6095880" y="2543040"/>
              <a:ext cx="0" cy="4669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272200" y="3767400"/>
              <a:ext cx="1828800" cy="398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lobal OF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4160520"/>
              <a:ext cx="0" cy="3636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1" name=""/>
            <p:cNvCxnSpPr>
              <a:stCxn id="429" idx="0"/>
              <a:endCxn id="436" idx="6"/>
            </p:cNvCxnSpPr>
            <p:nvPr/>
          </p:nvCxnSpPr>
          <p:spPr>
            <a:xfrm flipH="1" rot="16200000">
              <a:off x="4538880" y="2939400"/>
              <a:ext cx="3267000" cy="153360"/>
            </a:xfrm>
            <a:prstGeom prst="bentConnector4">
              <a:avLst>
                <a:gd name="adj1" fmla="val -5851"/>
                <a:gd name="adj2" fmla="val 1204000"/>
              </a:avLst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</p:cxnSp>
        <p:cxnSp>
          <p:nvCxnSpPr>
            <p:cNvPr id="452" name=""/>
            <p:cNvCxnSpPr/>
            <p:nvPr/>
          </p:nvCxnSpPr>
          <p:spPr>
            <a:xfrm flipH="1">
              <a:off x="7086240" y="3972240"/>
              <a:ext cx="838800" cy="1080"/>
            </a:xfrm>
            <a:prstGeom prst="straightConnector1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</p:cxnSp>
        <p:cxnSp>
          <p:nvCxnSpPr>
            <p:cNvPr id="453" name=""/>
            <p:cNvCxnSpPr>
              <a:stCxn id="448" idx="0"/>
              <a:endCxn id="449" idx="1"/>
            </p:cNvCxnSpPr>
            <p:nvPr/>
          </p:nvCxnSpPr>
          <p:spPr>
            <a:xfrm rot="5400000">
              <a:off x="5205600" y="3075840"/>
              <a:ext cx="956520" cy="824400"/>
            </a:xfrm>
            <a:prstGeom prst="bentConnector4">
              <a:avLst>
                <a:gd name="adj1" fmla="val -19013"/>
                <a:gd name="adj2" fmla="val 127741"/>
              </a:avLst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454" name=""/>
                <p:cNvSpPr txBox="1"/>
                <p:nvPr/>
              </p:nvSpPr>
              <p:spPr>
                <a:xfrm>
                  <a:off x="6248520" y="4122720"/>
                  <a:ext cx="66672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V</m:t>
                          </m:r>
                        </m:e>
                        <m:sub>
                          <m:sSup>
                            <m:e>
                              <m:r>
                                <m:t xml:space="preserve">1</m:t>
                              </m:r>
                            </m:e>
                            <m:sup>
                              <m:r>
                                <m:t xml:space="preserve">p</m:t>
                              </m:r>
                            </m:sup>
                          </m:sSup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5" name=""/>
                <p:cNvSpPr txBox="1"/>
                <p:nvPr/>
              </p:nvSpPr>
              <p:spPr>
                <a:xfrm>
                  <a:off x="6324480" y="4649400"/>
                  <a:ext cx="438120" cy="48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sSup>
                            <m:e>
                              <m:r>
                                <m:t xml:space="preserve">1</m:t>
                              </m:r>
                            </m:e>
                            <m:sup>
                              <m:r>
                                <m:t xml:space="preserve">p</m:t>
                              </m:r>
                            </m:sup>
                          </m:sSup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cxnSp>
          <p:nvCxnSpPr>
            <p:cNvPr id="456" name=""/>
            <p:cNvCxnSpPr>
              <a:stCxn id="430" idx="0"/>
              <a:endCxn id="438" idx="1"/>
            </p:cNvCxnSpPr>
            <p:nvPr/>
          </p:nvCxnSpPr>
          <p:spPr>
            <a:xfrm rot="5400000">
              <a:off x="3464280" y="3052800"/>
              <a:ext cx="3738600" cy="762840"/>
            </a:xfrm>
            <a:prstGeom prst="bentConnector4">
              <a:avLst>
                <a:gd name="adj1" fmla="val 163"/>
                <a:gd name="adj2" fmla="val 135788"/>
              </a:avLst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5EE4-E8AF-4812-9116-2D17209866D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ange detection for surveillan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deo frames: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F1, F2, F3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s appear, move, dis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ground pixels remain the same (simple c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How do you detect the moving objec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Simple answer: pixelwise sub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2590920"/>
            <a:ext cx="1752480" cy="15238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2590920"/>
            <a:ext cx="1752840" cy="15238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828800" y="2971800"/>
            <a:ext cx="1057320" cy="804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495680" y="3124080"/>
            <a:ext cx="1057320" cy="8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1F55-3838-4C6B-A88B-868A102F6B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of Every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OF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-quality initial flow estim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ust local scale estim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OF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flow smoot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M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ptimal f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ct errors caused by poor gradient quality and hierarchical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: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fast convergence, high accuracy, simultaneous motion boundary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FC92-C189-44E6-ACA8-0F7D8A02AEB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xperim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33160" y="2057400"/>
            <a:ext cx="8284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xperiments were run on several standard test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stimates of optical flow were made for the mid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rame of every th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he results were compared with the Black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nandan algorith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2E26-56DB-4781-A073-361C4E508CA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S: Translating Squar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brew, ideal setting, test performance upper 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1600200" y="2895480"/>
            <a:ext cx="1471680" cy="147168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464" name=""/>
          <p:cNvSpPr/>
          <p:nvPr/>
        </p:nvSpPr>
        <p:spPr>
          <a:xfrm>
            <a:off x="1071360" y="4419720"/>
            <a:ext cx="251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64x64, 1pixel/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3886200" y="190512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3984120" y="5105520"/>
            <a:ext cx="364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Groundtruth (cropped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ur estimate looks the s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C6C1-8CA5-4081-B2EA-E6C8D37F63E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S: Flow Estimate Plo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rcRect l="13022" t="7815" r="8848" b="11447"/>
          <a:stretch/>
        </p:blipFill>
        <p:spPr>
          <a:xfrm>
            <a:off x="762120" y="1676520"/>
            <a:ext cx="2286000" cy="236196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2"/>
          <a:srcRect l="18759" t="5557" r="16633" b="11115"/>
          <a:stretch/>
        </p:blipFill>
        <p:spPr>
          <a:xfrm>
            <a:off x="5943600" y="1676520"/>
            <a:ext cx="2362320" cy="228600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3"/>
          <a:srcRect l="18759" t="5557" r="16633" b="11115"/>
          <a:stretch/>
        </p:blipFill>
        <p:spPr>
          <a:xfrm>
            <a:off x="3352680" y="1676520"/>
            <a:ext cx="2362320" cy="228600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1678320" y="3962520"/>
            <a:ext cx="5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268520" y="39625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89040" y="3962520"/>
            <a:ext cx="20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S1 (S2 is clo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829880" y="4495680"/>
            <a:ext cx="53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S3 looks the same as the groundtru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9480" y="5257800"/>
            <a:ext cx="77724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1, S2, S3: results from our Step I, II, III (fi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C019-E44A-404D-A633-B5099EDDF86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T: Translating Tre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1690560" cy="169056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478" name=""/>
          <p:cNvSpPr/>
          <p:nvPr/>
        </p:nvSpPr>
        <p:spPr>
          <a:xfrm>
            <a:off x="1219320" y="3429000"/>
            <a:ext cx="259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150x150 (Barron 9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838080" y="3962520"/>
            <a:ext cx="3657600" cy="1317240"/>
            <a:chOff x="838080" y="3962520"/>
            <a:chExt cx="3657600" cy="1317240"/>
          </a:xfrm>
        </p:grpSpPr>
        <p:sp>
          <p:nvSpPr>
            <p:cNvPr id="480" name=""/>
            <p:cNvSpPr/>
            <p:nvPr/>
          </p:nvSpPr>
          <p:spPr>
            <a:xfrm>
              <a:off x="838080" y="3966120"/>
              <a:ext cx="3657600" cy="1313640"/>
            </a:xfrm>
            <a:prstGeom prst="rect">
              <a:avLst/>
            </a:prstGeom>
            <a:solidFill>
              <a:srgbClr val="ebffeb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BA    2.60     0.128    0.07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S3     0.248   0.0167  0.0098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1" name=""/>
                <p:cNvSpPr txBox="1"/>
                <p:nvPr/>
              </p:nvSpPr>
              <p:spPr>
                <a:xfrm>
                  <a:off x="1676520" y="3962520"/>
                  <a:ext cx="682560" cy="44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∠</m:t>
                          </m:r>
                        </m:sub>
                      </m:sSub>
                      <m:sSup>
                        <m:e>
                          <m:r>
                            <m:t xml:space="preserve">(</m:t>
                          </m:r>
                        </m:e>
                        <m:sup>
                          <m:r>
                            <m:t xml:space="preserve">∘</m:t>
                          </m:r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2" name=""/>
                <p:cNvSpPr txBox="1"/>
                <p:nvPr/>
              </p:nvSpPr>
              <p:spPr>
                <a:xfrm>
                  <a:off x="2590920" y="3962520"/>
                  <a:ext cx="804600" cy="47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|</m:t>
                          </m:r>
                          <m:r>
                            <m:t xml:space="preserve">⋅</m:t>
                          </m:r>
                          <m:r>
                            <m:t xml:space="preserve">|</m:t>
                          </m:r>
                        </m:sub>
                      </m:sSub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pi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3" name=""/>
            <p:cNvSpPr/>
            <p:nvPr/>
          </p:nvSpPr>
          <p:spPr>
            <a:xfrm>
              <a:off x="838080" y="4419720"/>
              <a:ext cx="365760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447920" y="3962520"/>
              <a:ext cx="0" cy="129528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5" name=""/>
                <p:cNvSpPr txBox="1"/>
                <p:nvPr/>
              </p:nvSpPr>
              <p:spPr>
                <a:xfrm>
                  <a:off x="3657600" y="4038480"/>
                  <a:ext cx="682560" cy="3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e</m:t>
                          </m:r>
                        </m:e>
                      </m:acc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pi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86" name="" descr=""/>
          <p:cNvPicPr/>
          <p:nvPr/>
        </p:nvPicPr>
        <p:blipFill>
          <a:blip r:embed="rId2"/>
          <a:srcRect l="5000" t="5000" r="6669" b="3330"/>
          <a:stretch/>
        </p:blipFill>
        <p:spPr>
          <a:xfrm>
            <a:off x="4572000" y="1523880"/>
            <a:ext cx="4038480" cy="419112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6859440" y="3886200"/>
            <a:ext cx="54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11560" y="5867280"/>
            <a:ext cx="833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e: error in pixels, cdf: culmulative distribution function for all pix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C6BF-72F2-4907-9251-497E77887B9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T: Diverging Tre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219320" y="3429000"/>
            <a:ext cx="259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150x150 (Barron 9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838080" y="3962520"/>
            <a:ext cx="3657600" cy="1317240"/>
            <a:chOff x="838080" y="3962520"/>
            <a:chExt cx="3657600" cy="1317240"/>
          </a:xfrm>
        </p:grpSpPr>
        <p:sp>
          <p:nvSpPr>
            <p:cNvPr id="492" name=""/>
            <p:cNvSpPr/>
            <p:nvPr/>
          </p:nvSpPr>
          <p:spPr>
            <a:xfrm>
              <a:off x="838080" y="3966120"/>
              <a:ext cx="3657600" cy="1313640"/>
            </a:xfrm>
            <a:prstGeom prst="rect">
              <a:avLst/>
            </a:prstGeom>
            <a:solidFill>
              <a:srgbClr val="ebffeb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BA    6.36      0.182      0.1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S3     2.60      0.0813    0.050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3" name=""/>
                <p:cNvSpPr txBox="1"/>
                <p:nvPr/>
              </p:nvSpPr>
              <p:spPr>
                <a:xfrm>
                  <a:off x="1676520" y="3962520"/>
                  <a:ext cx="682560" cy="44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∠</m:t>
                          </m:r>
                        </m:sub>
                      </m:sSub>
                      <m:sSup>
                        <m:e>
                          <m:r>
                            <m:t xml:space="preserve">(</m:t>
                          </m:r>
                        </m:e>
                        <m:sup>
                          <m:r>
                            <m:t xml:space="preserve">∘</m:t>
                          </m:r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4" name=""/>
                <p:cNvSpPr txBox="1"/>
                <p:nvPr/>
              </p:nvSpPr>
              <p:spPr>
                <a:xfrm>
                  <a:off x="2590920" y="3962520"/>
                  <a:ext cx="804600" cy="47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|</m:t>
                          </m:r>
                          <m:r>
                            <m:t xml:space="preserve">⋅</m:t>
                          </m:r>
                          <m:r>
                            <m:t xml:space="preserve">|</m:t>
                          </m:r>
                        </m:sub>
                      </m:sSub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pi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5" name=""/>
            <p:cNvSpPr/>
            <p:nvPr/>
          </p:nvSpPr>
          <p:spPr>
            <a:xfrm>
              <a:off x="838080" y="4419720"/>
              <a:ext cx="365760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447920" y="3962520"/>
              <a:ext cx="0" cy="129528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7" name=""/>
                <p:cNvSpPr txBox="1"/>
                <p:nvPr/>
              </p:nvSpPr>
              <p:spPr>
                <a:xfrm>
                  <a:off x="3657600" y="4038480"/>
                  <a:ext cx="682560" cy="3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e</m:t>
                          </m:r>
                        </m:e>
                      </m:acc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pi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98" name="" descr=""/>
          <p:cNvPicPr/>
          <p:nvPr/>
        </p:nvPicPr>
        <p:blipFill>
          <a:blip r:embed="rId1"/>
          <a:srcRect l="5000" t="5000" r="8330" b="3330"/>
          <a:stretch/>
        </p:blipFill>
        <p:spPr>
          <a:xfrm>
            <a:off x="4572000" y="1447920"/>
            <a:ext cx="3962520" cy="419076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2"/>
          <a:srcRect l="179" t="0" r="0" b="0"/>
          <a:stretch/>
        </p:blipFill>
        <p:spPr>
          <a:xfrm>
            <a:off x="1674720" y="1676520"/>
            <a:ext cx="1687680" cy="169056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500" name=""/>
          <p:cNvSpPr/>
          <p:nvPr/>
        </p:nvSpPr>
        <p:spPr>
          <a:xfrm>
            <a:off x="6859440" y="3886200"/>
            <a:ext cx="54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8447-3A69-414E-A1FF-44599E6373B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1"/>
          <a:srcRect l="5000" t="5000" r="8330" b="3330"/>
          <a:stretch/>
        </p:blipFill>
        <p:spPr>
          <a:xfrm>
            <a:off x="4648320" y="1523880"/>
            <a:ext cx="3962160" cy="419112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YOS: Yosemite Fly-Throug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762120" y="4267080"/>
            <a:ext cx="3657600" cy="1317240"/>
            <a:chOff x="762120" y="4267080"/>
            <a:chExt cx="3657600" cy="1317240"/>
          </a:xfrm>
        </p:grpSpPr>
        <p:sp>
          <p:nvSpPr>
            <p:cNvPr id="504" name=""/>
            <p:cNvSpPr/>
            <p:nvPr/>
          </p:nvSpPr>
          <p:spPr>
            <a:xfrm>
              <a:off x="762120" y="4270680"/>
              <a:ext cx="3657600" cy="1313640"/>
            </a:xfrm>
            <a:prstGeom prst="rect">
              <a:avLst/>
            </a:prstGeom>
            <a:solidFill>
              <a:srgbClr val="ebffeb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BA    2.71      0.185      0.11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S3     1.92      0.120      0.077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5" name=""/>
                <p:cNvSpPr txBox="1"/>
                <p:nvPr/>
              </p:nvSpPr>
              <p:spPr>
                <a:xfrm>
                  <a:off x="1600200" y="4267080"/>
                  <a:ext cx="68256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∠</m:t>
                          </m:r>
                        </m:sub>
                      </m:sSub>
                      <m:sSup>
                        <m:e>
                          <m:r>
                            <m:t xml:space="preserve">(</m:t>
                          </m:r>
                        </m:e>
                        <m:sup>
                          <m:r>
                            <m:t xml:space="preserve">∘</m:t>
                          </m:r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6" name=""/>
                <p:cNvSpPr txBox="1"/>
                <p:nvPr/>
              </p:nvSpPr>
              <p:spPr>
                <a:xfrm>
                  <a:off x="2514600" y="4267080"/>
                  <a:ext cx="804960" cy="47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|</m:t>
                          </m:r>
                          <m:r>
                            <m:t xml:space="preserve">⋅</m:t>
                          </m:r>
                          <m:r>
                            <m:t xml:space="preserve">|</m:t>
                          </m:r>
                        </m:sub>
                      </m:sSub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pi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7" name=""/>
            <p:cNvSpPr/>
            <p:nvPr/>
          </p:nvSpPr>
          <p:spPr>
            <a:xfrm>
              <a:off x="762120" y="4724280"/>
              <a:ext cx="365760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371600" y="4267080"/>
              <a:ext cx="0" cy="12956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9" name=""/>
                <p:cNvSpPr txBox="1"/>
                <p:nvPr/>
              </p:nvSpPr>
              <p:spPr>
                <a:xfrm>
                  <a:off x="3581280" y="4343400"/>
                  <a:ext cx="68292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e</m:t>
                          </m:r>
                        </m:e>
                      </m:acc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pi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10" name=""/>
          <p:cNvSpPr/>
          <p:nvPr/>
        </p:nvSpPr>
        <p:spPr>
          <a:xfrm>
            <a:off x="6859440" y="3886200"/>
            <a:ext cx="54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2"/>
          <a:srcRect l="0" t="345" r="0" b="0"/>
          <a:stretch/>
        </p:blipFill>
        <p:spPr>
          <a:xfrm>
            <a:off x="1143000" y="1379520"/>
            <a:ext cx="2889360" cy="229572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512" name=""/>
          <p:cNvSpPr/>
          <p:nvPr/>
        </p:nvSpPr>
        <p:spPr>
          <a:xfrm>
            <a:off x="453960" y="3733920"/>
            <a:ext cx="424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316x252 (Barron, cloud exclud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D2AE-B2F3-45CD-BEE0-59AE084A172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AXI: Hamburg Tax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2833560" cy="210348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3200400" y="1219320"/>
            <a:ext cx="2778120" cy="210024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3"/>
          <a:stretch/>
        </p:blipFill>
        <p:spPr>
          <a:xfrm>
            <a:off x="6095880" y="1219320"/>
            <a:ext cx="2778120" cy="210024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50480" y="3276720"/>
            <a:ext cx="312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256x190, (Barron 9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max speed 3.0 pix/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192920" y="327672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L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162920" y="3276720"/>
            <a:ext cx="55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4"/>
          <a:stretch/>
        </p:blipFill>
        <p:spPr>
          <a:xfrm>
            <a:off x="152280" y="3962520"/>
            <a:ext cx="2824200" cy="209556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5"/>
          <a:stretch/>
        </p:blipFill>
        <p:spPr>
          <a:xfrm>
            <a:off x="3124080" y="3962520"/>
            <a:ext cx="2833920" cy="210348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6"/>
          <a:stretch/>
        </p:blipFill>
        <p:spPr>
          <a:xfrm>
            <a:off x="6095880" y="3962520"/>
            <a:ext cx="2833920" cy="21034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3810600" y="601992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Error 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324120" y="6019920"/>
            <a:ext cx="23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Smoothness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067400" y="601992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D658-FE6B-4E3F-80EB-2BF0FEA85FA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raffi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457200" y="36576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3200400" y="36576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3"/>
          <a:stretch/>
        </p:blipFill>
        <p:spPr>
          <a:xfrm>
            <a:off x="5943600" y="36576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4"/>
          <a:stretch/>
        </p:blipFill>
        <p:spPr>
          <a:xfrm>
            <a:off x="571500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3352680" y="1905120"/>
            <a:ext cx="1752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512x5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(Nag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max spe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6.0 pix/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781680" y="320040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734640" y="624852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Error 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95520" y="6248520"/>
            <a:ext cx="23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Smoothness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19320" y="6248520"/>
            <a:ext cx="7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5"/>
          <a:stretch/>
        </p:blipFill>
        <p:spPr>
          <a:xfrm>
            <a:off x="685800" y="685800"/>
            <a:ext cx="2595600" cy="25956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8234-8C1F-4B22-BDB9-DB6AF3E653D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restart="whenNotActive" nodeType="interactiveSeq" fill="hold">
                <p:stCondLst>
                  <p:cond evt="onClick">
                    <p:tgtEl>
                      <p:spTgt spid="536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536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0" dur="1" fill="hold"/>
                                        <p:tgtEl>
                                          <p:spTgt spid="5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epsi Ca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182680" cy="218268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5181480" y="1143000"/>
            <a:ext cx="2297160" cy="229716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3"/>
          <a:stretch/>
        </p:blipFill>
        <p:spPr>
          <a:xfrm>
            <a:off x="5181480" y="3886200"/>
            <a:ext cx="2297160" cy="229716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3581280" y="1981080"/>
            <a:ext cx="156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201x2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(Bla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Max spe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2pix/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657600" y="533412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468200" y="27432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435080" y="502920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Smooth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4"/>
          <a:stretch/>
        </p:blipFill>
        <p:spPr>
          <a:xfrm>
            <a:off x="1295280" y="1143000"/>
            <a:ext cx="2286000" cy="22860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BFFC-358C-4326-AC4C-41D233CC4A9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restart="whenNotActive" nodeType="interactiveSeq" fill="hold">
                <p:stCondLst>
                  <p:cond evt="onClick">
                    <p:tgtEl>
                      <p:spTgt spid="545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545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6" dur="1" fill="hold"/>
                                        <p:tgtEl>
                                          <p:spTgt spid="5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Person detected entering ro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3539880" cy="2735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876920" y="1150920"/>
            <a:ext cx="3581280" cy="2727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14400" y="4114800"/>
            <a:ext cx="7543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el changes detected as differen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s are (1) person, (2) opened door, and (3) computer monit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can know about the door and monitor. Only the person region is “unexpected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B5B9-1943-4C91-A946-C90C367E56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G: Flower Gard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3025800" cy="201600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3048120" y="1066680"/>
            <a:ext cx="3052800" cy="207828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-2520" y="3124080"/>
            <a:ext cx="291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360x240 (Bla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Max speed: 7pix/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267080" y="312408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3"/>
          <a:stretch/>
        </p:blipFill>
        <p:spPr>
          <a:xfrm>
            <a:off x="3048120" y="3962520"/>
            <a:ext cx="3035160" cy="202248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4"/>
          <a:stretch/>
        </p:blipFill>
        <p:spPr>
          <a:xfrm>
            <a:off x="0" y="3962520"/>
            <a:ext cx="3035160" cy="202248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5"/>
          <a:stretch/>
        </p:blipFill>
        <p:spPr>
          <a:xfrm>
            <a:off x="6108840" y="3962520"/>
            <a:ext cx="3035160" cy="202248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6"/>
          <a:stretch/>
        </p:blipFill>
        <p:spPr>
          <a:xfrm>
            <a:off x="6100920" y="1066680"/>
            <a:ext cx="3043080" cy="207180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7162920" y="3124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L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810600" y="601992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Error 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324120" y="6019920"/>
            <a:ext cx="23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Smoothness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067400" y="601992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B42D-9D55-4DED-8658-C7C2A7602D9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2" dur="1" fill="hold"/>
                                        <p:tgtEl>
                                          <p:spTgt spid="5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547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7" dur="1" fill="hold"/>
                                        <p:tgtEl>
                                          <p:spTgt spid="5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Detection via Image Subt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2840" y="1371600"/>
            <a:ext cx="8693640" cy="3751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ixel [r,c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 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(|I1[r,c] - I2[r,c]| &gt; threshol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 Iout[r,c] = 1 else Iout[r,c]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 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connected compon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I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Remove small reg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 a 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clos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a small disk for merging close neighb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and return the 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bounding box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 of each remaining reg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6440" y="5527800"/>
            <a:ext cx="659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at assumption does this make about the chang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0B0C-E0EA-4829-A407-AFB69C1C6B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ange analysi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14600" y="1905120"/>
            <a:ext cx="3505320" cy="26668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828800" y="5029200"/>
            <a:ext cx="670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n regions are ignored and system attends to the unexpected region of change. Region has bounding box similar to that of a person. System might then zoom in on “head” area and attempt face recogn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33920" y="2819520"/>
            <a:ext cx="685800" cy="160020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A244-3C8A-4260-B49A-042B945507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ptical flow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44440" y="2498760"/>
            <a:ext cx="4251240" cy="1920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629240" y="1600200"/>
            <a:ext cx="4057560" cy="379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50E3-63A9-4934-A099-8AF4C87D59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oblem definition:  optical flow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581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estimate pixel motion from image H to image 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52480" y="1219320"/>
            <a:ext cx="2210040" cy="167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175248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1752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0" y="2286000"/>
            <a:ext cx="76320" cy="76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00400" y="228600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362320" y="1599840"/>
            <a:ext cx="1066680" cy="968760"/>
            <a:chOff x="2362320" y="1599840"/>
            <a:chExt cx="1066680" cy="968760"/>
          </a:xfrm>
        </p:grpSpPr>
        <p:sp>
          <p:nvSpPr>
            <p:cNvPr id="84" name=""/>
            <p:cNvSpPr/>
            <p:nvPr/>
          </p:nvSpPr>
          <p:spPr>
            <a:xfrm flipV="1">
              <a:off x="2362320" y="159984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362320" y="2319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274920" y="1828800"/>
              <a:ext cx="154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43240" y="2373480"/>
              <a:ext cx="0" cy="19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5105520" y="1219320"/>
            <a:ext cx="2209680" cy="167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67280" y="156204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81680" y="194328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43600" y="2281320"/>
            <a:ext cx="76320" cy="759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248112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40384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e pixel correspondence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iven a pixel in H, look for nearby pixels of the same color in 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71600" y="2965320"/>
            <a:ext cx="1090800" cy="320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692680" y="2984400"/>
            <a:ext cx="959040" cy="31932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685800" y="4419720"/>
            <a:ext cx="7772400" cy="2209680"/>
            <a:chOff x="685800" y="4419720"/>
            <a:chExt cx="7772400" cy="2209680"/>
          </a:xfrm>
        </p:grpSpPr>
        <p:sp>
          <p:nvSpPr>
            <p:cNvPr id="97" name=""/>
            <p:cNvSpPr/>
            <p:nvPr/>
          </p:nvSpPr>
          <p:spPr>
            <a:xfrm>
              <a:off x="685800" y="4800600"/>
              <a:ext cx="77724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 marL="315360" indent="-31536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Key assump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3280" indent="-262800">
                <a:lnSpc>
                  <a:spcPct val="100000"/>
                </a:lnSpc>
                <a:spcBef>
                  <a:spcPts val="499"/>
                </a:spcBef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color constancy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: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point in H looks the same in 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051560" indent="-2102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 grayscale images, this is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rightness constan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3280" indent="-262800">
                <a:lnSpc>
                  <a:spcPct val="100000"/>
                </a:lnSpc>
                <a:spcBef>
                  <a:spcPts val="499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small motion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:  points do not move very f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15360" indent="-31536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is is called the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tical flow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probl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4267080" y="4419720"/>
              <a:ext cx="2819520" cy="228600"/>
              <a:chOff x="4267080" y="4419720"/>
              <a:chExt cx="2819520" cy="228600"/>
            </a:xfrm>
          </p:grpSpPr>
          <p:sp>
            <p:nvSpPr>
              <p:cNvPr id="99" name=""/>
              <p:cNvSpPr/>
              <p:nvPr/>
            </p:nvSpPr>
            <p:spPr>
              <a:xfrm>
                <a:off x="4267080" y="4419720"/>
                <a:ext cx="685800" cy="2286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095880" y="4419720"/>
                <a:ext cx="990720" cy="228600"/>
              </a:xfrm>
              <a:prstGeom prst="rect">
                <a:avLst/>
              </a:prstGeom>
              <a:noFill/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C173-74DC-4FDE-A032-1666AA81A6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0T17:20:27Z</dcterms:created>
  <dc:creator>Steve Seitz</dc:creator>
  <dc:description/>
  <dc:language>en-US</dc:language>
  <cp:lastModifiedBy>Linda Shapiro</cp:lastModifiedBy>
  <cp:lastPrinted>1999-10-04T18:53:50Z</cp:lastPrinted>
  <dcterms:modified xsi:type="dcterms:W3CDTF">2007-05-07T17:24:13Z</dcterms:modified>
  <cp:revision>594</cp:revision>
  <dc:subject/>
  <dc:title>Computer Vision: Motion</dc:title>
</cp:coreProperties>
</file>