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55.gif" ContentType="image/gif"/>
  <Override PartName="/ppt/media/image3.wmf" ContentType="image/x-wmf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6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57.gif" ContentType="image/gif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4.png" ContentType="image/png"/>
  <Override PartName="/ppt/media/image58.gif" ContentType="image/gif"/>
  <Override PartName="/ppt/media/image59.gif" ContentType="image/gif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68.png" ContentType="image/png"/>
  <Override PartName="/ppt/media/image96.png" ContentType="image/png"/>
  <Override PartName="/ppt/media/image72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95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50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91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media/image5.jpeg" ContentType="image/jpeg"/>
  <Override PartName="/ppt/media/image61.png" ContentType="image/png"/>
  <Override PartName="/ppt/media/image10.png" ContentType="image/png"/>
  <Override PartName="/ppt/media/image47.png" ContentType="image/png"/>
  <Override PartName="/ppt/media/image54.gif" ContentType="image/gif"/>
  <Override PartName="/ppt/media/image1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17680" y="-36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2440" y="71712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15948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17680" y="9159480"/>
            <a:ext cx="31654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3D8FBF8E-878C-4E07-9F4F-F15C33A4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 H(x,y) = I(x+u, y+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 u and v are unknown, 1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26D-5DF6-4922-ACF3-9F9EA66A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1E6-05B3-4F98-A387-E5FB79E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0E5-675C-4FF6-B1A9-2B5C2F88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24C-B18D-4A6A-AD67-AD6476E7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C09-B862-4273-BFCB-A5014C62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413-4D2B-4EFC-BA8B-27A866AD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A3E-AB7E-45C7-A1EC-963A4947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23A-19A0-42B0-A4A4-134E545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E68-8621-4A2A-AC99-0D640A3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6EC-84C2-47B2-AD8D-163EA18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0FC-359D-43AB-9AA5-C2CAB2D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8AD-DA9F-44E5-9C03-51F9966A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A17B-E57C-4539-B88B-042418B8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9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65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62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tion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Steve Seitz, Simon Baker, Takeo Kanade, and anyone else who helped develop these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F51-6B9F-401D-9596-F4E1A74134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constrai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rayscale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se constraints more clo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219320"/>
            <a:ext cx="22100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520" y="1676520"/>
            <a:ext cx="3063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htness constancy:   Q:  what’s the equ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219320"/>
            <a:ext cx="22096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905120"/>
            <a:ext cx="7596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1981080"/>
            <a:ext cx="1243080" cy="19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43080" y="1401840"/>
            <a:ext cx="463680" cy="19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583000" y="1676520"/>
            <a:ext cx="2065320" cy="191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92680" y="2997360"/>
            <a:ext cx="959040" cy="3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79520" y="2973240"/>
            <a:ext cx="1090800" cy="320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876920"/>
            <a:ext cx="77724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otion:  (u and v are less than 1 pix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take the Taylor series expansion of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044720" y="5646600"/>
            <a:ext cx="7005600" cy="44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895480" y="6172200"/>
            <a:ext cx="2922840" cy="44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80840" y="4476600"/>
            <a:ext cx="251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(x, y) = I(x+u, y+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BFE-1126-4F2F-B057-9E2A8FCD35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eq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ing these two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28840" y="1521000"/>
            <a:ext cx="3975120" cy="28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4191120"/>
            <a:ext cx="7772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0640" y="2036880"/>
            <a:ext cx="4175280" cy="30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809720" y="2577960"/>
            <a:ext cx="4473720" cy="30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257880" y="1271520"/>
            <a:ext cx="2657520" cy="40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828800" y="3135240"/>
            <a:ext cx="2193840" cy="28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828800" y="3621240"/>
            <a:ext cx="2149560" cy="28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08920" y="4537080"/>
            <a:ext cx="14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6760" y="453708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time derivative of the image at 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39160" y="5222880"/>
            <a:ext cx="31298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do we calculat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6560" y="167652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he x-componen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he gradient v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36B-E50A-467F-A020-23772D7193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 equ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how many unknowns and equations per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4160" y="1219320"/>
            <a:ext cx="2687760" cy="309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8432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ely, what does this constrain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1016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the flow in the gradient direction is determ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the flow parallel to an ed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6840" y="22096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equation, but 2 unknowns (u and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277-6125-45D5-AC7D-314E1FA14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20128800">
            <a:off x="2894040" y="2263320"/>
            <a:ext cx="167796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128800">
            <a:off x="3922560" y="2403360"/>
            <a:ext cx="167832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EDF-3F31-4124-8A00-D2859139DE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20128800">
            <a:off x="2894040" y="2263320"/>
            <a:ext cx="167796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0128800">
            <a:off x="3922560" y="2403360"/>
            <a:ext cx="1678320" cy="3181320"/>
          </a:xfrm>
          <a:custGeom>
            <a:avLst/>
            <a:gdLst/>
            <a:ahLst/>
            <a:rect l="l" t="t" r="r" b="b"/>
            <a:pathLst>
              <a:path w="722" h="819">
                <a:moveTo>
                  <a:pt x="0" y="0"/>
                </a:moveTo>
                <a:lnTo>
                  <a:pt x="487" y="138"/>
                </a:lnTo>
                <a:lnTo>
                  <a:pt x="722" y="8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0640" y="1295280"/>
            <a:ext cx="5346720" cy="5067360"/>
          </a:xfrm>
          <a:prstGeom prst="donut">
            <a:avLst>
              <a:gd name="adj" fmla="val 32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1AD-8101-4687-AAB5-D507CC34A1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aperture probl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dea:  assume motion field is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s &amp; Kanade:  assume locally constant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 the pixel’s neighbors have the same (u,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use a 5x5 window, that gives us 25 equations per pix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methods exist.  Here’s an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ron, J.L., Fleet, D.J., and Beauchemin, S, Performance of optical flow techniqu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national Journal of Computer Vi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2(1):43-77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3449520"/>
            <a:ext cx="2989080" cy="2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3EB-D8FA-4073-8A2F-CAFCE9F1B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kas-Kanade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get more equations for a pix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  impose addition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common is to assume that the flow field is smooth lo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method:  pretend the pixel’s neighbors have the same (u,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use a 5x5 window, that gives us 25 equations per pixe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44840" y="2646360"/>
            <a:ext cx="2989080" cy="249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407960" y="3403440"/>
            <a:ext cx="6131160" cy="2082600"/>
            <a:chOff x="1407960" y="3403440"/>
            <a:chExt cx="6131160" cy="20826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2706840" y="5073480"/>
              <a:ext cx="2840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4694400" y="5074920"/>
              <a:ext cx="201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6724800" y="5074920"/>
              <a:ext cx="122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2527200" y="5360760"/>
              <a:ext cx="5400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6499080" y="5364000"/>
              <a:ext cx="528840" cy="1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4575240" y="5360760"/>
              <a:ext cx="3906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1407960" y="3403440"/>
              <a:ext cx="6131160" cy="14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574-E8EE-4DD6-B90B-163AF4038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GB ver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get more equations for a pix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  impose addition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common is to assume that the flow field is smooth lo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method:  pretend the pixel’s neighbors have the same (u,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use a 5x5 window, that gives us 25*3 equations per pixel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03400" y="3197160"/>
            <a:ext cx="6511680" cy="2957400"/>
            <a:chOff x="1103400" y="3197160"/>
            <a:chExt cx="6511680" cy="29574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2706840" y="5715000"/>
              <a:ext cx="2840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694400" y="5716440"/>
              <a:ext cx="201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6724800" y="5716440"/>
              <a:ext cx="122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4575240" y="6002280"/>
              <a:ext cx="3906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2523960" y="5979960"/>
              <a:ext cx="54000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6502320" y="5983200"/>
              <a:ext cx="52884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1103400" y="3197160"/>
              <a:ext cx="6511680" cy="22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2057400" y="2652840"/>
            <a:ext cx="4648320" cy="24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C7C-4C56-48D3-9970-96D3FB4A4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kas-Kanade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:  we have more equations than unkn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23880" y="1420920"/>
            <a:ext cx="1592280" cy="484200"/>
            <a:chOff x="1523880" y="1420920"/>
            <a:chExt cx="1592280" cy="4842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523880" y="1754280"/>
              <a:ext cx="46368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1692360" y="1420920"/>
              <a:ext cx="126360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133720" y="1749600"/>
              <a:ext cx="3348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2662200" y="1757520"/>
              <a:ext cx="453960" cy="14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571840" y="3213000"/>
            <a:ext cx="1866960" cy="139680"/>
            <a:chOff x="2571840" y="3213000"/>
            <a:chExt cx="1866960" cy="13968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2571840" y="3213000"/>
              <a:ext cx="3445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6"/>
            <a:stretch/>
          </p:blipFill>
          <p:spPr>
            <a:xfrm>
              <a:off x="3322800" y="3214800"/>
              <a:ext cx="3348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4103640" y="3213000"/>
              <a:ext cx="335160" cy="13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685800" y="3960720"/>
            <a:ext cx="8001000" cy="2592360"/>
            <a:chOff x="685800" y="3960720"/>
            <a:chExt cx="8001000" cy="2592360"/>
          </a:xfrm>
        </p:grpSpPr>
        <p:grpSp>
          <p:nvGrpSpPr>
            <p:cNvPr id="182" name=""/>
            <p:cNvGrpSpPr/>
            <p:nvPr/>
          </p:nvGrpSpPr>
          <p:grpSpPr>
            <a:xfrm>
              <a:off x="1220760" y="3960720"/>
              <a:ext cx="5560920" cy="1297080"/>
              <a:chOff x="1220760" y="3960720"/>
              <a:chExt cx="5560920" cy="12970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220760" y="3960720"/>
                <a:ext cx="5560920" cy="8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286000" y="4957920"/>
                <a:ext cx="6778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37400" y="4950000"/>
                <a:ext cx="569880" cy="30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685800" y="5562720"/>
              <a:ext cx="8001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summations are over all pixels in the K x K win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technique was first proposed by Lukas &amp; Kan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39000" indent="-245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stereo matching (198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5800" y="1374840"/>
            <a:ext cx="7772400" cy="1139760"/>
            <a:chOff x="685800" y="1374840"/>
            <a:chExt cx="7772400" cy="1139760"/>
          </a:xfrm>
        </p:grpSpPr>
        <p:pic>
          <p:nvPicPr>
            <p:cNvPr id="188" name="" descr=""/>
            <p:cNvPicPr/>
            <p:nvPr/>
          </p:nvPicPr>
          <p:blipFill>
            <a:blip r:embed="rId11"/>
            <a:stretch/>
          </p:blipFill>
          <p:spPr>
            <a:xfrm>
              <a:off x="4794120" y="1374840"/>
              <a:ext cx="29019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505320" y="1600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2043000"/>
              <a:ext cx="7772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ution:  solve least squares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85800" y="2389320"/>
            <a:ext cx="7772400" cy="758520"/>
            <a:chOff x="685800" y="2389320"/>
            <a:chExt cx="7772400" cy="758520"/>
          </a:xfrm>
        </p:grpSpPr>
        <p:pic>
          <p:nvPicPr>
            <p:cNvPr id="192" name="" descr=""/>
            <p:cNvPicPr/>
            <p:nvPr/>
          </p:nvPicPr>
          <p:blipFill>
            <a:blip r:embed="rId12"/>
            <a:stretch/>
          </p:blipFill>
          <p:spPr>
            <a:xfrm>
              <a:off x="2297160" y="2795760"/>
              <a:ext cx="23162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5800" y="2389320"/>
              <a:ext cx="777240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um least squares solution given by solution (in d) of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8F7-3931-4978-AAA8-CA217967F1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ditions for solvabil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(u, v) satisfies Lucas-Kanad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is Solv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invert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small due to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well-cond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not be too larg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arger eigen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220760" y="1600200"/>
            <a:ext cx="5560920" cy="1297080"/>
            <a:chOff x="1220760" y="1600200"/>
            <a:chExt cx="5560920" cy="12970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220760" y="1600200"/>
              <a:ext cx="55609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286000" y="2597400"/>
              <a:ext cx="6778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5837400" y="2589480"/>
              <a:ext cx="569880" cy="30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019-337C-4B00-A2F6-0E1D280B66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estimate mo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4-D worl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Mosa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Shape Reconstruction (S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Effects (Match M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227320"/>
            <a:ext cx="380988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BBD-36B5-4886-9578-6FFA5DD94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ges cause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5638680" cy="4227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0060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303880" y="359100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4831920" y="21114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16280" y="2057400"/>
            <a:ext cx="15264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2040" y="5611680"/>
            <a:ext cx="363240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gradients, all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05E-0503-41EC-9655-D0366BBD0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03880" y="354348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7103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w texture regions don’t 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445760" y="27320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2040" y="5611680"/>
            <a:ext cx="40298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have small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mal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62160" y="265572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285-D343-41E0-8A43-8850474690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gh textured region work b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89440" y="1452600"/>
            <a:ext cx="2514600" cy="1884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257800" y="356220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343400" y="4114800"/>
            <a:ext cx="15228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5621400" cy="421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H="1">
            <a:off x="4527720" y="3908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4560" y="3843360"/>
            <a:ext cx="152280" cy="130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9160" y="5611680"/>
            <a:ext cx="500544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s are different, large magn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ar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79064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FB0-DC95-4498-9185-433097C106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rrors in Lukas-Kana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otential causes of errors in th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 easily inver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re is not much noise in th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1337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ur assumptions are vi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ghtness constancy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ve like its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size is too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ideal window siz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DA0-0683-4C2F-AF1E-EF1999DCC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32520" cy="4113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iting the small motion assum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54846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otion small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ly not—it’s much larger than one pixel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terms domin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ight we solve this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4EC-795F-4BD4-A393-4A7C8873FA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duce the resolutio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911840" y="365904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86280" y="99072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85960" y="990720"/>
            <a:ext cx="3655800" cy="2741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98560" y="35956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521-0E8C-4807-8813-8EE8D5656A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38" name="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41" name="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8680" y="5646600"/>
              <a:ext cx="100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77840" y="1452240"/>
            <a:ext cx="8696160" cy="5321880"/>
            <a:chOff x="177840" y="1452240"/>
            <a:chExt cx="8696160" cy="5321880"/>
          </a:xfrm>
        </p:grpSpPr>
        <p:grpSp>
          <p:nvGrpSpPr>
            <p:cNvPr id="244" name=""/>
            <p:cNvGrpSpPr/>
            <p:nvPr/>
          </p:nvGrpSpPr>
          <p:grpSpPr>
            <a:xfrm>
              <a:off x="177840" y="1452240"/>
              <a:ext cx="8696160" cy="5321880"/>
              <a:chOff x="177840" y="1452240"/>
              <a:chExt cx="8696160" cy="532188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77840" y="1476000"/>
                <a:ext cx="3768480" cy="5297760"/>
                <a:chOff x="177840" y="1476000"/>
                <a:chExt cx="3768480" cy="52977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177840" y="1476000"/>
                  <a:ext cx="3606840" cy="4941360"/>
                  <a:chOff x="177840" y="1476000"/>
                  <a:chExt cx="3606840" cy="494136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196920" y="1476000"/>
                    <a:ext cx="1481040" cy="489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>
                    <a:off x="1680840" y="1486800"/>
                    <a:ext cx="2071800" cy="37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1076040" y="1540800"/>
                    <a:ext cx="625320" cy="36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77840" y="5214240"/>
                    <a:ext cx="3606840" cy="1203120"/>
                  </a:xfrm>
                  <a:prstGeom prst="parallelogram">
                    <a:avLst>
                      <a:gd name="adj" fmla="val 7494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987480" y="3323520"/>
                    <a:ext cx="1730160" cy="504720"/>
                  </a:xfrm>
                  <a:prstGeom prst="parallelogram">
                    <a:avLst>
                      <a:gd name="adj" fmla="val 8569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23880" y="4166640"/>
                    <a:ext cx="2573280" cy="748800"/>
                  </a:xfrm>
                  <a:prstGeom prst="parallelogram">
                    <a:avLst>
                      <a:gd name="adj" fmla="val 85913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49200" y="2499840"/>
                    <a:ext cx="1022400" cy="298080"/>
                  </a:xfrm>
                  <a:prstGeom prst="parallelogram">
                    <a:avLst>
                      <a:gd name="adj" fmla="val 85749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>
                    <a:off x="1687680" y="1486800"/>
                    <a:ext cx="1196640" cy="4914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>
                  <a:off x="370440" y="6468480"/>
                  <a:ext cx="3575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221440" y="1452240"/>
                <a:ext cx="3652560" cy="5321880"/>
                <a:chOff x="5221440" y="1452240"/>
                <a:chExt cx="3652560" cy="532188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221440" y="1452240"/>
                  <a:ext cx="3609720" cy="4944960"/>
                  <a:chOff x="5221440" y="1452240"/>
                  <a:chExt cx="3609720" cy="4944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240160" y="1452240"/>
                    <a:ext cx="1482840" cy="489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6725880" y="1463040"/>
                    <a:ext cx="2073240" cy="3709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>
                    <a:off x="6118200" y="1517400"/>
                    <a:ext cx="628560" cy="367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221440" y="5194080"/>
                    <a:ext cx="3609720" cy="1203120"/>
                  </a:xfrm>
                  <a:prstGeom prst="parallelogram">
                    <a:avLst>
                      <a:gd name="adj" fmla="val 75007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32520" y="3301920"/>
                    <a:ext cx="1731960" cy="502920"/>
                  </a:xfrm>
                  <a:prstGeom prst="parallelogram">
                    <a:avLst>
                      <a:gd name="adj" fmla="val 8609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670720" y="414468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294600" y="2477880"/>
                    <a:ext cx="1020600" cy="294840"/>
                  </a:xfrm>
                  <a:prstGeom prst="parallelogram">
                    <a:avLst>
                      <a:gd name="adj" fmla="val 86538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732360" y="1463400"/>
                    <a:ext cx="1197000" cy="491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412240" y="6468840"/>
                  <a:ext cx="346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6545880" y="5681520"/>
              <a:ext cx="87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6880" y="566712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51720" y="2352600"/>
            <a:ext cx="1722960" cy="3604320"/>
            <a:chOff x="3951720" y="2352600"/>
            <a:chExt cx="1722960" cy="3604320"/>
          </a:xfrm>
        </p:grpSpPr>
        <p:sp>
          <p:nvSpPr>
            <p:cNvPr id="270" name=""/>
            <p:cNvSpPr/>
            <p:nvPr/>
          </p:nvSpPr>
          <p:spPr>
            <a:xfrm>
              <a:off x="3952080" y="5527800"/>
              <a:ext cx="151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0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52440" y="4219560"/>
              <a:ext cx="1372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2080" y="3216240"/>
              <a:ext cx="15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2.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51720" y="2352600"/>
              <a:ext cx="172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d60093"/>
                  </a:solidFill>
                  <a:latin typeface="Times New Roman"/>
                </a:rPr>
                <a:t>u=1.25 pix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arse-to-fine optical flow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262-4325-446A-903A-69DFF58A82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0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221440" y="5195880"/>
            <a:ext cx="3609720" cy="1203480"/>
            <a:chOff x="5221440" y="5195880"/>
            <a:chExt cx="3609720" cy="1203480"/>
          </a:xfrm>
        </p:grpSpPr>
        <p:sp>
          <p:nvSpPr>
            <p:cNvPr id="276" name=""/>
            <p:cNvSpPr/>
            <p:nvPr/>
          </p:nvSpPr>
          <p:spPr>
            <a:xfrm>
              <a:off x="5221440" y="5195880"/>
              <a:ext cx="3609720" cy="1203480"/>
            </a:xfrm>
            <a:prstGeom prst="parallelogram">
              <a:avLst>
                <a:gd name="adj" fmla="val 7498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34000" y="5661000"/>
              <a:ext cx="89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7840" y="5216400"/>
            <a:ext cx="3606840" cy="1203480"/>
            <a:chOff x="177840" y="5216400"/>
            <a:chExt cx="3606840" cy="1203480"/>
          </a:xfrm>
        </p:grpSpPr>
        <p:sp>
          <p:nvSpPr>
            <p:cNvPr id="279" name=""/>
            <p:cNvSpPr/>
            <p:nvPr/>
          </p:nvSpPr>
          <p:spPr>
            <a:xfrm>
              <a:off x="177840" y="5216400"/>
              <a:ext cx="3606840" cy="1203480"/>
            </a:xfrm>
            <a:prstGeom prst="parallelogram">
              <a:avLst>
                <a:gd name="adj" fmla="val 7492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7960" y="5646600"/>
              <a:ext cx="92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mage 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7840" y="1454040"/>
            <a:ext cx="8696160" cy="5321880"/>
            <a:chOff x="177840" y="1454040"/>
            <a:chExt cx="8696160" cy="5321880"/>
          </a:xfrm>
        </p:grpSpPr>
        <p:grpSp>
          <p:nvGrpSpPr>
            <p:cNvPr id="282" name=""/>
            <p:cNvGrpSpPr/>
            <p:nvPr/>
          </p:nvGrpSpPr>
          <p:grpSpPr>
            <a:xfrm>
              <a:off x="177840" y="1454040"/>
              <a:ext cx="8696160" cy="5321880"/>
              <a:chOff x="177840" y="1454040"/>
              <a:chExt cx="8696160" cy="53218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77840" y="1477440"/>
                <a:ext cx="3768480" cy="5298480"/>
                <a:chOff x="177840" y="1477440"/>
                <a:chExt cx="3768480" cy="529848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177840" y="1477440"/>
                  <a:ext cx="3606840" cy="4942440"/>
                  <a:chOff x="177840" y="1477440"/>
                  <a:chExt cx="3606840" cy="4942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V="1">
                    <a:off x="196920" y="1477440"/>
                    <a:ext cx="1481040" cy="4892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1680840" y="1488600"/>
                    <a:ext cx="2071800" cy="370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1076040" y="1542960"/>
                    <a:ext cx="625320" cy="3676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77840" y="5216400"/>
                    <a:ext cx="3606840" cy="1203480"/>
                  </a:xfrm>
                  <a:prstGeom prst="parallelogram">
                    <a:avLst>
                      <a:gd name="adj" fmla="val 7492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987480" y="3325680"/>
                    <a:ext cx="1730160" cy="505080"/>
                  </a:xfrm>
                  <a:prstGeom prst="parallelogram">
                    <a:avLst>
                      <a:gd name="adj" fmla="val 85638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3880" y="4168800"/>
                    <a:ext cx="2573280" cy="749160"/>
                  </a:xfrm>
                  <a:prstGeom prst="parallelogram">
                    <a:avLst>
                      <a:gd name="adj" fmla="val 85872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249200" y="2502000"/>
                    <a:ext cx="1022400" cy="298440"/>
                  </a:xfrm>
                  <a:prstGeom prst="parallelogram">
                    <a:avLst>
                      <a:gd name="adj" fmla="val 85645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1687680" y="1488600"/>
                    <a:ext cx="1196640" cy="4915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370440" y="6470640"/>
                  <a:ext cx="3575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221440" y="1454040"/>
                <a:ext cx="3652560" cy="5321880"/>
                <a:chOff x="5221440" y="1454040"/>
                <a:chExt cx="3652560" cy="532188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5221440" y="1454040"/>
                  <a:ext cx="3609720" cy="4945320"/>
                  <a:chOff x="5221440" y="1454040"/>
                  <a:chExt cx="3609720" cy="49453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V="1">
                    <a:off x="5240160" y="1454040"/>
                    <a:ext cx="1482840" cy="489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6725880" y="1465200"/>
                    <a:ext cx="2073240" cy="3710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6118200" y="1519200"/>
                    <a:ext cx="628560" cy="367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221440" y="5195880"/>
                    <a:ext cx="3609720" cy="1203480"/>
                  </a:xfrm>
                  <a:prstGeom prst="parallelogram">
                    <a:avLst>
                      <a:gd name="adj" fmla="val 74985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032520" y="3303720"/>
                    <a:ext cx="1731960" cy="503280"/>
                  </a:xfrm>
                  <a:prstGeom prst="parallelogram">
                    <a:avLst>
                      <a:gd name="adj" fmla="val 86034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670720" y="4146480"/>
                    <a:ext cx="2573280" cy="749520"/>
                  </a:xfrm>
                  <a:prstGeom prst="parallelogram">
                    <a:avLst>
                      <a:gd name="adj" fmla="val 85831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94600" y="2479680"/>
                    <a:ext cx="1020600" cy="295200"/>
                  </a:xfrm>
                  <a:prstGeom prst="parallelogram">
                    <a:avLst>
                      <a:gd name="adj" fmla="val 86433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flipV="1">
                    <a:off x="6732360" y="1464840"/>
                    <a:ext cx="1197000" cy="49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5412240" y="6470640"/>
                  <a:ext cx="346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Gaussian pyramid of image 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6545880" y="5683320"/>
              <a:ext cx="87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06880" y="566892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g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arse-to-fine optical flow estim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5280" y="2498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terative L-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774880"/>
            <a:ext cx="834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34120" y="2774880"/>
            <a:ext cx="89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70120" y="3489480"/>
            <a:ext cx="3273480" cy="398880"/>
            <a:chOff x="2670120" y="3489480"/>
            <a:chExt cx="3273480" cy="398880"/>
          </a:xfrm>
        </p:grpSpPr>
        <p:sp>
          <p:nvSpPr>
            <p:cNvPr id="312" name=""/>
            <p:cNvSpPr/>
            <p:nvPr/>
          </p:nvSpPr>
          <p:spPr>
            <a:xfrm>
              <a:off x="2670120" y="3657600"/>
              <a:ext cx="52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3657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1760" y="348948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n iterative L-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191120" y="2895480"/>
            <a:ext cx="2153520" cy="594000"/>
            <a:chOff x="4191120" y="2895480"/>
            <a:chExt cx="2153520" cy="594000"/>
          </a:xfrm>
        </p:grpSpPr>
        <p:sp>
          <p:nvSpPr>
            <p:cNvPr id="316" name=""/>
            <p:cNvSpPr/>
            <p:nvPr/>
          </p:nvSpPr>
          <p:spPr>
            <a:xfrm>
              <a:off x="4191120" y="289548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6520" y="2955960"/>
              <a:ext cx="21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rp &amp; up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191120" y="3809880"/>
            <a:ext cx="301320" cy="685800"/>
            <a:chOff x="4191120" y="3809880"/>
            <a:chExt cx="301320" cy="685800"/>
          </a:xfrm>
        </p:grpSpPr>
        <p:sp>
          <p:nvSpPr>
            <p:cNvPr id="319" name=""/>
            <p:cNvSpPr/>
            <p:nvPr/>
          </p:nvSpPr>
          <p:spPr>
            <a:xfrm>
              <a:off x="4191120" y="390204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68880" y="3809880"/>
              <a:ext cx="22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E9F-E80C-4F49-96E8-01677B96AF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ew Detai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L-K to get a flow field representing the flow from the first frame to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is flow field to warp the first frame toward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run L-K on the new warped image to get a flow field from it to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ill conve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x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ample the flow field to the next level as the first guess of the flow at tha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is flow field to warp the first frame toward the second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run L-K and warping till convergence as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858-FAAC-490C-A707-8C893CD267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105520" y="1474920"/>
            <a:ext cx="3200400" cy="225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lower Garden Vid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925720" cy="2006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147080" y="264168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23240" y="2660760"/>
            <a:ext cx="152280" cy="15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9000" y="2000160"/>
            <a:ext cx="152640" cy="152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2286000"/>
            <a:ext cx="1522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3124080"/>
            <a:ext cx="152640" cy="152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1000" y="245412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shoul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flow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227560" y="3986280"/>
            <a:ext cx="3078360" cy="2052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9B0-DBD8-475B-8FE3-3C40842C0C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 from an ARDA Sample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179960" cy="28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527-3818-46D9-A561-63A69B58A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bust Visual Motion Analysis: </a:t>
            </a:r>
            <a:br>
              <a:rPr sz="3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ecewise-Smooth Optical 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g 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 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C5C-EB3A-47A2-9138-9BD9118400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ucture From Mo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441" r="2226" b="0"/>
          <a:stretch/>
        </p:blipFill>
        <p:spPr>
          <a:xfrm>
            <a:off x="1066680" y="1379520"/>
            <a:ext cx="2687760" cy="1824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2"/>
          <a:srcRect l="0" t="1216" r="2488" b="0"/>
          <a:stretch/>
        </p:blipFill>
        <p:spPr>
          <a:xfrm>
            <a:off x="5334120" y="1393920"/>
            <a:ext cx="2666880" cy="1801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38" name=""/>
          <p:cNvSpPr/>
          <p:nvPr/>
        </p:nvSpPr>
        <p:spPr>
          <a:xfrm>
            <a:off x="4952880" y="335268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3729240" cy="27064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9480" y="3352680"/>
            <a:ext cx="388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igid scene + camera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8000" y="54100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pth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1968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 rot="1843800">
            <a:off x="6552720" y="3886200"/>
            <a:ext cx="381240" cy="914400"/>
          </a:xfrm>
          <a:custGeom>
            <a:avLst/>
            <a:gdLst>
              <a:gd name="textAreaLeft" fmla="*/ 51120 w 381240"/>
              <a:gd name="textAreaRight" fmla="*/ 330120 w 3812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BEF-B6D1-46DE-9AC9-E964F75884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ene Dynamics Understa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3627000"/>
            <a:ext cx="44956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rcRect l="0" t="4202" r="0" b="0"/>
          <a:stretch/>
        </p:blipFill>
        <p:spPr>
          <a:xfrm>
            <a:off x="1371600" y="1447920"/>
            <a:ext cx="2438280" cy="17334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4206" r="0" b="0"/>
          <a:stretch/>
        </p:blipFill>
        <p:spPr>
          <a:xfrm>
            <a:off x="4876920" y="1447920"/>
            <a:ext cx="2439720" cy="1734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2458800" cy="1825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4419720" y="3276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stimated horizontal 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3600" y="579132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tion 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560" y="17524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s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2280" y="4038480"/>
            <a:ext cx="13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moo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C30-C07D-4EC1-90E9-3C3A84128F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rget Detection and Trac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4648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tiny airplane --- only observable by its distinct 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43000" cy="2206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grpSp>
        <p:nvGrpSpPr>
          <p:cNvPr id="356" name=""/>
          <p:cNvGrpSpPr/>
          <p:nvPr/>
        </p:nvGrpSpPr>
        <p:grpSpPr>
          <a:xfrm>
            <a:off x="4952880" y="2057400"/>
            <a:ext cx="2943360" cy="3142080"/>
            <a:chOff x="4952880" y="2057400"/>
            <a:chExt cx="2943360" cy="3142080"/>
          </a:xfrm>
        </p:grpSpPr>
        <p:sp>
          <p:nvSpPr>
            <p:cNvPr id="357" name=""/>
            <p:cNvSpPr/>
            <p:nvPr/>
          </p:nvSpPr>
          <p:spPr>
            <a:xfrm>
              <a:off x="5485680" y="4800600"/>
              <a:ext cx="21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Tracking 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4952880" y="2057400"/>
              <a:ext cx="2943360" cy="220680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5E3-8AC4-43BD-BEB0-B69173CF98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7315200" cy="2133720"/>
          </a:xfrm>
          <a:prstGeom prst="rect">
            <a:avLst/>
          </a:prstGeom>
          <a:solidFill>
            <a:srgbClr val="e5ffe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Problem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Assuming only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brightness conservation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iecewise-smooth motion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, find the optical flow to best describe the intensity change in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three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4840" y="857160"/>
            <a:ext cx="852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Piecewise-Smooth Optica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Global Matching and Graduated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8FE-A688-42B1-81C4-04CE1D258F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roach: Matching-Based Global Optim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9160" y="2390760"/>
            <a:ext cx="821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1.   Robust local gradient-based metho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gh-quality initial flow e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2.   Global gradient-based method to improv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low-field coh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ep 3.   Global matching that minimizes energy b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eedy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2F2-9F48-465F-A84A-4F54E83318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733920" y="1459080"/>
                <a:ext cx="2741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sites 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685800" y="2819520"/>
            <a:ext cx="8001000" cy="23536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V is the optical flow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optical flow at pixel (site)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brightness conservatio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 is the flow smoothness error in a neighborhood about   pixel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66760" y="48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05E-DBFB-4D41-BF72-F04FA25743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ness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ping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886200" y="1062000"/>
                <a:ext cx="273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886200" y="1905120"/>
                <a:ext cx="4549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95480" y="5943600"/>
                <a:ext cx="1700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673920" y="6093000"/>
            <a:ext cx="74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function: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cale para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3680" y="2890800"/>
            <a:ext cx="582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warped intensity in the previous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warped intensity in the nex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4038480"/>
            <a:ext cx="14270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038480"/>
            <a:ext cx="14274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0400" y="4038480"/>
            <a:ext cx="142704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880" y="514656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I                    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324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4495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62480" y="44956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660680" y="449568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E63-818B-43D2-B6BA-E76EEFC400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lobal Energy De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ness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917880" y="1401840"/>
                <a:ext cx="3438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895480" y="5943600"/>
                <a:ext cx="1700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685080" y="60958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16800" y="140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3022560"/>
            <a:ext cx="74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Smoothness error is computed in a neighborhood around pixel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4070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42160" y="316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95440" y="3730680"/>
            <a:ext cx="1708200" cy="134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37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F45-1DCB-4143-B53E-9B4D5D06996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1143000"/>
            <a:ext cx="2126880" cy="5199480"/>
            <a:chOff x="533520" y="1143000"/>
            <a:chExt cx="2126880" cy="5199480"/>
          </a:xfrm>
        </p:grpSpPr>
        <p:sp>
          <p:nvSpPr>
            <p:cNvPr id="401" name=""/>
            <p:cNvSpPr/>
            <p:nvPr/>
          </p:nvSpPr>
          <p:spPr>
            <a:xfrm>
              <a:off x="685800" y="5943600"/>
              <a:ext cx="197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mage pyram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33520" y="1143000"/>
              <a:ext cx="2057400" cy="4653000"/>
              <a:chOff x="533520" y="1143000"/>
              <a:chExt cx="2057400" cy="46530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990720" y="1143000"/>
                <a:ext cx="1600200" cy="4648320"/>
                <a:chOff x="990720" y="1143000"/>
                <a:chExt cx="1600200" cy="464832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990720" y="5181480"/>
                  <a:ext cx="1600200" cy="609840"/>
                  <a:chOff x="990720" y="5181480"/>
                  <a:chExt cx="1600200" cy="6098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990720" y="533412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990720" y="525780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990720" y="5181480"/>
                    <a:ext cx="1600200" cy="457200"/>
                  </a:xfrm>
                  <a:prstGeom prst="parallelogram">
                    <a:avLst>
                      <a:gd name="adj" fmla="val 9062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990720" y="1143000"/>
                  <a:ext cx="1574640" cy="4502160"/>
                  <a:chOff x="990720" y="1143000"/>
                  <a:chExt cx="1574640" cy="4502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415880" y="1143000"/>
                    <a:ext cx="1149480" cy="4044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90720" y="1143000"/>
                    <a:ext cx="1149120" cy="4502160"/>
                  </a:xfrm>
                  <a:prstGeom prst="triangle">
                    <a:avLst>
                      <a:gd name="adj" fmla="val 87981"/>
                    </a:avLst>
                  </a:prstGeom>
                  <a:noFill/>
                  <a:ln w="9360">
                    <a:solidFill>
                      <a:srgbClr val="ff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1219320" y="4343400"/>
                  <a:ext cx="1218960" cy="456840"/>
                  <a:chOff x="1219320" y="4343400"/>
                  <a:chExt cx="1218960" cy="4568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1219320" y="445752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219320" y="440028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219320" y="4343400"/>
                    <a:ext cx="1218960" cy="342720"/>
                  </a:xfrm>
                  <a:prstGeom prst="parallelogram">
                    <a:avLst>
                      <a:gd name="adj" fmla="val 92096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1523880" y="3048120"/>
                  <a:ext cx="762120" cy="304200"/>
                  <a:chOff x="1523880" y="3048120"/>
                  <a:chExt cx="762120" cy="304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1523880" y="312408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523880" y="30859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523880" y="3048120"/>
                    <a:ext cx="762120" cy="228240"/>
                  </a:xfrm>
                  <a:prstGeom prst="parallelogram">
                    <a:avLst>
                      <a:gd name="adj" fmla="val 8646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ff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1905120" y="3657600"/>
                  <a:ext cx="0" cy="380880"/>
                </a:xfrm>
                <a:prstGeom prst="line">
                  <a:avLst/>
                </a:prstGeom>
                <a:ln cap="rnd" w="381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0" name=""/>
                  <p:cNvSpPr txBox="1"/>
                  <p:nvPr/>
                </p:nvSpPr>
                <p:spPr>
                  <a:xfrm>
                    <a:off x="762120" y="2971800"/>
                    <a:ext cx="56664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1" name=""/>
                  <p:cNvSpPr txBox="1"/>
                  <p:nvPr/>
                </p:nvSpPr>
                <p:spPr>
                  <a:xfrm>
                    <a:off x="685800" y="4419720"/>
                    <a:ext cx="385920" cy="385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2" name=""/>
                  <p:cNvSpPr txBox="1"/>
                  <p:nvPr/>
                </p:nvSpPr>
                <p:spPr>
                  <a:xfrm>
                    <a:off x="533520" y="5410080"/>
                    <a:ext cx="36036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23" name=""/>
          <p:cNvGrpSpPr/>
          <p:nvPr/>
        </p:nvGrpSpPr>
        <p:grpSpPr>
          <a:xfrm>
            <a:off x="3165480" y="812880"/>
            <a:ext cx="4835520" cy="5928840"/>
            <a:chOff x="3165480" y="812880"/>
            <a:chExt cx="4835520" cy="592884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172200" y="6259320"/>
                  <a:ext cx="619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352680" y="88812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3809880" y="1640160"/>
                  <a:ext cx="3859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"/>
            <p:cNvSpPr/>
            <p:nvPr/>
          </p:nvSpPr>
          <p:spPr>
            <a:xfrm>
              <a:off x="5715000" y="1402200"/>
              <a:ext cx="785880" cy="398880"/>
            </a:xfrm>
            <a:prstGeom prst="rect">
              <a:avLst/>
            </a:prstGeom>
            <a:solidFill>
              <a:srgbClr val="ffc3c4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1820160"/>
              <a:ext cx="0" cy="365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5880" y="812880"/>
              <a:ext cx="0" cy="570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9880" y="1565280"/>
              <a:ext cx="190512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6197760" y="1740600"/>
                  <a:ext cx="385560" cy="48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638680" y="812880"/>
                  <a:ext cx="4381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"/>
            <p:cNvSpPr/>
            <p:nvPr/>
          </p:nvSpPr>
          <p:spPr>
            <a:xfrm>
              <a:off x="4826160" y="2168640"/>
              <a:ext cx="2666880" cy="398880"/>
            </a:xfrm>
            <a:prstGeom prst="rect">
              <a:avLst/>
            </a:prstGeom>
            <a:solidFill>
              <a:srgbClr val="ffc68d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lculate grad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7920" y="3334320"/>
              <a:ext cx="0" cy="430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222960" y="3295440"/>
                  <a:ext cx="172080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"/>
            <p:cNvSpPr/>
            <p:nvPr/>
          </p:nvSpPr>
          <p:spPr>
            <a:xfrm>
              <a:off x="5943600" y="4499280"/>
              <a:ext cx="304920" cy="300600"/>
            </a:xfrm>
            <a:prstGeom prst="flowChartOr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02360" y="4788720"/>
              <a:ext cx="0" cy="316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52880" y="5104080"/>
              <a:ext cx="2181240" cy="398880"/>
            </a:xfrm>
            <a:prstGeom prst="rect">
              <a:avLst/>
            </a:prstGeom>
            <a:solidFill>
              <a:srgbClr val="a7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m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440" y="5508720"/>
              <a:ext cx="0" cy="383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6186600" y="5433120"/>
                  <a:ext cx="4381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5257800" y="5929560"/>
              <a:ext cx="1700280" cy="398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6336000"/>
              <a:ext cx="1800" cy="369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5853240"/>
              <a:ext cx="4648320" cy="0"/>
            </a:xfrm>
            <a:prstGeom prst="line">
              <a:avLst/>
            </a:prstGeom>
            <a:ln w="93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7440" y="10382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65480" y="58532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Level p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3360" y="2996280"/>
              <a:ext cx="182880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6095880" y="2543040"/>
                  <a:ext cx="590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w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"/>
            <p:cNvSpPr/>
            <p:nvPr/>
          </p:nvSpPr>
          <p:spPr>
            <a:xfrm>
              <a:off x="6095880" y="2543040"/>
              <a:ext cx="0" cy="466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72200" y="3767400"/>
              <a:ext cx="18288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obal OF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4160520"/>
              <a:ext cx="0" cy="3636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" name=""/>
            <p:cNvCxnSpPr>
              <a:stCxn id="429" idx="0"/>
              <a:endCxn id="436" idx="6"/>
            </p:cNvCxnSpPr>
            <p:nvPr/>
          </p:nvCxnSpPr>
          <p:spPr>
            <a:xfrm flipH="1" rot="16200000">
              <a:off x="4538880" y="2939400"/>
              <a:ext cx="3267000" cy="153360"/>
            </a:xfrm>
            <a:prstGeom prst="bentConnector4">
              <a:avLst>
                <a:gd name="adj1" fmla="val -5851"/>
                <a:gd name="adj2" fmla="val 1204000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/>
            <p:nvPr/>
          </p:nvCxnSpPr>
          <p:spPr>
            <a:xfrm flipH="1">
              <a:off x="7086240" y="3972240"/>
              <a:ext cx="838800" cy="1080"/>
            </a:xfrm>
            <a:prstGeom prst="straightConnector1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48" idx="0"/>
              <a:endCxn id="449" idx="1"/>
            </p:cNvCxnSpPr>
            <p:nvPr/>
          </p:nvCxnSpPr>
          <p:spPr>
            <a:xfrm rot="5400000">
              <a:off x="5205600" y="3075840"/>
              <a:ext cx="956520" cy="824400"/>
            </a:xfrm>
            <a:prstGeom prst="bentConnector4">
              <a:avLst>
                <a:gd name="adj1" fmla="val -19013"/>
                <a:gd name="adj2" fmla="val 127741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6248520" y="4122720"/>
                  <a:ext cx="6667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6324480" y="4649400"/>
                  <a:ext cx="4381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456" name=""/>
            <p:cNvCxnSpPr>
              <a:stCxn id="430" idx="0"/>
              <a:endCxn id="438" idx="1"/>
            </p:cNvCxnSpPr>
            <p:nvPr/>
          </p:nvCxnSpPr>
          <p:spPr>
            <a:xfrm rot="5400000">
              <a:off x="3464280" y="3052800"/>
              <a:ext cx="3738600" cy="762840"/>
            </a:xfrm>
            <a:prstGeom prst="bentConnector4">
              <a:avLst>
                <a:gd name="adj1" fmla="val 163"/>
                <a:gd name="adj2" fmla="val 135788"/>
              </a:avLst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D32-3C08-41DC-A86A-B80029C171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 detection for 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frames: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1, F2, F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ppear, move,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pixels remain the same (simp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ow do you detect the moving o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imple answer: pixelwise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590920"/>
            <a:ext cx="175248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590920"/>
            <a:ext cx="1752840" cy="1523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1057320" cy="804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105732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3B0-6493-4374-A6D6-E8EE1EF04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f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quality initial flow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 local scal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O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flow 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errors caused by poor gradient quality and hierarchic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ast convergence, high accuracy, simultaneous motion boundar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AAB-E7D5-4CF8-9E32-772A7FA2965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3160" y="2057400"/>
            <a:ext cx="828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s were run on several standard test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imates of optical flow were made for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ame of every th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results were compared with the Black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andan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8CC-BBF6-4E32-ACDE-A1618F6BE4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S: Translating Squa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rew, ideal setting, test performance upp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1471680" cy="1471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64" name=""/>
          <p:cNvSpPr/>
          <p:nvPr/>
        </p:nvSpPr>
        <p:spPr>
          <a:xfrm>
            <a:off x="1071360" y="441972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4x64, 1pixel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984120" y="5105520"/>
            <a:ext cx="36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ndtruth (croppe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 estimate looks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F45-C268-4B09-A312-82D7455877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S: Flow Estimate Plo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3022" t="7815" r="8848" b="11447"/>
          <a:stretch/>
        </p:blipFill>
        <p:spPr>
          <a:xfrm>
            <a:off x="762120" y="16765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rcRect l="18759" t="5557" r="16633" b="11115"/>
          <a:stretch/>
        </p:blipFill>
        <p:spPr>
          <a:xfrm>
            <a:off x="5943600" y="167652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rcRect l="18759" t="5557" r="16633" b="11115"/>
          <a:stretch/>
        </p:blipFill>
        <p:spPr>
          <a:xfrm>
            <a:off x="3352680" y="16765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678320" y="3962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8520" y="396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89040" y="396252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1 (S2 is c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9880" y="449568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3 looks the same as the groundtr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25780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1, S2, S3: results from our Step I, II, III (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F07-13FD-4928-BDD1-758616C153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T: Translating Tr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1690560" cy="1690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78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480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60     0.128    0.07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0.248   0.0167  0.009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3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86" name="" descr=""/>
          <p:cNvPicPr/>
          <p:nvPr/>
        </p:nvPicPr>
        <p:blipFill>
          <a:blip r:embed="rId2"/>
          <a:srcRect l="5000" t="5000" r="6669" b="3330"/>
          <a:stretch/>
        </p:blipFill>
        <p:spPr>
          <a:xfrm>
            <a:off x="4572000" y="15238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1560" y="5867280"/>
            <a:ext cx="83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: error in pixels, cdf: culmulative distribution function for all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821-C745-42A9-BCE4-05FD9280C8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T: Diverging Tr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3429000"/>
            <a:ext cx="259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50x150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38080" y="3962520"/>
            <a:ext cx="3657600" cy="1317240"/>
            <a:chOff x="838080" y="3962520"/>
            <a:chExt cx="3657600" cy="1317240"/>
          </a:xfrm>
        </p:grpSpPr>
        <p:sp>
          <p:nvSpPr>
            <p:cNvPr id="492" name=""/>
            <p:cNvSpPr/>
            <p:nvPr/>
          </p:nvSpPr>
          <p:spPr>
            <a:xfrm>
              <a:off x="838080" y="396612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6.36      0.182      0.1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2.60      0.0813    0.05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676520" y="3962520"/>
                  <a:ext cx="6825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590920" y="3962520"/>
                  <a:ext cx="80460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838080" y="441972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7920" y="3962520"/>
              <a:ext cx="0" cy="12952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657600" y="4038480"/>
                  <a:ext cx="6825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8" name="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572000" y="1447920"/>
            <a:ext cx="3962520" cy="41907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rcRect l="179" t="0" r="0" b="0"/>
          <a:stretch/>
        </p:blipFill>
        <p:spPr>
          <a:xfrm>
            <a:off x="1674720" y="1676520"/>
            <a:ext cx="1687680" cy="1690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00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675-8E02-4167-8D75-C135F4FE05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5000" t="5000" r="8330" b="3330"/>
          <a:stretch/>
        </p:blipFill>
        <p:spPr>
          <a:xfrm>
            <a:off x="4648320" y="15238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S: Yosemite Fly-Thr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2120" y="4267080"/>
            <a:ext cx="3657600" cy="1317240"/>
            <a:chOff x="762120" y="4267080"/>
            <a:chExt cx="3657600" cy="1317240"/>
          </a:xfrm>
        </p:grpSpPr>
        <p:sp>
          <p:nvSpPr>
            <p:cNvPr id="504" name=""/>
            <p:cNvSpPr/>
            <p:nvPr/>
          </p:nvSpPr>
          <p:spPr>
            <a:xfrm>
              <a:off x="762120" y="4270680"/>
              <a:ext cx="3657600" cy="1313640"/>
            </a:xfrm>
            <a:prstGeom prst="rect">
              <a:avLst/>
            </a:prstGeom>
            <a:solidFill>
              <a:srgbClr val="ebffe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BA    2.71      0.185      0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S3     1.92      0.120      0.07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1600200" y="4267080"/>
                  <a:ext cx="6825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∠</m:t>
                          </m:r>
                        </m:sub>
                      </m:sSub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∘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2514600" y="4267080"/>
                  <a:ext cx="8049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⋅</m:t>
                          </m:r>
                          <m:r>
                            <m:t xml:space="preserve">|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7" name=""/>
            <p:cNvSpPr/>
            <p:nvPr/>
          </p:nvSpPr>
          <p:spPr>
            <a:xfrm>
              <a:off x="762120" y="4724280"/>
              <a:ext cx="36576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4267080"/>
              <a:ext cx="0" cy="1295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3581280" y="4343400"/>
                  <a:ext cx="6829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i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0" name=""/>
          <p:cNvSpPr/>
          <p:nvPr/>
        </p:nvSpPr>
        <p:spPr>
          <a:xfrm>
            <a:off x="6859440" y="3886200"/>
            <a:ext cx="5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rcRect l="0" t="345" r="0" b="0"/>
          <a:stretch/>
        </p:blipFill>
        <p:spPr>
          <a:xfrm>
            <a:off x="1143000" y="1379520"/>
            <a:ext cx="2889360" cy="2295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12" name=""/>
          <p:cNvSpPr/>
          <p:nvPr/>
        </p:nvSpPr>
        <p:spPr>
          <a:xfrm>
            <a:off x="453960" y="373392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16x252 (Barron, cloud ex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16D-DB74-46ED-80D8-076DEA60B79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XI: Hamburg Tax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833560" cy="2103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2778120" cy="21002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778120" cy="2100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50480" y="3276720"/>
            <a:ext cx="31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56x190, (Barron 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 3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92920" y="32767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2920" y="327672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2824200" cy="20955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2833920" cy="21034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2833920" cy="21034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783-A307-453E-9C4D-DE1E070454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5943600" y="36576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71500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352680" y="19051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12x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Na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.0 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81680" y="320040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34640" y="62485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520" y="62485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6248520"/>
            <a:ext cx="7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685800" y="685800"/>
            <a:ext cx="2595600" cy="2595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957-2203-4821-9B38-2D57EAFF96F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psi C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182680" cy="21826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5181480" y="3886200"/>
            <a:ext cx="2297160" cy="2297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581280" y="1981080"/>
            <a:ext cx="15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01x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57600" y="53341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68200" y="2743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35080" y="502920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1295280" y="1143000"/>
            <a:ext cx="2286000" cy="2286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8DE-1F8F-47FB-8773-F407D74A24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6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Person detected entering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53988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1150920"/>
            <a:ext cx="3581280" cy="272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11480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 changes detected as differen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 are (1) person, (2) opened door, and (3) computer moni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an know about the door and monitor. Only the person region is “unexpec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5E7-77AD-40C6-A96C-55FDE9DD8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G: Flower Gard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3052800" cy="20782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-2520" y="3124080"/>
            <a:ext cx="29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60x240 (Bl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 speed: 7pix/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67080" y="312408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6108840" y="3962520"/>
            <a:ext cx="3035160" cy="2022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tretch/>
        </p:blipFill>
        <p:spPr>
          <a:xfrm>
            <a:off x="6100920" y="1066680"/>
            <a:ext cx="3043080" cy="2071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6292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10600" y="601992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rror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324120" y="6019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moothnes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7400" y="6019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7E0-DC54-40A9-80E7-93085874D8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etection via Image 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2840" y="1371600"/>
            <a:ext cx="869364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ixel [r,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(|I1[r,c] - I2[r,c]| &gt; thresho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Iout[r,c] = 1 else Iout[r,c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onnected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I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move small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a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los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small disk for merging close neighb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nd return the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ounding bo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of each remaining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440" y="552780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assumption does this make about the chan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8EF-FC61-4AE2-AD09-32CFE86AC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e anal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502920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regions are ignored and system attends to the unexpected region of change. Region has bounding box similar to that of a person. System might then zoom in on “head” area and attempt face recog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819520"/>
            <a:ext cx="685800" cy="16002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9CF-502D-417D-A96B-E29FCB82A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ptical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4440" y="2498760"/>
            <a:ext cx="42512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29240" y="1600200"/>
            <a:ext cx="40575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D23-3551-4A33-9D3A-92F4C9AA6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lem definition:  optical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imate pixel motion from image H to image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219320"/>
            <a:ext cx="22100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5248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1752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2860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362320" y="1599840"/>
            <a:ext cx="1066680" cy="968760"/>
            <a:chOff x="2362320" y="1599840"/>
            <a:chExt cx="1066680" cy="968760"/>
          </a:xfrm>
        </p:grpSpPr>
        <p:sp>
          <p:nvSpPr>
            <p:cNvPr id="84" name=""/>
            <p:cNvSpPr/>
            <p:nvPr/>
          </p:nvSpPr>
          <p:spPr>
            <a:xfrm flipV="1">
              <a:off x="2362320" y="1599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62320" y="2319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4920" y="1828800"/>
              <a:ext cx="154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3240" y="23734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105520" y="1219320"/>
            <a:ext cx="22096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6204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1943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281320"/>
            <a:ext cx="7632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48112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pixel correspondenc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n a pixel in H, look for nearby pixels of the same color in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71600" y="2965320"/>
            <a:ext cx="1090800" cy="32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692680" y="2984400"/>
            <a:ext cx="959040" cy="3193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85800" y="4419720"/>
            <a:ext cx="7772400" cy="2209680"/>
            <a:chOff x="685800" y="4419720"/>
            <a:chExt cx="7772400" cy="2209680"/>
          </a:xfrm>
        </p:grpSpPr>
        <p:sp>
          <p:nvSpPr>
            <p:cNvPr id="97" name=""/>
            <p:cNvSpPr/>
            <p:nvPr/>
          </p:nvSpPr>
          <p:spPr>
            <a:xfrm>
              <a:off x="685800" y="4800600"/>
              <a:ext cx="7772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ey assump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99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lor constanc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point in H looks the same in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051560" indent="-2102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grayscale images, this i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ightness consta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mall mo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points do not move very f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5360" indent="-3153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called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cal flow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267080" y="4419720"/>
              <a:ext cx="2819520" cy="228600"/>
              <a:chOff x="4267080" y="4419720"/>
              <a:chExt cx="2819520" cy="228600"/>
            </a:xfrm>
          </p:grpSpPr>
          <p:sp>
            <p:nvSpPr>
              <p:cNvPr id="99" name=""/>
              <p:cNvSpPr/>
              <p:nvPr/>
            </p:nvSpPr>
            <p:spPr>
              <a:xfrm>
                <a:off x="4267080" y="4419720"/>
                <a:ext cx="685800" cy="228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95880" y="4419720"/>
                <a:ext cx="990720" cy="228600"/>
              </a:xfrm>
              <a:prstGeom prst="rect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24A-69D2-4647-BB5F-6D6A32CAD5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Linda Shapiro</cp:lastModifiedBy>
  <cp:lastPrinted>1999-10-04T18:53:50Z</cp:lastPrinted>
  <dcterms:modified xsi:type="dcterms:W3CDTF">2007-05-07T17:24:13Z</dcterms:modified>
  <cp:revision>594</cp:revision>
  <dc:subject/>
  <dc:title>Computer Vision: Motion</dc:title>
</cp:coreProperties>
</file>