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3BA-58C2-4BF0-AA74-419777B6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12E-6D9D-432A-B302-0E1BF5C1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1E3-1A36-4760-A0A0-71CCDB4B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DA5-6326-4532-86EB-ABC2EC2E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918-2AB8-4CBC-85AA-E8E92564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DD4-D07A-4285-9C9A-D1E6B757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EA1-1215-4CBB-8DA8-938359C6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7CE-A9A6-46D7-AD06-5A98745B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1FD-F43D-4512-AA5F-E7A14E9A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5A4-5B88-4DF0-8C77-9C16E4E4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557-E4A1-4168-93C0-CE32751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969-478E-4A42-9020-D33D51D1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8AED-A95A-4005-928D-B262916C3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360" y="222120"/>
            <a:ext cx="816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SER Operat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ally Stable Extremal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6680" y="1792440"/>
            <a:ext cx="76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ER regions are connected areas characte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lmost uniform intensity, surrounded by contr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constructed through a process of try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hresh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ed regions are those that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hanged shapes over a large set of thresho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720" y="55990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as et al. 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transformation from ellipses to circular regions plus intensity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3800" y="2355840"/>
            <a:ext cx="70164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MSER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89120" y="1600200"/>
            <a:ext cx="756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04760" y="160020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ER Construc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3120" y="2679840"/>
            <a:ext cx="7457760" cy="236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5800" y="544680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ty image                                        shown as a surfac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ER Construc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89120"/>
            <a:ext cx="82296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ER Computatio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threshold, compute the connected binary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a function, such as area A(i), at each threshold value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is function for each potential region to determine those that persist with similar function value over multiple thres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Are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727280"/>
            <a:ext cx="82296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s detected at different thresholds have different 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71720" y="1600200"/>
            <a:ext cx="700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4440" y="2736720"/>
            <a:ext cx="8115120" cy="225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1960" y="5294160"/>
            <a:ext cx="73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ER regions                    Ellipse Fitting                        Ellipse D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23:51:33Z</dcterms:created>
  <dc:creator>Linda Shapiro</dc:creator>
  <dc:description/>
  <dc:language>en-US</dc:language>
  <cp:lastModifiedBy>cse</cp:lastModifiedBy>
  <dcterms:modified xsi:type="dcterms:W3CDTF">2007-04-06T04:32:15Z</dcterms:modified>
  <cp:revision>4</cp:revision>
  <dc:subject/>
  <dc:title>Slide 1</dc:title>
</cp:coreProperties>
</file>