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74B1-1037-4894-BB2C-412B6434D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85A0-075C-482D-8C9C-D26A9839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9415-4795-49EA-8749-5C0A9BF03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9A01-7DDA-4983-8474-038BF09C7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1644-BDD3-4ABF-AFB8-230CC27F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40B2-A607-477F-B864-A3FB6051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A09F-89DD-43DB-A42A-27F049FC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6BD9-1CDE-40A5-8365-F8C9369B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5682-28B6-440E-A0FE-E50B687A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0731-96B9-4203-92EA-EABCAEEF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4E08-BF88-4686-A7EC-6855CC73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96D3-1668-4AE9-A1C4-06293839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86C1-02D0-4BE1-BDC6-E86644638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8360" y="222120"/>
            <a:ext cx="8163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SER Operato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ximally Stable Extremal Reg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76680" y="1792440"/>
            <a:ext cx="7654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ER regions are connected areas character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almost uniform intensity, surrounded by contr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constructed through a process of try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threshol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lected regions are those that main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hanged shapes over a large set of thresho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0720" y="559908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as et al. 20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ine transformation from ellipses to circular regions plus intensity norm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3800" y="2355840"/>
            <a:ext cx="701640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MSER Re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89120" y="1600200"/>
            <a:ext cx="756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04760" y="1600200"/>
            <a:ext cx="7134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SER Construction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43120" y="2679840"/>
            <a:ext cx="7457760" cy="2365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45800" y="5446800"/>
            <a:ext cx="70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nsity image                                        shown as a surfac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SER Constructio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89120"/>
            <a:ext cx="822960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SER Computation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threshold, compute the connected binary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a function, such as area A(i), at each threshold value 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this function for each potential region to determine those that persist with similar function value over multiple threshol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 of Area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727280"/>
            <a:ext cx="822960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ions detected at different thresholds have different are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71720" y="1600200"/>
            <a:ext cx="7000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14440" y="2736720"/>
            <a:ext cx="8115120" cy="2252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41960" y="5294160"/>
            <a:ext cx="73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ER regions                    Ellipse Fitting                        Ellipse Di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23:51:33Z</dcterms:created>
  <dc:creator>Linda Shapiro</dc:creator>
  <dc:description/>
  <dc:language>en-US</dc:language>
  <cp:lastModifiedBy>cse</cp:lastModifiedBy>
  <dcterms:modified xsi:type="dcterms:W3CDTF">2007-04-06T04:32:15Z</dcterms:modified>
  <cp:revision>4</cp:revision>
  <dc:subject/>
  <dc:title>Slide 1</dc:title>
</cp:coreProperties>
</file>