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13.jpeg" ContentType="image/jpeg"/>
  <Override PartName="/ppt/media/image10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D567-5024-4A72-AE49-6427F70A6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478A-8553-41B6-8EC1-B8566151E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ED89-A9B3-45BC-BF74-B79A11839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675E-C998-4AD2-B841-50CF05096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6A92-B3C0-4AD0-A955-F17777381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B860-B89B-4344-82A0-91F23E9B0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266C-4F31-4965-9BA7-D0F12F459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294D-52DD-4971-9457-A5558D5CA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E76B-A479-49A8-B74E-BA3DAA31A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870C-0F64-4648-A206-74481326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4A00-C9AC-4FB9-8AD0-EC97C77F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13CA-384F-4337-A40E-AD777521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90D01-019D-42A4-BC8D-332922738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ines and Arcs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eg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42680" y="1946160"/>
            <a:ext cx="63651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ome image sets, lines, curves, and circular ar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more useful than regions or helpful in ad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eg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58520" y="3581280"/>
            <a:ext cx="4047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Lines and arcs are often used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object recog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tereo mat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document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65800" y="3352680"/>
            <a:ext cx="25398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 Nice Hough Variant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he Burns Line Fi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99760" y="2209680"/>
            <a:ext cx="781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Compute gradient magnitude and direction at each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 For high gradient magnitude points, assign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irection labe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wo symbolic ima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wo different quant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 Find connected components of each symbolic im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38680" y="457200"/>
            <a:ext cx="1219320" cy="121932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086600" y="457200"/>
            <a:ext cx="1219320" cy="1219320"/>
          </a:xfrm>
          <a:prstGeom prst="ellips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638680" y="1066680"/>
            <a:ext cx="12193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248520" y="457200"/>
            <a:ext cx="0" cy="12193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609480"/>
            <a:ext cx="762120" cy="9144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7162560" y="838080"/>
            <a:ext cx="1066680" cy="4572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838080"/>
            <a:ext cx="1066680" cy="4572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467480" y="533520"/>
            <a:ext cx="457200" cy="10666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391160" y="533520"/>
            <a:ext cx="533160" cy="10666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478560" y="68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249600" y="457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28840" y="471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00240" y="700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00240" y="1004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928840" y="123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249600" y="1219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401880" y="990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910280" y="876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833960" y="547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545240" y="4572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224120" y="547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148160" y="8524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24120" y="1157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29040" y="123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849800" y="1143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867280" y="609480"/>
            <a:ext cx="838440" cy="9144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13840" y="3976560"/>
            <a:ext cx="7226280" cy="222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pixel belongs to 2 components, one for each symbolic im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pixel votes for its longer compon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component receives a count of pixels who voted for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mponents that receive majority support are selec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231400" y="1143000"/>
            <a:ext cx="60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-22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14840" y="671400"/>
            <a:ext cx="65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+22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43600" y="9000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614640" y="3668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rns Exampl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57200" y="2295360"/>
            <a:ext cx="4033800" cy="3132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975200" y="2289240"/>
            <a:ext cx="3711600" cy="31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urns 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4033800" cy="31543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734000" y="2239920"/>
            <a:ext cx="3952800" cy="31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2. Tracking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38080" y="1752480"/>
            <a:ext cx="5478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masks to identify the follow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start of a new seg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interior point continuing a seg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end of a seg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junction between multiple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corner that breaks a segment into tw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934320" y="335268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7467480" y="3276360"/>
            <a:ext cx="5335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467480" y="38098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467480" y="41148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011000" y="274320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071840" y="4610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467480" y="3124080"/>
            <a:ext cx="0" cy="5335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33760" y="1447920"/>
            <a:ext cx="43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9999"/>
                </a:solidFill>
                <a:latin typeface="Times New Roman"/>
              </a:rPr>
              <a:t>Mask-based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dge Tracking 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86680" y="2019240"/>
            <a:ext cx="626292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each edge pixel P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ify its pixel type using m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olated point :             ignore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 start point :                  make a new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 interior point :             add to current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.  end point :                    add to current segment and finish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.  junction or corner :      add to incoming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ish incoming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ke new outgoing segment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Good Tracking Package: the ORT toolk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of the C software available on the class web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versions are availa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ow does it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291520" y="38512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ow ORT finds segmen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ommunicated by Ata Etemadi who designed it; this is really what he said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lgorithm is called Strider and is like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pider strid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long pixel chains of an im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pider is looking for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ocal symmetr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it is moving along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raight or curved seg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th no interruptions, its legs are symmetric about its bod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it encounters an obstacle (ie.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rner or jun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its legs are no longer symmetr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bstacle is sm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compared to the spider), it soon becomes symmetric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bstacle is lar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it will take lon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trid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der tracks along a pixel chain, looking for junctions and corn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dentifies them by a measure of assymme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ccuracy depends on the length of the spider and the size of its str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arger they are, the less sensitive it becom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trid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981080" y="4114800"/>
            <a:ext cx="22860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81080" y="3886200"/>
            <a:ext cx="22860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3657600"/>
            <a:ext cx="22860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81080" y="3429000"/>
            <a:ext cx="22860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81080" y="3200400"/>
            <a:ext cx="22860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2971800"/>
            <a:ext cx="22860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981080" y="2743200"/>
            <a:ext cx="22860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981080" y="2514600"/>
            <a:ext cx="22860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0" y="2514600"/>
            <a:ext cx="22860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590920" y="2514600"/>
            <a:ext cx="22860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895480" y="2514600"/>
            <a:ext cx="22860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0400" y="2514600"/>
            <a:ext cx="22860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2514600"/>
            <a:ext cx="22860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09880" y="2514600"/>
            <a:ext cx="22860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114800" y="2514600"/>
            <a:ext cx="22860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419720" y="2362320"/>
            <a:ext cx="22860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724280" y="2209680"/>
            <a:ext cx="22860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029200" y="2057400"/>
            <a:ext cx="22860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34120" y="1905120"/>
            <a:ext cx="22860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38680" y="1752480"/>
            <a:ext cx="22860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943600" y="1600200"/>
            <a:ext cx="22860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32351" t="26002" r="32351" b="31343"/>
          <a:stretch/>
        </p:blipFill>
        <p:spPr>
          <a:xfrm>
            <a:off x="1747800" y="4397400"/>
            <a:ext cx="403200" cy="6588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 flipV="1">
            <a:off x="2057400" y="3276360"/>
            <a:ext cx="0" cy="6858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2057400" y="2590920"/>
            <a:ext cx="380880" cy="457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430000" y="2590920"/>
            <a:ext cx="6787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1: the line segment from pixel 1 of the sp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pixel N-2 of the sp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2: the line segment from pixel 1 of the sp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pixel N of the sp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ngle must be &lt;= arctan(2/length(L2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133720" y="3733560"/>
            <a:ext cx="0" cy="2286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2057400" y="2819160"/>
            <a:ext cx="0" cy="2286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70320" y="3546360"/>
            <a:ext cx="107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gle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63840" y="1031760"/>
            <a:ext cx="498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easure of asymmetry is the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ween two line seg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044520" y="5715000"/>
            <a:ext cx="487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nger spiders allow less of an ang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2057400" y="2590920"/>
            <a:ext cx="190512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2057400" y="2590920"/>
            <a:ext cx="1295280" cy="45720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trid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rameters are the length of the spider and the number of pixels per ste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parameters can be changed to allow for less sensitivity, so that we get longer line seg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lgorithm has a final phase in which adjacent segments whose angle differs by less than a given angle are joi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-609480" algn="ctr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arameter Estimation Methods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Hough Transfo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47720" y="1752480"/>
            <a:ext cx="60753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Hough transform is a method for detec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s or curves specified by a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arametric fun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parameters are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1, p2, … p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then the H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dure uses an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n-dimensional accumula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which it accumulates votes for the correct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the lines or curves found on the im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4648320"/>
            <a:ext cx="16765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5562720"/>
            <a:ext cx="152640" cy="152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76520" y="5410080"/>
            <a:ext cx="152280" cy="152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5257800"/>
            <a:ext cx="152280" cy="152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5105520"/>
            <a:ext cx="152640" cy="152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33720" y="4952880"/>
            <a:ext cx="152280" cy="152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1920" y="579132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y = mx +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920" y="426708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62520" y="4648320"/>
            <a:ext cx="1676160" cy="1600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62520" y="4648320"/>
            <a:ext cx="838080" cy="1600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62520" y="4648320"/>
            <a:ext cx="457200" cy="1600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00600" y="4648320"/>
            <a:ext cx="457200" cy="1600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62520" y="4648320"/>
            <a:ext cx="1676160" cy="8380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4648320"/>
            <a:ext cx="167616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62520" y="5486400"/>
            <a:ext cx="1676160" cy="380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00600" y="5486400"/>
            <a:ext cx="457200" cy="3808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66880" y="54482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63960" y="4343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91120" y="4191120"/>
            <a:ext cx="13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um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rt finds line segments for building de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rcRect l="17273" t="12728" r="17273" b="22351"/>
          <a:stretch/>
        </p:blipFill>
        <p:spPr>
          <a:xfrm>
            <a:off x="1600200" y="1676520"/>
            <a:ext cx="62485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rcRect l="14545" t="9091" r="21363" b="20003"/>
          <a:stretch/>
        </p:blipFill>
        <p:spPr>
          <a:xfrm>
            <a:off x="1371600" y="685800"/>
            <a:ext cx="6553080" cy="54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dvantages of Stri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on pixel chains of arbitrary complex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implemented in parall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assumptions and the effects of the parameters are well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ough Transform for Finding Cir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98200" y="194616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atio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656080" y="1787400"/>
            <a:ext cx="21999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= r0 +  d 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= c0 + d co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315400" y="1870200"/>
            <a:ext cx="274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, c, d are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12520" y="3165480"/>
            <a:ext cx="686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Main idea:  The gradient vector at an edge pixel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o the center of  the cir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05320" y="4267080"/>
            <a:ext cx="1523880" cy="1524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952160" y="4876920"/>
            <a:ext cx="74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*(r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4266720" y="502920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421160" y="4724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hy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295280" y="1981080"/>
            <a:ext cx="1371600" cy="129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966040" y="2057400"/>
            <a:ext cx="451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Filled Circle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Outer points of circle have grad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direction pointing to cen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95280" y="4114800"/>
            <a:ext cx="1371600" cy="12952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71600" y="4191120"/>
            <a:ext cx="1219320" cy="1143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195000" y="3809880"/>
            <a:ext cx="50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ircular R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Outer points gradient towards cen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nner points gradient away from cen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1981080" y="3733920"/>
            <a:ext cx="0" cy="4572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981080" y="5334120"/>
            <a:ext cx="0" cy="53316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761760" y="4800600"/>
            <a:ext cx="5331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90920" y="4800600"/>
            <a:ext cx="3808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438280" y="5181480"/>
            <a:ext cx="304920" cy="30492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1066680" y="5181480"/>
            <a:ext cx="457200" cy="30492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 flipV="1">
            <a:off x="1143000" y="4038120"/>
            <a:ext cx="380880" cy="30492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981080" y="4114800"/>
            <a:ext cx="0" cy="6094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4876920"/>
            <a:ext cx="0" cy="4572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295280" y="4800600"/>
            <a:ext cx="68580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1981080" y="4800600"/>
            <a:ext cx="60984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1523880" y="4876920"/>
            <a:ext cx="457200" cy="3045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057400" y="4343400"/>
            <a:ext cx="380880" cy="3808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 flipV="1">
            <a:off x="2057400" y="4876920"/>
            <a:ext cx="380880" cy="3045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523880" y="4343400"/>
            <a:ext cx="457200" cy="3808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2362320" y="3962520"/>
            <a:ext cx="457200" cy="4572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179520" y="5299200"/>
            <a:ext cx="484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oints in the away direction don’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mulate in one b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rocedure to Accumulate Circ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050840" y="209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15840" y="1654200"/>
            <a:ext cx="5773680" cy="448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accumulator array A to all z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point list array PTLIST to all N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ixel (R,C) in the imag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value of D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compute gradient magnitude GM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f GMAG &gt; gradient_threshold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Compute THETA(R,C,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R0 := R - D*cos(THE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C0 := C - D* sin(THE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increment A(R0,C0,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update PTLIST(R0,C0,D) }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rcRect l="30909" t="27273" r="30909" b="29094"/>
          <a:stretch/>
        </p:blipFill>
        <p:spPr>
          <a:xfrm>
            <a:off x="1066680" y="304920"/>
            <a:ext cx="7315200" cy="62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inding lung nodules (Kimme &amp; Balla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2612880" y="1600200"/>
            <a:ext cx="3918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ummar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ough transform and its variants can be used to find line segments or cir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as also been generalized to find other sha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riginal Hough method does not work well for line segments, but works very well for cir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urns method improves the Hough for line segments and is easy to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rider algorithm in the ORT package gives excellent line and curve segments by trac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inding Straight Line Seg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44720" y="2022480"/>
            <a:ext cx="675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mx + b is not suitable (why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quation generally used is:  d = r 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c co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19520" y="40384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19520" y="403848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19520" y="4038480"/>
            <a:ext cx="5331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96920" y="44956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03480" y="52434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897280" y="39625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819520" y="4038120"/>
            <a:ext cx="1600200" cy="12193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363760" y="51814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57600" y="361944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32120" y="4610160"/>
            <a:ext cx="3737880" cy="11912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d is the distance from the line to ori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is the angle the perpendicular ma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ith the column 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cedure to Accumulate 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90600" y="1676520"/>
            <a:ext cx="516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accumulator array A to all z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point list array PTLIST to all N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ixel (R,C) in the imag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25920" y="3429000"/>
            <a:ext cx="486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gradient magnitude GM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GMAG &gt; gradient_threshold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66200" y="4384800"/>
            <a:ext cx="5683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quantized tangent angle THETA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quantized distance to origin D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ment A(DQ,THETA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 PTLIST(DQ,THETAQ) }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19720" y="1946160"/>
            <a:ext cx="2637360" cy="167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     0     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0    1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     0     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0    1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0      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0    100 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100  100  1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100 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  100  100  100 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323400" y="1981080"/>
            <a:ext cx="1985400" cy="167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    -    0    0    -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    -    0    0    -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0  90  40  20  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0  90  90  40  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    -     -     -   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84760" y="1981080"/>
            <a:ext cx="197316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    -    3    3    -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    -    3    3    -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   3    3    3  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   3    3    3  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    -     -     -   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46280" y="4129200"/>
            <a:ext cx="564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05160" y="4129200"/>
            <a:ext cx="205848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  -   -   -   -   -  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  -   -   -   -   -  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  -   -   -   -   -  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-   1   -  2   -  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  -   -   -   -   -  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23520" y="5791320"/>
            <a:ext cx="20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 10  20 30 40 …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95680" y="4191120"/>
            <a:ext cx="564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62760" y="4129200"/>
            <a:ext cx="205848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  -   -   -   -   -  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  -   -   -   -   -  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  -   -   -   -   -  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-   *   -  *   -  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  -   -   -   -   -  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178240" y="5791320"/>
            <a:ext cx="214380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(1,3)(1,4)(2,3)(2,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455600" y="4205160"/>
            <a:ext cx="671400" cy="1618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(3,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(3,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(4,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(4,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(4,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10280" y="5181480"/>
            <a:ext cx="45720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10080" y="5181480"/>
            <a:ext cx="0" cy="685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16080" y="1523880"/>
            <a:ext cx="184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y-tone 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3440" y="152388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691320" y="153828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TA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82560" y="3747960"/>
            <a:ext cx="175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umulato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99880" y="374796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T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362320" y="1981080"/>
            <a:ext cx="0" cy="990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2971800"/>
            <a:ext cx="15242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2360" y="5562720"/>
            <a:ext cx="84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g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8180" t="20003" r="18185" b="7275"/>
          <a:stretch/>
        </p:blipFill>
        <p:spPr>
          <a:xfrm>
            <a:off x="380880" y="380880"/>
            <a:ext cx="8305920" cy="61531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046600" y="5853240"/>
            <a:ext cx="1866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Chalmers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6600ff"/>
                </a:solidFill>
                <a:latin typeface="Times New Roman"/>
              </a:rPr>
              <a:t>of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6364" t="20003" r="18639" b="9091"/>
          <a:stretch/>
        </p:blipFill>
        <p:spPr>
          <a:xfrm>
            <a:off x="609480" y="457200"/>
            <a:ext cx="8001000" cy="56736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267280" y="5649840"/>
            <a:ext cx="166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ff"/>
                </a:solidFill>
                <a:latin typeface="Times New Roman"/>
              </a:rPr>
              <a:t>Chalmers Univer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6600ff"/>
                </a:solidFill>
                <a:latin typeface="Times New Roman"/>
              </a:rPr>
              <a:t>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How do you extract the line segments from the accumulato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12600" y="1752480"/>
            <a:ext cx="6815880" cy="448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the bin of A with highest value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V &gt; value_threshold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 the corresponding pointlist from PT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 in high gradient neighbors within 10 deg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line segment from final point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ro out that bin of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the bin of A with highest value V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Line segments from Hough Trans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311560" y="1600200"/>
            <a:ext cx="4519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30T18:34:51Z</dcterms:created>
  <dc:creator>Linda Shapiro</dc:creator>
  <dc:description/>
  <dc:language>en-US</dc:language>
  <cp:lastModifiedBy>Linda Shapiro</cp:lastModifiedBy>
  <dcterms:modified xsi:type="dcterms:W3CDTF">2007-03-30T18:49:58Z</dcterms:modified>
  <cp:revision>10</cp:revision>
  <dc:subject/>
  <dc:title>Lines and Arcs Segmentation</dc:title>
</cp:coreProperties>
</file>