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9E0-08AB-4468-8A8B-8D3FCA72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E36-B0B5-4FB2-BA19-D761A297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A9B-8144-4736-AC62-4C4478EF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ECB-D611-4FC4-95DB-B54415D9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AF4-AFBF-4FA1-8F6C-329265DE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BAD-DB61-4A78-B99E-E1327DB6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29E-0C5A-41F6-A605-2AC3527F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E7C-46BF-49E8-8BC8-6507344C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E78-CE4E-4F29-A86E-B7B448D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8D0-3446-4B5A-8ABD-3DAAEC5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492-EDBC-46BF-B92E-A6A518EA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8D1-C4B9-4CE7-9B4D-146679AB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AF25-2331-4D5E-8F53-DE8A0672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s and Arc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2680" y="1946160"/>
            <a:ext cx="6365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image sets, lines, curves, and circular 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ore useful than regions or helpful in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8520" y="3581280"/>
            <a:ext cx="404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nes and arcs are often u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ereo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cum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65800" y="3352680"/>
            <a:ext cx="2539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Nice Hough Variant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Burns Line F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9760" y="2209680"/>
            <a:ext cx="781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ompute gradient magnitude and direction at each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For high gradient magnitude points, assig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rection lab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wo symbolic im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wo different quant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Find connected components of each symbol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57200"/>
            <a:ext cx="1219320" cy="12193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57200"/>
            <a:ext cx="1219320" cy="12193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06668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457200"/>
            <a:ext cx="0" cy="1219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609480"/>
            <a:ext cx="76212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162560" y="838080"/>
            <a:ext cx="106668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838080"/>
            <a:ext cx="106668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533520"/>
            <a:ext cx="457200" cy="1066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91160" y="533520"/>
            <a:ext cx="533160" cy="1066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8560" y="68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9600" y="4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28840" y="471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0240" y="7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00240" y="1004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8840" y="123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9600" y="12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1880" y="99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10280" y="87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33960" y="54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45240" y="457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24120" y="54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48160" y="852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24120" y="1157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9040" y="123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9800" y="114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609480"/>
            <a:ext cx="83844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3840" y="3976560"/>
            <a:ext cx="7226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ixel belongs to 2 components, one for each symbolic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ixel votes for its longer compon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omponent receives a count of pixels who voted fo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onents that receive majority support are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31400" y="11430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-2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14840" y="67140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+2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0" y="900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14640" y="366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2295360"/>
            <a:ext cx="4033800" cy="313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75200" y="2289240"/>
            <a:ext cx="37116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urn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3800" cy="3154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34000" y="2239920"/>
            <a:ext cx="39528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. Track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752480"/>
            <a:ext cx="547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asks to identify the follow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rt of a new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nterior point continuing a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nd of a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junction between multipl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orner that breaks a segment into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33526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67480" y="3276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4674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1000" y="27432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71840" y="4610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3124080"/>
            <a:ext cx="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3760" y="1447920"/>
            <a:ext cx="43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Mask-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dge Tracking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86680" y="2019240"/>
            <a:ext cx="626292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edge pixel P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y its pixel type using m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lated point :             ignor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start point :                  make a new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interior point :             add to current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end point :                    add to current segment and finis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 junction or corner :      add to incoming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ish incoming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 new outgoing seg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Tracking Package: the ORT t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C software available on the class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versions are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91520" y="3851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ORT finds seg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municated by Ata Etemadi who designed it; this is really what he sai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gorithm is called Strider and is lik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der stri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ong pixel chains of an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ider is looking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cal symme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is moving along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aight or curved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no interruptions, its legs are symmetric about its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encounters an obstacle (ie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ner or 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s legs are no longer sym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tacle is 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mpared to the spider), it soon becomes symmetr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tacle is l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will take lo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id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der tracks along a pixel chain, looking for junctions and cor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dentifies them by a measure of as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uracy depends on the length of the spider and the size of its st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r they are, the less sensitive it bec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id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1148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38862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3657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34290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2004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9718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7432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3623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2209680"/>
            <a:ext cx="228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20574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19051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1752480"/>
            <a:ext cx="228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16002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32351" t="26002" r="32351" b="31343"/>
          <a:stretch/>
        </p:blipFill>
        <p:spPr>
          <a:xfrm>
            <a:off x="1747800" y="4397400"/>
            <a:ext cx="403200" cy="658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2057400" y="32763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057400" y="259092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0000" y="2590920"/>
            <a:ext cx="678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: the line segment from pixel 1 of the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ixel N-2 of the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: the line segment from pixel 1 of the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ixel N of the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gle must be &lt;= arctan(2/length(L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33720" y="3733560"/>
            <a:ext cx="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057400" y="2819160"/>
            <a:ext cx="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320" y="3546360"/>
            <a:ext cx="10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3840" y="1031760"/>
            <a:ext cx="49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symmetry is th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line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4520" y="5715000"/>
            <a:ext cx="48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er spiders allow less of an 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057400" y="2590920"/>
            <a:ext cx="19051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7400" y="2590920"/>
            <a:ext cx="12952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id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meters are the length of the spider and the number of pixels per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rameters can be changed to allow for less sensitivity, so that we get longer line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orithm has a final phase in which adjacent segments whose angle differs by less than a given angle are jo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meter Estimation Methods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ugh Trans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7720" y="1752480"/>
            <a:ext cx="6075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ough transform is a method for detec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 or curves specified by a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rametric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parameters are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1, p2, … p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 the H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 uses an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-dimensional accumul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which it accumulates votes for the correc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lines or curves found on the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648320"/>
            <a:ext cx="1676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5562720"/>
            <a:ext cx="15264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5410080"/>
            <a:ext cx="1522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15228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5105520"/>
            <a:ext cx="15264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4952880"/>
            <a:ext cx="1522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1920" y="57913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y = m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920" y="42670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4648320"/>
            <a:ext cx="167616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648320"/>
            <a:ext cx="83808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4648320"/>
            <a:ext cx="45720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4648320"/>
            <a:ext cx="45720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648320"/>
            <a:ext cx="1676160" cy="83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648320"/>
            <a:ext cx="16761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5486400"/>
            <a:ext cx="1676160" cy="380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5486400"/>
            <a:ext cx="4572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6880" y="5448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396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1911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t finds line segments for building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17273" t="12728" r="17273" b="22351"/>
          <a:stretch/>
        </p:blipFill>
        <p:spPr>
          <a:xfrm>
            <a:off x="1600200" y="1676520"/>
            <a:ext cx="6248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14545" t="9091" r="21363" b="20003"/>
          <a:stretch/>
        </p:blipFill>
        <p:spPr>
          <a:xfrm>
            <a:off x="1371600" y="685800"/>
            <a:ext cx="6553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antages of St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pixel chains of arbitra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mplemented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ssumptions and the effects of the parameters are well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gh Transform for Finding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8200" y="194616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56080" y="1787400"/>
            <a:ext cx="2199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r0 +  d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c0 + d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15400" y="18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, c, d ar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2520" y="31654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in idea:  The gradient vector at an edge pixe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o the center of 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4267080"/>
            <a:ext cx="152388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2160" y="487692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*(r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266720" y="5029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1160" y="4724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1981080"/>
            <a:ext cx="13716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66040" y="2057400"/>
            <a:ext cx="45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lled Circ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ter points of circle have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rection pointing to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4114800"/>
            <a:ext cx="1371600" cy="1295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4191120"/>
            <a:ext cx="121932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95000" y="3809880"/>
            <a:ext cx="50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ircular 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uter points gradient towards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ner points gradient away from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81080" y="37339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533412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61760" y="4800600"/>
            <a:ext cx="5331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480060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5181480"/>
            <a:ext cx="30492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680" y="5181480"/>
            <a:ext cx="45720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143000" y="4038120"/>
            <a:ext cx="38088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1148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487692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981080" y="4800600"/>
            <a:ext cx="6098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3880" y="4876920"/>
            <a:ext cx="45720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057400" y="4343400"/>
            <a:ext cx="3808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057400" y="4876920"/>
            <a:ext cx="38088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343400"/>
            <a:ext cx="45720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362320" y="3962520"/>
            <a:ext cx="45720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79520" y="5299200"/>
            <a:ext cx="48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s in the away direction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 in one b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ocedure to Accumulate Cir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5840" y="1654200"/>
            <a:ext cx="57736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ccumulator array A to all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point list array PTLIST to all N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ixel (R,C) in the imag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value of D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ute gradient magnitude G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f GMAG &gt; gradient_threshold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mpute THETA(R,C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R0 := R - D*cos(TH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0 := C - D* sin(TH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ncrement A(R0,C0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update PTLIST(R0,C0,D) 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30909" t="27273" r="30909" b="29094"/>
          <a:stretch/>
        </p:blipFill>
        <p:spPr>
          <a:xfrm>
            <a:off x="1066680" y="304920"/>
            <a:ext cx="73152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nding lung nodules (Kimme &amp; Ball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12880" y="1600200"/>
            <a:ext cx="391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gh transform and its variants can be used to find line segments or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lso been generalized to find other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Hough method does not work well for line segments, but works very well for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rns method improves the Hough for line segments and is easy to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rider algorithm in the ORT package gives excellent line and curve segments by tra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nding Straight Line Se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4720" y="2022480"/>
            <a:ext cx="67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mx + b is not suitable (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quation generally used is:  d = r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4038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03848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692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03480" y="5243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7280" y="3962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19520" y="4038120"/>
            <a:ext cx="1600200" cy="1219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3760" y="5181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57600" y="36194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32120" y="4610160"/>
            <a:ext cx="373788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 is the distance from the line to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 the angle the perpendicular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th the column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dure to Accumulat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0600" y="1676520"/>
            <a:ext cx="516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ccumulator array A to all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point list array PTLIST to all N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ixel (R,C) in the imag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5920" y="3429000"/>
            <a:ext cx="48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gradient magnitude G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GMAG &gt; gradient_threshold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6200" y="4384800"/>
            <a:ext cx="568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quantized tangent angle THET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quantized distance to origin D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A(DQ,THET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PTLIST(DQ,THETAQ) }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9720" y="1946160"/>
            <a:ext cx="2637360" cy="16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  0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   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  0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   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     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0    100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00  100 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0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100  100  100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3400" y="1981080"/>
            <a:ext cx="1985400" cy="16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0    0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0    0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 90  40  20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 90  90  40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 -     -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4760" y="1981080"/>
            <a:ext cx="1973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3    3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3    3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3    3    3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3    3    3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 -     -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280" y="4129200"/>
            <a:ext cx="56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05160" y="4129200"/>
            <a:ext cx="2058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   1   -  2   -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520" y="57913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10  20 30 40 …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4191120"/>
            <a:ext cx="56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62760" y="4129200"/>
            <a:ext cx="2058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   *   -  *   -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78240" y="5791320"/>
            <a:ext cx="21438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,3)(1,4)(2,3)(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5600" y="4205160"/>
            <a:ext cx="671400" cy="1618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3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4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4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4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5181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51814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6080" y="15238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-ton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1523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91320" y="15382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T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82560" y="374796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mulat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99880" y="3747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981080"/>
            <a:ext cx="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971800"/>
            <a:ext cx="15242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360" y="5562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8180" t="20003" r="18185" b="7275"/>
          <a:stretch/>
        </p:blipFill>
        <p:spPr>
          <a:xfrm>
            <a:off x="380880" y="380880"/>
            <a:ext cx="8305920" cy="6153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46600" y="5853240"/>
            <a:ext cx="186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Chalmers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6364" t="20003" r="18639" b="9091"/>
          <a:stretch/>
        </p:blipFill>
        <p:spPr>
          <a:xfrm>
            <a:off x="609480" y="457200"/>
            <a:ext cx="8001000" cy="5673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67280" y="564984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Chalmers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w do you extract the line segments from the accumula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2600" y="1752480"/>
            <a:ext cx="68158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he bin of A with highest valu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V &gt; value_threshold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the corresponding pointlist from P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 high gradient neighbors within 10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line segment from final poin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out that bin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he bin of A with highest value V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ne segments from Hough Trans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8:34:51Z</dcterms:created>
  <dc:creator>Linda Shapiro</dc:creator>
  <dc:description/>
  <dc:language>en-US</dc:language>
  <cp:lastModifiedBy>Linda Shapiro</cp:lastModifiedBy>
  <dcterms:modified xsi:type="dcterms:W3CDTF">2007-03-30T18:49:58Z</dcterms:modified>
  <cp:revision>10</cp:revision>
  <dc:subject/>
  <dc:title>Lines and Arcs Segmentation</dc:title>
</cp:coreProperties>
</file>