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17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0108-43EB-43EE-915C-A64D4253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C3A3-DBA5-4DC3-BC56-EA766D31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FAE5-4B56-4971-97A4-F500B5D3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239-DC9F-440D-9E69-2B7A9BDC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8A3F-B2CD-47DD-8F9C-28DC7D23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AF6E-8241-4724-83D9-6DE9CB38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8CD-A209-4E90-B7A7-050878DA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5174-168A-4EE1-A7F3-7AA99093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DF4E-149B-4F6B-ACC2-AF12FD4A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60F-8139-42CA-BFDA-434B32BF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A49-6128-4BDF-845A-D1CC15F0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C04C-48FF-4A7D-A8E7-2DC5B376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9D47-7F56-4BFA-89AA-FDBE98365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4.jpeg"/><Relationship Id="rId22" Type="http://schemas.openxmlformats.org/officeDocument/2006/relationships/image" Target="../media/image5.png"/><Relationship Id="rId23" Type="http://schemas.openxmlformats.org/officeDocument/2006/relationships/image" Target="../media/image4.jpeg"/><Relationship Id="rId24" Type="http://schemas.openxmlformats.org/officeDocument/2006/relationships/image" Target="../media/image3.png"/><Relationship Id="rId25" Type="http://schemas.openxmlformats.org/officeDocument/2006/relationships/image" Target="../media/image4.jpeg"/><Relationship Id="rId26" Type="http://schemas.openxmlformats.org/officeDocument/2006/relationships/image" Target="../media/image5.png"/><Relationship Id="rId27" Type="http://schemas.openxmlformats.org/officeDocument/2006/relationships/image" Target="../media/image4.jpeg"/><Relationship Id="rId28" Type="http://schemas.openxmlformats.org/officeDocument/2006/relationships/image" Target="../media/image3.png"/><Relationship Id="rId29" Type="http://schemas.openxmlformats.org/officeDocument/2006/relationships/image" Target="../media/image4.jpeg"/><Relationship Id="rId30" Type="http://schemas.openxmlformats.org/officeDocument/2006/relationships/image" Target="../media/image5.png"/><Relationship Id="rId31" Type="http://schemas.openxmlformats.org/officeDocument/2006/relationships/image" Target="../media/image4.jpeg"/><Relationship Id="rId32" Type="http://schemas.openxmlformats.org/officeDocument/2006/relationships/image" Target="../media/image3.png"/><Relationship Id="rId3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Kadir Operat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aliency, Scale and Image Description</a:t>
            </a:r>
            <a:br>
              <a:rPr sz="4800"/>
            </a:b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or Kadir and Michael Brad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versity of Oxf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Kadir wanted to sol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should not be a global, preselected par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textured regions can score high on entropy, but not be usef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lgorithm should not be sensitive to small changes in the image or no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dir’s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scale-spac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 will exist over multipl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ghoml (1986) regarded features (edges) that existed over multiple scales as b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dir took the opposite appro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considers these too self-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he looks 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aks in (weighted) entropy over the s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40080" indent="-640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ixel location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3680" indent="-560160">
              <a:spcBef>
                <a:spcPts val="700"/>
              </a:spcBef>
              <a:buClr>
                <a:srgbClr val="ff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r each scale s between smin and s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67280" indent="-48024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the local descriptor values within a window of scale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67280" indent="-48024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local PDF (use a hist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3680" indent="-56016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lect scales (set S) for which the entropy is peak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 may be emp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3680" indent="-560160">
              <a:spcBef>
                <a:spcPts val="700"/>
              </a:spcBef>
              <a:buClr>
                <a:srgbClr val="ff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ight the entropy 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 by the sum of absolute difference of the PDFs of the local descriptor around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89548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salient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th for saliency discre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905120"/>
            <a:ext cx="6477120" cy="434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62120" y="1981080"/>
                <a:ext cx="6248160" cy="403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d</m:t>
                            </m:r>
                            <m:r>
                              <m:t xml:space="preserve">∈</m:t>
                            </m:r>
                            <m:r>
                              <m:t xml:space="preserve">D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d</m:t>
                            </m:r>
                            <m:r>
                              <m:t xml:space="preserve">∈</m:t>
                            </m:r>
                            <m:r>
                              <m:t xml:space="preserve">D</m:t>
                            </m:r>
                          </m:sub>
                          <m:sup/>
                          <m:e/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7314120" y="1752480"/>
            <a:ext cx="1213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al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entr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base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cking salient points and their sc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34017" t="22951" r="18033" b="16395"/>
          <a:stretch/>
        </p:blipFill>
        <p:spPr>
          <a:xfrm>
            <a:off x="1828800" y="1143000"/>
            <a:ext cx="548640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rid of tex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8098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goal was 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highly textured regions such as grass or bushes, which are not the type of objects the Oxford group wanted to recogn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ch regions are highly salient with just entro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ecause they contain a lot of gray tones in roughly equal pro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y ar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milar at different sc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us the weights make them go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15999" t="16666" r="10000" b="19334"/>
          <a:stretch/>
        </p:blipFill>
        <p:spPr>
          <a:xfrm>
            <a:off x="4648320" y="2209680"/>
            <a:ext cx="41148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ient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just selecting the most salient points (based on weighted entropy), selec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alient reg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ore robus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s are like volumes in scale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dir use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uste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group selected points into reg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und the clustering was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ritical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adir’s clustering (VERY ad ho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lobal thresh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sali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ghest salient points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0% works wel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 nearest neighb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=8 pre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eck vari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center points with these neighb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 i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r enough aw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existant clusters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riance sm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res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mean scale and spatial location of the K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e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next highest salient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42622" t="24590" r="26642" b="47546"/>
          <a:stretch/>
        </p:blipFill>
        <p:spPr>
          <a:xfrm>
            <a:off x="609480" y="1828800"/>
            <a:ext cx="3886200" cy="2643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42622" t="52459" r="26642" b="16395"/>
          <a:stretch/>
        </p:blipFill>
        <p:spPr>
          <a:xfrm>
            <a:off x="4724280" y="1828800"/>
            <a:ext cx="35053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ustness Cl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cale invari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hooses its sc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tation invari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ses circular regions and histogra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mewhat illumination invari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h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 affine invari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ble to handle small changes in view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ssu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ent – standing out from the rest, noticeable, conspicous, promi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– find the best scale for a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description – create a descriptor for use in object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15626" t="34378" r="47503" b="24220"/>
          <a:stretch/>
        </p:blipFill>
        <p:spPr>
          <a:xfrm>
            <a:off x="1676520" y="1066680"/>
            <a:ext cx="57150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i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95280" y="1406520"/>
            <a:ext cx="6296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uses and Bo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uses and Bo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0390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ky Scr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17220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u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3047760" cy="2287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276720" cy="2458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2895480" y="3657600"/>
            <a:ext cx="335304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200400" cy="2401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3655800" cy="2743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971800" y="38862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Vision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49048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attentive stage: features pop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tive stage: relationships between features and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metry and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419720" y="3657600"/>
            <a:ext cx="3276360" cy="2459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3124440" cy="23428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572000" y="15238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219320" y="3809880"/>
            <a:ext cx="304776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feature: not tied to any specific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detect rather complex objects that are not all on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 invariant, rotation in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s relevant scale, so scale in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is g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thing b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dir, Brady; Saliency, scale and image description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JC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5(2), 83-105,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dir, Brady; Scale saliency: a novel approach to salient feature and scale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isman; Visual coding of features and objects: Some evidence from behavioral studies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vances in the Modularity of Vision Sel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NAS Press,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lfe, Treisman, Horowitz; What shall we do with the preattentive processing stage: Use it or lose it? (poster);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nual Mtg Vis Sci S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an, Abbott; Theoretical Neuroscience; MIT Press,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mme; Separate neural definitions of visual consciousness and visual attention; Neural Networks 17, 861-872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 Lollo, Kawahara, Zuvic, Visser; The preattentive emperor has no clothes: A dynamic redressing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 Experimental Psy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eneral 130(3), 479-4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chstein, Ahissar; View from the top: Hierarchies and reverse hierarchies in the visual system; Neuron 36, 791-804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52280" y="-291960"/>
            <a:ext cx="8991720" cy="3025800"/>
            <a:chOff x="152280" y="-291960"/>
            <a:chExt cx="8991720" cy="3025800"/>
          </a:xfrm>
        </p:grpSpPr>
        <p:sp>
          <p:nvSpPr>
            <p:cNvPr id="47" name=""/>
            <p:cNvSpPr/>
            <p:nvPr/>
          </p:nvSpPr>
          <p:spPr>
            <a:xfrm>
              <a:off x="152280" y="152280"/>
              <a:ext cx="8915400" cy="2362320"/>
            </a:xfrm>
            <a:prstGeom prst="rect">
              <a:avLst/>
            </a:prstGeom>
            <a:solidFill>
              <a:srgbClr val="dfccab"/>
            </a:solidFill>
            <a:ln w="38160">
              <a:solidFill>
                <a:srgbClr val="5d48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457200" y="152280"/>
              <a:ext cx="1871640" cy="231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2895480" y="533160"/>
              <a:ext cx="3048120" cy="18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 rot="2301000">
              <a:off x="7162560" y="-228240"/>
              <a:ext cx="1212840" cy="289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152280" y="5334120"/>
            <a:ext cx="8915400" cy="1447560"/>
            <a:chOff x="152280" y="5334120"/>
            <a:chExt cx="8915400" cy="1447560"/>
          </a:xfrm>
        </p:grpSpPr>
        <p:sp>
          <p:nvSpPr>
            <p:cNvPr id="52" name=""/>
            <p:cNvSpPr/>
            <p:nvPr/>
          </p:nvSpPr>
          <p:spPr>
            <a:xfrm>
              <a:off x="152280" y="5334120"/>
              <a:ext cx="8915400" cy="1447560"/>
            </a:xfrm>
            <a:prstGeom prst="rect">
              <a:avLst/>
            </a:prstGeom>
            <a:solidFill>
              <a:srgbClr val="ffe4c9"/>
            </a:solidFill>
            <a:ln w="38160">
              <a:solidFill>
                <a:srgbClr val="864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4"/>
            <a:srcRect l="49407" t="22295" r="38915" b="71730"/>
            <a:stretch/>
          </p:blipFill>
          <p:spPr>
            <a:xfrm>
              <a:off x="380880" y="6172200"/>
              <a:ext cx="609840" cy="42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5"/>
            <a:srcRect l="57617" t="4281" r="29549" b="88874"/>
            <a:stretch/>
          </p:blipFill>
          <p:spPr>
            <a:xfrm>
              <a:off x="7620120" y="6095880"/>
              <a:ext cx="609480" cy="44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6"/>
            <a:srcRect l="58773" t="14581" r="31891" b="79444"/>
            <a:stretch/>
          </p:blipFill>
          <p:spPr>
            <a:xfrm>
              <a:off x="380880" y="5486400"/>
              <a:ext cx="60984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7"/>
            <a:srcRect l="58773" t="27445" r="31891" b="67427"/>
            <a:stretch/>
          </p:blipFill>
          <p:spPr>
            <a:xfrm>
              <a:off x="5715000" y="6095880"/>
              <a:ext cx="6094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8"/>
            <a:srcRect l="59959" t="23164" r="31891" b="71730"/>
            <a:stretch/>
          </p:blipFill>
          <p:spPr>
            <a:xfrm>
              <a:off x="1752480" y="5573520"/>
              <a:ext cx="609840" cy="52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9"/>
            <a:srcRect l="50593" t="17145" r="37730" b="76858"/>
            <a:stretch/>
          </p:blipFill>
          <p:spPr>
            <a:xfrm>
              <a:off x="4191120" y="5562360"/>
              <a:ext cx="7617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0"/>
            <a:srcRect l="67502" t="75472" r="0" b="0"/>
            <a:stretch/>
          </p:blipFill>
          <p:spPr>
            <a:xfrm>
              <a:off x="1752480" y="6248160"/>
              <a:ext cx="685800" cy="3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1"/>
            <a:srcRect l="35005" t="49968" r="42502" b="16506"/>
            <a:stretch/>
          </p:blipFill>
          <p:spPr>
            <a:xfrm>
              <a:off x="8458200" y="6095880"/>
              <a:ext cx="498600" cy="44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2"/>
            <a:srcRect l="20002" t="0" r="55006" b="54249"/>
            <a:stretch/>
          </p:blipFill>
          <p:spPr>
            <a:xfrm>
              <a:off x="7162920" y="5562360"/>
              <a:ext cx="45216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3"/>
            <a:srcRect l="0" t="33192" r="60005" b="0"/>
            <a:stretch/>
          </p:blipFill>
          <p:spPr>
            <a:xfrm>
              <a:off x="3429000" y="5565600"/>
              <a:ext cx="6094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4"/>
            <a:srcRect l="32505" t="20620" r="22501" b="37473"/>
            <a:stretch/>
          </p:blipFill>
          <p:spPr>
            <a:xfrm>
              <a:off x="5715000" y="5562360"/>
              <a:ext cx="6858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5"/>
            <a:srcRect l="35730" t="2993" r="21423" b="71091"/>
            <a:stretch/>
          </p:blipFill>
          <p:spPr>
            <a:xfrm>
              <a:off x="5076720" y="5638680"/>
              <a:ext cx="56196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6"/>
            <a:srcRect l="0" t="26286" r="0" b="52688"/>
            <a:stretch/>
          </p:blipFill>
          <p:spPr>
            <a:xfrm>
              <a:off x="6477120" y="5638680"/>
              <a:ext cx="838080" cy="76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7"/>
            <a:srcRect l="0" t="50058" r="0" b="26286"/>
            <a:stretch/>
          </p:blipFill>
          <p:spPr>
            <a:xfrm>
              <a:off x="2514600" y="5790960"/>
              <a:ext cx="91440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8"/>
            <a:srcRect l="0" t="76236" r="0" b="0"/>
            <a:stretch/>
          </p:blipFill>
          <p:spPr>
            <a:xfrm>
              <a:off x="3809880" y="6248160"/>
              <a:ext cx="990720" cy="4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19"/>
            <a:srcRect l="56563" t="49950" r="-498" b="18511"/>
            <a:stretch/>
          </p:blipFill>
          <p:spPr>
            <a:xfrm>
              <a:off x="1143000" y="5715000"/>
              <a:ext cx="469800" cy="8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0"/>
            <a:srcRect l="0" t="31546" r="0" b="47428"/>
            <a:stretch/>
          </p:blipFill>
          <p:spPr>
            <a:xfrm>
              <a:off x="7772400" y="5483160"/>
              <a:ext cx="1066680" cy="53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"/>
          <p:cNvGrpSpPr/>
          <p:nvPr/>
        </p:nvGrpSpPr>
        <p:grpSpPr>
          <a:xfrm>
            <a:off x="228600" y="2819520"/>
            <a:ext cx="8763120" cy="2209680"/>
            <a:chOff x="228600" y="2819520"/>
            <a:chExt cx="8763120" cy="2209680"/>
          </a:xfrm>
        </p:grpSpPr>
        <p:sp>
          <p:nvSpPr>
            <p:cNvPr id="71" name=""/>
            <p:cNvSpPr/>
            <p:nvPr/>
          </p:nvSpPr>
          <p:spPr>
            <a:xfrm>
              <a:off x="7848720" y="2819520"/>
              <a:ext cx="152280" cy="1792080"/>
            </a:xfrm>
            <a:prstGeom prst="rect">
              <a:avLst/>
            </a:prstGeom>
            <a:solidFill>
              <a:srgbClr val="b3272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58000" y="4343400"/>
              <a:ext cx="152280" cy="268200"/>
            </a:xfrm>
            <a:prstGeom prst="rect">
              <a:avLst/>
            </a:prstGeom>
            <a:solidFill>
              <a:srgbClr val="b3272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15200" y="4114800"/>
              <a:ext cx="152280" cy="496800"/>
            </a:xfrm>
            <a:prstGeom prst="rect">
              <a:avLst/>
            </a:prstGeom>
            <a:solidFill>
              <a:srgbClr val="b3272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458200" y="4343400"/>
              <a:ext cx="152280" cy="268200"/>
            </a:xfrm>
            <a:prstGeom prst="rect">
              <a:avLst/>
            </a:prstGeom>
            <a:solidFill>
              <a:srgbClr val="b3272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4495680"/>
              <a:ext cx="152640" cy="152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09880" y="3505320"/>
              <a:ext cx="152640" cy="11430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67080" y="4495680"/>
              <a:ext cx="152640" cy="152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10080" y="4572000"/>
              <a:ext cx="152640" cy="76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23880" y="4459320"/>
              <a:ext cx="152640" cy="152280"/>
            </a:xfrm>
            <a:prstGeom prst="rect">
              <a:avLst/>
            </a:prstGeom>
            <a:solidFill>
              <a:srgbClr val="b1eba3"/>
            </a:solidFill>
            <a:ln w="12600">
              <a:solidFill>
                <a:srgbClr val="5d48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9480" y="4459320"/>
              <a:ext cx="152640" cy="152280"/>
            </a:xfrm>
            <a:prstGeom prst="rect">
              <a:avLst/>
            </a:prstGeom>
            <a:solidFill>
              <a:srgbClr val="b1eba3"/>
            </a:solidFill>
            <a:ln w="12600">
              <a:solidFill>
                <a:srgbClr val="5d48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66680" y="3011400"/>
              <a:ext cx="152640" cy="1600200"/>
            </a:xfrm>
            <a:prstGeom prst="rect">
              <a:avLst/>
            </a:prstGeom>
            <a:solidFill>
              <a:srgbClr val="b1eba3"/>
            </a:solidFill>
            <a:ln w="12600">
              <a:solidFill>
                <a:srgbClr val="5d48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09680" y="3468600"/>
              <a:ext cx="152640" cy="1143000"/>
            </a:xfrm>
            <a:prstGeom prst="rect">
              <a:avLst/>
            </a:prstGeom>
            <a:solidFill>
              <a:srgbClr val="b1eba3"/>
            </a:solidFill>
            <a:ln w="12600">
              <a:solidFill>
                <a:srgbClr val="5d48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8600" y="461160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28600" y="28591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1"/>
            <a:srcRect l="50593" t="17145" r="37730" b="76858"/>
            <a:stretch/>
          </p:blipFill>
          <p:spPr>
            <a:xfrm>
              <a:off x="2057400" y="4703760"/>
              <a:ext cx="38088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2"/>
            <a:srcRect l="20002" t="0" r="55006" b="54249"/>
            <a:stretch/>
          </p:blipFill>
          <p:spPr>
            <a:xfrm>
              <a:off x="457200" y="4687920"/>
              <a:ext cx="31284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3"/>
            <a:srcRect l="49407" t="22295" r="38915" b="71730"/>
            <a:stretch/>
          </p:blipFill>
          <p:spPr>
            <a:xfrm>
              <a:off x="914400" y="4687920"/>
              <a:ext cx="38088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477120" y="461160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477120" y="28591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29000" y="464832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429000" y="289512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4"/>
            <a:srcRect l="0" t="76236" r="0" b="0"/>
            <a:stretch/>
          </p:blipFill>
          <p:spPr>
            <a:xfrm>
              <a:off x="1371600" y="4724280"/>
              <a:ext cx="5335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5"/>
            <a:srcRect l="50593" t="17145" r="37730" b="76858"/>
            <a:stretch/>
          </p:blipFill>
          <p:spPr>
            <a:xfrm>
              <a:off x="5334120" y="4703760"/>
              <a:ext cx="38088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6"/>
            <a:srcRect l="20002" t="0" r="55006" b="54249"/>
            <a:stretch/>
          </p:blipFill>
          <p:spPr>
            <a:xfrm>
              <a:off x="3657600" y="4687920"/>
              <a:ext cx="31284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7"/>
            <a:srcRect l="49407" t="22295" r="38915" b="71730"/>
            <a:stretch/>
          </p:blipFill>
          <p:spPr>
            <a:xfrm>
              <a:off x="4114800" y="4724280"/>
              <a:ext cx="38088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28"/>
            <a:srcRect l="0" t="76236" r="0" b="0"/>
            <a:stretch/>
          </p:blipFill>
          <p:spPr>
            <a:xfrm>
              <a:off x="4495680" y="4724280"/>
              <a:ext cx="5335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9"/>
            <a:srcRect l="50593" t="17145" r="37730" b="76858"/>
            <a:stretch/>
          </p:blipFill>
          <p:spPr>
            <a:xfrm>
              <a:off x="8381880" y="4703760"/>
              <a:ext cx="3812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0"/>
            <a:srcRect l="20002" t="0" r="55006" b="54249"/>
            <a:stretch/>
          </p:blipFill>
          <p:spPr>
            <a:xfrm>
              <a:off x="6705720" y="4687920"/>
              <a:ext cx="31248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1"/>
            <a:srcRect l="49407" t="22295" r="38915" b="71730"/>
            <a:stretch/>
          </p:blipFill>
          <p:spPr>
            <a:xfrm>
              <a:off x="7238880" y="4687920"/>
              <a:ext cx="3812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2"/>
            <a:srcRect l="0" t="76236" r="0" b="0"/>
            <a:stretch/>
          </p:blipFill>
          <p:spPr>
            <a:xfrm>
              <a:off x="7696080" y="4724280"/>
              <a:ext cx="5335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1795320"/>
            <a:ext cx="3102120" cy="384336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5334120" y="1871640"/>
            <a:ext cx="2666880" cy="3581280"/>
            <a:chOff x="5334120" y="1871640"/>
            <a:chExt cx="2666880" cy="358128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rcRect l="49407" t="22295" r="38915" b="71730"/>
            <a:stretch/>
          </p:blipFill>
          <p:spPr>
            <a:xfrm>
              <a:off x="7238880" y="4157640"/>
              <a:ext cx="7621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3"/>
            <a:srcRect l="57617" t="4281" r="29549" b="88874"/>
            <a:stretch/>
          </p:blipFill>
          <p:spPr>
            <a:xfrm>
              <a:off x="6705720" y="1871640"/>
              <a:ext cx="685800" cy="4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4"/>
            <a:srcRect l="43568" t="38592" r="43598" b="54563"/>
            <a:stretch/>
          </p:blipFill>
          <p:spPr>
            <a:xfrm>
              <a:off x="5334120" y="4233600"/>
              <a:ext cx="685800" cy="49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5"/>
            <a:srcRect l="38886" t="15428" r="51778" b="79444"/>
            <a:stretch/>
          </p:blipFill>
          <p:spPr>
            <a:xfrm>
              <a:off x="7010280" y="324324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6"/>
            <a:srcRect l="58773" t="14581" r="31891" b="79444"/>
            <a:stretch/>
          </p:blipFill>
          <p:spPr>
            <a:xfrm>
              <a:off x="6095880" y="3319200"/>
              <a:ext cx="6098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7"/>
            <a:srcRect l="56432" t="32595" r="31891" b="62277"/>
            <a:stretch/>
          </p:blipFill>
          <p:spPr>
            <a:xfrm>
              <a:off x="6934320" y="4995720"/>
              <a:ext cx="7617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rcRect l="58773" t="27445" r="31891" b="67427"/>
            <a:stretch/>
          </p:blipFill>
          <p:spPr>
            <a:xfrm>
              <a:off x="7162920" y="2557440"/>
              <a:ext cx="6094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9"/>
            <a:srcRect l="59959" t="23164" r="31891" b="71730"/>
            <a:stretch/>
          </p:blipFill>
          <p:spPr>
            <a:xfrm>
              <a:off x="6400800" y="4081320"/>
              <a:ext cx="533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0"/>
            <a:srcRect l="47066" t="24011" r="45940" b="63146"/>
            <a:stretch/>
          </p:blipFill>
          <p:spPr>
            <a:xfrm>
              <a:off x="6019920" y="1947600"/>
              <a:ext cx="4572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11"/>
            <a:srcRect l="50593" t="17145" r="37730" b="76858"/>
            <a:stretch/>
          </p:blipFill>
          <p:spPr>
            <a:xfrm>
              <a:off x="5791320" y="4919400"/>
              <a:ext cx="7617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etection of Salient Features for an Object Clas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do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size windows (simple appro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ris detector, Lowe detector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dir’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2950" t="17175" r="66130" b="47054"/>
          <a:stretch/>
        </p:blipFill>
        <p:spPr>
          <a:xfrm>
            <a:off x="4653000" y="2490840"/>
            <a:ext cx="40338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4267080" y="1905120"/>
            <a:ext cx="4572000" cy="3429000"/>
            <a:chOff x="4267080" y="1905120"/>
            <a:chExt cx="4572000" cy="3429000"/>
          </a:xfrm>
        </p:grpSpPr>
        <p:sp>
          <p:nvSpPr>
            <p:cNvPr id="118" name=""/>
            <p:cNvSpPr/>
            <p:nvPr/>
          </p:nvSpPr>
          <p:spPr>
            <a:xfrm>
              <a:off x="4647960" y="1905120"/>
              <a:ext cx="0" cy="3429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29200" y="1905120"/>
              <a:ext cx="0" cy="3429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10080" y="1905120"/>
              <a:ext cx="0" cy="3429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90960" y="1905120"/>
              <a:ext cx="0" cy="3429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72200" y="1905120"/>
              <a:ext cx="0" cy="3429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53080" y="1905120"/>
              <a:ext cx="0" cy="3429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33960" y="1905120"/>
              <a:ext cx="0" cy="3429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15200" y="1905120"/>
              <a:ext cx="0" cy="3429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96080" y="1905120"/>
              <a:ext cx="0" cy="3429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76960" y="1905120"/>
              <a:ext cx="0" cy="3429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58200" y="1905120"/>
              <a:ext cx="0" cy="3429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67080" y="2286360"/>
              <a:ext cx="4572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67080" y="2667240"/>
              <a:ext cx="4572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67080" y="3048120"/>
              <a:ext cx="4572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67080" y="3429360"/>
              <a:ext cx="4572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67080" y="3810240"/>
              <a:ext cx="4572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7080" y="4191120"/>
              <a:ext cx="4572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67080" y="4572360"/>
              <a:ext cx="4572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67080" y="4953240"/>
              <a:ext cx="4572000" cy="0"/>
            </a:xfrm>
            <a:prstGeom prst="line">
              <a:avLst/>
            </a:prstGeom>
            <a:ln w="57240">
              <a:solidFill>
                <a:srgbClr val="fcf1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5334120"/>
              <a:ext cx="4572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dir’s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is intimately related to the problem of determin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liency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extracting relevant descri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ency is related to the local image complexity, ie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annon entro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opy definition   H = -∑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00960" y="5867280"/>
            <a:ext cx="11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in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232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is a point on th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ts local 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is a descriptor and has values {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..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,R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the probability of descriptor D taking the value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local region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9248" t="62002" r="16564" b="16666"/>
          <a:stretch/>
        </p:blipFill>
        <p:spPr>
          <a:xfrm>
            <a:off x="1909800" y="4641840"/>
            <a:ext cx="500220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Histograms of Int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2552" t="24590" r="16667" b="13117"/>
          <a:stretch/>
        </p:blipFill>
        <p:spPr>
          <a:xfrm>
            <a:off x="1219320" y="1219320"/>
            <a:ext cx="7162560" cy="4389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134720" y="5638680"/>
            <a:ext cx="68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hoods with structure have flatter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onverts to higher entro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03:29:23Z</dcterms:created>
  <dc:creator>cse</dc:creator>
  <dc:description/>
  <dc:language>en-US</dc:language>
  <cp:lastModifiedBy>cse</cp:lastModifiedBy>
  <dcterms:modified xsi:type="dcterms:W3CDTF">2007-04-05T03:50:35Z</dcterms:modified>
  <cp:revision>3</cp:revision>
  <dc:subject/>
  <dc:title>The Kadir Operator Saliency, Scale and Image Description  Timor Kadir and Michael Brady University of Oxford</dc:title>
</cp:coreProperties>
</file>