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FAC-C21A-4A7D-AD55-25DA6C7E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DD2-4331-43F2-A870-347F136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885-C6B4-4A49-BFF8-C8672763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B9B-566D-47C2-92E1-3DF33CEA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0ED-65E7-4F6E-86A8-F4139AA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8EC-89AE-45E1-9DE4-0CC42E7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C10-0470-4F85-A9E8-BBD47CF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4CE-F0DF-4436-AF3A-41D6D93D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6E2-7B1D-47F1-9B72-1974090E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E2A-A3A2-413F-B3B3-970309F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23E-30C3-4194-908A-B4B71B6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AC6-DEA6-4BA2-81BC-2B7ADD7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DE4-AA2A-4F5C-BEBA-8ADE2392D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jpeg"/><Relationship Id="rId22" Type="http://schemas.openxmlformats.org/officeDocument/2006/relationships/image" Target="../media/image5.png"/><Relationship Id="rId23" Type="http://schemas.openxmlformats.org/officeDocument/2006/relationships/image" Target="../media/image4.jpeg"/><Relationship Id="rId24" Type="http://schemas.openxmlformats.org/officeDocument/2006/relationships/image" Target="../media/image3.png"/><Relationship Id="rId25" Type="http://schemas.openxmlformats.org/officeDocument/2006/relationships/image" Target="../media/image4.jpeg"/><Relationship Id="rId26" Type="http://schemas.openxmlformats.org/officeDocument/2006/relationships/image" Target="../media/image5.png"/><Relationship Id="rId27" Type="http://schemas.openxmlformats.org/officeDocument/2006/relationships/image" Target="../media/image4.jpeg"/><Relationship Id="rId28" Type="http://schemas.openxmlformats.org/officeDocument/2006/relationships/image" Target="../media/image3.png"/><Relationship Id="rId29" Type="http://schemas.openxmlformats.org/officeDocument/2006/relationships/image" Target="../media/image4.jpeg"/><Relationship Id="rId30" Type="http://schemas.openxmlformats.org/officeDocument/2006/relationships/image" Target="../media/image5.png"/><Relationship Id="rId31" Type="http://schemas.openxmlformats.org/officeDocument/2006/relationships/image" Target="../media/image4.jpe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Kadir Operat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iency, Scale and Image Description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or Kadir and Michael Brad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ity of Ox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Kadir wanted to 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should not be a global, preselected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textured regions can score high on entropy, but not be use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gorithm should not be sensitive to small changes in the image or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dir’s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cale-spac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will exist over multipl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ghoml (1986) regarded features (edges) that existed over multiple scales a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 took the opposite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siders these too self-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he look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aks in (weighted) entropy over the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ixel locatio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each scale s between smin and s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he local descriptor values within a window of scal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ocal PDF (use a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 scales (set S) for which the entropy is pea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 may be emp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 the entropy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 by the sum of absolute difference of the PDFs of the local descriptor around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8954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salient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for saliency discre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05120"/>
            <a:ext cx="647712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120" y="1981080"/>
                <a:ext cx="6248160" cy="40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314120" y="1752480"/>
            <a:ext cx="1213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al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cking salient points and their s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4017" t="22951" r="18033" b="16395"/>
          <a:stretch/>
        </p:blipFill>
        <p:spPr>
          <a:xfrm>
            <a:off x="1828800" y="1143000"/>
            <a:ext cx="54864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id of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oal was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ighly textured regions such as grass or bushes, which are not the type of objects the Oxford group wanted to recog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ch regions are highly salient with just entr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they contain a lot of gray tones in roughly equal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milar at different sc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us the weights make them go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15999" t="16666" r="10000" b="19334"/>
          <a:stretch/>
        </p:blipFill>
        <p:spPr>
          <a:xfrm>
            <a:off x="4648320" y="2209680"/>
            <a:ext cx="41148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t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just selecting the most salient points (based on weighted entropy), selec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lient reg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re robu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like volumes in scal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 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roup selected points into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und the clustering wa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ir’s clustering (VERY ad ho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bal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sal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est salient poin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0% works w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nearest neighb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=8 pre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center points with these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 enough 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existant cluster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nce sm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mean scale and spatial location of the 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next highest salien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2622" t="24590" r="26642" b="47546"/>
          <a:stretch/>
        </p:blipFill>
        <p:spPr>
          <a:xfrm>
            <a:off x="609480" y="1828800"/>
            <a:ext cx="3886200" cy="264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42622" t="52459" r="26642" b="16395"/>
          <a:stretch/>
        </p:blipFill>
        <p:spPr>
          <a:xfrm>
            <a:off x="4724280" y="1828800"/>
            <a:ext cx="3505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ness Cl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e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ooses its 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tation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es circular regions and histo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mewhat illumination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affine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ble to handle small changes in view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ent – standing out from the rest, noticeable, conspicous,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– find the best scale for a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description – create a descriptor for use in objec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5626" t="34378" r="47503" b="24220"/>
          <a:stretch/>
        </p:blipFill>
        <p:spPr>
          <a:xfrm>
            <a:off x="1676520" y="1066680"/>
            <a:ext cx="5715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i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1406520"/>
            <a:ext cx="6296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uses and Bo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uses and Bo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y Scr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72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u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047760" cy="2287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276720" cy="2458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895480" y="3657600"/>
            <a:ext cx="3353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6558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9718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ision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9048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ttentive stage: features pop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ve stage: relationships between features and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metry 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3276360" cy="245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3124440" cy="2342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eature: not tied to any specific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ct rather complex objects that are not all on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invariant, rotation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relevant scale, so scale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is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, Brady; Saliency, scale and image description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JC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5(2), 83-105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, Brady; Scale saliency: a novel approach to salient feature and scal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isman; Visual coding of features and objects: Some evidence from behavioral studies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s in the Modularity of Vision Se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NAS Press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fe, Treisman, Horowitz; What shall we do with the preattentive processing stage: Use it or lose it? (poster);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ual Mtg Vis Sci S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an, Abbott; Theoretical Neuroscience; MIT Press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me; Separate neural definitions of visual consciousness and visual attention; Neural Networks 17, 861-872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Lollo, Kawahara, Zuvic, Visser; The preattentive emperor has no clothes: A dynamic redressing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Experimental Psy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eneral 130(3), 479-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chstein, Ahissar; View from the top: Hierarchies and reverse hierarchies in the visual system; Neuron 36, 791-804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-291960"/>
            <a:ext cx="8991720" cy="3025800"/>
            <a:chOff x="152280" y="-291960"/>
            <a:chExt cx="8991720" cy="3025800"/>
          </a:xfrm>
        </p:grpSpPr>
        <p:sp>
          <p:nvSpPr>
            <p:cNvPr id="47" name=""/>
            <p:cNvSpPr/>
            <p:nvPr/>
          </p:nvSpPr>
          <p:spPr>
            <a:xfrm>
              <a:off x="152280" y="152280"/>
              <a:ext cx="8915400" cy="2362320"/>
            </a:xfrm>
            <a:prstGeom prst="rect">
              <a:avLst/>
            </a:prstGeom>
            <a:solidFill>
              <a:srgbClr val="dfccab"/>
            </a:solidFill>
            <a:ln w="3816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457200" y="152280"/>
              <a:ext cx="1871640" cy="23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895480" y="533160"/>
              <a:ext cx="30481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 rot="2301000">
              <a:off x="7162560" y="-228240"/>
              <a:ext cx="1212840" cy="289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52280" y="5334120"/>
            <a:ext cx="8915400" cy="1447560"/>
            <a:chOff x="152280" y="5334120"/>
            <a:chExt cx="8915400" cy="1447560"/>
          </a:xfrm>
        </p:grpSpPr>
        <p:sp>
          <p:nvSpPr>
            <p:cNvPr id="52" name=""/>
            <p:cNvSpPr/>
            <p:nvPr/>
          </p:nvSpPr>
          <p:spPr>
            <a:xfrm>
              <a:off x="152280" y="5334120"/>
              <a:ext cx="8915400" cy="1447560"/>
            </a:xfrm>
            <a:prstGeom prst="rect">
              <a:avLst/>
            </a:prstGeom>
            <a:solidFill>
              <a:srgbClr val="ffe4c9"/>
            </a:solidFill>
            <a:ln w="38160">
              <a:solidFill>
                <a:srgbClr val="86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4"/>
            <a:srcRect l="49407" t="22295" r="38915" b="71730"/>
            <a:stretch/>
          </p:blipFill>
          <p:spPr>
            <a:xfrm>
              <a:off x="380880" y="6172200"/>
              <a:ext cx="6098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rcRect l="57617" t="4281" r="29549" b="88874"/>
            <a:stretch/>
          </p:blipFill>
          <p:spPr>
            <a:xfrm>
              <a:off x="7620120" y="6095880"/>
              <a:ext cx="60948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rcRect l="58773" t="14581" r="31891" b="79444"/>
            <a:stretch/>
          </p:blipFill>
          <p:spPr>
            <a:xfrm>
              <a:off x="380880" y="5486400"/>
              <a:ext cx="60984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rcRect l="58773" t="27445" r="31891" b="67427"/>
            <a:stretch/>
          </p:blipFill>
          <p:spPr>
            <a:xfrm>
              <a:off x="5715000" y="6095880"/>
              <a:ext cx="609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rcRect l="59959" t="23164" r="31891" b="71730"/>
            <a:stretch/>
          </p:blipFill>
          <p:spPr>
            <a:xfrm>
              <a:off x="1752480" y="5573520"/>
              <a:ext cx="60984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rcRect l="50593" t="17145" r="37730" b="76858"/>
            <a:stretch/>
          </p:blipFill>
          <p:spPr>
            <a:xfrm>
              <a:off x="4191120" y="5562360"/>
              <a:ext cx="7617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0"/>
            <a:srcRect l="67502" t="75472" r="0" b="0"/>
            <a:stretch/>
          </p:blipFill>
          <p:spPr>
            <a:xfrm>
              <a:off x="1752480" y="6248160"/>
              <a:ext cx="68580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rcRect l="35005" t="49968" r="42502" b="16506"/>
            <a:stretch/>
          </p:blipFill>
          <p:spPr>
            <a:xfrm>
              <a:off x="8458200" y="6095880"/>
              <a:ext cx="49860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rcRect l="20002" t="0" r="55006" b="54249"/>
            <a:stretch/>
          </p:blipFill>
          <p:spPr>
            <a:xfrm>
              <a:off x="7162920" y="5562360"/>
              <a:ext cx="4521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rcRect l="0" t="33192" r="60005" b="0"/>
            <a:stretch/>
          </p:blipFill>
          <p:spPr>
            <a:xfrm>
              <a:off x="3429000" y="5565600"/>
              <a:ext cx="6094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rcRect l="32505" t="20620" r="22501" b="37473"/>
            <a:stretch/>
          </p:blipFill>
          <p:spPr>
            <a:xfrm>
              <a:off x="5715000" y="5562360"/>
              <a:ext cx="685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rcRect l="35730" t="2993" r="21423" b="71091"/>
            <a:stretch/>
          </p:blipFill>
          <p:spPr>
            <a:xfrm>
              <a:off x="5076720" y="5638680"/>
              <a:ext cx="5619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rcRect l="0" t="26286" r="0" b="52688"/>
            <a:stretch/>
          </p:blipFill>
          <p:spPr>
            <a:xfrm>
              <a:off x="6477120" y="5638680"/>
              <a:ext cx="8380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rcRect l="0" t="50058" r="0" b="26286"/>
            <a:stretch/>
          </p:blipFill>
          <p:spPr>
            <a:xfrm>
              <a:off x="2514600" y="5790960"/>
              <a:ext cx="91440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8"/>
            <a:srcRect l="0" t="76236" r="0" b="0"/>
            <a:stretch/>
          </p:blipFill>
          <p:spPr>
            <a:xfrm>
              <a:off x="3809880" y="6248160"/>
              <a:ext cx="99072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9"/>
            <a:srcRect l="56563" t="49950" r="-498" b="18511"/>
            <a:stretch/>
          </p:blipFill>
          <p:spPr>
            <a:xfrm>
              <a:off x="1143000" y="5715000"/>
              <a:ext cx="469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0"/>
            <a:srcRect l="0" t="31546" r="0" b="47428"/>
            <a:stretch/>
          </p:blipFill>
          <p:spPr>
            <a:xfrm>
              <a:off x="7772400" y="5483160"/>
              <a:ext cx="106668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228600" y="2819520"/>
            <a:ext cx="8763120" cy="2209680"/>
            <a:chOff x="228600" y="2819520"/>
            <a:chExt cx="8763120" cy="2209680"/>
          </a:xfrm>
        </p:grpSpPr>
        <p:sp>
          <p:nvSpPr>
            <p:cNvPr id="71" name=""/>
            <p:cNvSpPr/>
            <p:nvPr/>
          </p:nvSpPr>
          <p:spPr>
            <a:xfrm>
              <a:off x="7848720" y="2819520"/>
              <a:ext cx="152280" cy="179208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0" y="4343400"/>
              <a:ext cx="152280" cy="2682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5200" y="4114800"/>
              <a:ext cx="152280" cy="4968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58200" y="4343400"/>
              <a:ext cx="152280" cy="2682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5320"/>
              <a:ext cx="152640" cy="1143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4495680"/>
              <a:ext cx="15264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4572000"/>
              <a:ext cx="152640" cy="76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3880" y="4459320"/>
              <a:ext cx="152640" cy="15228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4459320"/>
              <a:ext cx="152640" cy="15228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3011400"/>
              <a:ext cx="152640" cy="160020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3468600"/>
              <a:ext cx="152640" cy="114300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" y="46116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8600" y="2859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1"/>
            <a:srcRect l="50593" t="17145" r="37730" b="76858"/>
            <a:stretch/>
          </p:blipFill>
          <p:spPr>
            <a:xfrm>
              <a:off x="2057400" y="470376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2"/>
            <a:srcRect l="20002" t="0" r="55006" b="54249"/>
            <a:stretch/>
          </p:blipFill>
          <p:spPr>
            <a:xfrm>
              <a:off x="457200" y="4687920"/>
              <a:ext cx="3128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3"/>
            <a:srcRect l="49407" t="22295" r="38915" b="71730"/>
            <a:stretch/>
          </p:blipFill>
          <p:spPr>
            <a:xfrm>
              <a:off x="914400" y="468792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477120" y="46116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477120" y="2859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9000" y="46483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429000" y="289512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4"/>
            <a:srcRect l="0" t="76236" r="0" b="0"/>
            <a:stretch/>
          </p:blipFill>
          <p:spPr>
            <a:xfrm>
              <a:off x="137160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5"/>
            <a:srcRect l="50593" t="17145" r="37730" b="76858"/>
            <a:stretch/>
          </p:blipFill>
          <p:spPr>
            <a:xfrm>
              <a:off x="5334120" y="470376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6"/>
            <a:srcRect l="20002" t="0" r="55006" b="54249"/>
            <a:stretch/>
          </p:blipFill>
          <p:spPr>
            <a:xfrm>
              <a:off x="3657600" y="4687920"/>
              <a:ext cx="3128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7"/>
            <a:srcRect l="49407" t="22295" r="38915" b="71730"/>
            <a:stretch/>
          </p:blipFill>
          <p:spPr>
            <a:xfrm>
              <a:off x="4114800" y="472428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8"/>
            <a:srcRect l="0" t="76236" r="0" b="0"/>
            <a:stretch/>
          </p:blipFill>
          <p:spPr>
            <a:xfrm>
              <a:off x="449568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9"/>
            <a:srcRect l="50593" t="17145" r="37730" b="76858"/>
            <a:stretch/>
          </p:blipFill>
          <p:spPr>
            <a:xfrm>
              <a:off x="8381880" y="4703760"/>
              <a:ext cx="3812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0"/>
            <a:srcRect l="20002" t="0" r="55006" b="54249"/>
            <a:stretch/>
          </p:blipFill>
          <p:spPr>
            <a:xfrm>
              <a:off x="6705720" y="4687920"/>
              <a:ext cx="31248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1"/>
            <a:srcRect l="49407" t="22295" r="38915" b="71730"/>
            <a:stretch/>
          </p:blipFill>
          <p:spPr>
            <a:xfrm>
              <a:off x="7238880" y="4687920"/>
              <a:ext cx="3812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2"/>
            <a:srcRect l="0" t="76236" r="0" b="0"/>
            <a:stretch/>
          </p:blipFill>
          <p:spPr>
            <a:xfrm>
              <a:off x="769608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795320"/>
            <a:ext cx="3102120" cy="3843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334120" y="1871640"/>
            <a:ext cx="2666880" cy="3581280"/>
            <a:chOff x="5334120" y="1871640"/>
            <a:chExt cx="2666880" cy="358128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49407" t="22295" r="38915" b="71730"/>
            <a:stretch/>
          </p:blipFill>
          <p:spPr>
            <a:xfrm>
              <a:off x="7238880" y="4157640"/>
              <a:ext cx="762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rcRect l="57617" t="4281" r="29549" b="88874"/>
            <a:stretch/>
          </p:blipFill>
          <p:spPr>
            <a:xfrm>
              <a:off x="6705720" y="1871640"/>
              <a:ext cx="68580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rcRect l="43568" t="38592" r="43598" b="54563"/>
            <a:stretch/>
          </p:blipFill>
          <p:spPr>
            <a:xfrm>
              <a:off x="5334120" y="4233600"/>
              <a:ext cx="68580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rcRect l="38886" t="15428" r="51778" b="79444"/>
            <a:stretch/>
          </p:blipFill>
          <p:spPr>
            <a:xfrm>
              <a:off x="7010280" y="324324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rcRect l="58773" t="14581" r="31891" b="79444"/>
            <a:stretch/>
          </p:blipFill>
          <p:spPr>
            <a:xfrm>
              <a:off x="6095880" y="3319200"/>
              <a:ext cx="609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rcRect l="56432" t="32595" r="31891" b="62277"/>
            <a:stretch/>
          </p:blipFill>
          <p:spPr>
            <a:xfrm>
              <a:off x="6934320" y="4995720"/>
              <a:ext cx="7617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rcRect l="58773" t="27445" r="31891" b="67427"/>
            <a:stretch/>
          </p:blipFill>
          <p:spPr>
            <a:xfrm>
              <a:off x="7162920" y="255744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9"/>
            <a:srcRect l="59959" t="23164" r="31891" b="71730"/>
            <a:stretch/>
          </p:blipFill>
          <p:spPr>
            <a:xfrm>
              <a:off x="6400800" y="408132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0"/>
            <a:srcRect l="47066" t="24011" r="45940" b="63146"/>
            <a:stretch/>
          </p:blipFill>
          <p:spPr>
            <a:xfrm>
              <a:off x="6019920" y="1947600"/>
              <a:ext cx="457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1"/>
            <a:srcRect l="50593" t="17145" r="37730" b="76858"/>
            <a:stretch/>
          </p:blipFill>
          <p:spPr>
            <a:xfrm>
              <a:off x="5791320" y="4919400"/>
              <a:ext cx="7617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tection of Salient Features for an Object Cla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size windows (simple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detector, Lowe detecto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’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950" t="17175" r="66130" b="47054"/>
          <a:stretch/>
        </p:blipFill>
        <p:spPr>
          <a:xfrm>
            <a:off x="4653000" y="2490840"/>
            <a:ext cx="40338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267080" y="1905120"/>
            <a:ext cx="4572000" cy="3429000"/>
            <a:chOff x="4267080" y="1905120"/>
            <a:chExt cx="4572000" cy="3429000"/>
          </a:xfrm>
        </p:grpSpPr>
        <p:sp>
          <p:nvSpPr>
            <p:cNvPr id="118" name=""/>
            <p:cNvSpPr/>
            <p:nvPr/>
          </p:nvSpPr>
          <p:spPr>
            <a:xfrm>
              <a:off x="4647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0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2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3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3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6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6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2286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266724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3048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429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7080" y="381024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4191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4572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4953240"/>
              <a:ext cx="4572000" cy="0"/>
            </a:xfrm>
            <a:prstGeom prst="line">
              <a:avLst/>
            </a:prstGeom>
            <a:ln w="57240">
              <a:solidFill>
                <a:srgbClr val="fcf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5334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dir’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is intimately related to the problem of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liency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xtracting relevant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ency is related to the local image complexity, ie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nnon 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definition   H = -∑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960" y="586728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in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232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s a point on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ts local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is a descriptor and has values {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,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probability of descriptor D taking the valu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local reg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9248" t="62002" r="16564" b="16666"/>
          <a:stretch/>
        </p:blipFill>
        <p:spPr>
          <a:xfrm>
            <a:off x="1909800" y="4641840"/>
            <a:ext cx="5002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Histograms of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2552" t="24590" r="16667" b="13117"/>
          <a:stretch/>
        </p:blipFill>
        <p:spPr>
          <a:xfrm>
            <a:off x="1219320" y="1219320"/>
            <a:ext cx="7162560" cy="4389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34720" y="5638680"/>
            <a:ext cx="68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hoods with structure have flatt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verts to higher entr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3:29:23Z</dcterms:created>
  <dc:creator>cse</dc:creator>
  <dc:description/>
  <dc:language>en-US</dc:language>
  <cp:lastModifiedBy>cse</cp:lastModifiedBy>
  <dcterms:modified xsi:type="dcterms:W3CDTF">2007-04-05T03:50:35Z</dcterms:modified>
  <cp:revision>3</cp:revision>
  <dc:subject/>
  <dc:title>The Kadir Operator Saliency, Scale and Image Description  Timor Kadir and Michael Brady University of Oxford</dc:title>
</cp:coreProperties>
</file>