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9572-01F6-4460-B4B8-B23CA9942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9354-8071-4604-8433-C86C5F72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1F69-43BD-4046-BC87-A73060193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AEC1-6C32-4C45-8320-012F172FA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6767-88C5-4B74-B28B-37814A67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530D-6B25-496E-BF91-C0D3A106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4FD7-4EFD-40E5-BFBA-D69CDBB8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5A56-D1BB-45E4-A6C8-F4340229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96A4-A3A8-4CFF-AB9A-6F861FB1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3E58-EEF2-4102-903B-3537918F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DE30-F6CF-462E-80D8-48C2BFF1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DFA0-5889-492B-941B-3B0BC7C8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F8D1-7FB6-444F-A17F-4E001694A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dge 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ind of filtering that leads to useful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Derivative M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es of derivative masks have opposite signs in order to obtain a high response in regions of high contr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m of coordinates of derivative masks is zero, so that a zero response is obtained on constant reg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derivative masks produce high absolute values at points of high contr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derivative masks produce zero-crossings at points of high contr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rr/Hildreth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7000" y="2362320"/>
            <a:ext cx="684936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moo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image via a Gaussian conv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aplacian fil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stimate 2nd derivativ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zero crossin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Laplacian of the Gaussi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an be done at multiple resol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aralick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0440" y="2098800"/>
            <a:ext cx="662220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t the gray-tone intensity surface to a piecewi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ubic polynomial approxi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e approximation to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nd zero crossin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directional derivative in the direction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s the first directional deriv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rivatives here are calculated from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r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athematical express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t the cubic polynom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nny Edge Det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9320" y="1676520"/>
            <a:ext cx="755532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mooth the image with a Gaussian filter with sprea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gradien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agnitude and dir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pixel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moothed im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Zero 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y pixel respon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two neighboring pix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either side of it,  along the direction of the grad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rack high-magnitude conto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eep only pixels along these cont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o weak litt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s go a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nny on Kidney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0" r="40625" b="22654"/>
          <a:stretch/>
        </p:blipFill>
        <p:spPr>
          <a:xfrm>
            <a:off x="2438280" y="1600200"/>
            <a:ext cx="4343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nny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nny operator gives single-pixel-wide images with good continuation between adjacent pix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the most widely used edge operator today; no one has done better since it came out in the late 80s.  Many implementations are avail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very sensitive to its parameters, which need to be adjusted for different application dom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ines and Arcs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42680" y="1946160"/>
            <a:ext cx="63651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ome image sets, lines, curves, and circular ar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more useful than regions or helpful in ad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eg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8520" y="3581280"/>
            <a:ext cx="4047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s and arcs are often us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reo ma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65800" y="3352680"/>
            <a:ext cx="25398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dge De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5560" y="1946160"/>
            <a:ext cx="68025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:  look for a neighborhood with strong 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40240" y="3276720"/>
            <a:ext cx="2085840" cy="1191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1   82</a:t>
            </a: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26  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2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33   25  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1   82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26  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6640" y="3276720"/>
            <a:ext cx="2948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ghborhood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detec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ifferential 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4200" y="2362320"/>
            <a:ext cx="721044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ial op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approximate the gradient at a pixel via 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shold the gradient to select the edge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: Sobel Op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2960" y="1870200"/>
            <a:ext cx="5618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   0   1                                 1   2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  -2   0   2                     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  0   0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   0   1                                -1  -2 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198108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05520" y="1981080"/>
            <a:ext cx="75960" cy="914400"/>
          </a:xfrm>
          <a:custGeom>
            <a:avLst/>
            <a:gdLst>
              <a:gd name="textAreaLeft" fmla="*/ 22320 w 75960"/>
              <a:gd name="textAreaRight" fmla="*/ 76320 w 7596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198108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00800" y="198108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3400" y="3470400"/>
            <a:ext cx="37450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 pixel of the image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the response to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the response to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04840" y="5105520"/>
            <a:ext cx="67593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nd    g = (g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+ g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)</a:t>
            </a:r>
            <a:r>
              <a:rPr b="0" lang="en-US" sz="2400" spc="-1" strike="noStrike" baseline="30000">
                <a:solidFill>
                  <a:srgbClr val="000099"/>
                </a:solidFill>
                <a:latin typeface="Times New Roman"/>
              </a:rPr>
              <a:t>1/2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   is the gradient magnitu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= atan2(g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,g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)         is the gradient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12840" y="3505320"/>
            <a:ext cx="2614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n the gradien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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 = [g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gy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21560" y="3809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3657600"/>
            <a:ext cx="228600" cy="990720"/>
          </a:xfrm>
          <a:custGeom>
            <a:avLst/>
            <a:gdLst>
              <a:gd name="textAreaLeft" fmla="*/ 0 w 228600"/>
              <a:gd name="textAreaRight" fmla="*/ 160560 w 228600"/>
              <a:gd name="textAreaTop" fmla="*/ 41040 h 990720"/>
              <a:gd name="textAreaBottom" fmla="*/ 9496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obel Operator on the Blocks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7520" t="4699" r="17292" b="63347"/>
          <a:stretch/>
        </p:blipFill>
        <p:spPr>
          <a:xfrm>
            <a:off x="762120" y="2133720"/>
            <a:ext cx="7619760" cy="2590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7560" y="4952880"/>
            <a:ext cx="712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 image                gradient                    threshol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itude                    grad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mon Masks for Computing Grad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b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wit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5800" y="3429000"/>
            <a:ext cx="10206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   0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   0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   0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40320" y="3429000"/>
            <a:ext cx="17308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0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  -1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05800" y="1905120"/>
            <a:ext cx="10206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   0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   0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   0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40320" y="1905120"/>
            <a:ext cx="17308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0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58800" y="5029200"/>
            <a:ext cx="702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92240" y="5029200"/>
            <a:ext cx="1388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91280" y="58276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91480" y="58276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Zero Crossing 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4320" y="2098800"/>
            <a:ext cx="709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vation:  The zero crossings of the second deriv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image function are more precise t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aks of the first deriv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4267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3886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4876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4572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86120" y="4562640"/>
            <a:ext cx="682560" cy="314280"/>
          </a:xfrm>
          <a:custGeom>
            <a:avLst/>
            <a:gdLst/>
            <a:ahLst/>
            <a:rect l="l" t="t" r="r" b="b"/>
            <a:pathLst>
              <a:path w="430" h="198">
                <a:moveTo>
                  <a:pt x="0" y="198"/>
                </a:moveTo>
                <a:cubicBezTo>
                  <a:pt x="44" y="183"/>
                  <a:pt x="23" y="188"/>
                  <a:pt x="64" y="181"/>
                </a:cubicBezTo>
                <a:cubicBezTo>
                  <a:pt x="121" y="161"/>
                  <a:pt x="136" y="124"/>
                  <a:pt x="180" y="93"/>
                </a:cubicBezTo>
                <a:cubicBezTo>
                  <a:pt x="212" y="2"/>
                  <a:pt x="351" y="0"/>
                  <a:pt x="43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5410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5410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5246640"/>
            <a:ext cx="350640" cy="165240"/>
          </a:xfrm>
          <a:custGeom>
            <a:avLst/>
            <a:gdLst/>
            <a:ahLst/>
            <a:rect l="l" t="t" r="r" b="b"/>
            <a:pathLst>
              <a:path w="221" h="104">
                <a:moveTo>
                  <a:pt x="0" y="104"/>
                </a:moveTo>
                <a:cubicBezTo>
                  <a:pt x="8" y="102"/>
                  <a:pt x="16" y="103"/>
                  <a:pt x="23" y="99"/>
                </a:cubicBezTo>
                <a:cubicBezTo>
                  <a:pt x="46" y="84"/>
                  <a:pt x="38" y="47"/>
                  <a:pt x="58" y="29"/>
                </a:cubicBezTo>
                <a:cubicBezTo>
                  <a:pt x="82" y="8"/>
                  <a:pt x="87" y="8"/>
                  <a:pt x="111" y="0"/>
                </a:cubicBezTo>
                <a:cubicBezTo>
                  <a:pt x="130" y="7"/>
                  <a:pt x="163" y="29"/>
                  <a:pt x="163" y="29"/>
                </a:cubicBezTo>
                <a:cubicBezTo>
                  <a:pt x="174" y="44"/>
                  <a:pt x="181" y="67"/>
                  <a:pt x="192" y="81"/>
                </a:cubicBezTo>
                <a:cubicBezTo>
                  <a:pt x="200" y="91"/>
                  <a:pt x="212" y="96"/>
                  <a:pt x="221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6019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6019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5791320"/>
            <a:ext cx="720720" cy="568080"/>
          </a:xfrm>
          <a:custGeom>
            <a:avLst/>
            <a:gdLst/>
            <a:ahLst/>
            <a:rect l="l" t="t" r="r" b="b"/>
            <a:pathLst>
              <a:path w="454" h="358">
                <a:moveTo>
                  <a:pt x="0" y="151"/>
                </a:moveTo>
                <a:cubicBezTo>
                  <a:pt x="36" y="129"/>
                  <a:pt x="29" y="77"/>
                  <a:pt x="64" y="53"/>
                </a:cubicBezTo>
                <a:cubicBezTo>
                  <a:pt x="89" y="36"/>
                  <a:pt x="110" y="17"/>
                  <a:pt x="134" y="0"/>
                </a:cubicBezTo>
                <a:cubicBezTo>
                  <a:pt x="161" y="6"/>
                  <a:pt x="180" y="6"/>
                  <a:pt x="198" y="29"/>
                </a:cubicBezTo>
                <a:cubicBezTo>
                  <a:pt x="207" y="40"/>
                  <a:pt x="221" y="64"/>
                  <a:pt x="221" y="64"/>
                </a:cubicBezTo>
                <a:cubicBezTo>
                  <a:pt x="237" y="126"/>
                  <a:pt x="235" y="189"/>
                  <a:pt x="256" y="250"/>
                </a:cubicBezTo>
                <a:cubicBezTo>
                  <a:pt x="267" y="358"/>
                  <a:pt x="244" y="284"/>
                  <a:pt x="280" y="320"/>
                </a:cubicBezTo>
                <a:cubicBezTo>
                  <a:pt x="307" y="347"/>
                  <a:pt x="273" y="333"/>
                  <a:pt x="309" y="343"/>
                </a:cubicBezTo>
                <a:cubicBezTo>
                  <a:pt x="332" y="341"/>
                  <a:pt x="356" y="345"/>
                  <a:pt x="378" y="338"/>
                </a:cubicBezTo>
                <a:cubicBezTo>
                  <a:pt x="384" y="336"/>
                  <a:pt x="381" y="326"/>
                  <a:pt x="384" y="320"/>
                </a:cubicBezTo>
                <a:cubicBezTo>
                  <a:pt x="391" y="308"/>
                  <a:pt x="408" y="285"/>
                  <a:pt x="408" y="285"/>
                </a:cubicBezTo>
                <a:cubicBezTo>
                  <a:pt x="423" y="235"/>
                  <a:pt x="399" y="303"/>
                  <a:pt x="431" y="256"/>
                </a:cubicBezTo>
                <a:cubicBezTo>
                  <a:pt x="439" y="244"/>
                  <a:pt x="454" y="176"/>
                  <a:pt x="454" y="15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84760" y="369900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ep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84760" y="415620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moot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6520" y="502920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st deriv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31040" y="560376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nd deriv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5943600"/>
            <a:ext cx="152280" cy="1522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437920" y="5791320"/>
            <a:ext cx="22860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70480" y="5562720"/>
            <a:ext cx="12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zero cro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we estimate the Second Deriva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lacian Filter: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f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 /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 /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93600" y="2602080"/>
            <a:ext cx="104184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  1 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-4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  1 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87840" y="1600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78560" y="1600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64360" y="1600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54720" y="1600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85520" y="2906640"/>
            <a:ext cx="4510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mask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ation:  In 1D, the first deriv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computed with mask [-1 0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1D second derivative is [1 -2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aplacian mask estimates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D second deriva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21160" y="1600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0:43:34Z</dcterms:created>
  <dc:creator>cse</dc:creator>
  <dc:description/>
  <dc:language>en-US</dc:language>
  <cp:lastModifiedBy>cse</cp:lastModifiedBy>
  <dcterms:modified xsi:type="dcterms:W3CDTF">2007-03-13T02:26:37Z</dcterms:modified>
  <cp:revision>4</cp:revision>
  <dc:subject/>
  <dc:title>Edge Operators</dc:title>
</cp:coreProperties>
</file>