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14B-730D-4EE6-83C2-B785DB73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E05-12F2-4B01-A5F1-797ED251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38A-3E3A-42A6-9B37-4E24B8D3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EF9-1C01-4C09-BE13-8105C4C7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DC8-DF2A-40E7-BF29-F0D4D765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11A-F9AC-4C61-A6D7-9914CA59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1CE-A443-4CB5-A858-CB72612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BED-E872-46EC-B41E-91C5E123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72A-AEA3-4B07-BE6C-CE8268F1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953-244A-4C6B-AFD6-CC3BAE9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11B-3FDB-46DB-8B3A-241AFC9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D0D-6F64-491D-9BEC-B9DA573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94D-3087-449F-BD22-BC979D24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dge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nd of filtering that leads to usefu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Derivative M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 of derivative masks have opposite signs in order to obtain a high response in regions of high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coordinates of derivative masks is zero, so that a zero response is obtained on constant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rivative masks produce high absolute values at points of high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derivative masks produce zero-crossings at points of high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r/Hildreth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7000" y="2362320"/>
            <a:ext cx="6849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image via a Gaussian conv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placian fil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stimate 2nd derivat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 cross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aplacian of the Gauss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done at multiple re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alick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0440" y="2098800"/>
            <a:ext cx="66222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the gray-tone intensity surface to a piecew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bic polynomial approx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approximation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zero cross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directional derivative in the direction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s the first directional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atives here are calculated fro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hematical 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t the cubic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ny Edge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320" y="1676520"/>
            <a:ext cx="755532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ooth the image with a Gaussian filter with sp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gradi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gnitude and 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pixe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oothed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y pixel respon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wo neighboring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either side of it,  along the direction of the grad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ck high-magnitude cont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ep only pixels along these cont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weak li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go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ny on Kidn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40625" b="22654"/>
          <a:stretch/>
        </p:blipFill>
        <p:spPr>
          <a:xfrm>
            <a:off x="2438280" y="1600200"/>
            <a:ext cx="434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ny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nny operator gives single-pixel-wide images with good continuation between adjacent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most widely used edge operator today; no one has done better since it came out in the late 80s.  Many implementations ar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ery sensitive to its parameters, which need to be adjusted for different application dom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s and Arc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2680" y="1946160"/>
            <a:ext cx="6365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age sets, lines, curves, and circular 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ore useful than regions or helpful in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8520" y="3581280"/>
            <a:ext cx="40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nd arcs are often u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5800" y="3352680"/>
            <a:ext cx="2539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dge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560" y="1946160"/>
            <a:ext cx="6802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:  look for a neighborhood with strong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40240" y="3276720"/>
            <a:ext cx="20858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1   82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26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33   25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1   8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26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6640" y="3276720"/>
            <a:ext cx="29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hoo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tec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fferential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200" y="2362320"/>
            <a:ext cx="72104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approximate the gradient at a pixel via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 the gradient to select the edg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Sobel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" y="1870200"/>
            <a:ext cx="5618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  0   1                                 1   2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-2   0   2                    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0   0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  0   1                                -1  -2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9810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98108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9810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9810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3400" y="3470400"/>
            <a:ext cx="3745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pixel of the imag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esponse t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esponse t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5105520"/>
            <a:ext cx="6759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d    g = (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+ 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)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is the gradient magni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atan2(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         is the gradi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2840" y="3505320"/>
            <a:ext cx="261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the gradi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 = [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g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5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3657600"/>
            <a:ext cx="228600" cy="990720"/>
          </a:xfrm>
          <a:custGeom>
            <a:avLst/>
            <a:gdLst>
              <a:gd name="textAreaLeft" fmla="*/ 0 w 228600"/>
              <a:gd name="textAreaRight" fmla="*/ 160560 w 22860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bel Operator on the Blocks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7520" t="4699" r="17292" b="63347"/>
          <a:stretch/>
        </p:blipFill>
        <p:spPr>
          <a:xfrm>
            <a:off x="762120" y="2133720"/>
            <a:ext cx="7619760" cy="259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7560" y="4952880"/>
            <a:ext cx="71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               gradient                    threshol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                  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n Masks for Computing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wit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5800" y="3429000"/>
            <a:ext cx="1020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40320" y="3429000"/>
            <a:ext cx="1730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0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-1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5800" y="1905120"/>
            <a:ext cx="1020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  0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40320" y="1905120"/>
            <a:ext cx="1730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0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8800" y="5029200"/>
            <a:ext cx="70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92240" y="5029200"/>
            <a:ext cx="1388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1280" y="5827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480" y="5827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 Crossing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4320" y="20988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:  The zero crossings of the second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image function are more precis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aks of the first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4876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6120" y="4562640"/>
            <a:ext cx="682560" cy="314280"/>
          </a:xfrm>
          <a:custGeom>
            <a:avLst/>
            <a:gdLst/>
            <a:ahLst/>
            <a:rect l="l" t="t" r="r" b="b"/>
            <a:pathLst>
              <a:path w="430" h="198">
                <a:moveTo>
                  <a:pt x="0" y="198"/>
                </a:moveTo>
                <a:cubicBezTo>
                  <a:pt x="44" y="183"/>
                  <a:pt x="23" y="188"/>
                  <a:pt x="64" y="181"/>
                </a:cubicBezTo>
                <a:cubicBezTo>
                  <a:pt x="121" y="161"/>
                  <a:pt x="136" y="124"/>
                  <a:pt x="180" y="93"/>
                </a:cubicBezTo>
                <a:cubicBezTo>
                  <a:pt x="212" y="2"/>
                  <a:pt x="351" y="0"/>
                  <a:pt x="4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5246640"/>
            <a:ext cx="350640" cy="165240"/>
          </a:xfrm>
          <a:custGeom>
            <a:avLst/>
            <a:gdLst/>
            <a:ahLst/>
            <a:rect l="l" t="t" r="r" b="b"/>
            <a:pathLst>
              <a:path w="221" h="104">
                <a:moveTo>
                  <a:pt x="0" y="104"/>
                </a:moveTo>
                <a:cubicBezTo>
                  <a:pt x="8" y="102"/>
                  <a:pt x="16" y="103"/>
                  <a:pt x="23" y="99"/>
                </a:cubicBezTo>
                <a:cubicBezTo>
                  <a:pt x="46" y="84"/>
                  <a:pt x="38" y="47"/>
                  <a:pt x="58" y="29"/>
                </a:cubicBezTo>
                <a:cubicBezTo>
                  <a:pt x="82" y="8"/>
                  <a:pt x="87" y="8"/>
                  <a:pt x="111" y="0"/>
                </a:cubicBezTo>
                <a:cubicBezTo>
                  <a:pt x="130" y="7"/>
                  <a:pt x="163" y="29"/>
                  <a:pt x="163" y="29"/>
                </a:cubicBezTo>
                <a:cubicBezTo>
                  <a:pt x="174" y="44"/>
                  <a:pt x="181" y="67"/>
                  <a:pt x="192" y="81"/>
                </a:cubicBezTo>
                <a:cubicBezTo>
                  <a:pt x="200" y="91"/>
                  <a:pt x="212" y="96"/>
                  <a:pt x="221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6019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5791320"/>
            <a:ext cx="720720" cy="568080"/>
          </a:xfrm>
          <a:custGeom>
            <a:avLst/>
            <a:gdLst/>
            <a:ahLst/>
            <a:rect l="l" t="t" r="r" b="b"/>
            <a:pathLst>
              <a:path w="454" h="358">
                <a:moveTo>
                  <a:pt x="0" y="151"/>
                </a:moveTo>
                <a:cubicBezTo>
                  <a:pt x="36" y="129"/>
                  <a:pt x="29" y="77"/>
                  <a:pt x="64" y="53"/>
                </a:cubicBezTo>
                <a:cubicBezTo>
                  <a:pt x="89" y="36"/>
                  <a:pt x="110" y="17"/>
                  <a:pt x="134" y="0"/>
                </a:cubicBezTo>
                <a:cubicBezTo>
                  <a:pt x="161" y="6"/>
                  <a:pt x="180" y="6"/>
                  <a:pt x="198" y="29"/>
                </a:cubicBezTo>
                <a:cubicBezTo>
                  <a:pt x="207" y="40"/>
                  <a:pt x="221" y="64"/>
                  <a:pt x="221" y="64"/>
                </a:cubicBezTo>
                <a:cubicBezTo>
                  <a:pt x="237" y="126"/>
                  <a:pt x="235" y="189"/>
                  <a:pt x="256" y="250"/>
                </a:cubicBezTo>
                <a:cubicBezTo>
                  <a:pt x="267" y="358"/>
                  <a:pt x="244" y="284"/>
                  <a:pt x="280" y="320"/>
                </a:cubicBezTo>
                <a:cubicBezTo>
                  <a:pt x="307" y="347"/>
                  <a:pt x="273" y="333"/>
                  <a:pt x="309" y="343"/>
                </a:cubicBezTo>
                <a:cubicBezTo>
                  <a:pt x="332" y="341"/>
                  <a:pt x="356" y="345"/>
                  <a:pt x="378" y="338"/>
                </a:cubicBezTo>
                <a:cubicBezTo>
                  <a:pt x="384" y="336"/>
                  <a:pt x="381" y="326"/>
                  <a:pt x="384" y="320"/>
                </a:cubicBezTo>
                <a:cubicBezTo>
                  <a:pt x="391" y="308"/>
                  <a:pt x="408" y="285"/>
                  <a:pt x="408" y="285"/>
                </a:cubicBezTo>
                <a:cubicBezTo>
                  <a:pt x="423" y="235"/>
                  <a:pt x="399" y="303"/>
                  <a:pt x="431" y="256"/>
                </a:cubicBezTo>
                <a:cubicBezTo>
                  <a:pt x="439" y="244"/>
                  <a:pt x="454" y="176"/>
                  <a:pt x="454" y="1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4760" y="3699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p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4760" y="41562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oot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6520" y="50292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st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31040" y="56037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nd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9436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437920" y="579132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70480" y="55627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zero cro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estimate the Second Deriv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lacian Filter: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93600" y="2602080"/>
            <a:ext cx="10418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1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-4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1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784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85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472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85520" y="2906640"/>
            <a:ext cx="4510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mask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on:  In 1D, the first deri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uted with mask [-1 0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D second derivative is [1 -2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placian mask estimate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cond deriv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11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43:34Z</dcterms:created>
  <dc:creator>cse</dc:creator>
  <dc:description/>
  <dc:language>en-US</dc:language>
  <cp:lastModifiedBy>cse</cp:lastModifiedBy>
  <dcterms:modified xsi:type="dcterms:W3CDTF">2007-03-13T02:26:37Z</dcterms:modified>
  <cp:revision>4</cp:revision>
  <dc:subject/>
  <dc:title>Edge Operators</dc:title>
</cp:coreProperties>
</file>