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3.wmf" ContentType="image/x-wmf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932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28680" y="-360"/>
            <a:ext cx="302580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778600"/>
            <a:ext cx="301932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28680" y="8778600"/>
            <a:ext cx="302580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9E81B7C-669E-44EE-8F63-B86139DCF9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with photo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s, divide by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are the same for filters that have both horizontal and vertical symme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at salt’n’pepper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convolution: try a region with 1’s and a 2, and then 1’s and 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opposed to [0..25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nder with scanalyze?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t and pepper and impulse noise can be due to transmission errors (e.g., from deep space probe), dead CCD pixels, specks on l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’re going to focus on Gaussian noise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had a sensor that was a little noisy and measuring the same thing over and over, how would you reduce the noi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happens if we use a larger filter wind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51195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2044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452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7516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452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7516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28240"/>
            <a:ext cx="5829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44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15840" indent="-22860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3" marL="1368360" indent="-22212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4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7920" y="8762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8763120"/>
            <a:ext cx="3962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60F1568-4362-4F00-BFAF-D28865C4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it.edu/bcs/sinha/home.html" TargetMode="External"/><Relationship Id="rId3" Type="http://schemas.openxmlformats.org/officeDocument/2006/relationships/hyperlink" Target="http://web.mit.edu/bcs/sinha/home.html" TargetMode="External"/><Relationship Id="rId4" Type="http://schemas.openxmlformats.org/officeDocument/2006/relationships/hyperlink" Target="http://web.mit.edu/bcs/sinha/home.html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Image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1149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2080" y="481500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by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awan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i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Effect of mean filter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399564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ross-correlatio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Let’s write this down as an equation.  Assume the averaging window is (2k+1)x(2k+1)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3400" y="2122560"/>
            <a:ext cx="5137200" cy="693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33520" y="3352680"/>
            <a:ext cx="5829120" cy="1670040"/>
            <a:chOff x="533520" y="3352680"/>
            <a:chExt cx="5829120" cy="1670040"/>
          </a:xfrm>
        </p:grpSpPr>
        <p:sp>
          <p:nvSpPr>
            <p:cNvPr id="110" name=""/>
            <p:cNvSpPr/>
            <p:nvPr/>
          </p:nvSpPr>
          <p:spPr>
            <a:xfrm>
              <a:off x="533520" y="3352680"/>
              <a:ext cx="5829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We can generalize this idea by allowing different weights for different neighboring pixel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047600" y="4329000"/>
              <a:ext cx="471672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33520" y="5486400"/>
            <a:ext cx="5829120" cy="3276720"/>
            <a:chOff x="533520" y="5486400"/>
            <a:chExt cx="5829120" cy="3276720"/>
          </a:xfrm>
        </p:grpSpPr>
        <p:sp>
          <p:nvSpPr>
            <p:cNvPr id="113" name=""/>
            <p:cNvSpPr/>
            <p:nvPr/>
          </p:nvSpPr>
          <p:spPr>
            <a:xfrm>
              <a:off x="533520" y="5486400"/>
              <a:ext cx="582912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This is called a </a:t>
              </a:r>
              <a:r>
                <a:rPr b="1" lang="en-US" sz="2000" spc="-1" strike="noStrike">
                  <a:solidFill>
                    <a:srgbClr val="000000"/>
                  </a:solidFill>
                  <a:latin typeface="Myriad Roman"/>
                </a:rPr>
                <a:t>cross-corre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 operation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writt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H is called the “filter,”  “kernel,”  or “mask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The above allows negative filter indices.  When you implement need to use:  H[u+k,v+k] instead of H[u,v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133720" y="6245280"/>
              <a:ext cx="1981080" cy="30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kernel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hat’s the kernel for a 3x3 mean filter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22795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257800" y="3362400"/>
          <a:ext cx="1143000" cy="105084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76480" y="5780160"/>
            <a:ext cx="952560" cy="31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462744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1040" y="335592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08560" y="4570560"/>
            <a:ext cx="99864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Gaussi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Gaussian kernel gives less weight to pixels further from the center of the window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is kernel is an approximation of a Gaussian function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520" y="22795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257800" y="3362400"/>
          <a:ext cx="1143000" cy="105084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76480" y="5780160"/>
            <a:ext cx="952560" cy="31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0" y="462744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1040" y="335592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70360" y="3560760"/>
            <a:ext cx="411120" cy="69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08560" y="4570560"/>
            <a:ext cx="998640" cy="31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171880" y="7448400"/>
          <a:ext cx="2095200" cy="13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1880" y="7448400"/>
                    <a:ext cx="2095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057400" y="6850080"/>
            <a:ext cx="2627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vs. Gaussi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22600"/>
          <a:ext cx="574992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22600"/>
                    <a:ext cx="574992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nvolution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convolution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operation is a cross-correlation where the filter is flipped both horizontally and vertically before being applied to the imag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t is written: 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uppose H is a Gaussian or mean kernel.  How does convolution differ from cross-correlation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5480" y="3746520"/>
            <a:ext cx="1871640" cy="27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8480" y="2427120"/>
            <a:ext cx="4645080" cy="6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dian filter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Median Filter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operates over a window by selecting the median intensity in the window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hat advantage does a median filter have over a mean filter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s a median filter a kind of convolution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228240"/>
            <a:ext cx="6343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mparison: salt and pepper 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4291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mparison: Gaussian 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557388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What is an image?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55308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e can think of an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mage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s a function,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,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gives the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at po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ealistically, we expect the image only to be defined over a rectangle, with a finite rang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158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0,1]</a:t>
            </a:r>
            <a:endParaRPr b="0" lang="en-US" sz="18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color image is just three functions pasted together.  We can write this as a “vector-valued” function: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0" y="5486400"/>
          <a:ext cx="2209680" cy="12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486400"/>
                    <a:ext cx="22096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Images as function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4100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What is a digital image?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n computer vision we usually operate on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digital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mages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the 2D space on a regular gri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Quantiz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each sample (round to nearest integer)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f our sample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apart, we can write this as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] = Quantize{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) }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e image can now be represented as a matrix of integer value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3880" y="5832360"/>
            <a:ext cx="4038840" cy="144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80960" y="583236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00240" y="5832360"/>
            <a:ext cx="95040" cy="2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32880" y="5715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81120" y="5334120"/>
            <a:ext cx="1414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Filtering Operations Use Mask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Masks operate on a neighborhood of pixels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A mask of coefficients is centered on a pixel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The mask coefficients are multiplied by the pixel values in its neighborhood and the products are summed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The result goes into the corresponding pixel position in the output image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760" y="5224320"/>
            <a:ext cx="2009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36 36 36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36 45 45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45 45 45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45 54 54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45 54 54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257800"/>
            <a:ext cx="1067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14720" y="5629320"/>
            <a:ext cx="106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638680"/>
            <a:ext cx="457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62640" y="5300640"/>
            <a:ext cx="2009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39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7120" y="72057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pu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3240" y="6553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x3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1400" y="72057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tpu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71500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609588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mage processing is useful for noise reduction..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ommon types of nois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Salt and pepper nois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: contains random occurrences of black and white pixel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mpulse noise: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ontains random occurrences of white pixel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Gaussian nois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: variations in intensity drawn from a Gaussian normal distribution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95400" y="1523880"/>
            <a:ext cx="3175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Practical noise reduction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How can we “smooth” away noise in a single image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19320" y="2590920"/>
          <a:ext cx="4419000" cy="3809520"/>
        </p:xfrm>
        <a:graphic>
          <a:graphicData uri="http://schemas.openxmlformats.org/drawingml/2006/table">
            <a:tbl>
              <a:tblPr/>
              <a:tblGrid>
                <a:gridCol w="442080"/>
                <a:gridCol w="442440"/>
                <a:gridCol w="440640"/>
                <a:gridCol w="442080"/>
                <a:gridCol w="442440"/>
                <a:gridCol w="442080"/>
                <a:gridCol w="442080"/>
                <a:gridCol w="440640"/>
                <a:gridCol w="442440"/>
                <a:gridCol w="442080"/>
              </a:tblGrid>
              <a:tr h="3805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76520" y="106668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952560" cy="3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676520" y="51037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9525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76520" y="106668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952560" cy="3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76520" y="51037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057400" y="341460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57360" y="7778880"/>
            <a:ext cx="381240" cy="3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9525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22:28:58Z</dcterms:created>
  <dc:creator>Doug Zongker</dc:creator>
  <dc:description/>
  <dc:language>en-US</dc:language>
  <cp:lastModifiedBy>Linda Shapiro</cp:lastModifiedBy>
  <cp:lastPrinted>1999-04-02T19:42:34Z</cp:lastPrinted>
  <dcterms:modified xsi:type="dcterms:W3CDTF">2006-03-20T22:39:45Z</dcterms:modified>
  <cp:revision>132</cp:revision>
  <dc:subject/>
  <dc:title>Computer Vision:  filtering</dc:title>
</cp:coreProperties>
</file>