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11.wmf" ContentType="image/x-wmf"/>
  <Override PartName="/ppt/media/image7.png" ContentType="image/png"/>
  <Override PartName="/ppt/media/image1.jpeg" ContentType="image/jpeg"/>
  <Override PartName="/ppt/media/image6.png" ContentType="image/png"/>
  <Override PartName="/ppt/media/image5.wmf" ContentType="image/x-wmf"/>
  <Override PartName="/ppt/media/image10.png" ContentType="image/png"/>
  <Override PartName="/ppt/media/image23.wmf" ContentType="image/x-wmf"/>
  <Override PartName="/ppt/media/image22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6858000" cy="9144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19320" cy="4525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928680" y="-360"/>
            <a:ext cx="3025800" cy="4525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409760" y="385920"/>
            <a:ext cx="4122720" cy="54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yriad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837720" y="6113520"/>
            <a:ext cx="5327640" cy="243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778600"/>
            <a:ext cx="3019320" cy="453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928680" y="8778600"/>
            <a:ext cx="3025800" cy="453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376D8BDA-D5E5-4AFA-8396-E4BEA2443A8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409760" y="385920"/>
            <a:ext cx="4122720" cy="5495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837720" y="6113520"/>
            <a:ext cx="5327640" cy="243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mo with photosh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409760" y="385920"/>
            <a:ext cx="4122720" cy="5495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37720" y="6113520"/>
            <a:ext cx="5327640" cy="243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es, divide by 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409760" y="385920"/>
            <a:ext cx="4122720" cy="5495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837720" y="6113520"/>
            <a:ext cx="5327640" cy="243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are the same for filters that have both horizontal and vertical symmet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131920" y="677880"/>
            <a:ext cx="2613240" cy="34844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07560" y="4387320"/>
            <a:ext cx="51390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tter at salt’n’pepper no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 convolution: try a region with 1’s and a 2, and then 1’s and a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409760" y="385920"/>
            <a:ext cx="4122720" cy="5495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837720" y="6113520"/>
            <a:ext cx="5327640" cy="243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 opposed to [0..255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409760" y="385920"/>
            <a:ext cx="4122720" cy="5495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837720" y="6113520"/>
            <a:ext cx="5327640" cy="243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nder with scanalyze?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131920" y="677880"/>
            <a:ext cx="2613240" cy="34844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07560" y="4387320"/>
            <a:ext cx="51390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t and pepper and impulse noise can be due to transmission errors (e.g., from deep space probe), dead CCD pixels, specks on le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’re going to focus on Gaussian noise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you had a sensor that was a little noisy and measuring the same thing over and over, how would you reduce the nois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2131920" y="677880"/>
            <a:ext cx="2613240" cy="34844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07560" y="4387320"/>
            <a:ext cx="51390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lace each pixel with the average of a kxk window around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131920" y="677880"/>
            <a:ext cx="2613240" cy="3484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07560" y="4387320"/>
            <a:ext cx="51390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lace each pixel with the average of a kxk window around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131920" y="677880"/>
            <a:ext cx="2613240" cy="34844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07560" y="4387320"/>
            <a:ext cx="51390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lace each pixel with the average of a kxk window around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happens if we use a larger filter window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228240"/>
            <a:ext cx="5829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5829120" cy="35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5119560"/>
            <a:ext cx="5829120" cy="35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4440" y="228240"/>
            <a:ext cx="5829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844360" cy="35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20440" y="1218960"/>
            <a:ext cx="2844360" cy="35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5119560"/>
            <a:ext cx="2844360" cy="35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520440" y="5119560"/>
            <a:ext cx="2844360" cy="35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4440" y="228240"/>
            <a:ext cx="5829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1876680" cy="35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504520" y="1218960"/>
            <a:ext cx="1876680" cy="35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475160" y="1218960"/>
            <a:ext cx="1876680" cy="35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5119560"/>
            <a:ext cx="1876680" cy="35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504520" y="5119560"/>
            <a:ext cx="1876680" cy="35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475160" y="5119560"/>
            <a:ext cx="1876680" cy="35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228240"/>
            <a:ext cx="5829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5829120" cy="74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228240"/>
            <a:ext cx="5829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5829120" cy="74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228240"/>
            <a:ext cx="5829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844360" cy="74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520440" y="1218960"/>
            <a:ext cx="2844360" cy="74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228240"/>
            <a:ext cx="5829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14440" y="228240"/>
            <a:ext cx="5829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228240"/>
            <a:ext cx="5829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844360" cy="35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20440" y="1218960"/>
            <a:ext cx="2844360" cy="74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5119560"/>
            <a:ext cx="2844360" cy="35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4440" y="228240"/>
            <a:ext cx="5829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844360" cy="74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20440" y="1218960"/>
            <a:ext cx="2844360" cy="35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20440" y="5119560"/>
            <a:ext cx="2844360" cy="35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4440" y="228240"/>
            <a:ext cx="5829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844360" cy="35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20440" y="1218960"/>
            <a:ext cx="2844360" cy="35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5119560"/>
            <a:ext cx="5829120" cy="35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228240"/>
            <a:ext cx="5829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yriad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5829120" cy="74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1" marL="573120" indent="-341280"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2" marL="915840" indent="-228600"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Myriad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3" marL="1368360" indent="-222120"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Myriad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4" marL="1830240" indent="-230040"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Myriad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5" marL="1830240" indent="-230040"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Myriad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6" marL="1830240" indent="-230040"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Myriad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437920" y="8762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8763120"/>
            <a:ext cx="3962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1FF02079-8263-4BBF-A40C-308DF11A0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b.mit.edu/bcs/sinha/home.html" TargetMode="External"/><Relationship Id="rId3" Type="http://schemas.openxmlformats.org/officeDocument/2006/relationships/hyperlink" Target="http://web.mit.edu/bcs/sinha/home.html" TargetMode="External"/><Relationship Id="rId4" Type="http://schemas.openxmlformats.org/officeDocument/2006/relationships/hyperlink" Target="http://web.mit.edu/bcs/sinha/home.html" TargetMode="External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5790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yriad Roman"/>
              </a:rPr>
              <a:t>Image filtering</a:t>
            </a:r>
            <a:endParaRPr b="1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6114960" cy="1508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02080" y="4815000"/>
            <a:ext cx="183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by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Pawan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Sin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14440" y="228240"/>
            <a:ext cx="5829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yriad Roman"/>
              </a:rPr>
              <a:t>Effect of mean filters</a:t>
            </a:r>
            <a:endParaRPr b="1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371600" y="1295280"/>
            <a:ext cx="3995640" cy="711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14440" y="228240"/>
            <a:ext cx="5829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yriad Roman"/>
              </a:rPr>
              <a:t>Cross-correlation filtering</a:t>
            </a:r>
            <a:endParaRPr b="1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58291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Let’s write this down as an equation.  Assume the averaging window is (2k+1)x(2k+1):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3400" y="2122560"/>
            <a:ext cx="5137200" cy="69372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533520" y="3352680"/>
            <a:ext cx="5829120" cy="1670040"/>
            <a:chOff x="533520" y="3352680"/>
            <a:chExt cx="5829120" cy="1670040"/>
          </a:xfrm>
        </p:grpSpPr>
        <p:sp>
          <p:nvSpPr>
            <p:cNvPr id="110" name=""/>
            <p:cNvSpPr/>
            <p:nvPr/>
          </p:nvSpPr>
          <p:spPr>
            <a:xfrm>
              <a:off x="533520" y="3352680"/>
              <a:ext cx="58291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marL="322200" indent="-322200">
                <a:lnSpc>
                  <a:spcPct val="100000"/>
                </a:lnSpc>
                <a:spcBef>
                  <a:spcPts val="1250"/>
                </a:spcBef>
                <a:spcAft>
                  <a:spcPts val="12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yriad Roman"/>
                </a:rPr>
                <a:t>We can generalize this idea by allowing different weights for different neighboring pixel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2"/>
            <a:stretch/>
          </p:blipFill>
          <p:spPr>
            <a:xfrm>
              <a:off x="1047600" y="4329000"/>
              <a:ext cx="4716720" cy="693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"/>
          <p:cNvGrpSpPr/>
          <p:nvPr/>
        </p:nvGrpSpPr>
        <p:grpSpPr>
          <a:xfrm>
            <a:off x="533520" y="5486400"/>
            <a:ext cx="5829120" cy="3276720"/>
            <a:chOff x="533520" y="5486400"/>
            <a:chExt cx="5829120" cy="3276720"/>
          </a:xfrm>
        </p:grpSpPr>
        <p:sp>
          <p:nvSpPr>
            <p:cNvPr id="113" name=""/>
            <p:cNvSpPr/>
            <p:nvPr/>
          </p:nvSpPr>
          <p:spPr>
            <a:xfrm>
              <a:off x="533520" y="5486400"/>
              <a:ext cx="5829120" cy="327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 marL="329040" indent="-329040">
                <a:lnSpc>
                  <a:spcPct val="100000"/>
                </a:lnSpc>
                <a:spcBef>
                  <a:spcPts val="1250"/>
                </a:spcBef>
                <a:spcAft>
                  <a:spcPts val="12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yriad Roman"/>
                </a:rPr>
                <a:t>This is called a </a:t>
              </a:r>
              <a:r>
                <a:rPr b="1" lang="en-US" sz="2000" spc="-1" strike="noStrike">
                  <a:solidFill>
                    <a:srgbClr val="000000"/>
                  </a:solidFill>
                  <a:latin typeface="Myriad Roman"/>
                </a:rPr>
                <a:t>cross-correlation</a:t>
              </a:r>
              <a:r>
                <a:rPr b="0" lang="en-US" sz="2000" spc="-1" strike="noStrike">
                  <a:solidFill>
                    <a:srgbClr val="000000"/>
                  </a:solidFill>
                  <a:latin typeface="Myriad Roman"/>
                </a:rPr>
                <a:t> operation and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Myriad Roman"/>
                </a:rPr>
                <a:t>written: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1250"/>
                </a:spcBef>
                <a:spcAft>
                  <a:spcPts val="12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1250"/>
                </a:spcBef>
                <a:spcAft>
                  <a:spcPts val="12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yriad Roman"/>
                </a:rPr>
                <a:t>H is called the “filter,”  “kernel,”  or “mask.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1250"/>
                </a:spcBef>
                <a:spcAft>
                  <a:spcPts val="12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yriad Roman"/>
                </a:rPr>
                <a:t>The above allows negative filter indices.  When you implement need to use:  H[u+k,v+k] instead of H[u,v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3"/>
            <a:stretch/>
          </p:blipFill>
          <p:spPr>
            <a:xfrm>
              <a:off x="2133720" y="6245280"/>
              <a:ext cx="1981080" cy="307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14440" y="228240"/>
            <a:ext cx="5829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yriad Roman"/>
              </a:rPr>
              <a:t>Mean kernel</a:t>
            </a:r>
            <a:endParaRPr b="1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5829120" cy="74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What’s the kernel for a 3x3 mean filter?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3520" y="2279520"/>
          <a:ext cx="3886200" cy="3349800"/>
        </p:xfrm>
        <a:graphic>
          <a:graphicData uri="http://schemas.openxmlformats.org/drawingml/2006/table">
            <a:tbl>
              <a:tblPr/>
              <a:tblGrid>
                <a:gridCol w="388800"/>
                <a:gridCol w="388800"/>
                <a:gridCol w="387360"/>
                <a:gridCol w="389160"/>
                <a:gridCol w="388800"/>
                <a:gridCol w="389160"/>
                <a:gridCol w="388800"/>
                <a:gridCol w="387360"/>
                <a:gridCol w="388800"/>
                <a:gridCol w="389160"/>
              </a:tblGrid>
              <a:tr h="3348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51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48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51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48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51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48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51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48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51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5257800" y="3362400"/>
          <a:ext cx="1143000" cy="1050840"/>
        </p:xfrm>
        <a:graphic>
          <a:graphicData uri="http://schemas.openxmlformats.org/drawingml/2006/table">
            <a:tbl>
              <a:tblPr/>
              <a:tblGrid>
                <a:gridCol w="380880"/>
                <a:gridCol w="380880"/>
                <a:gridCol w="381240"/>
              </a:tblGrid>
              <a:tr h="38088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076480" y="5780160"/>
            <a:ext cx="952560" cy="315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14400" y="4627440"/>
            <a:ext cx="1168560" cy="1005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261040" y="3355920"/>
            <a:ext cx="1139760" cy="1042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308560" y="4570560"/>
            <a:ext cx="998640" cy="31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14440" y="228240"/>
            <a:ext cx="5829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yriad Roman"/>
              </a:rPr>
              <a:t>Gaussian Filtering</a:t>
            </a:r>
            <a:endParaRPr b="1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5829120" cy="74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A Gaussian kernel gives less weight to pixels further from the center of the window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This kernel is an approximation of a Gaussian function: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33520" y="2279520"/>
          <a:ext cx="3886200" cy="3349800"/>
        </p:xfrm>
        <a:graphic>
          <a:graphicData uri="http://schemas.openxmlformats.org/drawingml/2006/table">
            <a:tbl>
              <a:tblPr/>
              <a:tblGrid>
                <a:gridCol w="388800"/>
                <a:gridCol w="388800"/>
                <a:gridCol w="387360"/>
                <a:gridCol w="389160"/>
                <a:gridCol w="388800"/>
                <a:gridCol w="389160"/>
                <a:gridCol w="388800"/>
                <a:gridCol w="387360"/>
                <a:gridCol w="388800"/>
                <a:gridCol w="389160"/>
              </a:tblGrid>
              <a:tr h="3348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51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48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51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48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51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48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51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48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51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257800" y="3362400"/>
          <a:ext cx="1143000" cy="1050840"/>
        </p:xfrm>
        <a:graphic>
          <a:graphicData uri="http://schemas.openxmlformats.org/drawingml/2006/table">
            <a:tbl>
              <a:tblPr/>
              <a:tblGrid>
                <a:gridCol w="380880"/>
                <a:gridCol w="380880"/>
                <a:gridCol w="381240"/>
              </a:tblGrid>
              <a:tr h="38088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76480" y="5780160"/>
            <a:ext cx="952560" cy="315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914400" y="4627440"/>
            <a:ext cx="1168560" cy="1005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61040" y="3355920"/>
            <a:ext cx="1139760" cy="1042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770360" y="3560760"/>
            <a:ext cx="411120" cy="6969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308560" y="4570560"/>
            <a:ext cx="998640" cy="315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"/>
          <p:cNvGraphicFramePr/>
          <p:nvPr/>
        </p:nvGraphicFramePr>
        <p:xfrm>
          <a:off x="2171880" y="7448400"/>
          <a:ext cx="2095200" cy="1390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71880" y="7448400"/>
                    <a:ext cx="209520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2057400" y="6850080"/>
            <a:ext cx="262728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14440" y="228240"/>
            <a:ext cx="5829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yriad Roman"/>
              </a:rPr>
              <a:t>Mean vs. Gaussian filtering</a:t>
            </a:r>
            <a:endParaRPr b="1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33520" y="1722600"/>
          <a:ext cx="5749920" cy="53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22600"/>
                    <a:ext cx="5749920" cy="53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14440" y="228240"/>
            <a:ext cx="5829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yriad Roman"/>
              </a:rPr>
              <a:t>Convolution</a:t>
            </a:r>
            <a:endParaRPr b="1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5829120" cy="74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Myriad Roman"/>
              </a:rPr>
              <a:t>convolution</a:t>
            </a: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 operation is a cross-correlation where the filter is flipped both horizontally and vertically before being applied to the image: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It is written:  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Suppose H is a Gaussian or mean kernel.  How does convolution differ from cross-correlation?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265480" y="3746520"/>
            <a:ext cx="1871640" cy="272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068480" y="2427120"/>
            <a:ext cx="4645080" cy="6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14440" y="228240"/>
            <a:ext cx="5829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yriad Roman"/>
              </a:rPr>
              <a:t>Median filters</a:t>
            </a:r>
            <a:endParaRPr b="1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5829120" cy="70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Myriad Roman"/>
              </a:rPr>
              <a:t>Median Filter</a:t>
            </a: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 operates over a window by selecting the median intensity in the window.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What advantage does a median filter have over a mean filter?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Is a median filter a kind of convolution?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14080" y="228240"/>
            <a:ext cx="6343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yriad Roman"/>
              </a:rPr>
              <a:t>Comparison: salt and pepper noise</a:t>
            </a:r>
            <a:endParaRPr b="1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685800" y="1295280"/>
            <a:ext cx="5429160" cy="653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14440" y="228240"/>
            <a:ext cx="5829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yriad Roman"/>
              </a:rPr>
              <a:t>Comparison: Gaussian noise</a:t>
            </a:r>
            <a:endParaRPr b="1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685800" y="1371600"/>
            <a:ext cx="5573880" cy="66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4440" y="228240"/>
            <a:ext cx="5829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yriad Roman"/>
              </a:rPr>
              <a:t>What is an image?</a:t>
            </a:r>
            <a:endParaRPr b="1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6553080" cy="74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We can think of an </a:t>
            </a:r>
            <a:r>
              <a:rPr b="1" lang="en-US" sz="2000" spc="-1" strike="noStrike">
                <a:solidFill>
                  <a:srgbClr val="000000"/>
                </a:solidFill>
                <a:latin typeface="Myriad Roman"/>
              </a:rPr>
              <a:t>image </a:t>
            </a: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as a function, </a:t>
            </a:r>
            <a:r>
              <a:rPr b="0" i="1" lang="en-US" sz="2000" spc="-1" strike="noStrike">
                <a:solidFill>
                  <a:srgbClr val="000000"/>
                </a:solidFill>
                <a:latin typeface="Myriad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, fro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 to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: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1" marL="57312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, 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gives the </a:t>
            </a:r>
            <a:r>
              <a:rPr b="1" lang="en-US" sz="2000" spc="-1" strike="noStrike">
                <a:solidFill>
                  <a:srgbClr val="000000"/>
                </a:solidFill>
                <a:latin typeface="Myriad Roman"/>
              </a:rPr>
              <a:t>intensity</a:t>
            </a: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 at posi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, 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1" marL="573120" indent="-341280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Realistically, we expect the image only to be defined over a rectangle, with a finite range: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2" marL="91584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[0,1]</a:t>
            </a:r>
            <a:endParaRPr b="0" lang="en-US" sz="18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A color image is just three functions pasted together.  We can write this as a “vector-valued” function: 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286000" y="5486400"/>
          <a:ext cx="2209680" cy="12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5486400"/>
                    <a:ext cx="2209680" cy="12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4440" y="228240"/>
            <a:ext cx="5829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yriad Roman"/>
              </a:rPr>
              <a:t>Images as functions</a:t>
            </a:r>
            <a:endParaRPr b="1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541008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4440" y="228240"/>
            <a:ext cx="5829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yriad Roman"/>
              </a:rPr>
              <a:t>What is a digital image?</a:t>
            </a:r>
            <a:endParaRPr b="1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5829120" cy="74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In computer vision we usually operate on </a:t>
            </a:r>
            <a:r>
              <a:rPr b="1" lang="en-US" sz="2000" spc="-1" strike="noStrike">
                <a:solidFill>
                  <a:srgbClr val="000000"/>
                </a:solidFill>
                <a:latin typeface="Myriad Roman"/>
              </a:rPr>
              <a:t>digital </a:t>
            </a: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Myriad Roman"/>
              </a:rPr>
              <a:t>discrete</a:t>
            </a: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Myriad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images: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1" marL="573120" indent="-341280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yriad Roman"/>
              </a:rPr>
              <a:t>Sample</a:t>
            </a: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 the 2D space on a regular grid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1" marL="573120" indent="-341280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yriad Roman"/>
              </a:rPr>
              <a:t>Quantize</a:t>
            </a: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 each sample (round to nearest integer)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If our samples ar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 apart, we can write this as: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Myriad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Myriad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 ,</a:t>
            </a:r>
            <a:r>
              <a:rPr b="0" i="1" lang="en-US" sz="2000" spc="-1" strike="noStrike">
                <a:solidFill>
                  <a:srgbClr val="000000"/>
                </a:solidFill>
                <a:latin typeface="Myriad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] = Quantize{ </a:t>
            </a:r>
            <a:r>
              <a:rPr b="0" i="1" lang="en-US" sz="2000" spc="-1" strike="noStrike">
                <a:solidFill>
                  <a:srgbClr val="000000"/>
                </a:solidFill>
                <a:latin typeface="Myriad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Myriad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Myriad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) }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The image can now be represented as a matrix of integer values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523880" y="5832360"/>
            <a:ext cx="4038840" cy="1446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380960" y="583236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200240" y="5832360"/>
            <a:ext cx="95040" cy="220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532880" y="571500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1581120" y="5334120"/>
            <a:ext cx="14148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14440" y="228240"/>
            <a:ext cx="5829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yriad Roman"/>
              </a:rPr>
              <a:t>Filtering Operations Use Masks</a:t>
            </a:r>
            <a:endParaRPr b="1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5829120" cy="74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Myriad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Myriad Roman"/>
              </a:rPr>
              <a:t>Masks operate on a neighborhood of pixels.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Myriad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yriad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Myriad Roman"/>
              </a:rPr>
              <a:t>A mask of coefficients is centered on a pixel.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Myriad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yriad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Myriad Roman"/>
              </a:rPr>
              <a:t>The mask coefficients are multiplied by the pixel values in its neighborhood and the products are summed.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Myriad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yriad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Myriad Roman"/>
              </a:rPr>
              <a:t>The result goes into the corresponding pixel position in the output image.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2760" y="5224320"/>
            <a:ext cx="200952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 36 36 36 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 36 45 45 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 45 45 45 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 45 54 54 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 45 54 54 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5257800"/>
            <a:ext cx="10670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14720" y="5629320"/>
            <a:ext cx="10630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/9 1/9 1/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/9 1/9 1/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/9 1/9 1/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5638680"/>
            <a:ext cx="457200" cy="3812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62640" y="5300640"/>
            <a:ext cx="200952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* ** ** ** 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* 39 ** ** 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* ** ** ** 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* ** ** ** 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* ** ** ** 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97120" y="720576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put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73240" y="655308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x3 M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31400" y="720576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utput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52880" y="5715000"/>
            <a:ext cx="457200" cy="380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14440" y="228240"/>
            <a:ext cx="5829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yriad Roman"/>
              </a:rPr>
              <a:t>Noise</a:t>
            </a:r>
            <a:endParaRPr b="1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6095880" cy="78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Image processing is useful for noise reduction...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Common types of noise: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1" marL="57312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yriad Roman"/>
              </a:rPr>
              <a:t>Salt and pepper noise</a:t>
            </a: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: contains random occurrences of black and white pixels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1" marL="57312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yriad Roman"/>
              </a:rPr>
              <a:t>Impulse noise: </a:t>
            </a: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contains random occurrences of white pixels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1" marL="57312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yriad Roman"/>
              </a:rPr>
              <a:t>Gaussian noise</a:t>
            </a: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: variations in intensity drawn from a Gaussian normal distribution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895400" y="1523880"/>
            <a:ext cx="31752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14440" y="228240"/>
            <a:ext cx="5829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yriad Roman"/>
              </a:rPr>
              <a:t>Practical noise reduction</a:t>
            </a:r>
            <a:endParaRPr b="1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5829120" cy="70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How can we “smooth” away noise in a single image?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1219320" y="2590920"/>
          <a:ext cx="4419000" cy="3809520"/>
        </p:xfrm>
        <a:graphic>
          <a:graphicData uri="http://schemas.openxmlformats.org/drawingml/2006/table">
            <a:tbl>
              <a:tblPr/>
              <a:tblGrid>
                <a:gridCol w="442080"/>
                <a:gridCol w="442440"/>
                <a:gridCol w="440640"/>
                <a:gridCol w="442080"/>
                <a:gridCol w="442440"/>
                <a:gridCol w="442080"/>
                <a:gridCol w="442080"/>
                <a:gridCol w="440640"/>
                <a:gridCol w="442440"/>
                <a:gridCol w="442080"/>
              </a:tblGrid>
              <a:tr h="3805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14440" y="228240"/>
            <a:ext cx="5829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yriad Roman"/>
              </a:rPr>
              <a:t>Mean filtering</a:t>
            </a:r>
            <a:endParaRPr b="1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1676520" y="1066680"/>
          <a:ext cx="3886200" cy="3349800"/>
        </p:xfrm>
        <a:graphic>
          <a:graphicData uri="http://schemas.openxmlformats.org/drawingml/2006/table">
            <a:tbl>
              <a:tblPr/>
              <a:tblGrid>
                <a:gridCol w="388800"/>
                <a:gridCol w="388800"/>
                <a:gridCol w="387360"/>
                <a:gridCol w="389160"/>
                <a:gridCol w="388800"/>
                <a:gridCol w="389160"/>
                <a:gridCol w="388800"/>
                <a:gridCol w="387360"/>
                <a:gridCol w="388800"/>
                <a:gridCol w="389160"/>
              </a:tblGrid>
              <a:tr h="3348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51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48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51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48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51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48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51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48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51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57200" y="2514600"/>
            <a:ext cx="952560" cy="31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1676520" y="5103720"/>
          <a:ext cx="3886200" cy="3349800"/>
        </p:xfrm>
        <a:graphic>
          <a:graphicData uri="http://schemas.openxmlformats.org/drawingml/2006/table">
            <a:tbl>
              <a:tblPr/>
              <a:tblGrid>
                <a:gridCol w="388800"/>
                <a:gridCol w="388800"/>
                <a:gridCol w="387360"/>
                <a:gridCol w="389160"/>
                <a:gridCol w="388800"/>
                <a:gridCol w="389160"/>
                <a:gridCol w="388800"/>
                <a:gridCol w="387360"/>
                <a:gridCol w="388800"/>
                <a:gridCol w="389160"/>
              </a:tblGrid>
              <a:tr h="3351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33520" y="6553080"/>
            <a:ext cx="952560" cy="3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14440" y="228240"/>
            <a:ext cx="5829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yriad Roman"/>
              </a:rPr>
              <a:t>Mean filtering</a:t>
            </a:r>
            <a:endParaRPr b="1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676520" y="1066680"/>
          <a:ext cx="3886200" cy="3349800"/>
        </p:xfrm>
        <a:graphic>
          <a:graphicData uri="http://schemas.openxmlformats.org/drawingml/2006/table">
            <a:tbl>
              <a:tblPr/>
              <a:tblGrid>
                <a:gridCol w="388800"/>
                <a:gridCol w="388800"/>
                <a:gridCol w="387360"/>
                <a:gridCol w="389160"/>
                <a:gridCol w="388800"/>
                <a:gridCol w="389160"/>
                <a:gridCol w="388800"/>
                <a:gridCol w="387360"/>
                <a:gridCol w="388800"/>
                <a:gridCol w="389160"/>
              </a:tblGrid>
              <a:tr h="3348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51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48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51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48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51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48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51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48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51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57200" y="2514600"/>
            <a:ext cx="952560" cy="31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1676520" y="5103720"/>
          <a:ext cx="3886200" cy="3349800"/>
        </p:xfrm>
        <a:graphic>
          <a:graphicData uri="http://schemas.openxmlformats.org/drawingml/2006/table">
            <a:tbl>
              <a:tblPr/>
              <a:tblGrid>
                <a:gridCol w="388800"/>
                <a:gridCol w="388800"/>
                <a:gridCol w="387360"/>
                <a:gridCol w="389160"/>
                <a:gridCol w="388800"/>
                <a:gridCol w="389160"/>
                <a:gridCol w="388800"/>
                <a:gridCol w="387360"/>
                <a:gridCol w="388800"/>
                <a:gridCol w="389160"/>
              </a:tblGrid>
              <a:tr h="3351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yriad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2057400" y="3414600"/>
            <a:ext cx="1168560" cy="1005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57360" y="7778880"/>
            <a:ext cx="381240" cy="333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533520" y="6553080"/>
            <a:ext cx="952560" cy="3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4T22:28:58Z</dcterms:created>
  <dc:creator>Doug Zongker</dc:creator>
  <dc:description/>
  <dc:language>en-US</dc:language>
  <cp:lastModifiedBy>Linda Shapiro</cp:lastModifiedBy>
  <cp:lastPrinted>1999-04-02T19:42:34Z</cp:lastPrinted>
  <dcterms:modified xsi:type="dcterms:W3CDTF">2006-03-20T22:39:45Z</dcterms:modified>
  <cp:revision>132</cp:revision>
  <dc:subject/>
  <dc:title>Computer Vision:  filtering</dc:title>
</cp:coreProperties>
</file>