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27D-FD3B-4F5B-9013-F30AF496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E3F-0CEF-406D-B8D5-5F3579B8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A66-8AA5-4EAE-9F19-6595327B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8D8-6A5F-4909-A639-EDB1E08F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F79-2EB1-4279-B5E9-62201A06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A30-8A16-462B-836D-D816CBC1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DC6-BD12-4C60-9313-1BD94892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E6F-CDC9-4490-834C-055B26F8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267-D538-4636-9D39-4C9AD96E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864-5AD8-413A-9855-BE45007D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AC2-5C32-4664-B9B3-A7DF0CB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8CC-187A-447C-A23D-E7E96BF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064E-9C4E-48D0-8C32-F6178C141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S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65360" y="1868400"/>
            <a:ext cx="428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Shape fro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tereo Trian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polar Geometry Constrai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Normal Pair of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6576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3657600"/>
            <a:ext cx="137160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809880"/>
            <a:ext cx="0" cy="838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4495680"/>
            <a:ext cx="1371600" cy="152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38862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886200"/>
            <a:ext cx="137160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4038480"/>
            <a:ext cx="0" cy="838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724280"/>
            <a:ext cx="1447920" cy="152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752120" y="2362320"/>
            <a:ext cx="4953240" cy="2514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580920" y="2362320"/>
            <a:ext cx="312444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4876920"/>
            <a:ext cx="18288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962520"/>
            <a:ext cx="3504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114800"/>
            <a:ext cx="31240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752480" y="419076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743200" y="38095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276720" y="31237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4191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009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743200" y="3428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3800" y="2986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7040" y="342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495680" y="35809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81280" y="43430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572000" y="3962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05520" y="320004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33320" y="29098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080" y="298620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40360" y="47656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50040" y="48420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7560" y="489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9440" y="1981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26000" y="4267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21280" y="44197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27400" y="347040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p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181120" y="3352680"/>
            <a:ext cx="7621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000" y="1905120"/>
            <a:ext cx="63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pipolar plane cuts through the image plan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ing 2 epipolar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0840" y="5375160"/>
            <a:ext cx="5556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ch 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 other ima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lie on the same epipolar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polar Geomet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2362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828800" y="2438280"/>
            <a:ext cx="160020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438280"/>
            <a:ext cx="3581280" cy="289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4724280"/>
            <a:ext cx="518148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35812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411480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904760" y="44956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35812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419720" y="3809880"/>
            <a:ext cx="17524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19720" y="4724280"/>
            <a:ext cx="1752480" cy="4572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8098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4267080"/>
            <a:ext cx="1371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572000" y="4191120"/>
            <a:ext cx="106668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03848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419720" y="419076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743200" y="3733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1055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198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30360" y="40384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21480" y="38862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32400" y="34434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61200" y="3747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70480" y="4357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4920" y="39765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25280" y="4343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11280" y="40384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92640" y="46134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02720" y="5222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2362320"/>
            <a:ext cx="15264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828800" y="2438280"/>
            <a:ext cx="1600200" cy="228600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2438280"/>
            <a:ext cx="3581280" cy="289584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4724280"/>
            <a:ext cx="5181480" cy="60984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5812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411480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904760" y="44956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5812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19720" y="3809880"/>
            <a:ext cx="17524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419720" y="4724280"/>
            <a:ext cx="1752480" cy="4572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8098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05120" y="4191120"/>
            <a:ext cx="15238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572000" y="3809520"/>
            <a:ext cx="152388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198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25280" y="4343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11280" y="40384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92640" y="46134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02720" y="5222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01560" y="547560"/>
            <a:ext cx="286128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polar Constra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ing points lie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ep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ing Constra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in the 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across the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4571640" y="2895480"/>
            <a:ext cx="2438280" cy="243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828800" y="2895480"/>
            <a:ext cx="274320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34640" y="247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8000" y="1981080"/>
            <a:ext cx="43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data can also be derived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ght source that can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e(s) on  the 3D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057400"/>
            <a:ext cx="914400" cy="9144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9528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962520" y="2971440"/>
            <a:ext cx="26668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629400" y="2285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629400" y="2057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4800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620120" y="4876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7238880" y="3885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6160" y="499428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451280" y="51465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56200" y="160020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8000" y="1981080"/>
            <a:ext cx="43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data can also be derived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ght source that can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e(s) on  the 3D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45720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572000" y="297144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39200" y="441972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78040" y="45720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33376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943600" y="22856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638680" y="2971800"/>
            <a:ext cx="99072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213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71280" y="52959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,y´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28680" y="2514600"/>
            <a:ext cx="10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 y,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6600" y="4114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2560" y="45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"/>
          <p:cNvCxnSpPr/>
          <p:nvPr/>
        </p:nvCxnSpPr>
        <p:spPr>
          <a:xfrm>
            <a:off x="4952520" y="4343040"/>
            <a:ext cx="305640" cy="229320"/>
          </a:xfrm>
          <a:prstGeom prst="curvedConnector5">
            <a:avLst>
              <a:gd name="adj1" fmla="val 90094"/>
              <a:gd name="adj2" fmla="val 50000"/>
              <a:gd name="adj3" fmla="val 9009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152280" y="4876920"/>
            <a:ext cx="3877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x y z] = --------------- [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y´ f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co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x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4205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7200" y="5680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08240" y="56037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th from Multiple Light Str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20625" t="49219" r="18125" b="21093"/>
          <a:stretch/>
        </p:blipFill>
        <p:spPr>
          <a:xfrm>
            <a:off x="838080" y="2133720"/>
            <a:ext cx="7467840" cy="28954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857120" y="529920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se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(former)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camera light-striping ste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29376" t="35937" r="28750" b="24220"/>
          <a:stretch/>
        </p:blipFill>
        <p:spPr>
          <a:xfrm>
            <a:off x="1981080" y="2057400"/>
            <a:ext cx="5105520" cy="3886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266000" y="3325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42680" y="4572000"/>
            <a:ext cx="9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84400" y="20224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563868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8960" y="5492880"/>
            <a:ext cx="1315800" cy="1164960"/>
          </a:xfrm>
          <a:custGeom>
            <a:avLst/>
            <a:gdLst/>
            <a:ahLst/>
            <a:rect l="l" t="t" r="r" b="b"/>
            <a:pathLst>
              <a:path w="829" h="734">
                <a:moveTo>
                  <a:pt x="520" y="17"/>
                </a:moveTo>
                <a:cubicBezTo>
                  <a:pt x="433" y="11"/>
                  <a:pt x="359" y="0"/>
                  <a:pt x="274" y="17"/>
                </a:cubicBezTo>
                <a:cubicBezTo>
                  <a:pt x="250" y="29"/>
                  <a:pt x="229" y="44"/>
                  <a:pt x="204" y="52"/>
                </a:cubicBezTo>
                <a:cubicBezTo>
                  <a:pt x="192" y="64"/>
                  <a:pt x="177" y="73"/>
                  <a:pt x="168" y="87"/>
                </a:cubicBezTo>
                <a:cubicBezTo>
                  <a:pt x="159" y="101"/>
                  <a:pt x="152" y="117"/>
                  <a:pt x="140" y="129"/>
                </a:cubicBezTo>
                <a:cubicBezTo>
                  <a:pt x="128" y="141"/>
                  <a:pt x="112" y="150"/>
                  <a:pt x="105" y="165"/>
                </a:cubicBezTo>
                <a:cubicBezTo>
                  <a:pt x="84" y="208"/>
                  <a:pt x="76" y="243"/>
                  <a:pt x="49" y="284"/>
                </a:cubicBezTo>
                <a:cubicBezTo>
                  <a:pt x="41" y="315"/>
                  <a:pt x="39" y="341"/>
                  <a:pt x="21" y="368"/>
                </a:cubicBezTo>
                <a:cubicBezTo>
                  <a:pt x="14" y="394"/>
                  <a:pt x="6" y="420"/>
                  <a:pt x="0" y="446"/>
                </a:cubicBezTo>
                <a:cubicBezTo>
                  <a:pt x="25" y="565"/>
                  <a:pt x="21" y="607"/>
                  <a:pt x="112" y="670"/>
                </a:cubicBezTo>
                <a:cubicBezTo>
                  <a:pt x="167" y="708"/>
                  <a:pt x="146" y="696"/>
                  <a:pt x="218" y="720"/>
                </a:cubicBezTo>
                <a:cubicBezTo>
                  <a:pt x="232" y="725"/>
                  <a:pt x="260" y="734"/>
                  <a:pt x="260" y="734"/>
                </a:cubicBezTo>
                <a:cubicBezTo>
                  <a:pt x="351" y="725"/>
                  <a:pt x="436" y="700"/>
                  <a:pt x="527" y="691"/>
                </a:cubicBezTo>
                <a:cubicBezTo>
                  <a:pt x="624" y="667"/>
                  <a:pt x="564" y="678"/>
                  <a:pt x="709" y="670"/>
                </a:cubicBezTo>
                <a:cubicBezTo>
                  <a:pt x="762" y="652"/>
                  <a:pt x="804" y="622"/>
                  <a:pt x="829" y="572"/>
                </a:cubicBezTo>
                <a:cubicBezTo>
                  <a:pt x="825" y="510"/>
                  <a:pt x="821" y="393"/>
                  <a:pt x="744" y="368"/>
                </a:cubicBezTo>
                <a:cubicBezTo>
                  <a:pt x="705" y="329"/>
                  <a:pt x="677" y="315"/>
                  <a:pt x="625" y="305"/>
                </a:cubicBezTo>
                <a:cubicBezTo>
                  <a:pt x="575" y="206"/>
                  <a:pt x="658" y="58"/>
                  <a:pt x="520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5562720"/>
            <a:ext cx="60984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32" y="8"/>
                  <a:pt x="280" y="16"/>
                  <a:pt x="240" y="48"/>
                </a:cubicBezTo>
                <a:cubicBezTo>
                  <a:pt x="200" y="80"/>
                  <a:pt x="176" y="128"/>
                  <a:pt x="144" y="192"/>
                </a:cubicBezTo>
                <a:cubicBezTo>
                  <a:pt x="112" y="256"/>
                  <a:pt x="72" y="360"/>
                  <a:pt x="48" y="432"/>
                </a:cubicBezTo>
                <a:cubicBezTo>
                  <a:pt x="24" y="504"/>
                  <a:pt x="12" y="564"/>
                  <a:pt x="0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era Model:  Recall there are 5 Different Frames of Refere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84000" y="2174760"/>
            <a:ext cx="18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xe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4197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19720" y="22856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419720" y="259092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477120" y="26665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4800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2000" y="480060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019920" y="55627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5943240" y="56386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24852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248520" y="586692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25909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5562720"/>
            <a:ext cx="30456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248160" y="556272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648320" y="266652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647960" y="3505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2971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952880" y="297144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9528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647960" y="3200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84520" y="153828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98920" y="207180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09480" y="4510080"/>
            <a:ext cx="35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69200" y="2224080"/>
            <a:ext cx="39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24440" y="232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15000" y="4232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297280" y="458640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58440" y="580536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3940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33560" y="316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79800" y="2757600"/>
            <a:ext cx="35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89440" y="2300400"/>
            <a:ext cx="35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248520" y="6019560"/>
            <a:ext cx="5331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6019560" y="5791320"/>
            <a:ext cx="2286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21320" y="5586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28960" y="529596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949360" y="5029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3240" y="4952880"/>
            <a:ext cx="10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yra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57960" y="31240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mer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39040" y="17524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age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 from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ld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46080" y="3048120"/>
            <a:ext cx="21726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00880" y="3089160"/>
            <a:ext cx="724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I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I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01320" y="2895480"/>
            <a:ext cx="4384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304812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86600" y="3048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3124080"/>
            <a:ext cx="75960" cy="1143000"/>
          </a:xfrm>
          <a:custGeom>
            <a:avLst/>
            <a:gdLst>
              <a:gd name="textAreaLeft" fmla="*/ 22320 w 75960"/>
              <a:gd name="textAreaRight" fmla="*/ 76320 w 7596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57600" y="3124080"/>
            <a:ext cx="76320" cy="1143000"/>
          </a:xfrm>
          <a:custGeom>
            <a:avLst/>
            <a:gdLst>
              <a:gd name="textAreaLeft" fmla="*/ 0 w 76320"/>
              <a:gd name="textAreaRight" fmla="*/ 5364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91520" y="2971800"/>
            <a:ext cx="152280" cy="1447920"/>
          </a:xfrm>
          <a:custGeom>
            <a:avLst/>
            <a:gdLst>
              <a:gd name="textAreaLeft" fmla="*/ 44640 w 152280"/>
              <a:gd name="textAreaRight" fmla="*/ 152640 w 15228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01000" y="2971800"/>
            <a:ext cx="76320" cy="1447920"/>
          </a:xfrm>
          <a:custGeom>
            <a:avLst/>
            <a:gdLst>
              <a:gd name="textAreaLeft" fmla="*/ 0 w 76320"/>
              <a:gd name="textAreaRight" fmla="*/ 53640 w 7632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95480" y="3470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449568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29600" y="453708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mera matrix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92960" y="4495680"/>
            <a:ext cx="8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240" y="51814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in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mera model handle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id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 from world coordinates to camera coordinates plu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to image coordin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02120" y="2514600"/>
            <a:ext cx="2942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 CP   =    T R  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  FP    =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06120" y="3962520"/>
            <a:ext cx="802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F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F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F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29920" y="4038480"/>
            <a:ext cx="173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0    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1    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0    1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0   1/f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425360" y="3809880"/>
            <a:ext cx="6411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4038480"/>
            <a:ext cx="75960" cy="1371600"/>
          </a:xfrm>
          <a:custGeom>
            <a:avLst/>
            <a:gdLst>
              <a:gd name="textAreaLeft" fmla="*/ 22320 w 75960"/>
              <a:gd name="textAreaRight" fmla="*/ 7632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40384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419112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816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886200"/>
            <a:ext cx="75960" cy="1371600"/>
          </a:xfrm>
          <a:custGeom>
            <a:avLst/>
            <a:gdLst>
              <a:gd name="textAreaLeft" fmla="*/ 22320 w 75960"/>
              <a:gd name="textAreaRight" fmla="*/ 7632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01000" y="3886200"/>
            <a:ext cx="76320" cy="1371600"/>
          </a:xfrm>
          <a:custGeom>
            <a:avLst/>
            <a:gdLst>
              <a:gd name="textAreaLeft" fmla="*/ 0 w 76320"/>
              <a:gd name="textAreaRight" fmla="*/ 5364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04960" y="4308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50720" y="5638680"/>
            <a:ext cx="19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1280" y="556272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93720" y="5375160"/>
            <a:ext cx="15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poin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8560" y="251460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hy is there not a scale factor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3124080" cy="2381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 flipH="1">
            <a:off x="1752480" y="5715000"/>
            <a:ext cx="15264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Shape fro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0080" y="2556000"/>
            <a:ext cx="193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hou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stri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3280" y="278460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ly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5440" y="434340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666880"/>
            <a:ext cx="76320" cy="1067040"/>
          </a:xfrm>
          <a:custGeom>
            <a:avLst/>
            <a:gdLst>
              <a:gd name="textAreaLeft" fmla="*/ 0 w 76320"/>
              <a:gd name="textAreaRight" fmla="*/ 5364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4191120"/>
            <a:ext cx="76320" cy="1066680"/>
          </a:xfrm>
          <a:custGeom>
            <a:avLst/>
            <a:gdLst>
              <a:gd name="textAreaLeft" fmla="*/ 0 w 76320"/>
              <a:gd name="textAreaRight" fmla="*/ 5364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ra Calib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64040" y="1676520"/>
            <a:ext cx="71175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work in 3D, we need to know th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articular camera set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for the camera parameters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lib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13372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337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600200" y="5181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96480" y="367200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9920" y="49942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229400" y="52578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77600" y="4876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343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434340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79960" y="351936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865760" y="405288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196520" y="4572000"/>
            <a:ext cx="35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6432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90920" y="4876920"/>
            <a:ext cx="38088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114440" y="4419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405400" y="3581280"/>
            <a:ext cx="32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rin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camera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rins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camera 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97960" y="2057400"/>
            <a:ext cx="40496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poi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factor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 ratio distortion fact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al leng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 distortion fact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dels radial lens distor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38680" y="29718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2920" y="35812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24480" y="3048120"/>
            <a:ext cx="1676520" cy="1523880"/>
          </a:xfrm>
          <a:prstGeom prst="parallelogram">
            <a:avLst>
              <a:gd name="adj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627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629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93000" y="247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41280" y="365760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25840" y="2681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17609400">
            <a:off x="6477120" y="2209320"/>
            <a:ext cx="75960" cy="1752840"/>
          </a:xfrm>
          <a:custGeom>
            <a:avLst/>
            <a:gdLst>
              <a:gd name="textAreaLeft" fmla="*/ 0 w 75960"/>
              <a:gd name="textAreaRight" fmla="*/ 27360 w 759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insic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32320" y="2327400"/>
            <a:ext cx="30715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98760" y="4191120"/>
            <a:ext cx="20858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0     0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8252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562720" y="4267080"/>
            <a:ext cx="75960" cy="1371600"/>
          </a:xfrm>
          <a:custGeom>
            <a:avLst/>
            <a:gdLst>
              <a:gd name="textAreaLeft" fmla="*/ 0 w 75960"/>
              <a:gd name="textAreaRight" fmla="*/ 5328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26708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53840" y="476568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re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parame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rcRect l="40002" t="21093" r="38127" b="45314"/>
          <a:stretch/>
        </p:blipFill>
        <p:spPr>
          <a:xfrm>
            <a:off x="5029200" y="2286000"/>
            <a:ext cx="2666880" cy="32767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676520" y="289548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is to 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at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s and ge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 of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D-3D 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spond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sai Procedur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0600" y="1523880"/>
            <a:ext cx="6924600" cy="416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sai procedure was developed by Roger T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IBM Research and is most widel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images are taken of the calibrati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elding point correspondences at different di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ai’s algorithm requires n &gt; 5 correspond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{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, (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) |  i = 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(real) image points and 3D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* version of Tsai’s algorithm,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2760" y="1143000"/>
            <a:ext cx="6828480" cy="50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-valu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u,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mputed from their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r,c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c-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  v = -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r -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er of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er-to-center (real)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pixels and come from the camera’s sp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le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rned from previous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90880" y="6262560"/>
            <a:ext cx="47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version is for single-plane calib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ai’s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300680" y="1946160"/>
            <a:ext cx="685800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Giv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correspondenc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, (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matrix A with row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(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-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-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known quantities which will be us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intermediate values, which will the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solve for the parameters s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ediate Unknow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52480" y="1752480"/>
            <a:ext cx="7815240" cy="474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vector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know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’s and t’s are unknown rotation and translation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 image coord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of linear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nknown parameter vector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for ty, tx, and 4 rotation paramet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65920" y="2022480"/>
            <a:ext cx="6502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U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se U to calculate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03680" y="3747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rcRect l="6453" t="50849" r="28074" b="21376"/>
          <a:stretch/>
        </p:blipFill>
        <p:spPr>
          <a:xfrm>
            <a:off x="609480" y="3352680"/>
            <a:ext cx="822960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39280" y="2057400"/>
            <a:ext cx="5930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 Try the positive square root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(t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and use i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ranslation and rotation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487840" y="22096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23120" y="3699000"/>
            <a:ext cx="1261080" cy="2174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79720" y="4308480"/>
            <a:ext cx="36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w we k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translation parameter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 rotation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86200" y="578160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 Imaging Model: 1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3520" y="2286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334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09880"/>
            <a:ext cx="37335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048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286000"/>
            <a:ext cx="1523880" cy="3048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68840" y="191916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90680" y="3733920"/>
            <a:ext cx="35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28600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7560" y="24526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04812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7040" y="1752480"/>
            <a:ext cx="28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axi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image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56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5240" y="266688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is the center of proj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7400" y="3352680"/>
            <a:ext cx="35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axis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age 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we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39640" y="385128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304812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876920"/>
            <a:ext cx="47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7240" y="4572000"/>
            <a:ext cx="110592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7320" y="4724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50320" y="260496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l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2860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8640" y="5334120"/>
            <a:ext cx="117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448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308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1640" y="19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53080" y="3062160"/>
            <a:ext cx="185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of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in front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6520" y="36576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5334120"/>
            <a:ext cx="533520" cy="457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1400" y="160020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true sign of 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comp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aining rotation parameter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69080" y="1752480"/>
            <a:ext cx="6863400" cy="453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Select an object point P whose image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u,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ar from the image cen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Use P’s coordinates and the translation and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so far to estimate the imag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orresponds to 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s coordinates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same signs as (u,v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n keep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else negat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 the first 4 rotation parameters to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remaining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remaining 5 rotation parame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rcRect l="31027" t="30482" r="31721" b="36191"/>
          <a:stretch/>
        </p:blipFill>
        <p:spPr>
          <a:xfrm>
            <a:off x="1316160" y="2225520"/>
            <a:ext cx="621180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another linear system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205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843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380960" y="1600200"/>
            <a:ext cx="6522840" cy="473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 We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 rotation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xt step is to find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matrix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whose row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´ = (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 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 vector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whose row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´ = (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*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 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´*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´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(f,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ost the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47480" y="1793880"/>
            <a:ext cx="67431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 If f is negative, change signs (see tex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  Compute the lens distortion fact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stimates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solving a non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of equations by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linear reg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 All parameters have been comp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 them in 3D data acquisi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use them for general stere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352680" y="2362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828800" y="2438280"/>
            <a:ext cx="160020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429000" y="2438280"/>
            <a:ext cx="3581280" cy="289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28800" y="4724280"/>
            <a:ext cx="518148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05120" y="35812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29000" y="411480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1904760" y="44956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05120" y="35812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19720" y="3809880"/>
            <a:ext cx="17524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419720" y="4724280"/>
            <a:ext cx="1752480" cy="4572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38098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4267080"/>
            <a:ext cx="1371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572000" y="4191120"/>
            <a:ext cx="106668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403848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19720" y="419076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743200" y="3733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1055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198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28800" y="4038480"/>
            <a:ext cx="102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=(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9400" y="3886200"/>
            <a:ext cx="102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=(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32400" y="34434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61200" y="3747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70480" y="4357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4920" y="39765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25280" y="4343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11280" y="40384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86160" y="461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996240" y="522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orrespondence 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1 to (r2,c2) in image 2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981080"/>
            <a:ext cx="8026560" cy="39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oth cameras were calibrated.  Both camera matrice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known.  From the two camera equations  B and C 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linear equations in 3 unkn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8720" y="594360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rect solution uses 3 equations, won’t give reliabl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by computing the close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 of the two skew r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209680" y="2590920"/>
            <a:ext cx="3733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209680" y="3809880"/>
            <a:ext cx="3733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410080" y="33526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9184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24520" y="5257800"/>
            <a:ext cx="82458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the rays intersected perfectly in 3D, the intersection would be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stead, we solve for the shortest line segment connecting the two r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let P be its mid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431080" y="21747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446920" y="38862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1581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668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60720" y="3200400"/>
            <a:ext cx="10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66880" y="2666880"/>
            <a:ext cx="60984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743200" y="4267080"/>
            <a:ext cx="609480" cy="763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305240" y="1752480"/>
            <a:ext cx="34970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87200" y="23986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87200" y="43038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353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 in 2D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implifi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133720" y="312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219320" y="50288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133720" y="1828440"/>
            <a:ext cx="533376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467480" y="761760"/>
            <a:ext cx="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1148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1295280"/>
            <a:ext cx="2209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133720" y="1828800"/>
            <a:ext cx="53337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837720" y="1828800"/>
            <a:ext cx="6629400" cy="3352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1828800"/>
            <a:ext cx="6098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16765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3600" y="2286000"/>
            <a:ext cx="1439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88200" y="198108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objec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0440" y="504360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4880" y="358128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343400"/>
            <a:ext cx="84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20040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867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8280" y="213372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2120" y="31896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42840" y="169056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6760" y="5043600"/>
            <a:ext cx="40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360" y="1828800"/>
            <a:ext cx="190476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8800" y="274320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666880"/>
            <a:ext cx="2209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1520" y="2438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38320" y="2376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52000" y="14619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7160" y="1676520"/>
            <a:ext cx="12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41240" y="4648320"/>
            <a:ext cx="125820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1240" y="5638680"/>
            <a:ext cx="125820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71800" y="4842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87640" y="5791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6640" y="4952880"/>
            <a:ext cx="157824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f/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 = (f/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00" y="5638680"/>
            <a:ext cx="271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camera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 world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560" y="3657600"/>
            <a:ext cx="8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p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61240" y="23004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from Ste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2209680"/>
            <a:ext cx="18288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2209680"/>
            <a:ext cx="18288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280" y="3886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2840" y="38862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048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048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30481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3200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1295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2760" y="11430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1680" y="45720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r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ifference in image location of the same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when projected under perspective to two different ca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54800" y="5451480"/>
            <a:ext cx="17852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th Perception from Stereo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ple Model:  Parallel Optic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7432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9625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286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648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743200"/>
            <a:ext cx="4800600" cy="19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962520"/>
            <a:ext cx="4800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24382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52120" y="2376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52120" y="3519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9072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69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666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" y="24382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2743200"/>
            <a:ext cx="0" cy="121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9600" y="32418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3505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7720" y="3657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7560" y="31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162920" y="27428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0080" y="46134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(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220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05840" y="461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5280" y="18288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6088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4480" y="275760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7360" y="3809880"/>
            <a:ext cx="35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1995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85320" y="5299200"/>
            <a:ext cx="132192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       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3316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23040" y="41292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5280" y="5257800"/>
            <a:ext cx="156132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          x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3828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7432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9625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3962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3248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98800" y="5299200"/>
            <a:ext cx="229752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          y      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4340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3376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89000" y="5181480"/>
            <a:ext cx="15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-axi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nt Depth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5280" y="2403360"/>
            <a:ext cx="7485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tereo cameras with parallel optical axes, focal length 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ine b, corresponding image points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rity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1720" y="3886200"/>
            <a:ext cx="3202560" cy="207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 f*b /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f*b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/f   or  b +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/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/f    or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/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49640" y="3851280"/>
            <a:ext cx="277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dispar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iangu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Correspond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040" y="1905120"/>
            <a:ext cx="836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orrespondence is correc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ulation work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orrespondence finding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erfectly 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What methods have we studi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specific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can be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ose specific kind of images, e.g. windshiel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5562720"/>
            <a:ext cx="1219320" cy="5331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17000 h 533160"/>
              <a:gd name="textAreaBottom" fmla="*/ 4161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562720"/>
            <a:ext cx="1219320" cy="5331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17000 h 533160"/>
              <a:gd name="textAreaBottom" fmla="*/ 4161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7400" y="5334120"/>
            <a:ext cx="1523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15242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9200" y="5410080"/>
            <a:ext cx="3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4320" y="5410080"/>
            <a:ext cx="3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Main Matching Method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9400" y="1752480"/>
            <a:ext cx="7840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ross correlation using small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ymbolic feature matching, usually using segments/co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Use the newer interest operators, ie. S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514600"/>
            <a:ext cx="22096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2514600"/>
            <a:ext cx="22096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514600"/>
            <a:ext cx="5331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71960" y="2698920"/>
            <a:ext cx="796680" cy="579240"/>
          </a:xfrm>
          <a:custGeom>
            <a:avLst/>
            <a:gdLst/>
            <a:ahLst/>
            <a:rect l="l" t="t" r="r" b="b"/>
            <a:pathLst>
              <a:path w="502" h="365">
                <a:moveTo>
                  <a:pt x="250" y="365"/>
                </a:moveTo>
                <a:cubicBezTo>
                  <a:pt x="219" y="363"/>
                  <a:pt x="188" y="364"/>
                  <a:pt x="158" y="358"/>
                </a:cubicBezTo>
                <a:cubicBezTo>
                  <a:pt x="142" y="355"/>
                  <a:pt x="127" y="330"/>
                  <a:pt x="116" y="323"/>
                </a:cubicBezTo>
                <a:cubicBezTo>
                  <a:pt x="110" y="319"/>
                  <a:pt x="101" y="320"/>
                  <a:pt x="95" y="316"/>
                </a:cubicBezTo>
                <a:cubicBezTo>
                  <a:pt x="80" y="308"/>
                  <a:pt x="67" y="297"/>
                  <a:pt x="53" y="288"/>
                </a:cubicBezTo>
                <a:cubicBezTo>
                  <a:pt x="46" y="283"/>
                  <a:pt x="32" y="274"/>
                  <a:pt x="32" y="274"/>
                </a:cubicBezTo>
                <a:cubicBezTo>
                  <a:pt x="23" y="260"/>
                  <a:pt x="3" y="249"/>
                  <a:pt x="4" y="232"/>
                </a:cubicBezTo>
                <a:cubicBezTo>
                  <a:pt x="9" y="169"/>
                  <a:pt x="0" y="126"/>
                  <a:pt x="53" y="91"/>
                </a:cubicBezTo>
                <a:cubicBezTo>
                  <a:pt x="102" y="17"/>
                  <a:pt x="153" y="12"/>
                  <a:pt x="236" y="0"/>
                </a:cubicBezTo>
                <a:cubicBezTo>
                  <a:pt x="271" y="5"/>
                  <a:pt x="307" y="6"/>
                  <a:pt x="341" y="14"/>
                </a:cubicBezTo>
                <a:cubicBezTo>
                  <a:pt x="355" y="17"/>
                  <a:pt x="374" y="41"/>
                  <a:pt x="383" y="49"/>
                </a:cubicBezTo>
                <a:cubicBezTo>
                  <a:pt x="415" y="76"/>
                  <a:pt x="448" y="101"/>
                  <a:pt x="482" y="126"/>
                </a:cubicBezTo>
                <a:cubicBezTo>
                  <a:pt x="502" y="208"/>
                  <a:pt x="487" y="226"/>
                  <a:pt x="425" y="267"/>
                </a:cubicBezTo>
                <a:cubicBezTo>
                  <a:pt x="408" y="278"/>
                  <a:pt x="394" y="293"/>
                  <a:pt x="383" y="309"/>
                </a:cubicBezTo>
                <a:cubicBezTo>
                  <a:pt x="378" y="316"/>
                  <a:pt x="376" y="325"/>
                  <a:pt x="369" y="330"/>
                </a:cubicBezTo>
                <a:cubicBezTo>
                  <a:pt x="350" y="345"/>
                  <a:pt x="323" y="341"/>
                  <a:pt x="299" y="344"/>
                </a:cubicBezTo>
                <a:cubicBezTo>
                  <a:pt x="285" y="349"/>
                  <a:pt x="271" y="353"/>
                  <a:pt x="250" y="3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3276720"/>
            <a:ext cx="75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3124080"/>
            <a:ext cx="380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124080"/>
            <a:ext cx="380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2743200"/>
            <a:ext cx="797040" cy="579600"/>
          </a:xfrm>
          <a:custGeom>
            <a:avLst/>
            <a:gdLst/>
            <a:ahLst/>
            <a:rect l="l" t="t" r="r" b="b"/>
            <a:pathLst>
              <a:path w="502" h="365">
                <a:moveTo>
                  <a:pt x="250" y="365"/>
                </a:moveTo>
                <a:cubicBezTo>
                  <a:pt x="219" y="363"/>
                  <a:pt x="188" y="364"/>
                  <a:pt x="158" y="358"/>
                </a:cubicBezTo>
                <a:cubicBezTo>
                  <a:pt x="142" y="355"/>
                  <a:pt x="127" y="330"/>
                  <a:pt x="116" y="323"/>
                </a:cubicBezTo>
                <a:cubicBezTo>
                  <a:pt x="110" y="319"/>
                  <a:pt x="101" y="320"/>
                  <a:pt x="95" y="316"/>
                </a:cubicBezTo>
                <a:cubicBezTo>
                  <a:pt x="80" y="308"/>
                  <a:pt x="67" y="297"/>
                  <a:pt x="53" y="288"/>
                </a:cubicBezTo>
                <a:cubicBezTo>
                  <a:pt x="46" y="283"/>
                  <a:pt x="32" y="274"/>
                  <a:pt x="32" y="274"/>
                </a:cubicBezTo>
                <a:cubicBezTo>
                  <a:pt x="23" y="260"/>
                  <a:pt x="3" y="249"/>
                  <a:pt x="4" y="232"/>
                </a:cubicBezTo>
                <a:cubicBezTo>
                  <a:pt x="9" y="169"/>
                  <a:pt x="0" y="126"/>
                  <a:pt x="53" y="91"/>
                </a:cubicBezTo>
                <a:cubicBezTo>
                  <a:pt x="102" y="17"/>
                  <a:pt x="153" y="12"/>
                  <a:pt x="236" y="0"/>
                </a:cubicBezTo>
                <a:cubicBezTo>
                  <a:pt x="271" y="5"/>
                  <a:pt x="307" y="6"/>
                  <a:pt x="341" y="14"/>
                </a:cubicBezTo>
                <a:cubicBezTo>
                  <a:pt x="355" y="17"/>
                  <a:pt x="374" y="41"/>
                  <a:pt x="383" y="49"/>
                </a:cubicBezTo>
                <a:cubicBezTo>
                  <a:pt x="415" y="76"/>
                  <a:pt x="448" y="101"/>
                  <a:pt x="482" y="126"/>
                </a:cubicBezTo>
                <a:cubicBezTo>
                  <a:pt x="502" y="208"/>
                  <a:pt x="487" y="226"/>
                  <a:pt x="425" y="267"/>
                </a:cubicBezTo>
                <a:cubicBezTo>
                  <a:pt x="408" y="278"/>
                  <a:pt x="394" y="293"/>
                  <a:pt x="383" y="309"/>
                </a:cubicBezTo>
                <a:cubicBezTo>
                  <a:pt x="378" y="316"/>
                  <a:pt x="376" y="325"/>
                  <a:pt x="369" y="330"/>
                </a:cubicBezTo>
                <a:cubicBezTo>
                  <a:pt x="350" y="345"/>
                  <a:pt x="323" y="341"/>
                  <a:pt x="299" y="344"/>
                </a:cubicBezTo>
                <a:cubicBezTo>
                  <a:pt x="285" y="349"/>
                  <a:pt x="271" y="353"/>
                  <a:pt x="250" y="3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4952880"/>
            <a:ext cx="22100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952880"/>
            <a:ext cx="22100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5334120"/>
            <a:ext cx="762120" cy="5331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5181480"/>
            <a:ext cx="761760" cy="5335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05360" y="2860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80960" y="51465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54864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276720" y="5333760"/>
            <a:ext cx="15228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4864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53341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400800" y="5181480"/>
            <a:ext cx="15228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53341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80960" y="62136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21:29:02Z</dcterms:created>
  <dc:creator>Linda Shapiro</dc:creator>
  <dc:description/>
  <dc:language>en-US</dc:language>
  <cp:lastModifiedBy>Linda Shapiro</cp:lastModifiedBy>
  <dcterms:modified xsi:type="dcterms:W3CDTF">2007-05-17T16:33:45Z</dcterms:modified>
  <cp:revision>43</cp:revision>
  <dc:subject/>
  <dc:title>3D Sensing</dc:title>
</cp:coreProperties>
</file>