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140-BC55-4132-AAE1-E7618866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D6E-A81B-420F-A1D0-15A407E0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2D2-481D-45C3-92CD-40EF2C87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ED7-23AD-4425-99B8-1AF7D3DD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DB8-4B8D-4766-B9D7-97EE38CC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CF26-5D48-4BF8-8CC0-ABEF9613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763-CF05-4574-865F-F2A8899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11DF-C4A4-479E-952A-AEABB66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913D-A91C-43AD-9E07-6D5B1AA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044-6C87-4577-A033-08F6441B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A40-CD4B-4086-89B2-9A9C25B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E1A-8416-4723-A8C1-8885627D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8D8-CEB6-4871-8AC4-E820779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7643-5BD5-43FB-970C-61E21C5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0B13-8796-41F3-A863-F926866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91E-3861-40C2-86D7-ACAE56AE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E616-078E-40EE-A1F2-2AA8F41B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853-B58B-4E36-9247-30EFF023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6D6-47D1-42E4-9942-3B8E1F37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AED-4D4F-410C-BEF9-65E0AFE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882-A23C-44C9-8BCD-EEBAF5F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048-FACA-4708-BD7B-F890A040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407-DC47-4B80-A00C-5DB4370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65D-8E68-45BC-B03A-0FC17C47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9D7-4B84-4F53-9AA7-CBD0F166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5DD-9DE8-44B9-8A64-A875433B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77280" y="324000"/>
            <a:ext cx="40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 and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8320" y="1066680"/>
            <a:ext cx="554076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e have covered a LOT of material, spending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me and more detail on 2D image segment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alysis, but hopefully giving you a feel for 3D, t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1000" y="2384280"/>
            <a:ext cx="7061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mages and Classification (Chs. 3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, Texture, and Segmentation (Chs. 6, 7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based Image Retrieval (Ch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(Ch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Perception and Sensing (Chs. 12 and parts of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 (Chs. 11 and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6D9-5016-4D37-9FC1-216680EC17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96920"/>
            <a:ext cx="66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nary Images and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96720" y="914400"/>
            <a:ext cx="4313520" cy="5580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nding good thres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nected components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thematical 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gio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gion adjacenc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ature 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ature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2DD-43CB-4549-A4E9-31ECD5078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8080" y="27288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r and Te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9360" y="1108080"/>
            <a:ext cx="5317920" cy="155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lor spaces: RGB,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lor 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lor image segmentation via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thematical models of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3400" y="2971800"/>
            <a:ext cx="5837400" cy="3020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ructural vs statistical approaches to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on statistical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Edge density and direction 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Local binary pattern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Co-occurrence matrix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Laws texture energ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ure-based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6F9-E68B-4B93-B765-C32E4B296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2440" y="22860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5240" y="1295280"/>
            <a:ext cx="5613480" cy="48488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region growing using a statistic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K-means and iso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Recursive histogram-based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Shi’s graph cut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LINES 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ough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line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circular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Burns line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7AA-5FFD-43C9-83F2-87D8A85F57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76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920" y="15228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-Based Image Retrie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923760"/>
            <a:ext cx="4440240" cy="5581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uery by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age dist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color 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gridded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texture summar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texture 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gridded te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tangent angle 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boundary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regions and spati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fac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 flesh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91D-95FB-4A4A-BC0B-BCE54D088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5600" y="32868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5960" y="1752480"/>
            <a:ext cx="65185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teres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ing’s algorithm: local analysis plus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to MPEG video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segmentation and structuring (Daniel G. 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E98-826F-458A-B28B-EAF24D7FD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4080" y="380880"/>
            <a:ext cx="62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Perception and Sen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219320"/>
            <a:ext cx="5992920" cy="48488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ntrinsic image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erspective imag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pth from stereo with parallel camera 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nding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-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- symbolic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- epipolar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- ordering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amer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sai’s camera calibr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General 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ose estimation (not covered, but used in 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D object reconstruction from rang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16E-8166-48BA-8055-DDCA952FE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6240" y="30492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4960" y="1143000"/>
            <a:ext cx="530244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ffine transform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local-feature-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pose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geometric h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surface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lational matching / relati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via tre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via discrete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via probabilistic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lational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formabl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nction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ppearance-based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56A-4918-465A-9202-BB6C3E9BDC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59:48Z</dcterms:created>
  <dc:creator>uw</dc:creator>
  <dc:description/>
  <dc:language>en-US</dc:language>
  <cp:lastModifiedBy>uw</cp:lastModifiedBy>
  <dcterms:modified xsi:type="dcterms:W3CDTF">2002-12-11T17:57:09Z</dcterms:modified>
  <cp:revision>15</cp:revision>
  <dc:subject/>
  <dc:title>PowerPoint Presentation</dc:title>
</cp:coreProperties>
</file>