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8.gif" ContentType="image/gif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6.png" ContentType="image/png"/>
  <Override PartName="/ppt/media/image63.png" ContentType="image/png"/>
  <Override PartName="/ppt/media/image86.jpeg" ContentType="image/jpeg"/>
  <Override PartName="/ppt/media/image73.png" ContentType="image/png"/>
  <Override PartName="/ppt/media/image78.png" ContentType="image/png"/>
  <Override PartName="/ppt/media/image79.png" ContentType="image/png"/>
  <Override PartName="/ppt/media/image77.png" ContentType="image/png"/>
  <Override PartName="/ppt/media/image75.png" ContentType="image/png"/>
  <Override PartName="/ppt/media/image74.png" ContentType="image/png"/>
  <Override PartName="/ppt/media/image87.jpeg" ContentType="image/jpe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53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BBE-3EEF-4449-843D-F6BB5177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FC0-F060-424B-ACB4-87AA3BB4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176-B93D-48D6-AFD9-3DEB8ECF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0E2-A00F-40A9-B438-D0809DA9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8FD-AB2E-424B-A636-67303BA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795-E212-4E7D-94AC-73FBF2AD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30D-C1A5-4A81-A767-77E1B647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202-62ED-4047-8D7C-94463796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68C-60C4-47FB-BFA2-D73B15E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295-1AC5-4A52-AB98-0B4AE5F8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487-C2C0-45D6-B460-96F23E7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AEE-2D1D-4985-BA36-EEBC81F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DA6-AF28-459E-9D86-699DDF9FD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7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4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image" Target="../media/image84.png"/><Relationship Id="rId11" Type="http://schemas.openxmlformats.org/officeDocument/2006/relationships/image" Target="../media/image85.png"/><Relationship Id="rId1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obust Visual Motion Analysis: </a:t>
            </a:r>
            <a:br>
              <a:rPr sz="36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iecewise-Smooth Optical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low and Motion-Based Detection and Tracking</a:t>
            </a:r>
            <a:endParaRPr b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ing Y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Electrical Engineering, University of Washingt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ingye@u.washington.edu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105520" y="1474920"/>
            <a:ext cx="3200400" cy="22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sic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emplate matchin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ssumptions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rightness conserva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low smoothnes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fficulties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perture problem (local information insufficient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utliers (motion boundaries, abrupt image noise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3" name="fg13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925720" cy="2006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147080" y="2641680"/>
            <a:ext cx="152280" cy="15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23240" y="2660760"/>
            <a:ext cx="152280" cy="15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39000" y="2000160"/>
            <a:ext cx="152640" cy="152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2286000"/>
            <a:ext cx="15228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3124080"/>
            <a:ext cx="152640" cy="152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vious Work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1/2)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rightness conserv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atching-based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adient-based                                 (OFC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low smoothnes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cal parametric       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[Lucas-Kanade 81]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[Haralick-Lee 83]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lobal optimiza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[Horn-Schunck 81]</a:t>
            </a:r>
            <a:endParaRPr b="0" lang="en-US" sz="1800" spc="-1" strike="noStrike">
              <a:solidFill>
                <a:srgbClr val="3399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962520" y="1905120"/>
                <a:ext cx="36972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962520" y="2438280"/>
                <a:ext cx="21463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295280" y="5257800"/>
                <a:ext cx="50832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sites </m:t>
                        </m:r>
                        <m:r>
                          <m:t xml:space="preserve">s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86200" y="3886200"/>
                <a:ext cx="21114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52640" y="4343400"/>
                <a:ext cx="927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vious Work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2/2)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andle motion discontinuities &amp; Outlier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obust statistic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any other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ff"/>
                </a:solidFill>
                <a:latin typeface="Arial"/>
              </a:rPr>
              <a:t>Higher-level method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oblems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adient calcula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lobal formulation:                 values?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mputational complexity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19320" y="2438280"/>
                <a:ext cx="7157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sites s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191120" y="5029200"/>
                <a:ext cx="12160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5105520" y="19810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[Black–Anandan 96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wo-Stage Robust Optical Flow Estimation with Error Propagat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Local Approach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ethod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-stage regression (LS) 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[Haralick-Lee 83, Ye-Haralick 98]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66680" y="1980720"/>
            <a:ext cx="6569280" cy="666720"/>
            <a:chOff x="1066680" y="1980720"/>
            <a:chExt cx="6569280" cy="666720"/>
          </a:xfrm>
        </p:grpSpPr>
        <p:sp>
          <p:nvSpPr>
            <p:cNvPr id="116" name=""/>
            <p:cNvSpPr/>
            <p:nvPr/>
          </p:nvSpPr>
          <p:spPr>
            <a:xfrm>
              <a:off x="3646080" y="198108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riva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4440" y="2145600"/>
              <a:ext cx="1436400" cy="368280"/>
            </a:xfrm>
            <a:prstGeom prst="rect">
              <a:avLst/>
            </a:prstGeom>
            <a:solidFill>
              <a:srgbClr val="ebffeb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Facet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30640" y="2102760"/>
              <a:ext cx="663840" cy="368280"/>
            </a:xfrm>
            <a:prstGeom prst="rect">
              <a:avLst/>
            </a:prstGeom>
            <a:solidFill>
              <a:srgbClr val="ebffeb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67240" y="2320920"/>
              <a:ext cx="14475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7080" y="2004840"/>
              <a:ext cx="80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6680" y="2352600"/>
              <a:ext cx="9907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92680" y="2293920"/>
              <a:ext cx="19432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55760" y="1980720"/>
              <a:ext cx="152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cal flow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covari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85800" y="3429000"/>
            <a:ext cx="7772400" cy="2658960"/>
            <a:chOff x="685800" y="3429000"/>
            <a:chExt cx="7772400" cy="2658960"/>
          </a:xfrm>
        </p:grpSpPr>
        <p:grpSp>
          <p:nvGrpSpPr>
            <p:cNvPr id="125" name=""/>
            <p:cNvGrpSpPr/>
            <p:nvPr/>
          </p:nvGrpSpPr>
          <p:grpSpPr>
            <a:xfrm>
              <a:off x="1015920" y="4119480"/>
              <a:ext cx="7055280" cy="1968480"/>
              <a:chOff x="1015920" y="4119480"/>
              <a:chExt cx="7055280" cy="1968480"/>
            </a:xfrm>
          </p:grpSpPr>
          <p:sp>
            <p:nvSpPr>
              <p:cNvPr id="126" name=""/>
              <p:cNvSpPr/>
              <p:nvPr/>
            </p:nvSpPr>
            <p:spPr>
              <a:xfrm>
                <a:off x="2068920" y="4881600"/>
                <a:ext cx="1538640" cy="368280"/>
              </a:xfrm>
              <a:prstGeom prst="rect">
                <a:avLst/>
              </a:prstGeom>
              <a:solidFill>
                <a:srgbClr val="ebffeb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bust Fac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81520" y="5006880"/>
                <a:ext cx="2819520" cy="789120"/>
              </a:xfrm>
              <a:prstGeom prst="flowChartDecision">
                <a:avLst/>
              </a:prstGeom>
              <a:solidFill>
                <a:srgbClr val="ebffeb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8" name=""/>
              <p:cNvCxnSpPr>
                <a:stCxn id="126" idx="3"/>
                <a:endCxn id="129" idx="1"/>
              </p:cNvCxnSpPr>
              <p:nvPr/>
            </p:nvCxnSpPr>
            <p:spPr>
              <a:xfrm flipV="1">
                <a:off x="3634920" y="4523760"/>
                <a:ext cx="1305720" cy="554760"/>
              </a:xfrm>
              <a:prstGeom prst="bentConnector3">
                <a:avLst>
                  <a:gd name="adj1" fmla="val 50000"/>
                </a:avLst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</p:cxnSp>
          <p:cxnSp>
            <p:nvCxnSpPr>
              <p:cNvPr id="130" name=""/>
              <p:cNvCxnSpPr>
                <a:stCxn id="129" idx="3"/>
                <a:endCxn id="127" idx="0"/>
              </p:cNvCxnSpPr>
              <p:nvPr/>
            </p:nvCxnSpPr>
            <p:spPr>
              <a:xfrm>
                <a:off x="5898960" y="4524120"/>
                <a:ext cx="292680" cy="470520"/>
              </a:xfrm>
              <a:prstGeom prst="bentConnector2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</p:cxnSp>
          <p:cxnSp>
            <p:nvCxnSpPr>
              <p:cNvPr id="131" name=""/>
              <p:cNvCxnSpPr>
                <a:stCxn id="127" idx="2"/>
                <a:endCxn id="126" idx="2"/>
              </p:cNvCxnSpPr>
              <p:nvPr/>
            </p:nvCxnSpPr>
            <p:spPr>
              <a:xfrm flipV="1" rot="16200000">
                <a:off x="4253040" y="3870360"/>
                <a:ext cx="523080" cy="3353400"/>
              </a:xfrm>
              <a:prstGeom prst="bentConnector3">
                <a:avLst>
                  <a:gd name="adj1" fmla="val -27341"/>
                </a:avLst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</p:cxnSp>
          <p:cxnSp>
            <p:nvCxnSpPr>
              <p:cNvPr id="132" name=""/>
              <p:cNvCxnSpPr>
                <a:stCxn id="133" idx="2"/>
                <a:endCxn id="126" idx="1"/>
              </p:cNvCxnSpPr>
              <p:nvPr/>
            </p:nvCxnSpPr>
            <p:spPr>
              <a:xfrm flipH="1" rot="16200000">
                <a:off x="1657440" y="4694040"/>
                <a:ext cx="317880" cy="451440"/>
              </a:xfrm>
              <a:prstGeom prst="bentConnector2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</p:cxnSp>
          <p:cxnSp>
            <p:nvCxnSpPr>
              <p:cNvPr id="134" name=""/>
              <p:cNvCxnSpPr>
                <a:stCxn id="127" idx="3"/>
              </p:cNvCxnSpPr>
              <p:nvPr/>
            </p:nvCxnSpPr>
            <p:spPr>
              <a:xfrm>
                <a:off x="7613640" y="5401800"/>
                <a:ext cx="457920" cy="1080"/>
              </a:xfrm>
              <a:prstGeom prst="straightConnector1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</p:cxnSp>
          <p:sp>
            <p:nvSpPr>
              <p:cNvPr id="135" name=""/>
              <p:cNvSpPr/>
              <p:nvPr/>
            </p:nvSpPr>
            <p:spPr>
              <a:xfrm>
                <a:off x="5277600" y="5186520"/>
                <a:ext cx="190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gh confidence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20120" y="54594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18440" y="57196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4840" y="4348080"/>
                <a:ext cx="1095120" cy="368280"/>
              </a:xfrm>
              <a:prstGeom prst="rect">
                <a:avLst/>
              </a:prstGeom>
              <a:solidFill>
                <a:srgbClr val="ebffeb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S Fac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68000" y="4191120"/>
                <a:ext cx="903240" cy="642600"/>
              </a:xfrm>
              <a:prstGeom prst="rect">
                <a:avLst/>
              </a:prstGeom>
              <a:solidFill>
                <a:srgbClr val="ebffeb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bu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9" name=""/>
              <p:cNvCxnSpPr>
                <a:endCxn id="138" idx="1"/>
              </p:cNvCxnSpPr>
              <p:nvPr/>
            </p:nvCxnSpPr>
            <p:spPr>
              <a:xfrm>
                <a:off x="1015920" y="4541400"/>
                <a:ext cx="1232280" cy="3960"/>
              </a:xfrm>
              <a:prstGeom prst="straightConnector1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</p:cxnSp>
          <p:cxnSp>
            <p:nvCxnSpPr>
              <p:cNvPr id="140" name=""/>
              <p:cNvCxnSpPr>
                <a:stCxn id="138" idx="3"/>
                <a:endCxn id="129" idx="1"/>
              </p:cNvCxnSpPr>
              <p:nvPr/>
            </p:nvCxnSpPr>
            <p:spPr>
              <a:xfrm flipV="1">
                <a:off x="3397320" y="4524120"/>
                <a:ext cx="1543680" cy="20880"/>
              </a:xfrm>
              <a:prstGeom prst="straightConnector1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</p:cxnSp>
          <p:sp>
            <p:nvSpPr>
              <p:cNvPr id="133" name=""/>
              <p:cNvSpPr/>
              <p:nvPr/>
            </p:nvSpPr>
            <p:spPr>
              <a:xfrm>
                <a:off x="1183320" y="4119480"/>
                <a:ext cx="814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92360" y="4119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rivativ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257880" y="4348080"/>
                <a:ext cx="1549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ptical fl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 Confiden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685800" y="3429000"/>
              <a:ext cx="77724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2-stage-robust adaptive scheme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[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Ye-Haralick 0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85800" y="2743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evious: robust OFC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sult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461960" cy="133164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47" name="u1v13_true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1371600" cy="133344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48" name="u1v13_bab" descr=""/>
          <p:cNvPicPr/>
          <p:nvPr/>
        </p:nvPicPr>
        <p:blipFill>
          <a:blip r:embed="rId3"/>
          <a:stretch/>
        </p:blipFill>
        <p:spPr>
          <a:xfrm>
            <a:off x="4540320" y="1447920"/>
            <a:ext cx="1371600" cy="135576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49" name="u1v13_r2" descr=""/>
          <p:cNvPicPr/>
          <p:nvPr/>
        </p:nvPicPr>
        <p:blipFill>
          <a:blip r:embed="rId4"/>
          <a:stretch/>
        </p:blipFill>
        <p:spPr>
          <a:xfrm>
            <a:off x="5943600" y="1447920"/>
            <a:ext cx="1371600" cy="133668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50" name="u1v13_R" descr=""/>
          <p:cNvPicPr/>
          <p:nvPr/>
        </p:nvPicPr>
        <p:blipFill>
          <a:blip r:embed="rId5"/>
          <a:stretch/>
        </p:blipFill>
        <p:spPr>
          <a:xfrm>
            <a:off x="7345440" y="1447920"/>
            <a:ext cx="1279440" cy="132696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373680" y="3017880"/>
            <a:ext cx="84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ampled by2:  True         LS-LS          LS-R             R-R       Conf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685800" y="3886200"/>
            <a:ext cx="1420920" cy="129384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53" name="pepsi_black_v" descr=""/>
          <p:cNvPicPr/>
          <p:nvPr/>
        </p:nvPicPr>
        <p:blipFill>
          <a:blip r:embed="rId7"/>
          <a:stretch/>
        </p:blipFill>
        <p:spPr>
          <a:xfrm>
            <a:off x="2362320" y="3886200"/>
            <a:ext cx="1292040" cy="130500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54" name="pepsi_bab_v" descr=""/>
          <p:cNvPicPr/>
          <p:nvPr/>
        </p:nvPicPr>
        <p:blipFill>
          <a:blip r:embed="rId8"/>
          <a:stretch/>
        </p:blipFill>
        <p:spPr>
          <a:xfrm>
            <a:off x="3886200" y="3886200"/>
            <a:ext cx="1292400" cy="130032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55" name="pepsi_r1_v" descr=""/>
          <p:cNvPicPr/>
          <p:nvPr/>
        </p:nvPicPr>
        <p:blipFill>
          <a:blip r:embed="rId9"/>
          <a:stretch/>
        </p:blipFill>
        <p:spPr>
          <a:xfrm>
            <a:off x="5410080" y="3886200"/>
            <a:ext cx="1292400" cy="129240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56" name="pepsi_r2_v" descr=""/>
          <p:cNvPicPr/>
          <p:nvPr/>
        </p:nvPicPr>
        <p:blipFill>
          <a:blip r:embed="rId10"/>
          <a:stretch/>
        </p:blipFill>
        <p:spPr>
          <a:xfrm>
            <a:off x="6934320" y="3886200"/>
            <a:ext cx="1292040" cy="129528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448200" y="5486400"/>
            <a:ext cx="73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orizontal flow:   M-OFC      LS-LMedS        LS-R              R-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u1v13_ls2" descr=""/>
          <p:cNvPicPr/>
          <p:nvPr/>
        </p:nvPicPr>
        <p:blipFill>
          <a:blip r:embed="rId11"/>
          <a:stretch/>
        </p:blipFill>
        <p:spPr>
          <a:xfrm>
            <a:off x="3124080" y="1447920"/>
            <a:ext cx="1371600" cy="135576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rror Analysi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variance propagation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[Haralick 96]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Approx.) linear system + small error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New: reject outliers firs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76520" y="3733200"/>
            <a:ext cx="5638680" cy="1524600"/>
            <a:chOff x="1676520" y="3733200"/>
            <a:chExt cx="5638680" cy="1524600"/>
          </a:xfrm>
        </p:grpSpPr>
        <p:sp>
          <p:nvSpPr>
            <p:cNvPr id="162" name=""/>
            <p:cNvSpPr/>
            <p:nvPr/>
          </p:nvSpPr>
          <p:spPr>
            <a:xfrm>
              <a:off x="1676520" y="3733920"/>
              <a:ext cx="5638680" cy="1523880"/>
            </a:xfrm>
            <a:prstGeom prst="rect">
              <a:avLst/>
            </a:prstGeom>
            <a:solidFill>
              <a:srgbClr val="eb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4038480"/>
              <a:ext cx="5638680" cy="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6720" y="3733920"/>
              <a:ext cx="0" cy="152388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9240" y="373320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 noise v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81840" y="37332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4680" y="373320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C cor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9760" y="4038120"/>
              <a:ext cx="167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oncelli 9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zeliski 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gel 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Ye-Haralick 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21600" y="4038120"/>
              <a:ext cx="5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3640" y="4038120"/>
              <a:ext cx="5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74000" y="4038120"/>
              <a:ext cx="5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066680" y="2437920"/>
            <a:ext cx="6568920" cy="666720"/>
            <a:chOff x="1066680" y="2437920"/>
            <a:chExt cx="6568920" cy="666720"/>
          </a:xfrm>
        </p:grpSpPr>
        <p:sp>
          <p:nvSpPr>
            <p:cNvPr id="173" name=""/>
            <p:cNvSpPr/>
            <p:nvPr/>
          </p:nvSpPr>
          <p:spPr>
            <a:xfrm>
              <a:off x="3660480" y="243828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riva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066680" y="2462040"/>
              <a:ext cx="6568920" cy="642600"/>
              <a:chOff x="1066680" y="2462040"/>
              <a:chExt cx="6568920" cy="642600"/>
            </a:xfrm>
          </p:grpSpPr>
          <p:sp>
            <p:nvSpPr>
              <p:cNvPr id="175" name=""/>
              <p:cNvSpPr/>
              <p:nvPr/>
            </p:nvSpPr>
            <p:spPr>
              <a:xfrm>
                <a:off x="2134440" y="2602440"/>
                <a:ext cx="1436400" cy="368280"/>
              </a:xfrm>
              <a:prstGeom prst="rect">
                <a:avLst/>
              </a:prstGeom>
              <a:solidFill>
                <a:srgbClr val="ebffeb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et Mod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030280" y="2559600"/>
                <a:ext cx="663840" cy="368280"/>
              </a:xfrm>
              <a:prstGeom prst="rect">
                <a:avLst/>
              </a:prstGeom>
              <a:solidFill>
                <a:srgbClr val="ebffeb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66880" y="2778120"/>
                <a:ext cx="14479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16720" y="2462040"/>
                <a:ext cx="80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66680" y="2809800"/>
                <a:ext cx="9907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92680" y="2751120"/>
                <a:ext cx="19429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946120" y="2437920"/>
              <a:ext cx="152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cal flow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vari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sult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simple motion boundary detecto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rror analysis: why bothe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ccurate uncertainty is just as importan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Uncertainty is anisotropic, varies from site to sit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84" name="tax2bd_I" descr=""/>
          <p:cNvPicPr/>
          <p:nvPr/>
        </p:nvPicPr>
        <p:blipFill>
          <a:blip r:embed="rId1"/>
          <a:stretch/>
        </p:blipFill>
        <p:spPr>
          <a:xfrm>
            <a:off x="976320" y="2546280"/>
            <a:ext cx="1370160" cy="103680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85" name="tax2bd_II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1371600" cy="110160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86" name="tax2bd_III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1371600" cy="110160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87" name="tax2bd_IV" descr=""/>
          <p:cNvPicPr/>
          <p:nvPr/>
        </p:nvPicPr>
        <p:blipFill>
          <a:blip r:embed="rId4"/>
          <a:stretch/>
        </p:blipFill>
        <p:spPr>
          <a:xfrm>
            <a:off x="6705720" y="2514600"/>
            <a:ext cx="1371600" cy="110160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sp>
        <p:nvSpPr>
          <p:cNvPr id="188" name=""/>
          <p:cNvSpPr/>
          <p:nvPr/>
        </p:nvSpPr>
        <p:spPr>
          <a:xfrm rot="16200000">
            <a:off x="2546280" y="2787480"/>
            <a:ext cx="171360" cy="1911240"/>
          </a:xfrm>
          <a:custGeom>
            <a:avLst/>
            <a:gdLst>
              <a:gd name="textAreaLeft" fmla="*/ 109440 w 171360"/>
              <a:gd name="textAreaRight" fmla="*/ 171720 w 171360"/>
              <a:gd name="textAreaTop" fmla="*/ 49680 h 1911240"/>
              <a:gd name="textAreaBottom" fmla="*/ 1861560 h 191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6467400" y="2752560"/>
            <a:ext cx="171360" cy="1981080"/>
          </a:xfrm>
          <a:custGeom>
            <a:avLst/>
            <a:gdLst>
              <a:gd name="textAreaLeft" fmla="*/ 109440 w 171360"/>
              <a:gd name="textAreaRight" fmla="*/ 171720 w 1713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9720" y="3809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3640" y="3809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Rob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5400000">
            <a:off x="5372280" y="417960"/>
            <a:ext cx="152280" cy="3886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19810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IV + OFC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080" y="37339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celli eq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8880" y="3809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8760" y="37339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Our 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stimating Piecewise-Smooth Optical Flow with Global Matching and Graduated Optimizat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Bayesian Approach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blem Statement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914400" y="2742840"/>
            <a:ext cx="7315200" cy="2133720"/>
          </a:xfrm>
          <a:prstGeom prst="rect">
            <a:avLst/>
          </a:prstGeom>
          <a:solidFill>
            <a:srgbClr val="e5ffe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Assuming only brightness conservation and piecewise-smooth motion, find the optical flow to best describe the intensity change in three frames.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at Is Visual Mot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33560" y="13712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D image velocity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D motion projec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emporal correspondenc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Image deforma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ptical flow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n image of 2D velocity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ach pixel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s=(x,y)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 = (u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,v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(x,y,t) </a:t>
            </a:r>
            <a:r>
              <a:rPr b="0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(x+u,y+v,t+1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741760" cy="1827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46" name="fgvec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2741760" cy="1827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AP/MRF Formulat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ximum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A P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sterior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Criterion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ior: M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rkov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R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ndom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F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eld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eighborhood system: 8-connected      , pairwis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ibbs distribution equivalen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ikelihood: exponentia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lobal optimization probl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33520" y="2057400"/>
                <a:ext cx="5840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953960" y="25909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ikeli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3120" y="2590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2590920"/>
            <a:ext cx="9144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2590920"/>
            <a:ext cx="6094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400800" y="3276720"/>
                <a:ext cx="4381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19320" y="4267080"/>
                <a:ext cx="7199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 flipV="1">
            <a:off x="5486400" y="380916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lobal Energy Desig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lobal energy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atching erro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arping error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-Frame Matching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Without aliasing, all pixels in a frame are visible in the previou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the next frame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moothness erro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33920" y="1459080"/>
                <a:ext cx="2741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sites 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2438280"/>
                <a:ext cx="2730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600360" y="3124080"/>
                <a:ext cx="455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05240" y="4960800"/>
                <a:ext cx="34387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rror Function           :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33720" y="13712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distribution with fatter tail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n error norm less drastic than L2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obust against outlier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taneous segmenta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moothness outliers = motion discontinuities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se Geman-McClure for redescending &amp;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normaliz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86400" y="457200"/>
                <a:ext cx="1095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743200" y="5334120"/>
                <a:ext cx="1700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952880" y="5334120"/>
                <a:ext cx="2943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σ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2" name="rho" descr=""/>
          <p:cNvPicPr/>
          <p:nvPr/>
        </p:nvPicPr>
        <p:blipFill>
          <a:blip r:embed="rId1"/>
          <a:stretch/>
        </p:blipFill>
        <p:spPr>
          <a:xfrm>
            <a:off x="471600" y="2879640"/>
            <a:ext cx="157140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si" descr=""/>
          <p:cNvPicPr/>
          <p:nvPr/>
        </p:nvPicPr>
        <p:blipFill>
          <a:blip r:embed="rId2"/>
          <a:stretch/>
        </p:blipFill>
        <p:spPr>
          <a:xfrm>
            <a:off x="444600" y="4529160"/>
            <a:ext cx="1617480" cy="1643040"/>
          </a:xfrm>
          <a:prstGeom prst="rect">
            <a:avLst/>
          </a:prstGeom>
          <a:ln w="0">
            <a:noFill/>
          </a:ln>
        </p:spPr>
      </p:pic>
      <p:pic>
        <p:nvPicPr>
          <p:cNvPr id="224" name="pdf_l2_gm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1617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dvantage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mpare with [Black-Anandan 96]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62120" y="1981080"/>
                <a:ext cx="76420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sites s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762120" y="3048120"/>
            <a:ext cx="7619760" cy="2057400"/>
          </a:xfrm>
          <a:prstGeom prst="rect">
            <a:avLst/>
          </a:prstGeom>
          <a:solidFill>
            <a:srgbClr val="eb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3505320"/>
            <a:ext cx="761976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3048120"/>
            <a:ext cx="0" cy="205740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3045960"/>
            <a:ext cx="27111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ness con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l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6640" y="3045960"/>
            <a:ext cx="23479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atching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ocal ada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20040" y="3045960"/>
            <a:ext cx="26679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-Anandan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id+t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81080" y="4097160"/>
                <a:ext cx="9972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743200" y="4633920"/>
                <a:ext cx="307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olution Technique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argescale nonconvex probl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tatistical relaxation: slow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aduated NonConvexity: LS initialization, scales control anneal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ur strategy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stest descen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-step graduated optimiza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wo sub-optimal formulation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ovide robust initial estimates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Gradually learn the local parameters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: OFC-Based Local Regress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ucas-Kanade constraint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igh-breakdown criterion (LMS/LTS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ast deterministic algorith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east-squares (LS) initial estimat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opagate using an LMS-LS procedur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aptive outlier resistanc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ster, more stable accuracy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stimate scales             from inlier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715000" y="1523880"/>
                <a:ext cx="1130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936960" y="4800600"/>
                <a:ext cx="10396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: OFC-Based Global Optimizat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iven              , find       to minimiz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olution: Successive Over Relax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aptive step siz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Initial has dominantly high-freq error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st convergenc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133720" y="1447920"/>
                <a:ext cx="1368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432320" y="1447920"/>
                <a:ext cx="506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71400" y="1989000"/>
                <a:ext cx="7581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Δ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sites </m:t>
                        </m:r>
                        <m:r>
                          <m:t xml:space="preserve">s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5120" y="3505320"/>
                <a:ext cx="499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ω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6781680" y="457200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325"/>
                </a:lnTo>
                <a:cubicBezTo>
                  <a:pt x="10800" y="9225"/>
                  <a:pt x="16200" y="10125"/>
                  <a:pt x="21600" y="10125"/>
                </a:cubicBezTo>
                <a:cubicBezTo>
                  <a:pt x="16200" y="10125"/>
                  <a:pt x="10800" y="11025"/>
                  <a:pt x="10800" y="1192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I: Minimizing the Global Energy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ive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alculat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astest descent by propag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enerate candidates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place      by     if global energy    drop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86000" y="1371600"/>
                <a:ext cx="658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ti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0" y="3352680"/>
                <a:ext cx="21477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678040" y="4278240"/>
                <a:ext cx="297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05320" y="4267080"/>
                <a:ext cx="2919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943600" y="4267080"/>
                <a:ext cx="2746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3960" y="1905120"/>
                <a:ext cx="10396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ierarchical Proces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andle large motions (&gt;2 pixels/frame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imitations: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ub-sampling, warping and projection error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ay become the accuracy bottleneck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ep III directly works on the image data and is less sensitive to such error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verall Algorithm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520" y="1143000"/>
            <a:ext cx="2126880" cy="5199480"/>
            <a:chOff x="533520" y="1143000"/>
            <a:chExt cx="2126880" cy="5199480"/>
          </a:xfrm>
        </p:grpSpPr>
        <p:sp>
          <p:nvSpPr>
            <p:cNvPr id="261" name=""/>
            <p:cNvSpPr/>
            <p:nvPr/>
          </p:nvSpPr>
          <p:spPr>
            <a:xfrm>
              <a:off x="685800" y="5943600"/>
              <a:ext cx="197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Image pyram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33520" y="1143000"/>
              <a:ext cx="2057400" cy="4653000"/>
              <a:chOff x="533520" y="1143000"/>
              <a:chExt cx="2057400" cy="46530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990720" y="1143000"/>
                <a:ext cx="1600200" cy="4648320"/>
                <a:chOff x="990720" y="1143000"/>
                <a:chExt cx="1600200" cy="464832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990720" y="5181480"/>
                  <a:ext cx="1600200" cy="609840"/>
                  <a:chOff x="990720" y="5181480"/>
                  <a:chExt cx="1600200" cy="6098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990720" y="5334120"/>
                    <a:ext cx="1600200" cy="457200"/>
                  </a:xfrm>
                  <a:prstGeom prst="parallelogram">
                    <a:avLst>
                      <a:gd name="adj" fmla="val 9062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990720" y="5257800"/>
                    <a:ext cx="1600200" cy="457200"/>
                  </a:xfrm>
                  <a:prstGeom prst="parallelogram">
                    <a:avLst>
                      <a:gd name="adj" fmla="val 9062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990720" y="5181480"/>
                    <a:ext cx="1600200" cy="457200"/>
                  </a:xfrm>
                  <a:prstGeom prst="parallelogram">
                    <a:avLst>
                      <a:gd name="adj" fmla="val 9062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990720" y="1143000"/>
                  <a:ext cx="1574640" cy="4502160"/>
                  <a:chOff x="990720" y="1143000"/>
                  <a:chExt cx="1574640" cy="45021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1415880" y="1143000"/>
                    <a:ext cx="1149480" cy="40449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ff00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990720" y="1143000"/>
                    <a:ext cx="1149120" cy="4502160"/>
                  </a:xfrm>
                  <a:prstGeom prst="triangle">
                    <a:avLst>
                      <a:gd name="adj" fmla="val 87981"/>
                    </a:avLst>
                  </a:prstGeom>
                  <a:noFill/>
                  <a:ln w="9360">
                    <a:solidFill>
                      <a:srgbClr val="ff00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1219320" y="4343400"/>
                  <a:ext cx="1218960" cy="456840"/>
                  <a:chOff x="1219320" y="4343400"/>
                  <a:chExt cx="1218960" cy="4568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219320" y="4457520"/>
                    <a:ext cx="1218960" cy="342720"/>
                  </a:xfrm>
                  <a:prstGeom prst="parallelogram">
                    <a:avLst>
                      <a:gd name="adj" fmla="val 92096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219320" y="4400280"/>
                    <a:ext cx="1218960" cy="342720"/>
                  </a:xfrm>
                  <a:prstGeom prst="parallelogram">
                    <a:avLst>
                      <a:gd name="adj" fmla="val 92096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219320" y="4343400"/>
                    <a:ext cx="1218960" cy="342720"/>
                  </a:xfrm>
                  <a:prstGeom prst="parallelogram">
                    <a:avLst>
                      <a:gd name="adj" fmla="val 92096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1523880" y="3048120"/>
                  <a:ext cx="762120" cy="304200"/>
                  <a:chOff x="1523880" y="3048120"/>
                  <a:chExt cx="762120" cy="3042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1523880" y="3124080"/>
                    <a:ext cx="762120" cy="228240"/>
                  </a:xfrm>
                  <a:prstGeom prst="parallelogram">
                    <a:avLst>
                      <a:gd name="adj" fmla="val 8646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523880" y="3085920"/>
                    <a:ext cx="762120" cy="228240"/>
                  </a:xfrm>
                  <a:prstGeom prst="parallelogram">
                    <a:avLst>
                      <a:gd name="adj" fmla="val 8646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523880" y="3048120"/>
                    <a:ext cx="762120" cy="228240"/>
                  </a:xfrm>
                  <a:prstGeom prst="parallelogram">
                    <a:avLst>
                      <a:gd name="adj" fmla="val 8646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1905120" y="3657600"/>
                  <a:ext cx="0" cy="380880"/>
                </a:xfrm>
                <a:prstGeom prst="line">
                  <a:avLst/>
                </a:prstGeom>
                <a:ln cap="rnd" w="381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80" name=""/>
                  <p:cNvSpPr txBox="1"/>
                  <p:nvPr/>
                </p:nvSpPr>
                <p:spPr>
                  <a:xfrm>
                    <a:off x="762120" y="2971800"/>
                    <a:ext cx="566640" cy="38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1" name=""/>
                  <p:cNvSpPr txBox="1"/>
                  <p:nvPr/>
                </p:nvSpPr>
                <p:spPr>
                  <a:xfrm>
                    <a:off x="685800" y="4419720"/>
                    <a:ext cx="385920" cy="385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2" name=""/>
                  <p:cNvSpPr txBox="1"/>
                  <p:nvPr/>
                </p:nvSpPr>
                <p:spPr>
                  <a:xfrm>
                    <a:off x="533520" y="5410080"/>
                    <a:ext cx="360360" cy="38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83" name=""/>
          <p:cNvGrpSpPr/>
          <p:nvPr/>
        </p:nvGrpSpPr>
        <p:grpSpPr>
          <a:xfrm>
            <a:off x="3165480" y="685800"/>
            <a:ext cx="4835520" cy="6005520"/>
            <a:chOff x="3165480" y="685800"/>
            <a:chExt cx="4835520" cy="600552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172200" y="6202440"/>
                  <a:ext cx="6192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352680" y="762120"/>
              <a:ext cx="464832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3809880" y="1523880"/>
                  <a:ext cx="38592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5715000" y="1284840"/>
              <a:ext cx="785880" cy="398880"/>
            </a:xfrm>
            <a:prstGeom prst="rect">
              <a:avLst/>
            </a:prstGeom>
            <a:solidFill>
              <a:srgbClr val="ffc3c4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5880" y="1706400"/>
              <a:ext cx="0" cy="370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685800"/>
              <a:ext cx="0" cy="577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9880" y="1447920"/>
              <a:ext cx="190512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6197760" y="1625760"/>
                  <a:ext cx="38556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w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5638680" y="685800"/>
                  <a:ext cx="4381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"/>
            <p:cNvSpPr/>
            <p:nvPr/>
          </p:nvSpPr>
          <p:spPr>
            <a:xfrm>
              <a:off x="4826160" y="2061000"/>
              <a:ext cx="2666880" cy="398880"/>
            </a:xfrm>
            <a:prstGeom prst="rect">
              <a:avLst/>
            </a:prstGeom>
            <a:solidFill>
              <a:srgbClr val="ffc68d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lculate gradi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27920" y="3240000"/>
              <a:ext cx="0" cy="436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6222960" y="3200400"/>
                  <a:ext cx="17208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V</m:t>
                          </m:r>
                        </m:e>
                        <m:sub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5943600" y="4419720"/>
              <a:ext cx="304920" cy="304560"/>
            </a:xfrm>
            <a:prstGeom prst="flowChartOr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02360" y="4713120"/>
              <a:ext cx="0" cy="3207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5034240"/>
              <a:ext cx="2181240" cy="398880"/>
            </a:xfrm>
            <a:prstGeom prst="rect">
              <a:avLst/>
            </a:prstGeom>
            <a:solidFill>
              <a:srgbClr val="a7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obal matc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440" y="5442120"/>
              <a:ext cx="0" cy="388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6186600" y="5365800"/>
                  <a:ext cx="43812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5257800" y="5870880"/>
              <a:ext cx="1700280" cy="398880"/>
            </a:xfrm>
            <a:prstGeom prst="rect">
              <a:avLst/>
            </a:prstGeom>
            <a:solidFill>
              <a:srgbClr val="e5e5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5880" y="6280200"/>
              <a:ext cx="1800" cy="3747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5791320"/>
              <a:ext cx="464832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77440" y="9144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Level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65480" y="579132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Level p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83360" y="2899080"/>
              <a:ext cx="182880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al OF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6095880" y="2438280"/>
                  <a:ext cx="59076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w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6095880" y="2438280"/>
              <a:ext cx="0" cy="473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72200" y="3680280"/>
              <a:ext cx="182880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obal OF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5880" y="4076640"/>
              <a:ext cx="0" cy="368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1" name=""/>
            <p:cNvCxnSpPr>
              <a:stCxn id="289" idx="0"/>
              <a:endCxn id="296" idx="6"/>
            </p:cNvCxnSpPr>
            <p:nvPr/>
          </p:nvCxnSpPr>
          <p:spPr>
            <a:xfrm flipH="1" rot="16200000">
              <a:off x="4518000" y="2841120"/>
              <a:ext cx="3309120" cy="153360"/>
            </a:xfrm>
            <a:prstGeom prst="bentConnector4">
              <a:avLst>
                <a:gd name="adj1" fmla="val -5853"/>
                <a:gd name="adj2" fmla="val 1204000"/>
              </a:avLst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/>
            <p:nvPr/>
          </p:nvCxnSpPr>
          <p:spPr>
            <a:xfrm flipH="1">
              <a:off x="7086240" y="3885840"/>
              <a:ext cx="838800" cy="1080"/>
            </a:xfrm>
            <a:prstGeom prst="straightConnector1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0"/>
              <a:endCxn id="309" idx="1"/>
            </p:cNvCxnSpPr>
            <p:nvPr/>
          </p:nvCxnSpPr>
          <p:spPr>
            <a:xfrm rot="5400000">
              <a:off x="5199120" y="2983680"/>
              <a:ext cx="969120" cy="824400"/>
            </a:xfrm>
            <a:prstGeom prst="bentConnector4">
              <a:avLst>
                <a:gd name="adj1" fmla="val -18989"/>
                <a:gd name="adj2" fmla="val 127741"/>
              </a:avLst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6248520" y="4038480"/>
                  <a:ext cx="666720" cy="48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V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6324480" y="4572000"/>
                  <a:ext cx="4381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316" name=""/>
            <p:cNvCxnSpPr>
              <a:stCxn id="290" idx="0"/>
              <a:endCxn id="298" idx="1"/>
            </p:cNvCxnSpPr>
            <p:nvPr/>
          </p:nvCxnSpPr>
          <p:spPr>
            <a:xfrm rot="5400000">
              <a:off x="3440160" y="2959560"/>
              <a:ext cx="3786840" cy="762840"/>
            </a:xfrm>
            <a:prstGeom prst="bentConnector4">
              <a:avLst>
                <a:gd name="adj1" fmla="val 161"/>
                <a:gd name="adj2" fmla="val 135788"/>
              </a:avLst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ructure From Mot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441" r="2226" b="0"/>
          <a:stretch/>
        </p:blipFill>
        <p:spPr>
          <a:xfrm>
            <a:off x="1066680" y="1379520"/>
            <a:ext cx="2687760" cy="18241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49" name="fgs3u" descr=""/>
          <p:cNvPicPr/>
          <p:nvPr/>
        </p:nvPicPr>
        <p:blipFill>
          <a:blip r:embed="rId2"/>
          <a:srcRect l="0" t="1216" r="2488" b="0"/>
          <a:stretch/>
        </p:blipFill>
        <p:spPr>
          <a:xfrm>
            <a:off x="5334120" y="1393920"/>
            <a:ext cx="2666880" cy="18018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952880" y="33526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stimated horizontal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gdepth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372924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3352680"/>
            <a:ext cx="388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Rigid scene + camera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00" y="54100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epth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81968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 rot="1843800">
            <a:off x="6552720" y="3886200"/>
            <a:ext cx="381240" cy="914400"/>
          </a:xfrm>
          <a:custGeom>
            <a:avLst/>
            <a:gdLst>
              <a:gd name="textAreaLeft" fmla="*/ 51120 w 381240"/>
              <a:gd name="textAreaRight" fmla="*/ 330120 w 3812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dvantage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est of Everythin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cal OFC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High-quality initial flow estimates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obust local scale estimates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lobal OFC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mprove flow smoothness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lobal Match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he optimal formulation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rrect errors caused by poor gradient quality and hierarchical process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sults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ast convergence, high accuracy, simultaneous motion boundary det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xperiment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Quantitative Measure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rue:                  , estimate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ur error measur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df curve of     ,  Average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arron’s angular error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[Barron 94]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rror magnitude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046240" y="1395360"/>
                <a:ext cx="15447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548320" y="1473120"/>
                <a:ext cx="12668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752480" y="4038480"/>
                <a:ext cx="45799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∠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Δθ</m:t>
                        </m:r>
                      </m:e>
                    </m:bar>
                    <m:sSup>
                      <m:e>
                        <m:r>
                          <m:t xml:space="preserve">(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Δ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905120" y="5334120"/>
                <a:ext cx="4100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|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|</m:t>
                        </m:r>
                        <m:r>
                          <m:t xml:space="preserve">ΔV</m:t>
                        </m:r>
                        <m:r>
                          <m:t xml:space="preserve">|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ixel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|</m:t>
                    </m:r>
                    <m:r>
                      <m:t xml:space="preserve">ΔV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36760" y="2463840"/>
                <a:ext cx="3216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l sit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352680" y="3200400"/>
                <a:ext cx="2286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105520" y="3200400"/>
                <a:ext cx="2538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S: Translating Square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omebrew, ideal setting, test performance upper bound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1471680" cy="14716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333" name=""/>
          <p:cNvSpPr/>
          <p:nvPr/>
        </p:nvSpPr>
        <p:spPr>
          <a:xfrm>
            <a:off x="1071360" y="441972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4x64, 1pixel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u1v13true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984120" y="5105520"/>
            <a:ext cx="36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ndtruth (croppe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 estimate looks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S: Flow Estimate Plot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337" name="u1v13ls" descr=""/>
          <p:cNvPicPr/>
          <p:nvPr/>
        </p:nvPicPr>
        <p:blipFill>
          <a:blip r:embed="rId1"/>
          <a:srcRect l="13022" t="7815" r="8848" b="11447"/>
          <a:stretch/>
        </p:blipFill>
        <p:spPr>
          <a:xfrm>
            <a:off x="762120" y="1676520"/>
            <a:ext cx="2286000" cy="2361960"/>
          </a:xfrm>
          <a:prstGeom prst="rect">
            <a:avLst/>
          </a:prstGeom>
          <a:ln w="0">
            <a:noFill/>
          </a:ln>
        </p:spPr>
      </p:pic>
      <p:pic>
        <p:nvPicPr>
          <p:cNvPr id="338" name="u1v13s1" descr=""/>
          <p:cNvPicPr/>
          <p:nvPr/>
        </p:nvPicPr>
        <p:blipFill>
          <a:blip r:embed="rId2"/>
          <a:srcRect l="18759" t="5557" r="16633" b="11115"/>
          <a:stretch/>
        </p:blipFill>
        <p:spPr>
          <a:xfrm>
            <a:off x="5943600" y="167652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339" name="u1v13ba" descr=""/>
          <p:cNvPicPr/>
          <p:nvPr/>
        </p:nvPicPr>
        <p:blipFill>
          <a:blip r:embed="rId3"/>
          <a:srcRect l="18759" t="5557" r="16633" b="11115"/>
          <a:stretch/>
        </p:blipFill>
        <p:spPr>
          <a:xfrm>
            <a:off x="3352680" y="16765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678320" y="39625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8520" y="396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9040" y="396252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1 (S2 is cl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9880" y="4495680"/>
            <a:ext cx="53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3 looks the same as the groundtr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525780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1, S2, S3: results from our Step I, II, III (f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S: Quantitative Comparis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1828800"/>
            <a:ext cx="4114800" cy="2536560"/>
            <a:chOff x="609480" y="1828800"/>
            <a:chExt cx="4114800" cy="2536560"/>
          </a:xfrm>
        </p:grpSpPr>
        <p:sp>
          <p:nvSpPr>
            <p:cNvPr id="347" name=""/>
            <p:cNvSpPr/>
            <p:nvPr/>
          </p:nvSpPr>
          <p:spPr>
            <a:xfrm>
              <a:off x="609480" y="1832040"/>
              <a:ext cx="4114800" cy="253332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LS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        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6.14       0.151      0.09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    8.04       0.209      0.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’       5.88       0.149      0.08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1         1.09       0.0266    0.01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2         1.09       0.0264    0.017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    1.15e-2  3.50e-4   2.23e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1582560" y="1828800"/>
                  <a:ext cx="6829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2479680" y="1828800"/>
                  <a:ext cx="80496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609480" y="2286000"/>
              <a:ext cx="41148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32080" y="1828800"/>
              <a:ext cx="0" cy="25146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3676680" y="1905120"/>
                  <a:ext cx="68256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3" name="u1v13comp" descr=""/>
          <p:cNvPicPr/>
          <p:nvPr/>
        </p:nvPicPr>
        <p:blipFill>
          <a:blip r:embed="rId1"/>
          <a:srcRect l="5000" t="5000" r="8330" b="3330"/>
          <a:stretch/>
        </p:blipFill>
        <p:spPr>
          <a:xfrm>
            <a:off x="4800600" y="1371600"/>
            <a:ext cx="3962520" cy="4191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7316640" y="2743200"/>
            <a:ext cx="61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B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T: Translating Tree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1690560" cy="1690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357" name=""/>
          <p:cNvSpPr/>
          <p:nvPr/>
        </p:nvSpPr>
        <p:spPr>
          <a:xfrm>
            <a:off x="1219320" y="3429000"/>
            <a:ext cx="259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50x150 (Barron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38080" y="3962520"/>
            <a:ext cx="3657600" cy="1317240"/>
            <a:chOff x="838080" y="3962520"/>
            <a:chExt cx="3657600" cy="1317240"/>
          </a:xfrm>
        </p:grpSpPr>
        <p:sp>
          <p:nvSpPr>
            <p:cNvPr id="359" name=""/>
            <p:cNvSpPr/>
            <p:nvPr/>
          </p:nvSpPr>
          <p:spPr>
            <a:xfrm>
              <a:off x="838080" y="396612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2.60     0.128    0.07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0.248   0.0167  0.009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1676520" y="3962520"/>
                  <a:ext cx="6825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2590920" y="3962520"/>
                  <a:ext cx="80460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"/>
            <p:cNvSpPr/>
            <p:nvPr/>
          </p:nvSpPr>
          <p:spPr>
            <a:xfrm>
              <a:off x="838080" y="441972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7920" y="3962520"/>
              <a:ext cx="0" cy="12952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3657600" y="4038480"/>
                  <a:ext cx="6825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65" name="ttcomp" descr=""/>
          <p:cNvPicPr/>
          <p:nvPr/>
        </p:nvPicPr>
        <p:blipFill>
          <a:blip r:embed="rId2"/>
          <a:srcRect l="5000" t="5000" r="6669" b="3330"/>
          <a:stretch/>
        </p:blipFill>
        <p:spPr>
          <a:xfrm>
            <a:off x="4572000" y="15238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T: Diverging Tree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429000"/>
            <a:ext cx="259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50x150 (Barron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838080" y="3962520"/>
            <a:ext cx="3657600" cy="1317240"/>
            <a:chOff x="838080" y="3962520"/>
            <a:chExt cx="3657600" cy="1317240"/>
          </a:xfrm>
        </p:grpSpPr>
        <p:sp>
          <p:nvSpPr>
            <p:cNvPr id="370" name=""/>
            <p:cNvSpPr/>
            <p:nvPr/>
          </p:nvSpPr>
          <p:spPr>
            <a:xfrm>
              <a:off x="838080" y="396612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6.36      0.182      0.1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2.60      0.0813    0.05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676520" y="3962520"/>
                  <a:ext cx="6825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2590920" y="3962520"/>
                  <a:ext cx="80460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838080" y="441972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7920" y="3962520"/>
              <a:ext cx="0" cy="12952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3657600" y="4038480"/>
                  <a:ext cx="6825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76" name="dtcomp" descr=""/>
          <p:cNvPicPr/>
          <p:nvPr/>
        </p:nvPicPr>
        <p:blipFill>
          <a:blip r:embed="rId1"/>
          <a:srcRect l="5000" t="5000" r="8330" b="3330"/>
          <a:stretch/>
        </p:blipFill>
        <p:spPr>
          <a:xfrm>
            <a:off x="4572000" y="1447920"/>
            <a:ext cx="3962520" cy="41907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rcRect l="179" t="0" r="0" b="0"/>
          <a:stretch/>
        </p:blipFill>
        <p:spPr>
          <a:xfrm>
            <a:off x="1674720" y="1676520"/>
            <a:ext cx="1687680" cy="1690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378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yoscomp" descr=""/>
          <p:cNvPicPr/>
          <p:nvPr/>
        </p:nvPicPr>
        <p:blipFill>
          <a:blip r:embed="rId1"/>
          <a:srcRect l="5000" t="5000" r="8330" b="3330"/>
          <a:stretch/>
        </p:blipFill>
        <p:spPr>
          <a:xfrm>
            <a:off x="4648320" y="152388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YOS: Yosemite Fly-Through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62120" y="4267080"/>
            <a:ext cx="3657600" cy="1317240"/>
            <a:chOff x="762120" y="4267080"/>
            <a:chExt cx="3657600" cy="1317240"/>
          </a:xfrm>
        </p:grpSpPr>
        <p:sp>
          <p:nvSpPr>
            <p:cNvPr id="382" name=""/>
            <p:cNvSpPr/>
            <p:nvPr/>
          </p:nvSpPr>
          <p:spPr>
            <a:xfrm>
              <a:off x="762120" y="427068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2.71      0.185      0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1.92      0.120      0.07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600200" y="4267080"/>
                  <a:ext cx="6825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2514600" y="4267080"/>
                  <a:ext cx="80496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5" name=""/>
            <p:cNvSpPr/>
            <p:nvPr/>
          </p:nvSpPr>
          <p:spPr>
            <a:xfrm>
              <a:off x="762120" y="472428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4267080"/>
              <a:ext cx="0" cy="1295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3581280" y="4343400"/>
                  <a:ext cx="6829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8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rcRect l="0" t="345" r="0" b="0"/>
          <a:stretch/>
        </p:blipFill>
        <p:spPr>
          <a:xfrm>
            <a:off x="1143000" y="1379520"/>
            <a:ext cx="2889360" cy="22957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390" name=""/>
          <p:cNvSpPr/>
          <p:nvPr/>
        </p:nvSpPr>
        <p:spPr>
          <a:xfrm>
            <a:off x="453960" y="373392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16x252 (Barron, cloud exclu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dtttcomp" descr=""/>
          <p:cNvPicPr/>
          <p:nvPr/>
        </p:nvPicPr>
        <p:blipFill>
          <a:blip r:embed="rId1"/>
          <a:srcRect l="5000" t="5000" r="6669" b="3330"/>
          <a:stretch/>
        </p:blipFill>
        <p:spPr>
          <a:xfrm>
            <a:off x="4572000" y="15238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TTT: Motion Discontinuitie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38080" y="4114800"/>
            <a:ext cx="3657600" cy="1317240"/>
            <a:chOff x="838080" y="4114800"/>
            <a:chExt cx="3657600" cy="1317240"/>
          </a:xfrm>
        </p:grpSpPr>
        <p:sp>
          <p:nvSpPr>
            <p:cNvPr id="394" name=""/>
            <p:cNvSpPr/>
            <p:nvPr/>
          </p:nvSpPr>
          <p:spPr>
            <a:xfrm>
              <a:off x="838080" y="411840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10.9      0.331      0.2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4.03      0.132      0.08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1676160" y="4114800"/>
                  <a:ext cx="6829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2590560" y="4114800"/>
                  <a:ext cx="80496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7" name=""/>
            <p:cNvSpPr/>
            <p:nvPr/>
          </p:nvSpPr>
          <p:spPr>
            <a:xfrm>
              <a:off x="838080" y="457200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7560" y="4114800"/>
              <a:ext cx="0" cy="12952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657600" y="4191120"/>
                  <a:ext cx="68256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0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3080" y="350532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T + DT + cookie-cu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dtttmask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1719360" cy="1719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1719360" cy="1719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cene Dynamics Understanding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’re moving? How?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urveillanc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vent analysi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ideo compress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4202" r="0" b="0"/>
          <a:stretch/>
        </p:blipFill>
        <p:spPr>
          <a:xfrm>
            <a:off x="1371600" y="1447920"/>
            <a:ext cx="2438280" cy="1733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59" name="taxis3u" descr=""/>
          <p:cNvPicPr/>
          <p:nvPr/>
        </p:nvPicPr>
        <p:blipFill>
          <a:blip r:embed="rId2"/>
          <a:srcRect l="0" t="4206" r="0" b="0"/>
          <a:stretch/>
        </p:blipFill>
        <p:spPr>
          <a:xfrm>
            <a:off x="5334120" y="1447920"/>
            <a:ext cx="2439720" cy="1734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60" name="taxiesc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458800" cy="1825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952880" y="327672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stimated horizontal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480" y="579132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otion smoot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TTT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46483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2666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4880" y="571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73280" y="57150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dtttbau" descr=""/>
          <p:cNvPicPr/>
          <p:nvPr/>
        </p:nvPicPr>
        <p:blipFill>
          <a:blip r:embed="rId1"/>
          <a:stretch/>
        </p:blipFill>
        <p:spPr>
          <a:xfrm>
            <a:off x="17524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10" name="dttts3u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u-, v-components as intensity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dtttbav" descr=""/>
          <p:cNvPicPr/>
          <p:nvPr/>
        </p:nvPicPr>
        <p:blipFill>
          <a:blip r:embed="rId3"/>
          <a:stretch/>
        </p:blipFill>
        <p:spPr>
          <a:xfrm>
            <a:off x="3809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13" name="dttts3v" descr=""/>
          <p:cNvPicPr/>
          <p:nvPr/>
        </p:nvPicPr>
        <p:blipFill>
          <a:blip r:embed="rId4"/>
          <a:stretch/>
        </p:blipFill>
        <p:spPr>
          <a:xfrm>
            <a:off x="3809880" y="1905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14" name="dtttmb" descr=""/>
          <p:cNvPicPr/>
          <p:nvPr/>
        </p:nvPicPr>
        <p:blipFill>
          <a:blip r:embed="rId5"/>
          <a:stretch/>
        </p:blipFill>
        <p:spPr>
          <a:xfrm>
            <a:off x="5867280" y="1905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15" name="dtttmb_ba" descr=""/>
          <p:cNvPicPr/>
          <p:nvPr/>
        </p:nvPicPr>
        <p:blipFill>
          <a:blip r:embed="rId6"/>
          <a:stretch/>
        </p:blipFill>
        <p:spPr>
          <a:xfrm>
            <a:off x="58672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286000" y="5715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AXI: Hamburg Taxi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833560" cy="21034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419" name="taxi_our1_fu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778120" cy="2100240"/>
          </a:xfrm>
          <a:prstGeom prst="rect">
            <a:avLst/>
          </a:prstGeom>
          <a:ln w="0">
            <a:noFill/>
          </a:ln>
        </p:spPr>
      </p:pic>
      <p:pic>
        <p:nvPicPr>
          <p:cNvPr id="420" name="taxi_ba_fu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2778120" cy="2100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50480" y="3276720"/>
            <a:ext cx="312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56x190, (Barron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 3.0 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92920" y="32767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276720"/>
            <a:ext cx="5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taxis3u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2824200" cy="2095560"/>
          </a:xfrm>
          <a:prstGeom prst="rect">
            <a:avLst/>
          </a:prstGeom>
          <a:ln w="0">
            <a:noFill/>
          </a:ln>
        </p:spPr>
      </p:pic>
      <p:pic>
        <p:nvPicPr>
          <p:cNvPr id="425" name="taxiemap" descr=""/>
          <p:cNvPicPr/>
          <p:nvPr/>
        </p:nvPicPr>
        <p:blipFill>
          <a:blip r:embed="rId5"/>
          <a:stretch/>
        </p:blipFill>
        <p:spPr>
          <a:xfrm>
            <a:off x="3124080" y="3962520"/>
            <a:ext cx="2833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taxies" descr=""/>
          <p:cNvPicPr/>
          <p:nvPr/>
        </p:nvPicPr>
        <p:blipFill>
          <a:blip r:embed="rId6"/>
          <a:stretch/>
        </p:blipFill>
        <p:spPr>
          <a:xfrm>
            <a:off x="6095880" y="3962520"/>
            <a:ext cx="2833920" cy="210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810600" y="60199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24120" y="60199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7400" y="6019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affic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31" name="traffics3u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2" name="trafficemap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3" name="traffices" descr=""/>
          <p:cNvPicPr/>
          <p:nvPr/>
        </p:nvPicPr>
        <p:blipFill>
          <a:blip r:embed="rId3"/>
          <a:stretch/>
        </p:blipFill>
        <p:spPr>
          <a:xfrm>
            <a:off x="5943600" y="36576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4" name="trafficbau" descr=""/>
          <p:cNvPicPr/>
          <p:nvPr/>
        </p:nvPicPr>
        <p:blipFill>
          <a:blip r:embed="rId4"/>
          <a:stretch/>
        </p:blipFill>
        <p:spPr>
          <a:xfrm>
            <a:off x="571500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352680" y="190512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512x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(Na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.0 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81680" y="320040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34640" y="62485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5520" y="62485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19320" y="6248520"/>
            <a:ext cx="7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685800" y="685800"/>
            <a:ext cx="2595600" cy="25956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epsi Ca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42" name="pepsifbau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182680" cy="2182680"/>
          </a:xfrm>
          <a:prstGeom prst="rect">
            <a:avLst/>
          </a:prstGeom>
          <a:ln w="0">
            <a:noFill/>
          </a:ln>
        </p:spPr>
      </p:pic>
      <p:pic>
        <p:nvPicPr>
          <p:cNvPr id="443" name="pepsifs3u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2297160" cy="2297160"/>
          </a:xfrm>
          <a:prstGeom prst="rect">
            <a:avLst/>
          </a:prstGeom>
          <a:ln w="0">
            <a:noFill/>
          </a:ln>
        </p:spPr>
      </p:pic>
      <p:pic>
        <p:nvPicPr>
          <p:cNvPr id="444" name="pepsifes" descr=""/>
          <p:cNvPicPr/>
          <p:nvPr/>
        </p:nvPicPr>
        <p:blipFill>
          <a:blip r:embed="rId3"/>
          <a:stretch/>
        </p:blipFill>
        <p:spPr>
          <a:xfrm>
            <a:off x="5181480" y="3886200"/>
            <a:ext cx="2297160" cy="22971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581280" y="1981080"/>
            <a:ext cx="15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01x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(Bl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53341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468200" y="2743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35080" y="502920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1295280" y="1143000"/>
            <a:ext cx="2286000" cy="2286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G: Flower Garde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025800" cy="2016000"/>
          </a:xfrm>
          <a:prstGeom prst="rect">
            <a:avLst/>
          </a:prstGeom>
          <a:ln w="0">
            <a:noFill/>
          </a:ln>
        </p:spPr>
      </p:pic>
      <p:pic>
        <p:nvPicPr>
          <p:cNvPr id="452" name="FG_BA_U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3052800" cy="20782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-2520" y="3124080"/>
            <a:ext cx="29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60x240 (Bl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: 7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67080" y="312408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fgemap" descr=""/>
          <p:cNvPicPr/>
          <p:nvPr/>
        </p:nvPicPr>
        <p:blipFill>
          <a:blip r:embed="rId3"/>
          <a:stretch/>
        </p:blipFill>
        <p:spPr>
          <a:xfrm>
            <a:off x="3048120" y="3962520"/>
            <a:ext cx="3035160" cy="2022480"/>
          </a:xfrm>
          <a:prstGeom prst="rect">
            <a:avLst/>
          </a:prstGeom>
          <a:ln w="0">
            <a:noFill/>
          </a:ln>
        </p:spPr>
      </p:pic>
      <p:pic>
        <p:nvPicPr>
          <p:cNvPr id="456" name="fgs3u" descr=""/>
          <p:cNvPicPr/>
          <p:nvPr/>
        </p:nvPicPr>
        <p:blipFill>
          <a:blip r:embed="rId4"/>
          <a:stretch/>
        </p:blipFill>
        <p:spPr>
          <a:xfrm>
            <a:off x="0" y="3962520"/>
            <a:ext cx="3035160" cy="2022480"/>
          </a:xfrm>
          <a:prstGeom prst="rect">
            <a:avLst/>
          </a:prstGeom>
          <a:ln w="0">
            <a:noFill/>
          </a:ln>
        </p:spPr>
      </p:pic>
      <p:pic>
        <p:nvPicPr>
          <p:cNvPr id="457" name="fges" descr=""/>
          <p:cNvPicPr/>
          <p:nvPr/>
        </p:nvPicPr>
        <p:blipFill>
          <a:blip r:embed="rId5"/>
          <a:stretch/>
        </p:blipFill>
        <p:spPr>
          <a:xfrm>
            <a:off x="6108840" y="3962520"/>
            <a:ext cx="3035160" cy="2022480"/>
          </a:xfrm>
          <a:prstGeom prst="rect">
            <a:avLst/>
          </a:prstGeom>
          <a:ln w="0">
            <a:noFill/>
          </a:ln>
        </p:spPr>
      </p:pic>
      <p:pic>
        <p:nvPicPr>
          <p:cNvPr id="458" name="fg_our1_u" descr=""/>
          <p:cNvPicPr/>
          <p:nvPr/>
        </p:nvPicPr>
        <p:blipFill>
          <a:blip r:embed="rId6"/>
          <a:stretch/>
        </p:blipFill>
        <p:spPr>
          <a:xfrm>
            <a:off x="6100920" y="1066680"/>
            <a:ext cx="3043080" cy="2071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716292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10600" y="60199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24120" y="60199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67400" y="6019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nclusion and Discuss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ntributions (1/2)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ormul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ore complete design, minimal parameter tun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Adaptive local scales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rength of two error terms automatically balanced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-frame matching to avoid visibility problem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olution: 3-step optimiz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obust initial estimates and scale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odel parameter self-learn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Inherit merits of 3 methods and overcome shortcoming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ntributions (2/2)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igh accuracy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st convergenc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y product: motion boundarie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ignificanc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oundation for higher-level (model-based) visual motion analysi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ethodology applicable to other low-level vision problem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uture Work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n-rigid motion estimation (medical, human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igher-level visual motion analysi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Motion segmentation, model selection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Occlusion reasoning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ayered / contour-based representation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arping w/ discontinuitie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finemen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yesian belief propagation (BBP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etter global optimization (BBP, Graph cuts etc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 Motion-Based Bayesian Approach to Aerial Point-Target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tection and Tracking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arget Detection and Tracking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4648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 tiny airplane --- only observable by its distinct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943000" cy="22068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grpSp>
        <p:nvGrpSpPr>
          <p:cNvPr id="66" name=""/>
          <p:cNvGrpSpPr/>
          <p:nvPr/>
        </p:nvGrpSpPr>
        <p:grpSpPr>
          <a:xfrm>
            <a:off x="4952880" y="2057400"/>
            <a:ext cx="2943360" cy="3142080"/>
            <a:chOff x="4952880" y="2057400"/>
            <a:chExt cx="2943360" cy="3142080"/>
          </a:xfrm>
        </p:grpSpPr>
        <p:sp>
          <p:nvSpPr>
            <p:cNvPr id="67" name=""/>
            <p:cNvSpPr/>
            <p:nvPr/>
          </p:nvSpPr>
          <p:spPr>
            <a:xfrm>
              <a:off x="5485680" y="4800600"/>
              <a:ext cx="21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Tracking 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952880" y="2057400"/>
              <a:ext cx="2943360" cy="2206800"/>
            </a:xfrm>
            <a:prstGeom prst="rect">
              <a:avLst/>
            </a:prstGeom>
            <a:ln w="76320">
              <a:solidFill>
                <a:srgbClr val="cccc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he Problem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AV See And Avoid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oint target detection and trackin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2943000" cy="220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2943360" cy="220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he Algorithm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ate variable: 2D position and velocity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rack initialization, termination and maintenanc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57200" y="1527480"/>
            <a:ext cx="8153640" cy="1694520"/>
            <a:chOff x="457200" y="1527480"/>
            <a:chExt cx="8153640" cy="1694520"/>
          </a:xfrm>
        </p:grpSpPr>
        <p:sp>
          <p:nvSpPr>
            <p:cNvPr id="480" name=""/>
            <p:cNvSpPr/>
            <p:nvPr/>
          </p:nvSpPr>
          <p:spPr>
            <a:xfrm>
              <a:off x="1828800" y="1527480"/>
              <a:ext cx="1905120" cy="1008720"/>
            </a:xfrm>
            <a:prstGeom prst="rect">
              <a:avLst/>
            </a:prstGeom>
            <a:solidFill>
              <a:srgbClr val="a7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ion-Ba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yesi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62720" y="1527480"/>
              <a:ext cx="1371600" cy="1008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alm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4800" y="2823120"/>
              <a:ext cx="1700280" cy="398880"/>
            </a:xfrm>
            <a:prstGeom prst="rect">
              <a:avLst/>
            </a:prstGeom>
            <a:solidFill>
              <a:srgbClr val="e5e5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7200" y="2057400"/>
              <a:ext cx="137160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4" name=""/>
            <p:cNvCxnSpPr>
              <a:endCxn id="482" idx="3"/>
            </p:cNvCxnSpPr>
            <p:nvPr/>
          </p:nvCxnSpPr>
          <p:spPr>
            <a:xfrm flipV="1" rot="10800000">
              <a:off x="5814360" y="2037960"/>
              <a:ext cx="1881720" cy="984960"/>
            </a:xfrm>
            <a:prstGeom prst="bentConnector3">
              <a:avLst>
                <a:gd name="adj1" fmla="val 35514"/>
              </a:avLst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485" name=""/>
            <p:cNvCxnSpPr>
              <a:stCxn id="482" idx="1"/>
              <a:endCxn id="480" idx="2"/>
            </p:cNvCxnSpPr>
            <p:nvPr/>
          </p:nvCxnSpPr>
          <p:spPr>
            <a:xfrm rot="10800000">
              <a:off x="2780640" y="2539440"/>
              <a:ext cx="1334160" cy="483120"/>
            </a:xfrm>
            <a:prstGeom prst="bentConnector2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457920" y="1676520"/>
              <a:ext cx="1355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3920" y="167652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Measur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&amp; Covari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87" idx="1"/>
              <a:endCxn id="487" idx="3"/>
            </p:cNvCxnSpPr>
            <p:nvPr/>
          </p:nvCxnSpPr>
          <p:spPr>
            <a:xfrm>
              <a:off x="3733920" y="2026800"/>
              <a:ext cx="1808640" cy="1080"/>
            </a:xfrm>
            <a:prstGeom prst="straightConnector1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89" name=""/>
            <p:cNvSpPr/>
            <p:nvPr/>
          </p:nvSpPr>
          <p:spPr>
            <a:xfrm>
              <a:off x="7010280" y="1676520"/>
              <a:ext cx="155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State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Covari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0" name=""/>
            <p:cNvCxnSpPr>
              <a:stCxn id="481" idx="3"/>
            </p:cNvCxnSpPr>
            <p:nvPr/>
          </p:nvCxnSpPr>
          <p:spPr>
            <a:xfrm>
              <a:off x="6934320" y="2031480"/>
              <a:ext cx="1676880" cy="1080"/>
            </a:xfrm>
            <a:prstGeom prst="straightConnector1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91" name=""/>
            <p:cNvSpPr/>
            <p:nvPr/>
          </p:nvSpPr>
          <p:spPr>
            <a:xfrm>
              <a:off x="2896920" y="2666880"/>
              <a:ext cx="77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r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tion-Based Bayesian Detect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ackground motion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arametric optical flow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bject candidates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itting outlier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otion: 3x3 SSD + fitt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dependent mo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ayesian mod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ugment candidate se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alidate/update mo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4" name="f16502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5" name="f16502_om2" descr=""/>
          <p:cNvPicPr/>
          <p:nvPr/>
        </p:nvPicPr>
        <p:blipFill>
          <a:blip r:embed="rId2"/>
          <a:stretch/>
        </p:blipFill>
        <p:spPr>
          <a:xfrm>
            <a:off x="5867280" y="2895480"/>
            <a:ext cx="914400" cy="91440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496" name="f16503_om2" descr=""/>
          <p:cNvPicPr/>
          <p:nvPr/>
        </p:nvPicPr>
        <p:blipFill>
          <a:blip r:embed="rId3"/>
          <a:stretch/>
        </p:blipFill>
        <p:spPr>
          <a:xfrm>
            <a:off x="5380200" y="5334120"/>
            <a:ext cx="571320" cy="5713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497" name="f16502_om4" descr=""/>
          <p:cNvPicPr/>
          <p:nvPr/>
        </p:nvPicPr>
        <p:blipFill>
          <a:blip r:embed="rId4"/>
          <a:stretch/>
        </p:blipFill>
        <p:spPr>
          <a:xfrm>
            <a:off x="5867280" y="3886200"/>
            <a:ext cx="914400" cy="91440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498" name="f19000" descr=""/>
          <p:cNvPicPr/>
          <p:nvPr/>
        </p:nvPicPr>
        <p:blipFill>
          <a:blip r:embed="rId5"/>
          <a:stretch/>
        </p:blipFill>
        <p:spPr>
          <a:xfrm>
            <a:off x="7467480" y="1905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9" name="f19000_om2" descr=""/>
          <p:cNvPicPr/>
          <p:nvPr/>
        </p:nvPicPr>
        <p:blipFill>
          <a:blip r:embed="rId6"/>
          <a:stretch/>
        </p:blipFill>
        <p:spPr>
          <a:xfrm>
            <a:off x="7467480" y="2895480"/>
            <a:ext cx="914400" cy="91440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500" name="f19000_om4" descr=""/>
          <p:cNvPicPr/>
          <p:nvPr/>
        </p:nvPicPr>
        <p:blipFill>
          <a:blip r:embed="rId7"/>
          <a:stretch/>
        </p:blipFill>
        <p:spPr>
          <a:xfrm>
            <a:off x="7467480" y="3886200"/>
            <a:ext cx="914400" cy="91440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523880" y="4176720"/>
                <a:ext cx="4017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2" name="f16503_om2b" descr=""/>
          <p:cNvPicPr/>
          <p:nvPr/>
        </p:nvPicPr>
        <p:blipFill>
          <a:blip r:embed="rId8"/>
          <a:stretch/>
        </p:blipFill>
        <p:spPr>
          <a:xfrm>
            <a:off x="5989680" y="5334120"/>
            <a:ext cx="571320" cy="5713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503" name="f16503_om4" descr=""/>
          <p:cNvPicPr/>
          <p:nvPr/>
        </p:nvPicPr>
        <p:blipFill>
          <a:blip r:embed="rId9"/>
          <a:stretch/>
        </p:blipFill>
        <p:spPr>
          <a:xfrm>
            <a:off x="6629400" y="5334120"/>
            <a:ext cx="571680" cy="5713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504" name="f16503_om4p" descr=""/>
          <p:cNvPicPr/>
          <p:nvPr/>
        </p:nvPicPr>
        <p:blipFill>
          <a:blip r:embed="rId10"/>
          <a:stretch/>
        </p:blipFill>
        <p:spPr>
          <a:xfrm>
            <a:off x="7238880" y="5334120"/>
            <a:ext cx="571680" cy="5713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505" name="f16503_om4pb" descr=""/>
          <p:cNvPicPr/>
          <p:nvPr/>
        </p:nvPicPr>
        <p:blipFill>
          <a:blip r:embed="rId11"/>
          <a:stretch/>
        </p:blipFill>
        <p:spPr>
          <a:xfrm>
            <a:off x="7848720" y="5334120"/>
            <a:ext cx="571320" cy="5713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506" name=""/>
          <p:cNvSpPr/>
          <p:nvPr/>
        </p:nvSpPr>
        <p:spPr>
          <a:xfrm>
            <a:off x="5184360" y="14479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F16502: one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93680" y="14479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No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879440" y="4952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F165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xperiment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800-frame data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ne target 1x2-3x3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utter (ground objects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amera wobbl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w image quality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arget in track since 2</a:t>
            </a:r>
            <a:r>
              <a:rPr b="0" lang="en-US" sz="2400" spc="-1" strike="noStrike" baseline="30000">
                <a:solidFill>
                  <a:srgbClr val="008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frame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 false detec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rror: mean=0.88, sd=0.44 pixel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how demo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11" name="orig18000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1828800" cy="13716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512" name="mark18000" descr=""/>
          <p:cNvPicPr/>
          <p:nvPr/>
        </p:nvPicPr>
        <p:blipFill>
          <a:blip r:embed="rId2"/>
          <a:stretch/>
        </p:blipFill>
        <p:spPr>
          <a:xfrm>
            <a:off x="6095880" y="3657600"/>
            <a:ext cx="1828800" cy="13716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ublications</a:t>
            </a:r>
            <a:endParaRPr b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Patent Pending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"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Document Image Matching and Annotation Lifting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", with Marshall Bern and David Goldberg,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US Patent Application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 (filed by Xerox Corp.), September 2001.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ook Chapter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1.   Ming Ye and Robert M. Haralick, "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Image Flow Estimation Using Facet Model and Covariance Propagation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",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Vision Interface : Real World Applications of Computer Vision (Machine Perception and Artificial Intelligence Book Series Vol. 35)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, (Ed.) M. Cheriet and Y. H. Yang, World Scientific Pub Co., pp. 209-241, Jan. 2000.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ubmission/Preparation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2.    Ming Ye, Robert M. Haralick and Linda G. Shapiro, '' 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Estimating Piecewise-Smooth Optical Flow with Global Matching and Graduated Optimization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'', (submitted to)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IEEE Trans. on Pattern Analysis and Machine Intelligence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, Feb. 2002. 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3.    “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A motion-based Bayesian approach to aerial point target detection and tracking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'' (in preparation).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onference Papers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4.    Ming Ye, Robert M. Haralick  and Linda G. Shapiro, " 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Estimating Optical flow Using a Global Matching Formulation and Graduated Optimization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 ", (accepted to)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I6th International Conference on Image Processing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, 2002. 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5.    Ming Ye and Robert M. Haralick, "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Local Gradient Global Matching Piecewise-Smooth Optical Flow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 ",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IEEE Computer Society Conference on Computer Vision and Pattern Recognition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,  Vol. 2, pp. 712-717, 2001.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6.    Ming Ye, Marshall Bern and David Goldberg, " Document Image Matching and Annotation Lifting",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Proc. International Conference on Document Analysis and Recognition, 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pp. 753-760, 2001. 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7.    Ming Ye and Robert M. Haralick, "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Two-Stage Robust Optical Flow Estimation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",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IEEE Computer Society Conference on Computer Vision and Pattern Recognition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, Vol. 2, pp. 623-8, 2000.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8.    Ming Ye and Robert M. Haralick, "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Optical Flow From A Least-Trimmed Squares Based Adaptive Approach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", 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Proc. 15th International Conference on Pattern Recognition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, Vol. 3, pp. 1052-1055, 2000.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9.    S. Aksoy, M. Ye, M. Schauf, M. Song, Y. Wang, R. M. Haralick, J. R. Parker, J. Pivovarov, D. Royko, S. Sun and S. Farneback, "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Algorithm Performance Contest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",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Proc. 15th International Conference on Pattern Recognition,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 Vol. 4, pp. 870-876, 2000. ICPR'00 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10.   Ming Ye and Robert M. Haralick, "</a:t>
            </a: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Image Flow Estimation Using Facet Model and Covariance Propagation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",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Proc. Vision Interface'98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, pp. 51-58, 1998.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mage Distortion Measurement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70" name="losti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782720" cy="23511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71" name="losti1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727280" cy="23446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72" name="vec2" descr=""/>
          <p:cNvPicPr/>
          <p:nvPr/>
        </p:nvPicPr>
        <p:blipFill>
          <a:blip r:embed="rId3"/>
          <a:srcRect l="5556" t="0" r="0" b="2429"/>
          <a:stretch/>
        </p:blipFill>
        <p:spPr>
          <a:xfrm>
            <a:off x="6019920" y="1600200"/>
            <a:ext cx="1915920" cy="2295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grpSp>
        <p:nvGrpSpPr>
          <p:cNvPr id="73" name=""/>
          <p:cNvGrpSpPr/>
          <p:nvPr/>
        </p:nvGrpSpPr>
        <p:grpSpPr>
          <a:xfrm>
            <a:off x="990720" y="3580920"/>
            <a:ext cx="2514600" cy="1676520"/>
            <a:chOff x="990720" y="3580920"/>
            <a:chExt cx="2514600" cy="1676520"/>
          </a:xfrm>
        </p:grpSpPr>
        <p:sp>
          <p:nvSpPr>
            <p:cNvPr id="74" name=""/>
            <p:cNvSpPr/>
            <p:nvPr/>
          </p:nvSpPr>
          <p:spPr>
            <a:xfrm flipV="1">
              <a:off x="1371600" y="3580560"/>
              <a:ext cx="2133720" cy="167652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-360 h 1676520"/>
                <a:gd name="textAreaBottom" fmla="*/ 167652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sm_scanner" descr=""/>
            <p:cNvPicPr/>
            <p:nvPr/>
          </p:nvPicPr>
          <p:blipFill>
            <a:blip r:embed="rId4"/>
            <a:stretch/>
          </p:blipFill>
          <p:spPr>
            <a:xfrm>
              <a:off x="990720" y="4114800"/>
              <a:ext cx="68580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sm_copier" descr=""/>
            <p:cNvPicPr/>
            <p:nvPr/>
          </p:nvPicPr>
          <p:blipFill>
            <a:blip r:embed="rId5"/>
            <a:stretch/>
          </p:blipFill>
          <p:spPr>
            <a:xfrm>
              <a:off x="2438280" y="4572000"/>
              <a:ext cx="68580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sm_printer" descr=""/>
            <p:cNvPicPr/>
            <p:nvPr/>
          </p:nvPicPr>
          <p:blipFill>
            <a:blip r:embed="rId6"/>
            <a:stretch/>
          </p:blipFill>
          <p:spPr>
            <a:xfrm>
              <a:off x="1143000" y="4572000"/>
              <a:ext cx="6858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sm_faxprinter" descr=""/>
            <p:cNvPicPr/>
            <p:nvPr/>
          </p:nvPicPr>
          <p:blipFill>
            <a:blip r:embed="rId7"/>
            <a:stretch/>
          </p:blipFill>
          <p:spPr>
            <a:xfrm>
              <a:off x="1828800" y="4724280"/>
              <a:ext cx="68580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962520" y="4267080"/>
            <a:ext cx="44956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mage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easure it. Remov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Image-based ren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495680" y="2514600"/>
            <a:ext cx="1383120" cy="533520"/>
            <a:chOff x="4495680" y="2514600"/>
            <a:chExt cx="1383120" cy="533520"/>
          </a:xfrm>
        </p:grpSpPr>
        <p:sp>
          <p:nvSpPr>
            <p:cNvPr id="81" name=""/>
            <p:cNvSpPr/>
            <p:nvPr/>
          </p:nvSpPr>
          <p:spPr>
            <a:xfrm>
              <a:off x="4495680" y="25146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Distor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48320" y="2895480"/>
              <a:ext cx="1143000" cy="152640"/>
            </a:xfrm>
            <a:prstGeom prst="rightArrow">
              <a:avLst>
                <a:gd name="adj1" fmla="val 50000"/>
                <a:gd name="adj2" fmla="val 187205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search Areas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ructure from mo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cene dynamics analysi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bject detection and trackin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Video compress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mage/video enhancemen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mage-based renderin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Visual motion estim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ptical flow estim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 local method with error analysi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 Bayesian approach with global optimizatio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otion-based detection and trackin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3886200"/>
            <a:ext cx="380880" cy="457200"/>
          </a:xfrm>
          <a:prstGeom prst="irregularSeal1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ptical Flow Estimation</a:t>
            </a:r>
            <a:endParaRPr b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2:05:42Z</dcterms:created>
  <dc:creator>ISL Administrator</dc:creator>
  <dc:description/>
  <dc:language>en-US</dc:language>
  <cp:lastModifiedBy>uw</cp:lastModifiedBy>
  <dcterms:modified xsi:type="dcterms:W3CDTF">2002-11-06T20:01:47Z</dcterms:modified>
  <cp:revision>81</cp:revision>
  <dc:subject/>
  <dc:title>3D Motion And Surface Structure Analysis From Image Sequences</dc:title>
</cp:coreProperties>
</file>