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27F-C455-417B-8DE6-939DEE8D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1D1-2CF3-4FB8-BD2D-9A90A3B1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90B-00C3-4B69-9956-A5FCC725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45A-37DB-4480-9F64-266F5B8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8B6F-505D-4919-B5DE-28721AE1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7625-9C2F-44D9-8979-BED8A74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644F-C659-4198-B5BE-61A7EF40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D52C-0050-41EE-99F1-E3CFD43C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065B-F3A0-4D73-901D-54D2EB9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953D-BB31-4A74-BC65-2BDFD7ED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5547-5017-4F75-88EC-9F06F657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FE4-49BA-4652-8CF5-ACA3BF6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F93-15B1-4279-B8F2-0617CB5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B17-6ADA-43F6-8725-8D66206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2C88-BF36-402B-8F68-A0752573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0463-F29C-447B-8BAF-CDF36A87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287-18CB-41A7-BDA1-2ED1DEF7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496-1CCF-4F95-AC8A-D6B0C75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DA6-2794-407A-B6B0-B69B256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5D7-7EE3-4237-8F96-EE54DCD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4F2-B8C7-4479-823D-E6CD1E3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255-03EE-479C-9645-A77D6DE8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3FD-E4A1-4D31-96E0-69D4FCE7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808-3E86-403A-AF69-8A05372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AF37-4CD8-4BFA-8DEA-57BA1CE0CB4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01DD-F0B8-4446-BEA8-23A9B7453E9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erceiving 3D from 2D Imag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200" y="2098800"/>
            <a:ext cx="7256880" cy="3751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can we deriv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D informat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from one or m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D image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re have been 2 approach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intrinsic images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2D representation that stores som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properties of the sce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D shape from X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methods of inferring 3D dep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ormation from various 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461-8737-44F1-BAB6-55CB279F0D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utomatic Labeling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1440" y="175248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ding 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gal label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can be done by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7520" y="2286000"/>
            <a:ext cx="75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ree searc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with backtracking when a node is inconsist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altz filter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r discrete relax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114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34360" y="3657600"/>
            <a:ext cx="7108920" cy="265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nitialize the label set for each line segment to {+,-,&gt;,&lt;}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t each iteration, remove inconsistent labels as follow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f  L is a label for edge Pi and there is another edge Pj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nnected to Pi that has no label consistent with L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n remove L from the label set of Pi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477120" y="838080"/>
            <a:ext cx="129528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838080"/>
            <a:ext cx="380880" cy="1067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91320" y="727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062920" y="1031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j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772400" y="380880"/>
            <a:ext cx="38088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575-0683-4F8C-A211-B80E6EF61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blems with this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7000" y="2479680"/>
            <a:ext cx="6762600" cy="302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on how to do these labelings was confin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erfect blocks world imag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re was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 way to exten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t to real images wi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ng segments, broken segments, nonconne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unction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t led some groups down the wrong path for a whil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468-271A-4EF4-883F-973020CAD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3D Shape from X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0080" y="2556000"/>
            <a:ext cx="193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d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lhouet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xt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tere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ight strip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mo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3280" y="27846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mainly resear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55440" y="43434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used in pract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2666880"/>
            <a:ext cx="76320" cy="106704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4191120"/>
            <a:ext cx="76320" cy="106668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0BE-4B06-46F1-A8AC-3CA5B180CA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erspective Imaging Model: 1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33520" y="2286000"/>
            <a:ext cx="3581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533412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286000"/>
            <a:ext cx="0" cy="3048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809880"/>
            <a:ext cx="3733560" cy="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30481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2286000"/>
            <a:ext cx="1523880" cy="3048120"/>
          </a:xfrm>
          <a:prstGeom prst="line">
            <a:avLst/>
          </a:prstGeom>
          <a:ln w="936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66320" y="1919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360" y="373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2286000"/>
            <a:ext cx="38088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2286000"/>
            <a:ext cx="0" cy="76212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47560" y="2452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3048120"/>
            <a:ext cx="0" cy="22860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5334120"/>
            <a:ext cx="1143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27040" y="175248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s the axis of th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l image plan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956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25240" y="26668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 is the center of projec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7400" y="335268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s the axis of the </a:t>
            </a: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image plan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which we us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2800" y="3851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30481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48769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0400" y="4572000"/>
            <a:ext cx="116388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i      x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       z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50292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77120" y="50292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7320" y="47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50320" y="26049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amera le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6000" y="2819520"/>
            <a:ext cx="457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8640" y="5334120"/>
            <a:ext cx="117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3D objec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44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308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0164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733920"/>
            <a:ext cx="75960" cy="75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53080" y="3062160"/>
            <a:ext cx="1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mage of poi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 in front ima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666520" y="3657600"/>
            <a:ext cx="38124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334120"/>
            <a:ext cx="533520" cy="45720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5560" y="169056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real ima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612-1B78-4D4A-A155-9D5967FE53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17160" y="171360"/>
            <a:ext cx="863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erspective in 2D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(Simplified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133720" y="3123720"/>
            <a:ext cx="0" cy="2057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1219320" y="5028840"/>
            <a:ext cx="91440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133720" y="1828440"/>
            <a:ext cx="5333760" cy="3352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467480" y="761760"/>
            <a:ext cx="0" cy="106668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4114800"/>
            <a:ext cx="220968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1295280"/>
            <a:ext cx="220968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133720" y="1828800"/>
            <a:ext cx="533376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37720" y="1828800"/>
            <a:ext cx="6629400" cy="335268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1828800"/>
            <a:ext cx="609840" cy="15228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1676520"/>
            <a:ext cx="0" cy="2819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1295280"/>
            <a:ext cx="0" cy="2819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304812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4520" y="2286000"/>
            <a:ext cx="167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=(xc,yc,zc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=(xw,yw,zw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88200" y="198108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3D object poi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56840" y="5043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01280" y="35812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434340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w=z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81080" y="32004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867280" y="2209680"/>
            <a:ext cx="0" cy="609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4504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y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48520" y="3189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Y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38880" y="16905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X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3160" y="50436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Z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562360" y="1828800"/>
            <a:ext cx="1904760" cy="990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560" y="2743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x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666880"/>
            <a:ext cx="220968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11520" y="2438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38320" y="2376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2000" y="14619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camer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12120" y="167652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´=(xi,yi,f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34400" y="4648320"/>
            <a:ext cx="131616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i        x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         z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34400" y="5638680"/>
            <a:ext cx="131616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yi        y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         z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510552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609588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609588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71800" y="4842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7640" y="5791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2960" y="4952880"/>
            <a:ext cx="169416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i = (f/zc)x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i = (f/zc)y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00" y="5638680"/>
            <a:ext cx="27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re camera coordin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qual world coordinat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43560" y="3657600"/>
            <a:ext cx="8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Times New Roman"/>
              </a:rPr>
              <a:t>axi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61240" y="23004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8FF-2889-44FA-8584-6F78052865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3D from Stere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28800" y="2209680"/>
            <a:ext cx="18288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2209680"/>
            <a:ext cx="18288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79280" y="3886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im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22840" y="38862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ght im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3048120"/>
            <a:ext cx="152280" cy="1522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048120"/>
            <a:ext cx="152280" cy="1522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3048120"/>
            <a:ext cx="4648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3200400"/>
            <a:ext cx="4648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1295280"/>
            <a:ext cx="152640" cy="152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2760" y="11430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poi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1680" y="45720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isparity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fference in image location of the same 3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int when projected under perspective to two different camer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05840" y="5451480"/>
            <a:ext cx="220320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 = xleft - xr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4BB-B705-4228-830C-0B69722CBC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7160" y="171360"/>
            <a:ext cx="863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pth Perception from Stere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imple Model:  Parallel Optic Ax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274320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3962520"/>
            <a:ext cx="5410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2286000"/>
            <a:ext cx="0" cy="2743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464832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2743200"/>
            <a:ext cx="4800600" cy="19810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3962520"/>
            <a:ext cx="4800600" cy="76176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0" y="2438280"/>
            <a:ext cx="487692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52120" y="2376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52120" y="3519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9072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069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2666880"/>
            <a:ext cx="152280" cy="15264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37720" y="2438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62320" y="2743200"/>
            <a:ext cx="0" cy="121932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69600" y="32418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3505320"/>
            <a:ext cx="53352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7720" y="3657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47560" y="31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162920" y="2742840"/>
            <a:ext cx="0" cy="1981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300080" y="46134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=(x,z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64360" y="220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05840" y="461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528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age pla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608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61960" y="2757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x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53040" y="3809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x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76920" y="1995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80280" y="5299200"/>
            <a:ext cx="135864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           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          x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3316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5715000"/>
            <a:ext cx="304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81080" y="5715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23040" y="41292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-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25280" y="5257800"/>
            <a:ext cx="156132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           x-b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           x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5715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571500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3828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743200"/>
            <a:ext cx="0" cy="3808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3962520"/>
            <a:ext cx="0" cy="7617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24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4038480"/>
            <a:ext cx="152280" cy="152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90160" y="5299200"/>
            <a:ext cx="237528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           y           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          yl          y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4340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3376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715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571500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5715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89000" y="5181480"/>
            <a:ext cx="15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y-axis i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erpendic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o the pa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E64-8A8E-495C-B08D-863EADDE49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ultant Depth Calcu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5280" y="2403360"/>
            <a:ext cx="74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stereo cameras with parallel optical axes, focal length f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line b, corresponding image points (xl,yl) and (xr,yr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disparity d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02000" y="3886200"/>
            <a:ext cx="3282120" cy="19227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 =  f*b / (xl - xr) = f*b/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xl*z/f   or  b + xr*z/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yl*z/f    or    yr*z/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49640" y="3851280"/>
            <a:ext cx="277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This method o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determining dep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from disparity i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riangula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38F-151C-42A5-8252-2514AF3F15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ing Corresponden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7520" y="1981080"/>
            <a:ext cx="676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f the correspondence is correct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angulation work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w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 correspondence finding is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t perfectly solv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the general stereo problem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som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ery specific applic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it can be solv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those specific kind of images, e.g. windshield o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ca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5562720"/>
            <a:ext cx="1219320" cy="5331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17000 h 533160"/>
              <a:gd name="textAreaBottom" fmla="*/ 416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562720"/>
            <a:ext cx="1219320" cy="5331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17000 h 533160"/>
              <a:gd name="textAreaBottom" fmla="*/ 416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5334120"/>
            <a:ext cx="1523880" cy="99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38480" y="5334120"/>
            <a:ext cx="1524240" cy="99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59200" y="5410080"/>
            <a:ext cx="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5410080"/>
            <a:ext cx="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E55-3664-4054-B823-F7FA1020B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 Main Matching Method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9400" y="1752480"/>
            <a:ext cx="784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Cross correlation using small window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Symbolic feature matching, usually using segments/corner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514600"/>
            <a:ext cx="2209680" cy="1523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2514600"/>
            <a:ext cx="2209680" cy="1523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105520" y="2514600"/>
            <a:ext cx="533160" cy="53352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42900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42900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71960" y="2698920"/>
            <a:ext cx="796680" cy="579240"/>
          </a:xfrm>
          <a:custGeom>
            <a:avLst/>
            <a:gdLst/>
            <a:ahLst/>
            <a:rect l="l" t="t" r="r" b="b"/>
            <a:pathLst>
              <a:path w="502" h="365">
                <a:moveTo>
                  <a:pt x="250" y="365"/>
                </a:moveTo>
                <a:cubicBezTo>
                  <a:pt x="219" y="363"/>
                  <a:pt x="188" y="364"/>
                  <a:pt x="158" y="358"/>
                </a:cubicBezTo>
                <a:cubicBezTo>
                  <a:pt x="142" y="355"/>
                  <a:pt x="127" y="330"/>
                  <a:pt x="116" y="323"/>
                </a:cubicBezTo>
                <a:cubicBezTo>
                  <a:pt x="110" y="319"/>
                  <a:pt x="101" y="320"/>
                  <a:pt x="95" y="316"/>
                </a:cubicBezTo>
                <a:cubicBezTo>
                  <a:pt x="80" y="308"/>
                  <a:pt x="67" y="297"/>
                  <a:pt x="53" y="288"/>
                </a:cubicBezTo>
                <a:cubicBezTo>
                  <a:pt x="46" y="283"/>
                  <a:pt x="32" y="274"/>
                  <a:pt x="32" y="274"/>
                </a:cubicBezTo>
                <a:cubicBezTo>
                  <a:pt x="23" y="260"/>
                  <a:pt x="3" y="249"/>
                  <a:pt x="4" y="232"/>
                </a:cubicBezTo>
                <a:cubicBezTo>
                  <a:pt x="9" y="169"/>
                  <a:pt x="0" y="126"/>
                  <a:pt x="53" y="91"/>
                </a:cubicBezTo>
                <a:cubicBezTo>
                  <a:pt x="102" y="17"/>
                  <a:pt x="153" y="12"/>
                  <a:pt x="236" y="0"/>
                </a:cubicBezTo>
                <a:cubicBezTo>
                  <a:pt x="271" y="5"/>
                  <a:pt x="307" y="6"/>
                  <a:pt x="341" y="14"/>
                </a:cubicBezTo>
                <a:cubicBezTo>
                  <a:pt x="355" y="17"/>
                  <a:pt x="374" y="41"/>
                  <a:pt x="383" y="49"/>
                </a:cubicBezTo>
                <a:cubicBezTo>
                  <a:pt x="415" y="76"/>
                  <a:pt x="448" y="101"/>
                  <a:pt x="482" y="126"/>
                </a:cubicBezTo>
                <a:cubicBezTo>
                  <a:pt x="502" y="208"/>
                  <a:pt x="487" y="226"/>
                  <a:pt x="425" y="267"/>
                </a:cubicBezTo>
                <a:cubicBezTo>
                  <a:pt x="408" y="278"/>
                  <a:pt x="394" y="293"/>
                  <a:pt x="383" y="309"/>
                </a:cubicBezTo>
                <a:cubicBezTo>
                  <a:pt x="378" y="316"/>
                  <a:pt x="376" y="325"/>
                  <a:pt x="369" y="330"/>
                </a:cubicBezTo>
                <a:cubicBezTo>
                  <a:pt x="350" y="345"/>
                  <a:pt x="323" y="341"/>
                  <a:pt x="299" y="344"/>
                </a:cubicBezTo>
                <a:cubicBezTo>
                  <a:pt x="285" y="349"/>
                  <a:pt x="271" y="353"/>
                  <a:pt x="250" y="35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3276720"/>
            <a:ext cx="75960" cy="609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0" y="3124080"/>
            <a:ext cx="3808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3124080"/>
            <a:ext cx="3808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342900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10080" y="34290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48520" y="3429000"/>
            <a:ext cx="838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2743200"/>
            <a:ext cx="797040" cy="579600"/>
          </a:xfrm>
          <a:custGeom>
            <a:avLst/>
            <a:gdLst/>
            <a:ahLst/>
            <a:rect l="l" t="t" r="r" b="b"/>
            <a:pathLst>
              <a:path w="502" h="365">
                <a:moveTo>
                  <a:pt x="250" y="365"/>
                </a:moveTo>
                <a:cubicBezTo>
                  <a:pt x="219" y="363"/>
                  <a:pt x="188" y="364"/>
                  <a:pt x="158" y="358"/>
                </a:cubicBezTo>
                <a:cubicBezTo>
                  <a:pt x="142" y="355"/>
                  <a:pt x="127" y="330"/>
                  <a:pt x="116" y="323"/>
                </a:cubicBezTo>
                <a:cubicBezTo>
                  <a:pt x="110" y="319"/>
                  <a:pt x="101" y="320"/>
                  <a:pt x="95" y="316"/>
                </a:cubicBezTo>
                <a:cubicBezTo>
                  <a:pt x="80" y="308"/>
                  <a:pt x="67" y="297"/>
                  <a:pt x="53" y="288"/>
                </a:cubicBezTo>
                <a:cubicBezTo>
                  <a:pt x="46" y="283"/>
                  <a:pt x="32" y="274"/>
                  <a:pt x="32" y="274"/>
                </a:cubicBezTo>
                <a:cubicBezTo>
                  <a:pt x="23" y="260"/>
                  <a:pt x="3" y="249"/>
                  <a:pt x="4" y="232"/>
                </a:cubicBezTo>
                <a:cubicBezTo>
                  <a:pt x="9" y="169"/>
                  <a:pt x="0" y="126"/>
                  <a:pt x="53" y="91"/>
                </a:cubicBezTo>
                <a:cubicBezTo>
                  <a:pt x="102" y="17"/>
                  <a:pt x="153" y="12"/>
                  <a:pt x="236" y="0"/>
                </a:cubicBezTo>
                <a:cubicBezTo>
                  <a:pt x="271" y="5"/>
                  <a:pt x="307" y="6"/>
                  <a:pt x="341" y="14"/>
                </a:cubicBezTo>
                <a:cubicBezTo>
                  <a:pt x="355" y="17"/>
                  <a:pt x="374" y="41"/>
                  <a:pt x="383" y="49"/>
                </a:cubicBezTo>
                <a:cubicBezTo>
                  <a:pt x="415" y="76"/>
                  <a:pt x="448" y="101"/>
                  <a:pt x="482" y="126"/>
                </a:cubicBezTo>
                <a:cubicBezTo>
                  <a:pt x="502" y="208"/>
                  <a:pt x="487" y="226"/>
                  <a:pt x="425" y="267"/>
                </a:cubicBezTo>
                <a:cubicBezTo>
                  <a:pt x="408" y="278"/>
                  <a:pt x="394" y="293"/>
                  <a:pt x="383" y="309"/>
                </a:cubicBezTo>
                <a:cubicBezTo>
                  <a:pt x="378" y="316"/>
                  <a:pt x="376" y="325"/>
                  <a:pt x="369" y="330"/>
                </a:cubicBezTo>
                <a:cubicBezTo>
                  <a:pt x="350" y="345"/>
                  <a:pt x="323" y="341"/>
                  <a:pt x="299" y="344"/>
                </a:cubicBezTo>
                <a:cubicBezTo>
                  <a:pt x="285" y="349"/>
                  <a:pt x="271" y="353"/>
                  <a:pt x="250" y="35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4952880"/>
            <a:ext cx="2210040" cy="1067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952880"/>
            <a:ext cx="2210040" cy="1067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5334120"/>
            <a:ext cx="762120" cy="5331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1320" y="5181480"/>
            <a:ext cx="761760" cy="5335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05360" y="2860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n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80960" y="5146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par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276720" y="5333760"/>
            <a:ext cx="152280" cy="1522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5486400"/>
            <a:ext cx="0" cy="3808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5334120"/>
            <a:ext cx="457200" cy="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400800" y="5181480"/>
            <a:ext cx="152280" cy="15264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164-E34F-4F10-BB9E-5572F7E368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21877" t="18749" r="48127" b="32031"/>
          <a:stretch/>
        </p:blipFill>
        <p:spPr>
          <a:xfrm>
            <a:off x="2209680" y="1828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8360" y="345960"/>
            <a:ext cx="57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an you determine about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the sizes of objec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the distances of objects from the camera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3280" y="2743200"/>
            <a:ext cx="259020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hat knowled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o you use 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nalyze this image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0AC-F5C6-4837-AD9A-DA82691D32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pipolar Geometry Constraint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1. Normal Pair of Imag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33720" y="3657600"/>
            <a:ext cx="0" cy="838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33720" y="3657600"/>
            <a:ext cx="1371600" cy="1522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3809880"/>
            <a:ext cx="0" cy="838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33720" y="4495680"/>
            <a:ext cx="1371600" cy="152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3886200"/>
            <a:ext cx="0" cy="838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3886200"/>
            <a:ext cx="1371600" cy="1522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4038480"/>
            <a:ext cx="0" cy="838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4724280"/>
            <a:ext cx="1447920" cy="152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752120" y="2362320"/>
            <a:ext cx="4953240" cy="251460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580920" y="2362320"/>
            <a:ext cx="3124440" cy="266688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876920"/>
            <a:ext cx="1828800" cy="15228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3962520"/>
            <a:ext cx="3504960" cy="5331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114800"/>
            <a:ext cx="312408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752480" y="4190760"/>
            <a:ext cx="99072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743200" y="3809520"/>
            <a:ext cx="533520" cy="38124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76720" y="3123720"/>
            <a:ext cx="106668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91120" y="434340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009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43200" y="3428640"/>
            <a:ext cx="0" cy="1143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99480" y="2986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720" y="3429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495680" y="3580920"/>
            <a:ext cx="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581280" y="4343040"/>
            <a:ext cx="99072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72000" y="3962520"/>
            <a:ext cx="533520" cy="3808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105520" y="3200040"/>
            <a:ext cx="990360" cy="7621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28640" y="2909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33760" y="2986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33880" y="476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43560" y="484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7560" y="489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59440" y="198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2132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16600" y="441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27400" y="34704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epipola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181120" y="3352680"/>
            <a:ext cx="762120" cy="45720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000" y="1905120"/>
            <a:ext cx="63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epipolar plane cuts through the image plane(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ming 2 epipolar lin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87880" y="5375160"/>
            <a:ext cx="56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atch for P1 (or P2) in the other image,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st lie on the same epipolar lin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E70-751C-4F17-B835-14F16470C7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pipolar Geometry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neral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4267080"/>
            <a:ext cx="1371600" cy="6098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72000" y="4191120"/>
            <a:ext cx="1066680" cy="8380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05120" y="4038480"/>
            <a:ext cx="167616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419720" y="4190760"/>
            <a:ext cx="205740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743200" y="373356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105520" y="3962160"/>
            <a:ext cx="0" cy="1143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25680" y="4038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6800" y="3886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28080" y="3443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56880" y="374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66160" y="4357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90600" y="3976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0960" y="43434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06960" y="4038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861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996600" y="522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0D5-C8F7-4BAF-A491-B9BDD1ACBD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4191120"/>
            <a:ext cx="1523880" cy="685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572000" y="3809520"/>
            <a:ext cx="1523880" cy="12193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20960" y="43434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06960" y="4038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861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96600" y="522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01560" y="547560"/>
            <a:ext cx="2861280" cy="25333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Epipolar Constraint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tching points lie 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rresponding epipo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in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rdering Constraint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ually in the sam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der across the lin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4571640" y="2895480"/>
            <a:ext cx="2438280" cy="243864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828800" y="2895480"/>
            <a:ext cx="2743200" cy="182880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3464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28954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469-D95B-4B99-8990-E4E284634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uctured Ligh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8000" y="1981080"/>
            <a:ext cx="43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data can also be derived u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single cam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light source that can produ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ripe(s) on  the 3D ob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77120" y="2057400"/>
            <a:ext cx="914400" cy="91440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4952880"/>
            <a:ext cx="380988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962520" y="2971440"/>
            <a:ext cx="2666880" cy="1981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629400" y="228564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629400" y="205704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86200" y="48006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48769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7238880" y="3885840"/>
            <a:ext cx="457200" cy="10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66160" y="499428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51280" y="51465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56200" y="160020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ht strip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C15-6B0A-4E05-A15B-CB0C6F1C78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uctured Light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3D Comput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8000" y="1981080"/>
            <a:ext cx="43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data can also be derived u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single cam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light source that can produ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ripe(s) on  the 3D ob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4572000"/>
            <a:ext cx="38098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971440"/>
            <a:ext cx="2057400" cy="1600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39200" y="441972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078040" y="4572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ax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333760" y="53341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943600" y="2285640"/>
            <a:ext cx="0" cy="30481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638680" y="2971800"/>
            <a:ext cx="990720" cy="2362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213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471280" y="5295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´,y´,f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628680" y="25146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D poi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x, y, 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06600" y="4114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8256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cxnSp>
        <p:nvCxnSpPr>
          <p:cNvPr id="633" name=""/>
          <p:cNvCxnSpPr/>
          <p:nvPr/>
        </p:nvCxnSpPr>
        <p:spPr>
          <a:xfrm>
            <a:off x="4952520" y="4343040"/>
            <a:ext cx="305640" cy="229320"/>
          </a:xfrm>
          <a:prstGeom prst="curvedConnector5">
            <a:avLst>
              <a:gd name="adj1" fmla="val 90094"/>
              <a:gd name="adj2" fmla="val 50000"/>
              <a:gd name="adj3" fmla="val 90094"/>
            </a:avLst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4" name=""/>
          <p:cNvSpPr/>
          <p:nvPr/>
        </p:nvSpPr>
        <p:spPr>
          <a:xfrm>
            <a:off x="152280" y="4876920"/>
            <a:ext cx="387792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[x y z] = --------------- [x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´ y´ f]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 cot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- x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78600" y="420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0,0,0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7200" y="5680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08240" y="56037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E2C-CC2C-4609-9C35-82BE48BB84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pth from Multiple Light Stri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rcRect l="20625" t="49219" r="18125" b="21093"/>
          <a:stretch/>
        </p:blipFill>
        <p:spPr>
          <a:xfrm>
            <a:off x="838080" y="2133720"/>
            <a:ext cx="7467840" cy="28954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857120" y="529920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hat are these object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F5C-E7E6-41ED-9ABB-1C6A98D2C8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(former) System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4-camera light-striping stere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rcRect l="29376" t="35937" r="28750" b="24220"/>
          <a:stretch/>
        </p:blipFill>
        <p:spPr>
          <a:xfrm>
            <a:off x="1981080" y="2057400"/>
            <a:ext cx="5105520" cy="3886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4266000" y="3325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rojecto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42680" y="4572000"/>
            <a:ext cx="9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rot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84400" y="20224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mer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56386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58960" y="5492880"/>
            <a:ext cx="1315800" cy="1164960"/>
          </a:xfrm>
          <a:custGeom>
            <a:avLst/>
            <a:gdLst/>
            <a:ahLst/>
            <a:rect l="l" t="t" r="r" b="b"/>
            <a:pathLst>
              <a:path w="829" h="734">
                <a:moveTo>
                  <a:pt x="520" y="17"/>
                </a:moveTo>
                <a:cubicBezTo>
                  <a:pt x="433" y="11"/>
                  <a:pt x="359" y="0"/>
                  <a:pt x="274" y="17"/>
                </a:cubicBezTo>
                <a:cubicBezTo>
                  <a:pt x="250" y="29"/>
                  <a:pt x="229" y="44"/>
                  <a:pt x="204" y="52"/>
                </a:cubicBezTo>
                <a:cubicBezTo>
                  <a:pt x="192" y="64"/>
                  <a:pt x="177" y="73"/>
                  <a:pt x="168" y="87"/>
                </a:cubicBezTo>
                <a:cubicBezTo>
                  <a:pt x="159" y="101"/>
                  <a:pt x="152" y="117"/>
                  <a:pt x="140" y="129"/>
                </a:cubicBezTo>
                <a:cubicBezTo>
                  <a:pt x="128" y="141"/>
                  <a:pt x="112" y="150"/>
                  <a:pt x="105" y="165"/>
                </a:cubicBezTo>
                <a:cubicBezTo>
                  <a:pt x="84" y="208"/>
                  <a:pt x="76" y="243"/>
                  <a:pt x="49" y="284"/>
                </a:cubicBezTo>
                <a:cubicBezTo>
                  <a:pt x="41" y="315"/>
                  <a:pt x="39" y="341"/>
                  <a:pt x="21" y="368"/>
                </a:cubicBezTo>
                <a:cubicBezTo>
                  <a:pt x="14" y="394"/>
                  <a:pt x="6" y="420"/>
                  <a:pt x="0" y="446"/>
                </a:cubicBezTo>
                <a:cubicBezTo>
                  <a:pt x="25" y="565"/>
                  <a:pt x="21" y="607"/>
                  <a:pt x="112" y="670"/>
                </a:cubicBezTo>
                <a:cubicBezTo>
                  <a:pt x="167" y="708"/>
                  <a:pt x="146" y="696"/>
                  <a:pt x="218" y="720"/>
                </a:cubicBezTo>
                <a:cubicBezTo>
                  <a:pt x="232" y="725"/>
                  <a:pt x="260" y="734"/>
                  <a:pt x="260" y="734"/>
                </a:cubicBezTo>
                <a:cubicBezTo>
                  <a:pt x="351" y="725"/>
                  <a:pt x="436" y="700"/>
                  <a:pt x="527" y="691"/>
                </a:cubicBezTo>
                <a:cubicBezTo>
                  <a:pt x="624" y="667"/>
                  <a:pt x="564" y="678"/>
                  <a:pt x="709" y="670"/>
                </a:cubicBezTo>
                <a:cubicBezTo>
                  <a:pt x="762" y="652"/>
                  <a:pt x="804" y="622"/>
                  <a:pt x="829" y="572"/>
                </a:cubicBezTo>
                <a:cubicBezTo>
                  <a:pt x="825" y="510"/>
                  <a:pt x="821" y="393"/>
                  <a:pt x="744" y="368"/>
                </a:cubicBezTo>
                <a:cubicBezTo>
                  <a:pt x="705" y="329"/>
                  <a:pt x="677" y="315"/>
                  <a:pt x="625" y="305"/>
                </a:cubicBezTo>
                <a:cubicBezTo>
                  <a:pt x="575" y="206"/>
                  <a:pt x="658" y="58"/>
                  <a:pt x="520" y="17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55627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32" y="8"/>
                  <a:pt x="280" y="16"/>
                  <a:pt x="240" y="48"/>
                </a:cubicBezTo>
                <a:cubicBezTo>
                  <a:pt x="200" y="80"/>
                  <a:pt x="176" y="128"/>
                  <a:pt x="144" y="192"/>
                </a:cubicBezTo>
                <a:cubicBezTo>
                  <a:pt x="112" y="256"/>
                  <a:pt x="72" y="360"/>
                  <a:pt x="48" y="432"/>
                </a:cubicBezTo>
                <a:cubicBezTo>
                  <a:pt x="24" y="504"/>
                  <a:pt x="12" y="564"/>
                  <a:pt x="0" y="624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56A-F0E1-46C6-8C6D-5FCFE04685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31877" t="12500" r="30625" b="52346"/>
          <a:stretch/>
        </p:blipFill>
        <p:spPr>
          <a:xfrm>
            <a:off x="2438280" y="2590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120" y="19368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objects are shown in this image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can you estimate distance from the camera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feature changes with distance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BD8-C305-44A4-9E64-A9D500B6CD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insic Images: 2.5 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0920" y="2057400"/>
            <a:ext cx="6442920" cy="1191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dea of intrinsic images is to label features of 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D image with information that tells us something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out the 3D structure of the scene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26875" t="19532" r="14375" b="50784"/>
          <a:stretch/>
        </p:blipFill>
        <p:spPr>
          <a:xfrm>
            <a:off x="990720" y="3581280"/>
            <a:ext cx="7162560" cy="2895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0" y="3657600"/>
            <a:ext cx="13845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cclud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162560" y="4495680"/>
            <a:ext cx="75960" cy="304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3080" y="510552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ve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05520" y="4572000"/>
            <a:ext cx="457200" cy="5335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86400" y="4800600"/>
            <a:ext cx="990720" cy="380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5486400"/>
            <a:ext cx="914400" cy="457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840-2749-47AD-9249-C3B7BD3A0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tour Labels for Intrinsic Image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2920" y="1676520"/>
            <a:ext cx="348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vex crease (+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cave crease (-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lade (&gt;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mb (&gt;&gt;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dow (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lumination boundary (I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flectance boundary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648320" y="2971800"/>
            <a:ext cx="99036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9718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647960" y="3352680"/>
            <a:ext cx="99036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4290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971800"/>
            <a:ext cx="1143000" cy="5335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350532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3352680"/>
            <a:ext cx="1143000" cy="5335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266720" y="3276360"/>
            <a:ext cx="381240" cy="1522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657600"/>
            <a:ext cx="381240" cy="1522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514600"/>
            <a:ext cx="1676520" cy="609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2514240"/>
            <a:ext cx="160020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781680" y="3123720"/>
            <a:ext cx="76212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81680" y="3505320"/>
            <a:ext cx="76212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12408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971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048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9760" y="3352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743200"/>
            <a:ext cx="2286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74320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590920"/>
            <a:ext cx="15228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00440" y="2743200"/>
            <a:ext cx="228600" cy="763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3276720"/>
            <a:ext cx="15228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43800" y="3276720"/>
            <a:ext cx="7632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86600" y="3581280"/>
            <a:ext cx="76320" cy="1526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3733920"/>
            <a:ext cx="2286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200400"/>
            <a:ext cx="152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240" y="2909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267080"/>
            <a:ext cx="457200" cy="304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41972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41972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18040" y="5308560"/>
            <a:ext cx="468360" cy="111240"/>
          </a:xfrm>
          <a:custGeom>
            <a:avLst/>
            <a:gdLst/>
            <a:ahLst/>
            <a:rect l="l" t="t" r="r" b="b"/>
            <a:pathLst>
              <a:path w="295" h="70">
                <a:moveTo>
                  <a:pt x="0" y="0"/>
                </a:moveTo>
                <a:cubicBezTo>
                  <a:pt x="40" y="13"/>
                  <a:pt x="71" y="32"/>
                  <a:pt x="112" y="42"/>
                </a:cubicBezTo>
                <a:cubicBezTo>
                  <a:pt x="152" y="40"/>
                  <a:pt x="274" y="70"/>
                  <a:pt x="295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609840" cy="457200"/>
          </a:xfrm>
          <a:custGeom>
            <a:avLst/>
            <a:gdLst/>
            <a:ahLst/>
            <a:rect l="l" t="t" r="r" b="b"/>
            <a:pathLst>
              <a:path w="624" h="504">
                <a:moveTo>
                  <a:pt x="56" y="352"/>
                </a:moveTo>
                <a:cubicBezTo>
                  <a:pt x="112" y="384"/>
                  <a:pt x="280" y="488"/>
                  <a:pt x="344" y="496"/>
                </a:cubicBezTo>
                <a:cubicBezTo>
                  <a:pt x="408" y="504"/>
                  <a:pt x="448" y="424"/>
                  <a:pt x="440" y="400"/>
                </a:cubicBezTo>
                <a:cubicBezTo>
                  <a:pt x="432" y="376"/>
                  <a:pt x="304" y="376"/>
                  <a:pt x="296" y="352"/>
                </a:cubicBezTo>
                <a:cubicBezTo>
                  <a:pt x="288" y="328"/>
                  <a:pt x="360" y="264"/>
                  <a:pt x="392" y="256"/>
                </a:cubicBezTo>
                <a:cubicBezTo>
                  <a:pt x="424" y="248"/>
                  <a:pt x="456" y="320"/>
                  <a:pt x="488" y="304"/>
                </a:cubicBezTo>
                <a:cubicBezTo>
                  <a:pt x="520" y="288"/>
                  <a:pt x="624" y="208"/>
                  <a:pt x="584" y="160"/>
                </a:cubicBezTo>
                <a:cubicBezTo>
                  <a:pt x="544" y="112"/>
                  <a:pt x="320" y="32"/>
                  <a:pt x="248" y="16"/>
                </a:cubicBezTo>
                <a:cubicBezTo>
                  <a:pt x="176" y="0"/>
                  <a:pt x="144" y="40"/>
                  <a:pt x="152" y="64"/>
                </a:cubicBezTo>
                <a:cubicBezTo>
                  <a:pt x="160" y="88"/>
                  <a:pt x="288" y="120"/>
                  <a:pt x="296" y="160"/>
                </a:cubicBezTo>
                <a:cubicBezTo>
                  <a:pt x="304" y="200"/>
                  <a:pt x="240" y="296"/>
                  <a:pt x="200" y="304"/>
                </a:cubicBezTo>
                <a:cubicBezTo>
                  <a:pt x="160" y="312"/>
                  <a:pt x="88" y="208"/>
                  <a:pt x="56" y="208"/>
                </a:cubicBezTo>
                <a:cubicBezTo>
                  <a:pt x="24" y="208"/>
                  <a:pt x="8" y="280"/>
                  <a:pt x="8" y="304"/>
                </a:cubicBezTo>
                <a:cubicBezTo>
                  <a:pt x="8" y="328"/>
                  <a:pt x="0" y="320"/>
                  <a:pt x="56" y="352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572000"/>
            <a:ext cx="480960" cy="703440"/>
          </a:xfrm>
          <a:custGeom>
            <a:avLst/>
            <a:gdLst/>
            <a:ahLst/>
            <a:rect l="l" t="t" r="r" b="b"/>
            <a:pathLst>
              <a:path w="303" h="443">
                <a:moveTo>
                  <a:pt x="303" y="162"/>
                </a:moveTo>
                <a:cubicBezTo>
                  <a:pt x="273" y="252"/>
                  <a:pt x="287" y="349"/>
                  <a:pt x="275" y="443"/>
                </a:cubicBezTo>
                <a:cubicBezTo>
                  <a:pt x="273" y="431"/>
                  <a:pt x="275" y="418"/>
                  <a:pt x="268" y="408"/>
                </a:cubicBezTo>
                <a:cubicBezTo>
                  <a:pt x="264" y="402"/>
                  <a:pt x="253" y="405"/>
                  <a:pt x="247" y="401"/>
                </a:cubicBezTo>
                <a:cubicBezTo>
                  <a:pt x="234" y="393"/>
                  <a:pt x="225" y="380"/>
                  <a:pt x="212" y="372"/>
                </a:cubicBezTo>
                <a:cubicBezTo>
                  <a:pt x="203" y="358"/>
                  <a:pt x="196" y="342"/>
                  <a:pt x="184" y="330"/>
                </a:cubicBezTo>
                <a:cubicBezTo>
                  <a:pt x="172" y="318"/>
                  <a:pt x="157" y="309"/>
                  <a:pt x="148" y="295"/>
                </a:cubicBezTo>
                <a:cubicBezTo>
                  <a:pt x="124" y="259"/>
                  <a:pt x="93" y="197"/>
                  <a:pt x="50" y="183"/>
                </a:cubicBezTo>
                <a:cubicBezTo>
                  <a:pt x="34" y="160"/>
                  <a:pt x="17" y="154"/>
                  <a:pt x="8" y="127"/>
                </a:cubicBezTo>
                <a:cubicBezTo>
                  <a:pt x="11" y="96"/>
                  <a:pt x="0" y="57"/>
                  <a:pt x="22" y="35"/>
                </a:cubicBezTo>
                <a:cubicBezTo>
                  <a:pt x="27" y="30"/>
                  <a:pt x="36" y="31"/>
                  <a:pt x="43" y="28"/>
                </a:cubicBezTo>
                <a:cubicBezTo>
                  <a:pt x="51" y="24"/>
                  <a:pt x="56" y="17"/>
                  <a:pt x="64" y="14"/>
                </a:cubicBezTo>
                <a:cubicBezTo>
                  <a:pt x="77" y="8"/>
                  <a:pt x="106" y="0"/>
                  <a:pt x="106" y="0"/>
                </a:cubicBezTo>
                <a:cubicBezTo>
                  <a:pt x="145" y="16"/>
                  <a:pt x="182" y="40"/>
                  <a:pt x="212" y="70"/>
                </a:cubicBezTo>
                <a:cubicBezTo>
                  <a:pt x="243" y="101"/>
                  <a:pt x="253" y="148"/>
                  <a:pt x="296" y="162"/>
                </a:cubicBezTo>
                <a:cubicBezTo>
                  <a:pt x="303" y="199"/>
                  <a:pt x="303" y="185"/>
                  <a:pt x="303" y="211"/>
                </a:cubicBezTo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81280" y="4890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648320"/>
            <a:ext cx="76320" cy="53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9240" y="48006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64832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86400" y="464796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480060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86400" y="480060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3A3-5823-494C-9D76-E3B26992D5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eling Simple Line Drawing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3360" y="2251080"/>
            <a:ext cx="8012520" cy="3385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ffman and Clowes showed that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locks world drawing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uld b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abeled (with +, -, &gt;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ased on real world constrain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beling a simple blocks world image is 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sistent labeling problem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ltz extended the work to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racks and shadow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veloped one of the first discrete relaxation algorithms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nown as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altz filtering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2B0-A68E-4B07-9EB9-724821A67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171360"/>
            <a:ext cx="863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ple Blocks World Constrain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or Objects with Trihedral Junction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7840" y="198108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re are only 16 topologically possible junctions for th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ass of images. Huffman/Clowes categorized thes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200400"/>
            <a:ext cx="30492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371600" y="3276360"/>
            <a:ext cx="380880" cy="2286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590920" y="3352320"/>
            <a:ext cx="380880" cy="2286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657600" y="3352320"/>
            <a:ext cx="380880" cy="2286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00600" y="3352320"/>
            <a:ext cx="380880" cy="2286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3276720"/>
            <a:ext cx="30492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276720"/>
            <a:ext cx="30492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276720"/>
            <a:ext cx="30492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276720"/>
            <a:ext cx="30456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276720"/>
            <a:ext cx="30492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867280" y="3352320"/>
            <a:ext cx="381240" cy="2286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934320" y="3352320"/>
            <a:ext cx="380880" cy="2286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5840" y="320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2767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2767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38280" y="3276720"/>
            <a:ext cx="7632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61960" y="342900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8800" y="3367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42900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505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0" y="33526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3526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505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38680" y="33526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3526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3526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3505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32767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342900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342900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34290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50520" y="3200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’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133720" y="4038480"/>
            <a:ext cx="533160" cy="53352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038480"/>
            <a:ext cx="533520" cy="53352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962520" y="3962160"/>
            <a:ext cx="533160" cy="53316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91320" y="3886200"/>
            <a:ext cx="533160" cy="53352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3962520"/>
            <a:ext cx="533520" cy="53316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86200"/>
            <a:ext cx="533520" cy="53352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43000" y="3976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57400" y="3976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038480"/>
            <a:ext cx="0" cy="53352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4197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886200"/>
            <a:ext cx="0" cy="53352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1911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1911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2051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41148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1148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96252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114800"/>
            <a:ext cx="22860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0080" y="4129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5016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row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724280"/>
            <a:ext cx="304920" cy="3049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00200" y="4800240"/>
            <a:ext cx="380880" cy="228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02920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502920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581280" y="4800240"/>
            <a:ext cx="381240" cy="228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181480" y="4723920"/>
            <a:ext cx="381240" cy="228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4952880"/>
            <a:ext cx="0" cy="457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724280"/>
            <a:ext cx="304560" cy="3049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648320"/>
            <a:ext cx="304560" cy="3045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6019920"/>
            <a:ext cx="76176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6019920"/>
            <a:ext cx="76212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6019920"/>
            <a:ext cx="76212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6019920"/>
            <a:ext cx="152640" cy="3808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6019920"/>
            <a:ext cx="152640" cy="3808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6019920"/>
            <a:ext cx="152640" cy="3808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6019920"/>
            <a:ext cx="152640" cy="3808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28600" y="4662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0240" y="4724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80880" y="50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49528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525780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48769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876560" y="4647960"/>
            <a:ext cx="7596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4648320"/>
            <a:ext cx="22860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5029200"/>
            <a:ext cx="1522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181480" y="5028840"/>
            <a:ext cx="1526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9036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3336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36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41936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6019920"/>
            <a:ext cx="1522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6019920"/>
            <a:ext cx="1522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6019920"/>
            <a:ext cx="1522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6019920"/>
            <a:ext cx="1522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523880" y="5867280"/>
            <a:ext cx="15264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0024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65724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6019920"/>
            <a:ext cx="22860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6019920"/>
            <a:ext cx="22860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6019920"/>
            <a:ext cx="22860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6019920"/>
            <a:ext cx="22860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590920" y="58672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57200" y="603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62485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81280" y="6248160"/>
            <a:ext cx="7632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6248520"/>
            <a:ext cx="15228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24280" y="6248160"/>
            <a:ext cx="7632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6248520"/>
            <a:ext cx="22860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50160" y="480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r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50520" y="5410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’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87D-C1C0-462A-931D-E1FBDD7896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 Interpreta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21251" t="13282" r="20002" b="56252"/>
          <a:stretch/>
        </p:blipFill>
        <p:spPr>
          <a:xfrm>
            <a:off x="990720" y="2286000"/>
            <a:ext cx="7162560" cy="2971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438280" y="3352680"/>
            <a:ext cx="228600" cy="152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505320"/>
            <a:ext cx="228600" cy="759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2514600"/>
            <a:ext cx="152280" cy="152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038120" y="2666880"/>
            <a:ext cx="228600" cy="763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3581280"/>
            <a:ext cx="2286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31360" y="55278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loat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6000" y="5562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glued to the w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505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26668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505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5909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99B-2034-49D1-A1C3-F35170D83D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ne Drawing Labe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480" y="2251080"/>
            <a:ext cx="58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a line drawing extracted from an image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d the correct labeling(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114800"/>
            <a:ext cx="0" cy="1752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867280"/>
            <a:ext cx="2057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11480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411480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057400" y="3352320"/>
            <a:ext cx="1371600" cy="762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335268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124080" y="3581280"/>
            <a:ext cx="45720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124080" y="3581280"/>
            <a:ext cx="457200" cy="1219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48006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48006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114800" y="3352680"/>
            <a:ext cx="1219320" cy="1447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352680"/>
            <a:ext cx="0" cy="1067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114800" y="4419360"/>
            <a:ext cx="1219320" cy="1447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3505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33360" y="3546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20600" y="4191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160" y="369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4600" y="438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95480" y="514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04960" y="3774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809520" y="3657600"/>
            <a:ext cx="2514600" cy="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94200" y="3317760"/>
            <a:ext cx="1646640" cy="22885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m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jun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L junc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nnot hav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+ and -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B0F-8741-4C94-BFD3-D96FC58370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7:43:49Z</dcterms:created>
  <dc:creator>uw</dc:creator>
  <dc:description/>
  <dc:language>en-US</dc:language>
  <cp:lastModifiedBy>uw</cp:lastModifiedBy>
  <dcterms:modified xsi:type="dcterms:W3CDTF">2002-11-18T23:16:43Z</dcterms:modified>
  <cp:revision>36</cp:revision>
  <dc:subject/>
  <dc:title>Perceiving 3D from 2D Images</dc:title>
</cp:coreProperties>
</file>