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C8A2-2EB1-4FCE-92D3-52F62880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8C1-784B-44BE-B6EF-67B3ECFE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EDF-8D07-493B-BD0B-93D63F77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14D8-C13D-4327-B9E1-C8355681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A328-1DDF-41A5-B56D-7BEB0A46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3D1B-F475-4481-A93C-8BEB54CD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C74D-0C3E-4678-A683-763D23D7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D422-15EA-483F-AC58-4A4B5C03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A9EE-EE59-4B27-A766-24CB444A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AAD3-CA5E-4BEC-B690-72051FF7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3866-D0A8-4813-AB30-647EE22F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F541-5B6E-4239-9E2E-ABA963D8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BC15-AC35-4399-A905-4FC59B6B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A812-FEA3-4143-AE59-0CC8090E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85ED-534F-4D0D-AD03-D6AE7196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7B02-F27B-489E-AC45-F8F5C302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C70F-1C4C-4C7F-B175-6DAF4ACB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EACB-B6E6-46F3-A71F-280B3C10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428-519F-43DE-B6AC-D937A561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C5A-C082-4EC0-99B3-F5F65593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31A7-F09C-4FF4-8D53-2613AE70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32E-F5A9-4F7E-88B7-61D434F7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766-78ED-45FD-8DF6-613805AC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B0E-1E60-45FF-A36C-8524268C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8F41-7C60-4C02-906E-9449E2D9591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1551-36A4-4C00-980E-450D7709BDF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ttern Recogn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67640" y="14479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attern recognition i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0520" y="2133720"/>
            <a:ext cx="670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. The name of the journal of the Pattern Recogni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ciety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. A research area in which patterns in data 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und, recognized, discovered, …whateve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. A catchall phrase that includ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46480" y="491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72200" y="4917960"/>
            <a:ext cx="19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lassifi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luster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ABD-0459-4E3C-8C92-22A89FF0CF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arest mean might yield poor results with complex struc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02280" y="1600200"/>
            <a:ext cx="298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2 has two modes;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ere 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its mea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if modes are detected, two subclass mean vectors can be u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xo3" descr=""/>
          <p:cNvPicPr/>
          <p:nvPr/>
        </p:nvPicPr>
        <p:blipFill>
          <a:blip r:embed="rId1"/>
          <a:stretch/>
        </p:blipFill>
        <p:spPr>
          <a:xfrm>
            <a:off x="1479600" y="1981080"/>
            <a:ext cx="446400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A6AF-1500-4C07-8F60-E3518114B8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caling coordinates by std dev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8" name="scaling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6858000" cy="48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7E6-0E02-490C-B19A-D3B2F3F68A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arest Neighbor Classif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5400" y="2479680"/>
            <a:ext cx="6737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eep all the training samples in some effici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ook-up structur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nd the nearest neighbor of the feature vec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be classified and assign the class of the neighb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be extended to K nearest neighbor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BEB4-A2E5-49EE-9FAD-9EEE94402A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ceiver Operating Curve RO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294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ots correct detection rate versus false alarm r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erally, false alarms go up with attempts to detect higher percentages of known o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roc" descr=""/>
          <p:cNvPicPr/>
          <p:nvPr/>
        </p:nvPicPr>
        <p:blipFill>
          <a:blip r:embed="rId1"/>
          <a:stretch/>
        </p:blipFill>
        <p:spPr>
          <a:xfrm>
            <a:off x="4992840" y="2598840"/>
            <a:ext cx="3808440" cy="3409920"/>
          </a:xfrm>
          <a:prstGeom prst="rect">
            <a:avLst/>
          </a:prstGeom>
          <a:ln w="0">
            <a:noFill/>
          </a:ln>
        </p:spPr>
      </p:pic>
      <p:pic>
        <p:nvPicPr>
          <p:cNvPr id="124" name="roc2" descr=""/>
          <p:cNvPicPr/>
          <p:nvPr/>
        </p:nvPicPr>
        <p:blipFill>
          <a:blip r:embed="rId2"/>
          <a:stretch/>
        </p:blipFill>
        <p:spPr>
          <a:xfrm>
            <a:off x="4587840" y="1981080"/>
            <a:ext cx="4556160" cy="432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97A-A16C-479A-BD43-72D2D53639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fusion matrix shows empirical perform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6" name="confusion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706464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79A-636F-4C01-94D3-A7668B17DE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yesian decision-ma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8" name="bayesian" descr=""/>
          <p:cNvPicPr/>
          <p:nvPr/>
        </p:nvPicPr>
        <p:blipFill>
          <a:blip r:embed="rId1"/>
          <a:stretch/>
        </p:blipFill>
        <p:spPr>
          <a:xfrm>
            <a:off x="1622520" y="1981080"/>
            <a:ext cx="75214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7AA8-E91F-4A20-A79D-FE9FAC2552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assifiers often used in CV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33040" y="1717560"/>
            <a:ext cx="5822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cision Tree Classifi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tificial Neural Net Classifi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yesian Classifiers and Bayesian Networ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Graphical Model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pport Vector Machin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C57-323A-41E5-833D-E407942937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cision Tre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26920" y="1752480"/>
            <a:ext cx="977760" cy="45972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#ho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05840" y="3013200"/>
            <a:ext cx="1512720" cy="82548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ment o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ert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26560" y="3200400"/>
            <a:ext cx="1198800" cy="45972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#strok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12560" y="3200400"/>
            <a:ext cx="1198800" cy="45972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#strok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06960" y="4689360"/>
            <a:ext cx="1267200" cy="82548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est ax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rec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9520" y="4876920"/>
            <a:ext cx="1198800" cy="45972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#strok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42840" y="2209680"/>
            <a:ext cx="2133720" cy="76212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209680"/>
            <a:ext cx="0" cy="99072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2209680"/>
            <a:ext cx="2361960" cy="99072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981080" y="3886200"/>
            <a:ext cx="609840" cy="76212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3886200"/>
            <a:ext cx="1371600" cy="99072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05640" y="6289560"/>
            <a:ext cx="68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    /     1          x       w        0     A                8         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5562720"/>
            <a:ext cx="0" cy="68580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5562720"/>
            <a:ext cx="457200" cy="76176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505320" y="5334120"/>
            <a:ext cx="457200" cy="99036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5334120"/>
            <a:ext cx="304560" cy="99036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028840" y="3657600"/>
            <a:ext cx="228600" cy="266688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3657600"/>
            <a:ext cx="380880" cy="266688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7009920" y="3657600"/>
            <a:ext cx="304920" cy="266688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15200" y="3657600"/>
            <a:ext cx="533520" cy="266688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676520" y="5562720"/>
            <a:ext cx="457200" cy="76176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14960" y="217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81640" y="247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7680" y="220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61400" y="392760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&lt; 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24160" y="392112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62320" y="5603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88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312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64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5800" y="5676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90720" y="5829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24240" y="56768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62520" y="423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18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33B4-233C-46A3-9686-88767916E3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cision Tree Characteris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33880" y="2022480"/>
            <a:ext cx="6960960" cy="411732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ain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How do you construct one from training data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ntropy-based Metho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.   Strength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asy to Understa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.   Weaknes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vertrain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978-E3CE-457B-B6F2-14952410BB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ntropy-Based Automatic Decision Tree Constru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0280" y="2174760"/>
            <a:ext cx="21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de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featur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ould be use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52880" y="3429000"/>
            <a:ext cx="990720" cy="53352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3429000"/>
            <a:ext cx="0" cy="53352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43600" y="3429000"/>
            <a:ext cx="762120" cy="53352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6920" y="347832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at value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09480" y="50706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66440" y="2251080"/>
            <a:ext cx="2701440" cy="228852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Training Set 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x1=(f11,f12,…f1m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x2=(f21,f22,    f2m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xn=(fn1,f22,    f2m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72960" y="5146560"/>
            <a:ext cx="678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Quinlan suggested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information gain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in his ID3 sys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d later the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gain ratio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both based on </a:t>
            </a:r>
            <a:r>
              <a:rPr b="0" lang="en-US" sz="2400" spc="-1" strike="noStrike">
                <a:solidFill>
                  <a:srgbClr val="eeb00b"/>
                </a:solidFill>
                <a:latin typeface="Times New Roman"/>
              </a:rPr>
              <a:t>entropy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0AD-7DE1-4DFB-B482-6596063DE8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 Schools of Thou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85320" y="1676520"/>
            <a:ext cx="7412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tistical Pattern Recogni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data is reduced to vectors of numb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d statistical techniques are used for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tasks to be performed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.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ructural Pattern Recogni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data is converted to a discrete struc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such as a grammar or a graph) and th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echniques are related to computer sci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bjects (such as parsing and graph matching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441-4F45-43CA-A573-42D57CB688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ntrop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58360" y="1565280"/>
            <a:ext cx="6889320" cy="192276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ven a set of training vectors S, if there are c classes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tropy(S) =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-pi log  (pi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ere pi is the proportion of category i examples in 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5840" y="2629080"/>
            <a:ext cx="4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i=1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8000" y="20574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29200" y="2576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73560" y="3774960"/>
            <a:ext cx="70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f all examples belong to the same category, the entrop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0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f the examples are equally mixed (1/c examples of eac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ass), the entropy is a maximum at 1.0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80040" y="5908680"/>
            <a:ext cx="65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 for c=2, -.5 log .5 - .5 log .5 = -.5(-1) -.5(-1) =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47760" y="6157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67080" y="6157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0EBD-58B3-4514-A622-D93E0F92DC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formation G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96880" y="1793880"/>
            <a:ext cx="75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formation gain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of an attribute A is the expec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duction in entropy caused by partitioning on this attribut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8280" y="3124080"/>
            <a:ext cx="72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ain(S,A) = Entropy(S) -         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-----  Entropy(Sv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06640" y="3513240"/>
            <a:ext cx="16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Values(A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10080" y="293688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|Sv|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86040" y="339408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|S|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80040" y="4232160"/>
            <a:ext cx="659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ere Sv is the subset of S for which attribute A h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alue v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76440" y="5299200"/>
            <a:ext cx="595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Choose the attribute A that gives the maxim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information gai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7B6-93FC-4AF4-A56D-BAC18A9F7D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formation Gain (con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05080" y="1413000"/>
            <a:ext cx="1579680" cy="45972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ttribute 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886200" y="1905120"/>
            <a:ext cx="990720" cy="60948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571640" y="1905120"/>
            <a:ext cx="304920" cy="60948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1905120"/>
            <a:ext cx="914400" cy="60948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71080" y="1995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1995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5000" y="19810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62320" y="14130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t 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80480" y="26337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t S </a:t>
            </a:r>
            <a:r>
              <a:rPr b="0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380880" cy="38088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31200" y="3165480"/>
            <a:ext cx="15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recursive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50600" y="4537080"/>
            <a:ext cx="65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formation gain has the disadvantage that it pref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ttributes with large number of values that split th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ata into small, pure subset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53040" y="2633760"/>
            <a:ext cx="27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99ff33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99ff33"/>
                </a:solidFill>
                <a:latin typeface="Times New Roman"/>
              </a:rPr>
              <a:t>={s</a:t>
            </a:r>
            <a:r>
              <a:rPr b="0" lang="en-US" sz="2000" spc="-1" strike="noStrike">
                <a:solidFill>
                  <a:srgbClr val="99ff33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99ff33"/>
                </a:solidFill>
                <a:latin typeface="Times New Roman"/>
              </a:rPr>
              <a:t>S | value(A)=v1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245E-F246-40DD-B77E-706FE55C3C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ain Rat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74280" y="1793880"/>
            <a:ext cx="691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ain ratio is an alternative metric from Quinlan’s 198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aper and used in the popular C4.5 package (free!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94440" y="3013200"/>
            <a:ext cx="43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GainRatio(S,A) =  ------------------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06240" y="27432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Gain(S,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61080" y="331776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plitInfo(S,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8960" y="4419720"/>
            <a:ext cx="52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litInfo(S,A) =   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- ----- log      ------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44197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4419720"/>
            <a:ext cx="152640" cy="609480"/>
          </a:xfrm>
          <a:custGeom>
            <a:avLst/>
            <a:gdLst>
              <a:gd name="textAreaLeft" fmla="*/ 0 w 152640"/>
              <a:gd name="textAreaRight" fmla="*/ 107280 w 15264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42680" y="415620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|Si|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9240" y="480060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|S|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30120" y="419112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|Si|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90960" y="468936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|S|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92560" y="5424480"/>
            <a:ext cx="67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here Si is the subset of S in which attribute A has its ith value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57800" y="4686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6760" y="4800600"/>
            <a:ext cx="4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=1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3440" y="4114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ni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99040" y="5908680"/>
            <a:ext cx="69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litInfo measures the amount of information provid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y an attribute that is not specific to the category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0715-ECD6-48C1-8314-A39EE4B963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formation Cont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74640" y="2174760"/>
            <a:ext cx="659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te: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related method of decision tree construction us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measure call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formation Conten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is given in th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ext, with full numeric example of its us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98D-6BF1-4756-8950-E288EB82DE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rtificial Neural Ne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97680" y="1600200"/>
            <a:ext cx="610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rtificial Neural Nets (ANNs) are networks o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rtificial neuron nodes, each of which compu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simple functio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 ANN has an input layer, an output layer, a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dden” layers of nod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4495680"/>
            <a:ext cx="304920" cy="3049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4952880"/>
            <a:ext cx="304920" cy="3049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5410080"/>
            <a:ext cx="304920" cy="3049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5867280"/>
            <a:ext cx="304920" cy="3049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4191120"/>
            <a:ext cx="304920" cy="30456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4724280"/>
            <a:ext cx="304920" cy="3049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5257800"/>
            <a:ext cx="304920" cy="3049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5791320"/>
            <a:ext cx="304920" cy="30456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6324480"/>
            <a:ext cx="304920" cy="3049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4876920"/>
            <a:ext cx="304920" cy="30456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5410080"/>
            <a:ext cx="304920" cy="3049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666880" y="4419720"/>
            <a:ext cx="1067040" cy="30456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4724280"/>
            <a:ext cx="1067040" cy="15264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4724280"/>
            <a:ext cx="990720" cy="68580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4724280"/>
            <a:ext cx="990720" cy="129564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724280"/>
            <a:ext cx="1067040" cy="182880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21320" y="5410080"/>
            <a:ext cx="23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4343400"/>
            <a:ext cx="1218960" cy="68580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4343400"/>
            <a:ext cx="1218960" cy="121932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4876920"/>
            <a:ext cx="121896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4876920"/>
            <a:ext cx="1218960" cy="68580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7480" y="5334120"/>
            <a:ext cx="23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90000" y="62895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pu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43040" y="583236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utpu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D9B-4372-4427-B09C-81CD91B50C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ode Fun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67080" y="2819520"/>
            <a:ext cx="914400" cy="761760"/>
          </a:xfrm>
          <a:prstGeom prst="ellipse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18960" y="2403360"/>
            <a:ext cx="4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j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90920" y="2666880"/>
            <a:ext cx="1600200" cy="45720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048120"/>
            <a:ext cx="144792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590920" y="3200040"/>
            <a:ext cx="1600200" cy="60948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590920" y="3352320"/>
            <a:ext cx="1600200" cy="114300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0080" y="3200400"/>
            <a:ext cx="129564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42520" y="2936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24360" y="5064120"/>
            <a:ext cx="3278880" cy="45972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utput = g (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aj * w(j,i)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58040" y="5908680"/>
            <a:ext cx="686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unction g is commonly a step function, sign function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 sigmoid function (see text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15160" y="22860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neuron 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44280" y="236232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w(1,i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4280" y="327672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w(j,i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7BDF-4B48-4EEA-8AB3-E8F92EBED7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ural Net Lear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87120" y="2403360"/>
            <a:ext cx="6811560" cy="155700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at’s beyond the scope of this text; on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mple feed-forward learning is covered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most common method is call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ck propagatio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83520" y="4917960"/>
            <a:ext cx="62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’ve been using a free package called NevProp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What do you us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5B66-A56A-41F9-906B-A2881EC875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pport Vector Machines (SVM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82080" y="2286000"/>
            <a:ext cx="7117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pport vector machines are learning algorithm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at try to find a hyperplane that separate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differently classified data the mos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y are  based on two key idea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ximum margin hyperplane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kernel ‘trick’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32F-8F6A-41C3-ADDE-D3EF5C3EF2C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ximal Marg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06760" y="2473200"/>
            <a:ext cx="0" cy="2133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06760" y="4606920"/>
            <a:ext cx="3276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9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972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8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35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80160" y="21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688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501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60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44840" y="2397240"/>
            <a:ext cx="1371600" cy="2438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292560" y="2930400"/>
            <a:ext cx="38088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02040" y="4073400"/>
            <a:ext cx="38088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978360" y="3235320"/>
            <a:ext cx="380880" cy="152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435560" y="4073400"/>
            <a:ext cx="38088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597120" y="2473200"/>
            <a:ext cx="30492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139920" y="3234960"/>
            <a:ext cx="68580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521160" y="3692160"/>
            <a:ext cx="53316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206960" y="3540240"/>
            <a:ext cx="4572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130640" y="2397240"/>
            <a:ext cx="533520" cy="8380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48680" y="21337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gi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664160" y="4149720"/>
            <a:ext cx="1066680" cy="3808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91680" y="38098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yperpla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02880" y="5375160"/>
            <a:ext cx="64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nd the hyperplane with maximal margin for 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points. This originates an optimization probl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ich has a unique solution (convex problem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6803-3096-4911-B07B-04E051C6499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 this cour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83280" y="1895400"/>
            <a:ext cx="7052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.  How should objects to be classified b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presented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.  What algorithms can be used for recogniti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or matching)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.  How should learning (training) be don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D69-9DA7-470D-817E-EBC8A85EA8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on-separable da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90920" y="2133720"/>
            <a:ext cx="0" cy="2819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90920" y="4952880"/>
            <a:ext cx="41907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86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90920" y="316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19520" y="362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0532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4812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33920" y="255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38840" y="339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149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9584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7672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6724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007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81640" y="301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100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62520" y="400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15160" y="217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7236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76920" y="324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58160" y="3774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86560" y="293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81440" y="255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24160" y="5527800"/>
            <a:ext cx="65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can be done if data cannot be separated with 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yperplan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0A60-1067-4B3A-8A0C-C0CAD8156F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kernel tri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21640" y="1870200"/>
            <a:ext cx="69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SVM algorithm implicitly maps the origi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ata to a feature space of possibly infinite dimens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which data (which is not separable in th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iginal  space) becomes separable in the feature spac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5120" y="4191120"/>
            <a:ext cx="0" cy="2209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05120" y="6400800"/>
            <a:ext cx="28954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71960" y="461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81440" y="446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956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05120" y="545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62320" y="499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05120" y="491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43360" y="590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76520" y="590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18720" y="377496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iginal space R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25920" y="4149720"/>
            <a:ext cx="0" cy="2209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25920" y="6359400"/>
            <a:ext cx="28958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9312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2172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680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2628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472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1208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1700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95680" y="49528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24480" y="4343400"/>
            <a:ext cx="1295640" cy="2057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7600" y="365760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ature space R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435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0572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51960" y="537516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c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4ED-FF7B-463B-B40A-A14961C855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ur Current Application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03720" y="2022480"/>
            <a:ext cx="7567200" cy="338580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l Ruiz is using support vector machines in h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ork on 3D object recognition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e is training classifiers on data representing deform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f a 3D model of a class of object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lassifiers are starting to learn what kinds o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rface patches are related to key parts of the mo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ie. A snowman’s face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A97-39DA-4104-8F7A-E126E4355CD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nowman with Patch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55" name="snowman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235480" cy="48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761-7F3C-458B-9AD0-F866F9A5752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assification in Statistical P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8440" y="1600200"/>
            <a:ext cx="647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is a set of objects having some importa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perties in comm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feature extract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is a program that inputs th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ata (image) and extracts features that can 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d in classificatio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classifie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is a program that inputs the featur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ector and assigns it to one of a set of designated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lasses or to the “reject” clas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1200" y="5791320"/>
            <a:ext cx="52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b00b"/>
                </a:solidFill>
                <a:latin typeface="Times New Roman"/>
              </a:rPr>
              <a:t>With what kinds of classes do you work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20E1-93A8-4CF1-9B0A-8AE9598A95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eature Vector Represent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=[x1, x2, … , xn], each xj a real numb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j may be an object measur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j may be count of object par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: object rep. [#holes, #strokes, moments, …]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3" name="charsA8" descr=""/>
          <p:cNvPicPr/>
          <p:nvPr/>
        </p:nvPicPr>
        <p:blipFill>
          <a:blip r:embed="rId1"/>
          <a:stretch/>
        </p:blipFill>
        <p:spPr>
          <a:xfrm>
            <a:off x="4992840" y="2092320"/>
            <a:ext cx="3998880" cy="351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BC12-B06C-415B-AE3E-4391E3EAD9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sible features for char rec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5" name="charFeatures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72547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6BB-946E-40FC-8CCF-79E25E11A5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es: set of m known categories of o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a) might have a known description for ea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b) might have a set of samples for ea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ject Clas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generic class for objects not in any of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designated known class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ifier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signs object to a class based on feat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6D1-CD08-4E72-BAF3-B5BA813D71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scriminant fun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63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unctions f(x, K) perform some computation on feature vector 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nowledge K from training or programming is us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nal stage determines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discFuns" descr=""/>
          <p:cNvPicPr/>
          <p:nvPr/>
        </p:nvPicPr>
        <p:blipFill>
          <a:blip r:embed="rId1"/>
          <a:stretch/>
        </p:blipFill>
        <p:spPr>
          <a:xfrm>
            <a:off x="3905280" y="2016000"/>
            <a:ext cx="5086440" cy="391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E6B-A45C-4F30-B875-769949C9DC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assification using nearest class mea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0" y="1600200"/>
            <a:ext cx="380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ute the Euclidean distance between feature vector X and the mean of each clas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oose closest class, if close enough (reject otherwis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xo2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4006800" cy="400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6CBB-9BDA-4B26-881B-5B1C232066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6:58:10Z</dcterms:created>
  <dc:creator>uw</dc:creator>
  <dc:description/>
  <dc:language>en-US</dc:language>
  <cp:lastModifiedBy>uw</cp:lastModifiedBy>
  <dcterms:modified xsi:type="dcterms:W3CDTF">2002-10-09T17:48:52Z</dcterms:modified>
  <cp:revision>22</cp:revision>
  <dc:subject/>
  <dc:title>Pattern Recognition</dc:title>
</cp:coreProperties>
</file>