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BC43-CEDD-4D6D-A759-C9E0A93F7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C844-3FAD-4EF2-BE9A-3EB77973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2606-8CD2-451C-9BD7-2183D1AF0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9562-7DFF-4307-AF58-77B6CB74E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304A2-1250-4ED7-B46D-179D71A02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F271-8F58-48C6-9CAA-071954AC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DBC8-10A4-4F90-96FE-60A23B44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534F-C43B-4E2E-8750-B158CCE0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B899-94BB-4686-8E62-547BB62F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2DE6-F942-40D0-8B22-B138E5E8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855E-AB8D-4792-AA4B-24301278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3C3A-3F08-45DF-9CF5-2A729044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7B94-AE8F-44CD-8EAD-453D97E5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E4D8-4B2F-46E5-82B5-F124969C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B093-3ABC-471A-95F4-EF710469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08D3-F6D3-4425-80A8-CF7543877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2048-684A-4C4F-9C65-545F8D7E0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0642-E328-4A6A-9A50-02BDF84A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E88D-132C-472C-99B4-9BA0AAE1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1356-C940-4D9C-87E7-A7D6FBAB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8578-F627-483A-BB25-7BF08787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18E3-569D-49DF-A180-EB2EECA3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5CE2-EC06-4F12-93AB-358074A9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DF01-BE9D-4B76-A974-D1F882E4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057E-D0F4-4734-BDEE-D38496929D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C660-1763-4AFF-934A-174D6E1A6A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atching in 2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3429000"/>
            <a:ext cx="1295280" cy="45720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90920" y="3124080"/>
            <a:ext cx="609480" cy="30492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886200"/>
            <a:ext cx="152640" cy="152280"/>
          </a:xfrm>
          <a:prstGeom prst="ellipse">
            <a:avLst/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3886200"/>
            <a:ext cx="152640" cy="152280"/>
          </a:xfrm>
          <a:prstGeom prst="ellipse">
            <a:avLst/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2057400"/>
            <a:ext cx="2743200" cy="289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426200">
            <a:off x="6095520" y="3657240"/>
            <a:ext cx="1447920" cy="53352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618800">
            <a:off x="6324480" y="3200400"/>
            <a:ext cx="685800" cy="38088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5880" y="3962520"/>
            <a:ext cx="228600" cy="228600"/>
          </a:xfrm>
          <a:prstGeom prst="ellipse">
            <a:avLst/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4343400"/>
            <a:ext cx="228600" cy="228600"/>
          </a:xfrm>
          <a:prstGeom prst="ellipse">
            <a:avLst/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86400" y="3962520"/>
            <a:ext cx="1873080" cy="1092240"/>
          </a:xfrm>
          <a:custGeom>
            <a:avLst/>
            <a:gdLst/>
            <a:ahLst/>
            <a:rect l="l" t="t" r="r" b="b"/>
            <a:pathLst>
              <a:path w="1180" h="688">
                <a:moveTo>
                  <a:pt x="118" y="17"/>
                </a:moveTo>
                <a:cubicBezTo>
                  <a:pt x="148" y="106"/>
                  <a:pt x="126" y="199"/>
                  <a:pt x="111" y="288"/>
                </a:cubicBezTo>
                <a:cubicBezTo>
                  <a:pt x="126" y="688"/>
                  <a:pt x="0" y="674"/>
                  <a:pt x="201" y="656"/>
                </a:cubicBezTo>
                <a:cubicBezTo>
                  <a:pt x="517" y="664"/>
                  <a:pt x="829" y="665"/>
                  <a:pt x="1145" y="656"/>
                </a:cubicBezTo>
                <a:cubicBezTo>
                  <a:pt x="1152" y="654"/>
                  <a:pt x="1162" y="655"/>
                  <a:pt x="1166" y="649"/>
                </a:cubicBezTo>
                <a:cubicBezTo>
                  <a:pt x="1175" y="637"/>
                  <a:pt x="1180" y="607"/>
                  <a:pt x="1180" y="607"/>
                </a:cubicBezTo>
                <a:cubicBezTo>
                  <a:pt x="1178" y="595"/>
                  <a:pt x="1179" y="582"/>
                  <a:pt x="1173" y="572"/>
                </a:cubicBezTo>
                <a:cubicBezTo>
                  <a:pt x="1141" y="523"/>
                  <a:pt x="1140" y="543"/>
                  <a:pt x="1110" y="517"/>
                </a:cubicBezTo>
                <a:cubicBezTo>
                  <a:pt x="1089" y="499"/>
                  <a:pt x="1077" y="479"/>
                  <a:pt x="1055" y="461"/>
                </a:cubicBezTo>
                <a:cubicBezTo>
                  <a:pt x="1031" y="442"/>
                  <a:pt x="1028" y="423"/>
                  <a:pt x="999" y="413"/>
                </a:cubicBezTo>
                <a:cubicBezTo>
                  <a:pt x="985" y="399"/>
                  <a:pt x="976" y="386"/>
                  <a:pt x="958" y="378"/>
                </a:cubicBezTo>
                <a:cubicBezTo>
                  <a:pt x="945" y="372"/>
                  <a:pt x="928" y="372"/>
                  <a:pt x="916" y="364"/>
                </a:cubicBezTo>
                <a:cubicBezTo>
                  <a:pt x="869" y="332"/>
                  <a:pt x="891" y="341"/>
                  <a:pt x="854" y="330"/>
                </a:cubicBezTo>
                <a:cubicBezTo>
                  <a:pt x="835" y="317"/>
                  <a:pt x="812" y="304"/>
                  <a:pt x="791" y="295"/>
                </a:cubicBezTo>
                <a:cubicBezTo>
                  <a:pt x="778" y="289"/>
                  <a:pt x="762" y="289"/>
                  <a:pt x="750" y="281"/>
                </a:cubicBezTo>
                <a:cubicBezTo>
                  <a:pt x="704" y="250"/>
                  <a:pt x="657" y="209"/>
                  <a:pt x="604" y="191"/>
                </a:cubicBezTo>
                <a:cubicBezTo>
                  <a:pt x="566" y="178"/>
                  <a:pt x="521" y="181"/>
                  <a:pt x="486" y="163"/>
                </a:cubicBezTo>
                <a:cubicBezTo>
                  <a:pt x="460" y="150"/>
                  <a:pt x="467" y="147"/>
                  <a:pt x="444" y="128"/>
                </a:cubicBezTo>
                <a:cubicBezTo>
                  <a:pt x="428" y="115"/>
                  <a:pt x="401" y="102"/>
                  <a:pt x="382" y="94"/>
                </a:cubicBezTo>
                <a:cubicBezTo>
                  <a:pt x="368" y="88"/>
                  <a:pt x="354" y="85"/>
                  <a:pt x="340" y="80"/>
                </a:cubicBezTo>
                <a:cubicBezTo>
                  <a:pt x="322" y="74"/>
                  <a:pt x="285" y="66"/>
                  <a:pt x="285" y="66"/>
                </a:cubicBezTo>
                <a:cubicBezTo>
                  <a:pt x="259" y="49"/>
                  <a:pt x="243" y="35"/>
                  <a:pt x="215" y="24"/>
                </a:cubicBezTo>
                <a:cubicBezTo>
                  <a:pt x="202" y="19"/>
                  <a:pt x="188" y="15"/>
                  <a:pt x="174" y="10"/>
                </a:cubicBezTo>
                <a:cubicBezTo>
                  <a:pt x="167" y="8"/>
                  <a:pt x="153" y="3"/>
                  <a:pt x="153" y="3"/>
                </a:cubicBezTo>
                <a:cubicBezTo>
                  <a:pt x="108" y="11"/>
                  <a:pt x="101" y="0"/>
                  <a:pt x="118" y="17"/>
                </a:cubicBezTo>
                <a:close/>
              </a:path>
            </a:pathLst>
          </a:custGeom>
          <a:solidFill>
            <a:srgbClr val="6d6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29320" y="3943440"/>
            <a:ext cx="111240" cy="774720"/>
          </a:xfrm>
          <a:custGeom>
            <a:avLst/>
            <a:gdLst/>
            <a:ahLst/>
            <a:rect l="l" t="t" r="r" b="b"/>
            <a:pathLst>
              <a:path w="70" h="488">
                <a:moveTo>
                  <a:pt x="21" y="28"/>
                </a:moveTo>
                <a:cubicBezTo>
                  <a:pt x="16" y="42"/>
                  <a:pt x="12" y="56"/>
                  <a:pt x="7" y="70"/>
                </a:cubicBezTo>
                <a:cubicBezTo>
                  <a:pt x="5" y="77"/>
                  <a:pt x="0" y="91"/>
                  <a:pt x="0" y="91"/>
                </a:cubicBezTo>
                <a:cubicBezTo>
                  <a:pt x="4" y="204"/>
                  <a:pt x="7" y="285"/>
                  <a:pt x="28" y="389"/>
                </a:cubicBezTo>
                <a:cubicBezTo>
                  <a:pt x="30" y="419"/>
                  <a:pt x="28" y="450"/>
                  <a:pt x="35" y="479"/>
                </a:cubicBezTo>
                <a:cubicBezTo>
                  <a:pt x="37" y="488"/>
                  <a:pt x="42" y="461"/>
                  <a:pt x="42" y="452"/>
                </a:cubicBezTo>
                <a:cubicBezTo>
                  <a:pt x="49" y="303"/>
                  <a:pt x="43" y="208"/>
                  <a:pt x="70" y="77"/>
                </a:cubicBezTo>
                <a:cubicBezTo>
                  <a:pt x="66" y="60"/>
                  <a:pt x="49" y="0"/>
                  <a:pt x="21" y="28"/>
                </a:cubicBezTo>
                <a:close/>
              </a:path>
            </a:pathLst>
          </a:custGeom>
          <a:solidFill>
            <a:srgbClr val="6d6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622840" y="4246560"/>
            <a:ext cx="209520" cy="633240"/>
          </a:xfrm>
          <a:custGeom>
            <a:avLst/>
            <a:gdLst/>
            <a:ahLst/>
            <a:rect l="l" t="t" r="r" b="b"/>
            <a:pathLst>
              <a:path w="132" h="399">
                <a:moveTo>
                  <a:pt x="18" y="32"/>
                </a:moveTo>
                <a:cubicBezTo>
                  <a:pt x="12" y="214"/>
                  <a:pt x="0" y="245"/>
                  <a:pt x="18" y="399"/>
                </a:cubicBezTo>
                <a:cubicBezTo>
                  <a:pt x="50" y="391"/>
                  <a:pt x="62" y="385"/>
                  <a:pt x="81" y="358"/>
                </a:cubicBezTo>
                <a:cubicBezTo>
                  <a:pt x="61" y="328"/>
                  <a:pt x="73" y="308"/>
                  <a:pt x="81" y="274"/>
                </a:cubicBezTo>
                <a:cubicBezTo>
                  <a:pt x="93" y="225"/>
                  <a:pt x="107" y="179"/>
                  <a:pt x="115" y="129"/>
                </a:cubicBezTo>
                <a:cubicBezTo>
                  <a:pt x="106" y="2"/>
                  <a:pt x="132" y="0"/>
                  <a:pt x="18" y="32"/>
                </a:cubicBezTo>
                <a:close/>
              </a:path>
            </a:pathLst>
          </a:custGeom>
          <a:solidFill>
            <a:srgbClr val="6d6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96080" y="2362320"/>
            <a:ext cx="228600" cy="228600"/>
          </a:xfrm>
          <a:prstGeom prst="ellipse">
            <a:avLst/>
          </a:prstGeom>
          <a:solidFill>
            <a:srgbClr val="dbdf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61240" y="449568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ine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2120" y="5257800"/>
            <a:ext cx="280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age containing 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tance of the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29920" y="5272200"/>
            <a:ext cx="3422160" cy="7038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s there an engine in the imag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f so, where is it locate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5F4A-8F31-40AD-A1A5-CCB94755423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A More Robust Approach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351080" y="1870200"/>
            <a:ext cx="70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sing only 3 points is dangerous, because if even one 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ff, the transformation can be far from correc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360080" y="3124080"/>
            <a:ext cx="67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tead, use many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(n =10 or more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airs of matc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 points to determine a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least squares estima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ix parameters of the affine transform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09440" y="4572000"/>
            <a:ext cx="5790240" cy="155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ror(a11, a12, a13, a21, a22, a23)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(a11*xj + a12*yj + a13 - uj)  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21*xj + a22*yj + a23 - vj)  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821320" y="5586480"/>
            <a:ext cx="60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=1,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64000" y="51814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148160" y="5624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07B0-6411-4BD5-87F1-68EDFF6A6D0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he Equations to Solv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rcRect l="19376" t="39846" r="16250" b="26564"/>
          <a:stretch/>
        </p:blipFill>
        <p:spPr>
          <a:xfrm>
            <a:off x="1066680" y="2286000"/>
            <a:ext cx="7848720" cy="32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BB36-B784-4707-B8AF-D75F2EA1A6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at is this for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593360" y="2025720"/>
            <a:ext cx="7008120" cy="393444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Many 2D matching techniques use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1. Local-Feature Focus Meth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2. Pose Cluster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3. Geometric Hash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DD64-FA75-46A9-8951-A84B49D554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Local-Feature-Focus Metho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42800" y="1946160"/>
            <a:ext cx="7663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model has a set of features (interesting point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- The focus features are the particularly detectable featur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usually representing several different areas of the mod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-  Each focus feature has a set of nearby features tha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can be used, along with the focus feature, to comp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e transforma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724280" y="5105520"/>
            <a:ext cx="1676520" cy="1218960"/>
          </a:xfrm>
          <a:prstGeom prst="plus">
            <a:avLst>
              <a:gd name="adj" fmla="val 25000"/>
            </a:avLst>
          </a:prstGeom>
          <a:solidFill>
            <a:srgbClr val="00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14800" y="54100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29200" y="47242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00600" y="556272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5029200" y="63241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114800" y="60199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5181480" y="563868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993720" y="537516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cus fe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57D0-CFB2-440E-BB7C-93600EB8FA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LFF Algorithm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68440" y="1447920"/>
            <a:ext cx="8600760" cy="49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t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be the set of detected image featu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t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be focus features of the mod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t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(f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be the nearby features for feature 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each focus feature F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each image feature Gi of the same type as F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find the maximal subgrap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m of S(Fm) that matches a subgraph Si of S(Gi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.  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Compute transforma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T that maps the poi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f each feature of Sm to the corresponding one of S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.  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Apply T to the line segmen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of the mode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.  If enough transformed segments find 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evidence in the imag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return(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433520" y="3241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1DE4-7613-4CD8-AE40-E00044203F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Example Match 1: Good Match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rcRect l="33752" t="23438" r="34377" b="50784"/>
          <a:stretch/>
        </p:blipFill>
        <p:spPr>
          <a:xfrm>
            <a:off x="1600200" y="1219320"/>
            <a:ext cx="5867280" cy="37972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310" name=""/>
          <p:cNvSpPr/>
          <p:nvPr/>
        </p:nvSpPr>
        <p:spPr>
          <a:xfrm>
            <a:off x="2514600" y="2286000"/>
            <a:ext cx="380880" cy="3808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048120" y="2666880"/>
            <a:ext cx="7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819520" y="2133720"/>
            <a:ext cx="174600" cy="155520"/>
          </a:xfrm>
          <a:custGeom>
            <a:avLst/>
            <a:gdLst/>
            <a:ahLst/>
            <a:rect l="l" t="t" r="r" b="b"/>
            <a:pathLst>
              <a:path w="110" h="98">
                <a:moveTo>
                  <a:pt x="0" y="8"/>
                </a:moveTo>
                <a:cubicBezTo>
                  <a:pt x="110" y="17"/>
                  <a:pt x="97" y="0"/>
                  <a:pt x="97" y="98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2590920"/>
            <a:ext cx="150840" cy="139680"/>
          </a:xfrm>
          <a:custGeom>
            <a:avLst/>
            <a:gdLst/>
            <a:ahLst/>
            <a:rect l="l" t="t" r="r" b="b"/>
            <a:pathLst>
              <a:path w="95" h="88">
                <a:moveTo>
                  <a:pt x="0" y="70"/>
                </a:moveTo>
                <a:cubicBezTo>
                  <a:pt x="95" y="61"/>
                  <a:pt x="76" y="88"/>
                  <a:pt x="76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90920" y="2666880"/>
            <a:ext cx="156960" cy="111240"/>
          </a:xfrm>
          <a:custGeom>
            <a:avLst/>
            <a:gdLst/>
            <a:ahLst/>
            <a:rect l="l" t="t" r="r" b="b"/>
            <a:pathLst>
              <a:path w="99" h="70">
                <a:moveTo>
                  <a:pt x="23" y="70"/>
                </a:moveTo>
                <a:cubicBezTo>
                  <a:pt x="0" y="0"/>
                  <a:pt x="38" y="15"/>
                  <a:pt x="99" y="15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72640" y="5105520"/>
            <a:ext cx="4932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590120" y="5958000"/>
            <a:ext cx="4932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656800" y="5958000"/>
            <a:ext cx="4932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663360" y="5943600"/>
            <a:ext cx="4932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486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1981080" y="5486400"/>
            <a:ext cx="9144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95480" y="5486400"/>
            <a:ext cx="8384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057400" y="61722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200400" y="61722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254280" y="5105520"/>
            <a:ext cx="4503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19120" y="5881680"/>
            <a:ext cx="4503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254280" y="5867280"/>
            <a:ext cx="4503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320960" y="5867280"/>
            <a:ext cx="4503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77120" y="5486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5333760" y="5486400"/>
            <a:ext cx="114300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477120" y="5486400"/>
            <a:ext cx="99036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86400" y="60958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705720" y="60958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86400" y="1752480"/>
            <a:ext cx="380880" cy="381240"/>
          </a:xfrm>
          <a:prstGeom prst="ellipse">
            <a:avLst/>
          </a:prstGeom>
          <a:solidFill>
            <a:srgbClr val="33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91320" y="1676520"/>
            <a:ext cx="174600" cy="155520"/>
          </a:xfrm>
          <a:custGeom>
            <a:avLst/>
            <a:gdLst/>
            <a:ahLst/>
            <a:rect l="l" t="t" r="r" b="b"/>
            <a:pathLst>
              <a:path w="110" h="98">
                <a:moveTo>
                  <a:pt x="0" y="8"/>
                </a:moveTo>
                <a:cubicBezTo>
                  <a:pt x="110" y="17"/>
                  <a:pt x="97" y="0"/>
                  <a:pt x="97" y="98"/>
                </a:cubicBezTo>
              </a:path>
            </a:pathLst>
          </a:custGeom>
          <a:noFill/>
          <a:ln w="284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4906200">
            <a:off x="5937840" y="1910520"/>
            <a:ext cx="150840" cy="139680"/>
          </a:xfrm>
          <a:custGeom>
            <a:avLst/>
            <a:gdLst/>
            <a:ahLst/>
            <a:rect l="l" t="t" r="r" b="b"/>
            <a:pathLst>
              <a:path w="95" h="88">
                <a:moveTo>
                  <a:pt x="0" y="70"/>
                </a:moveTo>
                <a:cubicBezTo>
                  <a:pt x="95" y="61"/>
                  <a:pt x="76" y="88"/>
                  <a:pt x="76" y="0"/>
                </a:cubicBezTo>
              </a:path>
            </a:pathLst>
          </a:custGeom>
          <a:noFill/>
          <a:ln w="284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16190400">
            <a:off x="5400360" y="1685520"/>
            <a:ext cx="174600" cy="155520"/>
          </a:xfrm>
          <a:custGeom>
            <a:avLst/>
            <a:gdLst/>
            <a:ahLst/>
            <a:rect l="l" t="t" r="r" b="b"/>
            <a:pathLst>
              <a:path w="110" h="98">
                <a:moveTo>
                  <a:pt x="0" y="8"/>
                </a:moveTo>
                <a:cubicBezTo>
                  <a:pt x="110" y="17"/>
                  <a:pt x="97" y="0"/>
                  <a:pt x="97" y="98"/>
                </a:cubicBezTo>
              </a:path>
            </a:pathLst>
          </a:custGeom>
          <a:noFill/>
          <a:ln w="284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3ABE-A61B-47DD-A8E8-15AB145C5C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Example Match 2: Poor Match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rcRect l="33752" t="23438" r="34377" b="50784"/>
          <a:stretch/>
        </p:blipFill>
        <p:spPr>
          <a:xfrm>
            <a:off x="1600200" y="1219320"/>
            <a:ext cx="5867280" cy="37972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339" name=""/>
          <p:cNvSpPr/>
          <p:nvPr/>
        </p:nvSpPr>
        <p:spPr>
          <a:xfrm>
            <a:off x="2514600" y="3124080"/>
            <a:ext cx="380880" cy="3812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048120" y="2666880"/>
            <a:ext cx="7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672640" y="5105520"/>
            <a:ext cx="4932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90120" y="5958000"/>
            <a:ext cx="4932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56800" y="5958000"/>
            <a:ext cx="4932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663360" y="5943600"/>
            <a:ext cx="4932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895480" y="5486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1981080" y="5486400"/>
            <a:ext cx="9144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895480" y="5486400"/>
            <a:ext cx="8384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57400" y="61722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200400" y="61722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254640" y="5105520"/>
            <a:ext cx="46404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019480" y="5881680"/>
            <a:ext cx="46404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54640" y="5867280"/>
            <a:ext cx="46404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321320" y="5867280"/>
            <a:ext cx="46404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477120" y="5486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5333760" y="5486400"/>
            <a:ext cx="114300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477120" y="5486400"/>
            <a:ext cx="99036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486400" y="60958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705720" y="60958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715000" y="2819520"/>
            <a:ext cx="380880" cy="380880"/>
          </a:xfrm>
          <a:prstGeom prst="ellipse">
            <a:avLst/>
          </a:prstGeom>
          <a:solidFill>
            <a:srgbClr val="33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4906200">
            <a:off x="2585160" y="2900880"/>
            <a:ext cx="150840" cy="139680"/>
          </a:xfrm>
          <a:custGeom>
            <a:avLst/>
            <a:gdLst/>
            <a:ahLst/>
            <a:rect l="l" t="t" r="r" b="b"/>
            <a:pathLst>
              <a:path w="95" h="88">
                <a:moveTo>
                  <a:pt x="0" y="70"/>
                </a:moveTo>
                <a:cubicBezTo>
                  <a:pt x="95" y="61"/>
                  <a:pt x="76" y="88"/>
                  <a:pt x="76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rot="16190400">
            <a:off x="6086160" y="2828520"/>
            <a:ext cx="174600" cy="155520"/>
          </a:xfrm>
          <a:custGeom>
            <a:avLst/>
            <a:gdLst/>
            <a:ahLst/>
            <a:rect l="l" t="t" r="r" b="b"/>
            <a:pathLst>
              <a:path w="110" h="98">
                <a:moveTo>
                  <a:pt x="0" y="8"/>
                </a:moveTo>
                <a:cubicBezTo>
                  <a:pt x="110" y="17"/>
                  <a:pt x="97" y="0"/>
                  <a:pt x="97" y="98"/>
                </a:cubicBezTo>
              </a:path>
            </a:pathLst>
          </a:custGeom>
          <a:noFill/>
          <a:ln w="284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048120" y="3124080"/>
            <a:ext cx="380880" cy="3812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581280" y="3124080"/>
            <a:ext cx="381240" cy="3812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715000" y="3352680"/>
            <a:ext cx="380880" cy="381240"/>
          </a:xfrm>
          <a:prstGeom prst="ellipse">
            <a:avLst/>
          </a:prstGeom>
          <a:solidFill>
            <a:srgbClr val="33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715000" y="3886200"/>
            <a:ext cx="380880" cy="380880"/>
          </a:xfrm>
          <a:prstGeom prst="ellipse">
            <a:avLst/>
          </a:prstGeom>
          <a:solidFill>
            <a:srgbClr val="33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705720" y="39625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438280" y="3505320"/>
            <a:ext cx="1600200" cy="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4038480" y="2666520"/>
            <a:ext cx="0" cy="83844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3733920" y="2666880"/>
            <a:ext cx="304560" cy="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733920" y="2666880"/>
            <a:ext cx="0" cy="45720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2666880" y="3124080"/>
            <a:ext cx="1067040" cy="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2438280" y="2742840"/>
            <a:ext cx="0" cy="76212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438280" y="2743200"/>
            <a:ext cx="228600" cy="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66880" y="2743200"/>
            <a:ext cx="0" cy="38088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077B-03C9-493B-8CD4-E3904FD73E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Pose Clustering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117080" y="1488960"/>
            <a:ext cx="8151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t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be a transformation aligning model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with image object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pos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f object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its location and orientation,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efined b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dea of pose clustering is to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compute lots of possible po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transformatio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each based on 2 points from the model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 hypothesized corresponding points from the imag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n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cluster all the transformatio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pose space and 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verif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large clust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8C96-76EE-4FDF-872F-E7E75C5585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Pose Clustering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410080" y="1447920"/>
            <a:ext cx="2590920" cy="251460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666880" y="2362320"/>
            <a:ext cx="1067040" cy="91440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rot="5736600">
            <a:off x="6095880" y="1904760"/>
            <a:ext cx="1066680" cy="91440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rot="5736600">
            <a:off x="6324480" y="2438280"/>
            <a:ext cx="1066680" cy="91440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rot="5736600">
            <a:off x="6553080" y="2895480"/>
            <a:ext cx="1066680" cy="91440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958120" y="187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348280" y="3089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19880" y="3089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575800" y="36990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32448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21720" y="1371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700960" y="2631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072560" y="2174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005520" y="316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77120" y="270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34120" y="3546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529760" y="3089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578960" y="5070600"/>
            <a:ext cx="730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rect Match: mapping = { (1,A), (2,B), (3,C)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will be some votes for (B,C) -&gt; (4,5), (B,C) -&gt; (6,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2C8A-9725-4AF4-8E50-F74E4AA66E3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Pose Clustering Applied to Detecting a Particular Airplan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rcRect l="27779" t="34261" r="25000" b="12040"/>
          <a:stretch/>
        </p:blipFill>
        <p:spPr>
          <a:xfrm>
            <a:off x="2209680" y="1981080"/>
            <a:ext cx="518184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EB64-47A3-4BE5-BE61-F309AA95A0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How can the engine in the image differ from that in the model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70160" y="3200400"/>
            <a:ext cx="2157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io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al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kew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077320" y="1295280"/>
            <a:ext cx="838080" cy="5335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543800" y="2666880"/>
            <a:ext cx="838080" cy="5335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1965600">
            <a:off x="6095520" y="3429000"/>
            <a:ext cx="838440" cy="5335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96080" y="4267080"/>
            <a:ext cx="533520" cy="3049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4895400">
            <a:off x="7657920" y="4914360"/>
            <a:ext cx="685800" cy="761760"/>
          </a:xfrm>
          <a:prstGeom prst="parallelogram">
            <a:avLst>
              <a:gd name="adj" fmla="val 25000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02040" y="255600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D Affine Transform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8080" y="4613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01480" y="4800600"/>
            <a:ext cx="26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u          a     b         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v          c     d         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00400" y="4952880"/>
            <a:ext cx="76320" cy="609840"/>
          </a:xfrm>
          <a:custGeom>
            <a:avLst/>
            <a:gdLst>
              <a:gd name="textAreaLeft" fmla="*/ 22320 w 76320"/>
              <a:gd name="textAreaRight" fmla="*/ 76320 w 7632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4952880"/>
            <a:ext cx="76320" cy="609840"/>
          </a:xfrm>
          <a:custGeom>
            <a:avLst/>
            <a:gdLst>
              <a:gd name="textAreaLeft" fmla="*/ 22320 w 76320"/>
              <a:gd name="textAreaRight" fmla="*/ 76320 w 7632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10080" y="4952880"/>
            <a:ext cx="76320" cy="609840"/>
          </a:xfrm>
          <a:custGeom>
            <a:avLst/>
            <a:gdLst>
              <a:gd name="textAreaLeft" fmla="*/ 22320 w 76320"/>
              <a:gd name="textAreaRight" fmla="*/ 76320 w 7632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4952880"/>
            <a:ext cx="75960" cy="609840"/>
          </a:xfrm>
          <a:custGeom>
            <a:avLst/>
            <a:gdLst>
              <a:gd name="textAreaLeft" fmla="*/ 0 w 75960"/>
              <a:gd name="textAreaRight" fmla="*/ 53280 w 7596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76920" y="4952880"/>
            <a:ext cx="75960" cy="609840"/>
          </a:xfrm>
          <a:custGeom>
            <a:avLst/>
            <a:gdLst>
              <a:gd name="textAreaLeft" fmla="*/ 0 w 75960"/>
              <a:gd name="textAreaRight" fmla="*/ 53280 w 7596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791320" y="4952880"/>
            <a:ext cx="75960" cy="609840"/>
          </a:xfrm>
          <a:custGeom>
            <a:avLst/>
            <a:gdLst>
              <a:gd name="textAreaLeft" fmla="*/ 0 w 75960"/>
              <a:gd name="textAreaRight" fmla="*/ 53280 w 7596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000" y="4952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24080" y="5638680"/>
            <a:ext cx="289584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4800600"/>
            <a:ext cx="289584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4800600"/>
            <a:ext cx="0" cy="83808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19920" y="4800600"/>
            <a:ext cx="0" cy="83808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B87D-D360-456B-AEBB-2AEF69EC48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Geometric Hashing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72960" y="1717560"/>
            <a:ext cx="7052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method was developed for the case where there 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whole database of model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o try to find in an imag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trad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 large amount of offline preprocess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 large amount of sp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potentially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fast onlin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bject recogn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ose det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4809-DCC1-4720-8205-3454E23F37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Theory Behind Geometric Hashing</a:t>
            </a:r>
            <a:br>
              <a:rPr sz="4000"/>
            </a:b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350000" y="1793880"/>
            <a:ext cx="620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odel 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a an ordered set of feature poi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981080" y="2590920"/>
            <a:ext cx="1067040" cy="685800"/>
          </a:xfrm>
          <a:custGeom>
            <a:avLst/>
            <a:gdLst>
              <a:gd name="textAreaLeft" fmla="*/ 133200 w 1067040"/>
              <a:gd name="textAreaRight" fmla="*/ 933840 w 106704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62120" y="2400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516040" y="243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728440" y="2224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09680" y="2705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668320" y="3200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500200" y="3009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753920" y="3124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738080" y="2705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351080" y="3622680"/>
            <a:ext cx="6565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ffine basi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any subset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E={e00,e01,e10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 noncollinear points of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basis E, any point x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 can be represented 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ffine coordinat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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x =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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e10 – e00) +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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e01-e00) + e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7086600" y="52578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86600" y="62485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538680" y="514656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15200" y="59086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919920" y="62136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467480" y="54864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620480" y="5181480"/>
            <a:ext cx="127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x = (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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092120" y="2681280"/>
            <a:ext cx="35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M = &lt;P1,P2,P3,P4,P5,P6,P7,P8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904C-D68D-4101-9641-393B68B038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Affine Transfor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89520" y="2057400"/>
            <a:ext cx="6403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x is represented in affine coordinates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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x =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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e10 – e00) +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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e01- e00) + e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we apply affine transform T to point x, we g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x =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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Te10 – Te00) +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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Te01-Te00) + Te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In both cases, x has the same coordinates (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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CC3A-93A6-4FDF-B22C-0032099915A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Example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rcRect l="10415" t="22225" r="11806" b="20370"/>
          <a:stretch/>
        </p:blipFill>
        <p:spPr>
          <a:xfrm>
            <a:off x="304920" y="1905120"/>
            <a:ext cx="8534160" cy="4724280"/>
          </a:xfrm>
          <a:prstGeom prst="rect">
            <a:avLst/>
          </a:prstGeom>
          <a:ln w="9360">
            <a:solidFill>
              <a:srgbClr val="3333ff"/>
            </a:solidFill>
            <a:miter/>
          </a:ln>
        </p:spPr>
      </p:pic>
      <p:sp>
        <p:nvSpPr>
          <p:cNvPr id="424" name=""/>
          <p:cNvSpPr/>
          <p:nvPr/>
        </p:nvSpPr>
        <p:spPr>
          <a:xfrm>
            <a:off x="1658160" y="1336680"/>
            <a:ext cx="19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cc"/>
                </a:solidFill>
                <a:latin typeface="Times New Roman"/>
              </a:rPr>
              <a:t>original 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239440" y="126036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cc"/>
                </a:solidFill>
                <a:latin typeface="Times New Roman"/>
              </a:rPr>
              <a:t>transformed 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1981080" y="3428640"/>
            <a:ext cx="0" cy="685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981080" y="3429000"/>
            <a:ext cx="685800" cy="685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2666520" y="3048120"/>
            <a:ext cx="381240" cy="1143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3048120"/>
            <a:ext cx="304920" cy="10666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429000" y="4114800"/>
            <a:ext cx="762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191120" y="4114800"/>
            <a:ext cx="0" cy="10666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781680" y="3733920"/>
            <a:ext cx="762120" cy="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6781320" y="3733920"/>
            <a:ext cx="762120" cy="76176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781680" y="4495680"/>
            <a:ext cx="1067040" cy="30492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6781680" y="4876920"/>
            <a:ext cx="1067040" cy="38088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781680" y="5257800"/>
            <a:ext cx="0" cy="68580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5714640" y="5943600"/>
            <a:ext cx="1066680" cy="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590920" y="4038480"/>
            <a:ext cx="228600" cy="2286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705720" y="4419720"/>
            <a:ext cx="228600" cy="2286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8C6D-E6FB-49CA-8968-AE84A2E9E8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Offline Preprocessing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600200" y="1981080"/>
            <a:ext cx="6314760" cy="411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each model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tract feature point set F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each noncollinear triple E of FM  (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basi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each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other poi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x of F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calculate (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) for x with respect to 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store (M,E) in hash table H at index (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AB5A-CFEF-4F09-A9C5-94C747C7595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Hash Tabl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981080" y="2590920"/>
            <a:ext cx="3581640" cy="28191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809880" y="2590920"/>
            <a:ext cx="1752840" cy="28191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81080" y="2590920"/>
            <a:ext cx="1828800" cy="137160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809880" y="2590920"/>
            <a:ext cx="1752840" cy="137160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95480" y="2590920"/>
            <a:ext cx="0" cy="2819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648320" y="259092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981080" y="3352680"/>
            <a:ext cx="358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981080" y="4724280"/>
            <a:ext cx="358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3040" y="39625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413160" y="194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63960" y="1981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91120" y="4343400"/>
            <a:ext cx="25146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48640" y="4079880"/>
            <a:ext cx="1095120" cy="1922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1, E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2, E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n, 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474960" y="2971800"/>
            <a:ext cx="188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list of model 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asis pai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09880" y="3962520"/>
            <a:ext cx="838440" cy="761760"/>
          </a:xfrm>
          <a:prstGeom prst="rect">
            <a:avLst/>
          </a:prstGeom>
          <a:solidFill>
            <a:srgbClr val="00cc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E490-DE90-49FD-82DF-1F1D6AA597D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Online Recognition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423440" y="1641600"/>
            <a:ext cx="6081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initializ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ccumulator A to all ze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extract featu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oints from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each basis triple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/* one basis *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each other point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v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/* each image point *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alculate (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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) for v with respect to 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retrieve list 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from hash table at index (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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for each pair (M,E) of 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[M,E] = A[M,E] +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 peaks in accumulator array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each peak (M,E) in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culate and try to verify 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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 F = 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781680" y="121932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010280" y="762120"/>
            <a:ext cx="1905120" cy="16761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326280" y="8380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3086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326280" y="20574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005600" y="228600"/>
            <a:ext cx="185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1      …         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467480" y="762120"/>
            <a:ext cx="0" cy="1676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924680" y="762120"/>
            <a:ext cx="0" cy="1676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381880" y="762120"/>
            <a:ext cx="0" cy="1676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010280" y="114300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010280" y="213372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402240" y="1143000"/>
            <a:ext cx="25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924680" y="1523880"/>
            <a:ext cx="457200" cy="3049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153280" y="1676520"/>
            <a:ext cx="0" cy="1371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544160" y="3200400"/>
            <a:ext cx="13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(M,E)-&gt;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C69E-CE69-4A7B-A5D8-CBCF55B3A35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2D Object Recognition Paradigm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271160" y="2098800"/>
            <a:ext cx="704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can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formalize the recogni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proble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s fin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pping from model structures to image structu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n we can look at different paradigms for solving 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899360" y="4038480"/>
            <a:ext cx="339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- interpretation tree sear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- discrete relax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- relational di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- continuous relax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C914-4D7E-43E2-BB8B-566FC2FF5E7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Formalis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430640" y="2022480"/>
            <a:ext cx="6723000" cy="3385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ar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unit) is a structure in the scen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ch as a region or segment or corn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label is a symbol assigned to identify the par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N-ary rel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a set of N-tuples defined over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 of parts or a set of labe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assignme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a mapping from parts to labe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E4D5-6A83-4B1D-9FD2-40E780C67CD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590920" y="20574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156360" y="187020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438280" y="2819520"/>
            <a:ext cx="1295640" cy="129528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410080" y="2590920"/>
            <a:ext cx="2971800" cy="3352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400800" y="2819520"/>
            <a:ext cx="685800" cy="6858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172200" y="3505320"/>
            <a:ext cx="1143000" cy="10666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9920" y="4572000"/>
            <a:ext cx="1447560" cy="1295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486760" y="289548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ircle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401160" y="388620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ircle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401160" y="495288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ircle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315560" y="259092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ircle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ircle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rc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6705360" y="2743200"/>
            <a:ext cx="60948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6934320" y="3048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6933960" y="33526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172200" y="30481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03840" y="32148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he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905120" y="3429000"/>
            <a:ext cx="53316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661040" y="260496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eye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86560" y="26668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eye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3352680" y="2895480"/>
            <a:ext cx="533520" cy="304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209680" y="2819520"/>
            <a:ext cx="609840" cy="3808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667240" y="441972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sm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2971800" y="3886200"/>
            <a:ext cx="76320" cy="5335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348920" y="5070600"/>
            <a:ext cx="438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What are the relationship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What is the best assig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f model labels to image featur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C0B8-FF91-4D6E-B2DD-62CEC658145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Point Representation and Transformat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76560" y="2556000"/>
            <a:ext cx="5439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mal Coordinates for a 2D 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 = [x, y]   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mogeneous Coordin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 = [sx, sy, s]    where s is a scale fa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20960" y="32004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95840" y="308916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81280" y="3200400"/>
            <a:ext cx="152640" cy="685800"/>
          </a:xfrm>
          <a:custGeom>
            <a:avLst/>
            <a:gdLst>
              <a:gd name="textAreaLeft" fmla="*/ 44640 w 152640"/>
              <a:gd name="textAreaRight" fmla="*/ 153000 w 15264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91120" y="3200400"/>
            <a:ext cx="152280" cy="685800"/>
          </a:xfrm>
          <a:custGeom>
            <a:avLst/>
            <a:gdLst>
              <a:gd name="textAreaLeft" fmla="*/ 0 w 152280"/>
              <a:gd name="textAreaRight" fmla="*/ 106920 w 15228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38280" y="49910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CD15-6BD0-41EC-AD2F-32C4500705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onsistent Labeling Defini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136520" y="1981080"/>
            <a:ext cx="7832880" cy="44830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iv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a set of units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a set of labels for those units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a relation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ver set 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a relation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ver set 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nsistent labeling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f is a mapping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: P -&gt; L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satisfy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f (pi, pj)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RP, then (f(pi), f(pj))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which means that a consistent labeling preserves relationship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6A3F-DFA2-477B-8087-EE979257D1C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Abstract Example </a:t>
            </a: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590840" y="2403360"/>
            <a:ext cx="333000" cy="459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819520" y="2438280"/>
            <a:ext cx="345960" cy="459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048040" y="3546360"/>
            <a:ext cx="333000" cy="459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330960" y="1523880"/>
            <a:ext cx="3330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324040" y="2403360"/>
            <a:ext cx="3164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245000" y="2362320"/>
            <a:ext cx="3164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416560" y="3809880"/>
            <a:ext cx="3330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5000" y="3809880"/>
            <a:ext cx="3164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981080" y="2819520"/>
            <a:ext cx="83844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1905120" y="2514600"/>
            <a:ext cx="91440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2285640" y="2895480"/>
            <a:ext cx="685800" cy="60984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 flipV="1">
            <a:off x="6629040" y="19051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5638320" y="2514600"/>
            <a:ext cx="16002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638680" y="2743200"/>
            <a:ext cx="16002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5638320" y="2819520"/>
            <a:ext cx="1752840" cy="990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5714640" y="403848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7391520" y="281916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677600" y="4495680"/>
            <a:ext cx="157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P = {1,2,3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257800" y="449568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 = {a,b,c,d,e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430280" y="1717560"/>
            <a:ext cx="24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inary relation R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316120" y="650880"/>
            <a:ext cx="24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nary relation 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524240" y="4876920"/>
            <a:ext cx="28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RP={1,2),(2,1),(2,3)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180400" y="4952880"/>
            <a:ext cx="308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L = {(a,c),(c,a),(c,b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c,d),(e,c),(e,d)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197720" y="6060960"/>
            <a:ext cx="542484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ne consistent labeling is {(1,a),(2,c),(3,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A218-3987-49F2-8231-7317E915A27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House Example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rcRect l="22500" t="30470" r="22500" b="25782"/>
          <a:stretch/>
        </p:blipFill>
        <p:spPr>
          <a:xfrm>
            <a:off x="1371600" y="1295280"/>
            <a:ext cx="6705720" cy="426744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1204560" y="5603760"/>
            <a:ext cx="130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f(S1)=S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f(S2)=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f(S3)=S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744280" y="5638680"/>
            <a:ext cx="130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f(S4)=S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f(S5)=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f(S6)=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496400" y="5670720"/>
            <a:ext cx="138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f(S7)=S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f(S8) = S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f(S9)=S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325560" y="5638680"/>
            <a:ext cx="145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f(S10)=S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f(S11)=S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643200" y="28605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78920" y="2895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104800" y="3352680"/>
            <a:ext cx="28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RP and RL 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nnection rela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438280" y="4191120"/>
            <a:ext cx="38124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048120" y="4800600"/>
            <a:ext cx="38088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D41F-D294-43C3-86AF-8560FDC4840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1. Interpretation Tree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505160" y="2174760"/>
            <a:ext cx="6308280" cy="3751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nterpretation tre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a tree that represents 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ignments of labels to par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path from the root node to a leaf repres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(partial) assignment of labels to par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ery path terminates as ei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a complete consistent labe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a failed partial assig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14BC-1C44-481D-9D6A-E7B49AFADB5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Interpretation Tree Example</a:t>
            </a: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530360" y="1523880"/>
            <a:ext cx="333000" cy="459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743200" y="1523880"/>
            <a:ext cx="345960" cy="459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835280" y="2514600"/>
            <a:ext cx="333000" cy="459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398000" y="762120"/>
            <a:ext cx="3330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330600" y="1676520"/>
            <a:ext cx="3164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8235720" y="1676520"/>
            <a:ext cx="3164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407280" y="3200400"/>
            <a:ext cx="3330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311680" y="3124080"/>
            <a:ext cx="3164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905120" y="1905120"/>
            <a:ext cx="8380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1828800" y="1752480"/>
            <a:ext cx="91440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2209320" y="2057400"/>
            <a:ext cx="685800" cy="60948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 flipV="1">
            <a:off x="7619760" y="12193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6629040" y="1752480"/>
            <a:ext cx="16002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629400" y="1981080"/>
            <a:ext cx="16002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6552720" y="2133720"/>
            <a:ext cx="1752840" cy="990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6781680" y="335268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8458200" y="213336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191120" y="3276720"/>
            <a:ext cx="75960" cy="759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880360" y="392760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(1,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965600" y="4613400"/>
            <a:ext cx="316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(2,b)                        (2,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184560" y="552780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(3,b)        (3,d)           (3,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757520" y="5562720"/>
            <a:ext cx="1179000" cy="642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(1,2) </a:t>
            </a:r>
            <a:r>
              <a:rPr b="0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R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(a,b) </a:t>
            </a:r>
            <a:r>
              <a:rPr b="0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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R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135880" y="5105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187440" y="613728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406760" y="6060960"/>
            <a:ext cx="6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929920" y="598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3276720" y="3352680"/>
            <a:ext cx="914400" cy="6098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2438280" y="4343400"/>
            <a:ext cx="533520" cy="304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429000" y="4343400"/>
            <a:ext cx="1066680" cy="304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3580920" y="5029200"/>
            <a:ext cx="1143000" cy="6094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724280" y="5029200"/>
            <a:ext cx="0" cy="5335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724280" y="5029200"/>
            <a:ext cx="1447920" cy="6094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948120" y="3851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794760" y="278460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776920" y="4613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1419-0DE3-4FDE-86A8-1FD82F2D1D7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ree Search Algorithm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1"/>
          <a:srcRect l="26875" t="39846" r="33752" b="14065"/>
          <a:stretch/>
        </p:blipFill>
        <p:spPr>
          <a:xfrm>
            <a:off x="2133720" y="1752480"/>
            <a:ext cx="4800600" cy="449604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7161480" y="2438280"/>
            <a:ext cx="165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sear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on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lexity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162200" y="4648320"/>
            <a:ext cx="181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 w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it f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all eno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813D-2E56-4EC6-9366-E632350FC2A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2. Discrete Relaxation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424520" y="1946160"/>
            <a:ext cx="6931800" cy="33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crete relaxation is an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lternative t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or addition t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nterpretation tree searc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laxation is an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iterativ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echnique with polynom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 complex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laxation uses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local constraint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t each it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can be implemented on parallel machi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655E-296C-479E-A431-C6543357075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How Discrete Relaxation Works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274400" y="1565280"/>
            <a:ext cx="7085880" cy="484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Each unit is assigned a set of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initial possible label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All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relations are check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o see if some pairs of lab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e impossible for certain pairs of uni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Inconsistent labels are remov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rom the label se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If any labels have been filtered 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n another pass is execu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se the relaxation part is d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If there is more than one labeling left, a tree sear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be used to find each of th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082F-6293-4B46-9534-2E4DE360243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Example of Discrete Relax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676520" y="2895480"/>
            <a:ext cx="4474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682640" y="4648320"/>
            <a:ext cx="4352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905120" y="33526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602360" y="20574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615360" y="209880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645160" y="2819520"/>
            <a:ext cx="5191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699160" y="4537080"/>
            <a:ext cx="5317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11840" y="2819520"/>
            <a:ext cx="5191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02560" y="2819520"/>
            <a:ext cx="5191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702560" y="4572000"/>
            <a:ext cx="5191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943600" y="32767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924680" y="32767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594880" y="2895480"/>
            <a:ext cx="1287000" cy="3988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L1  L2  L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672280" y="4724280"/>
            <a:ext cx="811800" cy="3988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L6 L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034440" y="3241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269720" y="5527800"/>
            <a:ext cx="687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re is no label in Pj’s label set that is connected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2 in Pi’s label set.  L2 is inconsistent and filtered o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A187-3487-404C-8F3F-35DBD383E00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3. Relational Distance Matching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97680" y="1523880"/>
            <a:ext cx="6172560" cy="3020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fully consistent labeling is unrealisti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image may have missing and extra featur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quired relationships may not always hol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tead of looking for a consistent labeling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can look for the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est mapping from P to 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one that preserves the most relationship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200320" y="5070600"/>
            <a:ext cx="3330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114720" y="5070600"/>
            <a:ext cx="3330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673360" y="5943600"/>
            <a:ext cx="3330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324040" y="5070600"/>
            <a:ext cx="3164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330960" y="5029200"/>
            <a:ext cx="3330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873400" y="5867280"/>
            <a:ext cx="3164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514600" y="53341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2514240" y="54864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362320" y="5562720"/>
            <a:ext cx="4572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2895120" y="5562720"/>
            <a:ext cx="3812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562720" y="5562720"/>
            <a:ext cx="4572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6095520" y="5486400"/>
            <a:ext cx="3812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8817-4482-4B26-9017-F897BA24B21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Scaling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37680" y="2286000"/>
            <a:ext cx="447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´           c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0          x            c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* 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´            0  c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           c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* 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7400" y="2438280"/>
            <a:ext cx="76320" cy="609840"/>
          </a:xfrm>
          <a:custGeom>
            <a:avLst/>
            <a:gdLst>
              <a:gd name="textAreaLeft" fmla="*/ 22320 w 76320"/>
              <a:gd name="textAreaRight" fmla="*/ 76320 w 7632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14600" y="2438280"/>
            <a:ext cx="76320" cy="609840"/>
          </a:xfrm>
          <a:custGeom>
            <a:avLst/>
            <a:gdLst>
              <a:gd name="textAreaLeft" fmla="*/ 0 w 76320"/>
              <a:gd name="textAreaRight" fmla="*/ 53640 w 7632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2438280"/>
            <a:ext cx="76320" cy="609840"/>
          </a:xfrm>
          <a:custGeom>
            <a:avLst/>
            <a:gdLst>
              <a:gd name="textAreaLeft" fmla="*/ 22320 w 76320"/>
              <a:gd name="textAreaRight" fmla="*/ 76320 w 7632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2438280"/>
            <a:ext cx="76320" cy="609840"/>
          </a:xfrm>
          <a:custGeom>
            <a:avLst/>
            <a:gdLst>
              <a:gd name="textAreaLeft" fmla="*/ 0 w 76320"/>
              <a:gd name="textAreaRight" fmla="*/ 53640 w 7632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95680" y="2438280"/>
            <a:ext cx="76320" cy="609840"/>
          </a:xfrm>
          <a:custGeom>
            <a:avLst/>
            <a:gdLst>
              <a:gd name="textAreaLeft" fmla="*/ 22320 w 76320"/>
              <a:gd name="textAreaRight" fmla="*/ 76320 w 7632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952880" y="2438280"/>
            <a:ext cx="76320" cy="609840"/>
          </a:xfrm>
          <a:custGeom>
            <a:avLst/>
            <a:gdLst>
              <a:gd name="textAreaLeft" fmla="*/ 0 w 76320"/>
              <a:gd name="textAreaRight" fmla="*/ 53640 w 7632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05720" y="2438280"/>
            <a:ext cx="75960" cy="609840"/>
          </a:xfrm>
          <a:custGeom>
            <a:avLst/>
            <a:gdLst>
              <a:gd name="textAreaLeft" fmla="*/ 0 w 75960"/>
              <a:gd name="textAreaRight" fmla="*/ 53280 w 7596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2438280"/>
            <a:ext cx="75960" cy="609840"/>
          </a:xfrm>
          <a:custGeom>
            <a:avLst/>
            <a:gdLst>
              <a:gd name="textAreaLeft" fmla="*/ 22320 w 75960"/>
              <a:gd name="textAreaRight" fmla="*/ 76320 w 7596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668320" y="25146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06600" y="25146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36252" t="23438" r="36252" b="57034"/>
          <a:stretch/>
        </p:blipFill>
        <p:spPr>
          <a:xfrm>
            <a:off x="2895480" y="4038480"/>
            <a:ext cx="3353040" cy="19051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 flipV="1">
            <a:off x="3505320" y="5181480"/>
            <a:ext cx="2286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5181480"/>
            <a:ext cx="6858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05320" y="563868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733920" y="4724280"/>
            <a:ext cx="228600" cy="4572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62520" y="4724280"/>
            <a:ext cx="1447560" cy="9144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19720" y="5638680"/>
            <a:ext cx="9903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785640" y="4495680"/>
            <a:ext cx="1665000" cy="1191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caling 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 factor of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bout (0,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A1F5-956E-405C-B23A-A41ADC5799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Preliminary Definitions</a:t>
            </a:r>
            <a:br>
              <a:rPr sz="4000"/>
            </a:b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446480" y="1600200"/>
            <a:ext cx="624312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:  A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elational descrip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P is a sequenc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lations  over a set of primitives 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370880" y="2936880"/>
            <a:ext cx="7378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t DA = {R1,…,RI} be a relational description over 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t DB = {S1,…,SI} be a relational description over 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t f be a 1-1, onto mapping from A to 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any relation R, the composition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given 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 = {(b1,…,bn) | (a1,…,an) is in R and f(ai)=(bi), i=1,n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8766-4AFC-4370-AD01-5D1217DDC49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Example of Composi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523160" y="2168640"/>
            <a:ext cx="73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 = {(b1,…,bn) | (a1,…,an) is in R and f(ai)=(bi), i=1,n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048040" y="3317760"/>
            <a:ext cx="3330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343320" y="3317760"/>
            <a:ext cx="3330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673360" y="4419720"/>
            <a:ext cx="3330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406920" y="3352680"/>
            <a:ext cx="3164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855200" y="3276720"/>
            <a:ext cx="3330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168680" y="4343400"/>
            <a:ext cx="3164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362320" y="3352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2361960" y="365760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705720" y="35053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6705360" y="36576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209680" y="3733920"/>
            <a:ext cx="5335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2971800" y="3809880"/>
            <a:ext cx="53352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629400" y="3809880"/>
            <a:ext cx="6094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7391160" y="3733920"/>
            <a:ext cx="53316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562640" y="3317760"/>
            <a:ext cx="71424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  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  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876920" y="335268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572000" y="37339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572000" y="41148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516400" y="5334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017480" y="536904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725720" y="4572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300680" y="6054840"/>
            <a:ext cx="710892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 is an isomorphic copy of R with nodes renamed by 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6920-C539-48D4-B165-819D90B2FF8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Relational Distance Defini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289520" y="990720"/>
            <a:ext cx="576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t DA be a relational description over set A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B be a relational description over set B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f : A -&gt; 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216440" y="2362320"/>
            <a:ext cx="7065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tructural error of 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or Ri in DA and Si in DB 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E   (f) = | Ri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f - Si | + | Si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f    - Ri |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otal error of 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with respect to DA and DB 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(f)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E   (f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relational distanc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GD(DA,DB) is given 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D(DA,DB) =  min  E(f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71960" y="30099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881440" y="4938840"/>
            <a:ext cx="45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=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971800" y="426708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507120" y="44197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980520" y="6324480"/>
            <a:ext cx="24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 : A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B, f 1-1 and o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792760" y="2971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9323-F5E8-4BA8-BC76-799504FEBC7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971720" y="2098800"/>
            <a:ext cx="3330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114720" y="2098800"/>
            <a:ext cx="3330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987560" y="3048120"/>
            <a:ext cx="3330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114720" y="3089160"/>
            <a:ext cx="3330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628960" y="2022480"/>
            <a:ext cx="3164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781680" y="2057400"/>
            <a:ext cx="3812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644800" y="3124080"/>
            <a:ext cx="3164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788160" y="3124080"/>
            <a:ext cx="3330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286000" y="23623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2362320" y="2590920"/>
            <a:ext cx="76176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362320" y="33526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3276720" y="25909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943600" y="22860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5943600" y="2514600"/>
            <a:ext cx="8380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5715000" y="2437920"/>
            <a:ext cx="106668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6934320" y="25142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654560" y="4308480"/>
            <a:ext cx="487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What is the best mapping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What is the error of the best mapping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ABDE-66EA-42A5-AE5F-68A0E9D29A8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Let f = {(1,a),(2,b),(3,c),(4,d)}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971720" y="2098800"/>
            <a:ext cx="3330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114720" y="2098800"/>
            <a:ext cx="3330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987560" y="3048120"/>
            <a:ext cx="3330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114720" y="3089160"/>
            <a:ext cx="3330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628960" y="2022480"/>
            <a:ext cx="3164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781680" y="2057400"/>
            <a:ext cx="3812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644800" y="3124080"/>
            <a:ext cx="3164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788160" y="3124080"/>
            <a:ext cx="3330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286000" y="23623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2362320" y="2590920"/>
            <a:ext cx="76176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33526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3276720" y="25909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943600" y="22860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5943600" y="2514600"/>
            <a:ext cx="8380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5715000" y="2437920"/>
            <a:ext cx="106668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6934320" y="25142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889280" y="40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3276720" y="25146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522800" y="3921120"/>
            <a:ext cx="720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| R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 - S | = |{(a,b)(b,c)(c,d)(d,b)} - {(a,b)(b,c)(c,b)(d,b)} |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=  |{(c,d)}|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600920" y="4911840"/>
            <a:ext cx="753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|S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f    - R | = |{(1,2)(2,3)(3,2)(4,2)} - {(1,2)(2,3)(3,4)(4,2)}|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= |{(3,2)}| = 1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271960" y="48387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297080" y="2590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862880" y="2556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584000" y="5985000"/>
            <a:ext cx="19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E(f) = 1+1 =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0CA0-ECF2-4995-9243-68C996316EB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Variat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439640" y="2362320"/>
            <a:ext cx="6738120" cy="265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erent weights on different rel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malize error by dividing by total poss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tributed relational distance for attributed rel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nalizing for NIL mappin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FBA6-C6DE-48DA-BABD-B81AD284F1E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4.  Continuous Relaxation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128600" y="1295280"/>
            <a:ext cx="7215480" cy="50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discrete relaxation, a label for a unit is either possible or no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In continuous relaxation, each (unit, label) pair has a probabilit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very label for unit i has a prior probabilit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et of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compatibility coefficien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 = {cij} gives the influ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at the label of unit i has on the label of unit j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relationship R is replaced by a set of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unit/label compatibil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re rij(l,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´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 is the compatibility of label  l for part i wi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bel  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´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for part j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iterative proces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updates the probabilit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of each label f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ach unit in terms of its previous probability and the compatibil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f its current labels and those of other units that influence i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758F-D8B6-4F96-BEF5-A8712EDE08F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Ro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4240" y="2133720"/>
            <a:ext cx="734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´               co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-s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x                x co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y s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´               s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co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y               x s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y co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447920" y="2286000"/>
            <a:ext cx="75960" cy="609480"/>
          </a:xfrm>
          <a:custGeom>
            <a:avLst/>
            <a:gdLst>
              <a:gd name="textAreaLeft" fmla="*/ 22320 w 75960"/>
              <a:gd name="textAreaRight" fmla="*/ 76320 w 7596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05120" y="2286000"/>
            <a:ext cx="75960" cy="609480"/>
          </a:xfrm>
          <a:custGeom>
            <a:avLst/>
            <a:gdLst>
              <a:gd name="textAreaLeft" fmla="*/ 0 w 75960"/>
              <a:gd name="textAreaRight" fmla="*/ 53280 w 7596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19520" y="2286000"/>
            <a:ext cx="75960" cy="609480"/>
          </a:xfrm>
          <a:custGeom>
            <a:avLst/>
            <a:gdLst>
              <a:gd name="textAreaLeft" fmla="*/ 22320 w 75960"/>
              <a:gd name="textAreaRight" fmla="*/ 76320 w 7596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81480" y="2286000"/>
            <a:ext cx="76320" cy="609480"/>
          </a:xfrm>
          <a:custGeom>
            <a:avLst/>
            <a:gdLst>
              <a:gd name="textAreaLeft" fmla="*/ 22320 w 76320"/>
              <a:gd name="textAreaRight" fmla="*/ 7632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629400" y="2286000"/>
            <a:ext cx="76320" cy="609480"/>
          </a:xfrm>
          <a:custGeom>
            <a:avLst/>
            <a:gdLst>
              <a:gd name="textAreaLeft" fmla="*/ 22320 w 76320"/>
              <a:gd name="textAreaRight" fmla="*/ 7632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648320" y="2286000"/>
            <a:ext cx="75960" cy="609480"/>
          </a:xfrm>
          <a:custGeom>
            <a:avLst/>
            <a:gdLst>
              <a:gd name="textAreaLeft" fmla="*/ 0 w 75960"/>
              <a:gd name="textAreaRight" fmla="*/ 53280 w 7596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91320" y="2286000"/>
            <a:ext cx="75960" cy="609480"/>
          </a:xfrm>
          <a:custGeom>
            <a:avLst/>
            <a:gdLst>
              <a:gd name="textAreaLeft" fmla="*/ 0 w 75960"/>
              <a:gd name="textAreaRight" fmla="*/ 53280 w 7596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839080" y="2286000"/>
            <a:ext cx="76320" cy="609480"/>
          </a:xfrm>
          <a:custGeom>
            <a:avLst/>
            <a:gdLst>
              <a:gd name="textAreaLeft" fmla="*/ 0 w 76320"/>
              <a:gd name="textAreaRight" fmla="*/ 5364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95280" y="23274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19920" y="2362320"/>
            <a:ext cx="3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rcRect l="29376" t="28126" r="30002" b="45314"/>
          <a:stretch/>
        </p:blipFill>
        <p:spPr>
          <a:xfrm>
            <a:off x="2362320" y="3429000"/>
            <a:ext cx="4952880" cy="259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 flipV="1">
            <a:off x="2895480" y="5257440"/>
            <a:ext cx="1067040" cy="2286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895480" y="4572000"/>
            <a:ext cx="228600" cy="9144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59160" y="4722840"/>
            <a:ext cx="299520" cy="368280"/>
          </a:xfrm>
          <a:prstGeom prst="rect">
            <a:avLst/>
          </a:prstGeom>
          <a:solidFill>
            <a:srgbClr val="dbdf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5334120" y="5181120"/>
            <a:ext cx="1066680" cy="3049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5028840" y="4495680"/>
            <a:ext cx="304920" cy="990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655720" y="6095880"/>
            <a:ext cx="417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rotate point                           rotate ax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EA9B-05F0-4F15-BA78-03D3642E1D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ransl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357200" y="1717560"/>
            <a:ext cx="623088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 X 2 matrix doesn’t work for translation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e’s where we need homogeneous coordin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8720" y="3048120"/>
            <a:ext cx="461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´             1  0  x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          x + x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´             0  1  y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          y + y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             0   0  1         1        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828800" y="3200400"/>
            <a:ext cx="76320" cy="914400"/>
          </a:xfrm>
          <a:custGeom>
            <a:avLst/>
            <a:gdLst>
              <a:gd name="textAreaLeft" fmla="*/ 22320 w 76320"/>
              <a:gd name="textAreaRight" fmla="*/ 7632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3200400"/>
            <a:ext cx="76320" cy="914400"/>
          </a:xfrm>
          <a:custGeom>
            <a:avLst/>
            <a:gdLst>
              <a:gd name="textAreaLeft" fmla="*/ 22320 w 76320"/>
              <a:gd name="textAreaRight" fmla="*/ 7632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0" y="3200400"/>
            <a:ext cx="76320" cy="914400"/>
          </a:xfrm>
          <a:custGeom>
            <a:avLst/>
            <a:gdLst>
              <a:gd name="textAreaLeft" fmla="*/ 22320 w 76320"/>
              <a:gd name="textAreaRight" fmla="*/ 7632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562720" y="3200400"/>
            <a:ext cx="75960" cy="914400"/>
          </a:xfrm>
          <a:custGeom>
            <a:avLst/>
            <a:gdLst>
              <a:gd name="textAreaLeft" fmla="*/ 22320 w 75960"/>
              <a:gd name="textAreaRight" fmla="*/ 76320 w 7596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86000" y="3200400"/>
            <a:ext cx="76320" cy="914400"/>
          </a:xfrm>
          <a:custGeom>
            <a:avLst/>
            <a:gdLst>
              <a:gd name="textAreaLeft" fmla="*/ 0 w 76320"/>
              <a:gd name="textAreaRight" fmla="*/ 5364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91120" y="3200400"/>
            <a:ext cx="75960" cy="914400"/>
          </a:xfrm>
          <a:custGeom>
            <a:avLst/>
            <a:gdLst>
              <a:gd name="textAreaLeft" fmla="*/ 0 w 75960"/>
              <a:gd name="textAreaRight" fmla="*/ 53280 w 7596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553080" y="3200400"/>
            <a:ext cx="76320" cy="914400"/>
          </a:xfrm>
          <a:custGeom>
            <a:avLst/>
            <a:gdLst>
              <a:gd name="textAreaLeft" fmla="*/ 0 w 76320"/>
              <a:gd name="textAreaRight" fmla="*/ 5364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952880" y="3200400"/>
            <a:ext cx="76320" cy="914400"/>
          </a:xfrm>
          <a:custGeom>
            <a:avLst/>
            <a:gdLst>
              <a:gd name="textAreaLeft" fmla="*/ 0 w 76320"/>
              <a:gd name="textAreaRight" fmla="*/ 5364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439720" y="34290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090760" y="33940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1828800" y="49528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828800" y="594360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1080" y="5638680"/>
            <a:ext cx="76320" cy="763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638680" y="49528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594360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00800" y="5181480"/>
            <a:ext cx="76320" cy="763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18960" y="529920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x,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614640" y="4842000"/>
            <a:ext cx="1761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x+x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+ y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5220-8941-4AEE-8624-E22916E1A9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Rotation, Scaling and Transl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44520" y="2666880"/>
            <a:ext cx="72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1  0  x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  0  0      co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-s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0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=       0  1  y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  s  0       s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co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0         y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              0  0   1         0  0  1        0          0        1   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43000" y="2819520"/>
            <a:ext cx="76320" cy="914400"/>
          </a:xfrm>
          <a:custGeom>
            <a:avLst/>
            <a:gdLst>
              <a:gd name="textAreaLeft" fmla="*/ 22320 w 76320"/>
              <a:gd name="textAreaRight" fmla="*/ 7632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76520" y="2819520"/>
            <a:ext cx="75960" cy="914400"/>
          </a:xfrm>
          <a:custGeom>
            <a:avLst/>
            <a:gdLst>
              <a:gd name="textAreaLeft" fmla="*/ 0 w 75960"/>
              <a:gd name="textAreaRight" fmla="*/ 53280 w 7596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438280" y="2819520"/>
            <a:ext cx="76320" cy="914400"/>
          </a:xfrm>
          <a:custGeom>
            <a:avLst/>
            <a:gdLst>
              <a:gd name="textAreaLeft" fmla="*/ 22320 w 76320"/>
              <a:gd name="textAreaRight" fmla="*/ 7632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2819520"/>
            <a:ext cx="75960" cy="914400"/>
          </a:xfrm>
          <a:custGeom>
            <a:avLst/>
            <a:gdLst>
              <a:gd name="textAreaLeft" fmla="*/ 22320 w 75960"/>
              <a:gd name="textAreaRight" fmla="*/ 76320 w 7596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81480" y="2819520"/>
            <a:ext cx="76320" cy="914400"/>
          </a:xfrm>
          <a:custGeom>
            <a:avLst/>
            <a:gdLst>
              <a:gd name="textAreaLeft" fmla="*/ 22320 w 76320"/>
              <a:gd name="textAreaRight" fmla="*/ 7632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848720" y="2819520"/>
            <a:ext cx="75960" cy="914400"/>
          </a:xfrm>
          <a:custGeom>
            <a:avLst/>
            <a:gdLst>
              <a:gd name="textAreaLeft" fmla="*/ 22320 w 75960"/>
              <a:gd name="textAreaRight" fmla="*/ 76320 w 7596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81280" y="2819520"/>
            <a:ext cx="76320" cy="914400"/>
          </a:xfrm>
          <a:custGeom>
            <a:avLst/>
            <a:gdLst>
              <a:gd name="textAreaLeft" fmla="*/ 0 w 76320"/>
              <a:gd name="textAreaRight" fmla="*/ 5364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952880" y="2819520"/>
            <a:ext cx="76320" cy="914400"/>
          </a:xfrm>
          <a:custGeom>
            <a:avLst/>
            <a:gdLst>
              <a:gd name="textAreaLeft" fmla="*/ 0 w 76320"/>
              <a:gd name="textAreaRight" fmla="*/ 5364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467480" y="2819520"/>
            <a:ext cx="76320" cy="914400"/>
          </a:xfrm>
          <a:custGeom>
            <a:avLst/>
            <a:gdLst>
              <a:gd name="textAreaLeft" fmla="*/ 0 w 76320"/>
              <a:gd name="textAreaRight" fmla="*/ 5364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1880" y="2819520"/>
            <a:ext cx="76320" cy="914400"/>
          </a:xfrm>
          <a:custGeom>
            <a:avLst/>
            <a:gdLst>
              <a:gd name="textAreaLeft" fmla="*/ 0 w 76320"/>
              <a:gd name="textAreaRight" fmla="*/ 5364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729520" y="4232160"/>
            <a:ext cx="39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                    S                     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6299000">
            <a:off x="4495680" y="3352320"/>
            <a:ext cx="228600" cy="3276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29360" y="5375160"/>
            <a:ext cx="5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992D-854E-4499-83AC-F78D17B0C8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2D Model and 3 Matching Images of a Boeing Airplane Par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rcRect l="33126" t="23438" r="32500" b="42191"/>
          <a:stretch/>
        </p:blipFill>
        <p:spPr>
          <a:xfrm>
            <a:off x="2209680" y="1981080"/>
            <a:ext cx="5562720" cy="444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9CAC-244C-4967-9DC4-9D47C8DB05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omputing Affine Transformations between Sets of Matching Point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43200" y="2514600"/>
            <a:ext cx="1219320" cy="1219320"/>
          </a:xfrm>
          <a:prstGeom prst="rtTriangl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rot="17251800">
            <a:off x="6477120" y="2437920"/>
            <a:ext cx="1066680" cy="762120"/>
          </a:xfrm>
          <a:prstGeom prst="rtTriangl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435760" y="373392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1=(x1,y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664360" y="205740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2=(x2,y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715200" y="374796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P3=(x3,y3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102280" y="2971800"/>
            <a:ext cx="142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2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´=(u2,v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20160" y="3443400"/>
            <a:ext cx="142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´=(u1,v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524720" y="2147760"/>
            <a:ext cx="142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P3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´=(u3,v3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61880" y="4419720"/>
            <a:ext cx="743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iven 3 matching pairs of points, the affine trans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be computed through solving a simple matrix equ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76520" y="5334120"/>
            <a:ext cx="662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1  u2  u3                    a11  a12  a13       x1  x2  x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1  v2  v3          =       a21   a22  a23       y1  y2  y3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  1    1                       0      0      1          1    1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76520" y="5486400"/>
            <a:ext cx="75960" cy="914400"/>
          </a:xfrm>
          <a:custGeom>
            <a:avLst/>
            <a:gdLst>
              <a:gd name="textAreaLeft" fmla="*/ 22320 w 75960"/>
              <a:gd name="textAreaRight" fmla="*/ 76320 w 7596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24080" y="5486400"/>
            <a:ext cx="76320" cy="914400"/>
          </a:xfrm>
          <a:custGeom>
            <a:avLst/>
            <a:gdLst>
              <a:gd name="textAreaLeft" fmla="*/ 0 w 76320"/>
              <a:gd name="textAreaRight" fmla="*/ 5364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248520" y="5486400"/>
            <a:ext cx="75960" cy="914400"/>
          </a:xfrm>
          <a:custGeom>
            <a:avLst/>
            <a:gdLst>
              <a:gd name="textAreaLeft" fmla="*/ 0 w 75960"/>
              <a:gd name="textAreaRight" fmla="*/ 53280 w 7596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077320" y="5486400"/>
            <a:ext cx="75960" cy="914400"/>
          </a:xfrm>
          <a:custGeom>
            <a:avLst/>
            <a:gdLst>
              <a:gd name="textAreaLeft" fmla="*/ 0 w 75960"/>
              <a:gd name="textAreaRight" fmla="*/ 53280 w 7596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43400" y="5486400"/>
            <a:ext cx="76320" cy="914400"/>
          </a:xfrm>
          <a:custGeom>
            <a:avLst/>
            <a:gdLst>
              <a:gd name="textAreaLeft" fmla="*/ 22320 w 76320"/>
              <a:gd name="textAreaRight" fmla="*/ 7632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553080" y="5486400"/>
            <a:ext cx="76320" cy="914400"/>
          </a:xfrm>
          <a:custGeom>
            <a:avLst/>
            <a:gdLst>
              <a:gd name="textAreaLeft" fmla="*/ 22320 w 76320"/>
              <a:gd name="textAreaRight" fmla="*/ 7632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8E02-75FF-4668-8540-887092B0AF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21:52:18Z</dcterms:created>
  <dc:creator>uw</dc:creator>
  <dc:description/>
  <dc:language>en-US</dc:language>
  <cp:lastModifiedBy>uw</cp:lastModifiedBy>
  <dcterms:modified xsi:type="dcterms:W3CDTF">2002-11-14T17:33:18Z</dcterms:modified>
  <cp:revision>63</cp:revision>
  <dc:subject/>
  <dc:title>Matching in 2D</dc:title>
</cp:coreProperties>
</file>