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8BD-A514-457F-9224-1396B18D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DD0-C2D3-4BCF-8942-36C52085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627-C4FD-477B-990E-76DE5589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EDB-A4E5-4A07-AD0E-789D3D5C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9AC2-3DF5-4231-A19B-5A8D1DBB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BE03-5651-4559-99C5-206A997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0A4F-77F5-42B3-95DE-7E62A3F9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EC41-8870-45D9-8EEB-33DA59C7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9820-3C2D-4E05-9D7F-3CBA29FB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1C5C-123F-4BF1-9228-D67D2368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ADB-C97B-4F67-9CCF-98DC028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394-5A2B-46C7-B001-AD6DE653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E397-CCF5-4BDA-B81C-42DDA8CB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9A96-DC93-4F39-9414-DFAB09B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6EC9-3073-49F3-8700-5B9994D4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A4AD-3619-4BF7-8700-C9F7E87C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A9B8-8471-401C-B69C-C80537B6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759-8701-4272-BED3-C65F7A40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310-62EF-404B-AB43-02956C3D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2D5-1B48-43D0-9132-6C27572F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CCA-0E12-4756-B85D-AA2D2D4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214-5259-4C3A-9BE9-97D6042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AE0-3673-4822-A735-FF037CC5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63C-C40E-4A7A-A492-60528FB0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59E9-B341-4F43-AB5A-723D5D8F8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5B98-5CE7-4627-BF25-37EA2F4A1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41560" y="301680"/>
            <a:ext cx="26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32680" y="1336680"/>
            <a:ext cx="411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computer vis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 images come fro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38200" y="217476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analysis of digital images by a 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2BD-F1FB-413D-A75C-394BCFD723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00200" y="304920"/>
            <a:ext cx="41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Image Terminolo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137160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4920" y="1295280"/>
            <a:ext cx="30765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 0    0    1   0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 1    1    1   0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95  96  94  93  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92  93  93  92  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93  93  94  92  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92  93  93  93  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94  95  95  96  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49280" y="148896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ixel (with value 9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962160" y="1752480"/>
            <a:ext cx="1904760" cy="11430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2438280"/>
            <a:ext cx="1295640" cy="1067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51080" y="20224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s 3x3 neighborh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419360" y="2362320"/>
            <a:ext cx="152388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31600" y="4384800"/>
            <a:ext cx="422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ary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y-scale (or gray-tone)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-spectral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eled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057400"/>
            <a:ext cx="221004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1800" y="2743200"/>
            <a:ext cx="244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gion of mediu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76560" y="3048120"/>
            <a:ext cx="1066680" cy="2286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2520" y="37339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Times New Roman"/>
              </a:rPr>
              <a:t>resolution (7x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2DA-A20E-4D79-991B-6169C49BAD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77600" y="15228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s of Imag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7600" y="2438280"/>
            <a:ext cx="5628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 the image into useful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 measurements on certain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what object(s) are in the sc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the precise location(s) of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ly inspect a manufactured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uct a 3D model of the imaged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seg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68760" cy="207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80F-FEEB-4FAD-B5E4-C3CF753E01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28800" y="12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5320" y="304920"/>
            <a:ext cx="57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e Stages of Computer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4160" y="1184400"/>
            <a:ext cx="160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-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d-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-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20640" y="18702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mage                  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20280" y="377496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mage                 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4038480"/>
            <a:ext cx="1066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44320" y="545148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eatures               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571500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752-0A22-4CEA-B94F-AC0BD5713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63200" y="44784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-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savblur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211" name="sav1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267080" y="2362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343040" y="5562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20800" y="5638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ur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2200" y="18288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arpe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746-4534-4CEE-9646-E17A40012C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yiwife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2925720" cy="2193840"/>
          </a:xfrm>
          <a:prstGeom prst="rect">
            <a:avLst/>
          </a:prstGeom>
          <a:ln w="0">
            <a:noFill/>
          </a:ln>
        </p:spPr>
      </p:pic>
      <p:pic>
        <p:nvPicPr>
          <p:cNvPr id="217" name="yiwifeedge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218" name="yiwifeedge" descr=""/>
          <p:cNvPicPr/>
          <p:nvPr/>
        </p:nvPicPr>
        <p:blipFill>
          <a:blip r:embed="rId3"/>
          <a:stretch/>
        </p:blipFill>
        <p:spPr>
          <a:xfrm>
            <a:off x="152388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19" name="yiwifelines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65960" y="270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-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2209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5720" y="1752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53341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6080" y="4876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64880" y="35463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d-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36120" y="31622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iginal i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8480" y="32385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dge i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636264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dge i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6160" y="63244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ircular arcs and line seg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5334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880" y="5753160"/>
            <a:ext cx="982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B3F-89E8-4E4E-87D5-911016A8F3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suzallo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233" name="suzregions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432440" y="21924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-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720" y="2438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-me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us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2920" y="52959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iginal color i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21964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gions of homogeneous co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6400" y="312408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follow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n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alysi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4495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720" y="5715000"/>
            <a:ext cx="982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279-7C7E-431D-82EB-065C7EA3F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ston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boston1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105520" y="2438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52120" y="2209680"/>
            <a:ext cx="1579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g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10280" y="29718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0400" y="4191120"/>
            <a:ext cx="16498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029200" y="4572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560" y="19051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w-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23040" y="31622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d-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13720" y="46864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igh-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10560" y="21924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- to High-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579132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ilding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D4B-7DB6-4E02-9165-413A22920C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60680" y="21924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y of Computer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30880" y="1565280"/>
            <a:ext cx="675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r vision is far from completely sol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have been many successful systems used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applic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lots of things that humans can do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vision programs don’t come close to suc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46480" y="33177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ike wh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5280" y="518148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an you name som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7D5-CD13-493B-AB1B-01D94D897B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60680" y="149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457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60680" y="225360"/>
            <a:ext cx="27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53600" y="1336680"/>
            <a:ext cx="24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Im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kidney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1720" y="236232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T image of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atient’s abd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7640" y="30481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2560" y="40384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95520" y="41529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CBE-0FC3-41AE-8E97-540782FFD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627600" cy="5438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00200" y="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1640" y="380880"/>
            <a:ext cx="49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Man Slice Through L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02B-0AE7-43AB-81ED-64B967BB25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3206880" y="1981080"/>
            <a:ext cx="3948120" cy="4114800"/>
            <a:chOff x="3206880" y="1981080"/>
            <a:chExt cx="3948120" cy="411480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3206880" y="1981080"/>
              <a:ext cx="39481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 txBox="1"/>
            <p:nvPr/>
          </p:nvSpPr>
          <p:spPr>
            <a:xfrm>
              <a:off x="3206880" y="1981080"/>
              <a:ext cx="39481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13680" y="67644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D Reconstruction of the Blood Vessel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5C3-BACA-4099-B441-488CA068D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jennya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5302440" cy="5324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9920" y="30492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ce of a Chicken Embryo’s Inner 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3D0-B7BC-47A6-91E2-6D6BD7983A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057400" y="22860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o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4920" y="838080"/>
            <a:ext cx="410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D Gray-tone or Color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Range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fido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2857320" cy="21495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876920" y="3733920"/>
            <a:ext cx="2361960" cy="2743200"/>
            <a:chOff x="4876920" y="3733920"/>
            <a:chExt cx="2361960" cy="2743200"/>
          </a:xfrm>
        </p:grpSpPr>
        <p:pic>
          <p:nvPicPr>
            <p:cNvPr id="170" name="uni.resample" descr=""/>
            <p:cNvPicPr/>
            <p:nvPr/>
          </p:nvPicPr>
          <p:blipFill>
            <a:blip r:embed="rId2"/>
            <a:stretch/>
          </p:blipFill>
          <p:spPr>
            <a:xfrm>
              <a:off x="4928040" y="3733920"/>
              <a:ext cx="22640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876920" y="3733920"/>
              <a:ext cx="2361960" cy="274320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496960" y="19954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rs” r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3520" y="47242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387-A1B9-417B-B496-58E3893311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3040" y="53352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 Datab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23880" y="2209680"/>
            <a:ext cx="7348680" cy="1601640"/>
            <a:chOff x="1523880" y="2209680"/>
            <a:chExt cx="7348680" cy="1601640"/>
          </a:xfrm>
        </p:grpSpPr>
        <p:pic>
          <p:nvPicPr>
            <p:cNvPr id="176" name="Image22" descr=""/>
            <p:cNvPicPr/>
            <p:nvPr/>
          </p:nvPicPr>
          <p:blipFill>
            <a:blip r:embed="rId1"/>
            <a:stretch/>
          </p:blipFill>
          <p:spPr>
            <a:xfrm>
              <a:off x="1523880" y="2209680"/>
              <a:ext cx="2403360" cy="1601640"/>
            </a:xfrm>
            <a:prstGeom prst="rect">
              <a:avLst/>
            </a:prstGeom>
            <a:ln w="19080">
              <a:solidFill>
                <a:srgbClr val="ccccff"/>
              </a:solidFill>
              <a:miter/>
            </a:ln>
          </p:spPr>
        </p:pic>
        <p:pic>
          <p:nvPicPr>
            <p:cNvPr id="177" name="Image17" descr=""/>
            <p:cNvPicPr/>
            <p:nvPr/>
          </p:nvPicPr>
          <p:blipFill>
            <a:blip r:embed="rId2"/>
            <a:stretch/>
          </p:blipFill>
          <p:spPr>
            <a:xfrm>
              <a:off x="4038480" y="2209680"/>
              <a:ext cx="2386080" cy="15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Image01" descr=""/>
            <p:cNvPicPr/>
            <p:nvPr/>
          </p:nvPicPr>
          <p:blipFill>
            <a:blip r:embed="rId3"/>
            <a:stretch/>
          </p:blipFill>
          <p:spPr>
            <a:xfrm>
              <a:off x="6476760" y="2209680"/>
              <a:ext cx="2395800" cy="15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1513440" y="434340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categories of real image databases exist to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26320" y="141300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s from my Ground-Truth coll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E7C-1C8D-42D6-86D2-79D4492A0B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32800" y="21924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lam" descr=""/>
          <p:cNvPicPr/>
          <p:nvPr/>
        </p:nvPicPr>
        <p:blipFill>
          <a:blip r:embed="rId1"/>
          <a:stretch/>
        </p:blipFill>
        <p:spPr>
          <a:xfrm>
            <a:off x="3201840" y="838080"/>
            <a:ext cx="4703760" cy="546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CBC-F51D-4DB8-AC28-054AA888C7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F56-F53F-4EB4-A0E1-27B90144D3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2:38:54Z</dcterms:created>
  <dc:creator>uw</dc:creator>
  <dc:description/>
  <dc:language>en-US</dc:language>
  <cp:lastModifiedBy>uw</cp:lastModifiedBy>
  <dcterms:modified xsi:type="dcterms:W3CDTF">2002-09-20T23:28:45Z</dcterms:modified>
  <cp:revision>21</cp:revision>
  <dc:subject/>
  <dc:title>PowerPoint Presentation</dc:title>
</cp:coreProperties>
</file>