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B00-C184-4F51-97C9-EB5C69F9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221-AA4E-40B5-8887-09564D9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111-00C9-42B5-9E6C-BC029321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615-B37A-48E5-8E2A-A3D27646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930A-044C-4A63-A781-02B8CBE3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0E1A-7CF4-4690-AA37-713F181F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645-B3C9-4088-A283-DC6709C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CE48-820C-4DEF-9642-098D8599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45FE-32DD-43FF-A00D-C10FFD0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F51-F9C1-493F-A14E-FB6517A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759-6701-48CF-8DF9-365E8EA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58B-DE36-4069-A2D8-7687C4F5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949-B088-460C-9B3E-BCD4D5E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6871-DD0D-43A3-B51A-94BAFF4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870-7493-4CD0-B31F-691F777D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96CA-B180-48BE-9F13-D7293F05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A1F-E34C-4E03-86BB-BB4E046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533-BC44-4739-98D2-B8EDD2B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7D4-4688-4482-BDA4-1C84967A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A82-7F00-4E2B-B3B3-22491ABD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4F4-8009-4767-B650-0D6788A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20E-0F8C-46DC-97B0-A615592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4C6-4F0F-4B2E-AE77-104117C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AAB-6544-4F0F-9738-9C1348E9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404-3732-42AB-B37C-794BEFA482C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9ABC-A011-4D42-9CBD-7F0252C68FB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aging and Image Representation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7760" y="21337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cal Sens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 with Digit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ag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onship of 3D Scenes to 2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Types of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FD3-1FFE-4886-8238-4113AB18CF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8-bit intensity can be clipp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grid intersections at left were actually brightest of sc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/D conversion the bright values were clipped to low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lippedcobra" descr=""/>
          <p:cNvPicPr/>
          <p:nvPr/>
        </p:nvPicPr>
        <p:blipFill>
          <a:blip r:embed="rId2"/>
          <a:stretch/>
        </p:blipFill>
        <p:spPr>
          <a:xfrm>
            <a:off x="1479600" y="2119320"/>
            <a:ext cx="373680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172-DD87-4B9A-A494-18AAF9E55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ns distortion distorts im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el distortion” of rectangular grid is common for cheap lenses ($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ion lenses can cost $1000 or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 lenses often show severe distor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owout" descr=""/>
          <p:cNvPicPr/>
          <p:nvPr/>
        </p:nvPicPr>
        <p:blipFill>
          <a:blip r:embed="rId2"/>
          <a:stretch/>
        </p:blipFill>
        <p:spPr>
          <a:xfrm>
            <a:off x="5369040" y="2184480"/>
            <a:ext cx="3736800" cy="37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67B-70C0-4F64-BF9F-9250C37EC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solu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4720" y="1981080"/>
            <a:ext cx="708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e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ecision of th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ominal re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ize of a single pixel in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(ie. meters,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ommon use of re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um_rows X num_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e. 515 x 4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ubpixel re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easurement that goes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ions of nomina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ield of view (FOV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ize of the scene a sensor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EE8-769E-4DBF-BFA2-42FF059906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solution Exam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77120" y="1981080"/>
            <a:ext cx="262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decreases by one half in cases at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faces can be recognized at 64 x 64 pixels per 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dazenaAll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4763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E10-1680-4FD2-B530-226FA2B2E1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mage Forma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le gray map (PGM) old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F was early commercial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 (JPG) is modern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s exist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eader plu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y handle col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y provide for compres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good packages that us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t least convert between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05E-0B93-4DA7-B33F-7B31CFDEA8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PGM image with ASCII info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24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means ASCII 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=16; H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 is max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ade with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mages are usually not stored as 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opy%20of%20HIpgm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51433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923-96F1-4C87-9400-D06B2E14D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PBM/PGM/PPM Cod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2057400"/>
            <a:ext cx="3822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:  ascii binary (P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:  ascii grayscale (PG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3:  ascii color (P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4:  byte binary (P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5:  byte grayscale (PG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6:  byte color (P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7BF-91E4-4447-911E-1A3374D4B8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JPG current popular for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for image compression; often 10:1 or     30:1 are easil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x8 intensity  regions are fit with basis of cos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in cosine fit coded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then compressed with Huffman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for most digital cam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39A-4C7D-46AD-BD69-8CCCA6993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rom 3D Scenes to 2D Im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17646" t="7354" r="16471" b="10296"/>
          <a:stretch/>
        </p:blipFill>
        <p:spPr>
          <a:xfrm>
            <a:off x="4191120" y="21337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84000" y="2174760"/>
            <a:ext cx="18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xe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BC6-F896-4CA2-8452-2B65999DA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Types of Sensors: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rbiting satellite scann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19920" y="198108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earth 1 pixel at a time (through a str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m produces multispectral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row by scanning bore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ows by motion of satellite in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d area of earth is a parallelogram, not a 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satellite" descr=""/>
          <p:cNvPicPr/>
          <p:nvPr/>
        </p:nvPicPr>
        <p:blipFill>
          <a:blip r:embed="rId2"/>
          <a:stretch/>
        </p:blipFill>
        <p:spPr>
          <a:xfrm>
            <a:off x="1479600" y="2819520"/>
            <a:ext cx="438768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31C-650D-4A88-911F-8DDC2DC257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mages: 2D projections of 3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3D world h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ex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rfa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volu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light sour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bjec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mo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2D image is 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jection of a sce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a specific view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ootball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2925720" cy="1954440"/>
          </a:xfrm>
          <a:prstGeom prst="rect">
            <a:avLst/>
          </a:prstGeom>
          <a:ln w="0">
            <a:noFill/>
          </a:ln>
        </p:spPr>
      </p:pic>
      <p:pic>
        <p:nvPicPr>
          <p:cNvPr id="115" name="footballsig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2925720" cy="19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1A5-3FFB-49E3-A407-01ABB8F66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uman eye as a spherical came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09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 sensing elts in 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ds sense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es sens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vea has tightly packed elts, mor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y has more r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 length is about 2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il/iris controls light e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humaneye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419112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C04-C862-4858-B0BD-0B7689B83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urface data (2.5D) sensed by structured light senso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71840" y="1981080"/>
            <a:ext cx="293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or projects plane of light 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 sees bright points along an imaging 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3D surface point via line-plane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whitescanner" descr=""/>
          <p:cNvPicPr/>
          <p:nvPr/>
        </p:nvPicPr>
        <p:blipFill>
          <a:blip r:embed="rId2"/>
          <a:stretch/>
        </p:blipFill>
        <p:spPr>
          <a:xfrm>
            <a:off x="1479600" y="2133720"/>
            <a:ext cx="4540320" cy="39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264-E8D6-4F9E-A975-92F0795E45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Magnetic Resonance Imag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67280" y="198108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density of certain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slices x R rows x C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 (voxel) about 2mm p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ft is shaded image created by “volume rende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dog.MSU" descr=""/>
          <p:cNvPicPr/>
          <p:nvPr/>
        </p:nvPicPr>
        <p:blipFill>
          <a:blip r:embed="rId2"/>
          <a:stretch/>
        </p:blipFill>
        <p:spPr>
          <a:xfrm>
            <a:off x="1479600" y="2133720"/>
            <a:ext cx="4083120" cy="38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2E0-1559-43A3-8639-14EA9FD8C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ingle slice through human hea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Is are computed structures, computed from many vie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ft is MRA (angiograph), which shows blood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 scans are computed in much the same manner from X-ray transmissi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slice-1-76" descr=""/>
          <p:cNvPicPr/>
          <p:nvPr/>
        </p:nvPicPr>
        <p:blipFill>
          <a:blip r:embed="rId2"/>
          <a:stretch/>
        </p:blipFill>
        <p:spPr>
          <a:xfrm>
            <a:off x="1479600" y="2206800"/>
            <a:ext cx="3736800" cy="36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1C4-64D2-4539-9354-68D3B87AD6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DAR also senses surfac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71840" y="1981080"/>
            <a:ext cx="293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ensing element scans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 light reflected off surface and retu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hift codes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ness change codes alb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idar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4616280" cy="424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98E-CBCB-4078-BBCF-2FAB58E824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varia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es, telescopes, endoscop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rays: radiation passes through objects to sensor elements on the oth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ers can carry image around curves; in bodies, in machin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arrays create images (fingerprints, but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ar, stereo, focus, etc can be used for range sensing (see Chapters 12 and 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8F2-3C30-4134-A31B-64E920D2CD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re do we go next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1120" y="2251080"/>
            <a:ext cx="729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we’ve got an image, say a single gray-tone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can we do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mplest types of analysis i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inary image analy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t the gray-tone image to a binary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s and 1s) and perform analysis on the binary im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possible reference back to the original gray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792-C1E0-44CD-A2FA-3636B3ADCB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mages as Func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4960" y="2279520"/>
            <a:ext cx="69062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ray-tone image is a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(x,y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= 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(row, col) = 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lor image is just three functions 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tor-valued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(row,col) =(r(row,col), g(row,col), b(row,co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A3D-18C4-4624-BBFB-C6FD08739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mage vs Matri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2971800"/>
            <a:ext cx="7772400" cy="3451320"/>
            <a:chOff x="1371600" y="2971800"/>
            <a:chExt cx="7772400" cy="3451320"/>
          </a:xfrm>
        </p:grpSpPr>
        <p:pic>
          <p:nvPicPr>
            <p:cNvPr id="120" name="conv" descr=""/>
            <p:cNvPicPr/>
            <p:nvPr/>
          </p:nvPicPr>
          <p:blipFill>
            <a:blip r:embed="rId2"/>
            <a:stretch/>
          </p:blipFill>
          <p:spPr>
            <a:xfrm>
              <a:off x="4971960" y="4537080"/>
              <a:ext cx="403884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29040" y="453708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4648320" y="4537080"/>
              <a:ext cx="950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980960" y="44197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5029200" y="4038840"/>
              <a:ext cx="1411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371600" y="2971800"/>
              <a:ext cx="7772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gital images (or just “images”) are typically stored in a 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fferent coordinate systems (x,y) vs. (i=row,j=colum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lpful to use macros to convert when coding things 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2057400" y="4419720"/>
              <a:ext cx="17334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2013120" y="6267600"/>
              <a:ext cx="19044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56680" y="61628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14480" y="54291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1673280" y="5929560"/>
              <a:ext cx="155520" cy="2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F2E-173D-439A-A068-F2C39CCAD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Gray-tone Image as 3D Function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image_func" descr=""/>
          <p:cNvPicPr/>
          <p:nvPr/>
        </p:nvPicPr>
        <p:blipFill>
          <a:blip r:embed="rId2"/>
          <a:stretch/>
        </p:blipFill>
        <p:spPr>
          <a:xfrm>
            <a:off x="1905120" y="1890720"/>
            <a:ext cx="518148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CDB-02BF-4CDD-B050-075D126FA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maging Proces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278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reaches surfaces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s ref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 element receives ligh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sity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reflection2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533840" cy="4038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59600" y="613728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 are radiance and irrad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63E-2C85-4296-B7EF-0A9CEC4D4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adiometry and Computer Vision*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8640" y="59403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nka, Hlavac, and Boyl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 Processing, Analysis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chine Visio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P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2000" y="1905120"/>
            <a:ext cx="7372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di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branch of physics that deal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the flow and transfer of radiant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d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ower of light that is emitted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surface area into some spatial ang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sponding photometric ter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ght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rradianc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mount of energy that an im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device gets per unit of an efficient sen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the camera. Quantizing it gives image gray t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861-1D9F-4AED-8C16-BF8948A8A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CD type camera:</a:t>
            </a:r>
            <a:br>
              <a:rPr sz="4400"/>
            </a:br>
            <a:r>
              <a:rPr b="0" i="1" lang="en-US" sz="3200" spc="-1" strike="noStrike">
                <a:solidFill>
                  <a:srgbClr val="996633"/>
                </a:solidFill>
                <a:latin typeface="Times New Roman"/>
              </a:rPr>
              <a:t>Commonly used in industrial application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of small fix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ad faster than TV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dd refracting element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in 2x2 neighborh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intensity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CDcamera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284-A414-48BB-A5B3-80580F0568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Blooming Problem with Arr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insulate adjacent sensing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ge often leaks  from hot cells to neighbors, making bright regions lar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looming" descr=""/>
          <p:cNvPicPr/>
          <p:nvPr/>
        </p:nvPicPr>
        <p:blipFill>
          <a:blip r:embed="rId2"/>
          <a:stretch/>
        </p:blipFill>
        <p:spPr>
          <a:xfrm>
            <a:off x="5369040" y="2324160"/>
            <a:ext cx="3736800" cy="34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FD5-B60A-41CC-8A84-B4A7622F6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5:19:00Z</dcterms:created>
  <dc:creator>George Stockman</dc:creator>
  <dc:description/>
  <dc:language>en-US</dc:language>
  <cp:lastModifiedBy>uw</cp:lastModifiedBy>
  <dcterms:modified xsi:type="dcterms:W3CDTF">2002-09-30T22:03:22Z</dcterms:modified>
  <cp:revision>31</cp:revision>
  <dc:subject/>
  <dc:title>Computer Vision: Imaging Devices</dc:title>
</cp:coreProperties>
</file>