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B57-934B-4354-A520-E1F3B7F4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62F-E2E0-42F9-83BF-E94699E4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C6E-2DCF-44A5-B6D0-9E8AF915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3D7-FF56-4C49-8005-295E87FF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1C7D-CB58-4D09-8A6C-4BDBB10C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F7D-E133-4C1A-A964-71217AE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37C-C35F-479C-90BB-63C2B01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D08D-AAC3-473A-B087-DC4A3D8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1456-4084-483E-95F0-6543230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7807-BBA2-41C3-8AF6-EDAC88A1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EEB-8D5A-44A2-9F6A-95A1352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DFA-49AD-4807-A444-1C33D65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17B6-24A0-4608-BC11-C940A9B4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0D7-57A7-4E95-AA8D-AC69AFFB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6AC-7697-4AB6-8BF1-CC01D3A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65BE-AD1E-4437-AE51-334D580B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417-F7B0-4DE4-AAA5-F3DCD99E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3C8-2A1C-45B7-89C3-B09C3DE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E00-8DA4-42B1-AE54-10AB088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CF0-E7A4-4F42-8010-2FD1F02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B56-09C4-4F2F-BE46-DC81ECB4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689-5711-4F1A-9283-F876C3B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D8B-14AF-4662-9B30-0679E51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A44-E29F-4B00-8EEB-3BC5C78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69E6-4FFA-421D-88DC-664A973EB4F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577-E1AF-4B6E-AA53-B633F27529F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mage Segmen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50960" y="175248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mage segmentation is the operation of partitioning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mage into a collection of connected sets of pixel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7880" y="2666880"/>
            <a:ext cx="5819760" cy="3751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. into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gion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which usually cover the im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. into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linear structure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such a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line segme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curve segme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.  int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D shape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such 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circ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ellips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ribbons (long, symmetric region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4BF-61DC-44F7-97EC-2E7D08F433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RGGROW Statistical T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048320" y="2022480"/>
            <a:ext cx="43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T statistic is defined b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(N-1) * 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 =     --------------  (y - X)  / 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(N+1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8954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69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954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34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124080"/>
            <a:ext cx="1522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7960" y="27050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5280" y="4384800"/>
            <a:ext cx="68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t has a T      distribution if all the pixels in R and t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est pixel y are independent and identically distribut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ormals (IID assumption) 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45720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N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0FD-7C9C-4A35-9172-C55F386A13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ecision and Upd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43760" y="2174760"/>
            <a:ext cx="7023600" cy="3751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or the T distribution, statistical tables give us t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robability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(T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for a given degrees of freedom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nd a confidence level. From this, pick suitabl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reshold t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f the computed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for desired confidence level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dd y to region R and update X and 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f T is too high, the value y is not likely to have aris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rom the population of pixels in R.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tart a new region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796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813-1A9F-4DF8-8113-565287CC9C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GGROW Examp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1877" t="23438" r="41877" b="39846"/>
          <a:stretch/>
        </p:blipFill>
        <p:spPr>
          <a:xfrm>
            <a:off x="4952880" y="1447920"/>
            <a:ext cx="2444760" cy="4419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5760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4040" y="44956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gment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2767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ot great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C2B-56B3-4198-B704-91FCA72877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uste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43400" y="2174760"/>
            <a:ext cx="722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re are K clusters C1,…, CK with means m1,…, m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ast-squares erro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s defined 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ut of all possible partitions into K clusters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oose the one that minimizes 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360" y="5410080"/>
            <a:ext cx="5910840" cy="8254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Why don’t we just do thi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If we could, would we get meaningful object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52600" y="3581280"/>
            <a:ext cx="31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|| xi - mk ||   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89280" y="3919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k=1 xi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Ck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2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7672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2FD-0403-4F1E-93C6-EDB641F05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me Clustering Metho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2251080"/>
            <a:ext cx="665424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-means Clustering and Varia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sodata Cluster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istogram-Based Clustering and Recursive Varia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raph-Theoretic Clustering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13A-695A-44AC-A1BB-317CA4D94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-Means Example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875" t="17188" r="25001" b="46875"/>
          <a:stretch/>
        </p:blipFill>
        <p:spPr>
          <a:xfrm>
            <a:off x="762120" y="2438280"/>
            <a:ext cx="76960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9E2-2C50-4526-B6E9-0E026F601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-Means Example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-623" t="16896" r="23752" b="47658"/>
          <a:stretch/>
        </p:blipFill>
        <p:spPr>
          <a:xfrm>
            <a:off x="609480" y="2362320"/>
            <a:ext cx="8001000" cy="295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F99-ACCA-4431-8054-E93E5D791A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ng-Hee Heng’s K-means Vari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131840" y="1905120"/>
            <a:ext cx="6650280" cy="4362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. Pick 2 points Y and Z that are furthest apart in th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measurement space and make them initial cluster mean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. Assign all points to the cluster whose mean they ar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losest to and recompute mean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3. Let d be the max distance from each point to its cluster me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and let X be the point with this distanc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4. Let q be the average distance between each pair of mean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5.  If  d &gt; q / 2,  make X a new cluster mea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. If a new cluster was formed, repeat from step 2. 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4E9-AE17-469C-9498-B45824FE3D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llustration of Heng Cluste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505320"/>
            <a:ext cx="1674720" cy="1090440"/>
          </a:xfrm>
          <a:custGeom>
            <a:avLst/>
            <a:gdLst/>
            <a:ahLst/>
            <a:rect l="l" t="t" r="r" b="b"/>
            <a:pathLst>
              <a:path w="1368" h="878">
                <a:moveTo>
                  <a:pt x="167" y="28"/>
                </a:moveTo>
                <a:cubicBezTo>
                  <a:pt x="221" y="17"/>
                  <a:pt x="190" y="24"/>
                  <a:pt x="258" y="7"/>
                </a:cubicBezTo>
                <a:cubicBezTo>
                  <a:pt x="267" y="5"/>
                  <a:pt x="286" y="0"/>
                  <a:pt x="286" y="0"/>
                </a:cubicBezTo>
                <a:cubicBezTo>
                  <a:pt x="450" y="4"/>
                  <a:pt x="577" y="3"/>
                  <a:pt x="729" y="28"/>
                </a:cubicBezTo>
                <a:cubicBezTo>
                  <a:pt x="771" y="42"/>
                  <a:pt x="806" y="55"/>
                  <a:pt x="848" y="63"/>
                </a:cubicBezTo>
                <a:cubicBezTo>
                  <a:pt x="892" y="85"/>
                  <a:pt x="937" y="105"/>
                  <a:pt x="981" y="126"/>
                </a:cubicBezTo>
                <a:cubicBezTo>
                  <a:pt x="1017" y="144"/>
                  <a:pt x="1048" y="165"/>
                  <a:pt x="1087" y="175"/>
                </a:cubicBezTo>
                <a:cubicBezTo>
                  <a:pt x="1120" y="197"/>
                  <a:pt x="1154" y="219"/>
                  <a:pt x="1192" y="232"/>
                </a:cubicBezTo>
                <a:cubicBezTo>
                  <a:pt x="1211" y="247"/>
                  <a:pt x="1232" y="262"/>
                  <a:pt x="1248" y="281"/>
                </a:cubicBezTo>
                <a:cubicBezTo>
                  <a:pt x="1264" y="300"/>
                  <a:pt x="1269" y="323"/>
                  <a:pt x="1284" y="344"/>
                </a:cubicBezTo>
                <a:cubicBezTo>
                  <a:pt x="1297" y="384"/>
                  <a:pt x="1308" y="408"/>
                  <a:pt x="1333" y="442"/>
                </a:cubicBezTo>
                <a:cubicBezTo>
                  <a:pt x="1343" y="482"/>
                  <a:pt x="1355" y="523"/>
                  <a:pt x="1368" y="562"/>
                </a:cubicBezTo>
                <a:cubicBezTo>
                  <a:pt x="1366" y="604"/>
                  <a:pt x="1367" y="646"/>
                  <a:pt x="1361" y="688"/>
                </a:cubicBezTo>
                <a:cubicBezTo>
                  <a:pt x="1356" y="722"/>
                  <a:pt x="1311" y="743"/>
                  <a:pt x="1291" y="758"/>
                </a:cubicBezTo>
                <a:cubicBezTo>
                  <a:pt x="1208" y="820"/>
                  <a:pt x="1104" y="832"/>
                  <a:pt x="1003" y="843"/>
                </a:cubicBezTo>
                <a:cubicBezTo>
                  <a:pt x="936" y="864"/>
                  <a:pt x="862" y="864"/>
                  <a:pt x="792" y="878"/>
                </a:cubicBezTo>
                <a:cubicBezTo>
                  <a:pt x="724" y="876"/>
                  <a:pt x="656" y="876"/>
                  <a:pt x="588" y="871"/>
                </a:cubicBezTo>
                <a:cubicBezTo>
                  <a:pt x="515" y="865"/>
                  <a:pt x="446" y="831"/>
                  <a:pt x="377" y="808"/>
                </a:cubicBezTo>
                <a:cubicBezTo>
                  <a:pt x="330" y="824"/>
                  <a:pt x="302" y="776"/>
                  <a:pt x="265" y="751"/>
                </a:cubicBezTo>
                <a:cubicBezTo>
                  <a:pt x="192" y="702"/>
                  <a:pt x="156" y="636"/>
                  <a:pt x="103" y="569"/>
                </a:cubicBezTo>
                <a:cubicBezTo>
                  <a:pt x="90" y="530"/>
                  <a:pt x="69" y="495"/>
                  <a:pt x="54" y="456"/>
                </a:cubicBezTo>
                <a:cubicBezTo>
                  <a:pt x="27" y="383"/>
                  <a:pt x="15" y="302"/>
                  <a:pt x="5" y="225"/>
                </a:cubicBezTo>
                <a:cubicBezTo>
                  <a:pt x="11" y="158"/>
                  <a:pt x="0" y="118"/>
                  <a:pt x="61" y="84"/>
                </a:cubicBezTo>
                <a:cubicBezTo>
                  <a:pt x="74" y="77"/>
                  <a:pt x="91" y="78"/>
                  <a:pt x="103" y="70"/>
                </a:cubicBezTo>
                <a:cubicBezTo>
                  <a:pt x="117" y="61"/>
                  <a:pt x="132" y="51"/>
                  <a:pt x="146" y="42"/>
                </a:cubicBezTo>
                <a:cubicBezTo>
                  <a:pt x="156" y="36"/>
                  <a:pt x="171" y="42"/>
                  <a:pt x="181" y="35"/>
                </a:cubicBezTo>
                <a:cubicBezTo>
                  <a:pt x="185" y="32"/>
                  <a:pt x="172" y="30"/>
                  <a:pt x="167" y="28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648320"/>
            <a:ext cx="1784520" cy="877680"/>
          </a:xfrm>
          <a:custGeom>
            <a:avLst/>
            <a:gdLst/>
            <a:ahLst/>
            <a:rect l="l" t="t" r="r" b="b"/>
            <a:pathLst>
              <a:path w="1124" h="553">
                <a:moveTo>
                  <a:pt x="120" y="153"/>
                </a:moveTo>
                <a:cubicBezTo>
                  <a:pt x="160" y="133"/>
                  <a:pt x="184" y="123"/>
                  <a:pt x="225" y="111"/>
                </a:cubicBezTo>
                <a:cubicBezTo>
                  <a:pt x="234" y="108"/>
                  <a:pt x="244" y="107"/>
                  <a:pt x="253" y="104"/>
                </a:cubicBezTo>
                <a:cubicBezTo>
                  <a:pt x="267" y="100"/>
                  <a:pt x="295" y="90"/>
                  <a:pt x="295" y="90"/>
                </a:cubicBezTo>
                <a:cubicBezTo>
                  <a:pt x="404" y="96"/>
                  <a:pt x="410" y="103"/>
                  <a:pt x="499" y="90"/>
                </a:cubicBezTo>
                <a:cubicBezTo>
                  <a:pt x="523" y="87"/>
                  <a:pt x="569" y="69"/>
                  <a:pt x="569" y="69"/>
                </a:cubicBezTo>
                <a:cubicBezTo>
                  <a:pt x="602" y="46"/>
                  <a:pt x="688" y="21"/>
                  <a:pt x="731" y="12"/>
                </a:cubicBezTo>
                <a:cubicBezTo>
                  <a:pt x="775" y="13"/>
                  <a:pt x="934" y="0"/>
                  <a:pt x="1012" y="33"/>
                </a:cubicBezTo>
                <a:cubicBezTo>
                  <a:pt x="1043" y="46"/>
                  <a:pt x="1051" y="54"/>
                  <a:pt x="1082" y="76"/>
                </a:cubicBezTo>
                <a:cubicBezTo>
                  <a:pt x="1101" y="89"/>
                  <a:pt x="1124" y="132"/>
                  <a:pt x="1124" y="132"/>
                </a:cubicBezTo>
                <a:cubicBezTo>
                  <a:pt x="1122" y="176"/>
                  <a:pt x="1123" y="221"/>
                  <a:pt x="1117" y="265"/>
                </a:cubicBezTo>
                <a:cubicBezTo>
                  <a:pt x="1112" y="307"/>
                  <a:pt x="1051" y="359"/>
                  <a:pt x="1026" y="385"/>
                </a:cubicBezTo>
                <a:cubicBezTo>
                  <a:pt x="939" y="474"/>
                  <a:pt x="825" y="533"/>
                  <a:pt x="703" y="553"/>
                </a:cubicBezTo>
                <a:cubicBezTo>
                  <a:pt x="593" y="551"/>
                  <a:pt x="482" y="553"/>
                  <a:pt x="372" y="546"/>
                </a:cubicBezTo>
                <a:cubicBezTo>
                  <a:pt x="364" y="545"/>
                  <a:pt x="359" y="535"/>
                  <a:pt x="351" y="532"/>
                </a:cubicBezTo>
                <a:cubicBezTo>
                  <a:pt x="324" y="523"/>
                  <a:pt x="294" y="520"/>
                  <a:pt x="267" y="511"/>
                </a:cubicBezTo>
                <a:cubicBezTo>
                  <a:pt x="191" y="486"/>
                  <a:pt x="113" y="460"/>
                  <a:pt x="35" y="441"/>
                </a:cubicBezTo>
                <a:cubicBezTo>
                  <a:pt x="16" y="413"/>
                  <a:pt x="8" y="383"/>
                  <a:pt x="0" y="350"/>
                </a:cubicBezTo>
                <a:cubicBezTo>
                  <a:pt x="8" y="287"/>
                  <a:pt x="29" y="232"/>
                  <a:pt x="84" y="195"/>
                </a:cubicBezTo>
                <a:cubicBezTo>
                  <a:pt x="95" y="163"/>
                  <a:pt x="85" y="178"/>
                  <a:pt x="120" y="153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3657600"/>
            <a:ext cx="7596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809880"/>
            <a:ext cx="7596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03848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3434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72428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495288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024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3505320"/>
            <a:ext cx="1675080" cy="1090440"/>
          </a:xfrm>
          <a:custGeom>
            <a:avLst/>
            <a:gdLst/>
            <a:ahLst/>
            <a:rect l="l" t="t" r="r" b="b"/>
            <a:pathLst>
              <a:path w="1368" h="878">
                <a:moveTo>
                  <a:pt x="167" y="28"/>
                </a:moveTo>
                <a:cubicBezTo>
                  <a:pt x="221" y="17"/>
                  <a:pt x="190" y="24"/>
                  <a:pt x="258" y="7"/>
                </a:cubicBezTo>
                <a:cubicBezTo>
                  <a:pt x="267" y="5"/>
                  <a:pt x="286" y="0"/>
                  <a:pt x="286" y="0"/>
                </a:cubicBezTo>
                <a:cubicBezTo>
                  <a:pt x="450" y="4"/>
                  <a:pt x="577" y="3"/>
                  <a:pt x="729" y="28"/>
                </a:cubicBezTo>
                <a:cubicBezTo>
                  <a:pt x="771" y="42"/>
                  <a:pt x="806" y="55"/>
                  <a:pt x="848" y="63"/>
                </a:cubicBezTo>
                <a:cubicBezTo>
                  <a:pt x="892" y="85"/>
                  <a:pt x="937" y="105"/>
                  <a:pt x="981" y="126"/>
                </a:cubicBezTo>
                <a:cubicBezTo>
                  <a:pt x="1017" y="144"/>
                  <a:pt x="1048" y="165"/>
                  <a:pt x="1087" y="175"/>
                </a:cubicBezTo>
                <a:cubicBezTo>
                  <a:pt x="1120" y="197"/>
                  <a:pt x="1154" y="219"/>
                  <a:pt x="1192" y="232"/>
                </a:cubicBezTo>
                <a:cubicBezTo>
                  <a:pt x="1211" y="247"/>
                  <a:pt x="1232" y="262"/>
                  <a:pt x="1248" y="281"/>
                </a:cubicBezTo>
                <a:cubicBezTo>
                  <a:pt x="1264" y="300"/>
                  <a:pt x="1269" y="323"/>
                  <a:pt x="1284" y="344"/>
                </a:cubicBezTo>
                <a:cubicBezTo>
                  <a:pt x="1297" y="384"/>
                  <a:pt x="1308" y="408"/>
                  <a:pt x="1333" y="442"/>
                </a:cubicBezTo>
                <a:cubicBezTo>
                  <a:pt x="1343" y="482"/>
                  <a:pt x="1355" y="523"/>
                  <a:pt x="1368" y="562"/>
                </a:cubicBezTo>
                <a:cubicBezTo>
                  <a:pt x="1366" y="604"/>
                  <a:pt x="1367" y="646"/>
                  <a:pt x="1361" y="688"/>
                </a:cubicBezTo>
                <a:cubicBezTo>
                  <a:pt x="1356" y="722"/>
                  <a:pt x="1311" y="743"/>
                  <a:pt x="1291" y="758"/>
                </a:cubicBezTo>
                <a:cubicBezTo>
                  <a:pt x="1208" y="820"/>
                  <a:pt x="1104" y="832"/>
                  <a:pt x="1003" y="843"/>
                </a:cubicBezTo>
                <a:cubicBezTo>
                  <a:pt x="936" y="864"/>
                  <a:pt x="862" y="864"/>
                  <a:pt x="792" y="878"/>
                </a:cubicBezTo>
                <a:cubicBezTo>
                  <a:pt x="724" y="876"/>
                  <a:pt x="656" y="876"/>
                  <a:pt x="588" y="871"/>
                </a:cubicBezTo>
                <a:cubicBezTo>
                  <a:pt x="515" y="865"/>
                  <a:pt x="446" y="831"/>
                  <a:pt x="377" y="808"/>
                </a:cubicBezTo>
                <a:cubicBezTo>
                  <a:pt x="330" y="824"/>
                  <a:pt x="302" y="776"/>
                  <a:pt x="265" y="751"/>
                </a:cubicBezTo>
                <a:cubicBezTo>
                  <a:pt x="192" y="702"/>
                  <a:pt x="156" y="636"/>
                  <a:pt x="103" y="569"/>
                </a:cubicBezTo>
                <a:cubicBezTo>
                  <a:pt x="90" y="530"/>
                  <a:pt x="69" y="495"/>
                  <a:pt x="54" y="456"/>
                </a:cubicBezTo>
                <a:cubicBezTo>
                  <a:pt x="27" y="383"/>
                  <a:pt x="15" y="302"/>
                  <a:pt x="5" y="225"/>
                </a:cubicBezTo>
                <a:cubicBezTo>
                  <a:pt x="11" y="158"/>
                  <a:pt x="0" y="118"/>
                  <a:pt x="61" y="84"/>
                </a:cubicBezTo>
                <a:cubicBezTo>
                  <a:pt x="74" y="77"/>
                  <a:pt x="91" y="78"/>
                  <a:pt x="103" y="70"/>
                </a:cubicBezTo>
                <a:cubicBezTo>
                  <a:pt x="117" y="61"/>
                  <a:pt x="132" y="51"/>
                  <a:pt x="146" y="42"/>
                </a:cubicBezTo>
                <a:cubicBezTo>
                  <a:pt x="156" y="36"/>
                  <a:pt x="171" y="42"/>
                  <a:pt x="181" y="35"/>
                </a:cubicBezTo>
                <a:cubicBezTo>
                  <a:pt x="185" y="32"/>
                  <a:pt x="172" y="30"/>
                  <a:pt x="167" y="28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4724280"/>
            <a:ext cx="1784160" cy="878040"/>
          </a:xfrm>
          <a:custGeom>
            <a:avLst/>
            <a:gdLst/>
            <a:ahLst/>
            <a:rect l="l" t="t" r="r" b="b"/>
            <a:pathLst>
              <a:path w="1124" h="553">
                <a:moveTo>
                  <a:pt x="120" y="153"/>
                </a:moveTo>
                <a:cubicBezTo>
                  <a:pt x="160" y="133"/>
                  <a:pt x="184" y="123"/>
                  <a:pt x="225" y="111"/>
                </a:cubicBezTo>
                <a:cubicBezTo>
                  <a:pt x="234" y="108"/>
                  <a:pt x="244" y="107"/>
                  <a:pt x="253" y="104"/>
                </a:cubicBezTo>
                <a:cubicBezTo>
                  <a:pt x="267" y="100"/>
                  <a:pt x="295" y="90"/>
                  <a:pt x="295" y="90"/>
                </a:cubicBezTo>
                <a:cubicBezTo>
                  <a:pt x="404" y="96"/>
                  <a:pt x="410" y="103"/>
                  <a:pt x="499" y="90"/>
                </a:cubicBezTo>
                <a:cubicBezTo>
                  <a:pt x="523" y="87"/>
                  <a:pt x="569" y="69"/>
                  <a:pt x="569" y="69"/>
                </a:cubicBezTo>
                <a:cubicBezTo>
                  <a:pt x="602" y="46"/>
                  <a:pt x="688" y="21"/>
                  <a:pt x="731" y="12"/>
                </a:cubicBezTo>
                <a:cubicBezTo>
                  <a:pt x="775" y="13"/>
                  <a:pt x="934" y="0"/>
                  <a:pt x="1012" y="33"/>
                </a:cubicBezTo>
                <a:cubicBezTo>
                  <a:pt x="1043" y="46"/>
                  <a:pt x="1051" y="54"/>
                  <a:pt x="1082" y="76"/>
                </a:cubicBezTo>
                <a:cubicBezTo>
                  <a:pt x="1101" y="89"/>
                  <a:pt x="1124" y="132"/>
                  <a:pt x="1124" y="132"/>
                </a:cubicBezTo>
                <a:cubicBezTo>
                  <a:pt x="1122" y="176"/>
                  <a:pt x="1123" y="221"/>
                  <a:pt x="1117" y="265"/>
                </a:cubicBezTo>
                <a:cubicBezTo>
                  <a:pt x="1112" y="307"/>
                  <a:pt x="1051" y="359"/>
                  <a:pt x="1026" y="385"/>
                </a:cubicBezTo>
                <a:cubicBezTo>
                  <a:pt x="939" y="474"/>
                  <a:pt x="825" y="533"/>
                  <a:pt x="703" y="553"/>
                </a:cubicBezTo>
                <a:cubicBezTo>
                  <a:pt x="593" y="551"/>
                  <a:pt x="482" y="553"/>
                  <a:pt x="372" y="546"/>
                </a:cubicBezTo>
                <a:cubicBezTo>
                  <a:pt x="364" y="545"/>
                  <a:pt x="359" y="535"/>
                  <a:pt x="351" y="532"/>
                </a:cubicBezTo>
                <a:cubicBezTo>
                  <a:pt x="324" y="523"/>
                  <a:pt x="294" y="520"/>
                  <a:pt x="267" y="511"/>
                </a:cubicBezTo>
                <a:cubicBezTo>
                  <a:pt x="191" y="486"/>
                  <a:pt x="113" y="460"/>
                  <a:pt x="35" y="441"/>
                </a:cubicBezTo>
                <a:cubicBezTo>
                  <a:pt x="16" y="413"/>
                  <a:pt x="8" y="383"/>
                  <a:pt x="0" y="350"/>
                </a:cubicBezTo>
                <a:cubicBezTo>
                  <a:pt x="8" y="287"/>
                  <a:pt x="29" y="232"/>
                  <a:pt x="84" y="195"/>
                </a:cubicBezTo>
                <a:cubicBezTo>
                  <a:pt x="95" y="163"/>
                  <a:pt x="85" y="178"/>
                  <a:pt x="120" y="153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43434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1055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14800" y="4038480"/>
            <a:ext cx="76320" cy="121932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114800" y="4876920"/>
            <a:ext cx="685800" cy="30456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D&gt;q/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0960" y="441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39200" y="453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276720"/>
            <a:ext cx="1981440" cy="2514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1981080" cy="2514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3276720"/>
            <a:ext cx="1981080" cy="2514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80988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4038480"/>
            <a:ext cx="7632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4419720"/>
            <a:ext cx="75960" cy="759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4800600"/>
            <a:ext cx="7596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4952880"/>
            <a:ext cx="7596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4876920"/>
            <a:ext cx="75960" cy="759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5181480"/>
            <a:ext cx="75960" cy="76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56520" y="3510000"/>
            <a:ext cx="653760" cy="757080"/>
          </a:xfrm>
          <a:custGeom>
            <a:avLst/>
            <a:gdLst/>
            <a:ahLst/>
            <a:rect l="l" t="t" r="r" b="b"/>
            <a:pathLst>
              <a:path w="502" h="465">
                <a:moveTo>
                  <a:pt x="77" y="23"/>
                </a:moveTo>
                <a:cubicBezTo>
                  <a:pt x="182" y="2"/>
                  <a:pt x="175" y="1"/>
                  <a:pt x="358" y="23"/>
                </a:cubicBezTo>
                <a:cubicBezTo>
                  <a:pt x="381" y="26"/>
                  <a:pt x="452" y="90"/>
                  <a:pt x="464" y="107"/>
                </a:cubicBezTo>
                <a:cubicBezTo>
                  <a:pt x="477" y="126"/>
                  <a:pt x="492" y="170"/>
                  <a:pt x="492" y="170"/>
                </a:cubicBezTo>
                <a:cubicBezTo>
                  <a:pt x="487" y="261"/>
                  <a:pt x="502" y="318"/>
                  <a:pt x="428" y="367"/>
                </a:cubicBezTo>
                <a:cubicBezTo>
                  <a:pt x="423" y="374"/>
                  <a:pt x="421" y="383"/>
                  <a:pt x="414" y="388"/>
                </a:cubicBezTo>
                <a:cubicBezTo>
                  <a:pt x="406" y="393"/>
                  <a:pt x="395" y="391"/>
                  <a:pt x="386" y="395"/>
                </a:cubicBezTo>
                <a:cubicBezTo>
                  <a:pt x="362" y="405"/>
                  <a:pt x="340" y="420"/>
                  <a:pt x="316" y="430"/>
                </a:cubicBezTo>
                <a:cubicBezTo>
                  <a:pt x="302" y="435"/>
                  <a:pt x="274" y="444"/>
                  <a:pt x="274" y="444"/>
                </a:cubicBezTo>
                <a:cubicBezTo>
                  <a:pt x="204" y="441"/>
                  <a:pt x="124" y="465"/>
                  <a:pt x="63" y="430"/>
                </a:cubicBezTo>
                <a:cubicBezTo>
                  <a:pt x="53" y="424"/>
                  <a:pt x="33" y="399"/>
                  <a:pt x="28" y="388"/>
                </a:cubicBezTo>
                <a:cubicBezTo>
                  <a:pt x="22" y="375"/>
                  <a:pt x="14" y="346"/>
                  <a:pt x="14" y="346"/>
                </a:cubicBezTo>
                <a:cubicBezTo>
                  <a:pt x="10" y="253"/>
                  <a:pt x="0" y="176"/>
                  <a:pt x="14" y="86"/>
                </a:cubicBezTo>
                <a:cubicBezTo>
                  <a:pt x="20" y="49"/>
                  <a:pt x="31" y="0"/>
                  <a:pt x="77" y="23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648320"/>
            <a:ext cx="685800" cy="761760"/>
          </a:xfrm>
          <a:custGeom>
            <a:avLst/>
            <a:gdLst/>
            <a:ahLst/>
            <a:rect l="l" t="t" r="r" b="b"/>
            <a:pathLst>
              <a:path w="541" h="475">
                <a:moveTo>
                  <a:pt x="93" y="103"/>
                </a:moveTo>
                <a:cubicBezTo>
                  <a:pt x="146" y="85"/>
                  <a:pt x="195" y="64"/>
                  <a:pt x="248" y="46"/>
                </a:cubicBezTo>
                <a:cubicBezTo>
                  <a:pt x="280" y="35"/>
                  <a:pt x="307" y="15"/>
                  <a:pt x="339" y="4"/>
                </a:cubicBezTo>
                <a:cubicBezTo>
                  <a:pt x="430" y="11"/>
                  <a:pt x="426" y="0"/>
                  <a:pt x="479" y="53"/>
                </a:cubicBezTo>
                <a:cubicBezTo>
                  <a:pt x="487" y="70"/>
                  <a:pt x="501" y="85"/>
                  <a:pt x="508" y="103"/>
                </a:cubicBezTo>
                <a:cubicBezTo>
                  <a:pt x="515" y="121"/>
                  <a:pt x="522" y="159"/>
                  <a:pt x="522" y="159"/>
                </a:cubicBezTo>
                <a:cubicBezTo>
                  <a:pt x="519" y="217"/>
                  <a:pt x="541" y="297"/>
                  <a:pt x="493" y="341"/>
                </a:cubicBezTo>
                <a:cubicBezTo>
                  <a:pt x="476" y="394"/>
                  <a:pt x="436" y="399"/>
                  <a:pt x="402" y="433"/>
                </a:cubicBezTo>
                <a:cubicBezTo>
                  <a:pt x="381" y="454"/>
                  <a:pt x="367" y="466"/>
                  <a:pt x="339" y="475"/>
                </a:cubicBezTo>
                <a:cubicBezTo>
                  <a:pt x="229" y="458"/>
                  <a:pt x="92" y="466"/>
                  <a:pt x="23" y="363"/>
                </a:cubicBezTo>
                <a:cubicBezTo>
                  <a:pt x="0" y="292"/>
                  <a:pt x="14" y="229"/>
                  <a:pt x="37" y="159"/>
                </a:cubicBezTo>
                <a:cubicBezTo>
                  <a:pt x="48" y="127"/>
                  <a:pt x="93" y="131"/>
                  <a:pt x="93" y="103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4203720"/>
            <a:ext cx="533160" cy="825480"/>
          </a:xfrm>
          <a:custGeom>
            <a:avLst/>
            <a:gdLst/>
            <a:ahLst/>
            <a:rect l="l" t="t" r="r" b="b"/>
            <a:pathLst>
              <a:path w="459" h="655">
                <a:moveTo>
                  <a:pt x="276" y="14"/>
                </a:moveTo>
                <a:cubicBezTo>
                  <a:pt x="244" y="18"/>
                  <a:pt x="209" y="20"/>
                  <a:pt x="178" y="28"/>
                </a:cubicBezTo>
                <a:cubicBezTo>
                  <a:pt x="163" y="32"/>
                  <a:pt x="135" y="42"/>
                  <a:pt x="135" y="42"/>
                </a:cubicBezTo>
                <a:cubicBezTo>
                  <a:pt x="121" y="51"/>
                  <a:pt x="107" y="61"/>
                  <a:pt x="93" y="70"/>
                </a:cubicBezTo>
                <a:cubicBezTo>
                  <a:pt x="86" y="75"/>
                  <a:pt x="72" y="84"/>
                  <a:pt x="72" y="84"/>
                </a:cubicBezTo>
                <a:cubicBezTo>
                  <a:pt x="66" y="155"/>
                  <a:pt x="57" y="254"/>
                  <a:pt x="16" y="316"/>
                </a:cubicBezTo>
                <a:cubicBezTo>
                  <a:pt x="13" y="328"/>
                  <a:pt x="2" y="370"/>
                  <a:pt x="2" y="380"/>
                </a:cubicBezTo>
                <a:cubicBezTo>
                  <a:pt x="2" y="429"/>
                  <a:pt x="0" y="479"/>
                  <a:pt x="9" y="527"/>
                </a:cubicBezTo>
                <a:cubicBezTo>
                  <a:pt x="25" y="613"/>
                  <a:pt x="162" y="640"/>
                  <a:pt x="227" y="646"/>
                </a:cubicBezTo>
                <a:cubicBezTo>
                  <a:pt x="309" y="641"/>
                  <a:pt x="339" y="655"/>
                  <a:pt x="395" y="618"/>
                </a:cubicBezTo>
                <a:cubicBezTo>
                  <a:pt x="431" y="564"/>
                  <a:pt x="448" y="521"/>
                  <a:pt x="459" y="457"/>
                </a:cubicBezTo>
                <a:cubicBezTo>
                  <a:pt x="454" y="354"/>
                  <a:pt x="458" y="227"/>
                  <a:pt x="402" y="134"/>
                </a:cubicBezTo>
                <a:cubicBezTo>
                  <a:pt x="389" y="83"/>
                  <a:pt x="355" y="29"/>
                  <a:pt x="311" y="0"/>
                </a:cubicBezTo>
                <a:cubicBezTo>
                  <a:pt x="299" y="2"/>
                  <a:pt x="288" y="4"/>
                  <a:pt x="276" y="7"/>
                </a:cubicBezTo>
                <a:cubicBezTo>
                  <a:pt x="269" y="9"/>
                  <a:pt x="255" y="7"/>
                  <a:pt x="255" y="14"/>
                </a:cubicBezTo>
                <a:cubicBezTo>
                  <a:pt x="255" y="21"/>
                  <a:pt x="269" y="14"/>
                  <a:pt x="276" y="14"/>
                </a:cubicBez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7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2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6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4680" y="202248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We used this for segmentation of textured scen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6200" y="5334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B3F-C34B-4C8F-AF84-9CBF18D7CC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sodata Cluste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15360" y="1828800"/>
            <a:ext cx="6272280" cy="33858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.  Select several cluster means and form cluster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.  Split any cluster whose variance is too lar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.  Group together clusters that are too smal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.  Recompute mea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.  Repeat till  2 and 3 cannot be applie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35440" y="556272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We used this to cluster normal vectors in 3D dat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CA3-A36B-426D-A776-125201BB0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 1: Reg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sailboatseg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4E6-EE01-42E5-BD76-780F7AA85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fb11117kmclus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2895480" cy="2160720"/>
          </a:xfrm>
          <a:prstGeom prst="rect">
            <a:avLst/>
          </a:prstGeom>
          <a:ln w="0">
            <a:noFill/>
          </a:ln>
        </p:spPr>
      </p:pic>
      <p:pic>
        <p:nvPicPr>
          <p:cNvPr id="223" name="fb11117clus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2908080" cy="217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rcRect l="36208" t="20252" r="3448" b="23711"/>
          <a:stretch/>
        </p:blipFill>
        <p:spPr>
          <a:xfrm>
            <a:off x="1447920" y="2362320"/>
            <a:ext cx="2895480" cy="2151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65240" y="4689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7960" y="57456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-means, K=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6720" y="335268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sodata, K became 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7DA-F3ED-4192-BD4D-C40BAD6BA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hlander’s Recursive Histogram-Based Cluste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910080" y="2209680"/>
            <a:ext cx="7690680" cy="3751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olor images of real indoor and outdoor sce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starts with the whole im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lects the R, G, or B histogram with largest pea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d  finds clusters from that histogra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nverts to regions on the image and creates masks for eac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ushes each mask onto a stack for further cluster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958-EA12-4518-9F69-63929C7B7E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hlander’s Metho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11393" t="17409" r="12864" b="12688"/>
          <a:stretch/>
        </p:blipFill>
        <p:spPr>
          <a:xfrm>
            <a:off x="1447920" y="16002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6432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ky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4280" y="5181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ree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61600" y="5372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ree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304920"/>
            <a:ext cx="257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hta suggested usi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R+G+B)/3, (R-B)/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(2G-R-B)/4 instea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f  (R, G, B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52520" y="2071800"/>
            <a:ext cx="102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eparat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R, G, B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3B6-9090-4384-9543-B664F8B298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Jianbo Shi’s Graph-Partition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055520" y="1828800"/>
            <a:ext cx="70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n image is represented by a graph whose nod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re pixels or small groups of pixel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he goal is to partition the vertices into disjoint sets s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hat the similarity within each set is high a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across different sets is low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86C-2717-41FF-8D3C-1E40BA24FC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inimal Cu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514080" y="2022480"/>
            <a:ext cx="798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 = (V,E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be a graph. Each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ge (u,v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has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ight w(u,v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at represents the similarity between u and v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raph G can be broken into 2 disjoint graphs with node se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 and B by removing edges that connect these set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ne way to segment G is to find the minimal cu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11840" y="457200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C6B-DAAB-4463-843E-18DD842A3F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ut(A,B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86720" y="438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2040" y="5257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020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772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69200" y="224460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34440" y="262404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6699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6699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0CA-E592-480E-B4F4-405EB88E3B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Normalized C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738360" y="1793880"/>
            <a:ext cx="62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Minimal cut favors cutting off small node groups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so Shi proposed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rmalized cut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31360" y="2936880"/>
            <a:ext cx="5008680" cy="1191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ut(A, B)         cut(A,b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cut(A,B) =  -------------  +  ------------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sso(A,V)       asso(B,V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1960" y="4683240"/>
            <a:ext cx="277596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sso(A,V) =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w(u,t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A, t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48560" y="4800600"/>
            <a:ext cx="28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ow much is A connec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o the graph as a who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64760" y="32148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rmaliz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u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712-D548-4F1A-B5A9-56797C2335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 Normalized C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09680" y="2743200"/>
            <a:ext cx="228600" cy="2286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3429000"/>
            <a:ext cx="228600" cy="2286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429000"/>
            <a:ext cx="228600" cy="2286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4038480"/>
            <a:ext cx="228600" cy="2286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350532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2819520"/>
            <a:ext cx="9144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819520"/>
            <a:ext cx="0" cy="76176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89548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3581280"/>
            <a:ext cx="76212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3880" y="3505320"/>
            <a:ext cx="381240" cy="6094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980720" y="3505320"/>
            <a:ext cx="381240" cy="6858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3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408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634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684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492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356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2880" y="2768760"/>
            <a:ext cx="1168200" cy="1473120"/>
          </a:xfrm>
          <a:custGeom>
            <a:avLst/>
            <a:gdLst/>
            <a:ahLst/>
            <a:rect l="l" t="t" r="r" b="b"/>
            <a:pathLst>
              <a:path w="736" h="928">
                <a:moveTo>
                  <a:pt x="448" y="32"/>
                </a:moveTo>
                <a:cubicBezTo>
                  <a:pt x="284" y="16"/>
                  <a:pt x="120" y="0"/>
                  <a:pt x="64" y="128"/>
                </a:cubicBezTo>
                <a:cubicBezTo>
                  <a:pt x="8" y="256"/>
                  <a:pt x="0" y="672"/>
                  <a:pt x="112" y="800"/>
                </a:cubicBezTo>
                <a:cubicBezTo>
                  <a:pt x="224" y="928"/>
                  <a:pt x="632" y="880"/>
                  <a:pt x="736" y="89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81080" y="281952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240" y="0"/>
                </a:moveTo>
                <a:cubicBezTo>
                  <a:pt x="380" y="12"/>
                  <a:pt x="520" y="24"/>
                  <a:pt x="576" y="144"/>
                </a:cubicBezTo>
                <a:cubicBezTo>
                  <a:pt x="632" y="264"/>
                  <a:pt x="672" y="600"/>
                  <a:pt x="576" y="720"/>
                </a:cubicBezTo>
                <a:cubicBezTo>
                  <a:pt x="480" y="840"/>
                  <a:pt x="96" y="840"/>
                  <a:pt x="0" y="86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460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704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2743200"/>
            <a:ext cx="0" cy="8380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819520"/>
            <a:ext cx="0" cy="8380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28195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657600"/>
            <a:ext cx="914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105160" y="2819520"/>
            <a:ext cx="990360" cy="8380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2743200"/>
            <a:ext cx="990360" cy="9144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94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7480" y="236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80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696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748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0" y="2819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936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2819520"/>
            <a:ext cx="2819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819520"/>
            <a:ext cx="281916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940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71440" y="237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109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8200" y="4419720"/>
            <a:ext cx="3681360" cy="1191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             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cut(A,B) =  -------  +  -----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1           1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2120" y="202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05880" y="194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33C-97F9-4C5E-8196-31C3A9582C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rcRect l="10626" t="41408" r="49379" b="20315"/>
          <a:stretch/>
        </p:blipFill>
        <p:spPr>
          <a:xfrm>
            <a:off x="914400" y="609480"/>
            <a:ext cx="7162920" cy="548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C35-2723-43E6-B3BE-6B798FF737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Shi used th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42680" y="1946160"/>
            <a:ext cx="48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hi defined the edge weights w(i,j) b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(i,j) = e                    *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25146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5240" y="2514600"/>
            <a:ext cx="43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                        if ||X(i)-X(j)||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&lt; 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0                       otherwi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6200" y="2590920"/>
            <a:ext cx="15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||F(i)-F(j)||</a:t>
            </a:r>
            <a:r>
              <a:rPr b="0" lang="en-US" sz="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92560" y="2438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||X(i)-X(j)||</a:t>
            </a:r>
            <a:r>
              <a:rPr b="0" lang="en-US" sz="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91000" y="3851280"/>
            <a:ext cx="68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where X(i) is the spatial location of node 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F(i) is the feature vector for node 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which can be intensity, color, texture, motion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91000" y="5299200"/>
            <a:ext cx="66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formula is set up so that w(i,j) is 0 for nodes tha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re too far apar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889-8D9C-4DC4-8F09-54C0C03C66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 2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traight L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blocks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36878" t="14844" r="5624" b="11614"/>
          <a:stretch/>
        </p:blipFill>
        <p:spPr>
          <a:xfrm>
            <a:off x="1981080" y="2057400"/>
            <a:ext cx="4245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CB8-8EED-44D9-A4BC-9D3BEF6ABD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s of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hi Cluste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color+t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86600" cy="47750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116600" y="609480"/>
            <a:ext cx="39664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e Shi’s Web P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ttp://www-2.cs.cmu.edu/~jsh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DAA-B94D-4F29-8208-A4954989E2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Lines and Arc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egmen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742680" y="1946160"/>
            <a:ext cx="6365160" cy="1191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 some image sets, lines, curves, and circular ar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e more useful than regions or helpful in addi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o regio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8520" y="358128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ines and arcs are often used i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tereo match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ocument analys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18" name="lam" descr=""/>
          <p:cNvPicPr/>
          <p:nvPr/>
        </p:nvPicPr>
        <p:blipFill>
          <a:blip r:embed="rId1"/>
          <a:stretch/>
        </p:blipFill>
        <p:spPr>
          <a:xfrm>
            <a:off x="5365800" y="3352680"/>
            <a:ext cx="253980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277-DD1B-4917-8746-95F3BB8580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dge Dete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745560" y="1946160"/>
            <a:ext cx="68025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asic idea:  look for a neighborhood with strong sig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f chan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40240" y="3276720"/>
            <a:ext cx="2085840" cy="1191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81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82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26   2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33   25   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81   82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26   2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6640" y="3276720"/>
            <a:ext cx="29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eighborhood siz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ow to detect chan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129-4750-409F-BB6D-FE6A53E699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ifferential Operato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754200" y="2362320"/>
            <a:ext cx="72104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ifferential operato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ttempt to approximate the gradient at a pixel via mask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reshold the gradient to select the edge pixel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B41-93A1-4554-87AC-75E11CFB15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: Sobel Opera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822960" y="1870200"/>
            <a:ext cx="56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-1   0   1                                 1   2   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Sx =    -2   0   2                      Sy =    0   0   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-1   0   1                                -1  -2  -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19810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98108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20440" y="347040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n a pixel of the im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et gx be the response to S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et gy be the response to S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0160" y="4994280"/>
            <a:ext cx="69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n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 = (gx  + gy  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is the gradient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gnitud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 atan2(gy,gx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is the gradient direct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00200" y="4862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86000" y="4862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90920" y="48625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245-C0E7-4957-B6D7-3C813925A8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Java Toolkit’s Sobel Opera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rcRect l="7520" t="4699" r="17292" b="63347"/>
          <a:stretch/>
        </p:blipFill>
        <p:spPr>
          <a:xfrm>
            <a:off x="762120" y="2133720"/>
            <a:ext cx="7619760" cy="2590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907560" y="4952880"/>
            <a:ext cx="71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riginal image                gradient                    threshold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agnitude                    gradi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agnitu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69-41ED-41AA-9548-3C39474E34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Zero Crossing Operato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814320" y="20988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otivation:  The zero crossings of the second derivat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f the image function are more precise th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peaks of the first derivativ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3886200"/>
            <a:ext cx="12952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0" y="3886200"/>
            <a:ext cx="0" cy="3808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4876920"/>
            <a:ext cx="9903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6120" y="4562640"/>
            <a:ext cx="682560" cy="314280"/>
          </a:xfrm>
          <a:custGeom>
            <a:avLst/>
            <a:gdLst/>
            <a:ahLst/>
            <a:rect l="l" t="t" r="r" b="b"/>
            <a:pathLst>
              <a:path w="430" h="198">
                <a:moveTo>
                  <a:pt x="0" y="198"/>
                </a:moveTo>
                <a:cubicBezTo>
                  <a:pt x="44" y="183"/>
                  <a:pt x="23" y="188"/>
                  <a:pt x="64" y="181"/>
                </a:cubicBezTo>
                <a:cubicBezTo>
                  <a:pt x="121" y="161"/>
                  <a:pt x="136" y="124"/>
                  <a:pt x="180" y="93"/>
                </a:cubicBezTo>
                <a:cubicBezTo>
                  <a:pt x="212" y="2"/>
                  <a:pt x="351" y="0"/>
                  <a:pt x="430" y="0"/>
                </a:cubicBez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5410080"/>
            <a:ext cx="1143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5410080"/>
            <a:ext cx="1143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246640"/>
            <a:ext cx="350640" cy="165240"/>
          </a:xfrm>
          <a:custGeom>
            <a:avLst/>
            <a:gdLst/>
            <a:ahLst/>
            <a:rect l="l" t="t" r="r" b="b"/>
            <a:pathLst>
              <a:path w="221" h="104">
                <a:moveTo>
                  <a:pt x="0" y="104"/>
                </a:moveTo>
                <a:cubicBezTo>
                  <a:pt x="8" y="102"/>
                  <a:pt x="16" y="103"/>
                  <a:pt x="23" y="99"/>
                </a:cubicBezTo>
                <a:cubicBezTo>
                  <a:pt x="46" y="84"/>
                  <a:pt x="38" y="47"/>
                  <a:pt x="58" y="29"/>
                </a:cubicBezTo>
                <a:cubicBezTo>
                  <a:pt x="82" y="8"/>
                  <a:pt x="87" y="8"/>
                  <a:pt x="111" y="0"/>
                </a:cubicBezTo>
                <a:cubicBezTo>
                  <a:pt x="130" y="7"/>
                  <a:pt x="163" y="29"/>
                  <a:pt x="163" y="29"/>
                </a:cubicBezTo>
                <a:cubicBezTo>
                  <a:pt x="174" y="44"/>
                  <a:pt x="181" y="67"/>
                  <a:pt x="192" y="81"/>
                </a:cubicBezTo>
                <a:cubicBezTo>
                  <a:pt x="200" y="91"/>
                  <a:pt x="212" y="96"/>
                  <a:pt x="221" y="104"/>
                </a:cubicBez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90720" y="6019920"/>
            <a:ext cx="9903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6019920"/>
            <a:ext cx="9907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81080" y="5791320"/>
            <a:ext cx="720720" cy="568080"/>
          </a:xfrm>
          <a:custGeom>
            <a:avLst/>
            <a:gdLst/>
            <a:ahLst/>
            <a:rect l="l" t="t" r="r" b="b"/>
            <a:pathLst>
              <a:path w="454" h="358">
                <a:moveTo>
                  <a:pt x="0" y="151"/>
                </a:moveTo>
                <a:cubicBezTo>
                  <a:pt x="36" y="129"/>
                  <a:pt x="29" y="77"/>
                  <a:pt x="64" y="53"/>
                </a:cubicBezTo>
                <a:cubicBezTo>
                  <a:pt x="89" y="36"/>
                  <a:pt x="110" y="17"/>
                  <a:pt x="134" y="0"/>
                </a:cubicBezTo>
                <a:cubicBezTo>
                  <a:pt x="161" y="6"/>
                  <a:pt x="180" y="6"/>
                  <a:pt x="198" y="29"/>
                </a:cubicBezTo>
                <a:cubicBezTo>
                  <a:pt x="207" y="40"/>
                  <a:pt x="221" y="64"/>
                  <a:pt x="221" y="64"/>
                </a:cubicBezTo>
                <a:cubicBezTo>
                  <a:pt x="237" y="126"/>
                  <a:pt x="235" y="189"/>
                  <a:pt x="256" y="250"/>
                </a:cubicBezTo>
                <a:cubicBezTo>
                  <a:pt x="267" y="358"/>
                  <a:pt x="244" y="284"/>
                  <a:pt x="280" y="320"/>
                </a:cubicBezTo>
                <a:cubicBezTo>
                  <a:pt x="307" y="347"/>
                  <a:pt x="273" y="333"/>
                  <a:pt x="309" y="343"/>
                </a:cubicBezTo>
                <a:cubicBezTo>
                  <a:pt x="332" y="341"/>
                  <a:pt x="356" y="345"/>
                  <a:pt x="378" y="338"/>
                </a:cubicBezTo>
                <a:cubicBezTo>
                  <a:pt x="384" y="336"/>
                  <a:pt x="381" y="326"/>
                  <a:pt x="384" y="320"/>
                </a:cubicBezTo>
                <a:cubicBezTo>
                  <a:pt x="391" y="308"/>
                  <a:pt x="408" y="285"/>
                  <a:pt x="408" y="285"/>
                </a:cubicBezTo>
                <a:cubicBezTo>
                  <a:pt x="423" y="235"/>
                  <a:pt x="399" y="303"/>
                  <a:pt x="431" y="256"/>
                </a:cubicBezTo>
                <a:cubicBezTo>
                  <a:pt x="439" y="244"/>
                  <a:pt x="454" y="176"/>
                  <a:pt x="454" y="151"/>
                </a:cubicBez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84760" y="3699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step ed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4760" y="4156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smooth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46520" y="50292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1st derivat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31040" y="56037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2nd derivat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59436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37920" y="5791320"/>
            <a:ext cx="228600" cy="1522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0480" y="55627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zero crossing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AC6-1573-4FAC-AB3A-09F953D22E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arr/Hildreth Opera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837000" y="2362320"/>
            <a:ext cx="677304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mooth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image via a Gaussian convolu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pply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placian filter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(estimate 2nd derivativ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nd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zero crossing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of the Laplacian of the Gaussi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can be done at multiple resolutio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2EA-F005-4466-8F07-8F66173803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aralick Opera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820440" y="2098800"/>
            <a:ext cx="66222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t the gray-tone intensity surface to a piecewis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ubic polynomail approximation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se the approximation t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zero crossing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of t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directional derivative in the direction tha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aximizes the first directional derivativ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derivatives here are calculated fr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thematical expression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wrt the cubic polynomi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7E7-628D-4930-939B-5A9E67316F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anny Edge Detec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679320" y="1676520"/>
            <a:ext cx="755532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mooth the imag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with a Gaussian filte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ompute gradient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magnitude and direction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at each pixel of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smoothed ima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Zero out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any pixel response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two neighboring pixel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n either side of it,  along the direction of the gradien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Track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high-magnitude contour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Keep only pixels along these contour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so weak littl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gments go away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3A1-510D-4D88-9CF2-1BCE39D52E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 3: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Lines and Circular Arc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yiwifeseg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29200" cy="377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8" name="yiwife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2239920" cy="16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301-2701-4AB3-B39C-F83AD7A999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anny Exam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rcRect l="37191" t="29961" r="37191" b="47311"/>
          <a:stretch/>
        </p:blipFill>
        <p:spPr>
          <a:xfrm>
            <a:off x="1447920" y="1905120"/>
            <a:ext cx="5410080" cy="384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6CA-A83C-4BA0-B4F1-71B47EF345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est Canny on Kidney from Hw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cannykid" descr=""/>
          <p:cNvPicPr/>
          <p:nvPr/>
        </p:nvPicPr>
        <p:blipFill>
          <a:blip r:embed="rId1"/>
          <a:srcRect l="0" t="0" r="40625" b="22654"/>
          <a:stretch/>
        </p:blipFill>
        <p:spPr>
          <a:xfrm>
            <a:off x="2438280" y="1600200"/>
            <a:ext cx="4343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BDD-54EB-4350-B08E-4587135B15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est Canny on Blocks from Hw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cannyblocks" descr=""/>
          <p:cNvPicPr/>
          <p:nvPr/>
        </p:nvPicPr>
        <p:blipFill>
          <a:blip r:embed="rId1"/>
          <a:srcRect l="0" t="0" r="60420" b="50004"/>
          <a:stretch/>
        </p:blipFill>
        <p:spPr>
          <a:xfrm>
            <a:off x="3048120" y="2286000"/>
            <a:ext cx="289548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149-00A7-4D32-8273-87C113D6E15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inding Line and Curve Segment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rom Edge Ima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820800" y="2022480"/>
            <a:ext cx="7672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iven an edge image, how do we find line and arc segment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16480" y="2860560"/>
            <a:ext cx="549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ethod 1: Track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masks to identify the following event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star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a new seg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terior poin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ontinuing a seg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a seg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unctio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etween multiple segme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corner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at breaks a segment into tw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3352680"/>
            <a:ext cx="533160" cy="457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467480" y="3276360"/>
            <a:ext cx="533520" cy="5331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3809880"/>
            <a:ext cx="0" cy="83844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467480" y="4114800"/>
            <a:ext cx="533520" cy="5335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1000" y="27432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unc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71840" y="4610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corne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67480" y="312408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770-E3B4-4E97-8A87-FCEA32DC9D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dge Tracking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886680" y="2019240"/>
            <a:ext cx="6262920" cy="2837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for each edge pixel P {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lassify its pixel type using mask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9933ff"/>
                </a:solidFill>
                <a:latin typeface="Times New Roman"/>
              </a:rPr>
              <a:t>1. isolated point :             ignore 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2.  start point :                  make a new segmen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3.  interior point :             add to current segmen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66cc"/>
                </a:solidFill>
                <a:latin typeface="Times New Roman"/>
              </a:rPr>
              <a:t>4.  end point :                    add to current segment and finish 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5.  junction or corner :      add to incoming segmen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finish incoming segmen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make new outgoing segment(s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6480" y="552780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he ORT package uses a fancier corner finding approach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B76-F43D-4453-A63B-81878CC65B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ugh Transfor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747720" y="1752480"/>
            <a:ext cx="6075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he Hough transform is a method for detecting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ines or curves specified by 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arametric function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f the parameters are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1, p2, … pn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, then the Hough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rocedure uses an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n-dimensional accumulator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arra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n which it accumulates votes for the correct parameter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of the lines or curves found on the imag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4648320"/>
            <a:ext cx="1676520" cy="16002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3880" y="55627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54100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5257800"/>
            <a:ext cx="15228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51055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49528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57913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y = mx + b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920" y="4267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4648320"/>
            <a:ext cx="167616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62520" y="4648320"/>
            <a:ext cx="83808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6252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0060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62520" y="4648320"/>
            <a:ext cx="167616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4648320"/>
            <a:ext cx="16761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5486400"/>
            <a:ext cx="167616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5486400"/>
            <a:ext cx="4572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66880" y="544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396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41911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accumulat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BE5-8B22-47A7-9503-3E253D525D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inding Straight Line Seg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1044720" y="2022480"/>
            <a:ext cx="67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 = mx + b is not suitable (why?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equation generally used is:  d = r sin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+ c cos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4038480"/>
            <a:ext cx="23619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4038480"/>
            <a:ext cx="0" cy="17528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4038480"/>
            <a:ext cx="533160" cy="7621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692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034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7280" y="3962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819520" y="4038120"/>
            <a:ext cx="1600200" cy="1219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63760" y="5181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57600" y="3619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32120" y="4610160"/>
            <a:ext cx="3737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d is the distance from the line to origi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is the angle the perpendicular mak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with the column axi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423-D5BC-42A6-8B0E-F01BA68F6A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rocedure to Accumulate L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290600" y="1676520"/>
            <a:ext cx="51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25920" y="3429000"/>
            <a:ext cx="48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mpute gradient magnitude GM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GMAG &gt; gradient_threshold {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66200" y="4384800"/>
            <a:ext cx="56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mpute quantized tangent angle THETAQ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ompute quantized distance to origin DQ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crement A(DQ,THETAQ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update PTLIST(DQ,THETAQ) } 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552-5B95-40E1-905E-C3F1FD5F77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819720" y="1946160"/>
            <a:ext cx="2637360" cy="1679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0      0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0    100  1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00  100  100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100  1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00  100  100  100  1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3400" y="1981080"/>
            <a:ext cx="1985400" cy="1679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90  90  40  20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90  90  90  40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4760" y="1981080"/>
            <a:ext cx="1973160" cy="1618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6280" y="412920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05160" y="4129200"/>
            <a:ext cx="2058480" cy="1618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-   1   -  2   -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3520" y="57913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0 10  20 30 40 …9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419112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2760" y="4129200"/>
            <a:ext cx="2058480" cy="1618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-   *   -  *   -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78240" y="5791320"/>
            <a:ext cx="2143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,3)(1,4)(2,3)(2,4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455600" y="4205160"/>
            <a:ext cx="671400" cy="1618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3,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3,2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4,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4,2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4,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18148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10080" y="51814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6080" y="15238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gray-tone imag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3440" y="1523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91320" y="15382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HETAQ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82560" y="37479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ccumulator 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99880" y="3747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TLIS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198108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2971800"/>
            <a:ext cx="152424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2360" y="5562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distanc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837-2907-4330-AE9E-E36D5669574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do you extract the line segments from the accumulator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912600" y="1752480"/>
            <a:ext cx="6709680" cy="4483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ick the bin of A with highest value V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hile V &gt; value_threshold {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corresponding pointlist from PTLI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in high gradient neighbors within 10 degre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creat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line segment from final point li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zero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ut that bin of 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pick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bin of A with highest value V 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0D6-C73E-4BB1-9DEA-AC8B629A6C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Region Segmentation: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egmentation Crite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21880" y="21747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rom Pavlid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22120" y="2860560"/>
            <a:ext cx="7477560" cy="33858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segmentation is a partition of an image I in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set of regions S satisfying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i = 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Partition covers the whole ima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.  Si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Sj =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, i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o regions intersec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i, P(Si) = tru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Homogeneity predicate 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atisfied by each reg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.  P(Si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Sj) = false,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nion of adjacent regio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j, Si adjacent Sj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oes not satisfy i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81D-CE00-4463-B50A-1F4B90411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inding Circ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898200" y="194616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quations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56080" y="1787400"/>
            <a:ext cx="219996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r0 +  d sin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 = c0 + d cos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15400" y="18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, c, d are paramet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2520" y="31654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n idea:  The gradient vector at an edge pixel poi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enter of  the circl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4267080"/>
            <a:ext cx="1523880" cy="1524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952160" y="48769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*(r,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266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21160" y="472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0FC-4FC4-4219-9EA2-42C81C62D7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y it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1981080"/>
            <a:ext cx="1371600" cy="129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66040" y="2057400"/>
            <a:ext cx="45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lled Circle: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Outer points of circle have gradi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direction pointing to cente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4114800"/>
            <a:ext cx="1371600" cy="1295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71600" y="4191120"/>
            <a:ext cx="1219320" cy="1143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95000" y="38098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ircular Ring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ter points gradient towards cente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ner points gradient away from cente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981080" y="3733920"/>
            <a:ext cx="0" cy="4572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5334120"/>
            <a:ext cx="0" cy="53316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61760" y="4800600"/>
            <a:ext cx="533160" cy="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90920" y="4800600"/>
            <a:ext cx="380880" cy="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5181480"/>
            <a:ext cx="304920" cy="304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066680" y="5181480"/>
            <a:ext cx="457200" cy="304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1143000" y="4038120"/>
            <a:ext cx="380880" cy="304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41148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81080" y="48769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81080" y="4800600"/>
            <a:ext cx="6098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523880" y="4876920"/>
            <a:ext cx="4572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057400" y="43434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057400" y="4876920"/>
            <a:ext cx="38088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434340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362320" y="3962520"/>
            <a:ext cx="457200" cy="4572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79520" y="52992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points in the away direction don’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ccumulate in one bi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953-10B1-4584-930F-7CB9302A253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rocedure to Accumulate Circ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5840" y="1654200"/>
            <a:ext cx="5773680" cy="448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possible value of D {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compute gradient magnitude GM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if GMAG &gt; gradient_threshold {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. Compute THETA(R,C,D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. R0 := R - D*cos(THET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. C0 := C - D* sin(THET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. increment A(R0,C0,D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. update PTLIST(R0,C0,D)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608-161D-4957-893B-B8BF5CFE4D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Burns Line Find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599760" y="2209680"/>
            <a:ext cx="781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.  Compute gradient magnitude and direction at each pixe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.  For high gradient magnitude points, assig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rection label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wo symbolic image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for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wo different quantizatio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Find connected components of each symbolic ima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638680" y="457200"/>
            <a:ext cx="1219320" cy="1219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86600" y="457200"/>
            <a:ext cx="1219320" cy="1219320"/>
          </a:xfrm>
          <a:prstGeom prst="ellipse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38680" y="106668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48520" y="45720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867280" y="609480"/>
            <a:ext cx="76212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62560" y="838080"/>
            <a:ext cx="106668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838080"/>
            <a:ext cx="1066680" cy="4572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67480" y="533520"/>
            <a:ext cx="457200" cy="10666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391160" y="533520"/>
            <a:ext cx="533160" cy="106668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7856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49600" y="4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28840" y="47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240" y="7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240" y="1004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288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4960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1880" y="99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10280" y="87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3396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45240" y="457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22412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48160" y="852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24120" y="1157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290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49800" y="114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609480"/>
            <a:ext cx="83844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09160" y="3976560"/>
            <a:ext cx="722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ch pixel belongs to 2 components, one for each symbolic imag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ch pixel votes for its longer component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ch component receives a count of pixels who voted for it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he components that receive majority support are selected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31400" y="11430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-22.5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14840" y="67140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+22.5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43600" y="900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14640" y="366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45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14C-ED2F-4BDA-A4F1-B8A0476448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05640" y="1521000"/>
            <a:ext cx="42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ee Transparencies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3DD-A274-44F4-B185-32C6865413C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2124000"/>
            <a:ext cx="71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 all we have to do is define and implement th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imilarity predicat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0680" y="3962520"/>
            <a:ext cx="6393960" cy="1557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ut, what do we want to be similar in each region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s there any property that will cause the regions 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e meaningful object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415-C727-4C88-B1F0-D7C2F41C2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ain Methods of Region Segmen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678320" y="2362320"/>
            <a:ext cx="300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.  Region Grow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.  Cluster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.  Split and Mer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9FB-9921-4A77-8E9B-26FD1F8FA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Region Grow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38360" y="1870200"/>
            <a:ext cx="6775200" cy="1191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gion growing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echniques start with one pixel of a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otential region and try t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t by adding adjac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ixels till the pixels being compared are too disimila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609480"/>
            <a:ext cx="1447560" cy="10670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4120" y="582480"/>
            <a:ext cx="938160" cy="595440"/>
          </a:xfrm>
          <a:custGeom>
            <a:avLst/>
            <a:gdLst/>
            <a:ahLst/>
            <a:rect l="l" t="t" r="r" b="b"/>
            <a:pathLst>
              <a:path w="591" h="375">
                <a:moveTo>
                  <a:pt x="18" y="11"/>
                </a:moveTo>
                <a:cubicBezTo>
                  <a:pt x="78" y="13"/>
                  <a:pt x="138" y="15"/>
                  <a:pt x="198" y="17"/>
                </a:cubicBezTo>
                <a:cubicBezTo>
                  <a:pt x="280" y="20"/>
                  <a:pt x="387" y="0"/>
                  <a:pt x="442" y="75"/>
                </a:cubicBezTo>
                <a:cubicBezTo>
                  <a:pt x="451" y="109"/>
                  <a:pt x="452" y="148"/>
                  <a:pt x="483" y="168"/>
                </a:cubicBezTo>
                <a:cubicBezTo>
                  <a:pt x="486" y="193"/>
                  <a:pt x="481" y="223"/>
                  <a:pt x="495" y="244"/>
                </a:cubicBezTo>
                <a:cubicBezTo>
                  <a:pt x="498" y="249"/>
                  <a:pt x="507" y="247"/>
                  <a:pt x="512" y="250"/>
                </a:cubicBezTo>
                <a:cubicBezTo>
                  <a:pt x="524" y="257"/>
                  <a:pt x="535" y="265"/>
                  <a:pt x="547" y="273"/>
                </a:cubicBezTo>
                <a:cubicBezTo>
                  <a:pt x="591" y="336"/>
                  <a:pt x="492" y="361"/>
                  <a:pt x="448" y="372"/>
                </a:cubicBezTo>
                <a:cubicBezTo>
                  <a:pt x="425" y="370"/>
                  <a:pt x="399" y="375"/>
                  <a:pt x="378" y="366"/>
                </a:cubicBezTo>
                <a:cubicBezTo>
                  <a:pt x="365" y="360"/>
                  <a:pt x="368" y="336"/>
                  <a:pt x="355" y="331"/>
                </a:cubicBezTo>
                <a:cubicBezTo>
                  <a:pt x="331" y="323"/>
                  <a:pt x="343" y="328"/>
                  <a:pt x="320" y="314"/>
                </a:cubicBezTo>
                <a:cubicBezTo>
                  <a:pt x="267" y="318"/>
                  <a:pt x="220" y="320"/>
                  <a:pt x="169" y="331"/>
                </a:cubicBezTo>
                <a:cubicBezTo>
                  <a:pt x="130" y="329"/>
                  <a:pt x="92" y="325"/>
                  <a:pt x="53" y="325"/>
                </a:cubicBezTo>
                <a:cubicBezTo>
                  <a:pt x="47" y="325"/>
                  <a:pt x="41" y="334"/>
                  <a:pt x="35" y="331"/>
                </a:cubicBezTo>
                <a:cubicBezTo>
                  <a:pt x="30" y="328"/>
                  <a:pt x="33" y="318"/>
                  <a:pt x="29" y="314"/>
                </a:cubicBezTo>
                <a:cubicBezTo>
                  <a:pt x="25" y="310"/>
                  <a:pt x="18" y="310"/>
                  <a:pt x="12" y="308"/>
                </a:cubicBezTo>
                <a:cubicBezTo>
                  <a:pt x="10" y="244"/>
                  <a:pt x="9" y="180"/>
                  <a:pt x="6" y="116"/>
                </a:cubicBezTo>
                <a:cubicBezTo>
                  <a:pt x="5" y="95"/>
                  <a:pt x="0" y="73"/>
                  <a:pt x="0" y="52"/>
                </a:cubicBezTo>
                <a:cubicBezTo>
                  <a:pt x="0" y="31"/>
                  <a:pt x="19" y="11"/>
                  <a:pt x="18" y="11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7640" y="3470400"/>
            <a:ext cx="710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first pixel selected can be just the first unlabel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ixel in the image or a set of seed pixels can be chos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m the imag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Usually a statistical test is used to decide which pixel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can be added to a reg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C39-61F3-4583-AE70-43490A20FD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RGGROW Algorith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40160" y="1870200"/>
            <a:ext cx="735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e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pixel region so far an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be a neighbor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ixel with gray ton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efine the me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and scatte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(sample variance) b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 = 1/N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I(r,c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  =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(I(r,c) - X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836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720" y="468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5320" y="411480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r,c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5960" y="52149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r,c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3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97180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73392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8006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D0A-8DF6-49D8-B58D-86FE72AB2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20:26:46Z</dcterms:created>
  <dc:creator>uw</dc:creator>
  <dc:description/>
  <dc:language>en-US</dc:language>
  <cp:lastModifiedBy>uw</cp:lastModifiedBy>
  <dcterms:modified xsi:type="dcterms:W3CDTF">2002-10-29T21:53:36Z</dcterms:modified>
  <cp:revision>65</cp:revision>
  <dc:subject/>
  <dc:title>Image Segmentation</dc:title>
</cp:coreProperties>
</file>