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4.jpeg" ContentType="image/jpeg"/>
  <Override PartName="/ppt/media/image31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2CD-5F6A-4ACE-8C67-C9F27C66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C50-023E-4247-995C-7ED57ED6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CE9-D5FF-4F3B-8383-E464E30E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EBE-2850-41A1-9F32-BDDDBC88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9C83-45E0-468C-9FD0-DAE45A06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274-C143-4544-A4D1-66503A8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CA5C-DE50-420D-8746-A957C45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759E-FCDC-4978-B1CB-EC9B3E3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F630-E19E-45E4-BA37-B486C317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38E6-1BBC-4F44-8B39-C827C161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253A-8619-48D8-B20B-1A4C199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F3D-8132-45D4-8FC3-65687BD2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341-7AF2-43C3-B9F7-0AFC4A7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F3C-85F9-4D11-B470-FF3C480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FFCC-0918-4559-B3FC-D8B6379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E794-E44B-4727-AD6E-1C5A79F1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027-CF4D-470C-B7FD-019E78A1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B76-110B-433B-829F-927C1040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8B6-0085-43F7-B42C-739C71B4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2AC-B5B3-4DCA-BF66-00C240D9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964-A0AE-4FAC-BB0C-DAA7224F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202-E3F7-4441-A43E-2AD15DA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211-3495-4DBA-9E9A-7BBE39E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084-D7A1-4E10-86D6-291D108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897-FA76-4D5A-AB59-A392A1969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27F-FD68-43C9-8DD2-DD2322DBA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9880" y="2017800"/>
            <a:ext cx="514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heavily in human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r is a pixel property, making some recognition problems ea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spectrum for humans is 400nm (blue) to 700 nm (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hines can “see” much more; ex. X-rays, infrared, 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cardsHW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27636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zebras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276720" cy="1447560"/>
          </a:xfrm>
          <a:prstGeom prst="rect">
            <a:avLst/>
          </a:prstGeom>
          <a:ln w="0">
            <a:noFill/>
          </a:ln>
        </p:spPr>
      </p:pic>
      <p:pic>
        <p:nvPicPr>
          <p:cNvPr id="102" name="dog.MSU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327672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006-81A9-45C7-A09A-94FA7F4660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saturation of col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food.colors.org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2922840" cy="2359080"/>
          </a:xfrm>
          <a:prstGeom prst="rect">
            <a:avLst/>
          </a:prstGeom>
          <a:ln w="0">
            <a:noFill/>
          </a:ln>
        </p:spPr>
      </p:pic>
      <p:pic>
        <p:nvPicPr>
          <p:cNvPr id="143" name="food.colors.lesssat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5768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food.colors.moresat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2819520" cy="226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280" y="5029200"/>
            <a:ext cx="883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eft) Image of food originating from a digital came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enter) saturation value of each pixel decreased 20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ight) saturation value of each pixel increased 4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E04-42D0-4A35-B983-A54020660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HSI (HS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out intensi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the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values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enc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ient for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esign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ue H is defined by an a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aturation S models th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purit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f the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=1 for a completely pure or saturated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=0 for a shade of “gra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12B-41AE-406C-A364-95781015A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IQ and YUV for TV 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better compression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uminance Y encoded using more bits than chrominance values I and Q; humans more sensitive to Y than I,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TSC TV uses luminance Y; chrominance values I and 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minance used by black/white T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d9"/>
                </a:solidFill>
                <a:latin typeface="Tahoma"/>
              </a:rPr>
              <a:t>All 3 values used by color T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UV encoding used in some digital video and JPEG and MPEG com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BBF-43FC-4874-9E6E-A78DA7C1B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version from RGB to YIQ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RGBtoYIQ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234640" cy="20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9040" y="487692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 often use this for color to gray-tone co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73A-9449-4965-BC86-D01E7E349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s can be used for image segmentation into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luster on color values and pixel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connected components and an approximate color criteria to find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in an algorithm to look for certain colored regions – for example, skin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9EA-1689-4447-AE61-3CBD31D5EF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or Clustering by K-mean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811080" y="2368440"/>
            <a:ext cx="759492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K-means clusters from a set of n-dimensiona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Set ic (iteration count)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Choose randomly a set of K means m1(1), …, mK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each vector xi, compute D(xi,mk(ic)), k=1,…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ssign xi to the cluster Cj with nearest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Increment ic by 1, update the means to get m1(ic),…,mK(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Repeat steps 3 and 4 until Ck(ic) = Ck(ic+1) for all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188-96EB-4218-B695-01A77D312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-means Cluster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fb11117kmclus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971800" cy="2217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35659" t="50386" r="34885" b="21518"/>
          <a:stretch/>
        </p:blipFill>
        <p:spPr>
          <a:xfrm>
            <a:off x="1219320" y="274320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35760" y="51055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l RGB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9800" y="51055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or Clusters by K-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442-12B2-4990-B2DD-FFE587CB2B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racting “white region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earns white from training set of sample pix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similar neighbors to form reg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might be classified as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ork contributed by David Moore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sign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2257200" cy="2475000"/>
          </a:xfrm>
          <a:prstGeom prst="rect">
            <a:avLst/>
          </a:prstGeom>
          <a:ln w="0">
            <a:noFill/>
          </a:ln>
        </p:spPr>
      </p:pic>
      <p:pic>
        <p:nvPicPr>
          <p:cNvPr id="166" name="signcomponents" descr=""/>
          <p:cNvPicPr/>
          <p:nvPr/>
        </p:nvPicPr>
        <p:blipFill>
          <a:blip r:embed="rId2"/>
          <a:stretch/>
        </p:blipFill>
        <p:spPr>
          <a:xfrm>
            <a:off x="6477120" y="4365720"/>
            <a:ext cx="2263680" cy="249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53080" y="21337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eft) input RGB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457524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ight) output is a labele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DCB-EC4C-46C2-AC4B-3CC270069D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in color in RGB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skin_color_distribution_1" descr=""/>
          <p:cNvPicPr/>
          <p:nvPr/>
        </p:nvPicPr>
        <p:blipFill>
          <a:blip r:embed="rId1"/>
          <a:stretch/>
        </p:blipFill>
        <p:spPr>
          <a:xfrm>
            <a:off x="533520" y="1994040"/>
            <a:ext cx="6107040" cy="4863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705720" y="2133720"/>
            <a:ext cx="243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le region shows skin color samples from several people. Blue and yellow regions show skin in shadow or behind a be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F71-AC00-4AD2-B46D-B64062FFDD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 a face in video fr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849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eft) input video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enter) pixels classified according to RGB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ight) largest connected component with aspect similar to a face (all work contributed by Vera Bak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f00_i01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0960" y="38858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f00_i01_clas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177" name="f00_i01_face" descr=""/>
          <p:cNvPicPr/>
          <p:nvPr/>
        </p:nvPicPr>
        <p:blipFill>
          <a:blip r:embed="rId4"/>
          <a:stretch/>
        </p:blipFill>
        <p:spPr>
          <a:xfrm>
            <a:off x="6019920" y="1981080"/>
            <a:ext cx="2514600" cy="18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E5C-8253-4963-B803-3739F8339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ing Process (review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reflection2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8AF-BB0E-40F5-8390-0ED3784B9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histograms can represent an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7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gram is fast and easy to comp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can easily be normalized so that different image histograms can be compa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atch color histograms for database query or class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1BD-F98D-4987-B710-AD0808D80F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grams of two color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gsCorbis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2619360" cy="2325600"/>
          </a:xfrm>
          <a:prstGeom prst="rect">
            <a:avLst/>
          </a:prstGeom>
          <a:ln w="0">
            <a:noFill/>
          </a:ln>
        </p:spPr>
      </p:pic>
      <p:pic>
        <p:nvPicPr>
          <p:cNvPr id="182" name="pigs1.hist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3276720" cy="2389320"/>
          </a:xfrm>
          <a:prstGeom prst="rect">
            <a:avLst/>
          </a:prstGeom>
          <a:ln w="0">
            <a:noFill/>
          </a:ln>
        </p:spPr>
      </p:pic>
      <p:pic>
        <p:nvPicPr>
          <p:cNvPr id="183" name="tiger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2011320" cy="1989000"/>
          </a:xfrm>
          <a:prstGeom prst="rect">
            <a:avLst/>
          </a:prstGeom>
          <a:ln w="0">
            <a:noFill/>
          </a:ln>
        </p:spPr>
      </p:pic>
      <p:pic>
        <p:nvPicPr>
          <p:cNvPr id="184" name="tiger.hist" descr=""/>
          <p:cNvPicPr/>
          <p:nvPr/>
        </p:nvPicPr>
        <p:blipFill>
          <a:blip r:embed="rId4"/>
          <a:stretch/>
        </p:blipFill>
        <p:spPr>
          <a:xfrm>
            <a:off x="5029200" y="4114800"/>
            <a:ext cx="3195720" cy="24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ED5-95AD-4065-A979-67245EB908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rieval from image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skiers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6400800" cy="4632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34320" y="2209680"/>
            <a:ext cx="1904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ft image is query image. The others are retrieved by having similar color histogram (See Ch 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B97-1FF2-4606-BB75-FA0E55E45E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make a color hist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3 histograms and concatenat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ingle pseudo color between 0 and 255 by using 3 bits of R, 3 bits of G and 2 bits of B (which bi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normalize histogram to hold frequencies so that bins total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EA6-2CFE-48D6-A613-9FBBE347A2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s versus orang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VVhists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001000" cy="2154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3520" y="46483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HSI histograms for apples (left) and oranges (right) used by IBM’s VeggieVision for recognizing produce at the grocery store checkout station (see Ch 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BB8-F24B-4437-AB23-0CAA7F4607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wain and Ballard’s Histogram Matching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Color Object Recogni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48720" y="1981080"/>
            <a:ext cx="80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nent En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grams: 8 x 16 x 16 = 2048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section of image histogram and model his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 score is the normalized inter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15000" y="1981080"/>
            <a:ext cx="20412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b = R + G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g = R -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y = 2B - R -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1120" y="449568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tersection(h(I),h(M)) 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min{h(I)[j],h(M)[j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7680" y="6021360"/>
            <a:ext cx="73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(h(I),h(M)) = intersection(h(I),h(M)) /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(M)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51920" y="4832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34840" y="42991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um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72520" y="63244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j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39960" y="5823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um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064-DCCA-4AF2-9104-18CDAC9E03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s of Reflec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209680"/>
            <a:ext cx="5943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to look at models for the physics of illumination and reflection that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 help computer vision algorithms extract information about the 3D worl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.  help computer graphics algorithms render realistic images of model sc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" y="5367240"/>
            <a:ext cx="8466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s-based vision is the subarea of compute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uses physical models to understand imag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better analyze real-worl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BD5-8B1D-4844-B4B0-4CB6F0FF86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ambertian Model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use Surface 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reflect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040" y="2133720"/>
            <a:ext cx="38293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diffuse ref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face reflec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iformly in all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00" y="3581280"/>
            <a:ext cx="37530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iform brightnes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 viewpoints of a 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548-6A08-4F7F-B5E8-12CCFDB574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matte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eggAndVase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6629400" cy="4456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62320" y="365760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EA2-FBBC-4D04-B177-A75532377F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ular reflection is highly directional and mirrorlik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reflect6" descr=""/>
          <p:cNvPicPr/>
          <p:nvPr/>
        </p:nvPicPr>
        <p:blipFill>
          <a:blip r:embed="rId1"/>
          <a:stretch/>
        </p:blipFill>
        <p:spPr>
          <a:xfrm>
            <a:off x="1447920" y="1833480"/>
            <a:ext cx="7696080" cy="502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1480" y="2133720"/>
            <a:ext cx="3352320" cy="265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 is the ra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is direction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face toward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 the shin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8B4-53B5-4350-BBFE-702AF48270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s that Affect Perce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18920" y="1981080"/>
            <a:ext cx="807948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:            the spectrum of energy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minates the objec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ance:   ratio of reflected light to incoming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rity:    highly specular (shiny) vs. matt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:        distance to the ligh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le:            angle between surface normal an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itivity       how sensitive is the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722-68EB-467E-BD0E-FAE95DC41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specular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11800" y="201780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ome car parts are very shiny/mirror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are glass or ceramic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waxey plant le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carParts" descr=""/>
          <p:cNvPicPr/>
          <p:nvPr/>
        </p:nvPicPr>
        <p:blipFill>
          <a:blip r:embed="rId1"/>
          <a:stretch/>
        </p:blipFill>
        <p:spPr>
          <a:xfrm>
            <a:off x="1870200" y="2017800"/>
            <a:ext cx="2431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A2F-8BE9-4642-BC90-1778E5878D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g reflection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able realism, reasonable comp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he following compon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mbient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)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ffuse reflection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 ) 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specular reflection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d)  </a:t>
            </a:r>
            <a:r>
              <a:rPr b="0" lang="en-US" sz="2800" spc="-1" strike="noStrike">
                <a:solidFill>
                  <a:srgbClr val="d90bd9"/>
                </a:solidFill>
                <a:latin typeface="Tahoma"/>
              </a:rPr>
              <a:t>darkening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(b), (c ), (d) are summed over    all light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computer games use more complicated mod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322-CBD5-419C-83A3-80AC12A8A2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g shading model 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1" name="reflect11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7543800" cy="38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4EA-0F34-4941-ADC9-9539C50C4C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hong model  for intensity at wavelength lambda at pixel [x,y]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reflect12" descr=""/>
          <p:cNvPicPr/>
          <p:nvPr/>
        </p:nvPicPr>
        <p:blipFill>
          <a:blip r:embed="rId1"/>
          <a:stretch/>
        </p:blipFill>
        <p:spPr>
          <a:xfrm>
            <a:off x="1504800" y="2438280"/>
            <a:ext cx="7639200" cy="3886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04920" y="241308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mb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9560" y="24382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50120" y="24382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D1C-C5F3-4598-9FEA-104D5B5CE3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or Image Analysis with an Intrinsic Reflection Model*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96520" y="624852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*Klinker, Shafer, and Kanade, ICCV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74880" y="224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40" y="2362320"/>
            <a:ext cx="9079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reflection properties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electr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.g. plasti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m to separate highlights from true color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this to image seg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FD5-D644-406C-BA16-9C9D584485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Dichromatic Reflection Mode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5334120"/>
            <a:ext cx="160020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5638680"/>
            <a:ext cx="4572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057400"/>
            <a:ext cx="73404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ght reflected from a point on a dielectric non-uniform material is a mixture of the light reflected from the material </a:t>
            </a:r>
            <a:r>
              <a:rPr b="0" lang="en-US" sz="2400" spc="-1" strike="noStrike">
                <a:solidFill>
                  <a:srgbClr val="d90bd9"/>
                </a:solidFill>
                <a:latin typeface="Tahoma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at from the material </a:t>
            </a:r>
            <a:r>
              <a:rPr b="0" lang="en-US" sz="2400" spc="-1" strike="noStrike">
                <a:solidFill>
                  <a:srgbClr val="d90bd9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72000" y="5334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428640" y="4495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572000" y="50288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572000" y="43434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8520" y="480708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ting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96560" y="4038480"/>
            <a:ext cx="193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ting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31000" y="38926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ident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85600" y="49528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9B9-14FB-43CD-8DA2-33A693B605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t L(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,i,e,g) be the total reflected ligh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526040" y="1905120"/>
            <a:ext cx="369972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    angle of incident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  angle of emitt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   phas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3960" y="4419720"/>
            <a:ext cx="780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rface reflection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,e,g)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 highlight or g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dy reflection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,e,g) give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 object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9240" y="3657600"/>
            <a:ext cx="55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n L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= L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 + L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70400" y="46483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2960" y="57913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98600" y="38862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3080" y="403056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24880" y="3886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94F-7D53-46BE-8BF4-DC066AAC01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Dichromatic Reflection Equ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273680" y="2549520"/>
            <a:ext cx="5891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= m  (i,e,g)c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 + m  (i,e,g)c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7432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89320" y="27432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05760" y="2743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48760" y="2743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7320" y="3462480"/>
            <a:ext cx="688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 and c   are the spectral pow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  and m   are the geometric scal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34840" y="363708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23040" y="36370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51640" y="43988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11160" y="439884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360" y="5105520"/>
            <a:ext cx="740736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 RGB images, this reduces to the pixe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 = [R,G,B] = m  C   + m 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79480" y="60199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44880" y="599904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96280" y="60199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1320" y="59990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9D0-F5D9-4DD1-AC2A-BA15D41BE0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ject Shape and Color Vari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75480" y="216684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all points on one object depend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color vectors c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 c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5520" y="3352680"/>
            <a:ext cx="6841800" cy="192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ght mixtures all fall into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chroma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colo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ght mixtures form a dens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lor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this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48000" y="2743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98440" y="26668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9BB-0AD8-4927-A420-C8D8ED6622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hromatic Pla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142640" y="3276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971440" y="213336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1371600" y="2362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276720"/>
            <a:ext cx="2286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599840" y="2590560"/>
            <a:ext cx="68580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26320" y="33526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tt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10240" y="25146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igh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55400" y="2133720"/>
            <a:ext cx="2638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 linear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t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ighligh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7880" y="3962520"/>
            <a:ext cx="7879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bined color cluster looks like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kewed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wing angle depends on color differenc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nd surface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 heuristic, the highlight starts in the upper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matt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8680" y="1938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9160" y="3081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4920" y="20574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2880" y="3276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25B-0C8F-40B7-9D22-FA98F6ED50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physics of co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 rot="10800000">
            <a:off x="8954280" y="6132600"/>
            <a:ext cx="1890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spectrum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5867280" cy="2554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95480" y="236232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960" y="655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5760" y="513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242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ite light is composed of all visible frequencies (400-7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ltraviolet and X-rays are of much smaller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frared and radio waves are of much longer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5A5-7C40-4F48-B2BF-A37EF34F79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Imag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01640" y="2166840"/>
            <a:ext cx="733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segmentation based on RGB will often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aries along highlights and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RM can be used to better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560" y="369108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compute initial rough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1680" y="4452840"/>
            <a:ext cx="787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ute principal compon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lo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small, nonoverlapping imag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bine neighboring windo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simila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s into larger regions of locally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F86-92F9-495C-B9C6-A6457F1255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66320" y="190512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   For regions with linea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83080" y="2362320"/>
            <a:ext cx="672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pproximate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the first eigenvector of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uct a color cylin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c  as axi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a multiple of estimated camera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se the cylinder to dec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pixel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in the imag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i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lor seg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ou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tte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94280" y="254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56600" y="3613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F16-10DD-4670-BCC3-3394E747DD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64680" y="2514600"/>
            <a:ext cx="86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  Use the skewed T idea to find highlight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lated to the matt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.  Use matte plus highlights to form the planar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.  Use the planar hypothesis to grow the matte 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bject area into the highligh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56760" y="5562720"/>
            <a:ext cx="627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transparency for experimental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AED-C74A-46CC-8ADA-E5416E8F95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methods for hum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362320"/>
            <a:ext cx="7467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GB is an additive system (add colors to black) used for dis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CMY[K] is a subtractive system for 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SV is good a good perceptual space for    art, psychology,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Q used for TV is good for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ACC-1CA5-4AF4-9628-98FC7328B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289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color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colorCodes" descr=""/>
          <p:cNvPicPr/>
          <p:nvPr/>
        </p:nvPicPr>
        <p:blipFill>
          <a:blip r:embed="rId1"/>
          <a:stretch/>
        </p:blipFill>
        <p:spPr>
          <a:xfrm>
            <a:off x="2971800" y="182520"/>
            <a:ext cx="6172200" cy="667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FAF-14AD-4B23-8F4D-2CDA483FC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GB color cub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ube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605560" cy="446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72200" y="2209680"/>
            <a:ext cx="2666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G, B values normalized to (0, 1)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perceives gray for triples on the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e colors” on co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952880"/>
            <a:ext cx="137160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62320" y="2666520"/>
            <a:ext cx="0" cy="22100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4876920"/>
            <a:ext cx="259056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DDF-2379-43A4-8C81-64AF97A39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palette and normalized RG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54640" y="6132240"/>
            <a:ext cx="1890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triangle" descr=""/>
          <p:cNvPicPr/>
          <p:nvPr/>
        </p:nvPicPr>
        <p:blipFill>
          <a:blip r:embed="rId1"/>
          <a:stretch/>
        </p:blipFill>
        <p:spPr>
          <a:xfrm>
            <a:off x="0" y="2036880"/>
            <a:ext cx="5105520" cy="4821120"/>
          </a:xfrm>
          <a:prstGeom prst="rect">
            <a:avLst/>
          </a:prstGeom>
          <a:ln w="0">
            <a:noFill/>
          </a:ln>
        </p:spPr>
      </p:pic>
      <p:pic>
        <p:nvPicPr>
          <p:cNvPr id="127" name="normalizedRGB" descr=""/>
          <p:cNvPicPr/>
          <p:nvPr/>
        </p:nvPicPr>
        <p:blipFill>
          <a:blip r:embed="rId2"/>
          <a:stretch/>
        </p:blipFill>
        <p:spPr>
          <a:xfrm>
            <a:off x="2666880" y="1828800"/>
            <a:ext cx="612612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34F-E888-4F56-BE52-4B2B014C1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hexagon for HSI (HS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cubeandcone" descr=""/>
          <p:cNvPicPr/>
          <p:nvPr/>
        </p:nvPicPr>
        <p:blipFill>
          <a:blip r:embed="rId1"/>
          <a:stretch/>
        </p:blipFill>
        <p:spPr>
          <a:xfrm>
            <a:off x="160200" y="3178080"/>
            <a:ext cx="8983800" cy="367992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572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9051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lor is coded relative to the diagonal of the color cube. Hue is encoded as an angle, saturation is the relative distance from the diagonal, and intensity is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3504960"/>
            <a:ext cx="0" cy="2057400"/>
          </a:xfrm>
          <a:prstGeom prst="line">
            <a:avLst/>
          </a:prstGeom>
          <a:ln w="572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0520" y="4648320"/>
            <a:ext cx="7621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36200" y="31240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d9"/>
                </a:solidFill>
                <a:latin typeface="Tahoma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05720" y="3429000"/>
            <a:ext cx="121896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48920" y="35053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6080" y="3963960"/>
            <a:ext cx="7610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027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02773"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97920" y="38098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114300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143000" y="3428640"/>
            <a:ext cx="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058-9278-447B-A8A6-629169C8B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23:27:15Z</dcterms:created>
  <dc:creator>uw</dc:creator>
  <dc:description/>
  <dc:language>en-US</dc:language>
  <cp:lastModifiedBy>uw</cp:lastModifiedBy>
  <dcterms:modified xsi:type="dcterms:W3CDTF">2002-10-15T23:07:42Z</dcterms:modified>
  <cp:revision>36</cp:revision>
  <dc:subject/>
  <dc:title>Color</dc:title>
</cp:coreProperties>
</file>