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4C2-4E36-4312-B2CB-994AAD1A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90F-82B2-4609-B2A8-CE87A3D0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5E2-1C7C-49CF-BB78-CFAA546C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196-09F2-47D6-8677-86FB64A4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D51F-B0A8-48AC-8A17-ABC8CEB2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DB9E-F927-4FD6-9395-56515091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1030-06FD-4569-96A1-2E026E73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90FD-3E67-4F63-8E2A-8A6374DC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18D9-D4AE-46FB-8BC5-4DC73C69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525B-1CDE-4AFE-A124-19D548B1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B122-1157-46FB-93DE-3ED271B9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452-D963-49F7-B76A-22B0C58B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4113-4EDE-4694-9251-68C5D0F8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0076-0810-4DDC-9C7D-3F300533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C656-CCDA-49DF-92EF-9540104E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D0D7-D0EA-4065-A239-4BFCD82E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00B2-2990-4ADF-B661-E1C44406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3F7-D7B4-4F9B-9247-FE4AB3B9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D49-794A-4AEE-A915-616EEDC2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8D6-1051-47E4-AEB2-8D3D9713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B13-2B2E-41E0-8B34-1C189473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BDB-6E88-4561-8D17-69C39FB2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97A-CA1F-40F7-95B4-6682C18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AE3-CA18-4F18-B94C-718E3D72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BD0A-DC22-4EB5-9665-3B522E5C1F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1E54-ABB2-4B7F-81CF-EA6FB090DB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inary Image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1191240" y="20890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Binary image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9000" y="2698920"/>
            <a:ext cx="683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consists of a set of image analysi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that are used to produce or proces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images, usually images of 0’s and 1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0 represents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1 represents the fore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5440" y="5289480"/>
            <a:ext cx="2613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11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290-8A6B-4852-BB31-E05A4A6711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resholding Examp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17546" t="5482" r="22807" b="51748"/>
          <a:stretch/>
        </p:blipFill>
        <p:spPr>
          <a:xfrm>
            <a:off x="1295280" y="2317680"/>
            <a:ext cx="6324840" cy="362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BED-2DFE-4AFB-B93F-74149A6619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onnected Components Labeling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1101240" y="1905120"/>
            <a:ext cx="763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you have a binary image, you can identif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analyze each </a:t>
            </a:r>
            <a:r>
              <a:rPr b="1" lang="en-US" sz="2000" spc="-1" strike="noStrike">
                <a:solidFill>
                  <a:srgbClr val="e60113"/>
                </a:solidFill>
                <a:latin typeface="Verdana"/>
              </a:rPr>
              <a:t>connected set of pixels</a:t>
            </a:r>
            <a:r>
              <a:rPr b="0" lang="en-US" sz="2000" spc="-1" strike="noStrike">
                <a:solidFill>
                  <a:srgbClr val="930722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nected components operation takes in a binary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duces a </a:t>
            </a:r>
            <a:r>
              <a:rPr b="1" lang="en-US" sz="2000" spc="-1" strike="noStrike">
                <a:solidFill>
                  <a:srgbClr val="1d0e8c"/>
                </a:solidFill>
                <a:latin typeface="Verdana"/>
              </a:rPr>
              <a:t>labeled im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which each pixel ha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 label of either the background (0) or a compon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70360" y="42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26619" t="9890" r="17268" b="58640"/>
          <a:stretch/>
        </p:blipFill>
        <p:spPr>
          <a:xfrm>
            <a:off x="1523880" y="4038480"/>
            <a:ext cx="594360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57F-8D3E-4B1E-9EC2-0FC0870ADD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ethods for CC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1139400" y="2013120"/>
            <a:ext cx="68223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 Tracking (almost never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Growing (needs parallel hard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Row-by-Row (most com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48680" y="4114800"/>
            <a:ext cx="479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6011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Classical Algorithm (see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6011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Efficient Run-Length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(developed for speed in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industrial appl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787-7BBF-4FBD-8410-55B04FB7E0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quivalent Label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1756440" y="2590920"/>
            <a:ext cx="490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0 0 1 1 1 0 0 0 0 1 1 1 1 0 0 0 0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0 0 1 1 1 1 0 0 0 1 1 1 1 0 0 0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0 0 1 1 1 1 1 0 0 1 1 1 1 0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0 0 1 1 1 1 1 1 0 1 1 1 1 0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0 0 1 1 1 1 1 1 </a:t>
            </a:r>
            <a:r>
              <a:rPr b="1" lang="en-US" sz="2400" spc="-1" strike="noStrike">
                <a:solidFill>
                  <a:srgbClr val="e60113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1 1 1 0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0 0 1 1 1 1 1 1 1 1 1 1 1 0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0 0 1 1 1 1 1 1 1 1 1 1 1 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1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0 0 1 1 1 1 1 1 1 1 1 1 1 1 1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0 0 1 1 1 1 1 1 0 0 0 0 0 1 1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97600" y="19810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ginal Binary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102-8C79-4300-9B52-ED19725E2D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quivalent Label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1348560" y="2666880"/>
            <a:ext cx="490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0 0 0 1 1 1 0 0 0 0 2 2 2 2 0 0 0 0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0 0 0 1 1 1 1 0 0 0 2 2 2 2 0 0 0 3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0 0 0 1 1 1 1 1 0 0 2 2 2 2 0 0 3 3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0 0 0 1 1 1 1 1 1 0 2 2 2 2 0 0 3 3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0 0 0 1 1 1 1 1 1 </a:t>
            </a:r>
            <a:r>
              <a:rPr b="1" lang="en-US" sz="2400" spc="-1" strike="noStrike">
                <a:solidFill>
                  <a:srgbClr val="e60113"/>
                </a:solidFill>
                <a:latin typeface="com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1 1 1 1 0 0 3 3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0 0 0 1 1 1 1 1 1 1 1 1 1 1 0 0 3 3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0 0 0 1 1 1 1 1 1 1 1 1 1 1 </a:t>
            </a:r>
            <a:r>
              <a:rPr b="0" lang="en-US" sz="2400" spc="-1" strike="noStrike">
                <a:solidFill>
                  <a:srgbClr val="e60113"/>
                </a:solidFill>
                <a:latin typeface="comic"/>
              </a:rPr>
              <a:t>1 1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0 0 0 1 1 1 1 1 1 1 1 1 1 1 1 1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0 0 0 1 1 1 1 1 1 0 0 0 0 0 1 1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54600" y="190512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bel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3120" y="2778120"/>
            <a:ext cx="9291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E4F-C7EB-4000-B47B-22CF9E686D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un-Length Data Structu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1210320" y="2133720"/>
            <a:ext cx="13510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1   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1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1 1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3840" y="175248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1 2 3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1000" y="2133720"/>
            <a:ext cx="35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36280" y="2895480"/>
            <a:ext cx="4469400" cy="3020040"/>
          </a:xfrm>
          <a:prstGeom prst="rect">
            <a:avLst/>
          </a:prstGeom>
          <a:noFill/>
          <a:ln w="9360">
            <a:solidFill>
              <a:srgbClr val="e601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U N U S E D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60113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2400" y="236232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w     scol     ecol   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31240" y="2895480"/>
            <a:ext cx="35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0520" y="434340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start  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54640" y="4724280"/>
            <a:ext cx="172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3640" y="4724280"/>
            <a:ext cx="35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73000" y="60199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70160" y="521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57920" y="53658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Row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36080" y="2774880"/>
            <a:ext cx="109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4C5-7E8F-4DB6-9D9B-38F4019FA8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un-Length Algorith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311840" y="2139840"/>
            <a:ext cx="660276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run_length_clas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initialize Run-Length and Union-Find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count &lt;-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*  Pass 1 (by rows)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for each current row and its previous 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move pointer P along the runs of curren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move pointer Q along the runs of previous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099-D38B-4E62-9592-50016306B9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ase 1: No Overla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1070280" y="2819520"/>
            <a:ext cx="3134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/////|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/////|            |////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32767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81920" y="2819520"/>
            <a:ext cx="2796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///|            |///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/////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3276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20400" y="2089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90" idx="3"/>
            <a:endCxn id="286" idx="0"/>
          </p:cNvCxnSpPr>
          <p:nvPr/>
        </p:nvCxnSpPr>
        <p:spPr>
          <a:xfrm>
            <a:off x="2541240" y="2317680"/>
            <a:ext cx="97560" cy="502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144440" y="37339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/>
          <p:nvPr/>
        </p:nvCxnSpPr>
        <p:spPr>
          <a:xfrm flipV="1">
            <a:off x="1523520" y="3656880"/>
            <a:ext cx="181800" cy="261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5320800" y="2013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/>
          <p:nvPr/>
        </p:nvCxnSpPr>
        <p:spPr>
          <a:xfrm>
            <a:off x="5714640" y="2285640"/>
            <a:ext cx="97560" cy="501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6097320" y="37339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/>
          <p:nvPr/>
        </p:nvCxnSpPr>
        <p:spPr>
          <a:xfrm flipV="1">
            <a:off x="6477120" y="3656880"/>
            <a:ext cx="181440" cy="261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603440" y="4578480"/>
            <a:ext cx="239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/* new label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count &lt;- count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label(P) &lt;-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P &lt;- 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29400" y="4876920"/>
            <a:ext cx="296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/* check Q’s next run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Q &lt;- Q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749-F93C-4EA8-B831-EBA3C8C8E0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ase 2: Overla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872280" y="2139840"/>
            <a:ext cx="29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case 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’s run has no label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37880" y="3429000"/>
            <a:ext cx="2759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///////|       |/////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/////////////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98560" y="42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9640" y="2063880"/>
            <a:ext cx="312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cas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’s run has a label tha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from Q’s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57600" y="3429000"/>
            <a:ext cx="2759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///////|       |/////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/////////////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5616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1"/>
          </p:cNvCxnSpPr>
          <p:nvPr/>
        </p:nvCxnSpPr>
        <p:spPr>
          <a:xfrm flipV="1" rot="10800000">
            <a:off x="7923960" y="3123000"/>
            <a:ext cx="22932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688320" y="2819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/>
          <p:nvPr/>
        </p:nvCxnSpPr>
        <p:spPr>
          <a:xfrm>
            <a:off x="1143000" y="3123720"/>
            <a:ext cx="1864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1525320" y="4343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/>
          <p:nvPr/>
        </p:nvCxnSpPr>
        <p:spPr>
          <a:xfrm flipV="1">
            <a:off x="1828800" y="4266720"/>
            <a:ext cx="526320" cy="388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005520" y="4375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6248160" y="4343040"/>
            <a:ext cx="525960" cy="311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838080" y="38862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3886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70000" y="5029200"/>
            <a:ext cx="234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label(P) &lt;- label(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move point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24840" y="5029200"/>
            <a:ext cx="289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union(label(P),label(Q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move point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33120" y="5797440"/>
            <a:ext cx="27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72A-2DD9-4ECF-B97E-3C3FDD1103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ss 2 (by runs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1556280" y="2057400"/>
            <a:ext cx="599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/* Relabel each run with the nam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equivalence class of its label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For each run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label(M) &lt;- find(label(M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1d0e8c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16040" y="5187960"/>
            <a:ext cx="643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0722"/>
                </a:solidFill>
                <a:latin typeface="Verdana"/>
              </a:rPr>
              <a:t>where union and find refer to the operation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0722"/>
                </a:solidFill>
                <a:latin typeface="Verdana"/>
              </a:rPr>
              <a:t>Union-Find data structure,  which keeps track of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0722"/>
                </a:solidFill>
                <a:latin typeface="Verdana"/>
              </a:rPr>
              <a:t>of equivalent lab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58F-977E-42FB-964F-FACE7B3CFD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inary Image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1710360" y="2165400"/>
            <a:ext cx="66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is used in a number of pract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67800" y="289548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37920" y="3581280"/>
            <a:ext cx="14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53760" y="437508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sh cou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81120" y="510552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1F9-5F8C-477C-B49A-6C7AC6DB20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abeling shown as Pseudo-Colo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3" name="kidney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324" name="kidney-regions-sm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25" name="TN_greenlake25_scaled_0.40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2925720" cy="1954080"/>
          </a:xfrm>
          <a:prstGeom prst="rect">
            <a:avLst/>
          </a:prstGeom>
          <a:ln w="0">
            <a:noFill/>
          </a:ln>
        </p:spPr>
      </p:pic>
      <p:pic>
        <p:nvPicPr>
          <p:cNvPr id="326" name="TN_greenlake25_scaled_0.40.jpg_filtered" descr=""/>
          <p:cNvPicPr/>
          <p:nvPr/>
        </p:nvPicPr>
        <p:blipFill>
          <a:blip r:embed="rId4"/>
          <a:stretch/>
        </p:blipFill>
        <p:spPr>
          <a:xfrm>
            <a:off x="4495680" y="4419720"/>
            <a:ext cx="2925720" cy="19540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099560" y="2216160"/>
            <a:ext cx="167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1’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shol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439400" y="4800600"/>
            <a:ext cx="167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355-C77E-4455-9D93-507F49ABF9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thematical Morpholog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090440" y="2216160"/>
            <a:ext cx="602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nary mathematical morphology consists of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000" spc="-1" strike="noStrike">
                <a:solidFill>
                  <a:srgbClr val="e60113"/>
                </a:solidFill>
                <a:latin typeface="Verdana"/>
              </a:rPr>
              <a:t>dilatio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e60113"/>
                </a:solidFill>
                <a:latin typeface="Verdana"/>
              </a:rPr>
              <a:t>er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everal composite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000" spc="-1" strike="noStrike">
                <a:solidFill>
                  <a:srgbClr val="e60113"/>
                </a:solidFill>
                <a:latin typeface="Verdana"/>
              </a:rPr>
              <a:t>closing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e60113"/>
                </a:solidFill>
                <a:latin typeface="Verdana"/>
              </a:rPr>
              <a:t>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              </a:t>
            </a:r>
            <a:r>
              <a:rPr b="1" lang="en-US" sz="2000" spc="-1" strike="noStrike">
                <a:solidFill>
                  <a:srgbClr val="e60113"/>
                </a:solidFill>
                <a:latin typeface="Verdana"/>
              </a:rPr>
              <a:t>conditional d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              </a:t>
            </a:r>
            <a:r>
              <a:rPr b="1" lang="en-US" sz="2000" spc="-1" strike="noStrike">
                <a:solidFill>
                  <a:srgbClr val="e60113"/>
                </a:solidFill>
                <a:latin typeface="Verdan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FD6-DA90-4839-BF34-F64CFAE7B0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l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1109880" y="2139840"/>
            <a:ext cx="7360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lation </a:t>
            </a: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expan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nected sets of 1s of a binary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an be used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growing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filling holes and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3352680"/>
            <a:ext cx="1067040" cy="838440"/>
          </a:xfrm>
          <a:prstGeom prst="hexagon">
            <a:avLst>
              <a:gd name="adj" fmla="val 3181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3124080"/>
            <a:ext cx="1524240" cy="1295640"/>
          </a:xfrm>
          <a:prstGeom prst="hexagon">
            <a:avLst>
              <a:gd name="adj" fmla="val 29411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27640" y="5113440"/>
            <a:ext cx="1219320" cy="1292040"/>
          </a:xfrm>
          <a:custGeom>
            <a:avLst/>
            <a:gdLst/>
            <a:ahLst/>
            <a:rect l="l" t="t" r="r" b="b"/>
            <a:pathLst>
              <a:path w="768" h="814">
                <a:moveTo>
                  <a:pt x="133" y="21"/>
                </a:moveTo>
                <a:cubicBezTo>
                  <a:pt x="173" y="23"/>
                  <a:pt x="218" y="8"/>
                  <a:pt x="254" y="27"/>
                </a:cubicBezTo>
                <a:cubicBezTo>
                  <a:pt x="272" y="36"/>
                  <a:pt x="258" y="68"/>
                  <a:pt x="261" y="88"/>
                </a:cubicBezTo>
                <a:cubicBezTo>
                  <a:pt x="268" y="130"/>
                  <a:pt x="296" y="123"/>
                  <a:pt x="334" y="128"/>
                </a:cubicBezTo>
                <a:cubicBezTo>
                  <a:pt x="361" y="137"/>
                  <a:pt x="374" y="135"/>
                  <a:pt x="395" y="114"/>
                </a:cubicBezTo>
                <a:cubicBezTo>
                  <a:pt x="397" y="107"/>
                  <a:pt x="400" y="101"/>
                  <a:pt x="401" y="94"/>
                </a:cubicBezTo>
                <a:cubicBezTo>
                  <a:pt x="415" y="0"/>
                  <a:pt x="381" y="29"/>
                  <a:pt x="488" y="21"/>
                </a:cubicBezTo>
                <a:cubicBezTo>
                  <a:pt x="557" y="23"/>
                  <a:pt x="627" y="19"/>
                  <a:pt x="696" y="27"/>
                </a:cubicBezTo>
                <a:cubicBezTo>
                  <a:pt x="712" y="29"/>
                  <a:pt x="705" y="58"/>
                  <a:pt x="709" y="74"/>
                </a:cubicBezTo>
                <a:cubicBezTo>
                  <a:pt x="717" y="108"/>
                  <a:pt x="717" y="103"/>
                  <a:pt x="730" y="141"/>
                </a:cubicBezTo>
                <a:cubicBezTo>
                  <a:pt x="737" y="161"/>
                  <a:pt x="743" y="202"/>
                  <a:pt x="743" y="202"/>
                </a:cubicBezTo>
                <a:cubicBezTo>
                  <a:pt x="741" y="253"/>
                  <a:pt x="759" y="310"/>
                  <a:pt x="736" y="356"/>
                </a:cubicBezTo>
                <a:cubicBezTo>
                  <a:pt x="725" y="378"/>
                  <a:pt x="685" y="351"/>
                  <a:pt x="663" y="362"/>
                </a:cubicBezTo>
                <a:cubicBezTo>
                  <a:pt x="651" y="369"/>
                  <a:pt x="649" y="402"/>
                  <a:pt x="649" y="402"/>
                </a:cubicBezTo>
                <a:cubicBezTo>
                  <a:pt x="651" y="424"/>
                  <a:pt x="638" y="455"/>
                  <a:pt x="656" y="469"/>
                </a:cubicBezTo>
                <a:cubicBezTo>
                  <a:pt x="679" y="487"/>
                  <a:pt x="735" y="448"/>
                  <a:pt x="743" y="476"/>
                </a:cubicBezTo>
                <a:cubicBezTo>
                  <a:pt x="768" y="557"/>
                  <a:pt x="740" y="646"/>
                  <a:pt x="736" y="731"/>
                </a:cubicBezTo>
                <a:cubicBezTo>
                  <a:pt x="736" y="738"/>
                  <a:pt x="734" y="746"/>
                  <a:pt x="730" y="751"/>
                </a:cubicBezTo>
                <a:cubicBezTo>
                  <a:pt x="678" y="814"/>
                  <a:pt x="488" y="784"/>
                  <a:pt x="488" y="784"/>
                </a:cubicBezTo>
                <a:cubicBezTo>
                  <a:pt x="355" y="780"/>
                  <a:pt x="237" y="770"/>
                  <a:pt x="107" y="778"/>
                </a:cubicBezTo>
                <a:cubicBezTo>
                  <a:pt x="98" y="779"/>
                  <a:pt x="19" y="795"/>
                  <a:pt x="13" y="771"/>
                </a:cubicBezTo>
                <a:cubicBezTo>
                  <a:pt x="1" y="723"/>
                  <a:pt x="17" y="672"/>
                  <a:pt x="20" y="623"/>
                </a:cubicBezTo>
                <a:cubicBezTo>
                  <a:pt x="24" y="549"/>
                  <a:pt x="33" y="402"/>
                  <a:pt x="33" y="402"/>
                </a:cubicBezTo>
                <a:cubicBezTo>
                  <a:pt x="29" y="317"/>
                  <a:pt x="15" y="233"/>
                  <a:pt x="20" y="148"/>
                </a:cubicBezTo>
                <a:cubicBezTo>
                  <a:pt x="22" y="107"/>
                  <a:pt x="0" y="35"/>
                  <a:pt x="40" y="27"/>
                </a:cubicBezTo>
                <a:cubicBezTo>
                  <a:pt x="71" y="21"/>
                  <a:pt x="102" y="23"/>
                  <a:pt x="133" y="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15200" y="5105520"/>
            <a:ext cx="1143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816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19320" y="5029200"/>
            <a:ext cx="144756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5334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5334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5029200"/>
            <a:ext cx="144756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1952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0C2-7497-438A-9483-0FE8DEB284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ros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1353960" y="2057400"/>
            <a:ext cx="721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lation </a:t>
            </a: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shrin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nected sets of 1s of a binary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an be used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shrinking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Removing bridges, branches and small protr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32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238880" y="2895480"/>
            <a:ext cx="1219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4876920"/>
            <a:ext cx="533520" cy="53316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76520" y="4800600"/>
            <a:ext cx="685800" cy="60948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4800600"/>
            <a:ext cx="685800" cy="60948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59000" y="4997520"/>
            <a:ext cx="511200" cy="201600"/>
          </a:xfrm>
          <a:custGeom>
            <a:avLst/>
            <a:gdLst/>
            <a:ahLst/>
            <a:rect l="l" t="t" r="r" b="b"/>
            <a:pathLst>
              <a:path w="322" h="127">
                <a:moveTo>
                  <a:pt x="4" y="7"/>
                </a:moveTo>
                <a:cubicBezTo>
                  <a:pt x="102" y="14"/>
                  <a:pt x="202" y="0"/>
                  <a:pt x="298" y="20"/>
                </a:cubicBezTo>
                <a:cubicBezTo>
                  <a:pt x="312" y="23"/>
                  <a:pt x="312" y="60"/>
                  <a:pt x="312" y="60"/>
                </a:cubicBezTo>
                <a:cubicBezTo>
                  <a:pt x="314" y="80"/>
                  <a:pt x="322" y="100"/>
                  <a:pt x="318" y="120"/>
                </a:cubicBezTo>
                <a:cubicBezTo>
                  <a:pt x="317" y="127"/>
                  <a:pt x="305" y="127"/>
                  <a:pt x="298" y="127"/>
                </a:cubicBezTo>
                <a:cubicBezTo>
                  <a:pt x="247" y="124"/>
                  <a:pt x="206" y="105"/>
                  <a:pt x="158" y="94"/>
                </a:cubicBezTo>
                <a:cubicBezTo>
                  <a:pt x="124" y="96"/>
                  <a:pt x="90" y="95"/>
                  <a:pt x="57" y="100"/>
                </a:cubicBezTo>
                <a:cubicBezTo>
                  <a:pt x="43" y="102"/>
                  <a:pt x="17" y="114"/>
                  <a:pt x="17" y="114"/>
                </a:cubicBezTo>
                <a:cubicBezTo>
                  <a:pt x="0" y="66"/>
                  <a:pt x="17" y="126"/>
                  <a:pt x="17" y="67"/>
                </a:cubicBezTo>
                <a:cubicBezTo>
                  <a:pt x="17" y="47"/>
                  <a:pt x="10" y="26"/>
                  <a:pt x="4" y="7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6252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5791320"/>
            <a:ext cx="1143000" cy="6094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5715000"/>
            <a:ext cx="7596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6095880"/>
            <a:ext cx="7632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5791320"/>
            <a:ext cx="1066680" cy="5331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6172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587-26B0-49F8-9F5C-070DBFD873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ucturing Eleme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425600" y="2368440"/>
            <a:ext cx="617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e60113"/>
                </a:solidFill>
                <a:latin typeface="Verdana"/>
              </a:rPr>
              <a:t>structuring elemen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s a shape mask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basic morphological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y can be any shape and size tha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gitally representable, and each has an </a:t>
            </a:r>
            <a:r>
              <a:rPr b="1" lang="en-US" sz="2000" spc="-1" strike="noStrike">
                <a:solidFill>
                  <a:srgbClr val="e60113"/>
                </a:solidFill>
                <a:latin typeface="Verdana"/>
              </a:rPr>
              <a:t>origi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45720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43434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29200" y="441972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42880" y="518796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902320" y="541656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x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22440" y="53341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4495680"/>
            <a:ext cx="1295280" cy="83844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960240" y="548640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17920" y="60199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box(length,width)               disk(di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4E0-BB37-407C-AF1C-F0345044CD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Dilation with Structuring Element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157040" y="1981080"/>
            <a:ext cx="522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rguments to dilation and erosio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60480" y="2438280"/>
            <a:ext cx="36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binary imag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tructuring element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44240" y="3276720"/>
            <a:ext cx="62935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dilate(B,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kes binary image B, places the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structuring element S over each 1-pixel,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ucturing element S into the output image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rresponding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39400" y="5029200"/>
            <a:ext cx="962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77040" y="5181480"/>
            <a:ext cx="538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21040" y="5029200"/>
            <a:ext cx="962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72040" y="6172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895480" y="5866920"/>
            <a:ext cx="0" cy="304920"/>
          </a:xfrm>
          <a:prstGeom prst="line">
            <a:avLst/>
          </a:prstGeom>
          <a:ln w="9360">
            <a:solidFill>
              <a:srgbClr val="e601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09240" y="61023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89800" y="5867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74160" y="50292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26520" y="61038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D81-9E90-4B3A-A059-9B92FF6467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Erosion with Structuring Element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1342800" y="2216160"/>
            <a:ext cx="72550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erode(B,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kes a binary image B, places the orig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structuring element S over every pixel position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s a binary 1 into that position of the output image only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position of S (with a 1) covers a 1 in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4425840"/>
            <a:ext cx="11743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95680" y="4495680"/>
            <a:ext cx="32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62720" y="4349880"/>
            <a:ext cx="11743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19080" y="58737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99640" y="5867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70600" y="39686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"/>
          <p:cNvCxnSpPr>
            <a:endCxn id="392" idx="1"/>
          </p:cNvCxnSpPr>
          <p:nvPr/>
        </p:nvCxnSpPr>
        <p:spPr>
          <a:xfrm flipH="1" rot="16200000">
            <a:off x="3212280" y="4635360"/>
            <a:ext cx="584640" cy="153000"/>
          </a:xfrm>
          <a:prstGeom prst="curvedConnector2">
            <a:avLst/>
          </a:prstGeom>
          <a:ln w="9360">
            <a:solidFill>
              <a:srgbClr val="e60113"/>
            </a:solidFill>
            <a:miter/>
            <a:tailEnd len="med" type="triangle" w="med"/>
          </a:ln>
        </p:spPr>
      </p:cxnSp>
      <p:sp>
        <p:nvSpPr>
          <p:cNvPr id="398" name=""/>
          <p:cNvSpPr/>
          <p:nvPr/>
        </p:nvSpPr>
        <p:spPr>
          <a:xfrm>
            <a:off x="426708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78600" y="46483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15360" y="587376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    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19920" y="6019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06F-564C-4A75-8D19-413A34C386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 1 to Tr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1305360" y="1981080"/>
            <a:ext cx="18756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1 1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1 1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1 1 1 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71360" y="3054240"/>
            <a:ext cx="750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964400" y="31240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581280" y="434340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34040" y="4876920"/>
            <a:ext cx="25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late with s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ing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80520" y="25909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6080" y="29019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C72-52F9-4C66-9D9A-390DA971C3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 2 to Try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>
            <a:off x="1242000" y="2286000"/>
            <a:ext cx="456408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 0 0 0 0 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 0 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 0 0 0 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 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 0 0 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 0 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1 1 1 1 0 0 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 0 1 1 1 1 1 1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1 1 1 1 1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1 1 1 1 1 1 1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1 1 1 1 1 1 1 1 1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1 1 1 1 1 1 1 1 1 1 1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1 1 1 1 1 1 1 1 1 1 1 1 1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1 1 1 1 1 1 1 1 1 1 1 1 1 1 1 1 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50160" y="3276720"/>
            <a:ext cx="117432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1 </a:t>
            </a: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 1 1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58800" y="18288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409520" y="27432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508760" y="5950080"/>
            <a:ext cx="53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First erode and then dilate with the same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A00-412A-42D3-BF0A-D10A4E7DF9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pening and Clos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1030680" y="2521080"/>
            <a:ext cx="7047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Clos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compound operation of dilation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erosion (with the same structuring e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Open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compound operation of erosion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dilation (with the same structuring e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7D6-4907-40F8-A5CF-B4C678DFBF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at kinds of operations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685440" y="2065320"/>
            <a:ext cx="710532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e objects from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from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gregate pixels for each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 features for each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3B4-5DB1-43B1-8444-0371BE1282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ear Tooth Inspec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19102" t="42131" r="20227" b="12931"/>
          <a:stretch/>
        </p:blipFill>
        <p:spPr>
          <a:xfrm>
            <a:off x="838080" y="1905120"/>
            <a:ext cx="4114800" cy="2438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rcRect l="19049" t="40186" r="20239" b="12186"/>
          <a:stretch/>
        </p:blipFill>
        <p:spPr>
          <a:xfrm>
            <a:off x="838080" y="4419720"/>
            <a:ext cx="4114800" cy="2438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639400" y="2978280"/>
            <a:ext cx="10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bi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66760" y="510552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61400" y="3892680"/>
            <a:ext cx="14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How 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they do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192-B221-4E46-80E1-D62D32CFB8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gion Propert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"/>
          <p:cNvSpPr/>
          <p:nvPr/>
        </p:nvSpPr>
        <p:spPr>
          <a:xfrm>
            <a:off x="1167480" y="1828800"/>
            <a:ext cx="71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0b8f"/>
                </a:solidFill>
                <a:latin typeface="Verdana"/>
              </a:rPr>
              <a:t>Properties of the regions can be used to recognize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88200" y="2362320"/>
            <a:ext cx="4581720" cy="431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ometric properties (Ch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ay-tone 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lor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ur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ape properties (a few in Ch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tion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lationship properties (1 in Ch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08E-54CB-40B9-B94C-2A5360AFF9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Geometric and Shape Propertie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10400" y="2216160"/>
            <a:ext cx="622764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ime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imeter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rc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on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 and standard deviation of radial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unding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emal axis length from bounding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rder moments (row, column, mix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gths and orientations of axes of best-fit el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431720" y="5797440"/>
            <a:ext cx="576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0113"/>
                </a:solidFill>
                <a:latin typeface="Verdana"/>
              </a:rPr>
              <a:t>Which are statistical?  Which are structur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9F5-B956-48B4-9A2D-0554CD115C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gion Adjacency Graph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1290600" y="2521080"/>
            <a:ext cx="69642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e60113"/>
                </a:solidFill>
                <a:latin typeface="Verdana"/>
              </a:rPr>
              <a:t>region adjacency grap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RAG) is a graph in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node represents a region of the image and an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s two nodes if the regions are adja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07160" y="4730760"/>
            <a:ext cx="677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This is jumping ahead a little 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We’ll consider this further for structural image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587-F9CD-4616-A71C-1CF629D90B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Example: red blood cell imag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blood cells are separate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touch – bad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lt and pepper noise from thresho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useable is this dat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bloodCells" descr=""/>
          <p:cNvPicPr/>
          <p:nvPr/>
        </p:nvPicPr>
        <p:blipFill>
          <a:blip r:embed="rId1"/>
          <a:stretch/>
        </p:blipFill>
        <p:spPr>
          <a:xfrm>
            <a:off x="912960" y="2266920"/>
            <a:ext cx="397512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64E-D306-4A83-870F-D27B0B0DC7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sults of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2820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3 separate objects det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cells have area about 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sp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b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bloodCellsResults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76388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445-2E11-413A-B5D3-C5EAB1D2A0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Useful Oper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678320" y="2286000"/>
            <a:ext cx="59889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d0e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Thresholding a gray-ton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d0e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d0e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Determining good thresho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d0e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d0e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Connected component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d0e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d0e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Binary mathematical 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d0e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d0e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All sorts of feature extr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(area, centroid, circularity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FEE-DC30-4BCD-BAEC-C555261C4F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reshold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ground is bl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y cherry is b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uise is medium da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gram shows two cherry regions (black background has been remov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bruise" descr=""/>
          <p:cNvPicPr/>
          <p:nvPr/>
        </p:nvPicPr>
        <p:blipFill>
          <a:blip r:embed="rId1"/>
          <a:stretch/>
        </p:blipFill>
        <p:spPr>
          <a:xfrm>
            <a:off x="5049720" y="1905120"/>
            <a:ext cx="3973680" cy="2328840"/>
          </a:xfrm>
          <a:prstGeom prst="rect">
            <a:avLst/>
          </a:prstGeom>
          <a:ln w="0">
            <a:noFill/>
          </a:ln>
        </p:spPr>
      </p:pic>
      <p:pic>
        <p:nvPicPr>
          <p:cNvPr id="232" name="bruise_histogram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31273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028560" y="624852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y-ton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19680" y="5156280"/>
            <a:ext cx="98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1840" y="612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45680" y="6172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3A4-08F2-48FB-B07B-D3F1CF6191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Histogram-Directed Thresholding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1503000" y="2057400"/>
            <a:ext cx="68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How can we use a histogram to separate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image into 2 (or several) different reg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3429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56386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1840" y="5975280"/>
            <a:ext cx="59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e8c"/>
                </a:solidFill>
                <a:latin typeface="Verdana"/>
              </a:rPr>
              <a:t>Is there a single clear threshold? 2?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22560"/>
            <a:ext cx="4800600" cy="2616120"/>
          </a:xfrm>
          <a:custGeom>
            <a:avLst/>
            <a:gdLst/>
            <a:ahLst/>
            <a:rect l="l" t="t" r="r" b="b"/>
            <a:pathLst>
              <a:path w="3024" h="1648">
                <a:moveTo>
                  <a:pt x="0" y="1648"/>
                </a:moveTo>
                <a:cubicBezTo>
                  <a:pt x="32" y="1600"/>
                  <a:pt x="64" y="1552"/>
                  <a:pt x="96" y="1456"/>
                </a:cubicBezTo>
                <a:cubicBezTo>
                  <a:pt x="128" y="1360"/>
                  <a:pt x="168" y="1192"/>
                  <a:pt x="192" y="1072"/>
                </a:cubicBezTo>
                <a:cubicBezTo>
                  <a:pt x="216" y="952"/>
                  <a:pt x="224" y="832"/>
                  <a:pt x="240" y="736"/>
                </a:cubicBezTo>
                <a:cubicBezTo>
                  <a:pt x="256" y="640"/>
                  <a:pt x="256" y="528"/>
                  <a:pt x="288" y="496"/>
                </a:cubicBezTo>
                <a:cubicBezTo>
                  <a:pt x="320" y="464"/>
                  <a:pt x="392" y="496"/>
                  <a:pt x="432" y="544"/>
                </a:cubicBezTo>
                <a:cubicBezTo>
                  <a:pt x="472" y="592"/>
                  <a:pt x="496" y="704"/>
                  <a:pt x="528" y="784"/>
                </a:cubicBezTo>
                <a:cubicBezTo>
                  <a:pt x="560" y="864"/>
                  <a:pt x="568" y="976"/>
                  <a:pt x="624" y="1024"/>
                </a:cubicBezTo>
                <a:cubicBezTo>
                  <a:pt x="680" y="1072"/>
                  <a:pt x="792" y="1112"/>
                  <a:pt x="864" y="1072"/>
                </a:cubicBezTo>
                <a:cubicBezTo>
                  <a:pt x="936" y="1032"/>
                  <a:pt x="976" y="824"/>
                  <a:pt x="1056" y="784"/>
                </a:cubicBezTo>
                <a:cubicBezTo>
                  <a:pt x="1136" y="744"/>
                  <a:pt x="1256" y="776"/>
                  <a:pt x="1344" y="832"/>
                </a:cubicBezTo>
                <a:cubicBezTo>
                  <a:pt x="1432" y="888"/>
                  <a:pt x="1520" y="1048"/>
                  <a:pt x="1584" y="1120"/>
                </a:cubicBezTo>
                <a:cubicBezTo>
                  <a:pt x="1648" y="1192"/>
                  <a:pt x="1672" y="1232"/>
                  <a:pt x="1728" y="1264"/>
                </a:cubicBezTo>
                <a:cubicBezTo>
                  <a:pt x="1784" y="1296"/>
                  <a:pt x="1864" y="1336"/>
                  <a:pt x="1920" y="1312"/>
                </a:cubicBezTo>
                <a:cubicBezTo>
                  <a:pt x="1976" y="1288"/>
                  <a:pt x="2016" y="1256"/>
                  <a:pt x="2064" y="1120"/>
                </a:cubicBezTo>
                <a:cubicBezTo>
                  <a:pt x="2112" y="984"/>
                  <a:pt x="2160" y="672"/>
                  <a:pt x="2208" y="496"/>
                </a:cubicBezTo>
                <a:cubicBezTo>
                  <a:pt x="2256" y="320"/>
                  <a:pt x="2312" y="128"/>
                  <a:pt x="2352" y="64"/>
                </a:cubicBezTo>
                <a:cubicBezTo>
                  <a:pt x="2392" y="0"/>
                  <a:pt x="2416" y="88"/>
                  <a:pt x="2448" y="112"/>
                </a:cubicBezTo>
                <a:cubicBezTo>
                  <a:pt x="2480" y="136"/>
                  <a:pt x="2512" y="200"/>
                  <a:pt x="2544" y="208"/>
                </a:cubicBezTo>
                <a:cubicBezTo>
                  <a:pt x="2576" y="216"/>
                  <a:pt x="2608" y="152"/>
                  <a:pt x="2640" y="160"/>
                </a:cubicBezTo>
                <a:cubicBezTo>
                  <a:pt x="2672" y="168"/>
                  <a:pt x="2712" y="192"/>
                  <a:pt x="2736" y="256"/>
                </a:cubicBezTo>
                <a:cubicBezTo>
                  <a:pt x="2760" y="320"/>
                  <a:pt x="2760" y="400"/>
                  <a:pt x="2784" y="544"/>
                </a:cubicBezTo>
                <a:cubicBezTo>
                  <a:pt x="2808" y="688"/>
                  <a:pt x="2840" y="936"/>
                  <a:pt x="2880" y="1120"/>
                </a:cubicBezTo>
                <a:cubicBezTo>
                  <a:pt x="2920" y="1304"/>
                  <a:pt x="2972" y="1476"/>
                  <a:pt x="3024" y="164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229-E058-411A-8DEA-6A1AFE44C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Automatic Thresholding: Otsu’s Method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098720" y="2165400"/>
            <a:ext cx="56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Assumption: the histogram is bim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1981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3048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38880" y="2425680"/>
            <a:ext cx="1295640" cy="622440"/>
          </a:xfrm>
          <a:custGeom>
            <a:avLst/>
            <a:gdLst/>
            <a:ahLst/>
            <a:rect l="l" t="t" r="r" b="b"/>
            <a:pathLst>
              <a:path w="816" h="392">
                <a:moveTo>
                  <a:pt x="0" y="392"/>
                </a:moveTo>
                <a:cubicBezTo>
                  <a:pt x="52" y="384"/>
                  <a:pt x="104" y="376"/>
                  <a:pt x="144" y="344"/>
                </a:cubicBezTo>
                <a:cubicBezTo>
                  <a:pt x="184" y="312"/>
                  <a:pt x="216" y="224"/>
                  <a:pt x="240" y="200"/>
                </a:cubicBezTo>
                <a:cubicBezTo>
                  <a:pt x="264" y="176"/>
                  <a:pt x="264" y="184"/>
                  <a:pt x="288" y="200"/>
                </a:cubicBezTo>
                <a:cubicBezTo>
                  <a:pt x="312" y="216"/>
                  <a:pt x="352" y="272"/>
                  <a:pt x="384" y="296"/>
                </a:cubicBezTo>
                <a:cubicBezTo>
                  <a:pt x="416" y="320"/>
                  <a:pt x="440" y="344"/>
                  <a:pt x="480" y="344"/>
                </a:cubicBezTo>
                <a:cubicBezTo>
                  <a:pt x="520" y="344"/>
                  <a:pt x="584" y="352"/>
                  <a:pt x="624" y="296"/>
                </a:cubicBezTo>
                <a:cubicBezTo>
                  <a:pt x="664" y="240"/>
                  <a:pt x="688" y="0"/>
                  <a:pt x="720" y="8"/>
                </a:cubicBezTo>
                <a:cubicBezTo>
                  <a:pt x="752" y="16"/>
                  <a:pt x="800" y="288"/>
                  <a:pt x="816" y="34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24680" y="3048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000"/>
                </a:solidFill>
                <a:latin typeface="Verdan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12480" y="3384720"/>
            <a:ext cx="68191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: find the threshold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min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weighted sum of within-group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he two groups that result from sepa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y tones at value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71080" y="5334120"/>
            <a:ext cx="708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See text (at end of Chapter 3) for the recurrence rel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in practice, this operator works very well for true bimod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0e8c"/>
                </a:solidFill>
                <a:latin typeface="Verdana"/>
              </a:rPr>
              <a:t>distributions and not too badly for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13400" y="20574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p 1   Gr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800100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0E9-C5D7-4F32-B976-EECB556F9D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22:30:41Z</dcterms:created>
  <dc:creator>uw</dc:creator>
  <dc:description/>
  <dc:language>en-US</dc:language>
  <cp:lastModifiedBy>uw</cp:lastModifiedBy>
  <dcterms:modified xsi:type="dcterms:W3CDTF">2002-10-08T22:06:31Z</dcterms:modified>
  <cp:revision>53</cp:revision>
  <dc:subject/>
  <dc:title>Binary Image Analysis</dc:title>
</cp:coreProperties>
</file>