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38C3-A0CE-4CE8-B048-0E97E7F8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7756-3BD2-453C-8BB5-9A364975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EFE8-3200-47B4-87DD-36D9C4B8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729-7BCE-4C90-94FE-FA43C976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0470-1B7A-4C22-8280-CD99BBA8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CF1F-2FFF-44F2-B956-5EEEA6D3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8ADF-1787-46DB-866A-D5FBDE18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BE20-8BA9-4141-840A-5B16FB92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A43F-E339-4759-BE2F-7E1952B3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1388-752A-4B6C-A5D1-A028764D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D963-6469-44A9-AB48-14D21780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09AC-69BC-4D53-85C4-4A159EE1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1351-7123-4F8C-84E1-97593C82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BCFA-5ECA-46AA-8CD8-99BF4C7C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8F70-726A-42C5-9F00-EF6F332B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C28C-F17A-4D31-BD98-8595F688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FDBB-372C-4E75-9DF3-42255FBE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F73A-E091-4F33-9AB0-413B22C8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B23-83FD-4A05-A44D-A9C82F38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528-7F69-4578-AB4C-066B8363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8122-25DA-414B-9C4A-A32D19F2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C353-51D4-43AE-A62F-42608C29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6A3-CDF5-44DF-8321-E8B406AD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E496-A490-48D1-B74A-109BC435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B594-7D56-430E-9FBA-598C7EBA7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2326-EA16-4BCE-A40A-CB0FD8B4E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00920" y="685800"/>
            <a:ext cx="481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pplications Discu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7160" y="2057400"/>
            <a:ext cx="61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hat are the applications of computer vi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83360" y="3200400"/>
            <a:ext cx="4699080" cy="265428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Old tried-and-tru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Brand new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pplications you have hear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pplications you have worke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01E8-FB8F-422F-B565-4E51BF758C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4240" y="304920"/>
            <a:ext cx="738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Applications from WACV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4480" y="1066680"/>
            <a:ext cx="7568640" cy="5214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ace Detection / Skin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ace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esture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ye Gaze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ender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eople 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roup Behavior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isual Nav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eal-Time Precrash Vehicle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ugmented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ehicl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ideo de-Abstraction (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How to save money on your wedding vide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alysis of auroral appearance over 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ideo Endos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B03-FC7C-444A-92EF-168ADA88F3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21:05:17Z</dcterms:created>
  <dc:creator>uw</dc:creator>
  <dc:description/>
  <dc:language>en-US</dc:language>
  <cp:lastModifiedBy>uw</cp:lastModifiedBy>
  <dcterms:modified xsi:type="dcterms:W3CDTF">2002-09-23T21:29:32Z</dcterms:modified>
  <cp:revision>2</cp:revision>
  <dc:subject/>
  <dc:title>PowerPoint Presentation</dc:title>
</cp:coreProperties>
</file>